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D0DD-4F7E-4D50-9B57-55DF2C849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FF37-C69D-4974-8589-06804B67F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3FB9-0341-4C3A-9E1B-760C5D884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41F3-45DE-4DE4-BFF0-61D4562FD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D6D7-73A5-4186-9764-C7095FDA3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F954-FE3D-40B8-A7A9-400F1EEB1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B4AC-C560-487F-B683-7C9910A75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FE5B-B14C-43DF-BDC3-6E867A2C4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D422-0EB1-4558-A22D-0370AD11F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38D2-3085-4422-8EC0-D2E7C814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50B4-6E1C-4196-82A0-9FDC8D36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975D-43CC-408E-8238-69B0A420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82ED89-4AB1-4662-A10F-D0DCD4DC7D3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, Господь, чтоб пере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и я речи мог друг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ы искал, дай мне иск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лудших по путям зем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меня, чтоб я вод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вёрдых любящей рук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рми меня, чтоб я корм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одных манною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2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кажи, Госпо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укрепи меня, чтоб ст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крепко на Скалу ве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мощь гибнущим дав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звал укрыться под Твой к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чи, Господь, чтоб мне постич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их заветов широт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ам дай крылья, чтоб достич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ец замкнутых глуби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ай мне чудный Твой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я покоить мог друг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душам, скованным тос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естником был слов Тв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наполни так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жизнь в избытке полилас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, светом для людей г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Твоя во мне зажгла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потреби, Господь,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хочешь Ты, когда и г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бы прославил я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г служить Тебе вез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28:26Z</dcterms:modified>
  <cp:revision>12</cp:revision>
  <dc:subject>Slavic hymnal Гимны веры христиан, hymn 826</dc:subject>
  <dc:title>Скажи, Господь, чтоб передать</dc:title>
</cp:coreProperties>
</file>