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B1C-913A-4BF2-8E37-F157DDD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545-75FD-4344-AF1D-FC2E1DF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A4E-60EB-476A-8851-560AEBB1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66D-6DE1-42C5-B4C1-8FD2B6C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025-CD28-4E92-954A-34BBA4FB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F3E-AFB9-4647-8C45-6FC1E46F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2C6-C875-435E-A46D-B002E4C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C48-545E-4E00-BDD6-0170E2F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23A-0332-4253-A830-608CFAF6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B2A-09A0-4018-94CD-6B5C499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61B-8901-4F68-9EDD-F8318A0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180-EAF3-4FDD-B38A-5FB3B69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E45F5-098D-414D-B151-E8D679E56F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58Z</dcterms:modified>
  <cp:revision>12</cp:revision>
  <dc:subject>Slavic hymnal Гимны веры христиан, Ukrainian hymn 55</dc:subject>
  <dc:title>Send the Light / Серед темряви нічної</dc:title>
</cp:coreProperties>
</file>