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лубока любовь Христо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st, unmeasured, boundless, fre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ing as a mighty oc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its fullness over m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а любовь Христов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о широк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тит мощною волно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едельная рек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erneath me, all around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 current of Thy lov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ing onward, leading homewa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glorious rest abov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 мной и надо мно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еан Твоей любв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тропо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небесной тиши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His praise from shore to shor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e loveth, ever lovet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eth never, nevermor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а любовь Христов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й по всей земл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еизменн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, свято, в каждом дн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e watches o’er His loved on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to call them all His ow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for them He intercedet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eth o’er them from the thr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щитой нас объемле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, чтоб призвать к Себе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нас с престол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щает нас в бед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of ev’ry love the bes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n ocean full of blessing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 haven giving res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а любовь Христов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любви она венец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еан благослов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й наш конец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deep, deep love of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 heav’n of heav’ns to m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lifts me up to glo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t lifts me up to The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а любовь Христова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небеса небес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шает меня в сла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ждёшь Ты, мой Отец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Zaitseff</cp:lastModifiedBy>
  <dcterms:modified xsi:type="dcterms:W3CDTF">2024-02-15T08:46:32Z</dcterms:modified>
  <cp:revision>1</cp:revision>
  <dc:subject/>
  <dc:title>Slide 1</dc:title>
</cp:coreProperties>
</file>