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D15D-EF6F-4C67-A01F-A28240B4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73A4-3399-44E4-8A9B-6D1D2545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4AD7-382B-4B79-B5BD-6A8D9093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2E1F-2150-4E5C-AB0B-54432BE85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6538-E1A6-4F46-95EA-D3574F12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76D1-CD09-4D74-8601-80C181B6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2DCE-0E54-452F-876F-FB9F4010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319C-2E21-4582-B828-7D8E36E3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CECC-2881-4509-BFE0-E85BB0C9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3C48-C27F-472F-B31C-2CF3AE5A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B39E-71B9-4A62-BE31-676964D7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CC1A-64F2-4C30-B3D6-41347D83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20A0A-EEA9-4550-84AF-095DBD72E18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ay by day and with each passing momen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rength I find to meet my trials he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rusting in my Father’s wise bestowmen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ve no cause for worry or for f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ень за днё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за днём и каждое мгнов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ёт мне силу для борьб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я Божьим откровень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усь «изменчивой судьб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hose heart is kind beyond all meas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ive unto each day what He deems bes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vingly, its part of pain and pleas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ingling toil with peace and 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Чьё сердце любит беспредель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нам лучше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и радость отмеряет вер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святой — среди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v’ry day the Lord Himself is near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a special mercy for each hou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l my cares He fain would bear and cheer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hose name is Counsellor and Pow’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ко мне Спаситель близ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ивной милостью на каждый ми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заботы прогоняет сраз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оветник дивный для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protection of His child and treas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s a charge that on Himself He lai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s your days, your strength shall be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easure,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is the pledge to me He m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рука Всевышнего прикры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Кормилец и Покров Св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И как дни, так будет ваша сил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щанье дал Он 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lp me then in ev’ry tribul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 to trust Your promises, O Lor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I lose not faith’s sweet consol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ffered me within Your holy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во всяком испыт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ть Тебе, Господь, во в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нить твёрдо все обетов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ходим в Слове мы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lp me, Lord, when toil and trouble meet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’er to take, as from a Father’s ha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by one, the days, the moments fleet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ill I reach the promised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, встречая труд и г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имать их из руки Т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за днём идти, поднявши вз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ой стране, где нет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11:22Z</dcterms:modified>
  <cp:revision>12</cp:revision>
  <dc:subject>Slavic hymnal Гимны веры христиан, hymn 863</dc:subject>
  <dc:title>Day by Day / День за днём</dc:title>
</cp:coreProperties>
</file>