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E0D-F0A9-4892-8EF4-A009A12B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02C-2CDE-4ED8-84EB-D44DB26E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065-164C-4D41-8265-4D4AE0EE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3BB-9C4D-4E6B-B221-16473E31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544-C9D7-4EFA-B95D-FA19D6A9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5C3-C0C8-489B-BE8B-585F2937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5AC-243E-46D2-820D-CCF29BF9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B5F-7BE8-4B43-90B1-A7619204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940-0845-4DFE-8E86-4FEA32E6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3274-8796-4649-A866-259B7CD0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1B7-68DB-4A93-9F7E-EC7336F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D78-C348-4DB9-85EA-81C0919E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0C96F-A026-4CF8-AAEA-219B78C57C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тся труд мой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мне Спаситель на неб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всегда буду с Ним пре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кончится труд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даровано в доме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еспредельной люб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Его уви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огих встречу любимых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о свиданье вдали от скорб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ть Христа будем все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3:38Z</dcterms:modified>
  <cp:revision>12</cp:revision>
  <dc:subject>Slavic hymnal Гимны веры христиан, hymn 870</dc:subject>
  <dc:title>Когда окончится труд мой земной</dc:title>
</cp:coreProperties>
</file>