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334-7BFE-4E84-9C69-1478A350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FEA-5219-40D6-BB51-E2607200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327-06CD-41A5-A2BA-D36DC75A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902-3D6D-4959-8A44-A3479002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53D-98E6-4AD8-AECB-18F107CB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B0A-DA00-48AE-BBE4-70707EB0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034-78C0-4AC3-AD00-EA1B8912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2F3-1B00-4F91-912E-F69C7E59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B6C-111B-487A-B6B5-A26E0AF1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552-56BC-4CE8-A8A6-B07A3CD4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A3F-F515-49B0-92BD-B2DB06DF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433-F0F4-4652-ADFB-9CE9BB58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C2011-E442-4447-AA6C-113246F332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Your face to shine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e up, I’m cleanse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Make Your Fac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and strength each day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, hope, I k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13Z</dcterms:modified>
  <cp:revision>10</cp:revision>
  <dc:subject>The Source, song number 604</dc:subject>
  <dc:title>You Make Your Face to Shine on Me (And That My Soul Knows Very Well)</dc:title>
</cp:coreProperties>
</file>