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EFB1-8BD6-4FAF-8C67-0AFBFFF1B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2FB1-3CF4-4EFB-86D2-1341BC1D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CCBC-C050-427C-881F-B5ABA4A1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976E-9B60-4DD6-B11C-1B15DBD9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CC82-3D49-47E0-8277-85F74E69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9CB6-548D-4EAA-87A7-2F688A92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3DB5-E185-4B54-8037-924F9C19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AD5C-3402-4918-8B98-82275D69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E0F7-3DFF-4B13-89D2-BFF1C66A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B284-2389-4C80-840B-4535EEA3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C104-A5B5-4F7D-AF34-60CEB7A4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8EEC-91D3-4A18-B946-883CB262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3DDC5-A4A1-4FF0-A63E-11D1700722B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глаза мои, чтоб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рел небесных тайн лу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есный ключ Твой мне вру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 свободу вышел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чаньи жду… О, да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лю мне Твою откр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глаза, пошли Тво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крой глаза мо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мне слух, чтоб слышал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голы истины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звуках вечной правды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олкнет шум земных ре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чаньи жду… Явись мне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авду вечную отк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мне слух к Твоим сло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уста мои, чтоб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мог правду возвещ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мне сердце, чтоб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лась потоком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чаньи жду… Приди ск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силы мне отк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мне сердце, будь в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5:49Z</dcterms:modified>
  <cp:revision>12</cp:revision>
  <dc:subject>Slavic hymnal Гимны веры христиан, hymn 839</dc:subject>
  <dc:title>Открой глаза мои</dc:title>
</cp:coreProperties>
</file>