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85E-10E0-4D9A-9889-BF97B1D6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CDE-96FB-44B9-A1D0-419B67A5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C02-8A35-4FF8-A344-CB8F174C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C4F-DCFC-4DF8-BA8E-02F899ED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077-1933-46A8-91CF-CE89B88D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6DC-2F6B-4894-B169-5CBF18A3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A08-44A3-496D-9ED3-7302FD9C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737-A97A-417D-96D2-56EAAC99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EDF-B3E1-4FF5-9673-A4A078FC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709-777A-413F-A658-A9BFFCE6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AF6-FA93-4821-ADF9-EF9A18F4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B88-3EDE-4400-AC01-9C2E5083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6FBEF-2FD4-4432-85AE-D83DAE5A0B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servants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follow th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ur Master has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 к труд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ги Господа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пойдём, что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Сам про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robe and a c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our labour re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небесны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итс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рует вен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home of the faith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dwelling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out with the ranso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is fr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обитель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одвор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и песнь вос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balm of His coun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trength to re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do with our m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our hands find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овета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нас напр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илы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обно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hungry be f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fountain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eary be 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чущий хлеб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жаждет, к источ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 and its b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lory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herald the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is fr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мы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слугой сво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abour for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kingdom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rror shall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мрака и лж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ь должно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love of our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xalted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oud-swelling chor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is fr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ославить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ржеством воспе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6Z</dcterms:modified>
  <cp:revision>13</cp:revision>
  <dc:subject>Slavic hymnal Гимны веры христиан, hymn 525</dc:subject>
  <dc:title>To the Work! / Все к труду!</dc:title>
</cp:coreProperties>
</file>