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9CD-0F1F-4D2F-A40A-509AF758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6F5-6C15-45FE-A2D7-A5A2951F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696-62B9-4D4D-8B2A-DCF6EAFB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461-8021-4C56-91A8-DC2151CD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EE5-6D05-4681-8826-76F4E918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295-5A34-4F7C-B0A0-381C97F7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92A-F77D-4BCA-B8FB-9E5BF247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9C2-12E0-4690-8A32-DE153CE8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492-8A2B-495F-A9A5-526D8566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35B-54AD-465D-969E-B69483AD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847-C4D9-43E5-8A72-EE252D98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A40-6358-47C6-B76E-3D841226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B8FC9-3E43-4AAC-9FB2-F1FE59C71C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er, wheresoever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he burden of th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страждущий, зай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in thy Saviour’s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away thine every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speak, and He will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сё Христу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гони прочь страх люд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тебе Спасител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, wand’rer, tarry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that consecrated sp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аздывай в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на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y laden, sore op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can soothe thy troubled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aviour find thy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 в твоей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Спасителю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е на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less sinner, com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Bride and Spirit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забот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ам дал в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 living fountai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there for you a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and poor, for bon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гляните, как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ам поток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ой 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thought! For every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atoning work i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од сен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каждого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s of boundless mercy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 who thither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at all the world migh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ршились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ись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кнула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4Z</dcterms:modified>
  <cp:revision>13</cp:revision>
  <dc:subject>Slavic hymnal Гимны веры христиан, hymn 345</dc:subject>
  <dc:title>At the Cross There’s Room / Есть для плачущих земли</dc:title>
</cp:coreProperties>
</file>