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0FA-3DB0-450F-9361-AABD3810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67B-38D2-4DA6-B8A9-550E9C8F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C6C-CFA3-404A-98ED-2B1BB737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CBD-C8AC-4042-A4CA-9CDD1895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3ED-C47B-4099-AEEC-9E191104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3AC-1DC6-496D-B5D9-23FE8E2E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74D-1020-4CD0-977B-7A34C6FC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B27-03D6-4C3D-AFB3-EADE5677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B0D-0A61-4AB1-9E6B-67915B74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B27-2C17-4EFA-9793-91AF6FF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D19-2BBD-4954-B02E-3F39D9F8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DE5-99D1-4262-A4B3-605B11A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D1576-7BE7-486D-8969-7679558D2F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ngry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know You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empty, but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does not run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5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ungry, I Com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alling on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all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all t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liv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, I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arms are open w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weary, but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ouch restores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alling on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all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all t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liv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24Z</dcterms:modified>
  <cp:revision>11</cp:revision>
  <dc:subject>The Source 2, song number 753</dc:subject>
  <dc:title>Hungry, I Come to You (Falling On My Knees)</dc:title>
</cp:coreProperties>
</file>