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2F4-2CCB-4D6C-87FA-1CCB4F23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7A9-840B-4B00-A752-EE4547EB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0A9-8CD8-4C9D-94FB-C167491D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D00-2C6C-4531-8E63-4F36BE99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29B-849F-44EE-BE9C-F3B93D70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4B6-2C10-4CEE-A956-FB0297E5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04B-4621-489F-85DA-FFDA1647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407-53CC-4E73-9404-380BD8E9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FAF-0218-4E31-927C-C9162DD3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B33-BF04-4239-8996-B43E8F6C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53B-0648-4042-81B3-B88FDA43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EE0-1511-4B7A-88FF-54F880C5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29CFD-370B-4B71-A59B-BE7B3790F1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 ввійди, в серце вві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 тепер, відкрив я д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9   В серце ввій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45Z</dcterms:modified>
  <cp:revision>12</cp:revision>
  <dc:subject>Slavic hymnal Гимны веры христиан, Ukrainian hymn 109</dc:subject>
  <dc:title>В серце ввійди</dc:title>
</cp:coreProperties>
</file>