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AD8-E718-42CD-B85F-0A39471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16D-8AFC-41C2-86E1-F82EF2FC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883-450F-4D07-AA6E-00B20140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F7E-8595-4675-873A-6E8A09E3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EC1-543A-42B9-94A6-ADC8F11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E25-858F-4D6B-8B24-DC334CF8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F99-EE4C-4A81-AA05-8790219C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251-F6AF-40B9-918E-D915E7A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21C-C90C-4E29-A608-8D41CAC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387-7DEE-448D-9EE1-E713054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052-1BBE-4F5C-919F-DF2A175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091-03F6-4BCB-A6C0-A349B70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32DE5-1ED4-409D-9024-12492113AA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ndered far away fro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s of sin too long I’ve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sted many precious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repent with bitte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ired of sin and stray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rust Thy love, believe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29Z</dcterms:modified>
  <cp:revision>13</cp:revision>
  <dc:subject>Slavic hymnal Гимны веры христиан, hymn 432</dc:subject>
  <dc:title>Lord, I’m Coming Home / Вдали от Бога я блуждал</dc:title>
</cp:coreProperties>
</file>