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1D2-F61A-4C55-BD4F-10DA9747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618-7154-407B-B7A8-FDC438F4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C9C-203A-4C03-975E-E7332BA3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C5E-B741-480F-AB97-EB12B39E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4E1-0867-45ED-8B69-31F24E9A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AB8-3407-4D5F-ADD5-17680B79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F03-6248-40E9-B300-99CB18DE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D83-A516-4B5C-BA52-922889F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9EB-CD0A-427D-9E35-FE081FE6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97E-4EA2-4B33-8FCB-67EA4D6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359-36B6-4904-9B5A-A069FDD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710-61DD-4D0E-ADE7-3401E73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0BE20-4ABC-4CE8-ABDF-B6A7952915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7   Seek Ye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ight so shine before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y may see your good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Father in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 in the Lord with all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all direct your pat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r ways acknowledg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35Z</dcterms:modified>
  <cp:revision>10</cp:revision>
  <dc:subject>The Source, song number 447</dc:subject>
  <dc:title>Seek Ye First</dc:title>
</cp:coreProperties>
</file>