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681-D50D-48F6-97E3-9C5A5DD2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708-13AE-4EAD-B11E-47E1BED3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FC1-5FBB-4440-815A-DB523985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D33-45D4-4161-9B04-BB9F3F67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2D3-D964-43B6-AAC9-777B92CE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AC4-AAD6-4A38-B226-B4E79D8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783-4D4A-4168-88DA-BD129B37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137-2C26-4023-87EE-802947BC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92F-F607-4421-BD0C-A4D0AFE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3D1-B8B6-42BE-A3A9-034DD51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BF0-18AC-4E7F-B6C2-B42A8518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C82-10A5-4414-89F9-E50C3CC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07920-1152-4D24-8D4C-8A5A802EC5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and anointed On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n and exalted On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is like honey on my 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ike water to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is a lamp unto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, I lov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8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01Z</dcterms:modified>
  <cp:revision>10</cp:revision>
  <dc:subject>The Source, song number 286</dc:subject>
  <dc:title>Jesus, Jesus, Holy and Annointed One (Holy and Annointed One)</dc:title>
</cp:coreProperties>
</file>