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3</a:t>
            </a:r>
            <a:r>
              <a:rPr b="1" lang="ru-RU" sz="3600" spc="-1" strike="noStrike">
                <a:solidFill>
                  <a:srgbClr val="ffffff"/>
                </a:solidFill>
                <a:latin typeface="Verdana"/>
              </a:rPr>
              <a:t>	</a:t>
            </a:r>
            <a:r>
              <a:rPr b="1" lang="ru-RU" sz="3600" spc="-1" strike="noStrike">
                <a:solidFill>
                  <a:srgbClr val="ffffff"/>
                </a:solidFill>
                <a:latin typeface="Verdana"/>
              </a:rPr>
              <a:t>Страшно бушует</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Wildly life’s billows ’round my soul are beat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ierce is the tempest, dangerous is the sea,</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Driven by terror, I come to Thee, plead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t>
            </a:r>
            <a:r>
              <a:rPr b="0" lang="en-AU" sz="2800" spc="-1" strike="noStrike">
                <a:solidFill>
                  <a:srgbClr val="ffff00"/>
                </a:solidFill>
                <a:latin typeface="Verdana"/>
              </a:rPr>
              <a:t>Father in heaven, O hear Thou my plea!”</a:t>
            </a:r>
            <a:endParaRPr b="0" lang="en-US" sz="28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трашно бушует житейское м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ьные волны качают лад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ужасе смертном, в отчаянном г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мой, Боже!» к Тебе вопию.</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In Thy great mercy, help me, I implore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Long have I struggled, but to no avai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y strength is spent—I cast myself before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t>
            </a:r>
            <a:r>
              <a:rPr b="0" lang="en-AU" sz="2800" spc="-1" strike="noStrike">
                <a:solidFill>
                  <a:srgbClr val="ffff00"/>
                </a:solidFill>
                <a:latin typeface="Verdana"/>
              </a:rPr>
              <a:t>Help me, my Father, without Thee I fall!”</a:t>
            </a:r>
            <a:endParaRPr b="0" lang="en-US" sz="28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жалься над мною, спаси и помилу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первых дней жизни я страшно бор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бороться уж мне не под си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милуй!» Тебе я молюс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Into the calmness of Thy harbour guide 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nstil a peace and trust within my sou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mid life’s tempest stay Thou o’er beside 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ring me at last to my heavenly goal.</a:t>
            </a:r>
            <a:endParaRPr b="0" lang="en-US" sz="28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 пристани тихой Твоих повеле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ть мой направь и меня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з пучины житейских волне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берегу выведи, Боже благой!»</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5:29Z</dcterms:modified>
  <cp:revision>3</cp:revision>
  <dc:subject>Slavic hymnal Гимны веры христиан, hymn 203</dc:subject>
  <dc:title>Wildly Life’s Billows Are Beating / Страшно бушует житейское море</dc:title>
</cp:coreProperties>
</file>