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7</a:t>
            </a:r>
            <a:r>
              <a:rPr b="1" lang="ru-RU" sz="3600" spc="-1" strike="noStrike">
                <a:solidFill>
                  <a:srgbClr val="ffffff"/>
                </a:solidFill>
                <a:latin typeface="Verdana"/>
              </a:rPr>
              <a:t>	</a:t>
            </a:r>
            <a:r>
              <a:rPr b="1" lang="ru-RU" sz="3600" spc="-1" strike="noStrike">
                <a:solidFill>
                  <a:srgbClr val="ffffff"/>
                </a:solidFill>
                <a:latin typeface="Verdana"/>
              </a:rPr>
              <a:t>Мои все согрешен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ои все согр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су к ногам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ует Он про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Свой у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ая кровь омо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пятна уб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ну мою покро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ны исц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ны исцели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ткрыл я пре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ю сердца нище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водой жи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лнишь пуст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 мои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нёс Ты на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ям всем утеш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во Хрис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 вечном основа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а утвержд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обители Отцов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м водвор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я имя слав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поры нет дру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Первый и Последн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Спаситель мо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9:02Z</dcterms:modified>
  <cp:revision>3</cp:revision>
  <dc:subject>Slavic hymnal Гимны веры христиан, hymn 97</dc:subject>
  <dc:title>Мои все согрешенья</dc:title>
</cp:coreProperties>
</file>