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1CB-DAD6-4DB8-BE74-504576F4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6C6-A765-4A56-8877-5D6B7ADD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891-613D-4E4E-B991-7EE69E02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7AC-F28D-472C-887B-957FBA3F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460-5B0C-4257-8EAA-3F003CE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C63-6E88-46DA-B95A-CD84608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427-289C-4C10-A289-A65EFCD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A0B-3E9C-45F5-8578-917EB5E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B09-7A82-468B-A5D2-81551FDD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711-BDC2-4F9A-8640-EE6353F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B0E-0B45-40F9-BB18-0277FCD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AF5-07BF-4416-B6FA-E009944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463C8-C01B-4F76-A742-0EA677B14B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ой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начни ты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это сил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аботы с нуж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ят усталу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пребудет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ровняет тв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чты и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е исполнят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й уп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у Христов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лезн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 потряс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е дн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из глаз потек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то нужно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поверь же,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твой дух укреп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нет легч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27Z</dcterms:modified>
  <cp:revision>14</cp:revision>
  <dc:subject>Slavic hymnal Гимны веры христиан, hymn 700</dc:subject>
  <dc:title>Если твой дух утомится</dc:title>
</cp:coreProperties>
</file>