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8B01-AF30-4EC2-A4D5-972238C01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C459-F2AF-4612-9CC5-25B6B968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E4A3-A8B5-4A68-9BC0-36D8F5AC6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1F7B-068D-4832-B9B5-958F79F72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98F0-7A73-49FF-9336-67351FD7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4319-BFA6-4888-A36C-AB6F81D8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38FD-6AA7-4624-9DDB-890C8694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74F7-B5E2-498B-A3DB-07E4264C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D5A1-5B70-4E34-9211-07412A8A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6A70-170E-4953-BA07-2E914B11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7DD5-D618-4878-8B68-1E4EE623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A1A6-8517-4672-8E18-E1DA132A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AC22A-1EAC-4D78-A760-556384A386F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Иерусалимских г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л Иисусу детский х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перь детей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т петь хвалу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, пой, пой! о, юный хор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, пой, пой! о, юный хор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санну, и осан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евай Царю ца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5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 Иерусалимских г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ат нас Христа люб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Его ученью 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одить Его путё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ен наш Господь во вс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, пой, пой! о, юный хор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, пой, пой! о, юный хор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санну, и осан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евай Царю ца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, матери, друз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ойте дружно голо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слась среди жит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«осанны» в неб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, пой, пой! о, юный хор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, пой, пой! о, юный хор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санну, и осан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евай Царю ца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0:08Z</dcterms:modified>
  <cp:revision>12</cp:revision>
  <dc:subject>Slavic hymnal Гимны веры христиан, hymn 758</dc:subject>
  <dc:title>У Иерусалимских гор</dc:title>
</cp:coreProperties>
</file>