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828-4783-4EA6-941E-8E2BCC29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445-5D25-47C7-A553-CFB82ABA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165-7197-4E5C-B627-CB2C67BD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4D4-915D-43F0-ADE4-C3A0A509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063-3DAE-4F4A-BBE9-776F858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263-E017-42C8-B1BC-A9DF59D7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F4A-117A-4426-8711-BA1E349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E5A-3900-4995-A6B4-31AEC20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C6B-8C11-4E90-8199-2137F3A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E54-339E-4936-AE8F-8B4C7D1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C50-FE8D-4BE0-B546-F164C8CC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896-23F7-45E4-B615-805332D3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51F08-800F-4F8E-B4E6-45935CEBA9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5:38Z</dcterms:modified>
  <cp:revision>13</cp:revision>
  <dc:subject>Slavic hymnal Гимны веры христиан, hymn 626</dc:subject>
  <dc:title>О, как рвётся душа</dc:title>
</cp:coreProperties>
</file>