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DDB-F47C-4903-8CB0-62CEE59A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501-9C1E-421B-A5A8-222C470F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DB4-AA0A-49FE-8050-AE4073F8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283-914A-47B5-8C44-8B2FDA35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7D0-81CB-471A-A7A1-B778CA48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303-E780-4039-908B-7599358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852-DB2D-4E91-AF0A-2857506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1F7-CC28-48A3-BBBB-6BE5553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1BA-D6E1-4136-B123-9C2EBF1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EBF-175B-4CCD-97D1-974FE0D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D67-35A2-4168-A397-6CCBF71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022-39A6-4EC0-AAAA-ADD544F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68CBF-27C4-4851-83FE-CCC808107D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dawn there came with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omen to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angel stood bes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ed all their g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quickly, tell the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is risen from the dea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its d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ary stands bewil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grieving in h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ees her risen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’t contain her 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houts in exul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ly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cked hands of s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nailed Him to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uilt and our transg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caused His ag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at, like blood, was f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disfigured b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ask was do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Him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ody then wa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Joseph from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own tomb he lai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counting it a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uddenly the sun s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ook its f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d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re be l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3Z</dcterms:modified>
  <cp:revision>13</cp:revision>
  <dc:subject>Slavic hymnal Гимны веры христиан, hymn 295</dc:subject>
  <dc:title>He Lives! He Lives! / Он жив! Он жив!</dc:title>
</cp:coreProperties>
</file>