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71D-D580-416A-8A1C-7219C411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858-10F8-4DDA-961B-0A9C32C7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8B8-920B-4752-8E3D-D2B35FD9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81F-2AB2-453A-BD85-8D4F1CE7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E071-CD5C-49B8-A5BC-11BDB1A1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576-206C-4CC2-8622-E5E27911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16E-73E6-4B9A-9D06-7304CF9D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EE6-A589-4394-B9A0-166E9DF8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87D9-9E3A-4EA3-84E0-C4CCC470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397B-79FE-4222-B94B-10BA16E4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2662-78EE-42B0-A37A-EE7AC065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0E1F-0D33-49E4-B45D-5A228AD6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42137-7570-40D3-9F16-A98B07D155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8298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грехи мне прощ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я к небесам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рабом греха и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перь я стал своим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Христос мне всё во вс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Мои все блага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ля меня сходил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 и умер и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я навек спасён, спасён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пасё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43080"/>
            <a:ext cx="98298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 любовью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Свою явил Он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еня Он плакал в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еня был жертво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Христос мне всё во вс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Мои все блага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ля меня сходил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 и умер и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я навек спасён, спасён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43080"/>
            <a:ext cx="98298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Покой в Нём нахо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я сокрыта в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т Он меня всегда,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живу,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Христос мне всё во вс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Мои все блага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ля меня сходил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 и умер и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я навек спасён, спасён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5:40Z</dcterms:modified>
  <cp:revision>12</cp:revision>
  <dc:subject>Slavic hymnal Гимны веры христиан, hymn 855</dc:subject>
  <dc:title>Я спасён!</dc:title>
</cp:coreProperties>
</file>