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B6EF-FBF8-4236-89A8-6C789DAC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14F1-9FDD-4CF9-9F67-75BD13AF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CE50-D196-4B47-9A60-654F4F89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AA1E-DCCB-45F8-BBA7-6E92B5B2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35BC-74B8-46EB-B046-A7FFC3BE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57D8-54D6-4FEA-ACB0-403D24CE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1E52-E09E-46A4-A1A9-4555EFBA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E373-6901-4A70-A936-8D8B1C84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8EF2-0103-4908-983A-35B077E9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9A68-FDEF-4FBF-8216-DDD5E38D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BB7E-0B68-4E3B-BA4F-E17B01C2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D062-46F8-46D1-8B55-10BE1197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D59D1-704A-4372-8397-06C8087D1B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ill, still with Thee, when purple mo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eake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bird waketh, and the shadows fl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airer than morning, lovelier than dayl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awns the sweet consciousness, I am with Th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Тобой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й, Господь, люблю 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ассвет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ходит ночь, проснулся шум днев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лучше дня и мягче ночи лет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нанье сладкое, что Ты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one with Thee, amid the mystic shadow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olemn hush of nature newly bor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one with Thee in breathless ador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calm dew and freshness of the mo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едине с Тобой вникаю в тай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 рук Твоих и вечного доб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едине я вижу лик Твой сла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яньи рос и в свежести у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ill, still with Thee, as to each newborn mor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fresh and solemn splendour still is giv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 does this blessèd consciousness, awa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eath each day nearness unto Th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a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, измучившись в борьбе сур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 к Тебе с вечернею мольб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ен отдых под Твоим покр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пробудясь, приятней быть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 shall it be at last, in that bright mor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soul waketh and life’s shadows fl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in that hour, fairer than daylight daw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hall rise the glorious thought, I am with Th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, придёт торжественное утр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нутся все… умолкнет шум земн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снее солнца засияют чу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всегда останемся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50:54Z</dcterms:modified>
  <cp:revision>12</cp:revision>
  <dc:subject>Slavic hymnal Гимны веры христиан, hymn 821</dc:subject>
  <dc:title>Still, Still With Thee / С Тобой, Господь</dc:title>
</cp:coreProperties>
</file>