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606-4A92-4625-BFA3-AE584F66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4F7-24CF-4479-860A-BB9608C2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46C-B1A0-4D6A-AEBB-19FE342E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11C0-2015-41F8-8882-71236458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A18-7A18-46ED-8F50-A795E3B6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451D-3BEB-4A88-A6C8-6B065FD3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C18C-F413-4B8B-A0EC-0A0AD727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06A-F6AC-4E32-A101-F32A56D6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BF45-1AD7-45BE-A375-25CA742C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6987-B0EA-45C6-A0B6-7EFBA677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935-A647-46CF-B3AC-D3095305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A6B-E20B-4AF7-A16A-D1B113F3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526A4-D35E-493E-A2FC-C58C632DF3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ждестве благую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ал Бог ангела прин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гачам, не мудре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бедным в поле пастух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Рождестве благую в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свет их оси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ангел им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тесь! вам рождён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людям радость Он принё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е небес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лась чудесная 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стила мудре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Царь сошёл к Своим раб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луч звезды для уха 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ёл он мудрых в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, что ярче всех све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огий домик оза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шли смиренно в мал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али ниц пе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ладенцу поднесли да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шли с хвалой в свои дв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2:50Z</dcterms:modified>
  <cp:revision>12</cp:revision>
  <dc:subject>Slavic hymnal Гимны веры христиан, hymn 814</dc:subject>
  <dc:title>О Рождестве благую весть</dc:title>
</cp:coreProperties>
</file>