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091-1182-4FF2-8A90-E92A8F3F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A8D-C84B-4CCF-8810-A961689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CC9-D077-4959-A8F7-F807B78F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D61-63D4-4AFD-A0F1-48B644BE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652-D227-433D-A6E5-5D2E716D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5B6-AAE4-47D8-80CF-0FAC249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5B0-4947-40A7-9E61-4FBD28A7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DCA-9A5B-448A-B28A-1A036F24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B25-6B63-4A38-8307-AC1FA12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A66-30B4-4340-A739-335D83B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F7C-B01E-4EA0-975B-A2ED7B2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285-11A3-4AA3-A5AF-C0BB010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BC24A-934C-4329-92B8-BFAEE649CD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ород не зд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ёртвой пус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о греховных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язну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рачённых нев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лукавых с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й город не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привет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ем мы блага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уп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к 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тника примет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где през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й свя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енья от ревност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 и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а лицем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явно не скрытой вра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! Ты лишь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город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тель которого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отд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ад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ьной долине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киталец, путь т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в постоян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частлив насл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г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 ты и благо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, обличё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ою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лобно глум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ёт поруг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веры Господн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укреп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веди свои очи к г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мощ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изнурённым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же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тря на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в восторге душо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ишелец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й прольётс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алому ч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на Сио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умяг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леем незр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покроешь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ётся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близок желанный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о гра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51Z</dcterms:modified>
  <cp:revision>13</cp:revision>
  <dc:subject>Slavic hymnal Гимны веры христиан, hymn 393</dc:subject>
  <dc:title>Твой город не здесь</dc:title>
</cp:coreProperties>
</file>