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97A-72ED-4912-B7CD-4464A14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1A0-908E-470F-90E2-6CE9936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9E-83A2-4751-BA1B-C035F1F5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C00-84B4-4042-9AD5-1BA83001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955-FE12-49F7-A160-C41BA6E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CDE-DDF0-4DA6-BA5B-D0AE051A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B51-4F4F-4252-9C75-17E48AB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A21-5D24-487E-A6BD-93F9387B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461-52C4-47AC-9EAB-42779FB6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774-DE25-450F-B372-C154D6F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D4A-31FF-47B7-8E48-649E1F5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D38-EA9A-469A-9A6A-986BFBC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37FC-7701-49CD-8036-C1CF1F25B8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urn Your Eyes Upo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28Z</dcterms:modified>
  <cp:revision>10</cp:revision>
  <dc:subject>The Source, song number 533</dc:subject>
  <dc:title>Turn Your Eyes Upon Jesus</dc:title>
</cp:coreProperties>
</file>