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0C5C-9C1C-4681-BCB8-7F070432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E0F4-CE84-4E1D-9EC1-CA61B3EF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E3BD-04AE-4A4A-8248-316D811C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5EA4-9693-4440-8ADF-F4038750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FDB3-5A9C-4197-BA6C-26CBDAD6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9CED-890B-4281-A1C7-6326D273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DD7C-5433-47D6-B5EB-2B266EDD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360D-6EF7-4478-8BBF-054985A7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49D7-0B09-41C1-886B-A34DBC17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22FE-A790-400C-97C9-2953E9D0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1B78-AA57-4D70-AEDF-C6BF8F9B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E2D3-CD6B-40B4-92FC-7EE1E835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B00DA-2896-43EC-9376-95EA81275ED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ld you be free from your burden of s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pow’r in the blood, pow’r in the bloo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ld you o’er evil a victory w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wonderful pow’r in the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х побед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победить, о желаешь ли 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крови, сила в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 свободу Христову во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Его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pow’r, pow’r, wonder-working pow’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blood of the Lam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pow’r, pow’r, wonder-working pow’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precious blood of the Lam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агоценной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ld you be free from your passion and pri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pow’r in the blood, pow’r in the bloo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 for a cleansing to Calvary’s ti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wonderful pow’r in the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шь ли гордость и стр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т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крови, 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Христос весь твой грех уда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Его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pow’r, pow’r, wonder-working pow’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blood of the Lam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pow’r, pow’r, wonder-working pow’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precious blood of the Lam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агоценной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ld you be whiter, much whiter than s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pow’r in the blood, pow’r in the bloo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 stains are lost in its lifegiving flo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wonderful pow’r in the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шь ли снега белее ты бы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крови, 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Иисуса всё может ом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Его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pow’r, pow’r, wonder-working pow’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blood of the Lam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pow’r, pow’r, wonder-working pow’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precious blood of the Lam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агоценной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ld you do service for Jesus your 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pow’r in the blood, pow’r in the bloo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ld you live daily, His praises to 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wonderful pow’r in the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хочешь ли верно слу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крови, сила в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ю, устами Иисуса хвал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Его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pow’r, pow’r, wonder-working pow’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blood of the Lam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pow’r, pow’r, wonder-working pow’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precious blood of the Lam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агоценной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54Z</dcterms:modified>
  <cp:revision>14</cp:revision>
  <dc:subject>Slavic hymnal Гимны веры христиан, hymn 416</dc:subject>
  <dc:title>There is Power in the Blood / Грех победить, о, желаешь ли ты?</dc:title>
</cp:coreProperties>
</file>