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A3C-66F7-471F-B7AB-B26D9E05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C50-F813-4D98-BE24-6ED48BCC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516-F077-4D1B-B0BB-C5217CA7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ADD-DD86-4BAE-856C-F5732A77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63C-0A38-490A-AF2F-298C033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77C-B8B9-460C-A499-742F0FD7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953-64A3-4A96-8E78-17A97AA3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A05-DBE3-43A6-9BBA-148C4C17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3E3-EE18-464D-9F54-AA4FFFFE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24C-EDAB-4A2C-B0F2-7512B8F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913-9DCE-40FF-AFCE-CE60344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AFC-8095-4EF2-8816-323DCC45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5761B-C692-4653-A91C-259B98246C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ещё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зким тернистым тро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емя Христа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елит Сам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силы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! С Ним крест на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лгофы не трудно 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трудиться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роемся вдаль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пре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57Z</dcterms:modified>
  <cp:revision>12</cp:revision>
  <dc:subject>Slavic hymnal Гимны веры христиан, hymn 502</dc:subject>
  <dc:title>Только немножко нам</dc:title>
</cp:coreProperties>
</file>