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152-DCD2-4733-A342-80331E2A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522-0C20-4DE2-84EA-B2E9F543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F77-054C-4275-AA5E-DEC1AB33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62C-D4CE-4A48-BD7F-28FDCE9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072-777D-446B-A8DE-1201A201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75B-E145-4371-953A-3EB2169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EEE-8430-4933-BFC6-81C5306B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729-3E22-428E-9C8C-CA9D3215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5DB-11F6-4AAD-92DE-4DF9CA14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559-4DA4-4635-A67D-224D5F00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FD8-76FD-435B-999F-015D0A2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4A1-A085-461B-92D5-10CBE85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53A45-E50A-4773-914C-888E91E1AF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firm a foundation, ye saints of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laid for your faith in His excellent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more can He say than to you He hath s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you who for refuge to Jesus have f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not; I am with thee. O be not dism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am thy God, I will still give thee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trengthen thee, help thee, and caus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held by My righteous, omnipoten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the deep waters I call thee to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rivers of woe shall not thee over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will be with thee, thy troubles to b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nctify to thee thy deepest di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fiery trials thy pathway shall l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e, all sufficient, shall be thy su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lames shall not hurt thee; I onl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dross to consume and thy gold to re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down to old age all My people shall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, eternal, unchangeable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hen hoary hairs shall their temples ad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lambs they shall still in My bosom be b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ul that on Jesus hath leaned for repo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ot, I will not desert to its fo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oul, though all hell should endeav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ha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never, no never, no never fors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59Z</dcterms:modified>
  <cp:revision>12</cp:revision>
  <dc:subject>Slavic hymnal Гимны веры христиан, hymn 850</dc:subject>
  <dc:title>How Firm a Foundation / Стоит основанье</dc:title>
</cp:coreProperties>
</file>