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8DA-B87C-4628-B8FB-8C095730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F93-00E2-4132-B873-3AC5AC4A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D32-4C65-453B-8617-2828F159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F64-DCCA-464A-A0F8-9432E9C5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739-62C7-452F-A660-0DAD6565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F9B-592A-49D2-AAC0-C0BD6F0E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8C2-AB48-4748-9E4D-36F63D1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7BC-4AB1-48CE-B131-579B09C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E95-7821-4427-B67F-ED8F0C60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1D1-5A50-409B-AA9C-F2481636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468-4F95-4707-81E3-FE85D82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C58-3096-49B1-8AF3-3FF281D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A7F2D-0305-461B-9D57-B8EB8DEC88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Calvary’s mountain, one dreadful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ed Christ my Saviour, weary and w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cing for sinners death on the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might save them from endless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Father forgive them!” thus did He p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n while His lifeblood flowed fas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ying for sinners while in such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but Jesus ever loved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w I love Him, Saviour and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can my praises ever find 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years unnumbered on Heav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o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ongue shall praise Him forever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9Z</dcterms:modified>
  <cp:revision>14</cp:revision>
  <dc:subject>Slavic hymnal Гимны веры христиан, hymn 414</dc:subject>
  <dc:title>Blessed Redeemer / Мой Искупитель, избитый весь</dc:title>
</cp:coreProperties>
</file>