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4E6A-6065-4857-8D53-2A851147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9C1D-891D-4A3F-A332-6E294CCD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AAE9-D70F-4FA7-9A22-A361F222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E6E9-8FE1-47D0-AFD4-58B92275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BDC3-CDD5-4A3B-9A02-911DE2D1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811-FCF4-4003-8384-FF041F3C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5E3C-7D81-4F87-9025-2300F652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0BDD-9A2D-4D56-B806-7E6D4F1A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61D0-AB69-4750-A22A-51AFA295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6C09-9E0F-491D-B7A3-3B31D3CE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F5F2-16D0-4E0B-BDC4-5B7EECE8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0CE0-323E-4051-A255-560F568A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C91F6-209A-4BDC-A176-E4A40D59342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Neath the stars of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lked the Saviour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garden of dew-ladened breez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ановилось тем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овилось тем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ет наши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хий сад на молитву спе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His wonderful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ho bore all my bl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knelt ’neath the old olive t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росил Он за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принял мо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Один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old olive tr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old olive tr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nt the Saviour alone on His kne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лся, главу преклони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My will, Thine be don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ied the Father’s own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knelt ’neath the old olive t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воля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творится всегд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просил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no light could be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knelt on the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He prayed ’neath the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live t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всех подним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лени уп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ился под тенью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old olive tr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old olive tr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nt the Saviour alone on His kne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лся, главу преклони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My will, Thine be don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ied the Father’s own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knelt ’neath the old olive t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воля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творится всегд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просил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sins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Saviour was hur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knelt in the garden al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мя мира вс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легло на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н на коленях сто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His soul-burdened pl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is cup pass from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so, not My will, Thine be don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чаша 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минует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смиреньи и страхе взы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old olive tr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old olive tr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nt the Saviour alone on His kne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лся, главу преклони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My will, Thine be don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ied the Father’s own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knelt ’neath the old olive t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воля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творится всегд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просил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my song ever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love proffer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my Lord all alone on His kne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моя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ходившем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традал Он, меня возлюб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39:41Z</dcterms:modified>
  <cp:revision>13</cp:revision>
  <dc:subject>Slavic hymnal Гимны веры христиан, hymn 281</dc:subject>
  <dc:title>’Neath the Old Olive Trees / Становилось темней, когда Свет наших дней</dc:title>
</cp:coreProperties>
</file>