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D7E6-1F24-4C28-979D-D11D490F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979B-54E9-421F-B80F-D289C6F0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B687-78BF-42C1-9E6E-1B31481D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FF88-AB3E-4E81-A123-A0FF3FF5D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14E1-17F7-444B-8DA9-7CB927C9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6F86-B7E1-4653-86B7-AAC4DD35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59D7-6077-4D83-906D-212E7CDB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4F9E-1FE7-40EC-A4B5-3E337A05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4713-AD71-40F6-B87B-3ECEB982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869D-AC0F-435B-BF5F-2CAA6840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6C4A-1331-4EEE-B676-876CD216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56A3-9304-456F-B84C-AE61692A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9C9A7-02D2-45F8-9772-42871EEA779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і, слава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і, слава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мене спас, гріхи прост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оє серце кров’ю ом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7   Господі, слава Тоб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4:22Z</dcterms:modified>
  <cp:revision>12</cp:revision>
  <dc:subject>Slavic hymnal Гимны веры христиан, Ukrainian hymn 107</dc:subject>
  <dc:title>Господі, слава Тобі</dc:title>
</cp:coreProperties>
</file>