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16A-70D1-440E-B6C4-2A8A781B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D187-8D7C-4542-A38F-4E203D92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B17-D562-4B1A-B0F6-E6FA6057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9EA-C7BD-49D9-B162-E43A44AB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A55-4C24-42D7-B5E7-80B8AB25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78F-48EC-4E3F-90A4-926313C1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09E-426F-4258-8EA2-65B71FD5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033-D709-448E-BEFB-BA90D451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B2A-B0AB-4FB0-8DEE-E2FE69A6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9FC-7E02-4DB9-8198-6FD23A32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132-83FE-48C3-82D2-720B18A8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37C-1A8D-4D81-BD4A-88E3E3AF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2BDA3-FBFD-473D-A639-3B60150A34F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страхи побор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жизни укрепля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: «Так сказал Господ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2а   Сладко верить 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 в мощь Его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ой прикосну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ю душу обн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цепи все пор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его потоком ль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мир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то познал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Бог, моя звез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живу, к Нему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станусь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4:28Z</dcterms:modified>
  <cp:revision>12</cp:revision>
  <dc:subject>Slavic hymnal Гимны веры христиан, hymn 622 (as amended)</dc:subject>
  <dc:title>Сладко верить в Иисуса</dc:title>
</cp:coreProperties>
</file>