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CFCB-9AF3-4841-91E1-E6718471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60AB-9340-4139-8F5B-3687FE78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81A7-AD19-4080-9F47-8A0AAED6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FE31-F5B5-4624-A621-6E2E4BC9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C9B9-54F7-4356-A467-CA1979FF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D059-3EC0-417A-92CE-87ECAEF0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A5F2-F640-429F-AD16-AC98D9CA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0472-DA55-4D99-85D6-DBF8DBE8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C7AC-BD32-4F30-9D12-8964722D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47AC-C100-4E91-87E7-77F6551B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0E28-BAD8-4B7D-8864-6368DF79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20AF-72A5-4317-8B07-E26703BA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DBD35-D0F4-4E6B-A805-6512A1C2476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і літа молодії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жії сили в ці дні вес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присвятім їх Ісу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ар для Нього дорогий (дороги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може бути ще кращ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ля Ісуса слу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, у житті цім дочасн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 Христу присвя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присвятит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7   Кращі літа молод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чуй, як Христос закли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благодатний для нас наст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е вагатись не мож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нам життя дарував (дарува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стри! Ми прапор підійм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іменем чудни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інь небесний зогрі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у й любов у серцях (у серця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, во ім’я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тя, вперед в боротьбі з грі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сячі гинуть в темряв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світлом до них ми підем (ми піде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нас зустрінуть гон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ерть за Христа не страш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вірою все перемож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слави Спаса Христа (для Христ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9:01Z</dcterms:modified>
  <cp:revision>12</cp:revision>
  <dc:subject>Slavic hymnal Гимны веры христиан, Ukrainian hymn 87</dc:subject>
  <dc:title>Кращі літа молодії</dc:title>
</cp:coreProperties>
</file>