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958C-9CE4-47B7-A264-2A86C685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0CE5-2CE9-4679-AF80-8A7F4A64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4103-BF9D-4727-8BDD-F40F1A0E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061D-84E2-4EE2-8D0C-C8B7ED82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273A-5FB1-4AE3-9907-D20B844E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2B69-2D39-4CAF-AEE9-847A4ED6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2AEE-0531-4023-8CB9-ABE102B6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BF48-09A4-4BF1-9058-1A3F83A7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382E-A3B1-4121-AD70-00224BA4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AB43-AC07-44F4-BD1E-F8D8A708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C950-51AD-42AA-AAE8-FA4C8C4E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11A5-BFA4-43C8-A60E-F48BFF48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D9C4C-DADB-46D1-8EA7-CBCE85EC92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, the voice of Jesus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ill go and work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elds are ripe and harvests wai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ill bear the sheaves away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ышите ли Божий голос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те ли Божий гол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ывающий к дел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озрел на ниве кол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пешите все к труд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ng and loud the Master calls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ch reward He offer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ill answer, gladly s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am I, send me, send me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, любовью пламене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тот могучий з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ветит, не робе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лужить, Господь, готов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cannot cross the oce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distant lands expl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find the lost aroun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help them at your doo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несчастные нар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 ведают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 нас, и в наши 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могуча темн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cannot give your thous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give the widow’s mi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you truly give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be precious in His s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в неверии косне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ет множество у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ветит, не робе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лужить, Господь, готов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cannot speak like ange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cannot preach like Pa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tell the love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say He died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голосом про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с Творец не ода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л мудрости выс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ложил великих сил;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cannot rouse the wick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judgement’s dread alar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lead the littl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Saviour’s waiting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ничтожный дар име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всё ж нужны для тру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ветит, не робе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лужить, Господь, готов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none hear you idly s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nothing I can do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lost of earth are d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Master calls for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зовёт к высокой 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ботать для Н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йдём, чтоб нам на де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ить Бога Сво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he task He gives you glad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His work your pleasure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swer quickly when He calls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am I, send me, send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евностно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, иль там, вблизи, вд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же всякий вдохнови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готов — меня пошл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58Z</dcterms:modified>
  <cp:revision>13</cp:revision>
  <dc:subject>Slavic hymnal Гимны веры христиан, hymn 541</dc:subject>
  <dc:title>Hark, the Voice of Jesus Calling / Слышите ли Божий голос?</dc:title>
</cp:coreProperties>
</file>