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CC0-B130-4439-95F7-A74C4B8A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A8F-D6DE-4472-B62F-A9F88394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ACD-1098-41B8-96E2-0D2C9ED9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D3F-7E22-476B-AACD-C12EAA1E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1E9-5EA6-449A-93A8-0EA3C5D8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3B2-F153-4B4F-8C8E-6C8615B5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370-3C64-488F-ADF5-1A41DD7B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F69-558B-42DE-940F-E17E8B55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F08-8E28-4715-86A8-FEA06CEC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BC7-BC2F-4118-B437-C64F3F5A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46B-E88C-4A5D-98DC-43DF2DE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859-C001-4137-9F63-54F2FCD8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27E55-C469-47C8-A04D-8EDA6E0163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ты для Господа сердце откроеш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ты с молитвой падёшь перед Ни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ставишь неверье, наклонности зл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мир этот грешный не будешь люб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ты для Госп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жизнь без Христа есть не жизн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страдань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борьбе непосильной ты весь изнем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горе и слёзы и все испытанья 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 видит и знает Один только Б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бавишься вскоре от всех испытани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от угнетающей душу борьбы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примиришься ты с Господом Бо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ердце омоешь в Христовой кров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7:07Z</dcterms:modified>
  <cp:revision>13</cp:revision>
  <dc:subject>Slavic hymnal Гимны веры христиан, hymn 411</dc:subject>
  <dc:title>Когда ты для Господа сердце откроешь?</dc:title>
</cp:coreProperties>
</file>