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92</a:t>
            </a:r>
            <a:r>
              <a:rPr b="1" lang="ru-RU" sz="3600" spc="-1" strike="noStrike">
                <a:solidFill>
                  <a:srgbClr val="ffffff"/>
                </a:solidFill>
                <a:latin typeface="Verdana"/>
              </a:rPr>
              <a:t>	</a:t>
            </a:r>
            <a:r>
              <a:rPr b="1" lang="ru-RU" sz="3600" spc="-1" strike="noStrike">
                <a:solidFill>
                  <a:srgbClr val="ffffff"/>
                </a:solidFill>
                <a:latin typeface="Verdana"/>
              </a:rPr>
              <a:t>Господь, меня голодного</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Господь! меня голодно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хлебом накорм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ироту безродно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бе усынов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Тебе за мило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за дар люб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Тебе за радо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Тебе за всё!</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Но не за те даяни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щу Твой дивный тр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красотой сияни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ей души плен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Тебе за мило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за дар люб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Тебе за радо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Тебе за всё!</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Как солнышко прекрасно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й лик меня ман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згляну — и счастье ясно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душе моей гор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Тебе за мило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за дар люб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Тебе за радо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Тебе за всё!</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Как ручеёк затерян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ремится в океа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к я, в Тебе уверен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ремлюсь в Твой вечный ста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Тебе за мило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за дар люб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Тебе за радо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Тебе за всё!</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Ожил я дуновение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 уст Твоих; и вн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иву одним стремление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стичь Твою люб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Тебе за мило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за дар люб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Тебе за радо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Тебе за всё!</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6.</a:t>
            </a:r>
            <a:r>
              <a:rPr b="0" lang="ru-RU" sz="3200" spc="-1" strike="noStrike">
                <a:solidFill>
                  <a:srgbClr val="ffffff"/>
                </a:solidFill>
                <a:latin typeface="Verdana"/>
              </a:rPr>
              <a:t>	</a:t>
            </a:r>
            <a:r>
              <a:rPr b="0" lang="ru-RU" sz="3200" spc="-1" strike="noStrike">
                <a:solidFill>
                  <a:srgbClr val="ffffff"/>
                </a:solidFill>
                <a:latin typeface="Verdana"/>
              </a:rPr>
              <a:t>Без Твоего общени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мог бы я дыш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гу ль Творца творени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десь в мире не иск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Тебе за мило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за дар люб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Тебе за радо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Тебе за всё!</a:t>
            </a:r>
            <a:endParaRPr b="0" lang="en-US" sz="3200" spc="-1" strike="noStrike">
              <a:solidFill>
                <a:srgbClr val="000000"/>
              </a:solidFill>
              <a:latin typeface="Verdana"/>
            </a:endParaRPr>
          </a:p>
        </p:txBody>
      </p:sp>
      <p:sp>
        <p:nvSpPr>
          <p:cNvPr id="4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0T10:27:53Z</dcterms:modified>
  <cp:revision>3</cp:revision>
  <dc:subject>Slavic hymnal Гимны веры христиан, hymn 92</dc:subject>
  <dc:title>Господь, меня голодного</dc:title>
</cp:coreProperties>
</file>