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731-07D9-4E7A-A90B-30FE4F1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8A2-DAFC-48C1-832A-17C21FB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C68-7FA9-4E9E-9FFA-DD9E75C7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9BB-44C8-47BE-8610-03DE851B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480-1F83-47CC-BD9D-19FEDDEB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4C5-EBFA-4DEF-BDEC-D9B75793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FB1-32CF-48F2-987F-63E7F27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1D2-48B9-48AB-B057-5333A7C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5C5-6096-4B59-9EAA-EA8C6D97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DA4-33BD-4A63-9F21-9B101B3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F1F-3F7C-48A4-ADC6-9D8BA3F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E7E-FDEB-447A-A054-DE4BEA5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9FBE1-D213-4C22-9166-C316BF4F07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sins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burden of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y them deep in its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ou wilt find a r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thou art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y sins are like crim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as the snow they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are the words of th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repent and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are willing to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t His hand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 healed at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st to the peace-speaking v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 sinner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let the angels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5Z</dcterms:modified>
  <cp:revision>13</cp:revision>
  <dc:subject>Slavic hymnal Гимны веры христиан, hymn 356</dc:subject>
  <dc:title>Come to the Fountain / К водам живым поспешите</dc:title>
</cp:coreProperties>
</file>