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D3D4-8CFD-45E3-901D-016FF5585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06F3-0422-436D-8B97-D09BB542A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9CAD-AA21-4928-87C2-12C4A87DD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AA26-5EDD-44E9-88C6-E01FE5373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1028-CDB7-41F6-A5EE-505D8E1CB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5E82-5F45-4DE9-9CE8-99CCF2760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A8C6-D18E-4939-9021-DFA73CA1E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C5D7-5C55-42AF-B185-2AF93BB8F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80B7-7C22-40DE-B111-9B86C7EC8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A4A0-90F5-45A2-A5A9-33134225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20A6-2AF1-4F82-88AF-E2934B71D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EA32-5453-4BDF-8DB4-4FBC5B3FE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520C2A-BFF4-49F6-925D-42852E3F6D7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и нас, Царь Небе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и в последний б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род Твой с громкой пес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т вслед за Т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любви и благод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итывал Ты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послушной р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щенный дал прик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2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еди нас, Царь Небес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и нас, Царь Небе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грех исчез с зем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 свету повсемест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блудшие приш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 копьями, с меч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 ужасом вой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с добрыми дел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т Твои сы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и нас, Царь Небе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битва не страш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Ты, там свет чуде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лишь хвала звуч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крест, Твои заве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кавый не затмил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ждёт венец победы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и нас, Боже с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31:32Z</dcterms:modified>
  <cp:revision>12</cp:revision>
  <dc:subject>Slavic hymnal Гимны веры христиан, hymn 828</dc:subject>
  <dc:title>Веди нас, Царь Небесный</dc:title>
</cp:coreProperties>
</file>