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325A-C9D2-4D33-B7CA-4636E3B00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0BA1-117B-49C9-8D3C-DDEEAAA7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093E-55E9-4307-891A-F6727C6E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815B-3C52-44FD-BE72-68E63EBC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D8AB-6C8F-4305-B824-90914BDB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A14D-19E2-46EB-8D00-489FC7F2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5714-E4A8-4544-83A9-FE561359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E931-67DD-466E-94D2-0AFC6EFD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A6FC-0378-4218-8A0E-02D6E802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4F40-6AA9-4C73-B279-6800EFDA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3CD5-9FCA-40BC-AAD8-353B3CA4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CD8C-45F8-4DF1-907F-39F41C7F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3E6B3-78E0-4763-B247-36049C2C659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в небе край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ой Отец бла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анник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путь лежит во мг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би лишь кру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в небе край род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олог путь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яжек жизни 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ё пройдёт, как с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т путь сверш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 Отц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где Христа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туда влеч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у лико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воспе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Его лиц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ль я стра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ж не могу роп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Сам Христос стра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 обещ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асить Он венц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2:27Z</dcterms:modified>
  <cp:revision>13</cp:revision>
  <dc:subject>Slavic hymnal Гимны веры христиан, hymn 813</dc:subject>
  <dc:title>Мой в небе край родной</dc:title>
</cp:coreProperties>
</file>