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FCB-B9D0-47F3-9AC9-41A9E733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6D1-F65C-4970-9D41-9F4DC6C3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A8B-FA2C-41C3-953C-AC7F68F1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72E-C730-4F8D-8D1D-3CA1D8B9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8D1-6CD7-4EFA-B604-46A07CD1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483-1E63-433D-AE9D-E5A8A6BD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4EC-7272-4941-8AF3-98D0FD0B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15F-0E28-46EC-8FF9-B2D91370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C35-EADD-4105-A915-9DDA9DAB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C45-0997-4393-AD20-6D8E55CB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D8E-1D8C-4EEB-949D-BB42FF9B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89D-167E-4BA7-BCEE-0D5B2E8E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CD379-1D0B-4F1F-9E39-977655F587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дный с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возвра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прими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х сле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е объя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люч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ную песнь восп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ена пропав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в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 уда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ёртвый во грех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ители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т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ажжётся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емлющих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валой на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5:04Z</dcterms:modified>
  <cp:revision>12</cp:revision>
  <dc:subject>Slavic hymnal Гимны веры христиан, hymn 589</dc:subject>
  <dc:title>Радостную песнь воспойте</dc:title>
</cp:coreProperties>
</file>