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585-1657-4882-9956-E6669A73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A87-BA40-4FD8-882E-AF98728C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AED-49EA-40BA-B455-CCF0DCD9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2E4-7378-43C1-A3D3-9D987B0D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60A-0409-4F42-8E55-30CCB59D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2FE-1C51-4E59-8BAA-C773729F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BFA-FDC1-4DC8-9358-5ECF68F3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CF2-4A48-4421-A761-0379FB00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F4F-7312-4A41-B48E-84703468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100-7999-40A2-B9A0-4182DDD2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AAA-BFCF-4B0B-9651-847AD33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EF8-97BF-455A-8AF7-A6C048C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D50D0-E83B-4E07-9D2C-844DA1095F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t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love surround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s me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o Be In Your Pres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est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rushing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herish each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ould I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37Z</dcterms:modified>
  <cp:revision>10</cp:revision>
  <dc:subject>The Source, song number 524</dc:subject>
  <dc:title>To Be In Your Presence (My Desire)</dc:title>
</cp:coreProperties>
</file>