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BD1-4225-4436-AC0E-AC0AADC9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28C-890E-4778-A453-B320D115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B7B-317D-494D-8DEA-C5233DAC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664-5940-4866-A16D-D0F86EEE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253-7405-4EB4-A2BF-9AB2E40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842-0581-4CA8-A483-0596BAC6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6BC-2024-465C-9288-8266D6D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1F0-557C-4A31-9353-4E913172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242-BD36-49C6-B1FB-DE854426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736-1353-4EE2-941B-04C2EB64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909-F2F0-4F09-A68E-CDA1816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5BD-ACB3-4354-8CD6-548BB227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3E1EC-E45B-4C29-8FF5-E6411E1C9C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ай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ом месте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и поко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жду, только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аю лучшего в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граду получить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ю всё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шает мне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знать Тебя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4:59Z</dcterms:modified>
  <cp:revision>11</cp:revision>
  <dc:subject>The Source, song number 233 in Russian</dc:subject>
  <dc:title>В тайном месте / In the Secret</dc:title>
</cp:coreProperties>
</file>