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67F-DFF2-4265-8B2F-99756D7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BF4-8F75-417E-9771-22F32ED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ED7-ACA2-4246-9742-5C1BC5A2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BAD-7FB4-4D75-A1A6-CF0D25F2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7B9-2E7E-4CCF-9561-38EE1CC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356-C8D0-41FC-B842-DE6F8CA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D77-28A8-4106-B42E-093ECB41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041-5B0F-445E-9519-F0AB2D1D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BC6-4B2C-4713-A006-43BF362F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15B-080A-4CCB-B79E-ACAD209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8ED-BFB9-4E13-AD71-34C1CC8E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98F-6668-43B1-AB50-BE6715F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C4F9C-8B74-4C95-9898-A177E194EA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0   Ісус прий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55Z</dcterms:modified>
  <cp:revision>14</cp:revision>
  <dc:subject>Slavic hymnal Гимны веры христиан, Ukrainian hymn 110</dc:subject>
  <dc:title>Ісус прийде, Він знов прийде</dc:title>
</cp:coreProperties>
</file>