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D14-86FC-49A9-932B-419DD3FF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7A4-C127-4494-A42D-14F5A72B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2C3-07A0-4ED4-8E5C-03C49422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9CD-A20D-40B8-B8BF-22434324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968-F7CD-49BB-981A-2012256D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712-ED34-4B01-A49A-D1DB702B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D0D-CDFF-4324-B446-D5BB05F5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FF6-6D6D-4806-B6A3-129BE538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7BCA-D85F-40CC-B263-6AAFA259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FB5-89EC-4007-9A46-17CCAF48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CBC-A0E8-4AE5-B5A3-755A1C1E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BDF-7773-436F-907F-8D3AE0DE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DCCE8-0DBE-4EB5-B15C-EB43A94A7B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the Lord is on thy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ar patiently the cross of grief or p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ave to thy God to order and prov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ev’ry change He faithful will re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thy best, thy heavenly 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’ thorny ways leads to a joyful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уныв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Господь всегда с т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си свой крест, в страданьях не роп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руках Творца и ты и жребий т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ерен нам. Общенья с Ним 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Господь чрез тьму невзг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лучший друг, к блаженству нас ве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thy God doth under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guide the future as He has the p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y hope, thy confidence let nothing shak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now mysterious shall be bright at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the waves and winds still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voice Who ruled them while He dwelt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Господь руково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рядущим так, как прошлым управля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му лишь верь! Ничто да не смути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вой час поймёшь зачем ты здесь стра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и буре и волн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ажет Он — настанет ти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! The hour is hast’n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we shall be forever with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disappointment, grief and fear are g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rrow forgot, love’s purest joys res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when change and tears are pa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safe and blessed we shall meet at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уж близок славный ч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с Христом мы будем на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юбви святой отрёт нам слёзы с гла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чезнет скорбь, забота и нуж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земное всё прой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небесах нас дом Отцовский ж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9:37Z</dcterms:modified>
  <cp:revision>12</cp:revision>
  <dc:subject>Slavic hymnal Гимны веры христиан, hymn 860</dc:subject>
  <dc:title>Be Still, My Soul / Не унывай! Господь всегда с тобой</dc:title>
</cp:coreProperties>
</file>