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B64-3AFE-4983-BC00-0988D312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A5C-67F6-4DF4-B75B-CEA2A458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981C-845E-48B5-8EE9-AFA0746D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0203-15C1-4364-8449-4BB96460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BD78-C80E-4462-B8B1-926E07F2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499E-778F-4C94-BB12-490CA73D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065-B55D-4445-AEBE-7332F245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AC9C-B736-4D43-8991-3BC8D0C1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69DD-1FD7-4056-B498-33205160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E72-B403-47EB-A1F0-F9CB4371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1BA-07B5-4319-A5EB-9D9F5742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7EEB-DAA3-493B-AFE9-AFF49DBA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BD0E6-DD07-4CB2-9B2C-8AEE5595503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так много печ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ны и вздохи круг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о мы счастья иск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о скорбели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ушедши в земн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ли добра от люд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лишались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ых не видели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мире так много печ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Господня нежда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й, могуче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из густого тум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вела к жизни и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тал нам любящим Бо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ым Небесным Отц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не стонем под и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, надеждой жив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грехов очищ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а Христова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и, тревоги, сомнень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мутся и тают, как л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наш путь озар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нам свыше д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в пути подкреп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ль перед нами вид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2:21Z</dcterms:modified>
  <cp:revision>12</cp:revision>
  <dc:subject>Slavic hymnal Гимны веры христиан, hymn 630</dc:subject>
  <dc:title>В мире так много печали</dc:title>
</cp:coreProperties>
</file>