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FF4-4B2B-4B5D-80E0-7405CF72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470-4624-44AD-B754-31F75779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7F1-BE83-4CFB-A6EE-452666E3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193-6EBD-4B03-B021-659DD0A8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B15-74F4-4249-B79F-4B7D7492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2FB-9909-4766-9D9E-35B4D15C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7D0-5C39-4A61-A61D-3BAA9F68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774-A59B-4E91-BF9C-CD6F29FB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BC8-C160-4CE8-8B6D-9DF23E46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556-EB93-4F2B-A1EF-15DF12EA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C321-6A14-4A01-B253-AECB7693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61D-02B1-41FB-BB78-CC49A995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33811-6C3B-4A0B-B70B-770A79430B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мерть Свою відкр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 любов’ю Він узя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ліб благослов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ломивши, всім роз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слова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тіло є Моє, й за в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Я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9   Коли Господь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з вином Він чашу вз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є новий заві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крові”, так Він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пийте з неї всі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Ось Мій завіт новий в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ам, друзі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завше ви чиніть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нали смерть Мо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ай, Ісусе, кров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и проли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и могли любов 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знати всі в це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, Ісусе,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думати про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ильно Ти стражда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яжко умир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5:47Z</dcterms:modified>
  <cp:revision>12</cp:revision>
  <dc:subject>Slavic hymnal Гимны веры христиан, Ukrainian hymn 79</dc:subject>
  <dc:title>Коли Господь ученикам</dc:title>
</cp:coreProperties>
</file>