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CDB-99EF-48EC-9D4E-0C01B6EA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151-A255-493C-B8E3-0D7FBCE4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AB5-708E-415A-97CE-E45B8F92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BF6-CB90-4B2E-8D3C-B3CD7735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357-2712-4B01-A508-4F52BBE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4ED-7F50-432B-99E7-FF6231E3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0D1-AEEF-4105-B716-A17D0B23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B43-C116-46B7-8A10-787FA69B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0B0-F19A-4AEB-A1E2-8E4E7388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595-9AC3-4351-8DD5-24275D06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D36-A88B-4051-AEB0-3F9AEF1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EE7-DAF5-4978-8470-D46F830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B7F5A-E6F3-4E6B-A320-4A431D917B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1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31Z</dcterms:modified>
  <cp:revision>12</cp:revision>
  <dc:subject>The Source 4, song number 2161</dc:subject>
  <dc:title>You Are My Hiding Place (Hiding Place)</dc:title>
</cp:coreProperties>
</file>