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BAB-9531-492C-B145-7A2477D1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97A-3826-4CEB-B6FE-A88F708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A24-FF5A-42EF-976C-7B583B9A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056-9E83-46D4-ACF1-7B57EB42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A60-1E59-454C-A0C0-6BCD510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6DF-7372-47DA-9424-7C6BB2DA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30-3B28-4B29-B05C-400F494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2A5-62F7-4DE8-BD95-08BEDF0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22F-F265-46CC-BD14-884D7048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0F7-6446-4ADD-B566-5FA41A3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F66-36D0-47AA-833F-3074F5C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17C-7ED0-4AF0-833C-8032B24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D64A4-7586-4B4C-9402-AADEAE77D9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w your soul’s fresh, glowing ar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et the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untless was He, young and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loyal devo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 eve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, and to you will be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beloved Son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tefully seeking to ser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else is worthy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ave Himself for your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ve up His glory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down His life without murm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rom sin’s ruin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heart’s ador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48Z</dcterms:modified>
  <cp:revision>13</cp:revision>
  <dc:subject>Slavic hymnal Гимны веры христиан, hymn 549</dc:subject>
  <dc:title>Give of Your Best to the Master / Всё посвяти Иисусу</dc:title>
</cp:coreProperties>
</file>