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20A-8113-4333-B9A9-DB1A4D9C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BF5-6077-4D71-9BC8-8AD20FE4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AAC-50FF-4009-A27B-8319EB55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297-A7DE-46FC-830E-3494C475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B05-0A50-4629-81F6-60940B6F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7BB-FA82-4DDF-AE51-7501143E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0B6-7AD6-491F-8033-6930C875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BB9-2B51-4A95-8D15-BB9A29A0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674-9AEB-4059-96A1-DA480FD6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331-D2FF-4433-98C9-EC9B100C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71C-4BEE-449B-AD7B-3257ABB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E2C-93E3-4EB6-A0F6-8B500BB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1F885-E154-42A0-9DB4-C7D8CB5999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ak oft with th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in Him al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d o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святости стре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преб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мо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лию чит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friends with God’s child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those who ar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etting in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essing t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будь со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дер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нь забот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служ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rushes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d much time in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йдё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держ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лишь за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looking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Him thou sha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riends in thy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keness shall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лик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и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ют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m be thy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un not bef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не тороп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есту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oy or in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follow th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looking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trust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и в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уская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calm in thy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thought and each mo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His contro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ым будь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мир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led by His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ountain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oon shalt be f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ervi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одимый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дёшь ты к слу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го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8:08Z</dcterms:modified>
  <cp:revision>12</cp:revision>
  <dc:subject>Slavic hymnal Гимны веры христиан, hymn 858</dc:subject>
  <dc:title>Take Time to Be Holy / К святости стремися</dc:title>
</cp:coreProperties>
</file>