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4BB9-76B2-4642-92CB-CC8CED674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F22D-B62E-4C56-9D74-033C0BA0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7E92-13AD-41BA-9645-706E268A0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094C-0BC4-452E-B6D9-08A1AFCAF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88B2-148E-4009-8407-992380B5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FB93-B7DB-4ED6-BB88-22FF1613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087D-A366-473A-BBBA-2B814396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0A6B-0B39-4765-9747-082B2B57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6792-DC39-4382-8B86-F4CD4CD0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40AA-032C-42BE-9E44-F721EA44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F831-35A1-44F0-AB5B-6FFBD472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579F-D32B-4E97-B2C8-5D3FC3E5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4940DC-8A0B-44F6-9E62-A5C11F2B9D0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адійте, браття, і в піснях духов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у і честь віддавайте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нас знайшов всіх в неволі гріхов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нам любові явив повно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 безмірно нас любить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хороняє в житті нас земні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приготовив нам святі осел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нагородить вінцем золот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6   Радійте, братт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істю, браття, за Слово Господн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ль і зневагу покірно знес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підкріпить на вузенькій дороз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лаву введе нас у Царстві Свої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2:06Z</dcterms:modified>
  <cp:revision>12</cp:revision>
  <dc:subject>Slavic hymnal Гимны веры христиан, Ukrainian hymn 56</dc:subject>
  <dc:title>Радійте, браття, і в піснях духовних</dc:title>
</cp:coreProperties>
</file>