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0D90-7B64-4917-8EA3-093A53490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D623-E347-459E-9F5D-8520CDAB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5E43-25BF-4DFF-8DC4-0CB2CE1A2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C308-4082-4147-B9C9-A72C200D9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AB61-82AE-4370-976D-89467F6B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5861-5B0B-409C-BC7D-504BC8AF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0778-9BE8-4DBB-8B46-125B38AC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3A21-4E98-4034-9D13-140E1B76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BC76-FE67-49F3-BA10-6CE048EE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8378-3C08-43F5-81CF-44ADDBA2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106B-12B3-4E6D-B0AA-CDA1CC56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8517-3A8F-474A-B29B-88DFAF8E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4E4AA-D464-42E0-8E48-89FA920FCE3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ток горит зар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поёт дух м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итве иль тру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твердить везд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сток горит зарё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еет всё кру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дружней поё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ходят силы ть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звучат псал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и луг и л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и круг небе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роды всей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е возглас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в теле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ет песнь мо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во все 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льётся, как ре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11:45:29Z</dcterms:modified>
  <cp:revision>12</cp:revision>
  <dc:subject>Slavic hymnal Гимны веры христиан, hymn 822</dc:subject>
  <dc:title>Восток горит зарёй</dc:title>
</cp:coreProperties>
</file>