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88D-769A-4475-A71F-FC2A7409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F5B-51A3-48E8-9FF0-35E41A7A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B43-FEEE-4881-B134-3EEC2A52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8FD-A3A3-4098-96B9-7F27D5C0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1BD-797B-4BCD-BE12-6BED785B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340-240F-4B58-912E-A839F7A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1D0-E346-4B70-949E-3F7DCA3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3E4-A0E0-4299-B800-3D600D29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065-1369-46A5-91E2-EE294084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31F-273A-47AE-8244-DAAF596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B46-A533-405D-9619-23272D8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ED1-CDAD-424B-BFFE-4238036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71DD-6A4E-4E19-9BC3-05A513068D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01Z</dcterms:modified>
  <cp:revision>12</cp:revision>
  <dc:subject>Slavic hymnal Гимны веры христиан, hymn 857</dc:subject>
  <dc:title>Спаситель говорит</dc:title>
</cp:coreProperties>
</file>