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039-88F5-4FF3-984E-09544506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D94-6B4F-460E-92E7-5C4E824F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380-AC0D-4E7C-8F1E-D7B7117E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03C-48DD-4792-9590-7401E8A4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A35-F974-45C4-8A4D-AB58F66A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B74-5328-41ED-9055-A27C0A52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B48-21F1-4BF2-8894-42E7EBCF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EF6-F6D7-452F-9DBF-7C6FB57D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F0C-80DC-468C-A97E-EEF9B0C9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6ACD-0998-486B-9CCB-0267BE95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B9B-F424-4D93-9847-02A4CE6F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B3D-AF97-4C7E-98F1-F2D88C2A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CB231-0815-4648-AFAF-07A1D2BE51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де невірний та серцем лукав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ді вже Бога Святого гніви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ді грішити, неправду твори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еба вже Богові вірно служи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ога ― велике це щас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вжди повинні про це ми подб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і тіло на Божеє ді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 повинні Йому ми від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9   Роде невір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 подивіться на Божеє ді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о страшнеє Він всюди т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океани для Нього слухня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діють, що Він їм ве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ва дозріла, робітників м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ця велика потрібна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у не гайте та з Богом руш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вам поможе усяким доб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ті люди навіки щасли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і мамоні служить відрек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і в кайданах ― гріховних тих ран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ли рабами у неї ко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яка велика Тобі, наш Влади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Тебе усі 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Твого Сина гріхи наші зм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звільнила з тяжкої тюр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4:51:35Z</dcterms:modified>
  <cp:revision>12</cp:revision>
  <dc:subject>Slavic hymnal Гимны веры христиан, Ukrainian hymn 59</dc:subject>
  <dc:title>Роде невірний та серцем лукавий</dc:title>
</cp:coreProperties>
</file>