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9FEF-23BF-4C68-81B8-92AAB6B0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68A-99D7-405B-80EB-960EBE81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ECA-D196-4216-B1D5-82129EFC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A2C-55A1-46B0-9C7B-639FEC48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4A2-177B-4141-98B1-9A57F277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980-94FD-4223-AA96-D1E6519E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E07-4000-4F4F-BDAB-E879D5C0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079-F332-430B-9873-3392A884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A8F-049C-42A7-9049-5F72A9C5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66C-1FC9-4B8C-94B3-E7FA151E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20D-372B-415A-9810-1FE54797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55B-A469-45BD-A8E4-74982814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DF2BB-9138-483D-87F4-8F0D8EA9C8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ьник жизни, Пастырь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во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я подвиг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чальник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 мне новый гроб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мученный,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нгела, что с выс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лся сторож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, как жёны на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есть дары мо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ры луч во мне го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очу я подра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крест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шу скорби прини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шь мне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6:10Z</dcterms:modified>
  <cp:revision>13</cp:revision>
  <dc:subject>Slavic hymnal Гимны веры христиан, hymn 430</dc:subject>
  <dc:title>Начальник жизни, Пастырь мой</dc:title>
</cp:coreProperties>
</file>