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BE6-F1EA-48EE-BBD9-A6986ABB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E1B-9B84-4C52-BD24-851796A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15A-0C67-48A0-8E55-6E053809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AF3-DD01-4658-A1D0-5702CF24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43F-47B1-4AEA-84B1-19AFA2E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5E4-0DFE-44C5-ADE5-5B571A1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F54-488E-47B5-A2C2-0BE3DF0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863-E280-416D-8CE9-23E29FA0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C2A-E61F-416F-9A17-D9952F6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285-BED5-424D-8E99-BBA2B0D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4E2-5989-44EA-B577-658A6177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E1A-910E-463D-99D6-0A81547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C7407-370A-4B3E-A171-B6E80DD0A4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себе спас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крылся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еня на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окоил Сам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теперь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уши моей сму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людей при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ою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ашёл себе спа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 пути у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 Его пр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вечном я на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 Ним я гов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го беседы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не отвер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жалоб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ужде моей случа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мне даё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несчастье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к спас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вно прост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узнать хо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ра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ставьте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йте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душе реш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любит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держит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00Z</dcterms:modified>
  <cp:revision>12</cp:revision>
  <dc:subject>Slavic hymnal Гимны веры христиан, hymn 636</dc:subject>
  <dc:title>Я нашёл себе спасенье</dc:title>
</cp:coreProperties>
</file>