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1DB-54E1-4B7B-9663-B9840D55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397-33B6-4387-B8C2-73506C6B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7DB-5363-4048-B09A-43F831C4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C15-4559-4A99-B380-8494E5AF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C56-1785-495D-A5D0-9A8213B1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A60-7FC9-45D4-A728-6926523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655-E8DB-4066-87F8-6AEDE7BF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61C-1F0C-4EC6-A92D-A88D4461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B18-754F-4245-91F3-2E1965AD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D4B-0EC9-4E8E-BA85-81FF6F86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F40-3A99-4913-B5F1-B8C9A068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D4C-37C2-402D-BCC9-1D7858A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11F12-DBAA-4A4F-AA52-9FB66DEE2E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tenderly calling you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from the sunshine of lov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ther and farther a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ный Спаситель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зовёт нас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,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от любви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ьше и дальш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 the weary to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Him your burden and you 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not turn you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даёт на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аёт, ны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воё пред Иисусом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ет Он бремя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, O come to Hi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oday, wait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your sins, at His feet 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no longer de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к Себе ждё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ждёт, ныне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вой Ему исповедай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отрада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pleading, O list to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m today, hear Him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believe on His Name 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Quickly arise a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ся чудный Спаситель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тиши, ныне в ти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ёт Он тому, кого сп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к Нему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0Z</dcterms:modified>
  <cp:revision>13</cp:revision>
  <dc:subject>Slavic hymnal Гимны веры христиан, hymn 401</dc:subject>
  <dc:title>Jesus Is Tenderly Calling You Home / Чудный Спаситель зовёт нас домой</dc:title>
</cp:coreProperties>
</file>