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A8A-AC7E-476E-8133-B58A47E9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1CC-BF57-4204-8B65-5B2096D0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EA9-CC3C-4611-9601-7A238AB7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76A-24B9-46D5-85E3-D577D519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BBA-6C01-4119-B5BA-F831414A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D07-B2A9-4243-94F0-87AC6FFD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725-F45B-4C31-ABD9-C2A7E4A8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5A4-C8DB-4D73-91CB-7879B05A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23C-A08B-4BAD-89FE-38911DC4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7B2-472D-4DA9-818E-F515A837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E88-4E35-4608-B45C-4D84A1B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DA5-4A2A-423B-BD71-0C69749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F8296-7E09-47CE-9D2D-A67354696B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транник, к небу т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й любви будет Он 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транник, к небу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близится грех к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вперёд по свят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ишь света ли пред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сказал: «Буду Я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когда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 радость вечную ты в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03Z</dcterms:modified>
  <cp:revision>12</cp:revision>
  <dc:subject>Slavic hymnal Гимны веры христиан, hymn 457</dc:subject>
  <dc:title>О странник, к небу ты на пути</dc:title>
</cp:coreProperties>
</file>