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204-4068-420E-B147-6D2F7B2E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5F3-BBFE-4013-96F9-6BE89A57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01B-7DBB-47F3-8D4B-4595BB2A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D32-E270-4B23-B0CA-13BB8DDA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1E8-0C00-4484-B4C1-07DFFD5F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A31-16D6-4114-98EA-D2C496C9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F40-1583-4B7A-8299-075F508A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416-0DF2-46C4-B0DB-78959FDF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EF9-EC82-41EE-A5F9-7D787231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16D-7CB1-45A8-8B08-BCC48091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E0D-7E92-43FD-A4F6-A48C34B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5BA-59D3-4C48-9FB4-FE33F36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51DFE-CA75-454E-898A-79FFBA8995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а моя була би про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а моя була би про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7   Як щоб не було б 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16Z</dcterms:modified>
  <cp:revision>13</cp:revision>
  <dc:subject>Slavic hymnal Гимны веры христиан, Ukrainian hymn 97</dc:subject>
  <dc:title>Як щоб не було б то</dc:title>
</cp:coreProperties>
</file>