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46B-8744-444D-9E85-FEFC0650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B7DA-B408-4470-A504-6DED5CDF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663-27E7-4370-8CB9-8279E6AC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8B5-7D6F-41B0-A9EC-7599A99B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3CF-D725-4883-AEF0-C4AEA721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990-8B71-4AEE-BFAD-3A8E3A38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5DB-C385-4EB1-8980-89B0FFF5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BCE-B1CD-48E5-8A82-E62589B6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BAC-E59C-4555-980F-FB431A69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E0D-88A8-4221-972B-9541225D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D20-A917-4199-86E3-5BCD4191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1F0-488B-48F4-B877-6E0BC8E0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DEBC0-9EF0-4D51-A69C-49A179F9CA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 дні останнього ча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радість нам тоді 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ми побачим наяв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ам на землю Цар царі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0   В ті дні останнього ча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небі вже ознаки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 землі довкол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Боже Слово свідчить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паситель Ісус прийде по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сі померлі у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зазвучить труба з небес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и воскреснуть перш усі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у славі Господь по нас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і — всі переміним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о підхоплені бу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Господом зустрінем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ак ми завжди з Господом бу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6:43Z</dcterms:modified>
  <cp:revision>14</cp:revision>
  <dc:subject>Slavic hymnal Гимны веры христиан, Ukrainian hymn 40</dc:subject>
  <dc:title>В ті дні останнього часу</dc:title>
</cp:coreProperties>
</file>