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19C-7D82-4059-A6B0-DA5E4FB2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56E-E206-435A-B344-347C0994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603-F8C7-49BA-AF2C-63FDD590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314-0B4C-4BF4-8624-F0FB5E88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602-784A-49F1-AB4A-EAE5B6F0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0C1-7FAB-4498-A44C-7A3200C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894-611C-418C-9AA3-8CD485A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096-BA34-4604-AE87-0998494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952-E000-4DDE-ADF3-1DA794E8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C05-7BD9-4649-9898-0D4AD2B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2E5-3B0E-448B-8C9C-BEB54B7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4F0-AF24-4538-AEB8-2E2477D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1C349-3E3F-43A2-92BF-4562D9B10A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6   Think About 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mer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’ve stray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has sought 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08Z</dcterms:modified>
  <cp:revision>12</cp:revision>
  <dc:subject>The Source 3, song number 1556</dc:subject>
  <dc:title>Think About His Love</dc:title>
</cp:coreProperties>
</file>