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605-3907-4F95-B375-E9DDDAF6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7DD-365A-4544-93A9-38FCDE77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CF2-1475-45BC-AB8E-5FAAABC3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020-2C88-4146-9115-496A894B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EDE-4251-424F-83AB-620B2599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1BF-1129-4727-AF21-492FC1B7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04B-77F1-45AB-89BC-C2D07D9A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451-440A-456E-9ABB-E9318B70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4D4-F0D6-4E93-865C-2E297F78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7DF-BE40-4ED0-92DD-87FB83EB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58A-3CED-479F-95A0-9EEBF8E0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CA5-C2B1-45AA-B3BB-829A3DC8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9E155-D425-4E65-B5AE-EA113FE6FA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I want is to know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I want is to know I belong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how me all of the things that are worthl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at I thought were so valuable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1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ll I Want Is to Know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I want is to know You, Jes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he power that raised You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lp me forget all the things that I’ve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t my heart on what lies a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38Z</dcterms:modified>
  <cp:revision>11</cp:revision>
  <dc:subject>The Source 2, song number 619</dc:subject>
  <dc:title>All I Want Is to Know You, Jesus (Nothing Is As Wonderful)</dc:title>
</cp:coreProperties>
</file>