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1B2-E078-4CF1-A6DB-9352DFE2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4A8-7C62-4F04-A6C4-3F663836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9D9-0EF1-494F-B914-11ED23BB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B8B-D9B8-465A-A117-39BA9912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A25-6520-441E-8598-70257C57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02A-2CD2-41FD-95DE-19CCDDC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98-2DDE-41FF-9B33-76E15D4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F73-5402-40BE-8110-0142F18B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6BC-DC57-4B2F-AD1D-5FBBF383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FF9-D7AF-4271-A13B-26F7D8D8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3E8-2179-4BCD-88CD-4244FD3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119-4B75-4B58-A1EE-A6B6512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91F30-501A-4182-873D-EDF077BD7F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now under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 me within Your might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4   Hide M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rest, my soul, in Chris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His power in quietness and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00Z</dcterms:modified>
  <cp:revision>12</cp:revision>
  <dc:subject>The Source 3, song number 1254</dc:subject>
  <dc:title>Hide Me Now (Still)</dc:title>
</cp:coreProperties>
</file>