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047-A569-4009-B99A-2F9D2B3F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F58-3ED2-41FB-B836-183E2F45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B7E-F1D4-4ABE-9498-9EA3FEA9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C15-E5A5-41E3-9D4F-CB808ED6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696-988C-4FCA-A3DB-DD527BA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246-99CC-4361-B21F-CCA5B55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5DF-3AB3-4ED1-A76E-46A7ACD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014-BD1E-419B-9210-5F71DD2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3BA-7EDF-4CA6-BC8B-31D9503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699-8697-473C-B5E4-D30E300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74D-D36E-4B0E-A172-E5317F8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159-ADD0-4374-BB7B-2004FB2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393CC-510B-475D-9C2F-C5312FE059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8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35Z</dcterms:modified>
  <cp:revision>12</cp:revision>
  <dc:subject>The Source 2, song number 1078</dc:subject>
  <dc:title>You Are Holy, O Lord, So Holy</dc:title>
</cp:coreProperties>
</file>