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17E-179B-4ED6-BE73-0D0FEA96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448-515E-4899-AA7D-D6E4B02E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0BE-50A7-49C7-A421-001E36A2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191-62D2-4199-9EDF-8A8A7988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AF4-AF50-49A2-AA2B-80880870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73B-DF9E-4578-835E-663BDCC9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631-FF23-4CC5-8EB2-D61D654A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FA5-19E6-466B-B9DA-FD279479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238-9798-41B2-B801-D82D311D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6C0-FFB3-4750-A2B3-D57C0FFC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E40-5DA5-43C0-9B25-650A7B4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44E-69C3-4F83-BD01-D097456C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B6BDE-FB76-45DE-B2AC-C293622271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м и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пасенье от забо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ледует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бов снимает цепи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мир твор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зглашает Сво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уше, на мор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людям мир нес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им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другим достичь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ы добра вк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мечей куёт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чит не вр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кать в сердца вра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ренно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служить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, снимать тяжёл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ледует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горсточка, огнём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ревши скорбь и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ети Божьи, мир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езде и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и мы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 братству призо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жий мир царил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нам, Боже,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ье, прост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 в мире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ть к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15Z</dcterms:modified>
  <cp:revision>12</cp:revision>
  <dc:subject>Slavic hymnal Гимны веры христиан, hymn 500</dc:subject>
  <dc:title>Сын Божий людям мир несёт</dc:title>
</cp:coreProperties>
</file>