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A54-D782-42D3-891F-A89E2B4A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2D3-EA9C-4AEE-87D1-B252D10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4FB-5E50-451A-99B0-C7D1F388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9AF-212E-438F-8E56-4B253BF1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B6A-0C8D-4E2F-98EB-91588B4A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CC2-730F-4D6C-B5F6-515A9097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D83-BBE7-4275-9599-64B16252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EE9-8AD6-4631-9A92-AA10ACD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626-AA51-42F7-8E37-6D9A19D2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BD3-7A27-4F6B-8AC0-95EC95D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119-CA15-4A2D-8C97-8E2444D2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805-F52F-4FA6-A4A5-92448C1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C431D-13BE-4FB5-B13E-9A598A2147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а Сион, гор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где Господа сто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тремлюсь, гора род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олнце вечное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ри нет и нет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дость вечная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согрето светом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ая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а Сион, гора свя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Господь Свой лик я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детям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слезу их у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город благ —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там, не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 песни дивной,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акая реч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не может песни 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, скоро я там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а той гор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я вечно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овью я спасён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10Z</dcterms:modified>
  <cp:revision>12</cp:revision>
  <dc:subject>Slavic hymnal Гимны веры христиан, hymn 669</dc:subject>
  <dc:title>Гора Сион, гора святая</dc:title>
</cp:coreProperties>
</file>