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EE0B-BA02-4CE5-A08A-6548CC32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6010-9272-4C27-9B92-9B8F48B9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60E7-F39B-47A7-913B-A6F91DDD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6A6C-BB8B-491F-A997-791B96B1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D693-54C2-4E67-818F-2F89188F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B22E-33DA-412C-847B-9627BF36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C684-CDD0-4230-93E3-AF52D89F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6E2A-C16A-4605-8975-9E8B231F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29D3-68E6-4EDA-A6C3-6361D17E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761A-5783-491A-82E6-AFB0EEC6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8EBB-C052-4D58-87FB-FB8A85A2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5D5D-4863-438D-BAFA-28CA740F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C6851-3638-40C9-A4C6-E564EB5E089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ft my hands to the coming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great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 I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’re the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reigns within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Lift My H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serve no foreign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any other treasu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heart’s des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 without mea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o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uld bring my sacri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2:13Z</dcterms:modified>
  <cp:revision>11</cp:revision>
  <dc:subject>The Source, song number 212</dc:subject>
  <dc:title>I Lift My Hands (I Will Serve No Foreign God)</dc:title>
</cp:coreProperties>
</file>