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46C-68F8-4F1F-8126-398A9C68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183-F47F-401E-9B62-23C39CE7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322-BF68-4116-89EB-B8920C5D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DA4-33FD-4FEF-9DD9-2C01F6CC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D82-1581-49B7-9D3F-6F5D507C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DE4-80EB-4CEB-91DA-025F08F9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DA1-0A1D-4389-AF99-F4C1735B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1A0-12C2-470D-829C-8436FA15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999-CE56-4014-8112-3C5E7BD5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E9C-49FF-4C6D-8336-92A388AC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876-EA19-4596-BE6A-A4677E75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FEF-BD96-4C6E-9C31-97849EE4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F656B-FCE2-4BE6-984A-1A8D364BCA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, my joy, my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my strength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out Him I would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мне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радость, жизнь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меня Он не 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оял бы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am sad, to Him I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one can cheer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am sad, He makes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ёлый час отец и 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т нас так уте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ю печаль прогонит вда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riend in trials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o to Him for blessing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ives them o’er and o’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дивных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ds the sunshine and th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ds the harvest’s golden gr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nshine and rain, harvest of g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а сень, и тёплый 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сный день, и урож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ёплый май, и урож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e to Him I’ll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could I this Friend de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’s so true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 Ним счастлив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отречься от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верен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Him I know I’m 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tches o’er me day and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Him, by day and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я — спешит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и день, и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no bette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ust Him now, I’ll trust Him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’s fleeting days sha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горя не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я верою в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родине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life with such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life that has no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al life, eternal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 жить с Христо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ить, быть вечн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на век ве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51Z</dcterms:modified>
  <cp:revision>13</cp:revision>
  <dc:subject>Slavic hymnal Гимны веры христиан, hymn 470</dc:subject>
  <dc:title>Jesus Is All the World to Me / Иисус мне больше, чем весь мир</dc:title>
</cp:coreProperties>
</file>