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AA7-27D4-4E49-9EB6-CF1BE650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47F-9E09-47C1-A698-44749D4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BCC-509A-4616-8CDD-73CAE62B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5F6-778E-489B-8160-5331C816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1FC-42DD-4376-A650-ECF39C6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42D-C714-435A-B0A7-B8948805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195-AFC4-41FB-A80D-841F479E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0F0-2741-4A47-AD8D-0C35BA8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67A-2AD6-4849-A39C-D424656C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970-D5EB-48B3-8FFC-D01E3D9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57C-7143-4468-9D8A-F0E81EB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71C-663D-486A-91EA-10B6BBC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559C6-03B4-493D-800C-1DEB451B1B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in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n honou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and 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9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for Your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appoint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Your ver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46Z</dcterms:modified>
  <cp:revision>12</cp:revision>
  <dc:subject>The Source 4, song number 2149</dc:subject>
  <dc:title>Who Is There Like You?</dc:title>
</cp:coreProperties>
</file>