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F13B-9822-450E-AAC6-A3CE1709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007-18B2-4C26-9BEC-D52BF29D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A82-BDFB-42F4-9B63-26E8DBD2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BF1F-E274-42E1-B4B2-5BE82AAC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731-8409-4EAB-852F-20CF7D4C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197E-52B2-47B0-AC68-0EEF6A02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46FD-6D9A-4F6A-8121-CB520874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8AC-B466-4BF6-8CE4-3E6AF022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3806-E560-4876-ACFE-DDCB3770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A9AB-94BF-4D10-B24D-8A0D765B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C98-816E-4E19-BD5F-666F387C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6163-6E6E-4BB2-83E7-EA625236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31CAE-C807-4E9B-8680-7CDC2509E4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а жизнь корот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но птицы пол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стрей челн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летает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цветок поле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утру расцве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уж к вечеру в з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ёлтел и зав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а жизнь коро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а жизнь, словно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нам д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шь солнце з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ает 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а жизнь, словно зв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дар молот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ежданный исп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она коро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умае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о чём, чел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скоро умр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ороток твой 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оться же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риста поищ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отраду най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кой для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9:51Z</dcterms:modified>
  <cp:revision>12</cp:revision>
  <dc:subject>Slavic hymnal Гимны веры христиан, hymn 737</dc:subject>
  <dc:title>Наша жизнь коротка</dc:title>
</cp:coreProperties>
</file>