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0E2-CD92-4AE7-B01B-76E78812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826-5CDE-4378-86F4-DF92571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858-E8ED-4BF0-8311-C39A5933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420-0FD3-45B1-9044-85AE1B2E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882-3D1C-4D07-837C-AD9AF0F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974-103D-4C04-BF3F-72EF800F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BB2-6ED4-4ECF-A5BB-87DDB286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DBA-F6DE-438A-8669-2A3A3409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42B-1158-48E4-B498-25ECB16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0E6-1917-4B8E-BBEF-77A0BE20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29D-B6C9-4E68-9EA7-E2A2FA4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016-D5BB-45A9-85EF-ACC446E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187A6-C8AC-49FD-9817-7F307E1572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82   I Enter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54Z</dcterms:modified>
  <cp:revision>11</cp:revision>
  <dc:subject>The Source 3, song number 1282</dc:subject>
  <dc:title>I Enter the Holy of Holies (For Your Name is Holy)</dc:title>
</cp:coreProperties>
</file>