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F95E-40A4-46A2-9595-800CC5D1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FBD1-0CC7-4DCF-974F-73AB5491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2159-8006-4113-A09F-4307589A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2692-CF10-4D81-87F4-8672F4CF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CDE0-70CE-40D7-99FC-FB06F018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47C-930D-4D3F-BDCD-5E2953A7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E8D3-43B2-40E1-B3BD-D407324E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3FDC-DBD1-4122-B19A-48975A2D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E159-78EA-4440-B05A-9075CD50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88B7-BE96-4F14-898C-78E85D3D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D0B-5D21-4CF9-A333-14A45872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C15-4E8B-4DDF-AE29-5C755EEE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53993-8240-46CA-A427-0CC18A92E2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pirit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s upo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like David sang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8   Коли дух Господні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, I will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like David sa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, I will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like David sa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, спів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, спів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pirit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s upo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ray like David prayed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ray, I will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ray like David pra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ray, I will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ray like David pra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,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,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pirit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s upo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eep like David wept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eep, I will w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eep like David w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eep, I will w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eep like David w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, я пла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, я пла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7:59Z</dcterms:modified>
  <cp:revision>12</cp:revision>
  <dc:subject>Slavic hymnal Гимны веры христиан, Ukrainian hymn 108</dc:subject>
  <dc:title>When the Spirit of the Lord / Коли дух Господній наповняє мене</dc:title>
</cp:coreProperties>
</file>