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632-3D2A-48FE-BEEF-92DA547D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061-442B-40E5-96A7-6C36E77F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707-ACAF-488E-8D88-72747AEC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C8A-9E42-4EAA-B7BD-825457C5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EC4-0AB4-4F70-A3DC-E421EDC9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C6D-153D-4468-B685-6A2BDF17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D4B-DD3D-4D1B-A379-CDDCF99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BA6-0D75-4106-9D57-96FB7AE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960-6AF0-44F4-8D71-4D203FA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E42-E573-4A2C-94F7-2EA4670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69F-650E-472D-BBE4-7885B50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4FB-41BE-42F3-967E-798DD369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8E5C6-84FA-454F-BB12-C5B108A654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21Z</dcterms:modified>
  <cp:revision>12</cp:revision>
  <dc:subject>Slavic hymnal Гимны веры христиан, hymn 610</dc:subject>
  <dc:title>С ликованьем прославляем</dc:title>
</cp:coreProperties>
</file>