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A47-7D15-4B01-9F7A-36DB0331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149-0FD6-493C-B3E4-F94C3EFB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9CA-8348-48EA-A009-FA8D942F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B71-B228-47F3-9943-D04A0B16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83C-0548-4731-8A85-C4F9B199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7D9-E6A7-4BBE-ACEF-5D97DE08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86B-0880-47E2-B546-B2D03826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B1D-97E7-4D4C-B17C-D7A5E4BF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F07-2518-4418-ACAA-BDD3C817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834-8C5C-41AB-A0A5-867972E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47C-28C4-4C37-9325-18717F5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6D0-E9EC-4808-8DB6-7F37B2B5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FAB04-E9E7-49BF-BE39-EA673EB3CF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вечное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нам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разил греха нап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 с Собой на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енье вечное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с грешных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не пощад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кресте в предсмерт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 молил 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нам, мёртвым,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л мрак и ть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нам Своё вру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вать других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— ме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порок и грех каз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у мир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17Z</dcterms:modified>
  <cp:revision>12</cp:revision>
  <dc:subject>Slavic hymnal Гимны веры христиан, hymn 387</dc:subject>
  <dc:title>Спасенье вечное Христос</dc:title>
</cp:coreProperties>
</file>