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9EB-A1B8-4D83-BE71-9D78CA6D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009-890B-4200-A0B8-45289CD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35D-1E1B-4AF2-8AC4-2BE5808F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2C7-DE06-4773-8D6D-AB68C7C5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D30-AA07-4D72-A551-FD5BDB2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C00-B465-4907-BAB1-903163E5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DF4-287D-459F-AE92-611DF6F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210-A670-4F6B-834F-379EEA6C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47A-6156-42F6-961B-EB477EF7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9BB-5323-4578-972F-C769583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B05-9E4F-4610-8BDF-7445CB1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5C0-28C1-4F56-8E0A-574A8CC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D5B1C-1496-4D0E-9C40-28D97B42D4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29Z</dcterms:modified>
  <cp:revision>12</cp:revision>
  <dc:subject>Slavic hymnal Гимны веры христиан, hymn 553</dc:subject>
  <dc:title>Дружно, дружно будем мы трудиться</dc:title>
</cp:coreProperties>
</file>