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984-B8F9-4D6D-A595-13EB4D85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59C-76E2-4AB4-828B-71ABC819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677-4AF2-4DB7-802E-37318222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3B9-2D0F-433C-B441-649D8122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E67-864C-4EA5-8EE2-3CD95A34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919-012C-4B1C-8233-C335C5F5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451-BABC-40B3-AAD1-DE6F270E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D11-B89E-444B-AA2B-26DFBEF7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9EB-53BC-4C4A-9E14-1141DE3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DF2-F1E1-47A3-8D91-891F8D82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6C3-4971-4118-90A3-A46EE414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BA4-E9A4-4E0B-9A18-9901D9ED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D63C1-BB46-4F0B-ABA7-8E69DB811A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 it ever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b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po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c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ld me and make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at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   Change My Heart, O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47Z</dcterms:modified>
  <cp:revision>10</cp:revision>
  <dc:subject>The Source, song number 68</dc:subject>
  <dc:title>Change My Heart, O God</dc:title>
</cp:coreProperties>
</file>