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A683F-A66D-421E-BB1C-41A0BA513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A1021-65E6-4162-8DEE-D19F8353A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7C1CB-8E9C-4001-9EBD-928B4880B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0632E-E8A6-42A3-9C86-011010CCE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15D90-5722-4AA4-A11D-C0D81324A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DF26A-0165-42C4-8874-AC20AF951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24837-E766-497F-8338-EC1452117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CE1A7-6F56-4507-8E28-85E4CDB73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BCFEB-7475-45D3-B00C-070C9AA94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3E592-473C-4939-B4BF-1D3FFBF2F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97ADC-D0AB-4374-9910-2AE5C5C78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2532E-0642-4209-A88C-24EA7AC4C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B7A3EF-56F2-4956-903A-981F90482102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ажаю тепер сказати Тобі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пасителю мі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Що люблю Тебе, бажаю Теб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серцем свої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ажаю тепер сказати Тоб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сю правду вповні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Що люблю Тебе, бажаю Теб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серцем своїм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(×2)  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103   Бажаю тепе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піватиму я, співатиму 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о маю спокі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аплачу і я, заплачу і 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о щастя знайш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ажаю тепер сказати Тоб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сю правду вповні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Що люблю Тебе, бажаю Теб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серцем своїм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(×2)  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21T10:43:17Z</dcterms:modified>
  <cp:revision>14</cp:revision>
  <dc:subject>Slavic hymnal Гимны веры христиан, Ukrainian hymn 103</dc:subject>
  <dc:title>Бажаю тепер сказати Тобі</dc:title>
</cp:coreProperties>
</file>