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E28-664C-4D4B-A50F-2D9859AA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CD5-B1CE-4E99-AF79-44EAF18B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55E-215C-4D73-8603-A32555F6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344-E435-46A9-9DA7-4BFF4A8D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E58-8A2D-4D46-83E8-6431DC6A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8EF-3BB3-4684-9BE6-DBF05BFC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792-88AD-43A8-8129-FCA5751E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6C2-2795-4BBD-B57B-BF2F80B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3B0-11CF-46E9-A18F-FE0D79B2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D12-F326-4D20-9D5A-57049881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ECD-A8C4-4EA7-9D06-85A0E72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B3D-736B-4777-906D-F7D1F46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466C6-0564-468A-AAF0-DF9C5A2E41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terday, today,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ay change, but Jesus,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5   Вчора, нині і на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ора, нині і на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е той сам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ay change, but Jesus,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9:03Z</dcterms:modified>
  <cp:revision>11</cp:revision>
  <dc:subject>Slavic hymnal Гимны веры христиан, Ukrainian hymn 115</dc:subject>
  <dc:title>Yesterday, Today, Forever / Вчора, нині і навіки</dc:title>
</cp:coreProperties>
</file>