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EC8-C9AA-49EF-904F-7CF72B82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FA0-28BA-4FA1-9478-FFE791FB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CA1-017C-4709-BB85-165D6FBB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99A-A003-4417-A75D-9E84F142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CD5-8372-4F0E-890A-9A7407D4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583-1797-432A-B093-867957E9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413F-46DF-44D1-8248-215BF77D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CE2A-447E-4016-B3E7-8EB21B69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878-1AAC-4FFF-941C-A87F9E47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BC3-5887-4B4B-88DF-6EF338A9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31E-AC52-471A-AA5C-F36955D4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DFE-3B73-4DCA-A6A6-4493E466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32D42-2546-409A-868B-15EF1FBA87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сь пок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и пел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аяк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е знает с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е знает 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в мире страж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кто-ни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маяк ука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стань верн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стань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ир весь покры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в мире э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ждущих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ют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а в тьме но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а в тьме н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ругом темн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ы нет ни в к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ори яс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ь мая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ь маяк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3:43Z</dcterms:modified>
  <cp:revision>12</cp:revision>
  <dc:subject>Slavic hymnal Гимны веры христиан, hymn 566</dc:subject>
  <dc:title>Мир весь покрывает</dc:title>
</cp:coreProperties>
</file>