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164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2436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928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164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2436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9280" y="395280"/>
            <a:ext cx="89982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539640" y="395280"/>
            <a:ext cx="899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1440000"/>
                <a:tab algn="l" pos="2160720"/>
                <a:tab algn="l" pos="287964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ммануи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"/>
          <p:cNvSpPr/>
          <p:nvPr/>
        </p:nvSpPr>
        <p:spPr>
          <a:xfrm>
            <a:off x="539640" y="82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mmanuel, Emmanuel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name is called Emmanuel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th us, revealed in us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name is called Emmanuel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"/>
          <p:cNvSpPr/>
          <p:nvPr/>
        </p:nvSpPr>
        <p:spPr>
          <a:xfrm>
            <a:off x="539640" y="406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мануил, Еммануил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зван был Еммануил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 нами Бог» открылся нам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зван был Еммануил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"/>
          <p:cNvSpPr/>
          <p:nvPr/>
        </p:nvSpPr>
        <p:spPr>
          <a:xfrm>
            <a:off x="9144000" y="6624720"/>
            <a:ext cx="53964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9T06:27:26Z</dcterms:created>
  <dc:creator>John Zaitseff</dc:creator>
  <dc:description>Graham Kendrick (compiler), The Source 2, Kevin Mayhew: Buxhall, Suffolk, England, 2001.  ISBN 9781840037241.</dc:description>
  <dc:language>en-US</dc:language>
  <cp:lastModifiedBy>John Zaitseff</cp:lastModifiedBy>
  <dcterms:modified xsi:type="dcterms:W3CDTF">2024-11-15T03:01:01Z</dcterms:modified>
  <cp:revision>4</cp:revision>
  <dc:subject>The Source, song number 675 in Russian</dc:subject>
  <dc:title>Еммануил / Emmanuel</dc:title>
</cp:coreProperties>
</file>