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046-74F0-45CB-AB79-CE476EC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36E-DEB0-4F70-87BA-7B1C576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102-710B-4778-9163-4F2571C0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232-8D66-4E2A-8078-D20EB30F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01A-6DFE-404C-AF2C-5ADCA9B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C38-C59A-4D14-8536-3793C20F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B82-C2BF-46BB-9365-7D15D224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439-5996-45A6-BE50-B1D19C1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8D6-5D38-47CF-8F5A-24C76DC4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9F7-85DF-461D-AA85-A1B8388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520-A55C-4132-A656-C7A82B8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DB0-B585-43E6-91B8-308FDF3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74FF3-0817-4EDD-9781-6E87E78B11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7:15Z</dcterms:modified>
  <cp:revision>12</cp:revision>
  <dc:subject>Slavic hymnal Гимны веры христиан, hymn 305</dc:subject>
  <dc:title>Несите эту весть</dc:title>
</cp:coreProperties>
</file>