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E49-0C17-4529-AF63-CA749383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1AE-C543-47B3-B3A6-9B48DF28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3A7-7807-44C5-A721-AC0E120E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1A35-50B5-45F4-ADF5-438AC33E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47E-8FD9-42CF-B243-1284B613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5AC-0FA2-4C80-AFBE-777FA2C9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F7B0-9F61-41F9-837B-EBC67FB7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9CCC-AD59-45C9-A388-B52BB74D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9BD-92D4-4723-A821-95E9B655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B9FE-480A-4368-8DE1-44781606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612-22AE-47DC-9935-A6226D8B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F90-E16A-4255-87CF-DF81442A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874C5-27B5-49E8-8243-D104403CBE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благости, полный рад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ный день Рожд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рехом том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Христос родил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ющим всем день торж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лный благ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благости, полный рад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ный день Рожд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ы небес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чуде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ют всем день торж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благости, полный рад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ный день Рожд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дан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Примир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тесь, настал день торж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2:08Z</dcterms:modified>
  <cp:revision>13</cp:revision>
  <dc:subject>Slavic hymnal Гимны веры христиан, hymn 241</dc:subject>
  <dc:title>Полный благости, полный радости</dc:title>
</cp:coreProperties>
</file>