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0A5-333E-4252-94C1-DFBEF99C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F94-40B0-42A8-AD46-6A2B23F7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B91-047C-472D-8D7A-88B753D1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2FB-2B97-4992-B594-A0C9F1C0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5AD-0FE1-454B-AD6F-A2F66AE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5EE-2AD9-47EB-931C-D77D95B7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86F-19B0-40D4-8898-95DDAFAA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59B-2326-4E58-A9CB-E6F624C2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EE2-C5E3-4A55-AEF9-0BA400C6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A77-7732-40C2-8005-2786441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BB0-C7D9-4977-A218-BF9C31A3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8AF-D873-4C9A-B7F4-AFF5EC4E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FF94E-7E7B-42A2-959A-1C508555B0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! Тобой, как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ился обл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аждало, прос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арок,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ленья были тще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как прежде, беден 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, как Друг заве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загов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! Тобой, как сил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един с Отцом и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ей души Т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 будет властели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ь иль ты, земной горд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я в раска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мирясь, молись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вой Царь, прид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тобою облад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груди зажёгся плам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я, трепетом дыш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аял в сердце кам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а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о себя все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,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Царём души и т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верди в них власть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л я в те мг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Вечное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нял венок муч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радостей кольц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тех пор Он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, как Друг, в беде лих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чали подкреп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итель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читель, наст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истину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анитель, изб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ой наступ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ходит в тот же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 мой 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бед Его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21:06Z</dcterms:modified>
  <cp:revision>13</cp:revision>
  <dc:subject>Slavic hymnal Гимны веры христиан, hymn 303</dc:subject>
  <dc:title>Дух Святой! Тобой, как силой</dc:title>
</cp:coreProperties>
</file>