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688-8A47-4871-83E0-6CA770D9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CE7-DCB1-40D5-B7EE-B9F9BE8C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DFC-36F9-4387-B0A8-FE2DBEC1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BC4-7D6E-455E-AFEE-1FAE1C89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8C1-812D-421C-87C4-2F2DC2E2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2E5-93EA-4824-ACE8-B78E3CE3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6F9-DFB2-4584-A108-B8DD5BBE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AC9-B57B-4686-A8E7-C3DF806C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8F0-A09D-4A02-91BF-811A4E73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1C0-4F47-45D7-B4EC-CE2CBC4D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DF6-50B5-40B6-A3D0-849DF40A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399-A0C3-46AD-B164-E0236EA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61B02-E2FE-4CF8-8BB9-01BE50803A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rac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lory, earth-bound heaven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plan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this light that breaks m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falls like a dove 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Grace Is 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ov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undeserved, this gloriou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Son, this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this death, this victory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 has flowed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race that is mine finds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, the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perfect and so pure, this Go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lorious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arth to heaven, death to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future assured and se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love 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, the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02Z</dcterms:modified>
  <cp:revision>10</cp:revision>
  <dc:subject>The Source, song number 512</dc:subject>
  <dc:title>This Grace Is Mine (The Power and the Glory)</dc:title>
</cp:coreProperties>
</file>