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DEB-4C56-48B0-8EB5-F8D0D94C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6BC-6298-4651-B20A-8FBABF3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48D-9506-4ED1-8219-A5C33CFB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F29-3558-4BD2-B96E-970AD86B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2DB-0AFC-4408-9D36-0D90F945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171-7F11-411C-ACA5-C7644ED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CEF-4FB8-4F82-9733-0A582491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A75-6464-4A91-B6EF-52F99E8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5D1-06A6-4BEC-87AA-24E4913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8DD-8423-4C65-8D40-09A6A55E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E8F-393C-4D60-905F-466FDF9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08A-6A83-494B-8C45-0823633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DDB1-F3D3-40C2-842F-7C0ECAE8AC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21Z</dcterms:modified>
  <cp:revision>13</cp:revision>
  <dc:subject>Slavic hymnal Гимны веры христиан, hymn 489</dc:subject>
  <dc:title>Precious Promise / Дорогое обещанье</dc:title>
</cp:coreProperties>
</file>