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D7A-2EC3-487A-9C02-9CD997D7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722-D14E-40AE-A835-2C5737A5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732-839F-4D71-B714-F161EAEB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7C7-62EA-4826-9CCF-98D183DC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C67-E718-457B-B95C-D5F3C894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720-561A-44ED-9D41-7FF5AEA1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F36-AAEC-44C1-A68C-CA788F32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C99-E555-4A55-A211-309A9965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172-A772-490A-9941-65B64574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9AD-D163-436B-8459-5D9D1F35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FE4-A1A6-4ED5-A5E2-D1311918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A33-5D5E-480C-81EC-3B731E22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2F318-C477-4AA1-91CB-B46E699B24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ре на серце нал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шу смуток дуже зв’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  Коли горе на серце наля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льози твій спокій звору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айні гріхи душу м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чиш, що біда над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лод або смерть при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світі пропасти не люб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царстві Божім хочеш б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7:20Z</dcterms:modified>
  <cp:revision>14</cp:revision>
  <dc:subject>Slavic hymnal Гимны веры христиан, Ukrainian hymn 6</dc:subject>
  <dc:title>Коли горе на серце наляже</dc:title>
</cp:coreProperties>
</file>