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AD2-09CA-43C4-9747-1EC1E076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014-9508-4610-BF40-BE5160D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7F9-5324-4DA4-ADE1-CC846B3E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9BF-D7C8-4759-91E0-66FEB5A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1E5-09A7-436E-8CE9-4F8B9549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012-4183-4ACC-9738-47629BC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307-28EC-4F29-92FC-3F49615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27D-3E77-4653-AF77-E179D1B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1BA-89B6-4984-9BBF-DB244FDB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432-D674-4F20-A080-236138F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AC2-8AF3-4ECB-975B-586C410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02A-3D79-418F-9F0D-5CB2044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338D-7F0D-4EAF-8A46-8B38DC78B8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ной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всех, кто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зывает звук тр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ами Божье знам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ед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сквозь битвы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тесь, с в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дети Бож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 вражья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дышащая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 врага нап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аша сила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той Христа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од крепк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ей сокрыты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аг ваш по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царскому подн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свою скло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цы ж в войне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ятся в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й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стве п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24Z</dcterms:modified>
  <cp:revision>12</cp:revision>
  <dc:subject>Slavic hymnal Гимны веры христиан, hymn 487</dc:subject>
  <dc:title>Воспряньте, дети Божьи</dc:title>
</cp:coreProperties>
</file>