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4</a:t>
            </a:r>
            <a:r>
              <a:rPr b="1" lang="ru-RU" sz="3600" spc="-1" strike="noStrike">
                <a:solidFill>
                  <a:srgbClr val="ffffff"/>
                </a:solidFill>
                <a:latin typeface="Verdana"/>
              </a:rPr>
              <a:t>	</a:t>
            </a:r>
            <a:r>
              <a:rPr b="1" lang="ru-RU" sz="3600" spc="-1" strike="noStrike">
                <a:solidFill>
                  <a:srgbClr val="ffffff"/>
                </a:solidFill>
                <a:latin typeface="Verdana"/>
              </a:rPr>
              <a:t>На Голгофу, на распять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 Голгофу, на расп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уи крови по дор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ан ль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ги Божии на жерт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традания и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ги Божии на жерт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традания иду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 Голгофу, на расп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гнец Божий, окруж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й тол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т Он слова руг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нависть и крик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т Он слова руг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нависть и крик враг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 Голгофу, на расп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пине Своей изби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ест не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агонии стра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аждым шагом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агонии стра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аждым шагом тяжел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 Голгофу, на расп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мотрите! О, смотри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воём пречистом те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есёт мой грех и сты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воём пречистом те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есёт мой грех и стыд.</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а Голгофу, на расп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Это мой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ий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ногам святым, пронзён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скаянии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мой кровию пречис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ыть молю, да, смыть молю.</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7:27Z</dcterms:modified>
  <cp:revision>3</cp:revision>
  <dc:subject>Slavic hymnal Гимны веры христиан, hymn 274</dc:subject>
  <dc:title>На Голгофу, на распятье Иисус идёт</dc:title>
</cp:coreProperties>
</file>