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591-702D-4CF1-BD6B-489C4972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8E9-5104-4095-AF0C-AC0F9B05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89B-1781-4F48-9D55-0B053B8D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FD2-2D84-4EAE-985E-7C9B0AF7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B93-AA7E-42F4-9C2B-AF7114F6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635-AB09-48E0-9EFF-44D6A6A2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4B7-E43C-4AE4-8650-366D729C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5BB-946F-4E6F-8150-F57C38AA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191-B302-4794-9686-4BB4DC67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49B-F457-4749-8B4D-0414E76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572-89CB-42EC-ACF8-0DE00630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840-E1CD-411C-B0C5-A02FC08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90EDD-E944-4869-AB16-C1D3CA8B0F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Твой 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 кресте по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 в венце тернов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расот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 и жарк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древо возне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чьим в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шный потря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дручён поз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уган, истом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на истя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ю посяг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й Твоих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мрачить дерз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яд мучений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ытки страшный гн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роступков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ороков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ю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пред Т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казни заслуж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лжен на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и страда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жертва з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мер за соз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зван к жизни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то осу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лажена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м иск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ушой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Твой 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целяю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п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е б мо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Врача болез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2:41Z</dcterms:modified>
  <cp:revision>12</cp:revision>
  <dc:subject>Slavic hymnal Гимны веры христиан, hymn 867</dc:subject>
  <dc:title>На древо вознесённый</dc:title>
</cp:coreProperties>
</file>