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B11D-91AF-4714-9F8A-56F91F133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3EA1-BFF8-43E8-AEE0-FA88EC4E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66E6-F143-4509-8068-D617B341D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80F1-DB2A-455F-89A9-E113D880D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08DF-588E-4F96-B3F6-E260C8B7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1EAF-0291-4DA4-8451-CE160F41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E86F-BEE1-4D3E-B71B-E10B39F7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6B7C-D07A-48E0-9B8F-A85ED577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C63B-F692-4EA1-932A-913852B6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255A-0038-4135-AA5D-4F6B50EB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25D3-CB0E-457F-BE5A-3A02DD13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CED5-E944-4B0C-9531-28CF797B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44C7E-5517-4673-AFA3-119177A1172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ой путь, как других, не украшен цветам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ушистые розы на нём не цвету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ой путь весь усыпан одними шипам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ерновника иглы на нём лишь расту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ду я, изранены ноги жестоко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труден мне кажется путь вперед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о голос в душе моей, где-то глубоко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Уверенно шепчет: «Не бойся, иди!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0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й путь, как друг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от голос Спаситель мне в сердце вселяе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силы даёт Он в борьбе со грехом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ебесное царство Он дать обещае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Где мир и блаженство вовек со Христ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путь тот уж кажется мне не тяжёлым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радость вселяется в сердце полне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дь я приближаюсь к священным высотам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Где вечная радость и свет вечных дне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от голос тот с неба меня приглаша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Усталый, измученный путник земл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аграда святая тебя ожидае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 небесную славу скорее войди!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08:40Z</dcterms:modified>
  <cp:revision>13</cp:revision>
  <dc:subject>Slavic hymnal Гимны веры христиан, hymn 507</dc:subject>
  <dc:title>Мой путь, как других</dc:title>
</cp:coreProperties>
</file>