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648-88D4-4084-97F1-35962128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0DA-BB14-4382-ADA0-B2722B5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016-C5C9-4EB7-B959-9A6C30B3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199-CE7A-490A-8ECF-672BA3EA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FBB-C568-4048-ABB2-36A0647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03B-B76E-43C5-8650-C82B9C33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242-5B5A-45B8-9B11-C178F046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E07-8A39-42C1-8EE0-CAEA8C8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21B-710A-47CF-B7E3-4BA314C4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D44-B7CA-42A6-BA75-B2325E1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15A-99FB-496A-8F81-415C9FE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DDF-27D7-431E-B847-87D1BF0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B5935-ADCC-4A55-BF14-F045D8377F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тес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узкая стез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дали леса, бол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 и бури жду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широ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остранный вид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ём толпу без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и праздник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ропой борьбы, трев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луч и рай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конце другой дор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гнетущая и 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56Z</dcterms:modified>
  <cp:revision>12</cp:revision>
  <dc:subject>Slavic hymnal Гимны веры христиан, hymn 332</dc:subject>
  <dc:title>Вот, ворота пред тобою</dc:title>
</cp:coreProperties>
</file>