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1440000"/>
                <a:tab algn="l" pos="21607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1</a:t>
            </a:r>
            <a:r>
              <a:rPr b="1" lang="ru-RU" sz="3600" spc="-1" strike="noStrike">
                <a:solidFill>
                  <a:srgbClr val="ffffff"/>
                </a:solidFill>
                <a:latin typeface="Verdana"/>
              </a:rPr>
              <a:t>	</a:t>
            </a:r>
            <a:r>
              <a:rPr b="1" lang="ru-RU" sz="3600" spc="-1" strike="noStrike">
                <a:solidFill>
                  <a:srgbClr val="ffffff"/>
                </a:solidFill>
                <a:latin typeface="Verdana"/>
              </a:rPr>
              <a:t>Благословений потоки</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ть обещал нам Господ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ет в те дни изолью 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а на всякую плот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то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м послать обеща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и, но проси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ы потоки Он дал.</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оживляют вокруг,</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место бесплодной пустын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явятся рощи и луг.</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то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м послать обеща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и, но проси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ы потоки Он дал.</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пошли также на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вы кругом засыхаю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лага нужна всем сердца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то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м послать обеща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и, но проси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ы потоки Он дал.</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и, дай нам скоре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ыне, когда мы взывае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ом на нас Ты пове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то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м послать обеща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и, но проси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ы потоки Он дал.</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4-11-14T22:02:06Z</dcterms:modified>
  <cp:revision>4</cp:revision>
  <dc:subject>Slavic hymnal Гимны веры христиан, hymn 11</dc:subject>
  <dc:title>Благословений потоки</dc:title>
</cp:coreProperties>
</file>