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F4D-6373-4814-BC46-28486150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3AE-7897-4741-BC62-0DA94364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861A-FFB7-42C9-80E2-00269CD1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EAA-25CD-4329-BAF4-6E86B184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8949-7CB3-46F7-B043-8F7454B2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40F-9BFB-4C05-8C05-490F1E32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01D-30AE-4386-824B-4961D2B4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64E0-AAAF-4010-AD9D-8CF560EA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E863-8ACF-4DCF-B3EE-2137A00C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466-71A9-4F8E-950F-76C4BA18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865D-B207-4E16-BADB-95AAD508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C00-6663-486C-B8C3-62CEF9D5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CF379-08BB-41C3-B628-A95ED669F7A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Comforter and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we need Your touch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power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voice be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and change our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tand on Your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4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oly Spirit, Rain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eye has se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ear has he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mind can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od has in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open up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it w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Your churc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ver 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Comforter and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we need Your touch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power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voice be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and change our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tand on Your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8:20Z</dcterms:modified>
  <cp:revision>11</cp:revision>
  <dc:subject>The Source 2, song number 745</dc:subject>
  <dc:title>Holy Spirit, Rain Down</dc:title>
</cp:coreProperties>
</file>