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C60-9EA4-42C4-8234-3D415B18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C46-8CFA-4700-A4E4-335D850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67F-595D-4FA4-ACBA-D06C7175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435-0F40-4078-AEA1-0141A727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BF1-6766-477B-B519-74C55FA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BDB-8533-4921-8188-BC0F659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F7A-16D7-4145-8592-08C4C9A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02F-7402-4867-B13A-FA2F6E2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0CA-A426-4BDC-B0A2-97F72E3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468-0C0C-4B24-B0B5-832A26A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68D-EB22-40A9-AE18-A7D4DC8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6C4-39E5-4D18-8B51-0410B7A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5CD80-7C61-4C92-BF8E-746C038D1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, небо и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орже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юдям, ангелы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весть бла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 и земл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Вифлееме, там в Вифле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ри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ая Дева, чистая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дила С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, Веч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иняло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овной, во тьме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засвет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хвы с востока, волхвы с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и смирну, ладан и смир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ато прин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и Богу, Христу и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оклон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озгласим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21Z</dcterms:modified>
  <cp:revision>13</cp:revision>
  <dc:subject>Slavic hymnal Гимны веры христиан, hymn 238</dc:subject>
  <dc:title>Небо и земля ныне торжествуют</dc:title>
</cp:coreProperties>
</file>