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F49-8F69-40E7-82DB-B4BC4F16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6FE-FD2C-4B0D-AF46-41F02ED3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C5F-8559-4DB1-A1DD-007DE397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C82-F78E-44D5-AE67-A39EC7A9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04F-80DB-4559-8097-5FE9507B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F3C-67BC-4AC3-9FC1-24005F12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134-5BCC-46E4-8D66-2E7754F5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AA6-6B24-4A10-96DC-2A063F7F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E62-8E43-43B7-8751-A8099FA7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1D6-DE33-4E22-A9B8-BB8947E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4C8-78CE-4233-96DE-10AE2B4F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826-0B3E-4F36-8D1E-16D3A25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DDC5C-EE0E-41BB-93CF-2C3CD4BD91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pray and while we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you see your soul’s deep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ur Father calls you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not, my brother,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а  Слыша просьбы, слыша 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просьбы, слыша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я нужду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под Отцовский 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ся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have wandered far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risk another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turn from Go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day accept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душ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ань во тьме блу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you’ve faile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ught of peace for troubled m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on Him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you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щетно ты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шному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, Он д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у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confession m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and pardon 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Him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you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ткрой 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я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и будь с Его детьм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Он тво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7Z</dcterms:modified>
  <cp:revision>14</cp:revision>
  <dc:subject>Slavic hymnal Гимны веры христиан, hymn 335 (as amended)</dc:subject>
  <dc:title>Why Not Now? / Слыша просьбы, слыша зов</dc:title>
</cp:coreProperties>
</file>