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E38-449F-4393-BA19-1340FC38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409-BB83-4364-83B2-1344F254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CAA-DC87-4EE9-99C1-FDA8916B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A7D-C50B-4571-A4BA-413A7D6F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2B6-EE2A-4E15-85D7-4D44F41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4EE-4414-41C5-B13F-48E208E5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B12-534B-4206-8B14-A92D869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D4E-B1EF-4B6A-B101-20ABBA1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E38-AC8B-4A6A-AF5A-489DCC4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964-14A6-47F2-BA5C-3D0F3E0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49A-8303-4E6C-94D7-FE369D6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ABF-BAAC-400A-BA99-A60CB0B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F4DE-A809-4AE6-9571-A7A3B3BFCB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в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ьно,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источни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зрачный, как стек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небесах, в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ажити чуд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лавный пир там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хор неб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дивный, чу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жизни тру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ится дух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01Z</dcterms:modified>
  <cp:revision>12</cp:revision>
  <dc:subject>Slavic hymnal Гимны веры христиан, hymn 670</dc:subject>
  <dc:title>На небесах, в отчизне</dc:title>
</cp:coreProperties>
</file>