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825-9A60-4ECC-A685-0BF6A47E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589-AE81-488A-B9EA-4B8E4222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223-FE38-4529-BFEF-9FA63CD1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43C-37A0-419A-9C46-F76727A1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190-5C89-4573-B2E0-3A05DF6B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A48-3353-4A32-A94F-AF92493F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3BA-6C7F-4288-AA72-1142697D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DE4-33F0-47BE-A133-7D36AA89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090-BE2A-4435-ADCC-A6233A3F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045-5C84-48AC-B1A4-2DE32BE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D79-F8E0-47E5-AC20-F9A04908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386-B4CF-4215-9936-D89CB502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AC410-D4CF-4087-A15E-B201C2618F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ессмертьи иду, наступая на з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орбей и страданий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у меня и тепло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 я, что мне можно и что мне нель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хорошо и что плох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на земле существую не з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 бессмертьи и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 истины войско ведёт сат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и зла ополчились жест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меня впереди незем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же если встречаю следы катастроф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из сердца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умаю я, что есть любя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частлив, что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т радости слов — побеждаю я з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ю найдена в небо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у меня и тепло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4:48Z</dcterms:modified>
  <cp:revision>13</cp:revision>
  <dc:subject>Slavic hymnal Гимны веры христиан, hymn 798</dc:subject>
  <dc:title>Я в бессмертьи иду</dc:title>
</cp:coreProperties>
</file>