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3   О, неужели, Царь вселенн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неужели, Царь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лавен в небе Твой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глубине души смир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царство для Себя обр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ум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мне твер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великое свер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малом дивное твори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неужели, Царь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ор небес Твоих так мал,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хижине моей тел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й храм воздвигнуть поже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ум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мне твер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великое свер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малом дивное твори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неужели, Царь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скудна ангелов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осхотел Ты слышать пес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уст нечистых, полных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ум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мне твер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великое свер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малом дивное твори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неужели, Царь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ветел мир духов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руд простой, несоверш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ждёшь от слабых сил м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ум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мне твер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великое свер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малом дивное твори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неужели, Царь держа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для Тебя дороже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Сын Твой вечный, Сын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лавны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Его за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ум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мне твер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великое свер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малом дивное творит.</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7:21Z</dcterms:modified>
  <cp:revision>3</cp:revision>
  <dc:subject>Slavic hymnal Гимны веры христиан, hymn 63</dc:subject>
  <dc:title>О, неужели, Царь вселенной</dc:title>
</cp:coreProperties>
</file>