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3E5C-ED5B-4C98-93CF-F0C6D583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16B7-0669-4DAA-BCB7-D1322843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8B5A-A14A-43E3-BE01-7A55D935F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AC73-E20D-4993-A159-B5B4AB69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EC1C-13C1-4C82-BD0D-88DAB4AD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B1DC-E24F-4EFD-9529-1800E302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B97E-E6C2-4C41-A37F-41E1C92D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A305-6946-40B4-A2B0-1979DC3D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B02B-E906-43EB-81F5-B02EF994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60CE-DF7B-402A-AEAF-E35E89A8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BB8B-CBA7-421F-A10B-4254283E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90D5-3657-4508-ADFA-17647667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3BD1A-B6F7-4C9C-8FC0-4D67D7AEF16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не больше, чем весь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радость, жизнь м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меня Он не дер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оял бы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яжёлый час отец и м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гут нас так утеш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ю печаль прогонит вда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исус мне боль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не больше, чем весь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вечная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ловений дивных р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мне вновь и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а сень, и тёплый м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сный день, и урож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ёплый май, и урож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не больше, чем весь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 Ним счастлив впо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 ль отречься от Н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н верен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ен я — спешит помоч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меня и день, и н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ень, и ночь готов помоч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не больше, чем весь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горя не бо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у я верою в Н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родине стрем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расно жить с Христом жи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ить, быть вечно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овь на век ве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8:39Z</dcterms:modified>
  <cp:revision>12</cp:revision>
  <dc:subject>Slavic hymnal Гимны веры христиан, hymn 470</dc:subject>
  <dc:title>Иисус мне больше, чем весь мир</dc:title>
</cp:coreProperties>
</file>