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127-7DA1-435A-B398-B6790D71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2CC-2659-4E34-B8C6-D8566BF3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BEC-07D3-4768-83CD-F2524B48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9B5-295A-44A6-B642-4ED3F267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B08-9742-4557-8F73-8E897E94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F1C-B8D2-42D8-BB00-C1055D7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7D4-9971-4EB9-9C74-F40859EA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B59-4720-4630-81D4-ED86DCE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8D-9CFE-4613-82EE-316EEC7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3E2-81D0-4747-93BE-13382EBF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826-D077-4D52-9084-7B07F940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859-9CC7-4B95-A0C5-DA57843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8B337-E236-4E70-A749-57C1FFBB81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правды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и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мноте и грехе погиб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ликий Христо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ёт мир от края д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т правды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езнь исце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ь греха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лит все земные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братск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плавит м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я радости сменит ры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ут Христов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и за счастье на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юность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ли во имя своб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зовите на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сем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вающим слово отра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лазурн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л всем «взыскующим гра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Божие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зиждем, труд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 будет раба, господ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ишь братство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ремите ж си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все да будут еди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29Z</dcterms:modified>
  <cp:revision>12</cp:revision>
  <dc:subject>Slavic hymnal Гимны веры христиан, hymn 550</dc:subject>
  <dc:title>Жаждет правды народ</dc:title>
</cp:coreProperties>
</file>