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12F-D136-4EFB-92F6-A9F4FB1D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4C2-628F-466B-82F3-C1AEC6A7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15C-D166-403F-AD65-57AD0A20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342-6F99-4D0F-A291-FDD4007B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84B-8CB7-4956-B215-29EDAD03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7C2-C352-4D78-B1A9-0937E370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DD6-8A52-4C2E-8F59-5DB51CF7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7C6-F84A-4D27-B650-884F68E6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511-E0DB-4BA3-9FF8-9203223D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528-C47E-4B78-BDFF-807588B8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397-3E8C-4D91-A468-D4E5B287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183-9971-4791-9ACC-8BFDB103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17693-365E-45B3-A9C0-F33A7CEA7A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щит от стрел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ох путникам-бор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луч среди затм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з бездны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дух живущих дыш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ессилен гордый у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н верой чуткой сл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голос Божьих д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а — щит от стр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верой окры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к на труд спеш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, в битве побежд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он пламенем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ост живой воз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ебом и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тель мира 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ям волны мор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силой вдохно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ссиленных борц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царства побеж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ает власть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с нас недуг с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шает мертвец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унынья утеш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ческих сы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грешников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квозь тень грядущих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ам нашим от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га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щит от стрел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ох путникам-бор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луч среди затм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з бездны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29Z</dcterms:modified>
  <cp:revision>12</cp:revision>
  <dc:subject>Slavic hymnal Гимны веры христиан, hymn 641</dc:subject>
  <dc:title>Вера — щит от стрел сомненья</dc:title>
</cp:coreProperties>
</file>