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6C5C-72E8-43D0-827D-931E8EC49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BC5D-CE17-4EE3-A889-70A2A988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AA4B-89C8-4988-BD5F-6624FC78C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B3E7-F778-4148-9A7E-40FD904E6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B02E-AFD5-405B-B5E4-7F68D589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AEAC-8B7D-4F04-803C-44E18AF4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62FF-4C4F-452B-959B-042B56C9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493F-7B76-4F91-ACC3-54AA1416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6C4F-1F04-4C26-8270-006A4184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68F7-19ED-4683-B857-EDEEB121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74EC-56B8-47DB-852F-25177716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7B87-5F06-4229-8C99-C1918CCA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E7D48-148A-4994-AE1E-E0370A8BAF5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ys to s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 pure, clear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ke a little can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rning in the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ы должны свет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лжны свет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ою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ореть, как све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хо в тьме но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is world of dar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let us shin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in your small corn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in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тёмном ми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добра луч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уголке тв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я — в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ys to 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rst of all for H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l He sees and knows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our light grows d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лжны свет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Царя ца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ных Он не сво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менных оч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ooks down from He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ee us shin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in your small corn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in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Он видит с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ь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уголке тв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я — в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ys to 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, for all arou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ny kinds of dar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world are foun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лжны свет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глядит н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любви и в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пример подас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 and want and sorr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we must shin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in your small corn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in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ло, нужду и г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ждай добр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уголке тв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я — в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лжны свет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ю для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нести благ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зные м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, будем вер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во вс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уголке тв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я — в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7:48Z</dcterms:modified>
  <cp:revision>12</cp:revision>
  <dc:subject>Slavic hymnal Гимны веры христиан, hymn 897</dc:subject>
  <dc:title>Jesus Says to Shine / Мы должны светить</dc:title>
</cp:coreProperties>
</file>