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39ADE-CD65-4A2F-B3D5-0CD69806C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A1D5C-1552-4895-BF40-9E8FE20EB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CD77C-8FBC-4F9F-9935-46172C643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63937-39A4-4F32-809F-77FE142EC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4C911-2532-4C77-831C-0E2CEC94C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56112-56DB-4A49-960B-E9A278E92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8E6DF-89AA-4D32-8673-28D341563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35939-4F79-4CC0-A682-8DF73D2C1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85C92-5C32-4BCE-A087-9F757DDA6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1F164-7FE4-4FAB-8269-762F4BE9D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13A9F-0F8E-44C3-9863-825B1CA36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8AC6E-65C9-45F2-B944-EE036B240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258F6D-693E-4B86-B13D-68EFE1CAA570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! Ты Сам меня ведёш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оим путём, Своей троп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еня от бедствий бережёш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мне даёшь совет благ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! Ты Сам меня ведёш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оей тропой, Своим путё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в край чудес меня влечёш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наградишь меня венц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44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Господь, Ты Сам мен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! Ты управляешь м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моих желаньях и делах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хорошо мне быть с Тоб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коиться в Твоих руках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! Ты Сам меня ведёш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оей тропой, Своим путё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в край чудес меня влечёш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наградишь меня венц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прохожу чрез мглу доли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ль под сияньем снежных гор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ерез поток, чрез гладь озёр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зде со мной мой Властели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! Ты Сам меня ведёш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оей тропой, Своим путё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в край чудес меня влечёш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наградишь меня венц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конце пути через тума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еснёт мне вечный Ханаа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я в спасительных луч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буду горе, смерть и стр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! Ты Сам меня ведёш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оей тропой, Своим путё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в край чудес меня влечёш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наградишь меня венц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7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4-17T00:19:25Z</dcterms:modified>
  <cp:revision>13</cp:revision>
  <dc:subject>Slavic hymnal Гимны веры христиан, hymn 644</dc:subject>
  <dc:title>Господь, Ты Сам меня ведёшь</dc:title>
</cp:coreProperties>
</file>