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3FCF-D85B-4EA3-9F11-83A51B23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87D7-D1E3-4175-8995-49C46EE6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A9E-ACD7-4FF1-95D5-79C42326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42D9-A312-4BE4-91E4-91FC23EF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26BA-0DC5-444C-88D8-CA314923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D1C5-F04B-4060-9021-BBC19DA2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4AF0-CCF9-4DC0-AFFD-E5769DE3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EBD5-529A-405E-9F37-26932E41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F2A2-5339-453E-9BD0-519D3C41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9FCC-7498-49FB-823E-F99BCB1C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7D1A-DDA8-4D0E-B512-503757AB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80B1-BB34-4BFF-987B-705EFFB0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38B8B-4CDC-4640-805C-E3EEDB61700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Jesus care when my heart is p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o deeply for mirth and s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burdens press and the c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tr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way grows weary and l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о мной ли О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в сердце ст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корби сжимают гру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яд забот с каждым днём рас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 тёмен жизненный п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yes, He cares; I know He ca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heart is touched with my gr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days are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ng nights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my Saviour c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Jesus care when my way is d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nameless dread and f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daylight fades into deep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d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He care enough to be n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омрач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мой тучей скорбей и бе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сный день скрыла ночи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ли Он мне помощь и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yes, He cares; I know He ca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heart is touched with my gr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days are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ng nights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my Saviour c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Jesus care when I’ve tried and fai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esist some temptation str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or my deep grief I find no relie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my tears flow all the night l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я сраж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кто не спешит пом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жат к стене, нет защиты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ыдаю горько всю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yes, He cares; I know He ca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heart is touched with my gr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days are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ng nights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my Saviour c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Jesus care when I’ve said goodb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dearest on earth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ad heart aches till it n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k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it aught to Him? Does He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путь пройд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«прощайте» скажу друзья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кончит труд, в вечность отзов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ли Он со мной 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yes, He cares; I know He ca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heart is touched with my gr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days are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ng nights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my Saviour c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0:53Z</dcterms:modified>
  <cp:revision>12</cp:revision>
  <dc:subject>Slavic hymnal Гимны веры христиан, hymn 862</dc:subject>
  <dc:title>Does Jesus Care? / Со мной ли Он?</dc:title>
</cp:coreProperties>
</file>