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C1B-2D41-4C70-93EE-8F3A1A6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058-6741-4E81-B0D9-3A90F2F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3DA-ED8B-49F2-9502-2C9558C6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D4E-6B69-4B47-B9F5-336AE3B6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DBB-85E4-429F-9DED-C815AE8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F14-FE26-4EDA-873C-7A02B5E6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0E9-4F58-4E20-9524-64C9865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752-C9C8-4490-884B-750B886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691-C00B-4400-B8DB-E174450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9AC-D436-4386-9C21-B39AAB5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90B-A586-4E57-B016-AAD7288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530-BDA1-4EC4-9787-4C3C3A7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ED8AE-A35B-4556-A323-CAA2E1027C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12Z</dcterms:modified>
  <cp:revision>12</cp:revision>
  <dc:subject>Slavic hymnal Гимны веры христиан, hymn 585</dc:subject>
  <dc:title>Не знаю, почему открыт</dc:title>
</cp:coreProperties>
</file>