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F4D-8E2A-438B-8FC3-6AA74616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641-AFAD-4AE7-9927-D12DD303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7C4-2D2E-480E-9001-43B2D872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1E5-0E78-482F-A8D8-EEFEC04A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E01-F392-4B87-AEBF-E5414833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208-1E92-4D75-981D-5DA8010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01F-17C7-4897-B034-7856A0FC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8C4-0980-4D2B-9756-6959DD0F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606-6F71-4372-8ADB-B350C972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537-EA7E-4543-87A5-1A42E4E1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C34-0394-4162-A76F-0A3E89E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8E1-1C4B-4232-8A20-A0A3A1E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149B5-4AF9-4AAB-A30A-BE9CE9EC9F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mercy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chose to redeem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rgive and rest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call us You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osen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holy and bla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lor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h, the Mercy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richness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pths of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m is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of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ed us as righte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destined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praise of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luded in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glory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xpressed in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image and lik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ed to us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lan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d in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be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erfected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5:13Z</dcterms:modified>
  <cp:revision>11</cp:revision>
  <dc:subject>The Source 2, song number 914</dc:subject>
  <dc:title>Oh, the Mercy of God</dc:title>
</cp:coreProperties>
</file>