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500-145A-4319-B0B0-C3FDFEA6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231-C0C5-4424-85DE-823312A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F03-110A-4FDE-B5F7-14D09EA1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C29-B323-44EC-ADE3-3C638AF2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B18-6E2A-4CF3-BDE6-91CE8410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DD4-51C9-464B-A652-D13A5663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BD5-2E85-465D-9281-48394976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B0E-5478-4484-911C-91434BBC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247-178E-456C-B5FE-9DADA7D0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013-D11D-4FA5-8210-030B6EC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607-2E4D-4FCA-B158-65AD1218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0E2-D181-45FE-B5AF-6E1DB6B5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45B01-791B-4164-BDA8-5ED65EDD0C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 Вечного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мудрость славят горы и м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!» повторя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а   Доверяю сл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не потря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сомнений, страхов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бури жизни я иду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ами любви с Ним связан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же в искушеньях не боюсь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, я не у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осполнит всякую ну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имею всё, чего я 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7:03Z</dcterms:modified>
  <cp:revision>13</cp:revision>
  <dc:subject>Slavic hymnal Гимны веры христиан, hymn 640 (as amended)</dc:subject>
  <dc:title>Доверяю слову Вечного Царя</dc:title>
</cp:coreProperties>
</file>