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9EC1-C0D9-42FA-9D0A-DE3444CB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8474-6015-40A9-8C4A-0208FCC3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C374-BC15-44BD-89BC-3FF9DBC59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DB73-45D7-42A9-B95B-998BC900A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EFDE-2FF3-4E87-8D82-FF99A30F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0950-DCF8-4091-A924-8718521F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E16C-CBE0-4057-8C7A-04B35D26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B59C-45BB-4D1F-B9CF-C3AEAA2B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90AC-8F69-4D56-8D86-D0061DA0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8FE1-EDB4-4132-B359-BD43E890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2FDE-D1B9-4D89-A155-33A0DC15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843A-30A0-48A6-99C5-D322F05A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F2060-66E4-45BE-9D16-020EA2AB6B1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keep me nea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a precious f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ee to all, a healing str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s from Calvary’s mount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   Спасе мій, тримай ме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 мій, тримай 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спас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пречиста кров те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мого сціл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ross, in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my glory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my raptured soul shall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 beyond the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при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йшов спас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маю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вічне вдовол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he cross, a trembling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and mercy found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the bright and Morning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d its beams aroun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душа м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мир діста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, ясна рання зо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осія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ross, in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my glory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my raptured soul shall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 beyond the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при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йшов спас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маю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вічне вдовол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he cross! O Lamb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ng its scenes befor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me walk from day to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its shadows o’e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о, Боже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кажи увічч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міч дай, щоб я служ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бі днем і нічч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ross, in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my glory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my raptured soul shall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 beyond the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при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йшов спас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маю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вічне вдовол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he cross I’ll watch and wa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ing, trusting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I reach the golden s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beyond the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стою і ж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діюсь і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Господь візьме 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ну ос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ross, in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my glory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my raptured soul shall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 beyond the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при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йшов спас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маю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вічне вдовол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38:17Z</dcterms:modified>
  <cp:revision>13</cp:revision>
  <dc:subject>Slavic hymnal Гимны веры христиан, Ukrainian hymn 3</dc:subject>
  <dc:title>Near the Cross / Спасе мій, тримай мене</dc:title>
</cp:coreProperties>
</file>