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B510-0D35-42B0-84B3-AD5EFDA8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C94A-04C1-41A7-BEC0-ECE27E52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7356-45E9-4771-AB46-F43A0DF8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ED14-B0F6-4516-A656-EB07E1D5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914B-BC51-402A-9060-A1D92F89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F020-C184-4E0D-95B7-AEF4CC88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08BC-43D8-4D91-9FC9-DB9988F8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8EC0-B57F-4B38-9E39-3EF9C1E8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A97D-6216-4703-8F98-4A55079F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1003-C52D-48A5-833B-78181F44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4CB9-CEBE-4271-8725-07EFE83C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2764-D35E-496E-867A-02040E9B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CE786-0E99-4014-B2A4-C95B969A752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uman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uman woes ab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3   О, скрізь розголосі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тільки є ду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є щ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rough the vacant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ong of triumph r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хай труба звуч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голос чути скріз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Ghost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’s promis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ь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обіцяв От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boundless love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hall this tongue of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ond’ring mortals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atchless grace div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лика це люб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лив за нас Спас 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нас спасти з грі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ти нам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, a child of h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uld in His image sh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лава Богу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Він спас і ме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Ghost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’s promis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ь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обіцяв От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ev’ry Christian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claim the joyful s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кожний, хто спас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ю новину не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Ghost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’s promis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ь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обіцяв От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ng, long night is p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orning breaks at 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ushed the dreadful w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ury of the b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ч темна вже м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ння Зоря зій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ьму розганяє вже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нь вічний наст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’er the golden h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y advances f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ство гріхи лиша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ходить до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Дух Святий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Ghost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’s promis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ь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обіцяв От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, the great King of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ling in His w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ev’ry captive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full deliverance br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скоро Цар цар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е з небес дол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и забрати нас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х тих, котрих Він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8:22Z</dcterms:modified>
  <cp:revision>12</cp:revision>
  <dc:subject>Slavic hymnal Гимны веры христиан, Ukrainian hymn 93</dc:subject>
  <dc:title>The Comforter Has Come (O Spread the Tidings ’Round) / О, скрізь розголосіть</dc:title>
</cp:coreProperties>
</file>