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134-B21C-43B2-99DF-EFDC1E23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EB4-5C5C-4A1D-8BC2-1A893FC0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433-8B71-4B3E-BDE2-22EE9F57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E26-E1A3-4F11-8A17-9A06DB91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972-9D17-438B-B666-6E3A3D93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E71-00D8-4671-A1B6-DDC674E6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569-6140-4197-AC28-071F29EB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67A-8A03-421F-BE27-FDAA554A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687-8259-4B44-BD94-40E3E691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D5D-A9AE-494A-BBE5-EB9B409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58F-5A5A-4BF0-AD75-F80CC6D4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1DF-4A01-4C5E-8C74-8F17ADC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CA65E-A1BA-4776-924C-F401424567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не га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Христос її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она з Ним розмовл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ти Він прох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ін їй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она колись 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серце те вр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сказать піш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4   Самарянка не гад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аїні, де схил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льми й мирт вночі дрім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е йшли і диву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Спаситель 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розпов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Чоловік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прийшов то не Ме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Божий св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лється для у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таланним Бог втир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і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грішників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дкрив всім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Він тебе шу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іння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25Z</dcterms:modified>
  <cp:revision>12</cp:revision>
  <dc:subject>Slavic hymnal Гимны веры христиан, Ukrainian hymn 94</dc:subject>
  <dc:title>Самарянка не гадала</dc:title>
</cp:coreProperties>
</file>