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BC3-C897-4808-A61D-C08B1E00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6DC-5C8A-4D84-B066-CAD38740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752-5AA6-4093-8BDD-807219A2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CE8-AA7D-4CCA-A63B-8FBFF719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79F-290B-4D77-A68D-F85A4BE3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8C5-57FE-4CEC-95D9-EFAB278C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E55-8E59-4960-9E61-69A6D227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FAA-32D5-49F6-B5F0-501767F4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68A-934D-43D0-84FF-39FD032B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EA1-006F-44D4-BD6C-9C2D1907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59D-2B05-47C6-A0E0-A9CC9B2A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2D3-5EC4-446B-AFEB-EBF74E53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2F6C7-2822-42EC-966A-7CC16A398A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сладко мн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и радость в Нём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Ег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имя слад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м сладко имя 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, мир даёт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Божией по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лов, чтоб выразить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в пламенной хв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12Z</dcterms:modified>
  <cp:revision>12</cp:revision>
  <dc:subject>Slavic hymnal Гимны веры христиан, hymn 607</dc:subject>
  <dc:title>Иисуса имя сладко мне</dc:title>
</cp:coreProperties>
</file>