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F4C-B53A-4672-9A65-5DE8D9F2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968-BAC0-406E-9B7A-D4D8475D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1A2-1EA1-42BA-8CB5-1E4AA035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54C-1FB3-41C4-BA96-DF0394D8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5B3-61D8-459E-B9CD-1857C16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228-419D-4A05-8808-A72C0C7C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827-B67C-4EB1-B660-F81A305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969-CFF7-4A70-8E5C-55C41AA7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471-D9D9-47CE-B1F4-4EE0B64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49F-8446-42AE-872D-F4727C8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B91-D54C-4D92-8AA1-65F15BE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AB5-178C-47E4-8AD1-0D3B730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191F-7776-4215-91DA-324E6F20FD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all ye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and triumph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ye, O come ye to Bethle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e King of ang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choir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exul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, all ye bright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, All glory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Lord, we gree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is happ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o Thee be all glory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 of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flesh app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34Z</dcterms:modified>
  <cp:revision>14</cp:revision>
  <dc:subject>Slavic hymnal Гимны веры христиан, hymn 242</dc:subject>
  <dc:title>O Come, All Ye Faithful (Adeste Fidelis) / Придите к Младенцу, верные с весельем</dc:title>
</cp:coreProperties>
</file>