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1DF3-7EB3-4004-A11B-A9018202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0BCF-F3CF-4933-AEBB-917C67B5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1D5-ED75-4253-9673-AB5BFABE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E315-E4CA-4C92-A7E1-5E605083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4AA7-9810-4625-BFEE-9D449EA0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6921-5BC5-4367-A20D-103FB93A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D34-B319-4E46-9726-21560546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040-E059-492B-A715-60CC0333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2790-CC26-43F4-B2DA-5A020C21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FDE-19BD-4FCB-8B46-556687D4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3070-3749-40E7-A8C6-BA4F5BC9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737B-C68B-48B7-A853-AE75A592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A12AC-048D-421D-A6AA-BC060126AAE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morning, sowing seeds of kindn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noontide and the dewy e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iting for the harvest and the time of reap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й Господне с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й Господне семя с раннею зарё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й и в знойный полдень, не боясь жа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даст жатвы время, сбора урож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sunshine, sowing in the shadow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ing neither clouds nor winter’s chilling breez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and by the harvest and the labour e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й на солнцепёке, сей в тенистом мес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напрасны будут верности тру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 Господней воле день придёт чудес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ing forth with weeping, sowing for the Mas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the loss sustained, our spirit often griev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our weeping’s over He will bid us wel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плачем отправляясь на поля Христов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ом ободримся, мы там не од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нчатся рыданья, день увидим нов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00Z</dcterms:modified>
  <cp:revision>14</cp:revision>
  <dc:subject>Slavic hymnal Гимны веры христиан, hymn 540</dc:subject>
  <dc:title>Bringing in the Sheaves / Сей Господне семя</dc:title>
</cp:coreProperties>
</file>