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A666-4761-4E73-8EB6-98960BA3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DB4-F714-45C6-8141-4741D646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33B-C8C5-423E-A39C-60129C91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AC2D-F145-4E77-A078-6601BBED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DBFF-E462-4C61-B503-EC9F6E9E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AB6-BD26-455A-AE54-DA32E9B8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898C-9B6F-40BF-8B8E-4E04BBB3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801-D028-42AF-B319-CBCBA040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1E8-8DEE-4034-A97A-1F5E4770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2CE-300B-4F72-9DFA-AB5BE63D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0DC-1C92-4A49-AAAC-689EF685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FD07-3A9A-401E-9BDC-93C8574D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7DEB0-FC8A-46D5-BD01-A47ACDACEF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s on the Lord’s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serve the 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be His help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ther lives to b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из вас Господе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з вас Госпо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готов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руки, ноги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свят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rce may be the conflic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ong may be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e King’s own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can overth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ли битва зл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адёт ли вр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ш охра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х каждый ш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nd His standard ra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ctory to sec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truth uncha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s the triumph 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Христовым зна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беда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и во мра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ем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ly enli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on the Lord’s sid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we are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вши тварью н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leave the world’s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face the f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s on the Lord’s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for Him will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й мир ост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ждать вра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дти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call of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on the Lord’s sid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we are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подню зо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for weight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for crown and pal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ter we the ar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aise the warrior psal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ля внешней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льмы и ве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ваем фор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его бой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love that claim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s for whom He d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hom Jesus nam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be on His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любви к Тому, К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л жизнь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ем охо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евой прик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love constrai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on the Lord’s sid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we are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ижимы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ou hast bought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with gold or g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ith Thine own life-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y diade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кругов блуж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, к чист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ы страд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на крес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y blessing f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who comes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made us wi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made us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остью выс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и ум пле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ярма по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nd redem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on the Lord’s sid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we are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росивши ок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5:52Z</dcterms:modified>
  <cp:revision>12</cp:revision>
  <dc:subject>Slavic hymnal Гимны веры христиан, hymn 877</dc:subject>
  <dc:title>Who Is On the Lord’s Side? / Кто из вас Господень?</dc:title>
</cp:coreProperties>
</file>