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97D-09B6-4E1E-8CEE-FB96ABB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39D-6174-4181-9A90-D67F34D9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CC9-BDD3-44D8-864C-35F6ED18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549-3DAA-4B2C-AD1F-8582E8C9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4D8-9761-470A-BCF9-BEB62E6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EAF-2402-4E2F-9648-B4CBAFE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316-205E-48BE-8253-04ABC8C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2F7-51C7-4C91-AE89-ACBFBFA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41B-678F-4495-9172-3347C943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DEA-62DB-4D16-A62C-6D8C0F4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F64-BD77-409A-9654-57EFD3E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70F-0818-4239-9091-C61AF51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3742-46E4-42CC-8929-FE447DDFFA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вер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их люб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се учись сч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 не гул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ближним помо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ших под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не отх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ом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спода пр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для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31Z</dcterms:modified>
  <cp:revision>12</cp:revision>
  <dc:subject>Slavic hymnal Гимны веры христиан, hymn 544</dc:subject>
  <dc:title>Труд в жизни для Христа</dc:title>
</cp:coreProperties>
</file>