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F9A-C835-4088-8909-2BA39C78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E69-8EEB-40BB-A692-DDB578EA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17C-EF45-42C5-95AA-2BE74ECF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747-AEA5-477F-9E88-6429B3D0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F97-F50D-45BF-A9F4-46F0B4A6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740-BD5E-4FA0-91B2-1136EE23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2FF-D552-4450-B155-B196B9AC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86E-49C8-41E2-827E-8CD92D72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807-E4A1-4E35-9586-F9AE3642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FBB-702F-4BF8-8478-691BF158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504-B5DA-44FE-A85C-817D496E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8E7-D65B-48D4-B16D-94E296C2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99D99-D8F9-4AD3-95D8-87BCE049BE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залишу вас сам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ід вас під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го Утіш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бесного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 навік зі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6   Я не залишу вас сам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Церкво Божа, час вст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овноту прий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рішники по всіх місц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ялись в своїх гріхах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л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духовні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Бога є для в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перед! Молімся з ві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наділить си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рні у кож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до П’ятидесятн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іш, скоріш спіші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им життям усі живі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щення Духом ми Свя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Бога всі прос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8:43Z</dcterms:modified>
  <cp:revision>12</cp:revision>
  <dc:subject>Slavic hymnal Гимны веры христиан, Ukrainian hymn 86</dc:subject>
  <dc:title>Я не залишу вас самих</dc:title>
</cp:coreProperties>
</file>