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2558-B4D9-477A-93D1-5C277CD8B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05D2-807C-4388-B4C3-A25A73B9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98EF-BE6C-498C-A9F8-69C730E77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0157-F9FF-4987-B9CF-7DD55B82B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A437-78E0-4716-8EA0-E04D6A40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3E05-B02B-4111-A468-A412E077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D587-0167-4521-A13B-ED981C19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AB59-DCBB-40FF-89DE-126FE7EC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7C21-DE24-40AC-942C-7CCBB55D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5A42-273E-4C1E-99C6-7B1FEB5A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7DD4-B415-4359-989E-DD486E23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0A88-0E0F-4154-BEA4-8CB3CBA6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CC478-FE74-4898-B081-741C3145EF3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идёшь к святой отчиз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дети твои г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 алчут хлеба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ечтаешь о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родные, ваших дет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Господь вам подар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ите к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н их благосло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7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ы идёшь к святой отчиз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отец, сидишь в собра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уясь, что ты спас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где сын? Зачем в незн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ез Бога гибнет о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родители, хран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а своих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орее привед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лучшему из всех друз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ть, где дочь твоя? Скажи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здесь о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она доны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етой увлече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родители, молите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етей своих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их призвал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вященного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4:36Z</dcterms:modified>
  <cp:revision>12</cp:revision>
  <dc:subject>Slavic hymnal Гимны веры христиан, hymn 772</dc:subject>
  <dc:title>Ты идёшь к святой отчизне</dc:title>
</cp:coreProperties>
</file>