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1EBB-A49F-4537-A6C1-9CD2705B5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48F7-6B97-4976-8E32-16D6943D3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11D6-0B97-4C1D-AC22-1DAAFAA3E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940A-5445-4FAE-9272-B80EF9783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09AB-76E7-4FD1-85B0-00D8C554F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BA59-F8DC-491D-9A16-2C094E3AC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7D8A-A66D-4265-9891-7AECB4A61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95E3-D3A7-4882-859C-5AD387897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CCFF-EC9A-44F8-B89C-E33871EF4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576A-BB09-41CE-B544-0830E78B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AEEC-E775-45D8-A374-B687546D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7F8D-B878-4800-BF7C-79690485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63985E-BCE1-4F9D-BB54-14D047A8AA6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chose the cross with ev’ry brea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perfect life, the perfect deat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chose the c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crown of thorns You wore for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crowned us with eternal lif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chose the c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ough Your so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as overwhelmed with p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bedient to death You overc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659   You Chose the Cr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lost in wond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lost in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lost in praise for ever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cause of Jesus’ unfailing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am forgi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am resto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loosed the cords of sinful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broke the chains of my disgra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chose the c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Up from the grave victor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rose again so glorio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chose the c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orrow that surrounded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as m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t not My will, but Yours be done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a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lost in wond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lost in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lost in praise for ever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cause of Jesus’ unfailing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am forgi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am resto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0-12-18T08:43:20Z</dcterms:modified>
  <cp:revision>12</cp:revision>
  <dc:subject>The Source 3, song number 1659</dc:subject>
  <dc:title>You Chose the Cross (Lost in Wonder)</dc:title>
</cp:coreProperties>
</file>