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5B5B-AB9C-4D86-830A-8B832884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1643-A47E-4A18-832C-9FBF964C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A354-BD09-4B7E-A404-5978D5C8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9FEF-6495-4772-9C05-F8920CBB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4B3B-E69F-4B23-BC30-C5EF614A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BEC0-2CFC-4BF6-BC4C-CF9BE5D0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BAB7-D486-4E65-95B1-2D8C447A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B05C-56C8-4EC9-8859-F9B6E479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A7EC-1C09-4C52-9C88-4E84C6F3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07A6-002B-4AA4-BD31-2B1F844A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33DF-B722-4245-A4F5-1749E9DE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1F1D-1504-4FDC-B305-7BE61A66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27C98-85AE-4939-9652-6F2D2F2F2F6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моё, о Боже, испыт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вства исследуй, помыслы узн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 опасном ли стою пу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исть от зла и в правде утвер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ебе! мой грех Ты снял с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ь молитву, дай любви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лни Духом, обнови,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мне силы прославлять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рдце моё, о Боже, испыт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 Себе всю жизн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анья, волю — всё я отд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ися в сердце, наставляй на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меня, и Сам во мне пребу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, в Тебе источник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ждём, чтоб к жизни мног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у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и нужды всех сынов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енье, Господи,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1:15Z</dcterms:modified>
  <cp:revision>13</cp:revision>
  <dc:subject>Slavic hymnal Гимны веры христиан, hymn 827</dc:subject>
  <dc:title>Сердце моё, о Боже, испытай</dc:title>
</cp:coreProperties>
</file>