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1DB-F369-4C86-A4A7-38CE638F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45E-3B9F-4A12-BDB5-627D66F4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C9E-8E28-42E8-8DCE-9FF37F05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0C7-5A99-43D2-B38C-F23EA9BB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AAA-05AF-44E1-AAF5-1971DDEC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FA5-4579-499C-83CD-B311FEFD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DD4-9A01-4E7C-9735-CA42720C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931-2FAF-46E9-9F94-2B8BEB4C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9FA-3045-4465-A9FE-645207BB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E89-8378-477E-B3DE-27B05E8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14A-FCEA-4C88-887B-A99F507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3A1-2735-4361-985A-87F98C2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D0E4E-AFEA-4E6F-8D6A-625E0F5773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, a Father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nly love could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, the heavens c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love was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 broken Your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till You forgive, if only I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 heard me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near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04   All Fo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ing all fo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join the angel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holy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glory, King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 broken Your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till You forgive, if only I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 heard me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near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 a Saviour p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ba Father,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y know not what they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cross draw ma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, to You,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10:08Z</dcterms:modified>
  <cp:revision>12</cp:revision>
  <dc:subject>The Source 4, song number 1704</dc:subject>
  <dc:title>All For Love</dc:title>
</cp:coreProperties>
</file>