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B5C-C55F-4152-96F1-2A58959E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EE7-D706-42CC-90C4-7936C27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126-3F47-4BAE-B9A8-9EF9935F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E52-9458-41D6-9EB5-BB99D21F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8AF-FE2F-433C-A1B6-9AA1EC3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722-331F-4B20-8F53-8922CC06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B1B-B374-4A9A-842D-A3B5D87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1BF-1147-48B1-9ACA-247613A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16F-56BF-475B-9B91-E6CC30D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358-B16D-4C5F-B0B0-D9EFF55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168-2B3B-4206-B46B-85C7385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5A1-5C19-4C6C-A867-9D77144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58B15-3913-4393-BFBB-F0F3317ADE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 had a thousand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a thousand tongues could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in Whom the earth rej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oes all things wisely and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rn amid their choir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hallelujahs to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teful heart would then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what God has don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ll you pow’rs that God impl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nd silence keep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forth the strength that God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noblest work is to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 and body, join to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felt joy our Maker’s pra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orest leaves so green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dance for joy in summer 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eadow grasses bright and sl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low’rs so wond’rous sweet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 to show God’s prais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e now make His glory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that have breath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rong the earth, the sea,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join with me my heart’s dev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raise His praise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utmost pow’rs can ne’er a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 wonders of God’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ather, deign Thou, I beseec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en to my earthly l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nobler strain in Heav’n shall reac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ith angels hymn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25Z</dcterms:modified>
  <cp:revision>13</cp:revision>
  <dc:subject>Slavic hymnal Гимны веры христиан, hymn 820</dc:subject>
  <dc:title>O That I Had a Thousand Voices / О, если б сотни уст имел я</dc:title>
</cp:coreProperties>
</file>