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5AC-9DE5-433D-8859-5ABE0693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78F-C28F-487E-9172-64DCC7D0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90D2-E934-49D7-B522-77CC0959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0ACB-75C5-4C74-9CB2-16B73C3A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568-E3F2-4198-859C-A966F133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7B6-47C6-4D82-9C3D-A5DBC484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878-401D-43B9-8B6F-3645DA7D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6C9-E1C0-4B44-84CF-B57F26F8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4879-3668-47E3-A709-C461B9E9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29A-F166-4E3C-837F-DECAD8E1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B69-AAD4-4F2C-A0F0-12890578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40B-9D3A-4F27-BE50-79576D21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635EF-1A1F-4473-AE01-BB81241D14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able, He’s 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He’s 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Lord is able to carr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5   Він може, Він м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оже,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Ісус може ізцілять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ealed the broken-he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et the captiv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ade the lame to walk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used the blind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хворих ізці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ртвім життя д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іпим дає Він зр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ивії ходять в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able, He’s 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He’s 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Lord is able to carr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оже,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Ісус може ізці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7:26Z</dcterms:modified>
  <cp:revision>12</cp:revision>
  <dc:subject>Slavic hymnal Гимны веры христиан, Ukrainian hymn 105</dc:subject>
  <dc:title>He’s Able / Він може, Він може</dc:title>
</cp:coreProperties>
</file>