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FC9C-CB0A-4DA7-83B1-66AE07C53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B64C-C46D-45CC-80FB-F91B57362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FE6D-345F-41C6-8ECA-91C23C36F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18D9-DE3E-48D0-ACDF-040F9BC7B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0A78-8094-49A3-AD2F-7E93AE118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6D5F-9D1A-44FF-8385-7B6DF5967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9267-CA82-4139-95D5-156D9C38C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1D1F-6D20-48C4-B94D-7030E15C2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3EC3-FA8B-482D-82BE-CF4AC7EB1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467B-C6B3-4AAC-BA40-BEE320FE3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8182-450D-4F41-92F1-AB37137BE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53A2-9D10-49CE-8830-042D0FF1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D426FF-0E12-4755-AC54-7C44EF59DCE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страх мене обгор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пасе, трим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коли ослабне вір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мене трим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руку тримай (тримай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руку тримай (тримай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пасителю могутн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ам мене трим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01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33   Коли страх мене обгор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не можу сам тримат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пасе, трим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й на Тебе покладат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мене трим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руку тримай (тримай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руку тримай (тримай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пасителю могутн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ам мене трим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ясний час, чи в час нещаст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пасе, трим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дні недолі, чи у щаст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мене трим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руку тримай (тримай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руку тримай (тримай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пасителю могутн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ам мене трим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тережи Сам мою душ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пасе, трим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купив мене ці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мене трим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руку тримай (тримай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руку тримай (тримай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пасителю могутн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ам мене трим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34:10Z</dcterms:modified>
  <cp:revision>13</cp:revision>
  <dc:subject>Slavic hymnal Гимны веры христиан, Ukrainian hymn 33</dc:subject>
  <dc:title>Коли страх мене обгорне</dc:title>
</cp:coreProperties>
</file>