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252-E3DB-4C3E-B6A4-1AFE9683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3E1-DA91-45F8-96C3-BFA409F0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225-C790-4F2E-8FB9-25DACC38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989-841E-481F-B1A2-0BBC3166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8BD-091E-4F8C-B4B9-406EC72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675-AE9D-47E8-83A0-7AFD690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8F4-79FE-423E-BD7F-85307642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416-1FE5-4FB9-95C7-00D4F71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B75-359C-4748-B405-C0A96F6F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710-8FD3-4FDB-83AC-E857F77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A02-F8FA-4A96-A402-845FFD2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7A1-73DB-4579-8E7D-0F5D2E5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02BF4-6376-4FEC-8E3E-9D0667F88C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о грехах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агае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лишь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быть друг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хра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 Духом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шных с Отцом прими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кров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и пороки о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ай, о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для всех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 всегд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введёт в чуд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15Z</dcterms:modified>
  <cp:revision>12</cp:revision>
  <dc:subject>Slavic hymnal Гимны веры христиан, hymn 404</dc:subject>
  <dc:title>Куда ты пойдёшь, не принявши Христа?</dc:title>
</cp:coreProperties>
</file>