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3C0-AC86-49A1-9201-54444B60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BB4-5896-4039-BA7B-409DF6B2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413-B3D8-49BF-AEFE-A2FB9100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01C-FC0E-4B7E-802D-282ABECE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06B-3CD4-4613-B57A-AFBC3521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79E-F8A9-439A-9474-93F01784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493-3DC4-44DC-85B1-17DF81F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21C-7244-436A-ADEC-13D7BF84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71A-6608-4CEA-A1A1-6E1049E4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883-E452-4394-9973-1A138A9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002-F4CC-4A27-BCB7-1D4571B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393-CD13-4F10-A5D0-2C73B77B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0F379-1CB3-4820-BFDF-450B6B3FF9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God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eary passer-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2   Дорогий Завіт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ий Завіт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вірним обіця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tations almost win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trusted watcher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ring with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орог тебе зв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шляху, що ти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що Він го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y secret hopes have pe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rave of years gone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still be cher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ерце перес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повати на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чуй з вірою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hades of life are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our has com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y trusty Pilo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ні життя кін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остання хвиля 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й тоді звучать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2:32Z</dcterms:modified>
  <cp:revision>12</cp:revision>
  <dc:subject>Slavic hymnal Гимны веры христиан, Ukrainian hymn 42</dc:subject>
  <dc:title>Precious Promise / Дорогий Завіт Ісуса</dc:title>
</cp:coreProperties>
</file>