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7F67-18AF-48E1-9979-DC0C6ACC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2E19-82BA-4C09-8874-AAC958AE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0682-5281-4E3F-96F4-22D6B213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51CB-9BCE-4859-8C9D-65B8819A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48D4-936E-4B43-BCB7-2280D672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40A1-49EC-468A-99DB-01440BD3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CEB2-DB66-4DF0-AD64-7D94D134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47FD-E479-40DB-9FD7-4518999A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9616-FBC7-4C00-8309-E90AE688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0F0-998F-4754-A6FB-5FDB0AAD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6FCD-9796-4FAE-B37D-0F4F3491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5AFC-6AF7-43F3-B1BA-E1567E37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55448-0ADB-46C0-BFB7-E16F210DA2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тя, всі раді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ний день на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стри, весе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м радість да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були чуж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епер друз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всіх з’єдин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свят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   Браття, всі раді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івайте: Алілу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спас і виправ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імена на 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у пам’ять з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акон Синайськи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повіт стар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прийняв Ізраї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вятій г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слова ми чує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спасла від гні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дать свята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івайте: Алілу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спас і виправ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імена на 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у пам’ять з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живем в наді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і і люб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усі обми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вятій кро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Господній тіш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селить се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мо, браття-сес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і до кінц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івайте: Алілу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спас і виправ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імена на 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у пам’ять з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5:41Z</dcterms:modified>
  <cp:revision>13</cp:revision>
  <dc:subject>Slavic hymnal Гимны веры христиан, Ukrainian hymn 10</dc:subject>
  <dc:title>Браття, всі радійте</dc:title>
</cp:coreProperties>
</file>