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AD7-A717-43F8-A93E-C4032D4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89C-FAEF-447C-B9BE-AE64E1C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BAA-7F75-4BA9-9527-56D84E22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0D8-4661-47BA-828E-DF34AFB6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744-2C3C-4EB8-9E50-DCE443A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4D3-6FEF-4D36-8A33-03805E5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DE9-CC99-4A51-9854-B88EA80D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E4C-BB79-450D-BC5B-945F3D0F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E3D-055E-497E-85C1-7123780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896-1003-4226-9F02-81B67F3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7D0-B7FC-47F8-B280-9616947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050-78D9-4097-BED5-998DB7F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486DC-099A-467A-9829-93E3AFD0B1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fallen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iend of S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giving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given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36Z</dcterms:modified>
  <cp:revision>10</cp:revision>
  <dc:subject>The Source 2, song number 687</dc:subject>
  <dc:title>Friend of Sinners</dc:title>
</cp:coreProperties>
</file>