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79F-B059-47E9-B012-82868FCC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B09-F3D0-49EA-8175-771D2B4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BA0-E817-42E5-BB6B-F1BD11DB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E39-B692-4400-A0FC-4A78CD86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782-E8EB-4E90-BBEB-BD8AD7C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CB8-236E-45E1-B9AD-10823CD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983-2E4D-4B09-B0A8-4C1F5518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4B6-F4A5-40C8-902B-1EF314E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08B-85E1-44A0-8AFC-A8B2E7B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1AF-AC83-4FFD-A457-9F76D20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24B-81FB-4F1E-B796-EF28A1C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D8D-AF6A-4709-9A52-64270DA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9534D-AA9C-4DBD-B1B9-E9F252E7CB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Now Is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we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ur hearts,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00Z</dcterms:modified>
  <cp:revision>11</cp:revision>
  <dc:subject>The Source 2, song number 662</dc:subject>
  <dc:title>Come, Now Is the Time to Worship</dc:title>
</cp:coreProperties>
</file>