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E56-0C96-43A2-B11C-CA3B5715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B94-1894-47B0-B7EE-5A4275A1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1BA-1BD5-4C80-9E83-1B55A7DE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548-3DA6-437E-8FCF-53571040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7CD-DF8E-481B-89C3-808EE73F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38F-8006-47C9-9487-D555397D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A07-A026-4771-A090-96D9F019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705-139D-415A-A8C2-5B8540E6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5089-9C0A-4EE9-9BB5-DF741CE8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B81-9CEC-4302-BEB6-C1CB462A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595-2995-4E16-87AA-D77987C3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934-1752-4011-9BAC-F01214EB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ED168-D8A4-4D03-9D8A-169FAB3FBA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can safely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He leads me in this world be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out Him dearest joys would f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am not afr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везде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ёмном царстве ночи Он — звезда м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 Него угас бы нашей жизни све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в сердце страха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am not al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ther friends may fail me, He is still my ow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His hand may lead m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rearest way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s a house of p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 не сам од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ть друзья изменят, верен Божий Сы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хранит меня Он и в долине тьм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мне звучат псал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, over land and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ing souls in darkness of salvation f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ady as He summons me to go or st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when He points th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 хочу ид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ий дар спасенья грешникам не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Ему послушным, к слову Божью льну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сен жизни п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can go to sl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darkening shadows round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cr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Knowing I shall waken nevermore to ro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will be home, swee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 готов поч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ночь пошлёт Он труд мой прекрат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еня пробудит к славе неземн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сердцу дом р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33Z</dcterms:modified>
  <cp:revision>14</cp:revision>
  <dc:subject>Slavic hymnal Гимны веры христиан, hymn 631</dc:subject>
  <dc:title>Anywhere With Jesus / Да, везде с Иисусом безопасен я</dc:title>
</cp:coreProperties>
</file>