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FC6-4E8B-42F6-985E-334DF003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B5E-A441-4CAA-9882-B118DCE2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A51-D891-4703-B551-15A356D8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2A5-B33C-4382-8DDF-A7035C23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388-84FB-4E13-91B4-7577962C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B50-BF6E-41FA-8AA9-2D60DE1D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DE3-0322-4A1D-A623-221A7A09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A13-CC29-4A9F-B2BE-8BA951B9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093-DAE8-4F5B-AD30-65398EEF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AC2-88F6-4CE5-A72A-ABC5A3FE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A8D-3BC7-4B54-BFED-4FC56D9E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FC5-6443-4A4E-B7D1-AB552829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225E8-13B8-4D51-BC64-8F06A47550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, и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ердце озар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да воспр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ух в борьбе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уж полдень зной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к тру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ю спокой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оможет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труд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пожелтела н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жатва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ен звук призы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руж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колос не ув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жи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единитесь,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ом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и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лабый не от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ущённою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51Z</dcterms:modified>
  <cp:revision>12</cp:revision>
  <dc:subject>Slavic hymnal Гимны веры христиан, hymn 529</dc:subject>
  <dc:title>Друзья, взошло светило</dc:title>
</cp:coreProperties>
</file>