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EC3-D12A-4D77-A556-BE65F85E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441-9F0B-430D-AE34-E39CFD63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DF6-ACA8-4D82-8D91-CF34CC38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216-5F36-4497-A24C-8B28633C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278-0AB7-45E2-A95A-F595505A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851-E769-4174-8759-2F3D36C0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334-5EA3-4E42-893B-2F00947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3AF-5A8D-4D52-BA54-227AAC60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8BA-345E-4A50-A229-52F0429E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C02-A4D5-4025-9466-CC1C705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C43-1F58-43C8-8EC5-92F290B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FA4-AD1E-4880-A1A6-300F5F0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7ED9F-E655-494D-A0F3-EF38B893CB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у пречисту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й Його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знаю правда 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є найдор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понад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   Люблю розпові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ивні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прекрас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всі Його ді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е, що Він зроб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і том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овідаю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овторя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м більше розпові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о солодше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, що не чули 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обру віс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у Бог всім д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7:26Z</dcterms:modified>
  <cp:revision>13</cp:revision>
  <dc:subject>Slavic hymnal Гимны веры христиан, Ukrainian hymn 1</dc:subject>
  <dc:title>Люблю розповідати</dc:title>
</cp:coreProperties>
</file>