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519-FB0B-48A6-8CE9-4858F29E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C9F-B618-4E5F-8CEF-73EE89E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7A2-FCB5-46F4-AD01-69705AD4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0B0-06FA-488A-92EE-D55C146F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D06-506E-4CBD-8CC7-0B91135E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69E-1187-48D3-AA34-BB174C0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AF2-2AD9-41A2-A04E-EBD162AF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FAA-2EDB-482A-9167-669A7C1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B50-7AAC-41A4-8050-0B9C3C6E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C2A-5E2B-42E9-A428-E61CE529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4E0-ED9A-4F0A-889D-EC75E921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13A-3D81-489B-B4B1-B6E9B63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FB7A6-2E99-46FF-B359-24E1856AB5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пора уж проб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на греха и пу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давно к тебе стуч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рат! пора у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рестной смерти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, тебя, мой брат бесп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чной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и сердца кровь стру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горел любовью вз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Он пострадал неви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тот по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кровь всё очи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страш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ю душу об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тихой пристани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25Z</dcterms:modified>
  <cp:revision>12</cp:revision>
  <dc:subject>Slavic hymnal Гимны веры христиан, hymn 362</dc:subject>
  <dc:title>Мой брат! пора уж пробудиться</dc:title>
</cp:coreProperties>
</file>