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786-F398-4635-ACDE-63772D32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C28-39DE-4038-A1F0-084D3C62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DAC-3144-451E-A602-8CEAD806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295-10F4-438A-9C04-BAD5067F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A44-EC0B-4F35-9D33-170A62E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13C-360C-48C2-AC7C-203144CE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814-9D07-426D-8DB8-A583D5C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2DA-84BB-45C4-BB55-5A4F69C8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82B-D5AC-405B-A56A-7165B447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08F-6AE4-4FBC-ADD8-CAC5A242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2BC-34BB-43D2-8F2B-B1BADF8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BE0-BF3F-491E-9711-F3D93176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38B49-043E-4396-B9D7-08A1BC0F7C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blood He has save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pow’r He has rai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1   To God Be th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29Z</dcterms:modified>
  <cp:revision>11</cp:revision>
  <dc:subject>The Source 2, song number 1021</dc:subject>
  <dc:title>To God Be the Glory (My Tribute)</dc:title>
</cp:coreProperties>
</file>