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1</a:t>
            </a:r>
            <a:r>
              <a:rPr b="1" lang="ru-RU" sz="3600" spc="-1" strike="noStrike">
                <a:solidFill>
                  <a:srgbClr val="ffffff"/>
                </a:solidFill>
                <a:latin typeface="Verdana"/>
              </a:rPr>
              <a:t>	</a:t>
            </a:r>
            <a:r>
              <a:rPr b="1" lang="ru-RU" sz="3600" spc="-1" strike="noStrike">
                <a:solidFill>
                  <a:srgbClr val="ffffff"/>
                </a:solidFill>
                <a:latin typeface="Verdana"/>
              </a:rPr>
              <a:t>О Боже, Отче наш благ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Боже, Отче наш благ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хвала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всякий дар любви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помощь нам в тру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естол Твой, Боже,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славе не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ержишь всё в Своих рук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мир живёт Тоб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воя любовь мне жизнь д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ает и хра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всё, Господь, Тебе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оей душе звуч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ак мирной птичке сердцу м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елёный лес и л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в светлый край, где нет мог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ечёт меня Твой Дух.</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Прими хвалу, Созда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доброту 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а Голгофский подвиг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хвалу пою.</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4:27Z</dcterms:modified>
  <cp:revision>3</cp:revision>
  <dc:subject>Slavic hymnal Гимны веры христиан, hymn 101</dc:subject>
  <dc:title>О Боже, Отче наш благой</dc:title>
</cp:coreProperties>
</file>