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2AE-1576-430D-A010-5E259FE9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AA4-5029-4FAB-8BC5-6A4B25E1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C9F-310D-4DB3-8F59-0D5F7F9D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1B8-0D1A-4E52-BA44-83DF4634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3FD-4658-4100-A037-DC3EE99F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55E-50DA-4335-8415-7EF8ADD3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28A-CA28-4E83-9EF2-DDF48F92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FF4-74E1-4487-A313-D4FD984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633-9E3D-4ABC-84E6-6342161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CFE-D26D-4772-9F73-0F9D302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579-F0EF-44CC-94AA-91B4309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5FE-D035-4BA5-8894-F91E497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B95C5-299A-44A7-98FF-16EA23F74A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л уже разлуки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ноет сердц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нает только Бог да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олько Бог да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ил уже разлуки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е есть, чтоб вместе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м слёзы и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жду нами Друг сто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тешител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скитанье жизни с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оставим м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зьмёт нас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бра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с вами Бог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с нами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м нам ближе под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екрасной родине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к родине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38Z</dcterms:modified>
  <cp:revision>12</cp:revision>
  <dc:subject>Slavic hymnal Гимны веры христиан, hymn 746</dc:subject>
  <dc:title>Пробил уже разлуки час</dc:title>
</cp:coreProperties>
</file>