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838-86DA-4AB3-A46C-FC6C2153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3A8-F6B1-45AC-A479-6B5B22C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F16-CDB4-4247-B99B-B6DF66C0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D04-D854-48BB-A7EA-8BBCA309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E65-C5CD-420B-8A4A-D8F411B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DE4-7316-4ACB-8397-48A20168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EBF-B47E-44D8-B461-7B9E48B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341-EDF9-44A8-BCFD-B5261C8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FE7-6A52-438D-82B0-EDDC4B2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428-CFD0-4AA8-A431-64F6871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265-867C-4FD6-995C-77885B0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46E-CA21-4DF8-8728-13EA0C5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21E8C-8BC6-464D-AE63-45A9F84097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riches of thi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sound of my friends’ 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biggest dream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just the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getting what I say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living the life that I want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love anyone could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0   Better Than the Rich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old me now in You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, O Lord, make the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moonlight in the night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me breath and all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hear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can’t stop 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stop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33Z</dcterms:modified>
  <cp:revision>12</cp:revision>
  <dc:subject>The Source 3, song number 1150</dc:subject>
  <dc:title>Better Than the Riches of This World (Better Than Life)</dc:title>
</cp:coreProperties>
</file>