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B9E-F175-419C-9342-1232C46F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AFC-B647-4C28-BEC9-8D162EF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9AE-5976-4472-8E3E-444BD879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2CD-B06D-4302-8C17-FEC1AD10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56F-BE36-4A08-BA29-2D6525E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952-850F-4532-AA7F-8E0CC54A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1A1-49A9-4E4A-9D97-03AE535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9B5-C530-41A2-AF8E-DECB6E4B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3F5-D65B-459A-9A55-DF2EA09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231-302F-4457-9398-6D187723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EA4-456E-418E-BB17-18FA470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F3A-4272-4111-A985-0FD5761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7543-7D6A-4A8A-9B85-F144594AB2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ветлое око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уже с эт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ертвовал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желанье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мной данный об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, заключить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вой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верши над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смерти для все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жизни воскресшей,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данной Тобой чист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членом был церк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амой кончины я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верными свято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Вспоминанье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ты меня, о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я с радостью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по долине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делай мен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рным в служеньи ра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не заснул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анным Тобою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24Z</dcterms:modified>
  <cp:revision>12</cp:revision>
  <dc:subject>Slavic hymnal Гимны веры христиан, hymn 475</dc:subject>
  <dc:title>О Господи! видит меня</dc:title>
</cp:coreProperties>
</file>