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FF4-EB66-449F-8405-865E2B02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53D-C35B-48DB-8D63-CD9A2CD2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741-337B-420F-B78A-19D5229C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8A8-4E4B-4829-BDD6-FEED1233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F2C-8C16-4F8A-AA90-F8FB722E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CD8-C51C-4320-BE7A-799F561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89F-C54B-45E4-9A4B-F38FE64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153-EEF4-4A38-8A04-F2F6C78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121-3EDE-47FF-854A-D856522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E11-1F4F-4724-B3A1-55D6A959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B24-7CDB-4AEA-A9C8-61ABE66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C2A-35C1-4834-9AD7-706C2D6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590D0-1055-46B4-B43B-787BE12DC4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имо до церк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гонь Святого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6   Належимо до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Святого Духа, що ді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еркві ц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ті дорогії, що діяли ко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и в інших мов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оздоровл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ать лиш до Церк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00Z</dcterms:modified>
  <cp:revision>14</cp:revision>
  <dc:subject>Slavic hymnal Гимны веры христиан, Ukrainian hymn 96</dc:subject>
  <dc:title>Належимо до церкви П’ятидесятниці</dc:title>
</cp:coreProperties>
</file>