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F10-49B1-4DDB-B34D-1F705FEA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1EB-FAB1-4F09-B178-9C78F9E4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027-8852-4E7B-9D1F-379DEB71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E31-F075-4F48-9941-D1A387EF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B7E-0423-4B0E-BFD0-FCF6D7E9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408-BA23-42B5-93A2-D692212C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7ADF-CC9C-4A16-AAA6-B0B215DE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777-FCDD-422E-98BB-2AC3DED5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F01A-5679-4422-A146-B87A03FC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34E-722A-4084-A486-7342D74D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E77D-7A4B-4F3D-8D17-7884A3A0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F1A4-85A1-4CC5-A83C-02AD6856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2A041-7029-4E77-8EE3-4772EC30D1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большего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ваться не дерз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ёт мне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вятой наполнил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свет рассеял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ось, я слы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ё ко благу твоему!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Господь всегда со мн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яет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 небесных удосто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ет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га порой споткн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ываю оди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калы Высокой 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и поток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та блаженства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Он успок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в небес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живой из царства т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тся в край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т Христу хва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был всегда со мной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8:25Z</dcterms:modified>
  <cp:revision>13</cp:revision>
  <dc:subject>Slavic hymnal Гимны веры христиан, hymn 865</dc:subject>
  <dc:title>Мой Господь всегда со мною</dc:title>
</cp:coreProperties>
</file>