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F2D0-EC7E-4835-A3C8-C9C75362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8798-0F3A-4E14-99DE-18ED9091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68D-095C-4544-AEDD-1693BFE8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73C7-27BF-4495-A91A-9372F9F9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5F1C-F063-4FBD-BF0C-8F6929EE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9B2-A50A-4D4D-8862-150916AB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04B3-DC5E-445F-8E2C-370250B3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6804-1188-477E-96D7-3D2AECAE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E5A5-8CA6-45C6-B16F-71BE7967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8D1-8701-4FE4-B1B2-B469078F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6554-D302-4DBA-801F-CD65A8A5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8682-9D3E-4DBF-A502-BC165294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8187A-6A7D-4922-9AAC-5BE96F77CF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лос Духа Святого звуч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і, всі до Ісуса прийдіть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Він кличе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(кличе Ві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(кличе Ві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скоріш! Христос дасть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8   Голос Духа Свят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зкіш світу тебе обман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Спаситель все кличе теб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ому ж до Ісуса не йдеш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(кличе Ві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(кличе Ві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скоріш! Христос дасть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 за тебе Син Божий вмир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 спасіння тобі обіця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зьми ж дар Ісуса тепе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(кличе Ві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(кличе Ві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скоріш! Христос дасть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9:14Z</dcterms:modified>
  <cp:revision>12</cp:revision>
  <dc:subject>Slavic hymnal Гимны веры христиан, Ukrainian hymn 88</dc:subject>
  <dc:title>Голос Духа Святого звучить</dc:title>
</cp:coreProperties>
</file>