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DF32-EA20-46B2-9733-6663FE7DA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9D0A-3A3E-410F-862A-5F76F330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9532-603F-453B-A266-C4346DEC5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755B-1596-4BDC-A594-307B8A0C0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E7DC-7A5E-45E6-A6BA-B09E10866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EE27-8109-489B-8FBF-9ACE3BD4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95DA-B3C6-47C0-A28D-03C63CFD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80BA-F625-4542-ABE8-691350D52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70EB-788D-475E-AB25-160A46B6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DA24-EB89-4554-A8BB-D4CE5826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95CE-631D-4197-B355-8072F165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BA8B-1136-42AD-968E-B74573C8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174584-3E86-43AE-B5EB-D430AAB2ED7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ит основанье, стоит в род и 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е в Писаньи Бог людям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доброго смертный добавит к т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радует сердце, рассеяло ть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бойся! твой Пастырь с тобою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обре и в несчастьи, в тяжёлом тру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на чужбине, в темнице сырой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где не покинет, пребудет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тоит основан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через воды пошлю Я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яди не на волны, гляди на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ушным и твёрдым даю благо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нья и скорби в добро превращ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через пламя придётся ид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! только прямо, послушно 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огненной печи, душой невред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золото выйдешь на радость друг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тарости видит Мой верный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от не покинут, кто Богом жи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тшают на теле, теряют крас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ам их до цели святой доне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и, что с рыданьем к Иисусу приш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ам на попранье служителям 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мир негодует, пусть ад восст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где никому Я не выдам её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45:02Z</dcterms:modified>
  <cp:revision>12</cp:revision>
  <dc:subject>Slavic hymnal Гимны веры христиан, hymn 850</dc:subject>
  <dc:title>Стоит основанье</dc:title>
</cp:coreProperties>
</file>