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2FD9-B54E-48A7-BFB7-A7AE3845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F08-28AF-4D70-A7D3-34A4F3F2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878B-B627-4C5C-A8F7-6E82762A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E46-53A8-49D7-AB39-B7714F33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4A1-C571-415D-91B0-C318037F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80B3-3842-4B94-AC48-34C03838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CD6-5817-4D76-B74D-B45CCB19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61C-DDC0-4ACF-9CC6-BF2549A7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6C22-4BAD-427F-8D27-75F5F9B4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6836-B91D-45E3-A853-24664E3F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8A2-8F7A-4733-B819-BA7FFAE0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042-6388-4E3F-929C-FA3C836D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6826A-BB27-494C-9BB9-CFE4523FAF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: вблизи пот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розрачных, чист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реди травы выс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шно лилия цвет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илию Бог лю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ится о н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Он тебя погу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 в нужде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мотри вблизи пот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ни крепкие пит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га чистая руч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осою напол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шу ранняя 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илию Бог лю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ится о н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Он тебя погу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 в нужде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лилия прост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т прямо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лекут её уз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ромных пчёлок к лепест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илию Бог лю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ится о н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Он тебя погу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 в нужде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 приятный и паху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ливается из 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огаче и кто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вался из цар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илию Бог лю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ится о н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Он тебя погу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 в нужде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ивёт Творца твор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еске дивной крас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заботы и муч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го ж печален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илию Бог лю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ится о н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Он тебя погу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 в нужде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3:22Z</dcterms:modified>
  <cp:revision>12</cp:revision>
  <dc:subject>Slavic hymnal Гимны веры христиан, hymn 712</dc:subject>
  <dc:title>Посмотри вблизи потока</dc:title>
</cp:coreProperties>
</file>