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954-40D7-4D43-850A-D51FA667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0EE-BFAB-4805-BD05-B020A6A1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B25-9FDE-4DC6-A052-B5F15698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8F3-3CD5-40A8-96DC-4745D81B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195-C101-44A7-B698-0C93DD2B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D38-5227-4314-A7AD-5ECCC905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DFE-B0D4-4F37-85DA-3E93C38D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DAA-31F0-46DE-B8A6-7C7A4DBD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595-25F1-4694-8C10-53E3C5FE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566-482B-4ED8-B640-CB34A29E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A9E-3426-4734-AE16-5BB7BCD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574-D270-4F8E-A553-47D3E178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189C0-9BAC-4B22-9576-B1A422087D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O come, 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ansom captive Isra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urns in lonely exi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e Son of God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 от власти тёмных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оле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рпит, молится и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Wisdom from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orderest all things mighti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the path of knowledg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ach us in her ways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Господь, как на Си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величье по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 волю откр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и мыслях нап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Rod of Jesse,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own from Satan’s tyrann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pths of hell Thy people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them victory over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Жезл Иессея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 греха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оря зла спас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Дух истины из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Dayspring, come and 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pirits by Thine advent 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perse the gloomy cloud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’s dark shadows put to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Звезда, обрадуй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, близок слав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ь от всяких бурь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и, пошли Тво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Key of David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pen wide our heavenl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safe the way that leads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e path to mis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авида Клю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вери в Царствие отк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г нам смертью не гроз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5:38Z</dcterms:modified>
  <cp:revision>12</cp:revision>
  <dc:subject>Slavic hymnal Гимны веры христиан, hymn 880</dc:subject>
  <dc:title>O Come, O Come, Emmanuel / Приди, приди, Еммануил!</dc:title>
</cp:coreProperties>
</file>