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6206-F1AB-479E-9F47-E908962E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D7B-173A-40DF-BC48-E3105E71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6CBD-433B-4993-A082-1A5F353B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FE7-8212-4BBA-8DD1-BAAC14FB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3063-DC98-47B8-B6FC-579F4A00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9740-74BA-48B2-B32E-38B1C40F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8798-F556-459B-AA8E-CB754887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AB0B-DD1B-4477-8130-B0B929C3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3B0-DB66-4745-AA6E-9F0FD2F7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A2A-5E3E-424C-977B-FB1BAA8E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BDF-A6BA-4DB2-8751-EAFA4FE0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18E5-1DB3-4091-AC1F-9D0C2669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B5B8A-D5B2-4185-8078-2A4062DCFB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Jordan’s stormy banks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st a wishful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Canaan’s fair and happ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y possessions 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ою у Иордана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у Иордана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ижу чрез стру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анаанские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умы все м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o will come and go with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all those wide extended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s one eternal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God the Son forever re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catters night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поля вдали г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ый вечный д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ожий Сын в любви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яв ночи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o will come and go with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chilling winds nor pois’nous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reach that healthful sh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ckness and sorrow, pain and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felt and feared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могу в тот край в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осветлеть душ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вижу лик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а, чтоб мир на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o will come and go with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hall I reach that happy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e forever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shall see my Father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His bosom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чистою надеждой пол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 бежать отс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страшен гул шумящих вол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достичь я цел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o will come and go with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53Z</dcterms:modified>
  <cp:revision>13</cp:revision>
  <dc:subject>Slavic hymnal Гимны веры христиан, hymn 677</dc:subject>
  <dc:title>On Jordan’s Stormy Banks / Стою у Иордана я</dc:title>
</cp:coreProperties>
</file>