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9E7-1A70-42DD-97F5-3229FA0A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05C-5DBE-4601-89EB-848E3C1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540-8AFC-40E4-A162-558ED816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0CD-1275-403C-8F1C-246D019D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A83-E061-4CBA-8E5E-32336D5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A92-E9AC-4C3E-8B8D-BE572784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CDE-F6D1-4B6F-956F-B2B05CDA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A18-8FB7-4EE7-AD55-A425E00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0E9-74D3-4E5B-A828-C75E107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7B2-30B5-44C0-A8B4-F91B0A1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A61-1225-468C-B470-E246EB5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6B4-7E4A-4C11-B287-47726DD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B019-5F9F-4004-8ED9-7443F8E922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09Z</dcterms:modified>
  <cp:revision>12</cp:revision>
  <dc:subject>Slavic hymnal Гимны веры христиан, hymn 884</dc:subject>
  <dc:title>Христова праведность и кровь</dc:title>
</cp:coreProperties>
</file>