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56F-3CAA-4384-9047-18EEAA0E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D16-0317-4CC9-9F99-FC0FCE1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B7B-A93A-42B9-9B39-919FB30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29F-D593-452D-82F0-0CE511A5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CDD-5633-445F-BADA-8CBC3E6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B71-5783-498B-89F2-8719CEB5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02B-C97E-47E5-A127-9DDF5C38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9CB-C8C1-4CE9-A567-4060445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851-0909-4608-9F1E-9F4E7094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E90-5B84-4C69-AC7A-EA2E09F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E76-8C9E-4708-A34C-BBA3F46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B6D-2380-4C79-8A5A-AC6FCD84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8FEAB-B30D-4018-A569-BF1A5460A4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44Z</dcterms:modified>
  <cp:revision>12</cp:revision>
  <dc:subject>Slavic hymnal Гимны веры христиан, hymn 601</dc:subject>
  <dc:title>В Слове Своём Христос учит меня</dc:title>
</cp:coreProperties>
</file>