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934-D17C-4DA4-8EE8-AE64A60E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A96-3230-4064-9C38-F8AC4EE9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B27-6500-49D3-9C16-A867AFD4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E20-39BC-417B-A78C-06C2406A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29F-B1A0-4273-81CF-EE89EE78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55C-BA14-4CBE-883A-20636EA8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8F1-4284-462C-B590-710FF4D5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D56-6885-4DD6-A8DD-50AE27C7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1C8-18E5-4E1B-8A30-C1E91366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DD6-2B64-4D9D-A4F8-11242E9E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F06-4F61-4984-8B3B-632B043F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48E-B7B6-43C7-A9F4-3E29A2D1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E626C-5EB3-4F38-99FB-EFC67ED72C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 дорогие, взгля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данье Иисус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жертву крови оцен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в сердце Ему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гордитесь, друзья, но смир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ь поверьте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 Господних принять не стыд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оверьтесь Ему, как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рузья дорогие, взглян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ьте, друзья, равнодуш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этой жертве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к нам придёт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я не будет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е для нас невозм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делами, ни жертвой, друз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е для нас — только в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ь и тело Иисус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ьмёт только тех, кто послу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л верен Ему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ойдите!» — Он скажет всем греш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верил учен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, дорогие, 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силы бороться с грех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жде царствие Божье ищ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льное приложится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41Z</dcterms:modified>
  <cp:revision>12</cp:revision>
  <dc:subject>Slavic hymnal Гимны веры христиан, hymn 406</dc:subject>
  <dc:title>О друзья дорогие, взгляните</dc:title>
</cp:coreProperties>
</file>