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CA9-5C54-4B60-8505-C1D1981B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064-1F6D-4508-A971-F08614F3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7EC-95BA-4270-BDBC-F00DC1AF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A74-38F5-4E90-8A1B-182B53FA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511-F247-4D78-9F75-9A37FDA4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E90-11BA-450F-B29D-27040B27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71D-A037-4208-A337-3A0610FA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2E8-CE53-4B1E-A581-0BA38C13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BCE-C760-4A17-84FB-0435BF83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FE1-69DC-4F22-B290-D3835E11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DEE-90ED-4FE7-B90D-18FB48F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EFD-32AF-4073-AD00-10A00C20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64196-A3F1-43D4-B8C0-84100DE8C0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ove, this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peace of God, t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faith, this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complet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healed and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isen in His 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in Him, He lives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ed with this hope i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lecting His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Love, This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offe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thoughts, my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l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I’m found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Your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52Z</dcterms:modified>
  <cp:revision>10</cp:revision>
  <dc:subject>The Source, song number 521</dc:subject>
  <dc:title>This Love, This Hope (Now Is the Time)</dc:title>
</cp:coreProperties>
</file>