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B4D-9A93-4310-A2C4-4C5F047F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85B-6B44-4D20-B45D-721B7B19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4F1-05B3-459C-BAA0-839F25C4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09B-8316-4727-AB90-0DBCBF7B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205-0908-4C7E-95D8-E5849053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C33-E7A9-4C24-8FF7-A50FFEC4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8A5-EE90-45BE-B33D-FC77426F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B7A-29AC-407F-A5A6-F5EEC154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0EC-2700-4E7F-A91C-5ACF7089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9DF-84EA-4317-9B82-5A05BF7F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F06-B4F6-431D-A979-AC46E90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C45-6553-43AF-9745-A716ABD8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7F432-A24F-4472-B78D-643F4F2D5B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наступ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е, уд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иль ожид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жить сей год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ы здесь не о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ль в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нами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д новый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луж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д пригот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Ним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… Новый жреб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м д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й земле иль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только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4:05Z</dcterms:modified>
  <cp:revision>12</cp:revision>
  <dc:subject>Slavic hymnal Гимны веры христиан, hymn 894</dc:subject>
  <dc:title>Год новый наступает</dc:title>
</cp:coreProperties>
</file>