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3</a:t>
            </a:r>
            <a:r>
              <a:rPr b="1" lang="ru-RU" sz="3600" spc="-1" strike="noStrike">
                <a:solidFill>
                  <a:srgbClr val="ffffff"/>
                </a:solidFill>
                <a:latin typeface="Verdana"/>
              </a:rPr>
              <a:t>	</a:t>
            </a:r>
            <a:r>
              <a:rPr b="1" lang="ru-RU" sz="3600" spc="-1" strike="noStrike">
                <a:solidFill>
                  <a:srgbClr val="ffffff"/>
                </a:solidFill>
                <a:latin typeface="Verdana"/>
              </a:rPr>
              <a:t>Да будет Отцу Всеблагому</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We praise Thee, O G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e Son of Thy lov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Jesus, who died an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s now gone ab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 будет Отц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благому хвал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я любовь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мерти спасл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Ame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vive us again.</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e praise Thee, O G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y Spirit of ligh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hath shown us our Saviou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cattered our night.</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паситель! да буде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честь вове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Тебе избавл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человек.</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Ame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vive us again.</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All glory and prais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God of all grac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hast brought us, and sought u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uided our ways.</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г сил! будь прославле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 Духе Свят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едёт к небесам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мудрым путё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Ame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jah! Thine the glor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vive us again.</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2:25:44Z</dcterms:modified>
  <cp:revision>4</cp:revision>
  <dc:subject>Slavic hymnal Гимны веры христиан, hymn 93</dc:subject>
  <dc:title>Revive Us Again / Да будет Отцу Всеблагому хвала</dc:title>
</cp:coreProperties>
</file>