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73A-9C2B-413F-B4B3-AF9AC859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64B-A29F-4C80-B5E3-73AEAAF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EEC-85E7-4DFE-BA8D-EFA4D423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641-802A-4B29-8726-17CDEE3C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5FA-2083-48EE-940B-D025B7A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D9B-E481-4FA4-AAC9-03C3084A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3E4-FC49-4620-ABC1-3E974529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ABF-876B-44BC-AFFE-3F51F8C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FC9-2A91-4931-8512-A75769CF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FD4-2000-420D-8077-A7077E4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E7D-6620-4B7E-84D1-1AAB852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DE3-0334-4F0E-8BF4-78EC815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CDEB5-6081-41D0-84EC-1CBADA49F0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living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te of dungeon, fire and s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our hearts beat high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we hear that glorious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thers, chained in prisons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still in heart and conscienc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would be their children’s 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y, like them could die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we wil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friend and foe in all our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ach thee, too, as love knows h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kindly words and virtuo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4Z</dcterms:modified>
  <cp:revision>13</cp:revision>
  <dc:subject>Slavic hymnal Гимны веры христиан, hymn 616</dc:subject>
  <dc:title>Faith of Our Fathers / Живая вера не умрёт</dc:title>
</cp:coreProperties>
</file>