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507-AF09-4B52-AF94-FE562C14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C79-4D20-4815-A4EB-09D530F1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DE1-1F21-42CA-9404-2FB16117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773-BEDE-44AB-BF13-76C68B62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7C9-7ACE-452A-862D-2CE5FD60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1F4-5D5E-4D7D-ABA6-79B5DD54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721-DB47-43C2-B09D-887D0642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ACA-2DE7-4FF2-B013-103DCBD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637-C87C-415E-B7D9-1CD65452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B47-4229-46E0-8E09-D7909DB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214-D159-4AE2-BC1F-5F7A4C9F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889-BA07-4E24-B8A3-D7E868B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C7D97-8570-4A8B-801E-D647C79483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ас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рёл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скал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сту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скорбей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путь не зат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лав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чудный в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у от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с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57Z</dcterms:modified>
  <cp:revision>12</cp:revision>
  <dc:subject>Slavic hymnal Гимны веры христиан, hymn 577</dc:subject>
  <dc:title>Как чудесно вся жизнь изменилась моя</dc:title>
</cp:coreProperties>
</file>