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737-B87D-4C6E-B8F0-46F84571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CD8-5F6A-4606-BE14-764BAA0F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3B2-B89F-4A38-B2E5-10307938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FEC-A175-4C00-B51A-3A446AF3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E6B-0761-4716-83DC-50A9CE4F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F8B-AA38-4A73-8090-96511897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B3C-75CF-4B08-A1E1-27C0B140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BA0-456B-4B63-9386-2E24B07E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61E-9721-427A-A512-DF5A7A32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52E-FDA2-409E-B0D8-750E2A3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AC2-03B0-4D71-BADA-6D8653E2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669-A163-4542-B74D-961D1BE7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FBEF2-50D5-4070-8095-1CDA97DBBC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King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on the clouds with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shak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sh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His love and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hing over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98   I See the King of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a gene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ing up to take thei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elfless fai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elfless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a near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rring as we pray and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on our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on our k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y heart and make it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my eyes to the things un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me how to lov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eak my heart for what break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am, for Your Kingdom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alk from earth into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00Z</dcterms:modified>
  <cp:revision>12</cp:revision>
  <dc:subject>The Source 4, song number 1898</dc:subject>
  <dc:title>I See the King of Glory (Hosanna)</dc:title>
</cp:coreProperties>
</file>