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F90-45DE-4F6E-9413-8A7ABFB5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D14-00A4-4ED8-A6DC-89E4A63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021-A720-4CD2-A7E0-04F71744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15C-5D64-4BB7-A498-1888F4BB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058-4C41-4DF1-8E4F-CB92688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D3C-83DD-4507-9400-156071B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485-7547-40B1-A3B7-22437C9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FA0-8133-4EED-92F2-B721D8CC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A4-7830-4DA6-8BB2-0893FF7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2F0-0B7D-45B1-BDE6-176FA1E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654-FF9A-4503-AD46-8C61E02D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D61-9CA5-472B-8D0A-0EE0E00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5714-24FB-41B3-9597-E08035796C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ящий в вышне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Властел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веков, тысячел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как день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, царящий в выш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туча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блеснёт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аснет без сл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как лёгкий п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 летний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пе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ава, что лишь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вянет под жа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ушающи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бренность нашу зна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е нашей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ысяч лет счит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шь бессмерть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Царь дружине в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нь битвы дарит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улишь в любви безм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ь нам за ден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41Z</dcterms:modified>
  <cp:revision>12</cp:revision>
  <dc:subject>Slavic hymnal Гимны веры христиан, hymn 738</dc:subject>
  <dc:title>Царь, царящий в вышнем свете</dc:title>
</cp:coreProperties>
</file>