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194-FE80-45BB-8B56-C8308A1B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AF8-1C84-46B1-A326-E348C872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0E0-0C88-4777-97B2-7CAB6E53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265-A43D-4975-9EAE-0FD0AEBB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94F-2DF5-47B0-8A9C-564834D7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BB2-75C1-4DD6-A3E6-1D8AADF2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74A-26D8-4368-8829-2FEBC02E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88B-F3AA-459E-829A-BB296CD4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E998-B390-405A-8AC7-673804A9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482E-68E6-4745-AFB7-747C75EE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A9DE-8001-4B7B-B2F7-5B76EFA2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932-DE98-4B23-91B7-BC5A8631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8A258-6223-4F4C-903D-F0FE053159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you fishers of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shers of men, fishers of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you fishers of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follow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7   Я зроблю вас ловц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овцями людей, ловцям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 слі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follow Me, if you follow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you fishers of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follow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и все Моїм слі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, аліл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 слі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3:41Z</dcterms:modified>
  <cp:revision>12</cp:revision>
  <dc:subject>Slavic hymnal Гимны веры христиан, Ukrainian hymn 47</dc:subject>
  <dc:title>I Will Make You Fishers of Men / Я зроблю вас ловцями людей</dc:title>
</cp:coreProperties>
</file>