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7A2-A157-4946-A21F-84EB07C2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C13-4C46-4797-91C6-D0B8F154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8787-4124-4FA0-98E9-8F598E2D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0492-C4FC-4C7F-B80F-DD238D13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F127-48F5-4E06-88A8-6091908E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75A-23F5-476F-9929-8C5D3B6A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F179-61C9-40E0-B722-222011D9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CB0D-1C63-4184-881D-AF54E620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BAA-03A3-4163-9884-306CEDCD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AE3-4BA5-4E4F-8A53-D86D9147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F214-F402-44A3-B3D7-9DBCBAB0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12B-3848-4C71-A9BA-CBC326E6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DF497-28DF-45D4-A1E0-E8902BDD25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слушать об 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петь о 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песен по ве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то имя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слушать об Од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, что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 чудный т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ходил на землю уме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мог жизнь им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, что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в любви сберё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смерти ли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не проп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ит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яжкий крест со мной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5:40Z</dcterms:modified>
  <cp:revision>12</cp:revision>
  <dc:subject>Slavic hymnal Гимны веры христиан, hymn 605</dc:subject>
  <dc:title>Люблю я слушать об Одном</dc:title>
</cp:coreProperties>
</file>