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5E8-64C0-4CFC-B760-922E8492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B07-ABB6-4627-B779-0ADCCA26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29C-0036-45AF-AFE4-C88F93F0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6F6-99D2-4543-A64B-5D45FB05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E26-7BEC-4176-AB49-113C9F21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931-798B-4568-BEB4-C9BB1CCB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12A-2494-442A-92E4-84AB0CA0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E60-B74F-482B-B3D7-E4B15010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ABE-5F35-4E66-91BE-10C743A7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F10-A328-4F32-9B19-6E7BEDD5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05C-91C5-4EA7-8F4B-354B655C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34F-27A4-41F0-9D35-40C5CE6A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1755D-6008-4011-8C30-6EFAA0416D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Thou fount of every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ne my heart to sing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ams of mercy, never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for songs of loudest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ятой, Дух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Дух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ди в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сюда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енью дружному наст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some melodious sonn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ng by flaming tongue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mount! I’m fixed upon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nt of God’s unchang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нас петь ту песн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ют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ы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raise my Ebenez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ther by Thy help I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hope, by Thy good pl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ly to arrive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ставим Авен-Ез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оселе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веки будь к нам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 в нас Твой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ought me when a str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nd’ring from the fold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to rescue me from d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erposed His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луждали в мире э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паситель нас взы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ил небесн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е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o grace how great a deb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I’m constrained to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y grace, Lord, like a f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nd my wand’ring heart to Th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, мы всей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ём наш долг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оею добр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овала нас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ne to wander, Lord, I fee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ne to leave the God I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’s my heart, Lord, take and sea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l it for Thy court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к склонны заблужд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ь с Твоих пу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 сердце, наши чув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бя запечат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7:29Z</dcterms:modified>
  <cp:revision>14</cp:revision>
  <dc:subject>Slavic hymnal Гимны веры христиан, hymn 304</dc:subject>
  <dc:title>Come, Thou Fount of Every Blessing / Дух Святой, Дух благодати</dc:title>
</cp:coreProperties>
</file>