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F7F7-8AF9-42D3-810C-0C187F2C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6895-5280-4BAC-8EA3-ECA1A9DD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B014-1B31-4038-A503-B6645BA0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7713-BA24-4EBA-976F-6C0AB6E0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B2D0-0498-4FCA-89ED-A542DCB2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9AC8-D441-4172-8394-6F4E46CE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6C61-46FF-4859-AA68-0E8B3BA1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4407-1A03-449B-A160-06D73DEA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A067-25C3-41E6-ADA6-0115B4E9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CE11-4EC5-4AC8-B20A-148B661E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6159-6165-4941-A087-23A6FB7C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B923-6018-4F76-A9A8-F1AAB7A1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928FD-1261-4E07-8CEF-2545FB58610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, есть! Господь в чертог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ертог святой Он Сам тебя вве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зовут, ты зов не откло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там ждут, туда, туда вхо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, е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спеши во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место, ес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расен пир в чертоге золо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Господь зовёт быть гостем в 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 там и дверь не запер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ё открыл Спаситель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, е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спеши во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огих грешников принял т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ам ещё есть место для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омыты кровию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зовёт — омоет и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, е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спеши во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ди, входи! пир этот для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ша там веселием пол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частье там, вся радость, о, вхо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зовёт, ты голосу вн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, е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спеши во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илу дня не долго уж си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ная тьма готова всё объ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ночь, закроются вра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асный вопль услышишь ты тог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места, н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ворены вра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3:19Z</dcterms:modified>
  <cp:revision>12</cp:revision>
  <dc:subject>Slavic hymnal Гимны веры христиан, hymn 344</dc:subject>
  <dc:title>Есть место, есть!</dc:title>
</cp:coreProperties>
</file>