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F42-F09D-4DB5-8AC2-2467B9DA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11F-AAA2-4A1D-B480-D86A5826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DB3-38BB-4CA5-8ECF-CC1E1E81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2F0-7DBC-49E1-A46B-30DCB8B2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DCE-2C9F-4030-874F-D5008C33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60B-63E1-4A64-BF2B-44DB39CD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407-445A-4CA7-8F0A-4342B60A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6FA-3037-4E0A-9EFB-68C813B9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3E8-E143-4018-9A5C-BB55F8EF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020-FD57-47B8-AEB3-5F4490C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346-C0D3-4BA5-954E-5476199A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676-FB1F-44FA-9B9F-39BB0C6B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FFB3A-7EDE-49D0-8229-69B6534B81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ly night, the stars are brightly sh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the night of the dear Saviour’s bir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 lay the world in sin and error pi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He appeared and the soul felt its w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ятая ночь! Сверкают ярко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иши ночной нам родился Христ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сь мир тонул в грехе и беззаконь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Божий Сын нам спасенье принё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thrill of hope, the weary soul rejoic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nder breaks a new and glorious m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ll on your knees, O hear the angel vo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night divine, O night when Christ was bor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night, O holy night, O night div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дежда счастьем сердце наполн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дали горит грядущих дней з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человек, внимай певцам из р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d by the light of faith serenely bea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lowing hearts by His cradle we 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led by light of a star sweetly glea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re came the wise men from Orient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бесный свет рассеял мрак пе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огнём в душе мы у яслей ст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к мудрецы Царя царей иск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ли дары, — и склонились пред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of kings lay thus in lowly ma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all our trials born to be our Fri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knows our need—to our weak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tr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your King; before Him lowly b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your King; before Him lowly b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ь господ лежал в хлеве на сен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чувствовать Он может нам во вс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знает жизнь, Он испытал мучень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ly He taught us to love one anoth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law is love and His Gospel is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ains shall He break for the slav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n His Name all oppression shall c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с учил всё покрывать любов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ви закон и Свой мир Он нам 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долг спасать несчастных и безд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всех людей наш Господь постра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eet hymns of joy in grateful chorus raise w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all within us praise His holy N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is the Lord! O praise His nam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ow’r and glory evermore proclai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ow’r and glory evermore proclai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песни славы льются словно ре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каждый к Богу с радостью спеш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— Господь, хвала Ему во ве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3:38Z</dcterms:modified>
  <cp:revision>13</cp:revision>
  <dc:subject>Slavic hymnal Гимны веры христиан, hymn 802</dc:subject>
  <dc:title>O Holy Night / Святая ночь</dc:title>
</cp:coreProperties>
</file>