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927-7180-4CB1-ADF2-4E8A45CF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38C-F05F-4EB1-B53F-3C05D595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578-A203-48DE-B986-9BDE5261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667-9472-4BFA-B16B-8EFEF5C1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353-77C8-445C-888B-42AE7BC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537-1410-4DB8-AE40-1EBD772A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B23-F7ED-48E1-9C67-D6DCE491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1A5-1742-411F-B8BE-963FFFE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BA7-9188-4B4B-A74F-B043F78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EAE-E983-4307-B6E4-CC6E138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5CE-FA37-42D3-9A31-1D66B6F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ECC-E144-4589-B124-1C4E7216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5FC27-3310-4DA7-98D7-40C9FFC8A2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бедимое нам дано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нений его воз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удел приобрёл Себе 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победу даруе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победимое нам дано зн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йдем за стан ко Христу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ши наш крест, Его смерть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традали мы с Ним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 во славе восцарствуе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носим бесчестие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поведывать имя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мы глядим с упова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хвалой Его наш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овал нам державн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Спаситель врага побе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Он и в нас совершает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вечного Господ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39Z</dcterms:modified>
  <cp:revision>12</cp:revision>
  <dc:subject>Slavic hymnal Гимны веры христиан, hymn 496</dc:subject>
  <dc:title>Непобедимое нам дано знамя</dc:title>
</cp:coreProperties>
</file>