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A77-C054-43BF-B183-F7E3CACE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FC5-39E5-4BC0-98EC-42BFBC2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3E9-BA41-4D4F-830D-FF908075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E46-096C-4108-8A77-96355F7C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310-DDC9-4357-B180-1FC46CE4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BB3-F9CA-468D-9ED9-C900298A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439-3FF4-4902-83A8-798D6B51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E03-5156-4829-9D4F-5EB0A4FE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9C0-6A69-4E82-A487-86E4E7EB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A00-D593-4E9A-AFB6-A560E829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8D0-39C7-4B4A-9E65-8BB94DB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064-10FC-4AFA-97DD-B272CC9E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26B8C-09C2-41AE-B046-987C0F45B7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ft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Your rightful pla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8   I Will Magnify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my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crown You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deemer of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fe an off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could not hold You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I’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rej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oclaim His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ft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Your rightful pla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2:49Z</dcterms:modified>
  <cp:revision>12</cp:revision>
  <dc:subject>The Source 3, song number 1348</dc:subject>
  <dc:title>I Will Magnify You</dc:title>
</cp:coreProperties>
</file>