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E92-83F8-4BB1-B683-784B70DB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FBF-CAF2-46A8-A0E9-459F0EA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D6B-3C50-4B76-B913-8429B2C5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EAA-380D-4831-BD19-E51A2D23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5F2-F6B1-4A2F-9CBB-C5D7E1F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D8F-8AA8-428B-BF40-32EDCB7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EFD-E856-41B6-B3D9-718BF68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62C-2BE5-40B3-8762-4EA1585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F88-2FD7-478C-AD58-C25D3FD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4BC-89B4-4747-BF9D-3FD7057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252-E28C-4CFA-AD0D-7A69F7A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E28-E84E-4950-92B5-F9740631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04235-3763-4B57-BC5D-376C7C26EB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ьнут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23Z</dcterms:modified>
  <cp:revision>14</cp:revision>
  <dc:subject>Slavic hymnal Гимны веры христиан, hymn 631</dc:subject>
  <dc:title>Да, везде с Иисусом безопасен я</dc:title>
</cp:coreProperties>
</file>