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B40D-A0CB-4115-AA3B-715B254B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CF59-2EFD-467C-8A79-D3D2E726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0BFD-24EB-4209-81D5-34D644538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449D-1A33-4615-92CB-DEFD06495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46B7-B111-444B-815C-C988204A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ED3C-4CA3-4902-A643-66638381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FBDF-A997-4221-B5D9-37B73109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C23B-121A-450E-8A03-592AD138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346A-06EE-4B8F-98E1-6CA1BD1D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1645-EF57-4202-9911-BD6C82C5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C3F7-3EAC-4AE4-BB78-2BF1DF60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8790-2D46-4299-98EA-554E4362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C713C-7DB4-4157-B6ED-AD7B7C984B8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ало сердце, ноют н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мучились на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ы не знаете доро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вам надобно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упите на дорогу ве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злым не ходите на со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е всех людей без ме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раем станет этот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стало сердце, ноют ног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вам кривить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ься: «Господи, прост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сердцем, дышащим вражд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ой Каина ид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тайте с верой книгу Бож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е сил в ней почерп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покажет в бездорож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пасенью узкий, верны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8:57:00Z</dcterms:modified>
  <cp:revision>12</cp:revision>
  <dc:subject>Slavic hymnal Гимны веры христиан, hymn 395</dc:subject>
  <dc:title>Устало сердце, ноют ноги</dc:title>
</cp:coreProperties>
</file>