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9B46-6E56-4027-B08F-DCC0D665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678E-E8BD-4A9C-8F8F-5F5C1AC1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9C8A-F842-4EC0-B99C-A065F163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7BB9-C0A2-498B-A81F-3F796731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8980-85BA-4630-9943-ED2F1E91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2DE6-4304-4621-94B2-8CBA922D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093A-7D06-4362-92CD-862AA571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ED04-02E9-4FC9-AD5B-9C37B613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1FEF-DB66-4E26-AA7D-2868BB36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B8B6-AD59-4502-A280-A4F1CB96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C18B-707A-46E1-BE6A-AB9CBBF4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86BC-0E3D-4BDF-91FB-4500FD4C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640CB-816C-4EEC-81B3-B41C0E04DC2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зачем ушёл вда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! Господь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ты не слышишь з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, Спаситель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у встречу с Христом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 (вспомни встречу т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 (вспомни ту мольб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82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3а  Друг мой, зачем ушёл вдал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, заблудший, где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уждающий душ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ибнешь ты на ве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 скорей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у встречу с Христом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 (вспомни встречу т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 (вспомни ту мольб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любовь за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много, много л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дёт Господь от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дёт, тебя всё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у встречу с Христом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 (вспомни встречу т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 (вспомни ту мольб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ечно будет гол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Его звуч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может зов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еки замол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у встречу с Христом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 (вспомни встречу т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 (вспомни ту мольб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6:30Z</dcterms:modified>
  <cp:revision>14</cp:revision>
  <dc:subject>Slavic hymnal Гимны веры христиан, hymn 413а</dc:subject>
  <dc:title>Друг мой, зачем ушёл вдаль?</dc:title>
</cp:coreProperties>
</file>