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6538-3C24-4FB1-AAC3-DA23400A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ABEE-EE97-46EC-B9D9-2DC9A134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3C0D-8C6D-487F-AD4A-1D918C50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36F3-D337-4DF2-9143-37C232CB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41EC-5841-4358-A588-38DD2ADE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42A4-5629-4F9D-A814-3F35467C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D3A-932C-4624-84E1-5C2E88F5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7795-7B16-4D28-9C7C-06EA8A53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B39D-8047-41D1-B990-82374F31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FBDA-80E8-42A5-A16E-BADA606B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670A-DAA1-4561-869B-8355A776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C20E-B9C9-4C52-ABB0-F7579D29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F952B-8EC6-4201-9FBF-F8CCE1D9060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give thanks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among the peop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ing praises to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ong the 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y steadfast love is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great to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y faithfulness, Thy faithful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clou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1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Will Give Thanks to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exalted, O God, above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y glory be over all the ear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exalted, O God, above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y glory, let Thy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y glory be over all the ear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7:48Z</dcterms:modified>
  <cp:revision>11</cp:revision>
  <dc:subject>The Source 2, song number 817</dc:subject>
  <dc:title>I Will Give Thanks to Thee (Be Exalted)</dc:title>
</cp:coreProperties>
</file>