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078-D9B0-432A-B4BF-D4E1C58C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197-9018-42EA-9B8E-C533BA30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5CA-904E-48E2-8CE8-81D85537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9D1-0BE0-424D-B4C5-4E3C1737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511-8D1D-4270-B169-65176507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3D2-C352-423E-98C8-3CFF26BA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316-D4D3-4F2D-9D4B-EE68101E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66E-7543-452B-A475-CCB334CB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1C5-CECE-42CA-BA83-58695CFD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68C-4895-423C-9D19-9D5A639D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D43-25C8-481A-AC90-BF76D3D0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2A9-D26B-4877-9B1F-7FE9B407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B2320-ECE6-4548-ACD6-8506E188F6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thousand tongues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eat Redeemer’s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lories of my Go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iumphs of His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престанно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мудрость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acious Master and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sist me to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pread through all the earth ab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nours of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лишь об од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удрости учить и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The name that charms our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bids our sorrows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usic in the sinner’s 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life, and health,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жизнь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всяк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музыки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reaks the pow’r of cancelled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ts the prisone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can make the foulest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avail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усталым тиш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от о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всякую в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ая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Him, ye deaf, His praise, ye du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loosened tongues empl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blind, behold your Saviour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p, ye lame, for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хой, внимай! Немой, хва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тесь все у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пой, прозри и сла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у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3:29Z</dcterms:modified>
  <cp:revision>12</cp:revision>
  <dc:subject>Slavic hymnal Гимны веры христиан, hymn 872</dc:subject>
  <dc:title>O for a Thousand Tongues to Sing / О, если б сотни уст иметь</dc:title>
</cp:coreProperties>
</file>