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91F-9A8D-4483-90DF-F09F0D78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38C-4AD3-495B-BC7D-05C3503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8A5-C479-4955-9274-A6AB222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1B8-3CF1-4EE5-9BD7-B20D51E2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87E-152B-47BC-A7C4-37A5A36D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8F9-146C-4BC3-A209-251D7F81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35B-0ADA-4F2B-905D-3F13B04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50F-8B93-4E0A-9A90-5431D09C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2A4-6460-41C0-AF43-71DE5DC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92F-2406-461E-9989-42A1EC4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1C1-995C-4996-BB80-E40C664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392-F403-41E7-B332-F28517B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11B0A-4FCA-4F90-A3FB-0D4B20C230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, oh,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rcy doth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, so long harde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in to repr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ist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onger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gracious entrea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d with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hild of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service c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filled with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omfort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grieve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acher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, Th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glorifie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filed is the te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beauty laid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God’s holy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mbers faint g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ve yet re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lame may be f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quench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3Z</dcterms:modified>
  <cp:revision>13</cp:revision>
  <dc:subject>Slavic hymnal Гимны веры христиан, hymn 306</dc:subject>
  <dc:title>The Holy Spirit / О грешник! чтоб в сердце</dc:title>
</cp:coreProperties>
</file>