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D2D-0023-44B3-934B-5C50EFAF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785-6298-4B72-ACDD-0B50D71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18F-632A-417D-B62A-03CAD194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D8B-9DA1-4FED-AB33-6DD3929D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B5A-697C-4491-B11C-4D4B9769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B31-EC3B-4DE0-8DD7-8EFC2DE0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B71-D041-4E46-93EB-60FED893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2E2-FDA6-49F9-8463-66BD037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34F-A503-4679-83D4-4889660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9AE-D5A1-43FF-A1F3-1B7F138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2FC-F1A8-42DB-9D91-32871C5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14F-EF2B-4D0B-82A9-275CEC85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2976F-2B71-4553-8A92-BCA4F1069E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46Z</dcterms:modified>
  <cp:revision>12</cp:revision>
  <dc:subject>Slavic hymnal Гимны веры христиан, hymn 878</dc:subject>
  <dc:title>Бессмертный, Незримый</dc:title>
</cp:coreProperties>
</file>