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4BE-9B87-451D-BA00-7C769115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C7D-795B-406B-9F72-119F2339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37D-96CB-4C44-AC9F-80180597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2D6-4E69-4BC3-937A-1947B27D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FEE-C0E3-4FF9-8AD1-F75AD1D7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526-629C-4A11-AFED-576A742C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EE3-8945-4C5F-BA15-1BB0ED54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751-04A1-4C53-A87E-A12A2F46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EB3-B501-4CD2-A685-A31874D7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41E-F764-4805-8547-A508905D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09A-E224-4D44-A88B-B5B66502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5B2-6A60-4C4A-95DE-689F9F79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8172F-1D07-4620-8FD3-C509306021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ight broke through m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tored exceeding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fell like the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de this deser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sorrow into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95   Your Light Broke Through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and lifted me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tand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aise ros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de this valley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sorrow into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sorrow into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57Z</dcterms:modified>
  <cp:revision>11</cp:revision>
  <dc:subject>The Source 2, song number 1095</dc:subject>
  <dc:title>Your Light Broke Through My Night (This is How We Overcome)</dc:title>
</cp:coreProperties>
</file>