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B7C-C01E-4194-921B-9D9CE5D7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DAB-C441-41FF-9701-A9399848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330-1130-4B4D-986F-0C99A951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304-2B4F-4803-B414-02F72D0E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967-69DE-4FBE-ADF1-4B3112C1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516-8AC8-4420-B5A8-B26CA7AF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2C4-E25C-4759-ABAE-92B359A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A36-F8E7-47D6-89A9-821BD6DA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0F1-C930-40F8-ABFD-D1E00975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F46-B8FB-4885-8D26-C8A39E3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330-FBB3-442C-BEC7-5FFDFA3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414-D206-46B5-A074-D1D1766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0E8FC-CE30-4CC7-A00B-FA2237A5F5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13Z</dcterms:modified>
  <cp:revision>12</cp:revision>
  <dc:subject>Slavic hymnal Гимны веры христиан, hymn 740</dc:subject>
  <dc:title>Христос! Ты в Кане Галилейской</dc:title>
</cp:coreProperties>
</file>