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191-4ACE-42DF-BD35-024B9649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6F3-9573-49A9-8499-C0372C3C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BE8-ED83-43F3-B5B3-02BCDCE8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CDE-910F-4FF3-92F8-10F673F9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E84-6CD5-4CC2-AB5A-B40A7794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297-9DED-4000-8160-3157BD64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9A7-41E8-4F86-A81A-63102377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E02-9E53-4283-9CF7-591676F7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740-63CB-4BF8-B8A3-C9368DAC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2E8-38C5-4A4D-A787-B3414BC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73E-F966-43A8-8489-6D0AEDA3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37D-CE4A-4CCC-B065-57D5B67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811BF-1329-4B8B-820F-149B759411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кал так мног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жемчужину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шёл почти весь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моря и вс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е дорог жемчуг то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его — спасенье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его живых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онул в морской в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искал так много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, долго я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стречая нич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в пути я у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накомц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накомца взор си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Он в руках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редкий,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блеснул в моих гла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тел домой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ома свои пр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еть его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кротко мне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ло мир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жемчуг Свой про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Я даю ег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руку протя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 жемчуг получ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взгля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мой не дар м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Господней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ю при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усладу скорб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07Z</dcterms:modified>
  <cp:revision>12</cp:revision>
  <dc:subject>Slavic hymnal Гимны веры христиан, hymn 603</dc:subject>
  <dc:title>Я искал так много лет</dc:title>
</cp:coreProperties>
</file>