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F4B-F9A5-4FA4-9785-50B6201D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0C8-F411-40AB-996D-FFC7DBD1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812-C878-41C4-9920-672D97BF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0EB-E79F-47DA-8158-3E36ED88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19D-6CE8-4070-B2F8-0968618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752-A37B-416D-BA32-9BF423EC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63B-D04B-4B27-8B71-962533C9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599-1B98-4FB5-ACB2-B1730EE5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6A3-6D01-45B8-9709-2CA8F1BD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B9E-E02C-47D8-86D6-48F040B1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B7F-D2AB-4346-908C-ED8A2039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0AD-F939-424C-8E54-EA6FCCBF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5FE1A-62F5-4D9C-8D92-7EF20DF13B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41Z</dcterms:modified>
  <cp:revision>13</cp:revision>
  <dc:subject>Slavic hymnal Гимны веры христиан, Ukrainian hymn 21</dc:subject>
  <dc:title>Tidings of Salvation Bringing / За Євангельську ми віру</dc:title>
</cp:coreProperties>
</file>