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384F-1688-4375-B5D2-4F569FD1B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554C-CB28-4127-BC65-815739F6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DECD-8BAA-49E2-B3CD-01818A1BC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E5E8-6954-4A26-83D0-C51D63ADD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BEB8-1F50-4BA6-9C17-86954FAC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43D6-3941-497B-9C8C-9539B173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184E-5E16-47DE-BACB-796E41AB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2EDE-50B3-489C-9511-BE515352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88EA-9F76-4E04-9969-91FDE477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A744-367C-4055-91C0-CBAA1347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ACBB-8B20-449B-A6B1-92973743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BE86-44D1-45D5-9945-4DB3B765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2E2F16-2090-48D1-9199-1B8FC29793E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и там поля беле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видит им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ут колосья золо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 усердного жне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шли делателей,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озревшие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обрали всё, что мож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жатва не пр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84а   Здесь и там поля беле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шли с раннею зар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нойный полдень вышли 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шли к вечеру на ни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держать жнецов Т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шли делателей,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озревшие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обрали всё, что мож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жатва не пр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й труженик Госпо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ни ячмень, пшеницу, рож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тва кончится, на отд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ь вечную войд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шли делателей,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озревшие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обрали всё, что мож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жатва не пр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8:10Z</dcterms:modified>
  <cp:revision>12</cp:revision>
  <dc:subject>Slavic hymnal Гимны веры христиан, hymn 784 (as amended)</dc:subject>
  <dc:title>Здесь и там поля белеют</dc:title>
</cp:coreProperties>
</file>