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C4B-F6F4-4D70-88C9-E649456E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B33-8525-4582-9FD0-BB495291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4FF-D06B-40FD-820E-A4142659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ACC-021B-479A-AB5D-568C34FF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464-D036-49FB-9226-5B1892FE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3FC-AE47-4D7C-9C5F-FAAA5411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53D-2CA1-42F6-B225-7D1DB41D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15F-EF44-47C8-ADD0-BD53F5E8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714-259C-41EF-9F7F-E81D5F26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5B5-D0AF-4666-8145-3C586D9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BBB-6D7C-45E4-B230-B88CA5A0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60B-F89F-4512-B2FB-CB7B707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570BA-D7E7-4A8F-A4C2-6014E0DC66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род убежища, там за ст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ает беглец молод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он усталый по степи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т он клики врагов за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род убежи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а земле нет, беглец,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ста покоя, ни крова жил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ч, отточенный враждеб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сюду висит над твое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род убежища, тихи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кони мир и соглась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здан для счастья, свободы,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ститель и враг не проникн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54Z</dcterms:modified>
  <cp:revision>13</cp:revision>
  <dc:subject>Slavic hymnal Гимны веры христиан, hymn 331</dc:subject>
  <dc:title>Вот город убежища</dc:title>
</cp:coreProperties>
</file>