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B84-8BB5-4BB3-B91E-8A70DA2D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4BD-5B80-4FB3-A800-B1046A9C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D583-BA0E-4650-9D67-17B994DE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14A-9656-4C10-B16A-4930A4A9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C24-2E73-47B9-89A1-41275B5C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46B-2515-47DB-8E73-0F0E40C6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D4D-BAB4-46B9-8ACE-97B8EB9A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053-429B-409E-983F-2F9C9BCA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B61-BA25-4CF5-B11A-4D6093D3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50A-A0FE-4C8E-9FD1-F5C798FF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138-EA31-4FD8-83A8-0E9831EA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D3D-B103-47B9-938C-162475AF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01F45-A21E-44E9-8516-CFC7E4C8D4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side of the river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saints, all immortal and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robed in their garments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6   Насліддя моє в небеса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гне й рветься туди все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енні, в небесни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ють свойого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is now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kindred and friends are at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way from my sorrow and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fly to the land of the b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ене жде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ме у оселю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дих мирний на травних луг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Його світлім, блаженні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oon be at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end of my journey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dear to my heart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atching and waiting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коро у небо пі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кінчу шлях тернистий, зем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сіх вірних слуг Божих зна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усі Божім пречистих, свя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51:51Z</dcterms:modified>
  <cp:revision>12</cp:revision>
  <dc:subject>Slavic hymnal Гимны веры христиан, Ukrainian hymn 26</dc:subject>
  <dc:title>The Home Over There / Насліддя моє в небесах!</dc:title>
</cp:coreProperties>
</file>