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225-F0E9-4515-BB1A-20177866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549-6841-4A3A-86BA-877CE76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82D-838C-47F7-BDA5-A567F1AC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C13-11EE-4C4E-925F-13CAD627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378-BE2D-4EFF-8534-26D054E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63A-882D-4203-9BAF-9E885A5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474-5656-4C8B-96BF-9E99677A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C12-1D06-4ED2-ADD2-D0F2628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6DF-EDDC-43E9-9BFC-5C851D2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1F3-A764-4382-99F3-966189E4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038-1A77-4618-89EE-A16B1AF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3B3-C7C5-43D5-B8FE-F06DB53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A3014-6DAE-4D9F-A3B2-A9DAB0D26A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36Z</dcterms:modified>
  <cp:revision>13</cp:revision>
  <dc:subject>Slavic hymnal Гимны веры христиан, Ukrainian hymn 37</dc:subject>
  <dc:title>Since Jesus Came Into My Heart / Як чудесно змінилося моє життя</dc:title>
</cp:coreProperties>
</file>