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030-2AAD-40E8-BAFE-1EE44206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521-77E2-4074-91CF-B70A303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A12-B6D4-49CC-97DD-9CFEF8A2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42D-7CAA-4487-B1CD-15B5182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4E8-2107-4170-834D-486EE58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901-10C2-4A94-B409-CC81AFD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6B4-778C-43ED-BE8F-D07A5763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DF3-F709-4270-B78A-B1505BC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A5-A0E7-4EF5-803A-FB84BED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A06-FF29-4E92-9BCE-714EC72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C80-BFC2-4187-9ACF-B2548D0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B07-AF4A-47B3-BCE2-9F2B7DD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381A2-BA1B-49EA-883A-C7E7CBF7EF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чудной вести твёрдо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радал, умер за меня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умер я ныне для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нак того по вере я крещ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й чудной вести твёрдо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лилась святая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грех мой омыт и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совершила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чадом наре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, в которой погруж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гилой для ветхой жизн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новь мне воскреснуть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од Святого Духа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Христу хочу я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по Его стопам х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Иисус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ля того хочу отны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0:17Z</dcterms:modified>
  <cp:revision>12</cp:revision>
  <dc:subject>Slavic hymnal Гимны веры христиан, hymn 723</dc:subject>
  <dc:title>Той чудной вести твёрдо верю я</dc:title>
</cp:coreProperties>
</file>