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A6D-92AB-4704-81D8-ABE9B498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D37C-0408-4CCE-85B1-323F10C9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1162-5B1C-42C3-8D32-261704DD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D259-4714-452F-BEDB-887F6A86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C6FE-6A73-4C60-A2B9-23D279CB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7EE8-11B1-4896-A8DA-EA598BC6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BF08-FFEA-46AA-AB56-6E5B77DE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037E-9810-49E5-92C4-DDC0C32B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AED5-1241-4E88-803B-CBB0DA98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0452-A490-493C-B46E-6CE7A793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FCDE-4E35-4B45-8AF4-3CC0BE64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9FE5-1E32-492F-9C55-0B21ED0D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CD240-35EF-4792-AD08-AE613BC7AA3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Иисуса, с Ним ум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ую долю можно ль ж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 смиряться, стоит боро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 за это мир весь отдать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Иисуса, краток хоть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далёко смертная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я, не уста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 трудиться пусть нам не лень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ть для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Иисуса, грех побед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 поношенья бодро снос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чив путь жизни, чтобы в отчиз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ой бессмертья венчанным б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2:20Z</dcterms:modified>
  <cp:revision>13</cp:revision>
  <dc:subject>Slavic hymnal Гимны веры христиан, hymn 468</dc:subject>
  <dc:title>Жить для Иисуса, с Ним умирать</dc:title>
</cp:coreProperties>
</file>