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328-A1A5-432F-BDDC-FFC3D5DC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857-7726-4A8A-B654-733340AF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480-2BD6-48B4-B850-D0CD5813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65A-10E6-409C-9108-44CC561F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B5A-4FFB-4D4C-BAC1-226E55E5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BC7-46BB-4F00-8B65-09883771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022-6A3B-4662-8AAA-73D4EC77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F54-DB98-4A12-92D4-2691A97C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C59-3F13-47F7-A792-2828D2B8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2DC-DAB2-43F7-8A17-A7FD407C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DA0-3C0D-406A-A4FA-A5FBC958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16F-FC0C-4723-B590-4C97A23B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84513-14D2-4088-A205-B6C1F56037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world full of sorrow and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deception and falsehood ab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ntinue to follow my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footsteps of Christians who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ыней греховной, зе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ыней греховной,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правды гнетущий обм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отчизне иду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ровавым следам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ist of the evening grows 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I travel this vale full of t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my trust in the Lord wavers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I’ll rest from all f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еет вечерняя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тяжкий и скорбный мо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гаснет надежда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отчизне моей отдо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courage, my friend, do not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Christ, He’ll protect from all f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journey on earth we’ll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rever forget all our w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же смелей за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ясь людского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ияют Сиона в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рукою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рёт пот и слёзы с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встретим родных и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лаженство и жизнь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27Z</dcterms:modified>
  <cp:revision>13</cp:revision>
  <dc:subject>Slavic hymnal Гимны веры христиан, hymn 675</dc:subject>
  <dc:title>In a World Full of Sorrow and Sin / Пустыней греховной, земной</dc:title>
</cp:coreProperties>
</file>