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663-D88F-45EF-A8FA-BB1A991E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8FE-193D-4C9C-ABDF-B6398E21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DBB-CF20-4168-A893-85F094AC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332-2FEB-4DA5-B38F-D2DEF5A7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047-727E-445D-9A0C-E6A34A83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9BC-B3B8-498F-9C69-E382B126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94D-0FBA-490D-A064-854ABC5A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C6C-8629-4057-8A2F-850FC140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876-1655-4362-901F-A54F91C9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2A3-9559-4921-B6D6-660A91B9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B04-85A5-4B39-8880-040D9DF7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B52-E10D-4DE9-8C46-485CAD06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77C2B-CDDF-4629-A823-7CB5C63A00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е и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1:29Z</dcterms:modified>
  <cp:revision>12</cp:revision>
  <dc:subject>Slavic hymnal Гимны веры христиан, hymn 818</dc:subject>
  <dc:title>Хвала Даятелю всех благ</dc:title>
</cp:coreProperties>
</file>