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92C-122B-4C09-A379-EDAFDD77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70F-E0C8-4739-9947-0CA5FB04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A45-4D80-491E-8267-8D90063A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8ED-4185-4BCE-A12C-F9F22B64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07E-01A8-45CA-B4E5-37D6F4B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BBC-8900-4930-9124-B44A4AED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C0D-0A1F-48C3-ADB3-24DAD2A6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0BA-B0AA-41A4-87A7-77E316B5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D90-5BE9-4238-95A5-17530446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3D7-2290-4DC3-B869-8CE09DB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10D-82EA-4EBC-A960-1F696816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D07-5940-44A0-93FD-CAECCED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E40AB-0C79-4315-8695-87B44A79CF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а та — Христос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бурю, в грозу, сред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мы в ней об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уповаем на ск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упованье на пе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и все неве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ища, слава и поч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этом их наде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и стройте на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ите все прочь сомн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ждущий правды пуст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се найдут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11Z</dcterms:modified>
  <cp:revision>12</cp:revision>
  <dc:subject>Slavic hymnal Гимны веры христиан, hymn 632</dc:subject>
  <dc:title>Мы все уповаем на скалу</dc:title>
</cp:coreProperties>
</file>