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965-9298-4B95-8FDA-34051F3A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292-3D73-43B9-B0C3-841BDC0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590-91BC-4899-B893-5588475A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FCC-630A-466E-86E0-56C32752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43F-241D-43C3-B256-6FD5EEA0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212-11D8-40EE-84ED-CC160345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DE3-F0A0-4722-83BF-39977729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47C-FAC8-4A1C-8E74-5022FA3B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11A-24A3-4FCE-A528-E59A041E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6D9-B241-419F-B6D1-9AC83CC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7CD-5B46-446B-868A-3BB3A741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742-58F3-40EB-9535-D24E5817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B9B44-4AAB-4063-B80B-FC2490546D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   Как олень ищет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лень ищет путь к ручью жив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ою том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уша моя жаждет встречи с Бо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Друг, Ты мне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лег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лител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блю Тебя больш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всей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нужен больше, чем богат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ща и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Тебе нахожу я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ь, мой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2-02-29T06:58:51Z</dcterms:modified>
  <cp:revision>13</cp:revision>
  <dc:subject>The Source, song number 27 in Russian</dc:subject>
  <dc:title>Как олень ищет путь / As the Deer Pants</dc:title>
</cp:coreProperties>
</file>