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AB2-5F35-468E-8B07-0249A233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92F-31B1-452E-858F-1E9C6127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604-7949-451C-A56E-482B6A17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CA1-980B-4D65-BA1D-B41535AF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EC0-BA0E-4FAB-B07B-C198327A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285-79EB-4314-A8A8-FF99D2E8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C86-EC8E-493F-93E8-1A71E4DA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A31-C7A9-4DD8-80C0-8D3EA66C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E68-A70B-4D66-87FF-318CF857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838-BCDF-4190-ABCF-47EAA058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A7E-F826-445C-9CF0-399A871F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919-E895-4EBF-A0E3-7FFB2074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E4448-CC41-4528-B505-977E4EFFAE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о любв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арах людским сы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отчизне светлой,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ил место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йте о любви Хри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ветров, бурь, дож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ей мир остав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и вздохов, н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и усерд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вёрды, как гран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г один Его я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руды воз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к цели! Прочь заб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введёт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жемчужны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улиц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2:10Z</dcterms:modified>
  <cp:revision>12</cp:revision>
  <dc:subject>Slavic hymnal Гимны веры христиан, hymn 889</dc:subject>
  <dc:title>Пойте о любви Христовой</dc:title>
</cp:coreProperties>
</file>