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C92-76C1-4127-A30A-C166CA7B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377-8FFF-4745-AD5D-6EF0FECC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E04-C1DE-4585-845E-3645020F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202-E6B9-4985-B078-7911A58E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6CE-0B81-4599-A1B2-1FD07F00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A43-E1C9-47FA-84DC-80FF7870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A7B-8391-4761-9682-2000EB25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928-4B3A-447A-BC46-A1416B9F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2DC-87C8-41D1-B328-E87F10CD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C70-AD28-4FD6-9340-B5B8B07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F80-2973-415D-94C3-35F0B4F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82F-D6D3-4DA1-953C-6BDCBFD3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D5C7F-D362-4005-9DFD-B4B64C4C92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 берега зе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бурною ре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 берег жизни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у берега зе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еске солнца виден пы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ятой Иерусал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радости там слыш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язык неизъяс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уж многи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шли к тем бере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ядут часы благ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мы все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мрак смерти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а далью непо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вечного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ства свет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5:03Z</dcterms:modified>
  <cp:revision>12</cp:revision>
  <dc:subject>Slavic hymnal Гимны веры христиан, hymn 685</dc:subject>
  <dc:title>Мы у берега земного</dc:title>
</cp:coreProperties>
</file>