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CAA-D5A4-468A-B7DF-6BB59CF3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090-4674-44B7-9C85-AFB562B2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C55-31F8-4BAF-BF5E-4F1F6594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B659-9A1D-4C2A-9DB7-D6B953C0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34D-4719-4C81-8305-70C20540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830-43F7-4F90-8D6E-0F897299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C1C-5514-45B2-8E49-00EBE824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6C7-D11C-4E12-A040-FEE793FD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961-C34C-4D51-979C-7C7FD9CE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EC6-5391-4452-AE3E-7B5D0CA6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74AA-14ED-4EDA-BA35-27E068A9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516-ED72-4744-9480-50653859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7D2D8-511D-4A24-BE89-4CA6228D02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к Спасителю в юные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йте в Нём верного дру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суетою вас мир не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сердце Господь не поруг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овёт вас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хочет в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ите, Ему по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ас зов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 к Спасител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ите на крест, на мучень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ного за вас претерпе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 поспешите отдать Ему всё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ваш, и душу, и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овёт вас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хочет в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ите, Ему по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ас зов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х и малых не мало уш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этого мира нежда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нает, когда попадём в их чис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ьтесь к тому постоя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овёт вас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хочет в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ите, Ему по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ас зов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к Иисусу, пока ещё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йте в Нём верного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не покрыла вас смертная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ойтесь в Христовых заслуг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овёт вас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хочет в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ите, Ему по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ас зов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3:58Z</dcterms:modified>
  <cp:revision>12</cp:revision>
  <dc:subject>Slavic hymnal Гимны веры христиан, hymn 379</dc:subject>
  <dc:title>Придите к Спасителю в юные дни</dc:title>
</cp:coreProperties>
</file>