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77F-434B-4AA1-B659-F18D6727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476-8797-4418-ADFD-93C7B04B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D06-DF15-48F8-9BA3-AFAF3137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61E-B82C-4D80-B8DF-709CFB57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EBB-B438-418E-A289-72DA96E4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89D-80A9-4791-8239-7ADA6FBD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34F-6B48-4C67-B810-46A2B290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523-FE09-4B77-BD48-9C2DFF05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C18-262F-4D32-ABBD-61087BD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657-5A7A-4129-AB17-F698FAC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FD8-B646-4010-8BF2-BDEE3FA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F3C-6BA1-43AE-BAB2-466E6ADC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AD166-2133-4955-8589-5055329431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с Иисус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свет Его о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чему душой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роже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лицом к лицу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дим мы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возь тусклое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великий день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есть узр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тайное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беды уст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правит всё крив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верных 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—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 чуд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дёт нас к соверш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дал нам благо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9:48Z</dcterms:modified>
  <cp:revision>12</cp:revision>
  <dc:subject>Slavic hymnal Гимны веры христиан, hymn 861</dc:subject>
  <dc:title>Быть лицом к лицу с Иисусом</dc:title>
</cp:coreProperties>
</file>