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9330-9DF1-4D39-AA8F-2C7731A0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0AE9-ACFA-4E46-94D0-9362CF8A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F669-09EF-4E50-867D-C4214CC5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8B40-C634-469F-93AE-A6720CB5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DE35-715A-4ADF-AF97-04EB1F32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50A3-1234-4EC3-87C7-C3B75F5B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A5C8-5A2B-4C47-9F8E-C816477B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56BA-68C9-4B9C-BDD2-35C36466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B58C-D168-42AE-9860-E54B20BA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2AF6-94A9-46BD-83C9-06A8E2D2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F428-B628-4FF1-82FB-8B4A1286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33EB-1480-44EC-9BFB-8451C511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B47DE-4D6B-4A8A-9494-ABFC31AE8B1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у источника с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светлых, чистых 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вскоре встретим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всех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ы будем об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у источника спасе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путь земной тернистый, скорб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меним на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х брегах реки небе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ки воды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ы будем об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древо жизни над ре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ветлым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, кто устал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 к тем вод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ы будем об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7:42Z</dcterms:modified>
  <cp:revision>12</cp:revision>
  <dc:subject>Slavic hymnal Гимны веры христиан, hymn 652</dc:subject>
  <dc:title>Мы у источника спасенья</dc:title>
</cp:coreProperties>
</file>