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A41-0424-4113-911C-B81689BE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981-ECDB-4EFF-911C-163F3FF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DC5-0B9C-42CD-A505-6C0EBD7C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F3B-3BA9-4554-9E17-EC36F850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F2C-9B1A-40D5-B316-60793C0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272-0A2A-423C-BF1D-F64E6C9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756-33C8-456A-9060-694A647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F44-BF4C-4A57-A3E5-9213E257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B99-4C30-4A01-BEF4-7AFCE92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710-4CD7-47BF-936C-8DDCFBA8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666-391F-437A-8C79-FAAE387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08F-E798-4410-98C0-B8E45F5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D880-3932-4393-801D-E5C838A505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Иисус моим сердцем влад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мыслях и в чувствах пусть Он л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й любви здесь никто не им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лишь покой моё сердце на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Иисус моим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лько Христос даровал мне свобо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щной рукою оковы разб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любви Он хранит меня всю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а елей в Мою душу из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в бореньи душой ослаб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лишь Один слабый дух укрепи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я поток очищенья им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у и радость душе Он да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нчится битва, в селенья св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Он с любовью меня приведё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не нарушат страданья земны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Отчих объятьях мой дух отдохн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50Z</dcterms:modified>
  <cp:revision>13</cp:revision>
  <dc:subject>Slavic hymnal Гимны веры христиан, hymn 476</dc:subject>
  <dc:title>Пусть Иисус моим сердцем владеет</dc:title>
</cp:coreProperties>
</file>