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67A-0F18-49DB-93E4-715C943E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D44-1497-476E-A4DB-003ECD88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8FA-D1E0-4D11-B677-C6BC4AF6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F26-AB3C-4429-80FF-CD64ED70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290-66C0-43E9-AD0F-2B5ADFA2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262-1FC2-43DC-AF15-6A503C91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575-3B6D-46D3-A821-080132CD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049-60E7-488F-82C4-B6AFEEB0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B0C-C369-427F-A317-19F8A88E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039-6043-42B4-B777-F5D970B4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185-AE59-4779-BC13-0BF5B92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B9E-F8B4-40AB-BC3F-D4B5A71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53671-F89D-4C67-B401-35443C103C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робуждения, нет пока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е души блуждают в поть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рассвета везде увя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спокойствия — ужас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о Господи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заменивш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ленные ценности стали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х сокровищ и славы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т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ам придёт, если мы неради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полюбит, коль души тем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орили нечестием ни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е дочери, дети,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, Всевышний, на нас Ты в оби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лужили возмездий Тво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лишь чистые сердцем ув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удрыми девами будет ж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аша с каждым мгн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ч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жидает нас всех впере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сцели наши уши и 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окаянья в сердцах проб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каявшись, мы покая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другие сумеем заж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лься над нашим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стоя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страни Твой карающий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59Z</dcterms:modified>
  <cp:revision>12</cp:revision>
  <dc:subject>Slavic hymnal Гимны веры христиан, hymn 780</dc:subject>
  <dc:title>Нет пробуждения, нет покаянья</dc:title>
</cp:coreProperties>
</file>