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8D2F-A59F-4227-A61F-96A12005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21EE-C221-4B17-A93C-BD4FA179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19F8-2425-46BE-9B69-553E9F8C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C42E-F6F4-46EA-BD03-D718E60B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274-11BC-40D2-A8F7-8CD433E9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BCE4-F4ED-4EB2-AFFE-B2A5CF9A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D3AF-5B28-4663-8B16-1C3266CB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256-AE09-44FC-9D0F-6D002810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D7A-4766-496A-8B12-491ABDC7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927A-7B0E-44C4-8CA0-147B3D3B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320D-F5D7-455E-B2D2-E31B966D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32E9-C263-4BAB-B2AD-F972E28E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55F58-74B7-4856-A5A8-9A7302A6881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рубите вы тру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ре Моей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йте, бейте вы трев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у всей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близок день Госп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рак погибнет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в небе загор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будится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трубите вы тру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 сильный и свобо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рождённый в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имя — Христиан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 знамен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 мудрости при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новите разум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путям правды хо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 с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станет от вост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ж желанный, Сам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а Ним пойдут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, Боже, Тво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0:05Z</dcterms:modified>
  <cp:revision>12</cp:revision>
  <dc:subject>Slavic hymnal Гимны веры христиан, hymn 536</dc:subject>
  <dc:title>О, трубите вы трубою</dc:title>
</cp:coreProperties>
</file>