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A94-92BA-47FE-947C-0F8D8801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4AC-2223-4018-8951-F44AEAA4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01D-5CB4-4DD1-BEBD-B3209834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C73-FAED-4816-BE8E-FF2CC462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C97-A588-4F30-8B3F-30D5A24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60A-CBFD-42F2-A4BC-F2EBD40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161-BAAE-4596-BABE-4FBCFA13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539-96C2-4B24-AB6E-E7250A91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5EF-A188-41EE-844F-4349558F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530-ED47-47B6-9BDC-8BCBAE6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414-AF12-44C5-AF58-A232AAD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1E6-CC69-46E9-AAEA-95EC9D9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2BF45-E36D-40BD-8131-148970F718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recious than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costly than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beautiful than diamo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I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You Are More 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14Z</dcterms:modified>
  <cp:revision>10</cp:revision>
  <dc:subject>The Source, song number 339</dc:subject>
  <dc:title>Lord, You Are More Precious</dc:title>
</cp:coreProperties>
</file>