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6EFE-40C9-4614-940A-FDE95967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D8F3-FADE-471A-952C-3D661D91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9B48-1004-4A50-A569-94E2530B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DE2-E515-4E77-9D8B-FA2D86FF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3D64-5E8D-49DF-B9D0-3B2783A3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BAB4-9899-438D-9785-B6DA6242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8BC4-9CAC-43EA-9F55-78CCFE1C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9C3-1713-433F-B844-48ABEA27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96EE-FA29-48D7-996E-20F1E62A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200-86CA-4765-A269-BD93EBED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D45D-F99C-4803-9C70-7757949D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D39F-D5D1-4505-9292-A5F70038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5E156-7817-487A-BAE7-F129A0A4B68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пришла с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щь Всевышнего хва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небо и зем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 Господь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 наш славный Царь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, скажи, где твоё жа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Он, чтоб жизнь н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д не страшен нам ни ма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ый подвиг соверш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врагов унизил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, Владыке не меш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крыл всем людям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а крыльях мы ле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свыше, вслед за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еть с Ним, с Ним о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терпеть, с Ним вечно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8:08Z</dcterms:modified>
  <cp:revision>12</cp:revision>
  <dc:subject>Slavic hymnal Гимны веры христиан, hymn 291</dc:subject>
  <dc:title>Наш Господь Христос воскрес</dc:title>
</cp:coreProperties>
</file>