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EEC0-5AB7-4FB7-9424-AF2525EF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0764-87FF-40F3-8340-DA76BCE9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4C5F-5D29-4A11-B5D1-9047E449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9F0F-850C-4A34-9A2B-5C829B48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2306-A2FD-4B87-B1B9-3A079D5E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F7C-C768-44C3-88A0-BE871830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C790-C68B-4EBF-97F8-25AE2CCE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C8E-AC27-4249-92CD-1F40C245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8091-A1A1-448C-B1BA-6E5A097D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BCF7-FA62-4C4A-8B72-A994A999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2704-60F6-4F97-B837-0A999F74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361-CAD7-493B-8EB8-21A61B4D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351AF-C380-48AE-85EC-DE51B4CF8A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м тл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я от а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а мне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е мог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, на Голгоф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 проли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дала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жертва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олотом тлен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м тл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олг был уплачен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 этот дол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объятна вина!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, на Голгоф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 проли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ыкуп от сме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асной д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 д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частье, надежд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ынье и с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удел мой земн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, на Голгоф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 проли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стал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ила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 тл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пи разбило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ятся на э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е богач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 непоро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мне откр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чертогу д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нья клю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9:58Z</dcterms:modified>
  <cp:revision>12</cp:revision>
  <dc:subject>Slavic hymnal Гимны веры христиан, hymn 421</dc:subject>
  <dc:title>Не золотом тленным</dc:title>
</cp:coreProperties>
</file>