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852-7998-4414-BFE0-98BC5DE9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3AD-7B27-4AB5-AEA5-E98FF2A6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2EE-DD84-40F5-A55E-B80A70CF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D72-B7D5-4091-9651-C62C8865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366-1088-4FBA-A032-652706FB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4FF-C665-4CAB-9A61-D34C94C8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155-934A-4524-AAE6-A29EDAB1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103-0D5B-41F8-9572-38326929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600-6564-4FDC-A80B-5A16916E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E1C-F257-43D7-8F54-C8A2BA28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E55-3D0A-49EA-943A-F44078F0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244-BC44-4A74-A87A-CEA51739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BE33B-112A-4E2F-9CD0-9C35260842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м,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возврат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наки твер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концу мир стрем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коре прид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й день загор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наем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мо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в обл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слав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дям дал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знали спас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в сердце суд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Свои откро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мир от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исуса я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мо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в обл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слав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сь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юдай Божье сло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будь гот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а за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рожат все осн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мо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в обл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слав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8:30Z</dcterms:modified>
  <cp:revision>12</cp:revision>
  <dc:subject>Slavic hymnal Гимны веры христиан, hymn 320</dc:subject>
  <dc:title>Не знаем, когда</dc:title>
</cp:coreProperties>
</file>