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9FEB-ADEE-42FC-9EFB-1E2F64A1D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52C2-5995-47FA-B293-69F8AC76E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14F9-DD92-4449-92CD-74E2E4D18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26F6-FC3D-4D88-9CC6-05F0D3D83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CA6E-C048-48B1-819A-A7891F86F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D21B-6F3B-4370-8B40-4251C93AE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D707-E390-427F-83B6-40E0209E4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3068-A1E4-4E4B-9152-E3F83B0EE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51A5-9C37-47E2-95DE-D48FF6500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3A2B-D690-4C4D-86D7-AD9DA8B6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5F18-44ED-46A5-9170-7B897AC8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ACF1-60F6-4B0A-85AC-F80C8FE7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F61D25-D9E3-4563-B8DC-2CE80152DAC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где же жнецы, чтоб теперь собр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полей, злом богатых, — добра сноп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пами любви надо труд сверш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тени ночной класть нельзя сер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же жнецы, где? Кто, кто гот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хочет на праздник житницы прий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хочет с нами в неё н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лосья мира с полей грех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3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, где же жнец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щите колосья среди трав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шеницу средь плевел найдёте в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росьте колосьев, что у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те их в житницу при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же жнецы, где? Кто, кто гот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хочет на праздник житницы прий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хочет с нами в неё н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лосья мира с полей грех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колос созрел и к земле пони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жатвы великой мир скоро жд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ботников мало, а труд вели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длить же нельзя, ведь всё пропа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же жнецы, где? Кто, кто гот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хочет на праздник житницы прий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хочет с нами в неё н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лосья мира с полей грех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рите же, люди, свои сер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ите с обильным зерном сноп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дитесь до встречи Царя-Гла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житницу Божью войдёте 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же жнецы, где? Кто, кто гот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хочет на праздник житницы прий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хочет с нами в неё н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лосья мира с полей грех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00:50Z</dcterms:modified>
  <cp:revision>12</cp:revision>
  <dc:subject>Slavic hymnal Гимны веры христиан, hymn 534</dc:subject>
  <dc:title>О, где же жнецы?</dc:title>
</cp:coreProperties>
</file>