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341-C317-450C-9425-113CDAFE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7A7-0653-42CC-81F8-69FCB36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07A-320B-4E1D-989F-5B94F3B8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2D5-DE11-425A-81FB-94E2EC7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42F-6E60-4D18-BEFE-F9864BE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D69-16EB-4D73-8473-82440FC3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9B8-6236-4097-B37B-54FDAB6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7C7-E215-4140-9F11-044A930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333-3631-44BA-BD96-11D556FA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6EE-A119-4119-AC74-A1AE7A2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340-4A5D-44DF-B7CF-F3E5286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574-062D-475D-956E-4C07B0D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39F1-1B18-41FA-BD03-C674BF287D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ревней, за холм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дух мой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литву пред Твор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солнце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по милост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дитяти устро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ед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планет, небес Влады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мал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в прелести вел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 бежит, св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Отцом откры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Твой вечный стал мне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ю к нам явилс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л в Едемский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Твоего дых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чувствую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моё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всё влечёш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, при всём ста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сполнил я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читал в Твоём Пис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лов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рас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ти, Творец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 моё жел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л сильнее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дить Тебе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 жизн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 так я поступ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я того же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дух мой равн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и любовь —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ердцем мал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а моя мол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ки зам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желанье всё силь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ангел, я жела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от земных стр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меня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падаю в с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ех, кто в тайной м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ет твой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т, кто горд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сомненьи, как в о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их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м счастье, как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53Z</dcterms:modified>
  <cp:revision>13</cp:revision>
  <dc:subject>Slavic hymnal Гимны веры христиан, hymn 766</dc:subject>
  <dc:title>Если солнце угасает</dc:title>
</cp:coreProperties>
</file>