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здай во мне сердц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4068720"/>
            <a:ext cx="9180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й во мне сердце чистое, о Господ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правый во мне обнов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й во мне сердце чистое, о Господ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правый во мне обнов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me not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y presence, O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ake not Thy Holy Spirit from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ore unto me the joy of Thy sal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гони меня от лица Твоег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ятого не от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озврати мне Твоего спасень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правым утверд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7:26Z</dcterms:created>
  <dc:creator>John Zaitseff</dc:creator>
  <dc:description>Graham Kendrick (compiler), The Source 2, Kevin Mayhew: Buxhall, Suffolk, England, 2001.  ISBN 9781840037241.</dc:description>
  <dc:language>en-US</dc:language>
  <cp:lastModifiedBy>John Zaitseff</cp:lastModifiedBy>
  <dcterms:modified xsi:type="dcterms:W3CDTF">2024-11-15T02:58:14Z</dcterms:modified>
  <cp:revision>4</cp:revision>
  <dc:subject>The Source 2, song number 669 in Russian</dc:subject>
  <dc:title>Создай во мне сердце чистое / Create In Me a Clean Heart</dc:title>
</cp:coreProperties>
</file>