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a:t>
            </a:r>
            <a:r>
              <a:rPr b="1" lang="ru-RU" sz="3600" spc="-1" strike="noStrike">
                <a:solidFill>
                  <a:srgbClr val="ffffff"/>
                </a:solidFill>
                <a:latin typeface="Verdana"/>
              </a:rPr>
              <a:t>	</a:t>
            </a:r>
            <a:r>
              <a:rPr b="1" lang="ru-RU" sz="3600" spc="-1" strike="noStrike">
                <a:solidFill>
                  <a:srgbClr val="ffffff"/>
                </a:solidFill>
                <a:latin typeface="Verdana"/>
              </a:rPr>
              <a:t>Бесподобная, живая</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Love divine, all loves exce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oy of heav’n, to earth come dow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x in us Thy humble dwe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Thy faithful mercies crown.</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есподобная, жива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ья вечная любов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зойди и пребывай в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главнейший из даров.</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Thou art all compassio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ure, unbounded love Thou ar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Visit us with Thy salvatio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nter ev’ry trembling heart.</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ристос, любви источни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нови нас, утверд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мир и непорочнос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е каждое войд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Breathe, O breathe, Thy loving Spiri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to ev’ry troubled breas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all in Thee inheri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find Thy promised rest.</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ух любви излей обильн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ши робкие серд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яй Твоею сил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вай любовь Отц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ake away our bent to sinn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pha and Omega b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nd of faith, as its Beginn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t our hearts at liberty.</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нам Альфой и Омег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кий грех искорен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делай нас белее снег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ёрдой вере сохран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Come, Almighty to delive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all Thy life receiv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uddenly return, and neve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vermore Thy temples leav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приди, наш Избавител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чной жизни полно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твори Свою обител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любви свят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e we would be always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rve Thee as Thy hosts abov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y and praise Thee without cea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in Thy perfect lov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ем всюду быть с Тобо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и там вовек веко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ть, молиться, славослови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ещать Твою любов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Finish, then, Thy new creatio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ure and spotless let us b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see Thy great salvatio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erfectly restored in The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Заверши Своё творенье,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рочность, чистот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спошли нам в знак спас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еди на высоту.</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hanged from glory into glor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l in heav’n we take our plac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we cast our crowns before The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st in wonder, love and prais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равляй от славы к слав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веди в небесный д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любовь Твою прослав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дкозвучнейшим псалмом.</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5T00:30:38Z</dcterms:modified>
  <cp:revision>4</cp:revision>
  <dc:subject>Slavic hymnal Гимны веры христиан, hymn 25</dc:subject>
  <dc:title>Love Divine, All Loves Excelling / Бесподобная, живая</dc:title>
</cp:coreProperties>
</file>