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22E-7CC4-4AF2-B48A-6E4B0D2B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808-772E-426A-947E-F370FB35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8FD7-6457-44D3-9373-AEB95F50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80F-45D5-47E1-BC5F-2B486316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AB5-F989-4141-8348-19996F3C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C3D-50A9-4225-A46A-00BDA1D9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793-B7F5-4A72-9FA9-8311399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D17-5D4C-45BC-9EB6-173EF3A3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CDF-A6A4-4DB6-AE22-904A2C75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43F-B9FB-4F84-A104-32500EA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0F5-5896-439D-B1B1-F539E337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63E-8336-4AFE-B8B2-EFE34F1C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5913B-340D-409A-A7CC-7A658CC791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ем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указан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л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 всё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тут ц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шипов ку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неземно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овьи зар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аскают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шакалов 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я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улит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рохлады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алящий 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жёт и ночь, и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тиши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ремнист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осясь над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реди лу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шумок руч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амням хол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раюсь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треч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крови сле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-то шёл,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орьбы и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ой мгле со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суров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дали блес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хоть вихрь шу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вл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-то всё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30Z</dcterms:modified>
  <cp:revision>12</cp:revision>
  <dc:subject>Slavic hymnal Гимны веры христиан, hymn 449</dc:subject>
  <dc:title>К неземной стране</dc:title>
</cp:coreProperties>
</file>