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39B2-6318-4208-99D3-75112C22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056-29D5-4573-8988-D65162AB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236-6735-4E8E-BFF7-69F79745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D42-9234-465D-BBBB-4FF8C15E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BE1-8551-46B2-9721-544E2E00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5DC-8856-47BD-A433-2E2AD3F0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CBA-BE29-497E-B825-9DC0DE1E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C1D-C783-4BC0-9781-48B15C8E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28A-4AFC-4C46-BEBD-E00D4583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F3F-E5E3-4E40-B7AA-781B42B2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F168-3097-4E16-9767-21572EBD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12C-512A-4C8A-9EFB-DF44BD70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A9536-CD19-4FEB-9BBC-1EACE93DAB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ышел на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аведных по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чрез преграды и вра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стремится всл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чашу горя тихо п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м невозму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ерпеливо крест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следует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Божий вышел на вой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фан с решимостью в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ял перед су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увидел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стил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я тягостных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л врагам сво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осит Бога за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следует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надцать избранных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гнём любви в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в наш мир спасат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вши всякий стр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их славны им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дух непобед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мужества 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ледовать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6:16Z</dcterms:modified>
  <cp:revision>12</cp:revision>
  <dc:subject>Slavic hymnal Гимны веры христиан, hymn 499</dc:subject>
  <dc:title>Сын Божий вышел на войну</dc:title>
</cp:coreProperties>
</file>