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803-7B24-4EFF-B5A8-6E1AF8F5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4B0-A574-4ECF-A0AF-7956B8B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EB6-7265-49FC-A774-5F1E36A1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B5F-3A51-4768-9ACF-797F3547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62E-6184-4BBB-9A10-737BD1F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94D-FC5E-4708-B667-737CF123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E6A-0318-4956-86D5-534BACD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DBF-9303-4BFF-B431-7866F4A5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3CD-E132-4FB9-8D46-D4AED29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6FA-5787-41BF-BD6F-903C0EE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94A-FFCE-46D4-A38C-0D7C6404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FE7-E491-462F-BF08-E0514F0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DFA8A-A8A6-4509-87A0-9483926A57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м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навек приобрет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я Ему сл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елин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енья Совер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всё в руке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у в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ныне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 мой и мгно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волю,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Бог Милост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меня Своим на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е вечности счастл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удел мне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16Z</dcterms:modified>
  <cp:revision>12</cp:revision>
  <dc:subject>Slavic hymnal Гимны веры христиан, hymn 482</dc:subject>
  <dc:title>Я не свой! Христом спасённый</dc:title>
</cp:coreProperties>
</file>