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F3D-B050-4B15-A1DF-7E30B365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314-6785-4FB1-9216-A572043B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9A1-9B92-4FF0-BF13-8A9D9C75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D3C-6EC1-4B11-BECF-80BF4C7B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3E1-AEC6-432A-9707-55532867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5E4-7C7C-40AD-8426-3C0580DE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7C0-0840-40AA-94B5-AA9B7561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E20-EB80-4B0B-A016-00DBA965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2DE-8F7E-4908-8BBC-A9F45D87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133-F82D-4791-ABDA-9BA2354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6DD-280E-4809-9CF9-233463B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CE1-E5D4-4C5D-9E17-1A8DF25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4DCDD-ECC9-4A2F-BAEF-CCE01176AF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несущий крест тяжё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блегчу твой тесный, уз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озвращу потерян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целю надорванную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печаль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скать отраду у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любовью, лаской и при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ю и утешу 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 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израненный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ученный, истерзанный грех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ом драгоценным уврач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ую скорбь больной души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без страха, без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— Я дам теб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— Я дам тебе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дам душе твоей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26Z</dcterms:modified>
  <cp:revision>12</cp:revision>
  <dc:subject>Slavic hymnal Гимны веры христиан, hymn 792</dc:subject>
  <dc:title>Приди ко Мне</dc:title>
</cp:coreProperties>
</file>