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EA39-2E43-489A-816D-B8A839F25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87A3-8EF8-4E3F-9183-BE220ADD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4FE5-117E-47AF-9AE6-F7D4C7BF3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3D67-E30C-42B0-8F94-C512CF2FA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B5DB-62CC-4DCB-A776-6F83367B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1518-BB39-449F-BBAE-608D15B1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FE42-9D50-4870-9F2D-B12AAF50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5CB0-5B5A-4148-90CC-9DD4D49E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5281-E206-467B-B123-6780808A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2482-64CC-43FB-9DEA-D3CF448C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BD14-AE9D-4278-AF64-1C6DA4D5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DD3C-E9BA-4927-B6EE-733206F2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AA872-2E9D-4286-A78E-F0E12137C43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вопрос ко мне, к те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ответ найдёшь в себ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ости! Жизнь вечно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де будешь веч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многие к Христу при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вили греху слу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й небес в удел наш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ости! Жизнь вечно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вив узкий путь невз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шил ты на другой вступ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конец тебя там жд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ости! Жизнь вечно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 этот самый час пов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айся ты Ему теп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спеши всем возвест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буду вечность провод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ости! Жизнь вечно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0:13Z</dcterms:modified>
  <cp:revision>13</cp:revision>
  <dc:subject>Slavic hymnal Гимны веры христиан, hymn 336</dc:subject>
  <dc:title>Где будешь вечность проводить?</dc:title>
</cp:coreProperties>
</file>