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177-6E1B-4DC8-B3FB-3F5100A2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90B-1F2B-470F-A586-A094AA1E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26B-4D54-4392-AE27-2BE00B52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017-34CE-4834-BDF3-817244EE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144-6AAA-439C-8A20-EF999878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B2B-8ADD-4ADC-B1A2-B67D41E1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666-0963-46FD-8988-B4C29240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5D0-A3E9-4582-BB6A-CC108055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F05-0BB0-4F13-84CF-FDA156FE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676-F5D2-4B7A-AF82-AC8B40D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DAA-AFE4-4DD5-B231-23333A34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952-6B63-4805-A317-96FC8AF8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863DE-99F7-4469-B015-1D132F951A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, kindly Light, amid th’ encir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om,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ight is dark, and I am far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;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свет, в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, веди чрез мрак гу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а ночь, далёк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Thou my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o not ask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istant sce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tep enough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от з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со мной пре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not ever thus, nor pr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shouldst lead me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d to choose and see my pa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ным. Тебя я не про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ди ме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луждать. Теперь же я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d the garish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spite of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ide ruled my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 not past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е раз с пу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дился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п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ong Thy power hath bles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t still will lead me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or and fen, o’er crag and torr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e night is 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рука мне в жизни всё да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, лишений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 the m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angel-faces smi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I have l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since, and lost awh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лица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злучила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3:04Z</dcterms:modified>
  <cp:revision>12</cp:revision>
  <dc:subject>Slavic hymnal Гимны веры христиан, hymn 824</dc:subject>
  <dc:title>Lead, Kindly Light / Небесный свет, веди чрез мрак густой</dc:title>
</cp:coreProperties>
</file>