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4AC-1568-45F4-9A1C-C831EE97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8B8-5C0F-4CDB-A8AC-FEA416FD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8F7-E26B-41CE-B963-B447E77E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5A8-E7D9-4C97-94F7-03E3F936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CC40-2783-4FC0-9A8C-5D07D022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89D-FE58-49C2-B50D-BAA0D322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E970-F273-40C3-AEBC-6D99B5DF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E56C-99A3-4D6A-84C1-0AD15959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0C55-E1D9-4424-A5D5-6BA4F70B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826B-ED56-4F3E-A2A8-5E7BC306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F837-FFF3-4ABF-9E2F-C63D562B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D6C2-5EAC-45B4-96ED-C7BA7E73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3732E-9FA0-4C1F-96CD-0E0C028ACEA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рен я, что не отл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т Господа нич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жизнь, ни смерть, ни день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любви мне всё да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любви мне всё д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рен я, что мне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мертью крестной приобрё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крови — освобожд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ласти тьмы и царства зо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ласти тьмы и царства з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944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верен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рен я, что Он во сла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Дух Святой здесь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коснулся и настав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спасенье в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спасенье в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рен я. О счастье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упил я с Господом в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ведёт меня в отчиз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, в чудес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, в чудес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4:24Z</dcterms:modified>
  <cp:revision>13</cp:revision>
  <dc:subject>Slavic hymnal Гимны веры христиан, hymn 614</dc:subject>
  <dc:title>Уверен я</dc:title>
</cp:coreProperties>
</file>