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C258-F795-4CF8-B571-137D56970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1EC5-5C8C-4652-9AC4-2EAEBD57E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9C08-BF14-4137-B3F4-ACE4F044B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2F14-7E74-446E-9146-0CF964E04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73D9-17B8-4ADA-A17A-65138FD73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4D8F-98AB-489C-97E6-328BDE373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3EC0-A52C-46D8-8B14-340692E6B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8715-B65F-44C2-938C-019E85DCC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60CA-F6BC-4B1C-8169-E792BF616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C698-5AE8-47C9-A072-E0BA8BD7B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0B36-1E55-47B1-A8A2-04B6F10AB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E288-B1CD-45FF-BEBA-D9675FCD5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E19C33-D719-4E6C-9AB9-7DFA88B4513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Я — путь, Я — воскресени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— жизнь», — Христос сказа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Дерзай, о чадо, в славу 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ю тебя призв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— путь на небе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святость и кра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десь пока гря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Мной во след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2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«Я — путь, Я — воскресение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а прославить призван 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яди за Ним во сле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— путь на небе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святость и кра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десь гряди, гря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Ним во сле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тех пор, как в Вифлееме 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землю снизошё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тём тернистым 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 смерти крестной шё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предал Се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искупить теб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а Собой теб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овёт во сле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а прославить призван 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яди за Ним во сле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— путь на небе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святость и кра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десь гряди, гря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Ним во сле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много поношенья о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дей Он здесь приня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будучи злословим, 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рагов благословля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здесь избрал страд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там нам царство д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ль прежде здесь за Н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дём во сле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а прославить призван 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яди за Ним во сле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— путь на небе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святость и кра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десь гряди, гря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Ним во сле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ёт ли средь пустыни пу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ёт ли средь побед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жизнь Христову д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ас людям прочит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грешных здесь к Не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влечь во сле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а прославить призван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яду за Ним во сле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— путь на небе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святость и кра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десь пойдём, пойд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Ним во сле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9T23:54:35Z</dcterms:modified>
  <cp:revision>12</cp:revision>
  <dc:subject>Slavic hymnal Гимны веры христиан, hymn 328</dc:subject>
  <dc:title>«Я — путь, Я — воскресение, Я — жизнь»</dc:title>
</cp:coreProperties>
</file>