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307-89FF-4190-843E-310FDDDC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470-E469-4B7E-9113-3C342424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AE4-9F52-4FC0-8804-24B48C1E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D24-5300-4126-A100-F648CFA0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97A-4E4C-46C6-B26D-798560C8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738-AC59-46D4-A6E4-68AE9DEE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C3F-2F2A-4BA7-9858-BE24717F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9E5-91CA-4EB5-B48F-B803D60A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E92-6CB8-4683-BD2F-BFA0B7F1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1BE-8DF8-4969-BBE6-087D7C30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338-A231-4F66-BD11-DE1E9782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1CB-2CF4-4724-A4F5-4BBC4134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2B7FA-D4DD-417D-9A54-C939C8A9E7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a hill far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ood an old rugged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emblem of suffering and sh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love that old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the dearest and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a world of lost sinners was s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0   На Голгофській гор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Голгофській горі бачу там хрест стар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є символ мучення й нару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ле люблю цей хрест, він мені дорог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нім Спас за весь світ постражд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’ll cherish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trophies at last I lay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cling to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xchange it some day for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that old rugged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despised by the wor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s a wondrous attraction for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e dear Lamb of God left His glory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bear it to dark Calv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ой старий, шорсткий хрест, що світ 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низ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всіх вірних збира і ме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 Христос у цей світ прийшов, щоб хр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яж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гріхи нести всіх і мо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’ll cherish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trophies at last I lay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cling to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xchange it some day for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at old rugged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ined with blood so div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wondrous beauty I s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’twas on that old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suffered and di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pardon and sanctify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хресті тім старім, кров Христа видно т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оминаю все я час гір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 за мене текла кров Ісуса свя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Щоб обмити мене із гріх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’ll cherish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trophies at last I lay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cling to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xchange it some day for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the old rugged cross I will ever be tru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’s shame and reproach gladly b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He’ll call me som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my home far a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His glory forever I’ll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оглядати буду на старий хрест шорст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уду нести я стид і ган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Спаситель мене в дім Свій вічний візьм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навіки там з Ним я б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’ll cherish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trophies at last I lay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cling to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xchange it some day for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3:56Z</dcterms:modified>
  <cp:revision>12</cp:revision>
  <dc:subject>Slavic hymnal Гимны веры христиан, Ukrainian hymn 80</dc:subject>
  <dc:title>The Old Rugged Cross / На Голгофській горі</dc:title>
</cp:coreProperties>
</file>