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FF7-5CD2-4B23-80AF-AA5D2558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187-1B78-483C-8861-976FBD1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933-946D-4E87-97C0-F666152D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E5A-1E2E-41BA-B8DE-3C906194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A31-7703-4463-A029-696CDDB3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816-A48D-46A2-B104-9CD6203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52E-465D-4253-8AD4-0C6DF2E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CBA-D411-4E67-AA25-B6F34AA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CC4-EF2C-4573-8BAE-6E72E125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79F-3603-416C-8E64-9D5C712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5B7-3B70-48C6-A843-3A6EC96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1DE-6B1C-4BEA-A273-A081D0E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DA93B-8460-44E8-8039-39D50051B6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these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distress He kindly will hel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ever loves and cares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kind, compassionate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but ask Him, He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of my troubles quickly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 and tried, I need a great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ho can help my burdens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, I must tell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all my cares and sorrows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the world to evil allur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my heart is tempted to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nd He will help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world the vict’ry to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3Z</dcterms:modified>
  <cp:revision>14</cp:revision>
  <dc:subject>Slavic hymnal Гимны веры христиан, hymn 623</dc:subject>
  <dc:title>I Must Tell Jesus / Скажу Иисусу все мои скорби</dc:title>
</cp:coreProperties>
</file>