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608-4834-4238-85FA-D717BBF1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CD0-DA15-43B1-8E36-F16A75B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A91-C973-4F35-B87F-93A3764F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207-0ADE-4B37-8A88-36A5194B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ECE-7729-4351-B216-1F6FB53B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F7B-603E-472C-A9C8-9BE84A27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CE5-37B2-49C9-9CC0-8AB9CCCA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2D0-C4FD-4C93-B2EA-0BC7BA71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7DE-BE89-4B23-A61B-80642E6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65E-D410-4292-80DD-F54F36C8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892-9745-413E-9FDE-2E3DCA6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4E8-4041-435E-8AF8-6359E61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B6B9B-58A8-4FE1-937E-609C32DE96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буря жизни с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яют мн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даже всё по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ит рука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ть и буря жизни сто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еня пу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елью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меня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ла меня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мне Он испыт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благо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меня стра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розят мне горе,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я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ржу я с Ним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олками тьмы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7:09Z</dcterms:modified>
  <cp:revision>12</cp:revision>
  <dc:subject>Slavic hymnal Гимны веры христиан, hymn 619</dc:subject>
  <dc:title>Хоть и буря жизни стонет</dc:title>
</cp:coreProperties>
</file>