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F6A-7699-4832-8450-5F7DAB69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AF1-92F4-493A-8B12-ADD40545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34D-2D62-4E59-A7F5-70A30FC4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52B-22C4-495F-840D-4F157610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992-56D5-454C-BCEC-D3042E2E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113-B4F5-4E3B-878A-BA00374E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3DA-2392-4227-867B-BCAF6F43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B0B-056E-4BD4-817D-7C97FD38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1AA-5FFB-4386-A99E-8F8E6CA9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2B7-5A50-4EA8-9899-897A366D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885-5727-41CA-8C37-0267535F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CAB-D2BD-4578-BD3D-98FA9992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5B43D-1772-49CA-8FAA-A9E25FDBA2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ure as Jesus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is strength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fear, anxiety wi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th faith o’er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дал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ужасы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я и тос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Shepher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heep He leadeth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leasant pastures gui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aters fresh and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близ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готов 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от муки и ог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п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the sunlight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rkness me o’ersh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Jesus through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guard me with His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умрак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толпой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ь невидимых сет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Он мой по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f my faith should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nemy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o the Saviour’s heart I’ll f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ind a reme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пути с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поскольз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руди Христа тотчас склон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люся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unto Him I loo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urden to Him t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Jesus loves me tender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ill my comfor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мне скорб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в к стопам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тов всегда я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9Z</dcterms:modified>
  <cp:revision>13</cp:revision>
  <dc:subject>Slavic hymnal Гимны веры христиан, hymn 461</dc:subject>
  <dc:title>As Sure As Jesus Lives / Спаситель мой живёт!</dc:title>
</cp:coreProperties>
</file>