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0FEAA-48C0-44A9-9598-6813AADEC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9E733-698D-4ABB-91DC-6D1282F5F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77901-FDB8-4F5D-B3DB-87F7B6F51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36B7E-C88D-4D48-AF0C-E6C9A0967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E0D3F-0A05-463B-A61E-6DFA07331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26316-51EA-4751-8873-284D50C5E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026B6-7BC3-43C5-901A-706BA71D7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6BA7E-C60C-43FB-91AB-986C3ADFE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547A4-CAFA-47BD-A6B1-5DC36CDF4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D0149-ADC6-4EA9-B7B9-2532AE288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4DBE1-2591-4E16-9D13-BA32073DE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528DA-18C7-4E99-A15E-1C2647E70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70EAE5-8990-4D6E-9229-F17E0FEC7B26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ust Jesus bear the cross alo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all the world go 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, there’s a cross for everyo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here’s a cross for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11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Один ли Он был долже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дин ли Он был должен не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ой крест за всех людей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т, каждому назначен крес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значен крест и мн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ow happy are the saints abo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o once went sorrowing her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ut now they taste unmingled lo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joy without a te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счастливы святые т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йдя тернистый пу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т жутких зрелищ их оч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сторгом дышет груд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consecrated cross I’ll b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ill death shall set me fre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hen go home my crown to wea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there’s a crown for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ду, сгибаясь под крест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дин в чужой стран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 ведёт в небесный д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есть венец и мн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Upon the crystal pavement dow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t Jesus’ piercèd fee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oyful I’ll cast my golden crow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His dear Name repea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а святое имя т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восторгом призов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нец сложу к Его ног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д Ним склоню глав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5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precious cross! O glorious crow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resurrection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Christ the Lo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rom Heav’n comes dow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bears my soul aw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десь тяжкий крест, а там ― венец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десь часто бури вой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ж борьбе придёт коне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я войду в покой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2-29T07:45:31Z</dcterms:modified>
  <cp:revision>12</cp:revision>
  <dc:subject>Slavic hymnal Гимны веры христиан, hymn 811</dc:subject>
  <dc:title>Must Jesus Bear the Cross Alone? / Один ли Он был должен несть?</dc:title>
</cp:coreProperties>
</file>