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0C8-53A9-4178-A15F-5983EAD8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377-11F9-4C99-9EFA-C276F55F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B0A-208E-4BC5-BCD3-197637AF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5FE-2678-490A-BEE2-D3361328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7C3-5834-413E-BD88-1E964BC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A73-275B-4B74-BE44-DB7E869D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F06-4328-41B9-86DB-53957FC1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688-CC25-4281-98E9-93656D0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EEC-33FB-4B5D-8A9A-4029D02D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CAD-DD28-4DD8-A490-5F1713A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EC6-539C-4BB5-8538-1B59B962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8B2-7304-4D6C-94AB-49A0545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C1F55-8B3F-49CA-8955-34CFC631DB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, down in my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 to st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 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37Z</dcterms:modified>
  <cp:revision>12</cp:revision>
  <dc:subject>Slavic hymnal Гимны веры христиан, Ukrainian hymn 111</dc:subject>
  <dc:title>I Have the Joy, Joy, Joy, Joy / Я маю радість, радість</dc:title>
</cp:coreProperties>
</file>