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EF9-5855-459D-9938-3C9BFDCD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83A-3821-4AB4-BD0E-ED477ED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C76-E1D7-43F7-A1E2-4549522E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AEF-AF10-4A14-B21E-323341C2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43D-B518-456F-BF3B-9A6F006A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DE5-2940-4803-AC25-259AD3C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4D7-8B01-45C9-B882-FB433F73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A61-F1B2-4545-8AEC-F45E5A91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623-E672-4BAD-A7EA-5A1AC801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6D0-2138-4DF4-8A10-F1FF648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FE6-250E-44CD-B5C7-B0E3066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3F9-8439-490C-AA01-B7FD442B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DDB7-8016-41D0-A0CB-34ADAF2B8A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8:00Z</dcterms:modified>
  <cp:revision>13</cp:revision>
  <dc:subject>Slavic hymnal Гимны веры христиан, Ukrainian hymn 14</dc:subject>
  <dc:title>I Love Thy Kingdom, Lord / Люблю Господній дім</dc:title>
</cp:coreProperties>
</file>