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964-3E83-4917-96FB-3BC3E007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5C8-D5CD-4327-B85D-F0E6870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1A5-4345-4798-8373-DEBEE259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51F-86DF-440F-B938-6FADCBB5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907-04C8-4212-A9C8-F85B1DA0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F42-D4F2-4A00-AA1D-7E179877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0EF-64F1-43D3-9ABD-9AA83CFD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F43-AFAE-4318-A228-7D1CB752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351-40A6-4DF2-BA20-E7160342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40A-0B03-4B9B-970C-2E50DD4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C15-F57D-4B5A-958F-68B524E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154-6774-42CE-B219-A8F90D9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53188-D91B-4A6F-A6CF-C68B0F013B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шлець в земній дол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угом мене чуж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ище зір небес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я рідна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7   Я пришлец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гріхи скрізь і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енависть і зло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 край, повний 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юбов живе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е всі зневаж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навидять тут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, там мене люб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і смерть загрож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ій похмурній чуж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життя мене чек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28Z</dcterms:modified>
  <cp:revision>13</cp:revision>
  <dc:subject>Slavic hymnal Гимны веры христиан, Ukrainian hymn 27</dc:subject>
  <dc:title>Я пришлець в земній долині</dc:title>
</cp:coreProperties>
</file>