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602-DD04-4E66-8867-460F2D0C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150-78C8-4A04-A077-81540DE3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6BE-6509-4D07-BBC9-D5E7A05D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4A7-E8E8-4D34-BA46-6945E40F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C35-F087-4F29-9FC0-0C07619D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95C9-42D6-4886-B5BC-47852C5B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B67-04E8-4E38-9A74-63B60D52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41B-75F5-4586-9E0B-88B4918E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F55-9DA2-444B-A251-B1D25EE3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B08D-63AD-430D-91EB-DFBB7B3D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EA0-637C-44BC-AB36-796DEBBE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8D8-D5B2-45DA-AF4B-BF428C56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5AF94-C4A6-4985-811C-01159BECA8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up, stand up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soldiers of the cr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high His royal ban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ust not suffer l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мкните к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ины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нимит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шего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vict’ry unto vict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army shall He 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ev’ry foe is vanqu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 is Lord ind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за поб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Бог войс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Христа низл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х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up, stand up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umpet call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th to the mighty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His gloriou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ас на бой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е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ас об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that are men, now serve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gainst unnumbered fo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courage rise with d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rength to strength op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 страшит вас би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ужий гул и г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за нас сраз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счисленным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up, stand up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in His strength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rm of flesh will fail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dare not trust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репость и за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рный Вождь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t on the Gospel arm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piece put on with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duty calls, or d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never wan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ч Слова обн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обеждайте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бодрствуя в моли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стойте на ча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up, stand up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trife will not be 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day, the noise of batt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ext, the victor’s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итвы прол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день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все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that overcom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crown of life shall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th the King of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reign e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енец гот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вере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ет, чтоб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им во слав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8Z</dcterms:modified>
  <cp:revision>13</cp:revision>
  <dc:subject>Slavic hymnal Гимны веры христиан, hymn 498</dc:subject>
  <dc:title>Stand Up, Stand Up for Jesus / Примкните к Иисусу</dc:title>
</cp:coreProperties>
</file>