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CFC-5FFD-427D-8377-8FF28D6F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ADC-96D2-4419-9D36-E38C6DA8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95A-922F-4654-99D0-73266F9C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066-DB63-4A44-BC6D-5927A9D5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480-6FD7-48E2-80C8-0083FD50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549-4693-48D8-859B-0936D590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8C5-4394-48A7-BCBF-B1F7F48B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BAE-C692-407F-8B62-7337FD35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5DA-E3A5-4B32-BCAD-5D5C17CC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0D2-D55F-4741-B6B8-2D8C13C2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E41-24E1-4793-9642-C26270E4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A1C-85DA-481F-9DE6-37F715F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5F8CA-1E30-4E49-8378-9C297305E0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is daw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ather, let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king or in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with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д новый наступ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наступ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е, уд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иль ожид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жить сей год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og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esence all the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ы здесь не о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ль в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нами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serv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itness for Th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olier work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луж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д пригот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Ним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is daw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ather, let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or else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… Новый жреб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м дай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й земле иль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только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6:15Z</dcterms:modified>
  <cp:revision>12</cp:revision>
  <dc:subject>Slavic hymnal Гимны веры христиан, hymn 894</dc:subject>
  <dc:title>Another Year Is Dawning / Год новый наступает</dc:title>
</cp:coreProperties>
</file>