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B7A6-ACF8-4C3E-B076-5046F62C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BDEE-7917-4313-9ED1-73F5424D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6567-6338-4219-B86D-82FB5601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3907-BC49-4DF2-B7B6-4FB6F0A5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D0D8-B996-4EB5-A0CF-03C9364D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4AD6-1187-4DB1-ABAD-73E4F7FF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ECBD-820C-4FD1-84B8-27BD85B0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1502-4043-4969-A437-D8795CDA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651E-4C34-4A4B-ABE6-5802EC5F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328A-B54F-4B1E-88A6-90D19718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A114-7EEF-4B70-903E-3D0A5D14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D995-13FF-463E-BBBB-F91DF398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16EF7-621B-4CE2-B5B0-FD849966DEE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the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which man can be sa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ther name under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rest for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wounded made who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captives set free and for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9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re Is No Other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ch love as I had never kn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found in the grace that f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e in my unrighteous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why my heart and so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ongue conf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the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which man can be sa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ther name under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rest for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wounded made who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captives set free and for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8:35Z</dcterms:modified>
  <cp:revision>11</cp:revision>
  <dc:subject>The Source 2, song number 996</dc:subject>
  <dc:title>There Is No Other Name</dc:title>
</cp:coreProperties>
</file>