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6A4A-7B3B-49B7-B284-F33B56DA7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615C-DEDE-4C25-8DC9-F88FCB13B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2591-43FD-4959-8955-A96852335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94B7-7954-44DD-B1CD-D58A5B50F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63F8-35C2-4B19-91DF-87631311B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BF8D-E81F-437A-8AAB-09AEFE5DF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08DB-E10B-4548-AC7C-B36630237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0D79-7453-426F-9E59-FB5FADE8C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1AA7-87F0-4CA7-BEB4-CFD1D4F01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E1C0-9829-471F-9A99-59A50B83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2E01-23CE-458C-811C-AE24CB0B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9144-D243-49D2-8049-A26614CC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58C2D5-86CB-4F76-9B34-4BC2A7FDD17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бізвись, мій милий Б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е, радість Ти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бізвись в тяжку годи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подам свій голос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ені тісно було, Б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Ти дав мені прості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тепер мене помилу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віддай на погові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20   Обізвись, мій милий Бож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айте страх та віру в Б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сі люди на земл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озважайте ви про Нь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озважайте ви в тиш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засяй над нами, Б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ітлом Твойого лиц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м святим, чудовим світл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нам сяє без кінц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29:32Z</dcterms:modified>
  <cp:revision>14</cp:revision>
  <dc:subject>Slavic hymnal Гимны веры христиан, Ukrainian hymn 20</dc:subject>
  <dc:title>Обізвись, мій милий Боже</dc:title>
</cp:coreProperties>
</file>