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421-AC12-44F5-AF3D-4313CF66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7BA-770F-4A5A-A4CA-A884A93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D34-FC3E-48F0-8921-E9F85D4C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0DB-0EA8-4B4B-B0D5-CCD0011F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2D8-9420-4C4D-82FC-A37A4391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A94-5B89-4AF0-931A-2247354E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254-1812-4C3C-884B-CF4C0499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2EA-7FFA-4C80-9133-B0233A18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A89-E8F8-429A-8101-393FA9A0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F3B-481F-4F60-80D3-C907D3B6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561-E549-451B-A870-5EBB0A7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F43-1392-400C-9345-13FA68A2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EF528-5AB5-4DC3-AF33-F64E308192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не бо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азны сер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ень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й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ницах свящ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очу не бо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много пор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еску у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рек и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силь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правды нам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ет нас все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ех, как пурпур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ю Я, как сне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 дивны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ворцах веч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овью 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в белом о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ш яды не тр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безвестно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ангелы славя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58Z</dcterms:modified>
  <cp:revision>14</cp:revision>
  <dc:subject>Slavic hymnal Гимны веры христиан, hymn 620</dc:subject>
  <dc:title>Я хочу не богатства</dc:title>
</cp:coreProperties>
</file>