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33D-8569-416B-89D2-436628D4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A85-C405-4F35-AC0F-ACCC9DE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204-84C4-48F1-9EF8-65D52D53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5CC-5EEA-4A8A-848A-16513762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8A8-7240-45EB-9A89-CF07B4D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B0A-578B-45E3-8FFF-1D548C4E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FEC-0D42-4ACA-ABB2-C8B81BC7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9E9-2688-41B8-877E-97CF0362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AEE-9656-45C7-B26C-BFB01411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796-B05F-48F7-8BFF-BF1596F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F19-A711-45AC-A653-39840CB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FBA-14AE-49AA-972A-13A370F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A9BB1-0D30-4E26-88FF-E4BDDF7780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й нам путь откры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 царствие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 с небес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х туда в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Он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Он вос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тости для всех тру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, потом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нам путь откры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ок дней по воскрес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являлся вс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Себя на осмот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Фому уверил 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л им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Дух Святой пош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олгофское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о свой славный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брал потом на г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апостолов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ыл простому вз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в вид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два мужа им пред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азали: «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— вы видал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пять придёт на су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45Z</dcterms:modified>
  <cp:revision>12</cp:revision>
  <dc:subject>Slavic hymnal Гимны веры христиан, hymn 310</dc:subject>
  <dc:title>О, какой нам путь открылся</dc:title>
</cp:coreProperties>
</file>