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5423-514A-47AB-BFD2-D1B5D9AC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BEDE-E2C2-4ADD-9E1E-6AD982F4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3958-DEC5-418A-AE1A-E90879FA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76FB-4036-4DBF-B24B-D06E9D10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80F1-92FA-417D-B14D-02838E21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BBE3-048D-402B-A78B-A6F7D005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7790-5DFE-4537-87BA-DBA8D3E1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0FED-B2EB-4BE8-9AA6-0E29B953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0A7F-95EE-4286-9EDC-7708738C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456F-4DC0-43F5-A96B-DCE0FD96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C3A-FDBA-485B-AE74-0548AFF2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EA7E-137A-4EBF-B0AF-A36215A2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E2EFE-3366-43BF-B82B-8CE02CCA1CD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ants me for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hine for Him each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every way try to pleas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home, at school, at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 меня хочет сдел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еня хочет сдел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меркнущим лу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ветит словом и де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сех людей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unbeam,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ants me for a sunbe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unbeam,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a sunbeam fo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я ласков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я буду с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ants me to be l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kind to all I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ing how pleasant and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little one can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Свою мне даст си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, как Он 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ей великих и ма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ть, как Он здесь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unbeam,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ants me for a sunbe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unbeam,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a sunbeam fo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я ласков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я буду с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ask Jesus to help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my heart from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 reflecting His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ways shine fo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еня в этом ми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лого сохр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ёт благодать без 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Свой под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unbeam,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ants me for a sunbe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unbeam,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a sunbeam fo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я ласков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я буду с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a sunbeam for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if I but t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rving Him moment by mo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live with Him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ым лучом для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быть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ить Ему в жизни э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—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unbeam,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ants me for a sunbe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unbeam,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a sunbeam fo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я ласков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я буду с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7:18Z</dcterms:modified>
  <cp:revision>12</cp:revision>
  <dc:subject>Slavic hymnal Гимны веры христиан, hymn 896</dc:subject>
  <dc:title>I’ll Be a Sunbeam (Jesus Wants Me for a Sunbeam) / Господь меня хочет сделать</dc:title>
</cp:coreProperties>
</file>