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233-9299-496D-928E-F5051EEE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BB4-FEBC-4336-9615-688F57BD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733-C5DE-4937-87E4-79322FA9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F59-28B2-48F0-BD72-CD994BEC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75D-CE5B-4A85-98F1-66A8C58A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DF9-909A-4C9B-9331-001C0D1F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B9C-830C-45E6-BBF8-A27E4F08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81C-6AFB-4554-A73B-5F70A08C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9FE-C543-41BC-90E0-452C673C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A24-9E9C-4C24-9027-12238DC3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5D6-F15D-420E-9C05-423E5B8F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9DB-E178-4B45-B3C2-18C7D82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3E317-187D-4773-A4F2-E3444A8EED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зови Христа на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 на помощ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греш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Он мир и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ибнешь ты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зовёт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искушений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оси сил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о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нам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дости 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ёт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12Z</dcterms:modified>
  <cp:revision>14</cp:revision>
  <dc:subject>Slavic hymnal Гимны веры христиан, hymn 713</dc:subject>
  <dc:title>Take the Name of Jesus With You (Precious Name) / Призови Христа на помощь</dc:title>
</cp:coreProperties>
</file>