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54A-A827-4CF1-8A43-90FB2928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524-4B46-4491-A2FB-4EE4D2D8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3A3-D288-4FB2-BDF5-16300620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F26-F992-4378-8402-FF0ABE03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687-144E-423B-9AA5-3BAEC111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A4F-7048-4A84-A81E-C45885B1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C05-5E62-45A3-AF55-421179F2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882-8D53-4FC3-8D8E-52B59BFA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671-CADA-4FC9-BD86-963298F7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674-8C52-4B0D-AB92-9DBF995C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434-4585-4638-8586-C2470F70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6D1-129A-4072-A711-BAF991C6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167F4-CE69-48D3-81B2-6A395A7496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n of God, Son of M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amb that was s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oy and peace, strength and hop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ce that blows all fe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Агнец на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ный Господ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, силу, мир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рекой теч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чудно Имя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th revealed, my future seal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led my 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ve and freedom, life and warm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ce that blows all fe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тину Свою откры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ял мою бол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, свободу, любовь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рекой теч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чудно Имя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cued my soul, my strongh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ts me from sh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giveness, security, power and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ce that blows all fe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ас и сокрыл, искуп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ял мой позо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я безопасность, прощенье грех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рекой теч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чудно Имя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1T14:50:18Z</dcterms:modified>
  <cp:revision>11</cp:revision>
  <dc:subject>The Source, song number 301 in Russian</dc:subject>
  <dc:title>Имя так прекрасно Твоё! / Jesus, What a Beautiful Name</dc:title>
</cp:coreProperties>
</file>