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7C8-768F-48FD-9F3D-442EE869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40C-D3FC-4C97-93BA-8819FB06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338-3936-4C65-BC08-3F3A62F9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AA1-F626-4931-A213-C4D461F5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10F-7B8E-4D77-A451-76FB41F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C4F-A011-42FD-829F-9D6FB07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592-AC03-4E1C-B4B4-935EE9CE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1AA-D21A-41DD-A08B-69687341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CDD-0B81-4492-B459-C87AAF0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9F7-DA36-48BD-8D87-E72C8CD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46B-E047-4542-B634-615B0B3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CB5-5E7A-4760-993D-9AFE8BE4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6EEF-5B73-48FE-AA0F-07B2D91AF3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friend for sin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ver of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may fail me, foes assai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aviour, makes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strength in weak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hide myself i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, tried and sometimes fai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trength, my victory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a help in s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billows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heart is brea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Comfort, helps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guide and kee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tempest still i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rms about me, night o’ertak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pilot, hears m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I do now recei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all in Him I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granted me forgive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39Z</dcterms:modified>
  <cp:revision>12</cp:revision>
  <dc:subject>Slavic hymnal Гимны веры христиан, hymn 883</dc:subject>
  <dc:title>Our Great Saviour (Hallelujah, What a Saviour!) / Иисус — Друг одиноких</dc:title>
</cp:coreProperties>
</file>