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5F3-29B9-47FD-BF6A-F049C5F5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9F4-0FFA-42D0-BAE0-E006A01E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F9B-1ABD-430D-A226-AC23E297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16D-D957-409F-9AA2-43F3A93B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1D7-B790-4FB5-8A2C-D3E060EB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0C5-D05A-49B4-93F4-657141C1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8A-16A7-4B99-9EEC-8A0AD7D4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EFC-D1D6-42C8-A7C9-ABDDD6AC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B4F-76F1-405E-9D79-B626840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3B5-488E-4EB9-9BD4-8C0F368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11C-5ACB-4746-B27D-F358DF71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4B7-73D6-4950-ADF9-E8231AB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0AFFF-4291-49C9-A324-0646452475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l by woe oppr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for thee He suff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amid the g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rystal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griefs He car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sins He b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ldier in the f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battle thic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ine armour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foes b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strength be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conqu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kies are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seas have their dang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iner, bew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re fle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s they c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 the toil and h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come the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Maste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uests are bid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feast is sp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t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, amid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endless f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will sing His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not be l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14Z</dcterms:modified>
  <cp:revision>13</cp:revision>
  <dc:subject>Slavic hymnal Гимны веры христиан, hymn 363</dc:subject>
  <dc:title>Look Away to Jesus / На Христа взирая</dc:title>
</cp:coreProperties>
</file>