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2DA-CE96-4787-8AF9-BC0F8FE0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366-23E6-40B5-91CE-D245016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2F5-2E8D-48B5-BD9D-42B89FD3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7C3-798C-4F26-840A-666F86CC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134-2442-427F-BC56-1D8B0A4E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D60-1BC9-45A9-BB17-4A19B05A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CFF-E880-486E-9575-30046D74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4B3-6145-4DE1-BA44-2465BEA8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6BA-4E17-493E-A725-A29FC94B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620-6F45-4CAE-9A19-73E41D45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862-E50E-494E-98AC-BB5561C6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D7D-273E-4A6A-9188-177F2520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06266-9FDD-42E0-B377-8D6931A5B2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ники к родине славной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ненастья, н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ажити мира любовью цве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ит, как солнце,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путники к ро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страданий, ни б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мерти дыханья, ни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насилья, ни злобны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, там радость,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лышится клич, что стр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им поют из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 льётся, как Божья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пришельцам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я искупленных кров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ьют из источника бл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, любовью ч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их светлых о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исла пришельцев и их 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ишутся в книг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Бог принимает, а Божья 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улит навек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51Z</dcterms:modified>
  <cp:revision>12</cp:revision>
  <dc:subject>Slavic hymnal Гимны веры христиан, hymn 686</dc:subject>
  <dc:title>Вот путники к родине славной идут</dc:title>
</cp:coreProperties>
</file>