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C9B-9CFF-4237-A7B0-0DE5A32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281-2274-4950-8606-9AFA77BC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D76-C928-489F-8E85-21BADED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332-37C2-43C4-A45B-7B04938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2F7-E808-4981-84EE-8D8BC3C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D57-D290-49A6-B323-0BC6B071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8EE-7A6C-44D7-B505-7A0B12D2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F2D-15A5-4A12-9DED-500FF25B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935-98D8-43FE-9AF2-5D7A8006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50-DA43-4482-B276-7C5DAD81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676-C79C-423E-B800-AF8FBAA9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22A-3E6C-4F3F-AE54-9C6D58E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AF913-065D-4EC2-83D0-6EB0AF0B3D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omes to my heart one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ad and a joyous ref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it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hrist on the cros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by His death was all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dation is l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as Lord I had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this peace did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rich blessing I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 for peace I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keep close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thing but peace doth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2Z</dcterms:modified>
  <cp:revision>14</cp:revision>
  <dc:subject>Slavic hymnal Гимны веры христиан, hymn 582</dc:subject>
  <dc:title>Sweet Peace, the Gift of God’s Love / На сердце лишь песня одна</dc:title>
</cp:coreProperties>
</file>