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58C-8555-45D1-94D1-F43E190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818-4CB1-4FB7-9DB9-35AFDC3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1C1-AABF-4AE6-BA8C-5B1A2FA5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9B7-5FC7-4341-B295-78505810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209-7D83-48DD-BC22-4422D51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DA6-8921-4978-990C-A3B7A0F7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02A-410C-47B3-99E5-57E87C7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593-1790-4305-9911-35E27F1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694-846A-40BA-853B-93E06F3B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98C-AD72-4AC3-A482-7A29A84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508-0486-4FD5-979F-BD81D89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E61-5F87-4F58-A28B-7AAFEBB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56B2E-8D0C-4FF2-BF4C-BF79B1BF61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9Z</dcterms:modified>
  <cp:revision>13</cp:revision>
  <dc:subject>Slavic hymnal Гимны веры христиан, hymn 784 (as amended)</dc:subject>
  <dc:title>Far and Near the Fields Are Teeming / Здесь и там поля белеют</dc:title>
</cp:coreProperties>
</file>