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50C-57BD-4742-B98C-354D973D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AEE-B277-4CDE-9987-124DACA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5C0-7FD5-4EE2-B8BC-AD99FD97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D4D-9517-4AD9-A98F-B95EAE8D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9AE-1D7A-451E-87C3-EEB354AD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8E9-9DBD-4608-A17F-84A998CF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B91-B3BA-4417-86C2-ACD45BCA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A59-BFEE-41DE-AEF8-119476D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5B3-A812-4F24-99A0-8AAFA60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D10-7C70-4CA1-B6FC-A0705AA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EA1-EB5B-4B01-B5F2-C828AAAD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3A2-65F5-47A5-8794-BE807BD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C008F-BA9A-4A68-A3F9-948E3E1193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, wayward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, He call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he source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will grant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and all your bu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foot of the cross now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rist Who died on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forgiveness now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light has shone for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ir sins to the cross have b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rich and for the n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salvation Christ ha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5Z</dcterms:modified>
  <cp:revision>16</cp:revision>
  <dc:subject>Slavic hymnal Гимны веры христиан, hymn 369</dc:subject>
  <dc:title>Come to Jesus, Wayward Sinner / О, приди заблудший грешник</dc:title>
</cp:coreProperties>
</file>