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C3A-0A2B-41B1-A479-1FC11F59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2EE-1130-461F-B9EF-08CCC526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044-7214-47C9-8EA9-73E23150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CA7-9559-4CF9-A290-4F8BFF40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847-32BE-4A64-BF16-5B228B04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253-2345-4715-94C6-48B6F589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991-A8B2-44F4-9C17-E69A45CC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E82-D86C-43CB-B34D-D78E7CFD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827-EE93-450B-A57F-EFF4CB05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105-0236-4662-BD74-AB559B29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ED0-FCB1-4AAE-85BB-6BE451E9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CB5-B6A3-42CA-AC56-3C01C77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53B47-1D59-47C3-9D45-B1D5B9F8CC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вопрос за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гда же приду и яв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й дом, как покорный слуг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я слезами заль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ьких насмешек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ерна стрем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чу в тоске и томл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поминаю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когда с радостным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ою мы шли в Бож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, что ун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ы над мною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верой доныне вз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ладыке небес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ём явит Господь Свою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очью — хвала зазвуч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Богу правды и си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а что я Тобою забы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, что ун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й ожидать и терп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ога ещё буду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буду я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48Z</dcterms:modified>
  <cp:revision>12</cp:revision>
  <dc:subject>Slavic hymnal Гимны веры христиан, hymn 448</dc:subject>
  <dc:title>Как серна стремится к потоку</dc:title>
</cp:coreProperties>
</file>