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AE0-C86C-499A-AD0B-5EA916BE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DFA-BC62-4BF3-A3D5-920B579C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6A8-92A2-43CE-87BF-D91BB2D5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432-06E4-4428-9763-74A268C4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8EC-1B08-4F29-9F4B-689820B2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2D1-D8B0-4E59-B3A0-A11E7A4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665-1C5B-460B-BF9A-B4236AF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4CD-6DA0-4F83-A3F6-C16A82C8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EB9-A03C-4144-93B0-9B682A15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B71-1321-4E24-8CFB-6F2D434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42A-F86D-4645-B5A0-CE3A024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FAD-AE33-496F-8E3E-5BCED2FF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4CA47-3563-4B87-980E-9C6264752E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46Z</dcterms:modified>
  <cp:revision>12</cp:revision>
  <dc:subject>Slavic hymnal Гимны веры христиан, hymn 637</dc:subject>
  <dc:title>Благодатная скала</dc:title>
</cp:coreProperties>
</file>