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145B-3963-4CCC-82CA-919E7EC98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8DA1-767D-4FCC-BA84-7B12FEA35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AE25-532D-48AC-B4F9-C39DD89B7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0F23-1AB0-4618-8EC4-58712E52C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E374-842C-406D-BECC-D87DF8DF8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1650-5E91-42A9-B322-D509382A0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822D-C256-4912-A63C-F94BCD319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5F39-B0A3-40C5-A045-49869A9B3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CBCF-E4E2-40CE-B824-D0B781E15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F021-C445-4D01-9074-C569295D5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1456-3061-4333-B050-54D30969E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6EDC-264D-48CE-8393-CC56238E7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D25C6C-CFAE-41B8-93B1-3841E3071AB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ight of the worl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stepped down into dark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pened my eyes, let me 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auty that m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s heart adore You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pe of a life spent with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406   Light of the Wor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 here I am to worship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re I am to bow dow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re I am to say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’re my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You’re altogether love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together worth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together wonderful to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King of all day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h so highly exalt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orious in heaven ab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umbly You c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the earth You creat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for love’s sake became po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 here I am to worship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re I am to bow dow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re I am to say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’re my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You’re altogether love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together worth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together wonderful to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Bri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’ll never k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w much it c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see my s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Upon that cross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 here I am to worship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re I am to bow dow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re I am to say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’re my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You’re altogether love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together worth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together wonderful to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0-12-18T08:44:10Z</dcterms:modified>
  <cp:revision>14</cp:revision>
  <dc:subject>The Source 3, song number 1406</dc:subject>
  <dc:title>Light of the World (Here I Am to Worship)</dc:title>
</cp:coreProperties>
</file>