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592-2C6A-4CF5-8111-B558081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F20-2189-4E97-AE97-53CFE70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817-5E88-4D8F-BF07-95BED641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3D9-ECEB-4A87-97C2-37046D14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08C-0079-44EB-A662-D5C5D112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CFA-6FAE-4712-8AD0-8699779F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5D9-C940-4BB4-B919-6C3E67E2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3C9-2215-49F1-AB18-63AF37F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40D-7543-4383-B49A-7161D6A0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D37-CAC2-41F8-B57C-364A586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41E-510D-4F15-99AA-A54CCAB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833-D111-4B8C-9796-E547EB9A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15908-02E7-4928-867B-7C1A2B2067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hristians, awake! Salute the happy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ereon the Saviour of the world wa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ise to adore the mystery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ich hosts of angels chanted from ab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ith them the joyful tidings first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f God incarnate and the Virgin’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hristians, Awak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 watchful shepherds it was t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o heard th’ angelic herald’s voice, “Be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bring good tidings of a Saviour’s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you and all the nations on the ear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hath God fulfilled His promised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is born a Saviour, Christ the Lor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spake; and straightway the celestial ch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 hymns of joy, unknown before, conspi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aises of redeeming love they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heav’n’s whole orb with alleluias ra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highest glory was their anthem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eace on the earth, in ev’ry heart good w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Bethl’em straight th’ enlight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epherds r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ee, unfolding, God’s eternal pl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ound, with Joseph and the blessèd m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r Son, the Saviour, in a manger l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ir flocks, still praising God,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ir glad hearts with holy rapture b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 may we keep and ponder in our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wondrous love in saving lost manki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ace we the Babe, who hath retrieved our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From His poor manger to His bitter cro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ad in His steps, assisted by His gr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ill our first heav’nly state again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may we hope, th’ angelic hosts am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ing, redeemed, a glad triumphal s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that was born upon this joyfu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round us all His glory shall disp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aved by His love, incessant we shall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ternal praise to heav’n’s almight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37:11Z</dcterms:modified>
  <cp:revision>11</cp:revision>
  <dc:subject>The Source 2, song number 653</dc:subject>
  <dc:title>Christians, Awake!</dc:title>
</cp:coreProperties>
</file>