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6B3-FA4A-4A1A-8568-A49B0B57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00D-23E0-4FCD-8F9F-57C68C7E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2F2-C19B-4B46-86AA-97DCCDFA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3BC-3573-4DFA-A1D9-6DF42C43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031-7DA7-4925-B313-B34B9793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936-3709-4B15-9109-5F36570A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DA4-EAD6-4B55-AF2C-926D481E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3BE-DE73-4979-B4D8-07A4223D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713-786F-4351-B0B9-E6AE5E73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F5E-F7F8-4EA0-91DF-B78340DA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229-862C-4D82-8BF1-69A9A76F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4C1-95A6-472D-BCCB-3C67FE6E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27847-FEEC-441E-A9A9-2D8E2780A1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Свою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пров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чность ты об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частья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род золо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дужны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,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Я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х муках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зае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же жизн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оды посв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Ему слу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21Z</dcterms:modified>
  <cp:revision>12</cp:revision>
  <dc:subject>Slavic hymnal Гимны веры христиан, hymn 427</dc:subject>
  <dc:title>Я умер за тебя</dc:title>
</cp:coreProperties>
</file>