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4A18-4609-4AAB-A3B8-01ACAD75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830D-54E6-4D6F-89D8-52432FEF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50C8-B88C-4C1C-844C-AA4FF063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B393-5A13-4033-8726-D4A6BE0E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2563-E35E-46F6-A591-E4B4A4A9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16C-E0DA-46C1-A964-AE1A09B6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31C4-223A-42E1-8720-6D890D2C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CCB8-603F-4230-AEEF-5356DB08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B1CC-06A7-4507-B30A-FEF42BD7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B523-6993-468D-91C2-F8BD755E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699F-D8B8-47D8-927D-8B34CFB3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45DB-6E9E-4421-AA24-8CAF1849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57593-F021-4A33-ADA7-3E587862F84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to say, L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You who gave me life and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’t explain just 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uch You mean to me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have saved me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all that I am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ev’ry day I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a light that shines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52   What to Say, Lor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day, Lord, I’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arn to stand upon Your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pray that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 may come to know You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would guide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 single step I ta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ev’ry day I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Your light unto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day it’s You I live f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day I’ll follow aft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day I’ll walk with You,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You I live for ev’r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You I live for ev’r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You I live for ev’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8:24Z</dcterms:modified>
  <cp:revision>11</cp:revision>
  <dc:subject>The Source 2, song number 1052</dc:subject>
  <dc:title>What to Say, Lord? (Every Day)</dc:title>
</cp:coreProperties>
</file>