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4</a:t>
            </a:r>
            <a:r>
              <a:rPr b="1" lang="ru-RU" sz="3600" spc="-1" strike="noStrike">
                <a:solidFill>
                  <a:srgbClr val="ffffff"/>
                </a:solidFill>
                <a:latin typeface="Verdana"/>
              </a:rPr>
              <a:t>	</a:t>
            </a:r>
            <a:r>
              <a:rPr b="1" lang="ru-RU" sz="3600" spc="-1" strike="noStrike">
                <a:solidFill>
                  <a:srgbClr val="ffffff"/>
                </a:solidFill>
                <a:latin typeface="Verdana"/>
              </a:rPr>
              <a:t>О, имя Иисуса</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How sweet the Name of Jesus sound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a believer’s 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soothes his sorrows, heals his wound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drives away his fear.</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имя Иисуса!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сладостно о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енье, счастие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Бога в Нём дано.</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It makes the wounded spirit whol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calms the troubled bre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s manna to the hungr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o the weary, rest.</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Нём — исцеленье тяжких р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зв души боль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 утешенье христи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борьбы земн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Dear Name, the Rock on which I bui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Shield and Hiding Pl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never-failing treasury, fill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boundless stores of grace!</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 Нём — мой маяк, к Нему плы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правляю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 пристань, где склоню г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ечно отдохну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Jesus! My Shepherd, Husband, Frie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Prophet, Priest and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Lord, my Life, my Way, my E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ccept the praise I bring.</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 Иисусе — Бог мне не суд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Друг и Пастыр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ой покров и жизн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ость, и покой.</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7:43Z</dcterms:modified>
  <cp:revision>3</cp:revision>
  <dc:subject>Slavic hymnal Гимны веры христиан, hymn 104</dc:subject>
  <dc:title>How Sweet the Name of Jesus Sounds / О, имя Иисуса</dc:title>
</cp:coreProperties>
</file>