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0</a:t>
            </a:r>
            <a:r>
              <a:rPr b="1" lang="ru-RU" sz="3600" spc="-1" strike="noStrike">
                <a:solidFill>
                  <a:srgbClr val="ffffff"/>
                </a:solidFill>
                <a:latin typeface="Verdana"/>
              </a:rPr>
              <a:t>	</a:t>
            </a:r>
            <a:r>
              <a:rPr b="1" lang="ru-RU" sz="3600" spc="-1" strike="noStrike">
                <a:solidFill>
                  <a:srgbClr val="ffffff"/>
                </a:solidFill>
                <a:latin typeface="Verdana"/>
              </a:rPr>
              <a:t>Господь нам щи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нам щит из рода в 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олько Им жив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через бури нас ве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л нам вечны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д сенью крыл Его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ерчивым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й могучею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равит миром Са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личьем небеса об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есто массам в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века Он всесиль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от же в род и 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есятки тысяч лет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мимолётный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Им стоит, а мы лет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ходим, словно тен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Могучий времени пот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ешит с собой у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х сынов, своих рабов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х жизнь, дела и ч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Хранитель наш от юных л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да будь нам вожд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ой Своей чрез тьму и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в небесный дом.</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38:07Z</dcterms:modified>
  <cp:revision>3</cp:revision>
  <dc:subject>Slavic hymnal Гимны веры христиан, hymn 40</dc:subject>
  <dc:title>Господь нам щит из рода в род</dc:title>
</cp:coreProperties>
</file>