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3D25-6A16-438A-ADFA-C1521F0C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C24F-FD43-4E36-9CE7-6094B0DF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B9C-E4EE-4C17-A927-4B726D45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3AB-BDBD-486E-9869-7711BB85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E82A-4FDB-4D97-9426-58353DF8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17C-93B5-4C01-AFD6-2F1895B3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69EB-B414-409C-8638-D80ECC5C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4F02-1A2F-4F89-A5FB-193BB798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51E-CB16-49E8-8DCB-AA46C759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4C6-A89F-46B8-B6DA-D9828539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F0D-E4B1-4E65-8B6D-92D59490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EAE-B6A8-4CEE-8DAA-06279F3D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21327-D973-42F7-95C7-0617F34DAFF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grace! how sweet the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saved a wretch lik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once was lost, but now am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 blind, but now I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Twas grace that taught my heart to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ace my fears reliev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precious did that grace app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ur I first belie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18   Amazing Grac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chains are gone, I’ve been set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, my Saviour has ransom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ke a flood His mercy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ending love, amazing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has promised goo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word my hope sec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y shield and portio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long as life end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chains are gone, I’ve been set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, my Saviour has ransom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ke a flood His mercy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ending love, amazing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arth shall soon dissolve lik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un forbear to s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God who called me he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be forever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0-12-18T08:49:35Z</dcterms:modified>
  <cp:revision>13</cp:revision>
  <dc:subject>The Source 4, song number 1718</dc:subject>
  <dc:title>Amazing Grace! (My Chains Are Gone)</dc:title>
</cp:coreProperties>
</file>