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BB4B-FEC9-4E69-B25D-9F232555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C329-E3A4-46FE-A414-9E6E27AE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3156-BD6C-4378-B758-1F43945A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FB9-4768-4366-BEFF-76FA3EA6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7C2F-134F-4829-9D5A-63E21BBA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F7B2-8B9A-48AA-A260-10BF6C4F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6F75-A885-4E14-85B6-EE733B9A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994F-BC99-4FAA-9199-A4EFF936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9C95-0058-4E0B-9D18-C1B647D8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7A4-CED1-4517-9666-B57759B3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4288-79FF-495C-9C50-C3DCC644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45B8-7749-44E0-9178-05E36206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93C45-6F6A-4503-92A7-DCC5F0978DD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ated on the throne, exalt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train of His 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s the temple with gl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hole earth is fil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hole earth is fil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hole earth is fi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3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See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holy is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holy is the Lord of l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1:51Z</dcterms:modified>
  <cp:revision>10</cp:revision>
  <dc:subject>The Source, song number 238</dc:subject>
  <dc:title>I See the Lord</dc:title>
</cp:coreProperties>
</file>