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562-C8FF-48EB-A06D-C310E8B6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A26-9F0E-4947-99E0-FE82AACB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843-EA6C-4FB4-A6D1-D31108B9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7A5-4801-46DD-92B5-5055CC6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DAB-A851-4DB1-9BD9-151F37FC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2B6-5337-4F53-8D79-BCD2A5B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2C3-C410-47E8-8322-2CE5501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E47-193F-47E4-BABD-A0E052C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083-2E78-4186-8F13-BFC0C3DD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E64-88E5-481A-8174-2AB2467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9BB-D1EF-4C5B-B9E4-EFD3A124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4C0-18BC-410A-A279-8C75F31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FBAB3-75E2-44CE-BC6C-53751CA898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come into Your presen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acrifice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I will exalt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You all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livered me from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reated in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Come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exalt His hol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alt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37Z</dcterms:modified>
  <cp:revision>11</cp:revision>
  <dc:subject>The Source 2, song number 815</dc:subject>
  <dc:title>I Will Come Into Your Presence (Lift Him Up)</dc:title>
</cp:coreProperties>
</file>