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45FC-C925-4F66-9768-852EC58D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9EA-401C-4C92-A9E8-67550079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ECD8-B941-46B2-AED2-89BA21CC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99DE-6B68-4A06-BBB1-F8A58381B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2167-D5D3-4D01-B932-4BB48C48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3092-C47D-49FF-9DC3-CB7B1902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C3B2-D8A2-4BB0-86D5-26E11A47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77D7-D63D-448F-8892-127CD958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153E-F449-4E87-9465-5956E6EA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C707-E7AD-422D-9E92-FB81D0A6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9FFC-918F-4812-8C98-6E9520E6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3719-9620-4EDE-89AC-44A8EAB3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0E7C5-FD4A-48DE-8E80-C083BA8A50A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 and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 and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0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King of K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5:27Z</dcterms:modified>
  <cp:revision>10</cp:revision>
  <dc:subject>The Source, song number 307</dc:subject>
  <dc:title>King of Kings</dc:title>
</cp:coreProperties>
</file>