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76A-8400-4CDD-A0CD-BF430A4E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8E8-7906-4F15-B562-280C237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D89-7D9E-4347-BECD-331CCD3C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711-89E0-4B6E-AB2F-94337505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41-0A01-4EC3-8F9C-D6C4035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741-5773-4A4D-86AB-291DC4C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FB1-1F4F-4E49-A9DE-705A85C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E0C-6E63-45FC-B4F4-42FA320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16B-60BD-4EA7-B6C1-2F6C7F6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2CE-B6AD-426B-A4DA-D9749C1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F60-8335-4F7B-8501-B9A948CB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E59-EDED-46D7-98C5-D9B6365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AE8D-FEDB-4753-AEBD-DA1BAAFEB9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and of strang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her thou art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a far voic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well-spread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rgotte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s rest and plen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ou art friendless, hom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less, and un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love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rom the land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ing, famished 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love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ave the haunts of ri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ted, woebe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t heart and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door still op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still m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yes of love are 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ar off thou hast wan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thou farther ro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all is pardo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7Z</dcterms:modified>
  <cp:revision>13</cp:revision>
  <dc:subject>Slavic hymnal Гимны веры христиан, hymn 353</dc:subject>
  <dc:title>Welcome, Wanderer, Welcome! / Из чужого края</dc:title>
</cp:coreProperties>
</file>