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5721-84F8-4967-BFED-773F69A55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2045-91D3-4732-A8DC-3E216165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1B67-88D5-4813-BEDD-0E8DC636F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93DF-73EE-4AB5-B3A8-202364B71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2EBD-85B2-4603-AD52-956A0B50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D55B-78E7-4E93-BB85-BA615CA8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ECE1-5731-4748-A6C4-7FD7F3CE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E617-236C-4C76-82B4-3C340675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8E5D-3AE2-4B50-BF7A-9BDA3144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5DBB-D08A-4CDA-9C6D-B6E7BAD1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0E88-22F5-4755-9AFE-EF9FDD16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C4B7-4265-458F-9C25-81E8CC24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72BA6-09E9-4F8C-8E62-E96531C4DDB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, hosann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 in the highe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, hosann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 in the highe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we lift up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hearts full of pra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exalted, O Lord, our G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 in the highe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82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osanna, Hosanna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,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 King of king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,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 King of king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we lift up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hearts full of pra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exalted, O Lord, our G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 King of king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3:27Z</dcterms:modified>
  <cp:revision>10</cp:revision>
  <dc:subject>The Source, song number 182</dc:subject>
  <dc:title>Hosanna, Hosanna</dc:title>
</cp:coreProperties>
</file>