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D98-E503-47BC-B9C3-5DD3674F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661-E2AA-4811-9338-AA4BE604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129-9C82-4008-935A-09C18C80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531-49E5-48CC-AE6F-763281A8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ECF-96DD-4D97-9D97-5E702789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44D-2124-40DE-8B51-2C0BC15D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49F-7CA6-40B3-95D1-C3256257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8E8-1E9D-494C-89F8-4A53178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77C-51BC-44C4-8CED-281102E8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C48-99CF-4F36-9F8D-968A295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34A-57AC-467C-AB62-37FC4E0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DDB-B407-4D44-8350-F8599BA9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92692-E84D-48E7-8A7B-26B554C6E8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was but a little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well I recol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 would grieve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y folly and negl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забуду детски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абуду детск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атер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чинял не мало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ей 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y and night she prayed to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me in His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ила к Богу день и н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не открылся 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a message ca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bade me quickly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would see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Saviour took her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жды весть ко мне приш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ть при смерти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домой, пока ж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 слезу с лан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omised her, before sh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aven to prep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л ей слово верным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that she has gone to Heav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iss her tender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ушла… хотел б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её рук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was often way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as always kind and g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patient, gentle, l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cted rough and ru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оевольничал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был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ня всех моих про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спешила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ildhood griefs and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ould gladly with me 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е трудности м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ла попол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became a prodig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ft the old roof-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almost broke her lov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ourning afte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удный сын, покину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ёл я в край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ную мать покрыл сты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чем и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18Z</dcterms:modified>
  <cp:revision>13</cp:revision>
  <dc:subject>Slavic hymnal Гимны веры христиан, hymn 803</dc:subject>
  <dc:title>Tell Mother I’ll Be There / Я не забуду детских лет</dc:title>
</cp:coreProperties>
</file>