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9B6-75E0-4C6C-8996-503B50C0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840-89D4-4174-8303-1AEC60CB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830-FE58-462B-A28C-EEAB5C40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055-C046-45AA-82DA-0490876E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3D2-C711-4756-8B47-87F4BBBA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8AB-58EA-46CA-BA5C-49A15A32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D53-EA28-4D61-93E9-D1F5DD7A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248-189A-44A9-AE8D-045DC973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A17-7F05-4B2A-9C32-09CF88FD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393-3199-469E-B678-7E73CCA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96E-5518-43D4-821D-01644412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6AD-25F1-4FB1-8EDC-4C4895E5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AD81A-2907-49AC-BE61-BA5C00FFB1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благодать избер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слова вознес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Спасителя примешь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ую тьму изберёшь ил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ывает: о, дай же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а благодать изберё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ечный суд угрож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ок путь жизни и тесны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и ты в царствие внидешь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н обрёл тебе кровью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оспода крест понес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ечная жизнь: ожив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скитаний твоих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увещанья Сво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ери Иисус к нам не вечно ст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ую цепь ты порв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точнику жизни прид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ешь ли в двери отверстые н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твоём Ему будет ли хр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за тобою спешит по след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5:47Z</dcterms:modified>
  <cp:revision>12</cp:revision>
  <dc:subject>Slavic hymnal Гимны веры христиан, hymn 398</dc:subject>
  <dc:title>Христа благодать изберёшь ли?</dc:title>
</cp:coreProperties>
</file>