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DC9-4ED8-488A-8458-26662A45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80C-318D-4568-A751-CD83BBEA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F6B-1418-4382-8FC4-C80B22D7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A42-543E-4023-A7E4-C1DF096A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C2A-BFB6-4B12-B475-CDED39D4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56E-E746-46EA-8B0E-1814486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BD6-65AB-4BC0-A489-CE91A568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138-7B6A-4C94-BD8A-21F9A8D5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DCA-E55C-4C82-9C1D-C780F338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915-3021-40DB-A499-1FF23105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1FE-90A4-4925-BB39-BD56303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4EF-FCBD-46DA-B1FA-56B69C6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F09C8-CD62-4675-B8A9-D422A4384F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04Z</dcterms:modified>
  <cp:revision>12</cp:revision>
  <dc:subject>Slavic hymnal Гимны веры христиан, Ukrainian hymn 69</dc:subject>
  <dc:title>How Swiftly All Our Days Go By / Як скоро дні біжать вперед</dc:title>
</cp:coreProperties>
</file>