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3E5-E8D4-44B8-9B6F-C010390F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595-A621-4D2D-9BCC-DCFE07A9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B64-2453-472F-BC07-F9AEC91F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CA8-35A3-4065-8E30-E8D77FF3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857-504E-4151-B266-A217AEFF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ACB-B88C-48D3-A075-FF85910E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B92-F301-4B95-A2FD-C3C52FDA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E79-01DC-43D0-B4D5-B1CB1DF8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6DF-6766-47B7-B661-72ADEDFB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579-854C-48F5-8BF5-1C9D4BCB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187-420F-408D-BC53-BAA97563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000-940D-47E7-B8C2-04DB3691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231FD-81F0-469B-915B-39FFA62478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й черед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день один к концу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стаёт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л, уповал, 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л с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Христос чрез мрак мог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в Свой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обьёт и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час жи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у после обита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о Богом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верю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Господний 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страшен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век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станет жданны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не с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между слуг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го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19Z</dcterms:modified>
  <cp:revision>12</cp:revision>
  <dc:subject>Slavic hymnal Гимны веры христиан, hymn 735</dc:subject>
  <dc:title>Как скоро дни летят вперёд</dc:title>
</cp:coreProperties>
</file>