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926-6C6C-4FC0-B0D9-96AB6D98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8E0-031F-4BAF-8EAC-E177EE3C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F16-E109-4F4D-A96E-520AD620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780-246C-4ABD-8161-77A73050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2A9-CDAE-43B5-8DF1-111DADCF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763-49C1-4189-B6F2-4034C0AC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1EE-5C4C-4311-A160-E36D0E0D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1EF-690B-4FF0-85D1-1AB8DD35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94E-EE1E-49FC-ADC4-9FAA68B8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777-1EE5-45D1-BA56-D7794124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87B-D9B8-4E30-8320-AF36CF11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C31-F12B-475A-B174-697FC619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991BC-C8B1-4F9B-B02C-1513C505E9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door of salvation now stands open w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beckons; oh, what you will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out hesitation, proceed right ins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lay could be fatal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йдите, друзья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йдите, друзья, все в отверстую две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Искупитель зо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мало не медля, войдите тепе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знает, что завтра нас ж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Jesus to earth very soon may retu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usher in eter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im will all reign who His call did not spu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out Jesus, where will you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Спаситель наш скоро при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станешь ты делать тог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ённых Он всех в Своё царство возьм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роется дверь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nt now before Him: He will pardon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guilt will be all washed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body and soul by His grace He’ll rene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s calling—receive Him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кайся пред Ним, Он сейчас всё прос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оет пороки тв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ушу, и тело твоё обнов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медли, к Иисусу при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29Z</dcterms:modified>
  <cp:revision>14</cp:revision>
  <dc:subject>Slavic hymnal Гимны веры христиан, hymn 333</dc:subject>
  <dc:title>The Door of Salvation Now Stands Open Wide / Войдите, друзья, все в отверстую дверь</dc:title>
</cp:coreProperties>
</file>