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ADA-C98D-4BCB-836D-33887856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4B0-000F-430D-AB3D-C372066B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370-29B6-464C-9C8C-059CB892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D21-D5C8-4FA9-9475-330A52E1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616-97DE-49B8-8BD2-D07E5680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471-B93D-4B83-AD38-4D214F9A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EEA-4A3F-4B9F-B38C-AE7D6870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C85-075C-436D-88E8-5EE9ED81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F0A-1C3D-48BA-961D-FE566A5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321-ADD8-4171-BF56-1EC50CA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4EB-EC9B-47CB-9466-41D3427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D15-45A2-47B3-92FD-1AEF8AFB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1692C-D574-4CC6-81CE-4C93739AAF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morning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ile the dew is spark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’mid springing fl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en the day grows bri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in the glowing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sunny no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brightest hours with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sure an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every flying minu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to keep in st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 works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er the sunset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ir bright tints are g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daylight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ill the last beam f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eth to shine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while the night is dar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4Z</dcterms:modified>
  <cp:revision>13</cp:revision>
  <dc:subject>Slavic hymnal Гимны веры христиан, hymn 529</dc:subject>
  <dc:title>Work, For the Night Is Coming / Друзья, взошло светило</dc:title>
</cp:coreProperties>
</file>