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A1F-4018-4B51-A00E-A74BCB81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CF6-DCC8-477C-A8D1-507BC1A3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618-A1D0-4856-85A8-35744724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461-44BF-404A-B60F-6CA0CAD5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2A1-1A67-4030-BC07-9DA00C97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63A-C684-4E00-B95D-4A910FB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05D-24E6-442A-B4CC-90B840A8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45A-F707-4942-B231-376E328F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AD1-25F1-4144-9E30-78B4B87E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D09-8405-4A0C-95D3-453E734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6CA-3766-4D50-BF25-63ED6BE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97D-08C2-48B6-9969-982FE5F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D5CBD-E421-48E1-B0CE-CE6DA42B6D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к я не залишу святую Біблі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ій знайшов спасіння 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5   Повік я не зали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є спокусі і обгортає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дає побіду і розгоняє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іб’юсь з дороги, с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євих фи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мене справляє до віч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їй лиш довіряю, знаходжу в 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м сяє Сонце Правди й люб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34Z</dcterms:modified>
  <cp:revision>12</cp:revision>
  <dc:subject>Slavic hymnal Гимны веры христиан, Ukrainian hymn 45</dc:subject>
  <dc:title>Повік я не залишу святую Біблію!</dc:title>
</cp:coreProperties>
</file>