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BBB-883C-4ACC-805E-83276CA8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CEA-67E1-419C-A3A2-04014FC6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B94-1359-4893-AB3D-0F4007D0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08E-3960-442D-8312-B4FD7BC7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D66-B8F6-4916-BECF-4CFA8913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4F6-A08A-4662-AC97-9D20E90F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390-60B7-48DE-A60A-20D5F87B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F0B-1F91-4BE9-8C50-CE3E9261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322-865D-487A-A068-59152233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892-2B37-45F6-ACC6-DCCD8FB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A66-0CED-44D3-8D77-253E1F75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D83-94BC-4349-AE41-269644A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A4A92-1DEC-4A2D-A950-A9DE894A11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, достойний 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 від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серця повн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піваю вс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сюди славит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9   О, Ісус, достойний 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правди осі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 небесний у серця посл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ою за нас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Ти нам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 д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хорониш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ш Духом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авди утішаєш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53Z</dcterms:modified>
  <cp:revision>13</cp:revision>
  <dc:subject>Slavic hymnal Гимны веры христиан, Ukrainian hymn 29</dc:subject>
  <dc:title>О, Ісус, достойний Ти</dc:title>
</cp:coreProperties>
</file>