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2F7F-93B4-4E61-8A88-DAF95013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894-749E-4E1E-9DFD-9B07A47B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D216-F0F6-47AA-96E3-55A9942C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07FB-F8F8-4A56-BD47-7175B9AD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071-954E-4DB5-91F4-E21115F9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E4C-FDF9-4898-9968-05AB4AFC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6C3-D7A6-4255-B4D8-7A93B29B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A42C-222F-41C0-8A31-957C5BA6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165-9FF9-48DA-A0B3-C85921FA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EC25-AB1E-4102-A4F7-E8FAB484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EA6-C58E-492A-8B0A-A88EA343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BC87-4131-462F-B6CB-CBCE7D48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C2F89-4EA4-40AD-AC4C-A9B33F882A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еял ты, друг мой, весн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ли в родимом кра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, как кружатся тол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ницы-пчёлы в са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сеял ты, друг 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еял ты, друг мой, весн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лаков ли хлебных з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сьев волной золо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ыто всё поле твоё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ядом, — о, страшное пол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раг ли посеял там з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ючей, опасной тра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густо оно заро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еял ты на поле жизн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или злую враж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т твой посев и созр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вечности примешь ты мз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еем Учителя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ое слово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жертве Его всем расскаж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олитой Агнцем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день, увидим мы в н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ных, счастливых люд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ую жатву спасень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ей, безустанно, друг, с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4:45Z</dcterms:modified>
  <cp:revision>12</cp:revision>
  <dc:subject>Slavic hymnal Гимны веры христиан, hymn 545</dc:subject>
  <dc:title>Что сеял ты, друг мой, весною?</dc:title>
</cp:coreProperties>
</file>