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B29-9D6B-471E-9A32-1D0D9C53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53D-0A5E-486F-A95D-FD0541C7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E5D-A8EA-41B9-9F35-16AA6BD0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C41-EF4F-4CE7-8364-60F1DA1B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24D-A0A4-4770-A7FC-B5B8AE9E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713-E2B9-40EB-A7D4-80718AD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E7F-5B14-410F-92C2-514A773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A8B-A8B0-4922-8655-77F44123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3E2-9B79-4577-9E6C-F776B56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C83-90CA-4870-BEB9-DD4915B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CF0-858D-4F6F-A0F2-966B4B5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571-573F-4EDC-9D5A-43607541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70977-7A3A-4D5D-95F7-0886F212CE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, thy mission high fulfill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ell to all the world that God is l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who made all nations is not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soul should perish, lost in shades of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how many thousands still are l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in the darksome prison-house of s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one to tell them of the Saviour’s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of the life He died for them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 to every people, tongue and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God in whom they live and move is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how He stooped to save His lost cre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ied on earth that we might liv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sons to bear the message gl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wealth to speed them on their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our out thy soul for them in prayer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 to bring the bright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лись всегда за призванных к служенью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51Z</dcterms:modified>
  <cp:revision>12</cp:revision>
  <dc:subject>Slavic hymnal Гимны веры христиан, hymn 852</dc:subject>
  <dc:title>O Zion, Haste / Сион, спеши…</dc:title>
</cp:coreProperties>
</file>