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2B1-25EA-44B3-A59B-8359A119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88C-1544-427F-BDF0-E79F6E10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1EB-556B-4A5D-9E94-A45DF918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FA3-3596-492A-86B9-22F0BA2F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809-29BA-4B10-8CB9-85407DA5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D7A-5E14-4B71-BB76-ADD7E7D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2D0-4AD3-48EE-AF3B-3B36E1D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F54-57D1-4031-8FB2-6A7D573D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358-4C65-477B-8A70-F4CFD1A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768-18EC-4C78-BAF8-CDFC115F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CD3-28F3-4035-945F-B7F6566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AC4-30F7-4A0A-BEB0-34E1391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D1D2E-3CA9-465F-A9FD-6DC9F72B53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 ручеёк резвый быстро 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всё он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у песенку звонк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б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гор ручеёк рез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вку засохшую влагой жи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всё он блес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ек, цветочки обильно п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и шире вперёд он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шире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 пути он отраду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ю струйкой дитя может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Богу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вать всех, утешать и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29Z</dcterms:modified>
  <cp:revision>12</cp:revision>
  <dc:subject>Slavic hymnal Гимны веры христиан, hymn 752</dc:subject>
  <dc:title>С гор ручеёк резвый</dc:title>
</cp:coreProperties>
</file>