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67F-0290-4DA8-B33F-FB254BEC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B14-E263-48DC-8A10-D2B362DB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999-AED5-4AA8-8D33-08B88A16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429-C1AB-4BCC-8CC8-44569C3F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1B6-9F3E-41B1-B3FC-F0765E76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0D0-9A43-4DF6-B79E-43DB3F8A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091-4332-4152-8D3B-8DBE1F2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119-9964-4722-A774-B5600F9D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523-7578-4C63-BFB3-D03C6686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6F3-23E3-4A17-AAC1-A873ED8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CAD-66A6-475F-B226-F22A36B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5BB-59C5-4EC0-BA73-A3CF210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D4DBA-3708-46DA-ADF4-3BCC73B23A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дорогой один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дел странника с су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нулся, шёл под ношей тяж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сказал, дав знак ру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я дорогой одино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ворил ко мне и сраз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л, что это ―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мне жизни настав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кто, шедший в Емма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, Боже, нести крест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передо мною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от которого я сердца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до сих пор закр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крест нести я буду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достижения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ятой Своей десниц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ошу снимет Сам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7:24Z</dcterms:modified>
  <cp:revision>13</cp:revision>
  <dc:subject>Slavic hymnal Гимны веры христиан, hymn 447</dc:subject>
  <dc:title>Идя дорогой одинокою</dc:title>
</cp:coreProperties>
</file>