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E43-286B-4E5A-BD98-56FF1A14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9E5-69C2-41D6-A156-869CC925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237-C2F2-4DA9-AF3C-40EC3CB6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8BB-E52B-46BF-99A1-3B8FB22E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AA6-399C-48CF-9B55-2C80C11F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E9C-717F-4126-BF56-88516FA4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07F-4738-4ACC-BE99-7E589BE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44C-F977-425F-8124-3A13676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993-2913-443E-B4F5-C94CE03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FC1-D397-4968-97F1-502B090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772-6E61-4A20-9A54-BB53BD9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5FD-C39E-4B7A-8208-6AFE079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987AB-6CA8-48A6-84ED-016538AA95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4Z</dcterms:modified>
  <cp:revision>13</cp:revision>
  <dc:subject>Slavic hymnal Гимны веры христиан, hymn 691</dc:subject>
  <dc:title>Sweet By and By / Издали нам сияет страна</dc:title>
</cp:coreProperties>
</file>