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502-7F26-4FFB-AF25-2EB95BB9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AD4-5849-4532-9FC3-BBB16437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CC4-1499-4307-B078-C0BD600A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E80-7293-43C3-A4AD-B8108BFF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62A-F4E9-4B5B-BCAA-25B06095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1A7-F6F4-4468-9DD7-6CC87E55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B99-A714-4E88-833B-14F9B1D8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CF1-B646-4D11-A114-F86DC0D6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590-48C7-4B81-BDF2-08231D1E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C42-63FE-4E1C-9EBA-0D0D0D79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035-6BAE-463A-ADF4-6FA4E6E1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E3F-36C8-4D95-9849-95C1EF63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267B7-7D25-4212-AEB9-4EF766FE24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man woe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идите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е, скорб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vacan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triumph 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м здесь и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смелей, друж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oundless love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hall this tongue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nd’ring mortals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tchless grace div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одходящ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ным рас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же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, a child of h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in His image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ных ра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у подн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Christian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, кто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, long night is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breaks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 dreadful w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ury of the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и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рылася тюрьм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а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’er the golden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advances f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ца и 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свет и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great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ev’ry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ull deliveranc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Царь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ительный баль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5Z</dcterms:modified>
  <cp:revision>13</cp:revision>
  <dc:subject>Slavic hymnal Гимны веры христиан, hymn 305</dc:subject>
  <dc:title>The Comforter Has Come (O Spread the Tidings ’Round) / Несите эту весть</dc:title>
</cp:coreProperties>
</file>