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A44C7-0425-44BB-BD62-F9FD5D643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100F4-744B-44F3-B249-A85E7841F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05C44-8B91-49A1-8585-EC1B0D283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B69AA-C864-44CC-8D59-410AEE4C2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3BC19-A2EF-483D-924B-83A9B23DA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12793-40C1-46E0-B615-E8B92ACD1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52371-5817-4198-A420-A5C2106BF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4404B-2EEA-42DC-BB8E-5B41AC229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A6EED-F7C3-47D2-A540-BBE7BC91B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85FFB-25B3-4DF1-8431-491680630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AA56B-5FFB-4C53-AD4D-7F1E80B3D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09369-FFEA-4873-9CB2-4B9BC14B5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C0F5F2-24D8-44CD-AE78-9E0243BF9703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 нами Бог, хто буде проти н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оти на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 нами Бог, хто буде проти н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оти на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 нами Бог, хто буде проти н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оти на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ак Павло апостол нам сказа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620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8   З нами Бо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сь, Я з вами буду кожний ден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жний ден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сь, Я з вами буду кожний ден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жний ден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сь, Я з вами буду кожний ден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жний ден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ак Господь Спаситель обіця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ров Христа змиває кожен грі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жен грі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ров Христа змиває кожен грі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жен грі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ров Христа змиває кожен грі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жен грі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ак Іван апостол написа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ар Святого Духа Господь н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біця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ар Святого Духа Господь н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біця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ар Святого Духа Господь н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біця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ак Йоїль пророк пророкува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9T02:27:40Z</dcterms:modified>
  <cp:revision>14</cp:revision>
  <dc:subject>Slavic hymnal Гимны веры христиан, Ukrainian hymn 8</dc:subject>
  <dc:title>З нами Бог, хто буде проти нас</dc:title>
</cp:coreProperties>
</file>