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332-F404-4183-95A3-D3F6A9FB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C13-2F6D-4ECF-8421-B49DB758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2D6-6B3B-4126-AE7D-D7BEDF7D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291-C9ED-4FA5-8AF7-BEE5E2C6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61D-1070-4965-9338-B37E2575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C4D-690D-4F21-9237-EA354922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62F-374B-40E8-879C-6D7A4B0B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2CB2-9B22-40D7-9BC7-2B192D12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0C11-E2D7-4D1C-B732-08B884ED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E0A-DA19-451B-B962-EF180041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F34-4314-4BA2-BC6F-15934B92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069-BF15-4873-B6D1-31BDFC74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EDB5E-EA65-421F-A638-57432CCC7EB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Голгофській горі бачу там хрест стар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є символ мучення й нару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ле люблю цей хрест, він мені дорог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нім Спас за весь світ постражд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0   На Голгофській гор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ой старий, шорсткий хрест, що світ т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низ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всіх вірних збира і ме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 Христос у цей світ прийшов, щоб хр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яж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 гріхи нести всіх і мо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хресті тім старім, кров Христа видно т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оминаю все я час гір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 за мене текла кров Ісуса свя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Щоб обмити мене із гріх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оглядати буду на старий хрест шорст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уду нести я стид і ган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Спаситель мене в дім Свій вічний візьм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навіки там з Ним я б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6:57Z</dcterms:modified>
  <cp:revision>12</cp:revision>
  <dc:subject>Slavic hymnal Гимны веры христиан, Ukrainian hymn 80</dc:subject>
  <dc:title>На Голгофській горі</dc:title>
</cp:coreProperties>
</file>