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010-2DBB-4EFE-B6EA-F4D0ABC3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F74-5D8A-4B58-923E-5C1F8FC5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E22-2620-43A3-B165-285B1AF2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023-ADE6-42A0-9B68-1D053596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08FE-5747-43B1-8874-BAD4C8B9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823-3730-431F-82BD-DC8B1924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DC5-5012-49F4-9222-80F3328E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2E4D-C886-4483-8BAB-F00AC8DD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D4F-A89D-4E02-8338-B60C49B3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B30-11ED-436C-9196-C60FECAA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9A0-AF4B-467E-9BCD-7C6343D0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EEFD-10FD-4033-8E73-8F787D6C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781B9-96D8-46EF-B6FE-65F7F2A7CB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друг, когда настанет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ть нам всем пред Богом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ие великое увид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войдёт, но кто будет вне в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друг, когда настанет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х увидим тех, с кем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смерть внезапно, быстро разлуч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войдёт, другой будет вне в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думай, друг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друг! Тогда настанет врем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плач обмануто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дишь, что напрасно провёл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напрасно, нет возврата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ведь разлуки вечной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а с отцом, брат с братом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лоне дня стучать будут в дверь р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знаю вас», — услышат глас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ведь тогда настанет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ти разумным в брачный пир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во время запаслись е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них пришёл, они вошли в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жить, любить здесь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дать в полночь, когда жених пр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бодрствовать с надеждо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рядёт Он взять детей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8:18Z</dcterms:modified>
  <cp:revision>12</cp:revision>
  <dc:subject>Slavic hymnal Гимны веры христиан, hymn 321</dc:subject>
  <dc:title>Подумай, друг, когда настанет время</dc:title>
</cp:coreProperties>
</file>