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E9D-CA2B-4979-B627-625A06CE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5D3-4996-4B4C-9FF5-B4A7D87A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56C-4132-4D55-B9E1-21A9EA8D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18E-8A96-48D6-A0C1-9843FF02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57B-7B59-4405-828E-47DA581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7CF-A6A4-4BB5-867D-B6B10B57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068-0257-4942-8EF2-6C086D7B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4FD-4CD1-473F-B074-D35937D0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060-AEF3-4EEC-9B11-9D094386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E15-8BAF-408D-BB68-5F8DB537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CF0-F162-4E7B-9DCB-0B6058B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2BB-D7FB-4CEA-8544-2AE74B9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B47C0-F44A-40F1-A45F-52E0BE83C1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on His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 tear you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precious in His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   Before the World Be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you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to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your gift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 hearts, broken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tak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11Z</dcterms:modified>
  <cp:revision>11</cp:revision>
  <dc:subject>The Source, song number 40</dc:subject>
  <dc:title>Before the World Began (So You Would Come)</dc:title>
</cp:coreProperties>
</file>