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7006-8650-43BC-9822-1227D5427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2634-A1C9-4342-9D83-D7278B08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BC3C-3047-4A79-A080-74C65986D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A00A-6514-4B7D-8B49-DC117F5A1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CFBB-E193-4A07-9D1B-085FBC41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557B-89DD-40F3-9AC9-13BFFFBB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9225-6A28-4B7C-8D85-06380F3B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0487-A217-45D9-8461-ADD68530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BCE2-F7C4-4BC8-B40B-07C61D2E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E47C-F9AF-4C76-94C7-4F8F1028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DB78-E900-4DB9-8EEB-FE59FBEA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AD4B-B817-451E-A60A-387EE6AD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D5362-1D27-411C-90BB-2DB7A3A6060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found a Friend, O such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oved me ere I knew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drew me with the cords of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us He bound me to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Друга дивного поз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руга дивного поз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ть ли в мире равны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л меня, когда не з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ви я слав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ound my heart still closely tw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se ties which naught can s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am His, and He i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ever and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с Собой соедин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илостью держав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увство веры мне влож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Его вове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found a Friend, O such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bled, He died to sav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t alone the gift of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His own Self He gave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руга дивного позн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, о люди, верь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 грехи с меня Он сн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 меня от смер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ught that I have mine own I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hold it for the G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, my strength, my life, my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His, and His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все к стопам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пытом измерь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елика любовь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, и вове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found a Friend, O such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pow’r to Him is g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guard me on my onward cour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ring me safe to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руга дивного позн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илой облад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если б мир мне угро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мощь обеща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’ eternal glories gleam af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nerve my faint endeavou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now to watch, to work, to w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n to rest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ера от Него д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мой ободря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кругом борьба, войн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ем покой вове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found a Friend, O such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kind and true and te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wise a Counsellor and Gu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mighty a Defend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руга дивного позн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ящ бесконеч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м советником Он 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ждём к отчизне ве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im who loves me now so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power my soul can sev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life or death, shall earth or h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! I am His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ая сила разорв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юз мой с Ним сердечны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жизнь, иль смерть, иль чад забо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Его вовек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41Z</dcterms:modified>
  <cp:revision>13</cp:revision>
  <dc:subject>Slavic hymnal Гимны веры христиан, hymn 597</dc:subject>
  <dc:title>I’ve Found a Friend / Я Друга дивного познал</dc:title>
</cp:coreProperties>
</file>