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6DC-5D34-4633-8968-837C73A0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A12C-2BD2-4C54-B9F6-53399D74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446-6BC9-42B5-AB5F-C4D2B918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227-AACE-4C9C-96E0-D89113C5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ED8-E8AA-4310-93BC-66A7C38C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023-50DF-470F-BA08-D1933225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92E-78FD-48B5-BA42-296675D1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394-EC1A-4251-97B0-D7AC694E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CEA-E207-43B9-8F5F-0CF0C96D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31A-B53E-410F-BA5B-0B96B449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2B4-5252-4DA1-A83E-D1E97EEF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EC9-E296-4E53-98B7-8596F98F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4D421-F459-41BA-B324-F5DC688F6E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тон бесшовный Господь но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ны аро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ой одежды меня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идти я р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итон бесшов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зведал страдани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ак алой горе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умер за Сво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учший дать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дежд запах ка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ходится кру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болезней и слаб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альзам целебный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ежде славной 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м лишь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н Своих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м с Ним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5:18Z</dcterms:modified>
  <cp:revision>12</cp:revision>
  <dc:subject>Slavic hymnal Гимны веры христиан, hymn 837</dc:subject>
  <dc:title>Хитон бесшовный</dc:title>
</cp:coreProperties>
</file>