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3а   Если тяжесть нам</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Если тяжесть нам на сердце ляж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горе давит нас и мор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м спасенье при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другого ближнего так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аш Спаситель Христос.</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лёз потоки обжигают щё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 ли тайный мучит постоян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м спасенье при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другого ближнего так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аш Спаситель Христо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корбь земная душу ль угнет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ь заботы тянут от раб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м спасенье при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другого ближнего так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аш Спаситель Христос.</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мерть ли тени вносят мрак сомнен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ь вздыхаем о Господней сла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м спасенье при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другого ближнего так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аш Спаситель Христос.</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06:07Z</dcterms:modified>
  <cp:revision>4</cp:revision>
  <dc:subject>Slavic hymnal Гимны веры христиан, hymn 163 (as amended)</dc:subject>
  <dc:title>Если тяжесть нам на сердце ляжет</dc:title>
</cp:coreProperties>
</file>