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C26EE-6BA7-48B8-A8AD-752803D83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E157B-1746-45DA-AF03-C081D6B7E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DD70-B7A3-4602-8B22-699907608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96EA0-CB9B-4AF1-B87E-6A7AB036E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75A48-B524-4829-A25B-5305520F4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9DD27-6EA9-414F-AF46-CFD003595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32CF8-B9AD-4258-BDD0-B446EA116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7F5F3-240D-4D43-8577-2C59B4CAE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7EA4-7AC9-49A0-A16C-FE9C69461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212D1-A9EA-47AA-82A6-D0202CB1D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6FB35-3294-4239-96A4-CCF2A6FBB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F2EEE-FF24-49A9-8527-E46C110D7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EFE16D-D2B9-4F5E-8F1E-1D9CFC1E507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Божья вечная любов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ты влечёшь меня к се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отдаюсь тебе впол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воей безмерной глуби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точник всех дар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свет, что следуешь за мн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ми коптящий факел 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в сердце яркий веры луч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шедший из страны и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ыл светел и могуч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144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3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О, Божья вечная любов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радость, что в душе мор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енила ужас бурь и гроз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вижу день и в тьме ноч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верю: там, где Царь цар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будет тьмы и слё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крест, хотя внушаешь стр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без тебя мне нет венца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емное всё кладу во пр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емлюся к славе в небес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к жизни без кон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5T10:32:52Z</dcterms:modified>
  <cp:revision>12</cp:revision>
  <dc:subject>Slavic hymnal Гимны веры христиан, hymn 831</dc:subject>
  <dc:title>О, Божья вечная любовь</dc:title>
</cp:coreProperties>
</file>