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A6E-932F-486B-B778-7466B6D3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9DC-8025-4C60-B3D0-79419B3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17A-D2A8-41D9-8675-6BCF94E0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7BB-3BE7-44CC-A578-36827953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110-BB73-4B66-AF40-FE8D9D7F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06E-2A1A-4FB0-AB2A-8690F0AD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8DA-D348-4D62-8B69-71537D6D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E9A-8EC4-46F4-AB30-CCC5B9B8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725-F259-418F-828D-BCF0AD21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110-FC8C-4A7B-81EF-9DC0EA4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622-6F5B-4731-94A6-DCEB8695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52F-0720-4560-AE16-BB0B1A6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18C22-D15B-44D0-BCD8-301DDCFE7F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я шум, как бы множество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н ожидания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ся, Невеста! Жених тво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час брачного п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лышу я ш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ь всё, чем мир твоё сердце му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, печаль, ожи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помни, как Бог Твой теб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онёс Он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, как один Он любить тебя 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й, на Иисус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, как Спаситель твой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, за тебя уми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как поверил любви Он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что Он любит на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выше и глубже всех гор 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Его вечна, безм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36Z</dcterms:modified>
  <cp:revision>12</cp:revision>
  <dc:subject>Slavic hymnal Гимны веры христиан, hymn 326</dc:subject>
  <dc:title>Уж слышу я шум, как бы множества вод</dc:title>
</cp:coreProperties>
</file>