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14F3-20A2-48A8-9F95-866BBCEC6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F8DB-F2EB-4B17-A4A8-E6783312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86C0-228F-4827-A821-427304314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47E6-CC29-4CD1-84C2-7412D37C1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2588-C130-407A-BF26-7510E349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0C04-D6E5-4586-8672-5E53D693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AD3C-B55D-48C7-86FD-1A28F767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0C2E-EC4A-47C2-89D6-3686CC88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E8FC-D892-451D-A90F-6206DC39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ACAB-10E2-42E4-9A05-550E5264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EDFC-6710-48FE-B75D-BB675214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142F-CDC9-4DB7-A514-1E54A8D3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9F695-79B2-4221-9FF3-7B99289E793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Спаситель Иисус призвал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зов Его идти решился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тернистому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приходится ид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 надо побеждать мне на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земной позором здесь клейм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гда он ненавидит за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Христа любовь силь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епляет Он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огда не забывае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09440"/>
            <a:ext cx="984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Спаситель Иисус призв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Спаситель Иисус призвал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а к Нему идти решился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стречу на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рни острые, ши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как мученик Стефан, удары камн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Спаситель на земле здесь проход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гда Он окружающих люб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паситель, и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, чтоб я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 любить, прощать, страдая за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кончится земной тернистый пу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гда Ты дашь от бури отдох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 будет скорбных 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отрёшь слезу с о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любящей пронзённою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7:52Z</dcterms:modified>
  <cp:revision>13</cp:revision>
  <dc:subject>Slavic hymnal Гимны веры христиан, hymn 472</dc:subject>
  <dc:title>Мой Спаситель Иисус призвал меня</dc:title>
</cp:coreProperties>
</file>