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41D-5CBE-4C73-B1D8-F654FB46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F88-0DC7-4296-A960-0AA6C898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8B0-A0E5-407B-BBDE-DA258E40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EC8-F93A-434C-8032-686959B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D89-A277-4E74-AB34-40709930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DAE-D4C7-47CC-9F6B-DB79EB3D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5E8-9D25-48D3-BE12-3D91B89E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D85-07E7-4EA2-BF59-1045AA29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F08-0E19-4905-8425-B6B6A56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AEE-6B53-4BCC-9C7E-46AA47AD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6F6-1645-48A8-A880-B22318A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E56-CEAE-40AB-A5D4-11607AE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14AF0-8D0D-43F5-B414-EB6B0AD0CF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3   Thy Word is a L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31Z</dcterms:modified>
  <cp:revision>11</cp:revision>
  <dc:subject>The Source 3, song number 1563</dc:subject>
  <dc:title>Thy Word is a Lamp Unto My Feet</dc:title>
</cp:coreProperties>
</file>