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A8F-6DA8-4FFE-A8DD-17F70BEB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1CA-1F00-44B6-A712-04CE8D48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669-98C6-46F5-9B71-2387105C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FF3-A00B-4F58-917A-36DAF8A1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78B-2DF9-4A9C-875A-4905A52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ABB-FD6A-4D4D-B822-96019D8E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8C9-1B8E-47EB-9150-C62EC003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6A-6CB2-470B-A726-6D1256F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36-860C-4625-82E8-485CB46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1A8-ECF2-4A45-BA76-AC7ECD4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A67-B9EE-4475-8941-17E941D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F5A-2641-44C5-AD21-A8271B0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00AC1-4D04-4DCB-806D-F5AA28DF3C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shore, heaven’s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long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my loved ones who ar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ide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earn for heaven’s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to be with all the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ward, heave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lift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promised rest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enter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s are long, the battle fi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do m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 find no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healing for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be soon, very so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ake my f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last to enter into rest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eye has never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human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mind could not con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3Z</dcterms:modified>
  <cp:revision>13</cp:revision>
  <dc:subject>Slavic hymnal Гимны веры христиан, hymn 688</dc:subject>
  <dc:title>Heaven’s Shore / В край родной</dc:title>
</cp:coreProperties>
</file>