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DCA0-51B5-4324-B06A-520E734A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4FD4-914F-43E6-97C8-FF5E92AB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2E0F-A627-48A7-AF08-1F34A13C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7A16-EF58-4A7C-923E-7CA1FDB1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B0E2-2C30-4449-A403-A70A06A1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3E92-1F4A-4AF6-BD66-C5BA4464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EC24-112E-4F64-AEB2-1A3E74BC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B3CE-8D80-4B5E-B5AA-B73DF726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EF6F-3B8A-44C3-B979-7DAA373F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2FB2-53EF-45C1-A292-695D0E77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AC1C-35E4-4BFA-B154-5E027713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A5E1-BBE9-437B-BE47-F7ECA293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CBBA0-BA68-4AB0-8AD9-EB94A354A0A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erve a risen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in the world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that He is li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ever men may 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кресшему служу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шему служ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нами во все д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ю любовь да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н возр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pe of all who seek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elp of all who fi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other is so l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good and 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удручён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ора в час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жизнь дарит и хра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, He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Jesus lives to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alks with me and talks with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ong life’s narrow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век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со мной, даёт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мен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, He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lvation to im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sk me how I know He li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 within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соверш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ите знать живёт Он г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ёт Он и в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ee His hand of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ear His voice of che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just the time I nee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always n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я вижу ру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я слышу гл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тьме ночной Он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, He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Jesus lives to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alks with me and talks with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ong life’s narrow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век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со мной, даёт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мен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, He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lvation to im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sk me how I know He li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 within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соверш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ите знать живёт Он г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ёт Он и в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ll the world around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ee His loving c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o’ my heart grows we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never will desp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круг себя я 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ю доброт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скорби ко мне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 ближе я к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that He is l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’ all the stormy bl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ay of His appe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come at l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бури и смят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славный час Он всех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ебе возьм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, He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Jesus lives to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alks with me and talks with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ong life’s narrow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век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со мной, даёт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мен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, He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lvation to im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sk me how I know He li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 within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соверш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ите знать живёт Он г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ёт Он и в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 O Christi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up your voice and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ternal halleluja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Jesus Christ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, христи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ысьте голос св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Господом предстан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сельем и хва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39:34Z</dcterms:modified>
  <cp:revision>13</cp:revision>
  <dc:subject>Slavic hymnal Гимны веры христиан, hymn 287</dc:subject>
  <dc:title>He Lives / Воскресшему служу я</dc:title>
</cp:coreProperties>
</file>