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90F-6559-48A2-882C-E69FEEF8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12D-3E31-4A94-8F4F-A546DAC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6D0-19DC-418B-852D-5942F1F2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082-17A6-49D5-A1EC-5F430E66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D92-3743-4EE4-98C7-2499FE3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F9E-65E7-40C3-9FAC-EF0F6755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D84-7258-4029-9458-363ADB15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2EF-5421-483E-AE6E-ED66D58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713-A191-4589-B0F1-B6AF86A1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AA3-75CD-416F-A9F4-E236289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5C9-6F7F-4B71-BB58-3F42DB9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164-E8C5-401B-9A48-2B33C84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EAE28-1555-48A5-9A16-5FE7C3C638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 и пой, пусть льётся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ой пламенной ре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си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ённым жизненной тюр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традаль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й усталому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 Божье ― исц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корбящему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стань и п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м в сумрак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лодушным пред бор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и надежду на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у в голос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во все концы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, кто мыслит, всем ж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ты с песней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 любви, грядущий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13Z</dcterms:modified>
  <cp:revision>12</cp:revision>
  <dc:subject>Slavic hymnal Гимны веры христиан, hymn 466</dc:subject>
  <dc:title>Восстань и пой</dc:title>
</cp:coreProperties>
</file>