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131-DE33-40C1-9B9F-B9F9C200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FFE-3C64-4F06-AC48-F0A5CE9C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AB5-B6FA-4258-A43E-CE247DB3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4E5-D26F-4792-B1B5-DCEAE328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DA0-0DD0-473C-AC6E-8DA65F3C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349-FEF5-49B5-863D-4626FF5D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BDF-FD20-4678-ABD3-7687C6A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257-3C9C-46E1-8B31-18D9854B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B3D-0FCD-464D-B2BE-2FC76F7C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34E-086D-4896-9E58-EBF7CAE1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C86-807C-4402-8E3B-29969032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27D-8CD8-4C0E-BCC3-A09000FC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C148E-DB43-4362-AF86-240F51B929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the silver cord will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no more as now shall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 the joy when I shall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e palace of the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порвётся жизни 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рвётся жизни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ая смолкнет пес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 буду там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ах горних я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my earthly house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tell how soon ’twi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I know: my All i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now a place in hea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азрушится се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ещё не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ю, в небе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о место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when fades the golden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rosy-tinted w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lessed Lord will say, “Well don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enter into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станет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земной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уст Христа приняв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 покой Его в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till then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amp all trimmed and burning b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n my Saviour ope’s the g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to Him may take its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веры пуст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бодрствовать и ж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верным со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истова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0Z</dcterms:modified>
  <cp:revision>14</cp:revision>
  <dc:subject>Slavic hymnal Гимны веры христиан, hymn 693</dc:subject>
  <dc:title>Saved By Grace / Когда порвётся жизни нить</dc:title>
</cp:coreProperties>
</file>