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AB9B-43A3-4229-B13C-B01FC36F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299B-DAD5-4839-8252-7F9D3965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E31D-4CE7-4505-AF00-6E43C104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C2DD-D9B1-4D69-80D8-422F8F00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BDA-A455-4744-A220-5C8CDD3C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8499-28F0-4DFB-B60F-268FA777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A370-D43F-4DC0-A66E-1D2BFDF1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708F-258E-4024-ADA5-AC84DDB8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04F7-D969-4BA3-BF99-441389ED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A4BB-22C5-4CFE-B843-A90E56B2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3C8C-CA95-4369-9C9C-411284CC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60D7-81F5-4E5F-A04D-50018C41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BA9DA-322A-4BFF-AE67-A2C0D8E417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r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o else would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ir lif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suffering in my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o could repay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creation looks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provid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You hav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26   Who Is There Like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m lifting up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up my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up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Your grace I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love has come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trusting in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ing in Your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ing in Your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Your faith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pow’r at work 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chang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r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o else would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ir lif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suffering in my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o could repay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creation looks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provid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You hav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m lifting up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up my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up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Your grace I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love has come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trusting in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ing in Your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ing in Your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Your faith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pow’r at work 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chang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m lifting up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up my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up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Your grace I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love has come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trusting in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ing in Your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ing in Your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Your faith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pow’r at work 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chang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3-13T19:34:25Z</dcterms:modified>
  <cp:revision>12</cp:revision>
  <dc:subject>The Source 3, song number 1626</dc:subject>
  <dc:title>Who Is There Like You?</dc:title>
</cp:coreProperties>
</file>