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139B-2772-497A-8E2A-FF845B20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5A5D-4F7E-4D59-BCC7-8262F722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1743-FD98-4503-8B58-5EC67E75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F33B-B2C2-41DD-A08A-F020F5B7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9F2-10EB-4418-936B-254538FA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EA11-770A-4533-B20E-7CFAF727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A43-A95D-4A05-9378-20BC66D5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96D3-31C7-4B5C-926E-E019D79B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DA8-F92C-4A58-A5DB-7FB425B7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37D0-5E32-4519-9F0F-955274E1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0CC4-14CD-4110-9225-41D72176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73C4-07DD-4952-B66B-645613EC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4CCC3-5972-457C-9CB4-EDFB946D88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unshine in my soul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glorious and b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glows in any earthly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is my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есный луч в душе м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луч в душе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ей он всех лу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ветят ярко над землё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луч — Спас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’s sunshine, blessed sun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peaceful happy moments 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shows His smiling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unshine in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music in my soul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carol to my K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Jesus, listening, can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ongs I cannot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гимн в душе мо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Царю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 песню слышит веч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 я петь не 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’s sunshine, blessed sun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peaceful happy moments 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shows His smiling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unshine in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pringtime in my soul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hen the Lord is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ove of peace sings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low’rs of grace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на царит в душе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изок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лубь мира в клеть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любви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’s sunshine, blessed sun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peaceful happy moments 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shows His smiling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unshine in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gladness in my soul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ope and praise and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blessings which He gives me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oys “laid up”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радости в душе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Ему зв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блага, что Он мне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частье лучш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’s sunshine, blessed sun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peaceful happy moments 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shows His smiling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unshine in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56Z</dcterms:modified>
  <cp:revision>13</cp:revision>
  <dc:subject>Slavic hymnal Гимны веры христиан, hymn 587</dc:subject>
  <dc:title>Sunshine in My Soul / Небесный луч в душе моей</dc:title>
</cp:coreProperties>
</file>