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69A-D115-49FD-8162-87B1A485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355-73C8-4CC7-B7F4-C4723303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D8A-7F8D-49D0-A99C-0E540676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26C-F51B-4F52-AA07-D8BCCF37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803-92DB-4904-803D-6E4595BC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FE7-74B0-4BFB-B0CD-470938A2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80F-B3A9-4BCE-92AB-C35112D7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BBD-D67C-4DFE-AB03-2F4986F7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01B-F3A0-439D-AB81-8EAF1893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53E1-C6F8-484B-94B1-06BE15B3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D0E-F747-4928-AECF-F02918C2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595-FDF7-46D4-8560-9E20EE8E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41425-8A38-4A6E-A57C-305F0A9C02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cred Head, now wou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grief and shame weighed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scornfully surro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rns, Thine only cr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древо вознес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о 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 Твой 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 изну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на кресте по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lips have often f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words of truth and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Spirit oft hath l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venly joys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ть ли в мире пес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е б мо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ть Врача болез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pale Thou art with angu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ore abuse and scor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does that visage langu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once was bright as mor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 в венце тернов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расота Тв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ольбой и жарк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взыв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ou, my Lord, hast suff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all for sinners’ g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, mine was the transgre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ne the deadly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чьим вз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решный потря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дручён позо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уган, истом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here I fall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I deserve Thy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on me with Thy fav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ouchsafe to me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 на истяз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ю посягн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й Твоих си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мрачить дерзн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urden in Thy Pa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ou hast born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t was my trans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brought this woe o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яд мучений ц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ытки страшный гн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х проступков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х пороков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st me down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ath were my rightful l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mercy, I implore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er, spurn me no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ою сокруш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пред То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казни заслуж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лжен на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language shall I b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ank Thee, dear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is Thy dying s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ity without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руд Твой и страдань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жертва з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умер за соз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зван к жизни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ake me Thine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ould I faint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et me never, 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live my love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ято осуж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лажена в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м иск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hepherd, now recei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uardian, own m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blessings Thou didst gi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urce of gifts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ушой стра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 Твой я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целяюсь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3:41Z</dcterms:modified>
  <cp:revision>12</cp:revision>
  <dc:subject>Slavic hymnal Гимны веры христиан, hymn 867</dc:subject>
  <dc:title>O Sacred Head, Now Wounded / На древо вознесённый</dc:title>
</cp:coreProperties>
</file>