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CCE-9035-4941-8995-251A5E7F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6CF-6D1A-4310-B9BE-84FB98E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396-9D7F-413A-B284-6785CC51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5E4-EA89-4859-93C3-D315BDFB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F7B-8009-4F04-AE7F-317F38C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5FF-64AA-4A81-BBE6-1C564B48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F11-C75B-4366-AECE-AE8B294C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1F5-7CEB-41F2-BAF6-D27CF481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821-6838-4D45-99DA-D64610F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CDB-3A81-4997-A1E0-326A25E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34B-AC42-4192-9668-8F56F56A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DD3-9EC7-4D95-A141-2AD28A8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79736-B7C0-4C37-814D-9998DB71AE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 is so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its music to rep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kes my joys full and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Him Wh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s all my griefs and bears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s all anxious fears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word of man can ever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Name I love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its praises ever s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7Z</dcterms:modified>
  <cp:revision>13</cp:revision>
  <dc:subject>Slavic hymnal Гимны веры христиан, hymn 607</dc:subject>
  <dc:title>The Name of Jesus / Иисуса имя сладко мне</dc:title>
</cp:coreProperties>
</file>