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57A-D341-4493-AB88-06D12868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76D4-FB2D-478F-8B56-94A7CD59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698-A1C4-478F-8B83-3C58E022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A06-C50B-4BD9-B36F-D8AEC179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68A-248E-4D7E-8BB1-5B3F1C4A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7F0-E4E2-4BAE-8D0E-18ADCDD3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BE4-1D94-4601-AC6C-9091A465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0F9-5FC5-44F5-AA51-0DE93362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715B-BBAE-43F8-B3F8-3F626A8A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8E7-A339-4EA3-B404-27ED5C01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3C7E-E5AE-41F0-B5D4-860A34C1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3EAE-0898-43C5-85EC-1394A702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276C8-5671-44CC-80B8-A5AB52B8DBE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assurance, Jesus is m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at a foretaste of glory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ir of salvation, purchase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of His Spirit, washed in His b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ёрдо я вер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я утешен и Им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а наследье хочет Он 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е приятно Им облад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submission, perfect del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sions of rapture now burst at my s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descending bring from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choes of mercy, whispers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с часа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я отдался, дитя 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полняет сердце м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хожу я хлеб и пить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submission, all is at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in my Saviour am happy and b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and waiting, looking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ed with His goodness, lost in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сильно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стирает Свой кров над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случилось, радостен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о мною Пастырь и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и полный мир и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находит в союзе с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чтоб Тебе я сердце от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 умалялся, Ты б возра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47Z</dcterms:modified>
  <cp:revision>13</cp:revision>
  <dc:subject>Slavic hymnal Гимны веры христиан, hymn 593</dc:subject>
  <dc:title>Blessed Assurance / Твёрдо я верю</dc:title>
</cp:coreProperties>
</file>