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435-3202-4B24-A9EB-52BCAABD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D0E-2199-4E35-BBC1-5A7D551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BEF-7C9B-4C56-B2D0-560F2901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B3F-F7C9-46F4-89D8-8C09CF9F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9BC-6FB6-4777-90E1-2A7DB5E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494-2621-45E8-94AA-292655C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B07-7B05-4129-9DF6-46BEFFC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B36-BDA5-4872-BBC2-1135252C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24D-BBC2-417E-AE8C-C798A1F8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457-8F8C-4CED-92B0-6A53D2C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1D5-E0F4-47AA-AB64-F54A43C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DC0-0A4D-49E5-B8BA-00FFBA6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8A7FF-B2A0-4715-8E7F-6F7A9D6271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97   From the Highest of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06Z</dcterms:modified>
  <cp:revision>12</cp:revision>
  <dc:subject>The Source 4, song number 1797</dc:subject>
  <dc:title>From the Highest of Heights (Indescribable)</dc:title>
</cp:coreProperties>
</file>