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664-CA1F-44F9-A090-EC513A00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FDF-D51D-4092-B6C0-475AD36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CB5-7509-4326-9948-60816D5C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439-6B77-4A08-A2AE-C47A71C5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863-84FA-43F1-A6BC-E2CEF33C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68E-BD48-43D3-B4D0-56153250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254-24D0-40E2-85F4-2DA3C75F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8F9-479D-42C9-BEB2-B950D93A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417-14DE-48D9-94A2-2D93E1F3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D1D-A807-4125-A897-7DCF039A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72C-8CED-4689-B8D3-B4DE54A9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BC7-B0FC-4CE4-ACEC-C66B2F2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CDD36-7437-47A3-A4D0-0CD282DEAB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, грешникам,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в огне тер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друга не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ит то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ердца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ь жизни раз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с верой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и тень сп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чины час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Кормчий твой в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4:03Z</dcterms:modified>
  <cp:revision>12</cp:revision>
  <dc:subject>Slavic hymnal Гимны веры христиан, hymn 489</dc:subject>
  <dc:title>Дорогое обещанье</dc:title>
</cp:coreProperties>
</file>