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493-AF0D-485A-97CD-9E97055B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BDF-0EF2-46A3-848B-9AF5A3EB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759-74BF-40DD-ADF9-ACD0723A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27E-1DF5-4FB4-8E46-B4F3B38C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22F-10BE-4F3D-9D45-9445F274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63B-C61E-48B4-A45E-8574B66A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21B-8D98-434C-A9A8-B1FC4768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110-CDA4-4FD5-BFF1-92DA3560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004-7591-438B-B8AD-8067045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F2F-E87F-41FD-A0CD-6A4A6FA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D5B-3485-4B27-BA32-1AAF1E7F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EC1-B78B-4DC0-B683-0BC1FFE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8BF3E-4AD1-4664-AD55-51BD912F7D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will never let m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ll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a   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34Z</dcterms:modified>
  <cp:revision>11</cp:revision>
  <dc:subject>The Source, song number 290 (as amended)</dc:subject>
  <dc:title>Jesus, Lover of My Soul (modified)</dc:title>
</cp:coreProperties>
</file>