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4B1-3B6C-456E-9A3B-AFEC1CA6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0A6-CBEB-42D6-832B-73ADBBAE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39D-C474-4CE1-8273-12471876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570-2569-452B-87EA-145C1B9D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546-062B-40E0-A4F1-8790A5C4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32A-43D4-475A-91C0-D050552F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C77-13A8-4261-A154-2CC377EE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1D3-3CD4-4447-800D-FADFB126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333-9E61-44FC-B8B3-C03475A1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301-D286-48D1-A34E-7DE04D9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379-7215-4241-9EBF-9A919AA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A45-F0B4-41AC-BB2D-2C728BD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30213-4282-4083-B6D5-D4A8A8D9F1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, mar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, oh, we are m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ight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 Are Mar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, li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, oh, we ar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ove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,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, oh, we are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18Z</dcterms:modified>
  <cp:revision>10</cp:revision>
  <dc:subject>The Source, song number 539</dc:subject>
  <dc:title>We Are Marching</dc:title>
</cp:coreProperties>
</file>