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385-36CD-49ED-8E81-E9A19C9A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CC1-AC0A-4C58-8745-A0D9494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C47-7E16-4256-AA27-B2710E9F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508-9E37-4AB7-A207-BDE59921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7D1-FDFF-453F-BEF2-42DA51FE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5C3-9DEB-4B20-B6C3-D4BF4A5E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643-8A1B-47B8-8F78-159BEDDC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720-3CE0-4500-A89D-8C6DFB82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A56-46BB-49DB-8E3D-B6E5123F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CD5-B91C-4299-95A8-B1F5EF1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E3F-B3B1-425D-B2C8-7E12C8CD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788-A8CA-4680-85E3-4952808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90CE8-AAD4-4EB6-BBE2-AC7CDC86A4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23   God Is So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08:15:10Z</dcterms:modified>
  <cp:revision>13</cp:revision>
  <dc:subject>The Source 3, song number 1223</dc:subject>
  <dc:title>God is So Good</dc:title>
</cp:coreProperties>
</file>