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426</a:t>
            </a:r>
            <a:r>
              <a:rPr b="1" lang="ru-RU" sz="3600" spc="-1" strike="noStrike">
                <a:solidFill>
                  <a:srgbClr val="ffffff"/>
                </a:solidFill>
                <a:latin typeface="Verdana"/>
              </a:rPr>
              <a:t>	</a:t>
            </a:r>
            <a:r>
              <a:rPr b="1" lang="ru-RU" sz="3600" spc="-1" strike="noStrike">
                <a:solidFill>
                  <a:srgbClr val="ffffff"/>
                </a:solidFill>
                <a:latin typeface="Verdana"/>
              </a:rPr>
              <a:t>Я видел крест Иисуса</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I saw the cross of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en burdened with my s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sought the cross of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give me peace within;</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Я видел крест Иисус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грех меня том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шёл просить Иисус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Он меня простил.</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brought my soul to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cleansed it in His bloo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in the cross of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found my peace with God.</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пал я пред Иисус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еня очистил 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у креста Иисус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с Богом примирён.</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I love the cross of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t tells me what I a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 vile and guilty creatu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aved only through the Lamb;</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Люблю я крест Иисус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мне открыл, что я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гибший, жалкий грешни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 Бог — святой Судья.</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o righteousness, nor meri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o beauty I can plea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Yet in the cross of glo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y title there I read.</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дежды на прощ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видел я нигд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ристос купил спас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траданьем на кресте.</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I clasp the cross of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n every trying h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y sure and certain refug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y never-failing tower;</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Держусь креста Иисус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реди земных скорб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верная защи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отдых для людей.</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n every fear and conflic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more than conqueror a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iving I’m safe, or dy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ro’ Christ, the risen Lamb.</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родном, в чужом ли кра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досуге ль, за труд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иву иль умираю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всюду со Христом.</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Sweet is the cross of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re let my weary hear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till rest in peace unshake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ill with Him, ne’er to part;</a:t>
            </a:r>
            <a:endParaRPr b="0" lang="en-US" sz="3200" spc="-1" strike="noStrike">
              <a:solidFill>
                <a:srgbClr val="000000"/>
              </a:solidFill>
              <a:latin typeface="Verdana"/>
            </a:endParaRPr>
          </a:p>
        </p:txBody>
      </p:sp>
      <p:sp>
        <p:nvSpPr>
          <p:cNvPr id="5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Приятен крест Иисус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страждущим — 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мученным — отра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жизнь душе больной.</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then in strains of glo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ll sing His wondrous pow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ere sin can never ent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death is known no more.</a:t>
            </a:r>
            <a:endParaRPr b="0" lang="en-US" sz="3200" spc="-1" strike="noStrike">
              <a:solidFill>
                <a:srgbClr val="000000"/>
              </a:solidFill>
              <a:latin typeface="Verdana"/>
            </a:endParaRPr>
          </a:p>
        </p:txBody>
      </p:sp>
      <p:sp>
        <p:nvSpPr>
          <p:cNvPr id="5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 славе петь я бу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снь жизни и побе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уда греху нет вхо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смерти больше нет.</a:t>
            </a:r>
            <a:endParaRPr b="0" lang="en-US" sz="3200" spc="-1" strike="noStrike">
              <a:solidFill>
                <a:srgbClr val="000000"/>
              </a:solidFill>
              <a:latin typeface="Verdana"/>
            </a:endParaRPr>
          </a:p>
        </p:txBody>
      </p:sp>
      <p:sp>
        <p:nvSpPr>
          <p:cNvPr id="5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9-08-17T21:39:05Z</dcterms:modified>
  <cp:revision>3</cp:revision>
  <dc:subject>Slavic hymnal Гимны веры христиан, hymn 426</dc:subject>
  <dc:title>I Saw the Cross of Jesus / Я видел крест Иисуса</dc:title>
</cp:coreProperties>
</file>