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2D0-7D07-4BFB-A81F-1F8E82F5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4A7-57A9-4AE5-92F0-B99D3BBC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11A-7EAE-459C-9A39-F88B41CA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DCD-2D84-41DE-9E00-EDDC6303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14C-AE2C-4122-A646-A1A5F764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3BF-99B9-4020-9299-516748A6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C20-1D9F-4832-9D0E-DB054D5D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2AC-F695-48ED-8B95-C67B1283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760-2CB2-41B6-860A-913C123D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5D3-18DE-44E5-9357-4BF8E133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0D0-F806-4F85-B508-7ABBDB03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45D-61A8-4D66-A163-00B231B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DEF7E-B0EE-41C7-87E2-B210A78A2B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, скорбя жест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вздохом повторя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бы из тоск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выход указал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раз, скорбя жесто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иди! Душою чёрс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Его не оттолк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вечность, не упорств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тены ведь наши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иди! Благоприя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ень: Христос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Он и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57Z</dcterms:modified>
  <cp:revision>12</cp:revision>
  <dc:subject>Slavic hymnal Гимны веры христиан, hymn 383</dc:subject>
  <dc:title>Сколько раз, скорбя жестоко</dc:title>
</cp:coreProperties>
</file>