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86</a:t>
            </a:r>
            <a:r>
              <a:rPr b="1" lang="ru-RU" sz="3600" spc="-1" strike="noStrike">
                <a:solidFill>
                  <a:srgbClr val="ffffff"/>
                </a:solidFill>
                <a:latin typeface="Verdana"/>
              </a:rPr>
              <a:t>	</a:t>
            </a:r>
            <a:r>
              <a:rPr b="1" lang="ru-RU" sz="3600" spc="-1" strike="noStrike">
                <a:solidFill>
                  <a:srgbClr val="ffffff"/>
                </a:solidFill>
                <a:latin typeface="Verdana"/>
              </a:rPr>
              <a:t>Воины Христов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ло в жаркий 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а го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ртвовать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ждь небесный с нам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мы побед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ьётся наше знам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жно вслед за Ни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полки отборн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рковь Бога с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ступает строй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Он чудно сл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Он повел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едино в Н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ре и в учень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ужестве свят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роны и корон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ют, словно л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Христова церков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пережив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д не превозмож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ранных Христ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 слово Бож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ен Он во всё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юди, поспеши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армию Хри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посвяти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и у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ен и чуде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Иисуса тру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ы и люд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Ему пою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2:42:47Z</dcterms:modified>
  <cp:revision>4</cp:revision>
  <dc:subject>Slavic hymnal Гимны веры христиан, hymn 486</dc:subject>
  <dc:title>Воины Христовы</dc:title>
</cp:coreProperties>
</file>