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7B0-886B-4317-B610-46C72011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B9B-BBBE-4BB7-9FA0-997F8348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0A3-FF16-423B-B219-17B738CE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FBC-9A98-4EA2-B4CF-3B4FA6F6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84B-E5B1-4176-A7BA-493377FE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B60-414E-478A-ADA2-B2BFABCD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7C8-B7D9-41F6-8D25-7C9604CC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83F-9E49-43E3-BA27-C0A9C16D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A38-8ED9-4E17-A6D2-727D8A4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102-D241-422E-AA6E-F1CA7FFC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AD9-A595-44B4-B863-CB3B705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F3F-B6DE-47EE-AE99-9CC931A5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820F2-4A98-4CEC-823A-05E877129B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ster, let me walk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owly paths of servic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y secret; help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ain of toil, the fret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he slow of heart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ome clear, winning w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e wayward feet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them in the homeward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y patience still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loser, dearer comp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 that keeps faith sweet and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rust that triumphs over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ope that sends a shining 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down the future’s broad’ning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eace that only Thou canst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e, O Master, let m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57Z</dcterms:modified>
  <cp:revision>12</cp:revision>
  <dc:subject>Slavic hymnal Гимны веры христиан, hymn 830</dc:subject>
  <dc:title>O Master, Let Me Walk With Thee / Господь, дай сил идти с Тобою</dc:title>
</cp:coreProperties>
</file>