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016-BDDD-429C-B168-E738CAC2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9A0-11A0-4906-AB3E-E4FD286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040-CC30-4424-9359-01CF457A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222-8F31-4022-888F-641082A4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B1A-3219-4896-8CB9-86830A43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138-FFA2-439B-A717-6CECA1EE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296-9555-4266-93EB-12FF93C6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683-51DA-4C35-886D-5DFE89A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913-21B6-4785-A9F2-2FD14145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513-AF81-40B4-A016-D710DA9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C17-8071-46B7-9E1E-14C8635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C71-1339-46A8-AB3F-E947010E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A733-4588-4219-A513-12BC5B1817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о чём ты горю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воё отравляе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унылы, как поздняя о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олодно и твёрдо, как ст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и бед испытал ты не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растратил в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еланной любви не встреч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ь и обман надоел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 мой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с тобою дружить не хоте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как цветочек, расцветший в т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оем дохнуло — краса облет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счастливые, светлые д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учися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ворить в этом мире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доверься, живи для несчастны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не погаснет з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19Z</dcterms:modified>
  <cp:revision>12</cp:revision>
  <dc:subject>Slavic hymnal Гимны веры христиан, hymn 703</dc:subject>
  <dc:title>Брат мой усталый</dc:title>
</cp:coreProperties>
</file>