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DEE7-77AA-4D5A-A712-21D4F553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D934-A360-4D25-8334-072486E0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78A4-3DEB-48F3-BBD6-A5C16B30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07A2-8A13-4B89-9AEC-E2EA2414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C4D2-BC48-4ED6-B4CC-D70F96B0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8AAB-242B-4048-876C-402C78FE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8C2B-B4D3-4453-84B5-E0EA1D62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B048-BFB2-4DE6-9874-266CB93C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20ED-E2C1-44AC-B095-78A98B34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0E0-4782-4D0B-87AA-123D1110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72B-43CE-40F0-982A-2B610E06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0DFF-418B-40F4-BD23-84927B55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094E3-3200-407F-AD56-B62BA228433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полюбив Бог сві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ина дав С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мер Він на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гріхів щоб нас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радість буде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з’явиться Він зн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а є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2   Так полюбив Бог сві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4:24Z</dcterms:modified>
  <cp:revision>12</cp:revision>
  <dc:subject>Slavic hymnal Гимны веры христиан, Ukrainian hymn 72</dc:subject>
  <dc:title>Так полюбив Бог світ</dc:title>
</cp:coreProperties>
</file>