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98E-4051-4113-8A99-3CF0C8E5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5D2-27B3-40EE-AFA2-2C6A491E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1C3-7548-4051-B6FB-92645985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DBF-08F0-43E6-B306-91741A7B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BC8-2FC8-46D2-AB99-4514C0E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8C3-9A03-44DF-B14C-8AAA2AF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E9A-6733-448F-A08F-8B814490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F87-99AD-4615-8AD9-64E45264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588-A22B-4C5D-9EDD-343D99FB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80C-FFB0-4B42-BB63-BBFABB5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258-56DC-4C8A-B07D-F00C958A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CF6-8502-4ED7-86BD-9AFD29C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CD7D7-F378-4108-9A57-5D07CBAF11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2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pen the Eyes of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 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in the light of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 out Your pow’r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oly,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 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in the light of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 out Your pow’r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oly,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46Z</dcterms:modified>
  <cp:revision>11</cp:revision>
  <dc:subject>The Source 2, song number 926</dc:subject>
  <dc:title>Open the Eyes of My Heart</dc:title>
</cp:coreProperties>
</file>