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CFE-51E2-4B51-A4C7-9C0C4CE9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D12-EAC8-4C3C-8069-00C4365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BBD-3A71-4E58-AFCF-77C0111D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2C2-BDA9-46BD-A79E-D12DE0BA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155-E2BD-4C76-BC2C-D1163C5C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E35-0C97-4E5A-8025-2A151BC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4FB-EFA7-40CD-B25E-191450E1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30C-4889-40C2-844C-7B4AC2F6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E4E-07EE-4449-BE4F-0E22F4C1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65A-26E7-4154-BDD1-A01B8219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2F1-2D0D-4B62-959D-3FDD77B3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E21-207E-4450-8B7C-7D126F1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80C58-13B1-4955-A381-E7CB17DB49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a roadway in the wild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vers in the desert wi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 will f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Word will still rem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do something new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29Z</dcterms:modified>
  <cp:revision>10</cp:revision>
  <dc:subject>The Source, song number 134</dc:subject>
  <dc:title>God Will Make a Way</dc:title>
</cp:coreProperties>
</file>