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01D-C122-426C-ABA0-AFA0908F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FEB-79F2-4E5B-9C15-E0DFA954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ACC-CC0A-4BD8-84D3-7E31DEE3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D7F-72F8-47B6-AFA0-217A6D21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D40-2A97-4F75-A750-92EC0BE8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A9E-0148-4560-94F1-6A753558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742-5DC1-4DDC-8042-EEF0AA7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D68-F103-4B96-9D31-7C50F5CC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2E0-E67E-4A1E-AF39-26D1EA6E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9F5-1808-4F7F-B9D5-D5CACA9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459-22DE-443E-9701-733B0BD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71B-9BF0-4C6B-BAAC-82CA6A45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823C5-5AAB-407E-BBC8-99DD7CA706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God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that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peace, strength and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hat a Beautiful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revealed, my future s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ed my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and freedom, life and warm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d my soul, my strong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s me from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security, power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49:28Z</dcterms:modified>
  <cp:revision>11</cp:revision>
  <dc:subject>The Source, song number 301</dc:subject>
  <dc:title>Jesus, What a Beautiful Name</dc:title>
</cp:coreProperties>
</file>