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E07-74BB-4A53-BB4E-F84627C3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6A8-F562-4AA5-B41E-6255ADBA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2F1-F512-4A76-A8B2-F9F9B766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16C-96B6-476E-8861-ACF35D36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0EC-8EBE-49B5-8449-3CD2EB24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CF1-ED71-4D42-BA59-59401755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AC5-7316-4FF2-AF34-9BE48155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FFE-965F-4164-A74F-97D7732A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38F-4876-4CBF-949A-7DC62A90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7E3-36AD-4B3B-B600-FAB8BDB4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E42-7D8D-4C4A-9A8B-BD03A36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803-1CD9-4F11-B3AA-051D19D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C5638-D3F3-4612-BBF0-889C4BD5D8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о Христом на земле я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ван я с Господом к доле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кать зачем и на горечь вз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же Христос всегда силен спа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в Свою славу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со Христом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я тщетно отрады и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вечный мне мир даров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оворит Он средь горьких скорб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ет с тебя благодати Мо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водимый пойду я см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, и труд, и печаль на пут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домой надлежит мне д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мне отрады не может п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Христа моё сердце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 Ком живёт полнота,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Господь придёт встретить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юсь близости славного д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ещё день и мир ветхий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ник! стремись неустанно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Господь за тобою гря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4:10Z</dcterms:modified>
  <cp:revision>12</cp:revision>
  <dc:subject>Slavic hymnal Гимны веры христиан, hymn 446</dc:subject>
  <dc:title>Здесь со Христом на земле я чужой</dc:title>
</cp:coreProperties>
</file>