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2FE3-215F-4F64-BFC9-7940970C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CF8-020D-4594-8001-725842FC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755B-C14C-47BE-B1BD-2BD04D7D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3D6-E994-4335-86D1-02EE07F0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5CEE-EB08-49B1-A192-4C92E475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5BC0-4160-4882-B044-AE5AC417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DBF5-7951-4C91-A786-056D74A7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E1A4-431B-4557-AB18-9B5F1682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89A3-E592-4710-B435-146430BA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641C-CF58-4AB6-9901-CF0898CE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3F33-EDF9-4025-840A-ADE23C0A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8F0-6E59-4C63-83DA-E3EEA55D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1C512-BCB4-44C9-9433-6B74E076E9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в сердце ст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корби сжимают гру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яд забот с каждым днём рас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 тёмен жизненный п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о мной ли О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омрач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мой тучей скорбей и бе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сный день скрыла ночи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ли Он мне помощь и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я сраж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кто не спешит пом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жат к стене, нет защиты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ыдаю горько всю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путь пройд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«прощайте» скажу друзья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кончит труд, в вечность отзов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ли Он со мной 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0:13Z</dcterms:modified>
  <cp:revision>12</cp:revision>
  <dc:subject>Slavic hymnal Гимны веры христиан, hymn 862</dc:subject>
  <dc:title>Со мной ли Он?</dc:title>
</cp:coreProperties>
</file>