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D5A7-7762-496E-9E0C-811D8CFC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FB3F-BDB3-495D-92EA-593B4944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DBEE-B7B5-4A5F-B7F9-6F65E1F1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9788-B705-41A0-90CC-74152972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D19D-6FEA-4FE8-9898-56F31378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BF3E-982B-4589-A6A7-B65CAE94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7B24-4AD8-4BB2-8679-B335720C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3907-0E94-499D-8C08-BF5B37E0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ADE0-0795-4E2D-943D-0FD47C55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A864-1AD4-4DF3-AFA3-4EC6BF3A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735C-559F-4941-B682-DDEAF4C8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E263-1C08-4F49-9AB1-4728B417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5F21B-B745-4DF5-9121-F8A12C99235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вете жизни будь г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с неправдой 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юй, пока ночной пок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кроет мир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сни врага, займи хол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ей греха ку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а — вера, знаем 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 свете жизни будь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у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нашли ту 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под знаменем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слово Божье — ме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ь подвижников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м сердца привле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вера, словно ураг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шла по всей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колизей не запуг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в их чис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у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нашли ту 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всех сторон идут вра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ят грозный 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ой уют не бере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олько в правде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нёю правды доро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я шлем о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от битвы задро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велики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у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нашли ту 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обедит, того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м облеч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ангелами воз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ит в род и 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так, вперёд путём прямы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 цель и ч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иг разбегутся силы ть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имен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у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нашли ту 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2:59Z</dcterms:modified>
  <cp:revision>12</cp:revision>
  <dc:subject>Slavic hymnal Гимны веры христиан, hymn 552</dc:subject>
  <dc:title>Во свете жизни будь готов</dc:title>
</cp:coreProperties>
</file>