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9DA-BB91-4B0F-89C9-276D0E38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54B-585C-4ED3-B9EA-84B5A213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ACC-12B3-4398-AF43-BB21CF05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A88-5987-4883-AF02-4D55548E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D99-0C51-4FA7-9414-38AA0593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352-0500-4FF7-A73A-008D3293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1EF-5D83-4567-8331-F6FD054E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C72-D04F-457B-8251-0B7E5BE2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9C7-7D81-4E64-A0B5-02D51378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5D2-D8CD-4217-A25B-37E13489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A77-BDCE-4147-9F12-F51B029A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F394-AF7F-4088-ADEB-4F6784B5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6C930-CF76-4820-8DF8-DCFF469082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hings of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grow 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г, гляди на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7:36Z</dcterms:modified>
  <cp:revision>11</cp:revision>
  <dc:subject>The Source, song number 533 in Russian</dc:subject>
  <dc:title>Друг, гляди на Иисуса / Turn Your Eyes Upon Jesus</dc:title>
</cp:coreProperties>
</file>