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2AE-C058-42C5-9BBC-A4583662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559-C8D4-493C-8802-888364EA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E45-DBC0-40EE-A0B7-1C9525C1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134-47E1-4A18-BC31-47B98020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E200-CB12-4E47-8DF8-E0F80608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688-9AA6-4B8B-8C47-E61C7E8B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35B-54DB-4708-B826-49EEB738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BBD-C928-41F6-A456-FF0EB1CB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63C-D183-4DBC-A0B4-DF1645D9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834-A80D-4014-8060-61B5AF7D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0DE-E72E-4EA8-A360-953AD0B0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C0C-3BC6-48E8-AB3E-02369F2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FABB4-65E8-40F2-B197-54746B4AD2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где горя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асилий и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царствует там жизнь и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чудесном 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чудны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нет мук, нет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страданий жизне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огил и нет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для истинных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трудись, в надежде 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ведёт нас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погибшим весть н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Иисусе ест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10Z</dcterms:modified>
  <cp:revision>12</cp:revision>
  <dc:subject>Slavic hymnal Гимны веры христиан, hymn 674</dc:subject>
  <dc:title>О, чудный край, где горя нет</dc:title>
</cp:coreProperties>
</file>