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6</a:t>
            </a:r>
            <a:r>
              <a:rPr b="1" lang="ru-RU" sz="3600" spc="-1" strike="noStrike">
                <a:solidFill>
                  <a:srgbClr val="ffffff"/>
                </a:solidFill>
                <a:latin typeface="Verdana"/>
              </a:rPr>
              <a:t>	</a:t>
            </a:r>
            <a:r>
              <a:rPr b="1" lang="ru-RU" sz="3600" spc="-1" strike="noStrike">
                <a:solidFill>
                  <a:srgbClr val="ffffff"/>
                </a:solidFill>
                <a:latin typeface="Verdana"/>
              </a:rPr>
              <a:t>Воздайте хвалу Владыке</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здайте хвалу Владыке влад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йте Ему, в любви Он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учий и Вечный, Защитник наш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енчан величьем, хвалой обле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щайте другим, как дивен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свете живёт, всё держится 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во гневе судить Он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олкают напевы, трепещет наро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т слов описать Господню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в мир пришла в начале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жит с гор ручьями, течёт к нам ре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тит с облаками, нисходит с рос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ы — пепел и прах, мы — дети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точник всех благ мы в Боге на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ы благодати даёт без за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наш Создатель, Защит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Друг.</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6:20Z</dcterms:modified>
  <cp:revision>3</cp:revision>
  <dc:subject>Slavic hymnal Гимны веры христиан, hymn 86</dc:subject>
  <dc:title>Воздайте хвалу Владыке владык</dc:title>
</cp:coreProperties>
</file>