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A1E-9489-43ED-83A8-BAEC842C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9B1-9CFB-4AA6-98FA-1A88CE37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CD5-E893-45D4-BBBD-44B00A24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455-494B-4EF7-921E-B73A5D5B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8092-500C-4F00-A86E-0A181BE3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46D-78CE-458E-AFB4-50004241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11A-C551-4B1B-A02D-020F3DDC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D5A-C8CD-4084-A46F-261B3A75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0568-D86C-4230-96F3-6660D77F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878-A3EB-4A6A-8251-EF256D2F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B2F-7621-409E-8825-CB2DA731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653-EF08-44DA-9089-BDBE8388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248EF-6066-4519-A73C-B249BE1727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God be the glory, great things He has d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loved He the world that He gave us His S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o yielded His life an atonement for s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opened the life gate that all may go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7   Христу лине с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ристу лине слава, Бог нас оправда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ак світ полюбив Він, що Сина нам д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кров’ю Своєю гріхи нам ом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всім нам двері життя навік відкр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earth hear His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eople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the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Jesus the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 Him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perfect redemption, the purchase of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every believer the promise of G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vilest offender who truly belie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moment from Jesus a pardon rece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ощення дарується Богом т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то вірить у смерть і спасіння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найгірший грішник, як вірить Й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митий, спасенний у крові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earth hear His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eople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the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Jesus the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 Him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eat things He has taught 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eat things He has d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great our rejoicing through Jesus the S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purer, and higher, and greater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wonder, our transport, when Jesus we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г нас викупив і нам мир дарува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радість по вірі в Ісуса нам да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оли Він візьме нас до Свого Отц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оді ми всі разом прославим Хри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earth hear His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eople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the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Jesus the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 Him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8:29Z</dcterms:modified>
  <cp:revision>12</cp:revision>
  <dc:subject>Slavic hymnal Гимны веры христиан, Ukrainian hymn 67</dc:subject>
  <dc:title>To God Be the Glory / Христу лине слава, Бог нас оправдав</dc:title>
</cp:coreProperties>
</file>