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0AE8-F1EA-4FB5-A5F6-46D432758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EEB2-8E6A-4C06-9848-8AA369D31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A2B4-C43C-423B-B799-02C2DF412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B638-953E-4B08-A868-E32277AAB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5E0A-0A86-4299-B7AF-E9E11F736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8E90-15A1-4532-ABCD-13A1A5B42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C4F6-A00B-4BE5-818F-7C196D321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4CBE-77CF-4A98-8AB6-F62CE4ADE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01BF-E49F-4EBA-94CF-A073CE54A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9BEA-F167-457A-AA74-7E2A53D23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E1D5-0E50-4FFC-936B-117700A07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B440-3110-402B-9265-46E616036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32C042-EBD5-4CC5-A549-492B1728BD6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, здесь мысли о Те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осят мир сердцам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ая ж радость будет т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гда пребыть в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кажет сердце ни у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ничего слав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ого имени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ладыки всех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01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9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Христос, здесь мысли о Теб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ежда кающихся душ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рада всем прост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каждого к Себе влечё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мирённым близок 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е, кого принял в Свой д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зык не передас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ой любовью дышат в Н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ою дал им ча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0:53:52Z</dcterms:modified>
  <cp:revision>12</cp:revision>
  <dc:subject>Slavic hymnal Гимны веры христиан, hymn 893</dc:subject>
  <dc:title>Христос, здесь мысли о Тебе</dc:title>
</cp:coreProperties>
</file>