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33D1-0171-4CEC-B0C1-7A31751F7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F1EF-951E-41BD-898E-C127457B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B747-FC5D-4843-9978-945742AAC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290F-9FBE-41D5-9184-A93632860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98D2-CE60-4D59-A9BC-F25226B2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8C55-CD58-4252-ACF8-D1DD4BBE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2906-2AF1-439D-9589-B19CB8D2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9849-AB85-4B81-9C15-AB8D26EF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B702-58A1-48AD-AC3C-477B1B0D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8313-0E29-41CD-AD0A-4C3B051D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C045-8B32-4D1B-969F-1BB22426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5551-4331-42E0-B062-0D7FE793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64255-A781-492E-8223-8795C241266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bless the Lord for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trust Him at all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has delivered me from all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has set my feet upon a r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not be mo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ll say of the Lor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343   I Will Bless the Lord For E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shield, my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portion, deliver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helter, strong t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very present help in time of nee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m have I in heaven but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none I desire beside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made me gl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ll say of the Lor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shield, my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portion, deliver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helter, strong t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very present hel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shield, my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portion, deliver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helter, strong t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very present help in time of nee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made me gl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ll say of the Lor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shield, my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portion, deliver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helter, strong t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very present help in time of nee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4:00Z</dcterms:modified>
  <cp:revision>12</cp:revision>
  <dc:subject>The Source 3, song number 1343</dc:subject>
  <dc:title>I Will Bless the Lord For Ever (Made Me Glad)</dc:title>
</cp:coreProperties>
</file>