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5E2-D8A9-453F-A7A0-D3A1FEA6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7DD-FEDF-46E7-AC99-E91BE1F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193-FD93-4FA4-9D46-2F2FA76B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6F9-AEC6-43D9-B308-3A0BAF74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3BF-85EC-4D29-976E-5148D81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EE6-6893-433F-BA8E-3494EDD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D60-3AEE-4A46-8076-39B8A134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4A3-38C6-49CA-996D-F7A1ED8B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6B5-FF13-4C02-AB09-489D5C4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C21-6002-4F88-96B7-00A4B01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D8D-7FA7-4735-BEC0-ECE44C7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828-237E-4E54-90FB-D3A7FA2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A6593-9635-42DF-AEE8-7208A69C61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16Z</dcterms:modified>
  <cp:revision>12</cp:revision>
  <dc:subject>Slavic hymnal Гимны веры христиан, Ukrainian hymn 91</dc:subject>
  <dc:title>Недалеко, за рікою</dc:title>
</cp:coreProperties>
</file>