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E12-D44F-409C-A55B-06895F7E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113-B53B-4B21-BDF3-01E04ED9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50A-ED65-4D09-BB6F-D011EDF6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89A-013B-40D4-9FE5-712BB2BE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0F5-1CB3-46F3-B5BB-CF6A02C9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03A-C87F-47C6-92A7-EF7715E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07C-C0BD-4397-9E43-A7B36872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9CB-960A-4CD8-AC7E-A4480051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7C9-40C8-404B-931D-5860737D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157-8A73-4748-B4A4-FA82789A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727-AE58-4E68-9096-85FEE78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635-E7F7-47B7-961C-1DF3391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CC493-6C7B-4052-89A2-73E7E57F4A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am I on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tand in awe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’ll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43   You Are God In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implest of all love-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ring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tand in awe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’ll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30Z</dcterms:modified>
  <cp:revision>12</cp:revision>
  <dc:subject>The Source 3, song number 1643</dc:subject>
  <dc:title>You Are God In Heaven (Let My Words Be Few)</dc:title>
</cp:coreProperties>
</file>