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6D2-C16B-431D-8CCB-6BE0957C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E53-598C-49D9-A7BF-0769639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536-B458-44EE-8D43-440974B1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60B-DFAD-41DD-8737-E4AB437D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1B5-388E-4FC6-9CA9-33B0DB6B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6EA-59BF-4D26-97CC-E0F6F5B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C4A-4A4D-48D5-BCDF-C5C0BF2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D9C-75B3-43E4-A344-C89F4A0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F57-0AB0-4B3B-813E-1DAF7DC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126-98C0-4B51-AD0C-0BDA2A7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AF7-E56C-4C22-A6DC-CB86D7A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71E-EFDA-4798-A460-88528E2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0CFDD-47C6-4496-BFBA-2006DA6794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битву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знаме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ружьем и щи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я над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яя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им стр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тупить с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ым надо в 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льш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 вражьей стор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н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х руко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м нас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ещал хра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нас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устра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аве мы неб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высокой ч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ны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енец тер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е с Ним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19Z</dcterms:modified>
  <cp:revision>13</cp:revision>
  <dc:subject>Slavic hymnal Гимны веры христиан, hymn 542</dc:subject>
  <dc:title>Стройно шествуем</dc:title>
</cp:coreProperties>
</file>