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71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ивный, Спаситель прекрасны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, merciful Saviou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Redeemer and Frien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have thought that a Lam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rescue the souls of m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You rescue the souls of m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, Спаситель прекрасны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Искупитель и Дру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 мог подумать, что Агнец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искупить нас от му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г искупить нас от му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от, Кого прославляе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ого любим всег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сцеленье и мил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м голодным сердц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ашим голодным сердц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sellor, Comforter, Keep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we long to embrac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offer hope when our hearts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lessly lost the wa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e hopelessly lost the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рож души и Советни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мы жаждем вдохну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й надеждой Ты светиш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ряем мы пут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теряем мы пу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от, Кого прославляе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ого любим всег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сцеленье и мил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м голодным сердц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ашим голодным сердц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ighty, infinite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ly loving Your ow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our weakness You find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before Your thron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e’re falling before Your thr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тец, Всемогущи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, Ты любишь Сво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бости к Трону идущих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у ног пасть Твоих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чтобы у ног пасть Тво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36036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80000"/>
            <a:ext cx="899964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от, Кого прославляе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ого любим всегд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сцеленье и мил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м голодным сердц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ашим голодным сердц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6-19T01:09:52Z</dcterms:modified>
  <cp:revision>3</cp:revision>
  <dc:subject/>
  <dc:title>Дивный, Спаситель прекрасный / Wonderful, Merciful Saviour</dc:title>
</cp:coreProperties>
</file>