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750-3656-4781-A0FB-5A775E08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5DB-CA6B-4F17-B636-ADE0264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A87-C52E-4254-A13B-C9E8D1BA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4AF-08AF-48A4-96FD-B71D3FD5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962-3533-4AD3-8542-D3F608D3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A1E-3A24-40F3-9115-51A9C80F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429-6373-4A2F-9B9E-11CB0E7A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4FB-1597-4A1F-9763-4F43306E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C1A-46D9-4A1F-8DEF-AD847EC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925-AA7D-41C8-80C3-4532BD1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04C-D5AB-4A01-A90C-332E20C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17F-2D60-4E2A-AD0D-F0AE0101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3B8AB-902A-4CC7-A717-A6BA1345A4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care for the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natch them in pity from sin and the gr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ep o’er the erring one, lift up the fal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m of Jesus, the mighty to s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they are slighting Him, still He is wai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the penitent child to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ead with them earnestly, plead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nt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forgive, if they only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human heart, crush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emp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elings lie buried that grace can re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uched by a loving heart, wak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ords that are broken will vibrate once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страдающем, в скорби суро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 Дух Божий лишь может соз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duty demands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for thy labour the Lord will prov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ack to the narrow way patiently win th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 poor wand’rer a Saviour has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9Z</dcterms:modified>
  <cp:revision>14</cp:revision>
  <dc:subject>Slavic hymnal Гимны веры христиан, hymn 531</dc:subject>
  <dc:title>Rescue the Perishing / Людям блуждающим</dc:title>
</cp:coreProperties>
</file>