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3BA8-6C88-4111-A1BE-D7E0715C0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F7EC-9777-4380-A61A-C6E2D2BD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6A51-ADD4-4838-950E-ADF741165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3BE3-8E16-4744-87CE-09D8A063E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A63D-0343-4DF9-8956-A0C2D2A1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4A8D-CC8B-4ECE-AE44-47E1E56F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6D86-860C-438D-944B-58047D77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2B4A-44EB-487B-B67E-6FCB611E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0E46-A076-4716-872F-58EC45B9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20DF-2832-480B-8F1C-3A8ADB39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1AA3-74FE-4555-9E48-C2FC848A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6853-EC1D-4BF8-98D6-32969C32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C13441-3002-4D93-AEF9-7F994A9C9BF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знаєш, Боже, моє бажа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итву чуеш Ти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наєш серця мого стражда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я гіркі сльози л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знаєш, Боже, що я баж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слави, скарбів на земл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щирим серцем Тебе кох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моїх весняних юних дн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4   Ти знаєш, Бо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умує серце моє пор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устах моїх немає слі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, самотній, скорблю душе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мовкає мій весняний сп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хто не знає, усім байду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уди душею лину 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хто спитає, і хто потіш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сумна душа мо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ей світ чужий вже мені зробив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оже мій, зі мною бу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слабнуть сили і я втомив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ще далека моя пу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я й далі йду за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вітер стогне, бурев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хай сердито шумить пор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е боюсь, бо Ти Бог м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1:30Z</dcterms:modified>
  <cp:revision>12</cp:revision>
  <dc:subject>Slavic hymnal Гимны веры христиан, Ukrainian hymn 54</dc:subject>
  <dc:title>Ти знаєш, Боже, моє бажання</dc:title>
</cp:coreProperties>
</file>