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39BD-EB17-456A-A7FB-F0AFF7501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C7D6-92B6-4DBF-9754-FEF690BA9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C21B-A457-4AB0-B053-F642E7882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C4D9-CD41-4BA5-ADD5-9CA955219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A887-8586-43FB-93A5-D3AB7021D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CC15-0586-47C1-AB28-347DCE0FC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35F4-9C5A-49D0-9384-E87ED5BBB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153A-95E2-4193-A4C6-FAD560063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B630-F0AE-459C-A09C-BF3315933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C0D5-2BE4-4DDF-A203-1F4C49515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AC93-2421-4C97-9958-444660474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AD35-FA69-41C8-B556-DD27FD2C4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5E48CC-3B77-461F-8B21-1767E6601D5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imes of refresh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re in Your presen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 greater bl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 being with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soul is restor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mind is renew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’s no greater joy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 being with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564   Times of Refresh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15T05:50:31Z</dcterms:modified>
  <cp:revision>12</cp:revision>
  <dc:subject>The Source 3, song number 1564</dc:subject>
  <dc:title>Times of Refreshing</dc:title>
</cp:coreProperties>
</file>