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45C-067F-4FA9-9490-0DDEF2A0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F02-9FDA-4C65-84CE-8A59825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5D-68BB-4736-AF59-643BC322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061-FD24-4814-8087-527C0D3B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963-008B-4626-A6FB-171E6BF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302-74F1-48D8-831C-18061F7D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4EC-E378-4641-BADC-CFE4FBE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1C7-2506-4556-A9A9-8D18DF5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FCE-531A-4FB9-AC44-88A10A5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529-0FD7-4646-B127-0311AEC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D8C-8BCE-4401-919E-80E9FFB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C0B-3269-4226-82A2-0CF11D2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83E7D-E5D4-4FF9-ABC8-E770BAE17E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oly Spirit lives i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ppiness desc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ites the people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enemie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reigns abund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peace, no strife 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protects them faithfu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nee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dwells in 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ation is at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is ruling in thei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happi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40Z</dcterms:modified>
  <cp:revision>13</cp:revision>
  <dc:subject>Slavic hymnal Гимны веры христиан, hymn 741</dc:subject>
  <dc:title>Where Holy Spirit Lives / Где Божий Дух в сердцах живёт</dc:title>
</cp:coreProperties>
</file>