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36A-05AF-4AC7-8C13-738A687A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1F5-F625-4761-ACF9-F5EE558D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423-7D80-4319-95B4-522FC8A8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76B-775E-420E-9631-87D2A25A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68E-5E07-49F3-ABFB-6D309111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333-40D5-4FA9-8A27-91B3A209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060-04B5-407B-B53D-689B5001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075-BBC8-4230-BD1F-4765ED0B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C5C-2E3D-40EE-AF64-108B2BBF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7FA-5AC3-4313-BC8B-0F1C85A2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F3A-A729-4E6C-9FFD-79157EE0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F86-B351-4C71-B8D6-E505C99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1ED0F-6EBC-461C-B0A2-0D30C93202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те вы, все свят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рвутся силы зл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ветильники поправ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я встреч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дрствуйте вы, все свя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ие Христ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яется всем сн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ссон белый, венец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Своим сей Царь держ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а мира уп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се силы проп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 землю пос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прийти к нам обещ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! Христос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датай защи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зайтесь, коль воз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то всем будет поз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14Z</dcterms:modified>
  <cp:revision>13</cp:revision>
  <dc:subject>Slavic hymnal Гимны веры христиан, hymn 319</dc:subject>
  <dc:title>Бодрствуйте вы, все святые</dc:title>
</cp:coreProperties>
</file>