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2B88-DAEB-4FCC-9FB3-DABFEEF2A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3DD9-C36E-47D8-9810-200B3139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043C-2F1B-4499-AD94-2634D0FFA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C60C-C8AF-45E4-802A-44D960FE6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A4CD-9B9C-49B4-A337-2DE6DF68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9736-7AAB-4332-8FE3-0A1BE027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7A6E-AEEC-4E56-9CC2-1288BE20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B595-BF06-4983-A98C-9805FDFE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C17C-A722-408C-9FFD-4CCA1D1B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C64A-FF4F-44F1-8571-9F238473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C60D-CC45-4397-9074-BC0E22E9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6745-909E-411F-B924-88DD4FEA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3A32C-A951-4248-B71A-5B9C99F68EB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ободы! Цепи т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разбей в людских сердц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, чтоб Дух усынов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растал в Твоих детя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, что в день Пятидеся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апостолов со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отой даров богат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твори в нас Свой престо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ух свободы! Цепи тлен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Утешитель! Скорбящ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ение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 Твой труд творящ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ать сынов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дары нам врачева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пророческих реч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что больше всех дая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дар любви Тво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 верных излива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на благод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нас церковь созид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ней хочешь мир объ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! В любви Отца и Сы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ви церкви ожи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сольются все в еди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чном подвиге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11:58Z</dcterms:modified>
  <cp:revision>12</cp:revision>
  <dc:subject>Slavic hymnal Гимны веры христиан, hymn 299</dc:subject>
  <dc:title>Дух свободы! Цепи тленья</dc:title>
</cp:coreProperties>
</file>