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72C-E036-4FD9-B322-C503DCE0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3EF-1BD2-4A05-8AD8-E15EC78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156-287B-4359-86E9-363C846F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CBA-2EDC-451B-A9B3-2F573AE8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B55-C4EA-4BE5-84A3-F564A05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44D-496B-4792-892E-DECFF99D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7C8-CA36-4880-B027-F5173632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1B9-D9F4-4277-97D3-D74A3EC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5F0-AB95-435D-90BA-988B4DE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64B-3152-4B60-96B5-0DCC830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368-965E-4DA3-A954-ED9FBC0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81F-A87D-497C-B609-C234C1A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E2670-D2A0-49FB-B94C-98BD03A158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re be glory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1   Let There B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36Z</dcterms:modified>
  <cp:revision>12</cp:revision>
  <dc:subject>The Source 3, song number 1401</dc:subject>
  <dc:title>Let There Be Glory and Honour and Praises</dc:title>
</cp:coreProperties>
</file>