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AB6A-559D-4E54-A05A-0E8E0399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605D-5866-434D-8498-C2C35BB2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1602-D707-43A7-A7A7-A08025B4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A171-688E-4BB6-9461-691FAD48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CD98-B6A8-497D-985B-A8A05442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2533-58F8-4273-B130-E712D219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DC4F-2FDF-4618-8600-5F2256BD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F752-81E9-4A7D-9084-5122E17E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A2FB-916D-4CBB-BDEB-C3F451D1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CA5D-BF60-42B4-80BB-5F646402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F423-5902-4B2D-B4BC-E399FB9F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FC1A-AE8C-426B-80CF-F07AB39B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E73D3-51E7-48DC-BF34-76E79DE3E80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 жизни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ло светлых надеж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шло много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тобою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Иисусе Хр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енье на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 Нему обраща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ли в жизни тво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тебе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даст мир,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ерь, что Он дас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учишь в сво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грустные мы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ную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ой дух возмущ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ю людс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частья ты прос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устя и скор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в молитве най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тебе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даст мир,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ерь, что Он дас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учишь в сво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 тяжком тру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змученный п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ваясь и по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овью, т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ань и вспомн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а нас Он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послушен Отц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тебе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даст мир,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ерь, что Он дас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учишь в сво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5:15Z</dcterms:modified>
  <cp:revision>12</cp:revision>
  <dc:subject>Slavic hymnal Гимны веры христиан, hymn 516</dc:subject>
  <dc:title>Если в жизни твоей</dc:title>
</cp:coreProperties>
</file>