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62B-8E94-4950-A144-6BB6D8FC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340-F7E4-4CCE-B3AE-8D70CCE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B9F-235E-406A-AFCE-6CBBC302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A89-C523-40E8-8B77-53CE6F3A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D22-99B1-4857-A3F5-FD5F842C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48C-C69A-44CB-B776-23C49B3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612-EB51-416E-8B00-D0F07F3F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FAA-B69C-4151-B00B-67897921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7D3-5766-42EA-937B-1BD1CCE9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5D4-2573-4371-9439-C54BA84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D47-1D14-442A-8470-158A13C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C2B-CC74-4C56-B756-0DFBA4D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414B2-6581-4184-93DB-2BD2C6A852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   As the Deer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7:22Z</dcterms:modified>
  <cp:revision>11</cp:revision>
  <dc:subject>The Source, song number 27</dc:subject>
  <dc:title>As the Deer Pants</dc:title>
</cp:coreProperties>
</file>