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44E-43D4-49B3-A538-ED343BFA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E52-8D22-442F-A227-C4AFE00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BBB-BDB0-49AD-8F19-6870B997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09A-318D-411F-BD00-4C35FCF6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744-8DD6-4EC4-B378-73D0144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A51-5413-4B88-9386-177A11C5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280-7B02-4611-9EF0-64B5B0A7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49F-F53C-4AAD-88B6-077ECCA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C17-F01B-4679-9A2E-30ABD848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9D8-8297-4E2E-9EEF-86F9FCC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E9F-C791-4D5C-822C-436B363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5EE-EB31-4227-B0CA-6A70A9BB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9CDF8-9B0E-44CA-B877-7E4BD0A9A9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55Z</dcterms:modified>
  <cp:revision>12</cp:revision>
  <dc:subject>Slavic hymnal Гимны веры христиан, hymn 808</dc:subject>
  <dc:title>Прославьте, все, Христа</dc:title>
</cp:coreProperties>
</file>