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44F-D637-4ECE-9181-F523D10F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9EF-4D39-4CBA-B4A2-3CE27A4F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B39-734D-4593-83E0-208C2B27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B4D-60BE-4547-B2C8-8773C689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0DA-C587-49FE-AC11-45AD4E9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FCB-B8F8-4D2E-A614-13CC78D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646-1DBC-48D2-B1EE-4D5E0453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1B3-1660-48B0-A264-707D336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1A5-61A3-47D9-9201-BC3D05D8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38E-2322-4E72-B7D9-2DF0E73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754-DC7F-48FE-9AC1-C2140C2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9EB-77B3-4D05-88BC-3D44F5C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47836-DAF0-403E-87C7-A54830C5BA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в большом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осподь и Власт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нам в нази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ы в большом собра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Его Священ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нимателен, как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полненью будь го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бочий на за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танков, маш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рудящемся на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емли родной раб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евая мир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оляр или как пл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к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детный семья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ой отяг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а, в школе, на з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лесу среди троп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оезде, в в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44Z</dcterms:modified>
  <cp:revision>12</cp:revision>
  <dc:subject>Slavic hymnal Гимны веры христиан, hymn 509</dc:subject>
  <dc:title>Если ты в большом собраньи</dc:title>
</cp:coreProperties>
</file>