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AD1-6BC7-4646-B7FE-4AD63FAA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62B-72CA-4160-97D2-AA94C3EC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914-D1A4-48FA-80F3-C8ACF7C8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DA9-35C9-4D12-A00F-F83112F3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B6F-64F3-4399-8E64-6146C80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3CA-CFAE-4028-B1A3-CB1DA837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C1F-6052-4D15-B6C8-69B0FD85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C41-3B90-462B-82C9-B21DB91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FDB-427F-4089-A06F-8038866F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09A-B993-43B9-8446-15980B8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5EE-1F87-447D-B4D2-42BCC80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1EA-FEDD-4FB3-9150-869FBD6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841D-6D41-4092-B26A-4C55DBEE63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ittle Town of 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1:11Z</dcterms:modified>
  <cp:revision>10</cp:revision>
  <dc:subject>The Source, song number 393</dc:subject>
  <dc:title>O Little Town of Bethlehem</dc:title>
</cp:coreProperties>
</file>