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1F69-1A75-4CF1-880B-E06044C2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57F9-6396-4922-B473-94981BFD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DFA6-7420-4B82-8D1C-8F19D9F6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37E5-E823-46DF-A4DF-0F6B343A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3B3E-CF1D-4B58-89C6-FF17057E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30E4-4AEF-4D12-BF02-640E6534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4DB1-579F-494E-83F9-CD1315EF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F5DB-3019-4DEA-B322-550C663A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F720-3C6A-457A-8371-B5B95DC1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2221-DC4A-451B-8A36-40D6572B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8248-7238-4016-A5BA-F50C80C7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75C2-3973-4809-ACCB-0D0EA0C1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84FEE-37F3-40F1-98DF-F13112B60DF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99504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crucified my L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crucified my L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Oh, sometimes it causes me to tremb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remble, trem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crucified my L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nailed Him to the tr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nailed Him to the tr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Oh, sometimes it causes me to tremb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remble, trem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nailed Him to the tr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92   Were You The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laid Him in the to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laid Him in the to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Oh, sometimes it causes me to tremb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remble, trem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laid Him in the to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He rose up from the gr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He rose up from the gr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Oh, sometimes it causes me to tremb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remble, trem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He rose up from the gr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4:20Z</dcterms:modified>
  <cp:revision>12</cp:revision>
  <dc:subject>The Source 3, song number 1592</dc:subject>
  <dc:title>Were You There When They Crucified My Lord?</dc:title>
</cp:coreProperties>
</file>