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78E-BE99-472A-80D4-618A364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375-D0CE-4703-BF33-4B6FC427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848-0D55-47BA-8376-43F6D748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EA4-D167-4282-8D98-5BE47CA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D56-F8E3-4130-A1AE-6A61066C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705-E521-4243-B02A-18E7BD19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7A0-2335-4942-ABF5-57B1742D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529-4CA6-4983-A59B-9F86978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38-C872-4AF8-9FC3-F2022479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F18-9CF6-4E2D-A9AC-2E0BA58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041-317B-4158-A0CD-4B44A7A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395-A1B0-4993-A0F1-59486927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763B5-3E7D-4963-AC36-4F01E8A01A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Christ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what will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rapture I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die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faintly now I se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darkling veil betw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 blessed day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glory shall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ejoicing in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re banished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rooked ways are straigh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rk things shall be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! O blissful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to see and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love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06Z</dcterms:modified>
  <cp:revision>12</cp:revision>
  <dc:subject>Slavic hymnal Гимны веры христиан, hymn 861</dc:subject>
  <dc:title>Face to Face / Быть лицом к лицу с Иисусом</dc:title>
</cp:coreProperties>
</file>