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6F1-6F25-4564-8F86-80157668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02B-50D9-4234-B445-07BA25D7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338-AF18-423F-A488-4CCB3370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F1D-0919-42BB-A13F-510134B7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EBE-C30D-4F00-A034-E34BDDE1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76E-01C7-476D-86EB-C9CEEE55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700-1083-4487-8B8B-821CA01B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507-C16B-480D-BEC4-2EEB3E5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8E6-A40F-4DB0-A4E6-1D3A7634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CBA-655B-4B91-BBD5-AAEC460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5D0-AB11-4DC4-BA23-F8D74B0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8A6-899E-4CD2-B678-B8505C3A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5CB1B-4EC1-4228-AECE-D8048E3317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5Z</dcterms:modified>
  <cp:revision>13</cp:revision>
  <dc:subject>Slavic hymnal Гимны веры христиан, hymn 793</dc:subject>
  <dc:title>Am I a Soldier of the Cross? / Не за Христом ли я иду?</dc:title>
</cp:coreProperties>
</file>