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377-1FC3-482B-82C0-615CCCA8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9C8-2F10-4FD0-BBAB-9692E20C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D31-A00D-4852-BD40-218B102F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5E2-7466-499E-97BD-CE7FB269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0C1-9C31-4A69-BF2C-9718F992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8EB-B340-4ED9-B9FD-BBB3BCA1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B69-9121-4BB7-B1B5-FD00FA81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B3E-183E-46AC-A790-EB52CA9A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62E-16B0-4475-BF4A-C8579EA7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F75-482D-466D-875B-AE120C7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D29-D22D-4FB2-9B34-D7705443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466-D890-4E5D-A9B1-86262CA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D3F1F-A0B6-4FA3-A2B9-D338402EED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избитый в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Голгофу, нёс тяжкий кр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ученье и гнё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для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скупитель, изби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Отче!» — неслась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ручьями из ран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от гнева всех защи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ын Божий мог так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я должен любит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иновных Он жертвой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в небе Его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авить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06Z</dcterms:modified>
  <cp:revision>12</cp:revision>
  <dc:subject>Slavic hymnal Гимны веры христиан, hymn 414</dc:subject>
  <dc:title>Мой Искупитель, избитый весь</dc:title>
</cp:coreProperties>
</file>