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4A3D-736E-43CF-9CAF-25052EBEE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46BC-6724-47C3-A810-1C9E545DF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D3B9-7FBB-46B9-89AE-A86FA5DBE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6968-BA46-4100-9436-8ED073099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8EDF-5759-4437-9DC0-E543AD261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7A7F-4782-4DD5-AF71-8F0206D09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6C5B-CEE9-480F-9186-6A72887F3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FED1-C082-4037-999A-73E60CF37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7FF8-7D60-4CE6-86EF-1B6B75738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6F43-56D5-405F-99AE-469B06471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B768-8ED7-4D20-ACAE-2E91D7531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141F-19AE-4C14-8DC8-54EF26BF3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983879-E2CC-4151-8DD4-AA8B3BFD7D2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pen my eyes that I may 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impses of truth Thou hast for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lace in my hands the wonderful k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shall unclasp and set me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3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ткрой глаза мо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крой глаза мои, чтоб 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зрел небесных тайн луч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есный ключ Твой мне вруч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на свободу вышел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lently now I wait for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ady, my God, Thy will to s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pen my eyes, illumine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pirit divin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олчаньи жду… О, да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олю мне Твою открой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крой глаза, пошли Твой св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Дух Свят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pen my ears that I may h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Voices of truth Thou sendest clea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while the wave-notes fall on my e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verything false will disapp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крой мне слух, чтоб слышал 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лаголы истины Тво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 звуках вечной правды с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молкнет шум земных реч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lently now I wait for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ady, my God, Thy will to s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pen my ears, illumine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pirit divin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олчаньи жду… Явись мне С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авду вечную откр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крой мне слух к Твоим слов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Дух Свят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pen my mouth and let me b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adly the warm truth everyw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pen my heart and let me prep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ve with Thy children thus to sh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крой уста мои, чтоб 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ю мог правду возвеща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крой мне сердце, чтоб всег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лась потоком благо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lently now I wait for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ady, my God, Thy will to s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pen my heart, illumine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pirit divin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олчаньи жду… Приди скор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точник силы мне откр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крой мне сердце, будь во м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Дух Свят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5T11:00:51Z</dcterms:modified>
  <cp:revision>12</cp:revision>
  <dc:subject>Slavic hymnal Гимны веры христиан, hymn 839</dc:subject>
  <dc:title>Open My Eyes That I May See / Открой глаза мои</dc:title>
</cp:coreProperties>
</file>