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4234-F3FA-4B6B-B55D-7CB09F34E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541D-DDB4-4E9E-B382-4B52CCF41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016A-63EF-4F9A-9FF9-0C18C4FD6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1636-1CA8-4977-9AF9-015621249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AA02-62F0-419E-ABF8-6C462FC18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789C-4B83-4DAA-A464-03B8DB3AA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8DCC-4DB3-48CB-88B7-15A3B409C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B167-113C-45F8-87D0-B55436422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F2B6-5DAD-4C33-8CB2-0E6564F9E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5AB2-A331-48B6-9294-766E83C3A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40A4-20C3-41F8-9D07-6FC4F7080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578F-3E36-4F4F-8887-5045C72CF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2A1595-733F-4CB2-A137-FE9160A286B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ь, мой крест бер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Тобой хочу ид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тречу я вражду людск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нев и злобу на пу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менил Ты жизни пла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любил, чего хот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 бореньи постоян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и небо — мой уд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4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 Господь, мой крест беру 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врагом мне станет ны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верным он всегда так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друзья меня покин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Господь всегда со 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любви и благод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же к сердцу с каждым днём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лится враг, исчез прия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не радостно с Хри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нев и ненависть людск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нят нас к Христа ног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тяжёлая зем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равляет к небе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бь души не завою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с нами Бог жи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лесть дух не очару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в Боге наш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ть нас укрепля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а видит чуде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молитва окрыля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открыл нам небе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кончатся томл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вершится путь зе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а место даст видень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ьбы сменятся хвал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42:45Z</dcterms:modified>
  <cp:revision>12</cp:revision>
  <dc:subject>Slavic hymnal Гимны веры христиан, hymn 846</dc:subject>
  <dc:title>О Господь, мой крест беру я</dc:title>
</cp:coreProperties>
</file>