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528-AC90-423F-BEA6-BDA03B9D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CF8-4535-4F39-BD02-12F1DB9F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8D0-1676-4D47-A05F-36CA5341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706-893E-40DE-B665-208F68B9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99E-9148-4321-A9CC-37DF2DDF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EDF-0E3D-4EF6-8E81-B0534F8F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7FC-7975-4090-B94D-C7BE2697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449-B822-4ECF-BA78-93F5D9D8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52F-D5BE-4AE1-8AAD-070F083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9CB-FB62-4950-8C8A-C6057B9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D99-274E-41CC-83D5-1E8DC6A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0E8-1275-4599-A080-AE996D6D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1CDF7-E56C-4EC3-A676-B1D4BBA94A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 воз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Творцу чудес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лаву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Христос м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 любви ко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дав Своё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 мен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снь благод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дар прощ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ощь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о друг возлюб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в союз с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 ты, искуп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идти с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, Отцом возложе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влеки серд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и, Христом проложен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рная о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елай прет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знию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ьи откр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ыть от глаз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е в тебе служ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най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ашему Уч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изнь твою пр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с благог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к стопам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сть благосл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уде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22Z</dcterms:modified>
  <cp:revision>12</cp:revision>
  <dc:subject>Slavic hymnal Гимны веры христиан, hymn 783</dc:subject>
  <dc:title>С хвалой к Отцу небесному</dc:title>
</cp:coreProperties>
</file>