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6A01-E647-42A6-A937-ED8CC96E7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D644-1AD0-4AEC-B9D0-302FAD4E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E360-8C28-40B7-B202-532D176DB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0A9B-015E-418E-9FC8-A3BE626BE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4E97-03E9-49CE-B1F1-7E3F5871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FE2D-D328-49C4-AE89-D1671EB7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37EA-805E-4DF7-A5FD-27F6EA76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CB30-8F8D-4301-8A18-5E52F44C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AD85-DED3-4E46-878D-963ACBBB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7970-2341-45B6-A352-5C2CB0F7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4AA5-14B7-44E7-A185-1F66A296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96FD-5A6D-40B6-9CD5-2AB79D01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449C24-F6E9-4F1B-BD32-35036BEDBE5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rejoice, beli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et thy joy and glory ever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m, the great Deliver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gave Himself a sacrifice for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икуй, ликуй, спасё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, ликуй, спас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будет славой, радостью т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вознес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се твои грехи на крест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beli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 and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Him who lives for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great High Priest and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спас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 (и пой)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ребывает веч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тв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 in thy Redee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hast a place that n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n rem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bids thee dwell in safe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rest beneath the shadow of H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, ликуй, спас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езопасен под крылом 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хрь бури разъярё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нять не может мира тв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beli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 and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Him who lives for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great High Priest and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спас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 (и пой)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ребывает веч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тв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rejoice, beli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home on high is waiting now for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re, in all His beau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King of saints with wo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shalt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, ликуй, спас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на высоте дом вечный ж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в славе вознес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твой тебя туда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beli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 and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Him who lives for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great High Priest and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спас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 (и пой)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ребывает веч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тв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rejoice, beli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ss on to join the happy, happy thro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soon Thy Lord shall call th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realms of joy and everlasting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, ликуй, спас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войти в собрание св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сердцем восхищ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й всерадостный спасенья ст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beli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 and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Him who lives for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great High Priest and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спас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 (и пой)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ребывает веч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тв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9:03Z</dcterms:modified>
  <cp:revision>13</cp:revision>
  <dc:subject>Slavic hymnal Гимны веры христиан, hymn 580</dc:subject>
  <dc:title>Rejoice, Rejoice, Believer / Ликуй, ликуй, спасённый</dc:title>
</cp:coreProperties>
</file>