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652-C66C-4544-8BDF-DEF64718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825-8F86-4E8B-8605-5FF419DE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CFC-AFA8-4207-B122-FE06D05C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947-E7D2-49A6-B3C3-27A2A9F6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BBC-B398-41F9-845B-3F5CD9E2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0CE-E2AC-414D-BFF5-CCC3F34B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B7A-69CD-40B4-A190-EBC83465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F39-6032-48DA-A5BF-5C515C1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0B4-F018-422B-B996-DE9A311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FC6-37F9-463D-BDC4-408C80B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CC5-8FF2-4A91-9120-53572947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77C-04F5-4D3E-AAFF-8B626F1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C6F2-63ED-4844-A8C4-3274ADFDB6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не мёр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у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м серд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ивёт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5:17Z</dcterms:modified>
  <cp:revision>12</cp:revision>
  <dc:subject>The Source, song number 133 in Russian</dc:subject>
  <dc:title>Бог не мёртв / God’s Not Dead</dc:title>
</cp:coreProperties>
</file>