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AD0-7F1F-4904-B297-8FFD0B7C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762-D2CC-4F71-8748-EE5A9B2E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8F14-8BA0-43EC-8CA8-B21ABE4F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65C0-0CF5-4074-87D2-1A7A8F3E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2F5-EEDD-4183-BA2C-006DC9DA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BA2-DEC2-4729-8D22-00EBDA82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4CD-D783-4675-BF7E-0DA30701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66CB-7A6E-4015-ADF9-8D2478E7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84D-10D8-4EE2-A08A-AB7B938F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5469-C727-4C66-A626-3EA03577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6E7-252A-4695-850C-4E98CA9A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AF0-3CBC-4BDA-B1FF-3C2BC26F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F3E10-5D59-44D8-A14A-C08F0E7297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all for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am and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 hope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my ambitions, hopes and pla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urrender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2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All For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t’s only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will that I am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t’s only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will that I am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all for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am and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 hope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7:26Z</dcterms:modified>
  <cp:revision>11</cp:revision>
  <dc:subject>The Source 2, song number 825</dc:subject>
  <dc:title>Jesus, All For Jesus</dc:title>
</cp:coreProperties>
</file>