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B80-F57C-48D6-B3AE-151850DD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9EE-9CA2-4BCF-A6C4-DA79FF76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8DE-47C8-4018-9C43-9B34C736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064-C723-4887-821E-587F13E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7B9-EFB9-4213-A5CB-E83E5A52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D1F-4312-4BFC-A557-07B3337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D88-EE36-4870-915B-F7C309A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B43-47B0-42A9-AAF2-0961EF5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346-BF72-43D9-8C82-366C9F1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CBF-0DBF-42C8-9C10-2BADCBB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B70-6A97-40C5-AB26-AF3A58C9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FE5-1493-42EC-978C-C14D648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039DD-7200-4AF2-8CB1-D6AB3486B7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9   While Shepherds Wa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42Z</dcterms:modified>
  <cp:revision>10</cp:revision>
  <dc:subject>The Source 2, song number 1059</dc:subject>
  <dc:title>While Shepherds Watched</dc:title>
</cp:coreProperties>
</file>