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9A5-8E3F-4FBE-AF59-72DFAC43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4B2-5384-4806-BC20-C69EFDB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1DF-3FBC-4214-9546-6C8A7B56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2C0-9ECB-4EA2-B4DB-4ED3C290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16B-A964-47AF-AF7E-A67E9E8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745-6DFE-4A1D-8A0D-90927A4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A7A-B27D-4248-98A7-56DFFBDC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4B5-AC73-44D5-83A8-5ADE1686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B35-5BF6-44F3-92CF-42B5EF1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A34-37B9-4761-A122-0DF6E3EE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EE8-9E76-4AB5-8F76-3DE36BF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159-EC8B-4CC9-A790-732F303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DA600-AFDD-4BE4-9590-C125797DD7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явлена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Сына Он от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шных в иску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убока вся боль 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смотреть не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ны на руках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 славе,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Сын Божи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звалил на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, но слышу голос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других насм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привёл Его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и всё — сверш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вздох Христа мне 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хвалиться не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дростью, н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у лишь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ою М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что Он дал награду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 меня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всем сердцем вер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искуплен жер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6:01Z</dcterms:modified>
  <cp:revision>12</cp:revision>
  <dc:subject>The Source, song number 185 in Russian</dc:subject>
  <dc:title>Как велика любовь Отца / How Deep the Father’s Love for Us</dc:title>
</cp:coreProperties>
</file>