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A05-4392-45D3-9F76-5FF04C14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7CC-3504-4D1E-A701-D6A5CB6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5DC-DA7F-4EB8-A5C5-7D090484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7A2-76AE-419B-9191-92F1FAEB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667-F0CE-4CEC-9F12-5E012427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13A-8737-4B42-B7F4-0031C40A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DD8-A94E-42BD-B554-5D94623C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B76-835A-44B8-8D29-CD63585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6AA-2AD5-4945-BC95-A7454C6E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633-9A7D-4B7A-BAE5-76755A3C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C28-B6A8-4B0F-8243-A51DECD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90C-89F3-444D-9C86-88AFD2C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248ED-C080-4096-A601-A681B5BF2C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at of good or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e reserv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eary ways or golden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face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8Z</dcterms:modified>
  <cp:revision>13</cp:revision>
  <dc:subject>Slavic hymnal Гимны веры христиан, hymn 585</dc:subject>
  <dc:title>I Know Whom I Have Believed / Не знаю, почему открыт</dc:title>
</cp:coreProperties>
</file>