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489-D13C-4DE7-B06F-1607EF19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1F4-C884-49C4-9C2C-4E09342F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80E-3EB8-4A14-AD99-157DF17D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B5E-2C26-467A-8056-378B7022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5D5-D6F6-40D9-9317-61EC3F4F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70B-50C5-4CB1-BD89-D657C87C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DD4-6F0A-486E-B457-45569CDB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238-98E1-4CFF-9578-366AD123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574-193B-46EA-BFFD-2BF446C3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64B-931E-472F-8A0E-AA11EF07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BA3-276E-4A66-97E6-1AA1D0D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481-BD6E-41A6-B185-73E6B8F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5982B-B6E6-4F1F-88F4-618D702D0C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на п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С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ы найдёт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ь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ещет там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 все на п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стоп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всю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Он примет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омоет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белит, как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ы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ет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етёте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остный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вение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ют ярч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их там бле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м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Бог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43Z</dcterms:modified>
  <cp:revision>12</cp:revision>
  <dc:subject>Slavic hymnal Гимны веры христиан, hymn 352</dc:subject>
  <dc:title>Идите все на пир</dc:title>
</cp:coreProperties>
</file>