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3298-6F21-45FC-BA83-6102D1F64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9B0F-2B24-4623-A678-25225D5DB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DC9E-DBE0-48E4-B9C9-1708F7B9B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A407-4AFA-4E69-9A99-D18989201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BC21-A21B-40B4-8B3E-D5FA15AE9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7448-B0F2-49CB-B5EC-80E3F43FC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0C64-21D0-41EB-B061-B2DC35130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180C-E74D-4D8F-9B0E-65631C616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C2A2-A861-49AF-A0FF-8A4D67952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6A85-5524-4B56-BE59-EF8E9232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5B5B-8817-433F-9353-B26AD459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B22C-007D-47BD-9BB0-3D305F29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5DB524-8CFB-4768-8E93-E02665F1B79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3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н Спаситель для моей душ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Спаситель для моей душ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Иисус, Мой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Спаситель для моей душ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Спаситель моей ду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Иисус, Иисус, Иисус,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Спаситель для моей душ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Спаситель моей ду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s the Saviour of my so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Jesus, my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s the Saviour of my so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s the Saviour of my so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name is Jesus, Jesus, Jesus,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s the Saviour of my so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s the Saviour of my so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0-12-18T07:27:00Z</dcterms:modified>
  <cp:revision>9</cp:revision>
  <dc:subject>The Source 2, song number 732 in Russian</dc:subject>
  <dc:title>Он Спаситель для моей души / He’s the Saviour of My Soul</dc:title>
</cp:coreProperties>
</file>