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4F3F-D473-451B-940A-DEF07A0A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B196-C2DA-47CD-905E-467AA344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6425-ADDD-47BE-AA9E-903B9A1A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4285-FEC4-4A73-9794-1C97903D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4979-8B2C-47B3-8C85-BFBD54E9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E8C0-0EF2-400D-B65B-4314EDA6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3D50-4930-4459-8984-41E4CC7B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436A-6020-466C-8594-03FFAB8F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302B-682D-4057-A708-529FD505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3B86-C31A-473A-96D3-C0236775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8A70-D2A8-40AE-B79E-E56CFF2D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289C-32FB-42BB-B0C4-E782621F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61263-96C4-44A0-BF60-8B8058AC9FA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маю радість, рад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і мої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і мої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і мої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маю радість, рад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і мої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і моїм завж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1   Я маю радість, раді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5:19Z</dcterms:modified>
  <cp:revision>13</cp:revision>
  <dc:subject>Slavic hymnal Гимны веры христиан, Ukrainian hymn 111</dc:subject>
  <dc:title>Я маю радість, радість</dc:title>
</cp:coreProperties>
</file>