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2D1-62F5-4B4B-89DD-CCC2B62F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7B2-9FEC-4BA2-8C1C-C4395497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DC5-9F7E-47C1-9AA3-A9B6912B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1BF-E659-4153-911E-0455652F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622-F4AB-4506-B378-790A2ADA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491-C47A-45B8-9356-1D4A0F9A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15F-DC21-4B91-9A22-8AEBA644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FDB-BEEC-4643-A133-9B01CCEE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896-CD70-4D89-8DEA-FF61F165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AFC-90F2-48B8-9092-DFF3AC7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760-322F-40B9-9939-48E0B588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18C-9CDC-4C09-AED2-714AE0A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F1C0A-1D29-46EC-8B63-F1A9F899B7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поток: он могуч и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по равнине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ещет, сияет, как ключ огнев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 тот чудный по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 по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ьё сердце проникнет тот чу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струёю заб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ет забота и тайный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благодати с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токе том слова Господн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от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 драгоценную пролил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тебе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жаждет, придёт пусть и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ьё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ух и Невест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удет в потоке том сердцем ом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Бога во славе уз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ветел источник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кус его сердце жи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ет и силу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ое чистым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7:37Z</dcterms:modified>
  <cp:revision>13</cp:revision>
  <dc:subject>Slavic hymnal Гимны веры христиан, hymn 402</dc:subject>
  <dc:title>Я знаю поток</dc:title>
</cp:coreProperties>
</file>