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6ADD-0C5F-440C-8FBC-9890F780C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BD19-6D1F-487A-9086-AFC22F13D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0BEE-1BFD-49FC-9B47-475FDDA6D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F681-033E-4A21-942C-0C7293D6B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88FB-CF02-480A-9842-6FF5264E1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1BF7-FE74-459B-8520-BDC3ACA15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29DF-BA86-4192-8987-B550A3B67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8881-E1D9-470E-89D3-1C425DA01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2402-CA4C-4529-8E3A-4D44DD30C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BE4E-05AF-410C-AB79-16E29C561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F4F2-F9AD-4836-80A7-F1CDE8FC5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F722-AB03-4637-B5B9-5B8E7FFCF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516623-553F-4C98-9B73-D34C450E166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строен колодец в пустыне сух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полнен он светлой кристальной вод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люди идут по неровным путя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заветным воротам, к далёким края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ногие с жаждой в усталой гру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ходят, не видя колодца тог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лучшего ищут они впере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гибнут в пути, не найдя нич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9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Устроен колодец в пустын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ные приходят к колодцу том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зей вопрошают: когда, поче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ем он был вырыт? и спорят он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споре проходят их лучшие д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ные приходят к источнику в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радостно пьют из живой глуби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 новою силой стремятся вперё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заветным воротам небесной стра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видишь ли, друг, ты колодец Хрис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чнися, не спорь о начале ег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жаждешь, ― и пей из колодца то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век на земле не возжаждут у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16:18Z</dcterms:modified>
  <cp:revision>12</cp:revision>
  <dc:subject>Slavic hymnal Гимны веры христиан, hymn 396</dc:subject>
  <dc:title>Устроен колодец в пустыне сухой</dc:title>
</cp:coreProperties>
</file>