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421-26C3-4B70-B11A-62F6A388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768-8D5F-4F86-B314-ED4F9D1B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DAD-7D47-49BA-AE40-79B64F4F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2EE-4A24-48FE-8A75-C404FDAC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17C-080A-4A6F-8997-85039ADA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75F-CCC5-41E8-B767-499C0DFE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215-E442-4A11-9018-A9E0640D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D3C-D289-419F-BD91-CF4699DF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D11-A4EE-4CF4-BE4D-380BFABC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7CB-4BBD-435F-A700-9C32112D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1A9-1687-43AF-A785-FB38467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C4D-A43E-46B0-874A-72FB9BF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2DB1-BAFF-4BA4-B698-E3745EE2B2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57Z</dcterms:modified>
  <cp:revision>12</cp:revision>
  <dc:subject>Slavic hymnal Гимны веры христиан, hymn 591</dc:subject>
  <dc:title>Спаситель! жаждет петь мой дух</dc:title>
</cp:coreProperties>
</file>