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835D-F1FF-45DE-98CA-5217D7075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08C3-C0C3-46C8-B731-67462B3C7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2965-7752-4049-896D-79372E5F2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7691-AE74-4C68-8671-172766385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02A8-ACCF-4973-BFAF-A1C6DEC33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34C0-661C-410C-817A-AD8E3FACE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832B-44C9-413E-82EB-5387B176C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BCA4-4424-4629-92CC-698194E58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ECE8-4B66-44B0-8B6D-7536E3152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7EA5-F71D-4609-A242-72AB753E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FC80-B910-4286-8FC3-C3BCAF02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629A-4337-4964-9B26-81BEEDBF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ECB98F-BFDC-4DFA-80EA-0D038C36AEC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вину мне может смы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ичто, лишь кровь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овь что может исцел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ичто, лишь кровь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орога стр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вшая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сильней мо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ичто, лишь кровь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2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Что вину мне может смы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очиститься, гляж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кровь одну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 прощенья нахож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в крови святой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орога стр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вшая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сильней мо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ичто, лишь кровь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реха искупит дух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ичто, лишь кровь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добро моих заслуг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ичто, лишь кровь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орога стр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вшая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сильней мо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ичто, лишь кровь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надежду мне дарит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ичто, лишь кровь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я святость мне не щит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ичто, лишь кровь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орога стр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вшая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сильней мо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ичто, лишь кровь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9:09Z</dcterms:modified>
  <cp:revision>12</cp:revision>
  <dc:subject>Slavic hymnal Гимны веры христиан, hymn 425</dc:subject>
  <dc:title>Что вину мне может смыть?</dc:title>
</cp:coreProperties>
</file>