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562D-893F-4E96-9862-08BACE7EB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280A-A691-4F31-8DA1-76CDAC62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A1CE-481E-4ADF-8A63-7C7B2B995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0EBC-3E4C-4FE4-A7BC-88B923EB2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EC10-5421-4CE0-BEB6-A7E291A8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0566-59FB-4DC4-9402-D661B158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D17C-7E50-442B-9886-28074AF0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C56A-ECFA-4962-B04D-0D6EAFFB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50C3-B718-4045-972F-3C34F663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F327-6975-4287-BA2B-13CA399B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1F69-FAF5-4F83-9DDB-8F974940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8D10-57F7-43E7-AE06-CD21ECDD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4BCB0-8C58-4E08-AA65-F5BB6B1E2B5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шь ли ты голос Бож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но для тебя звучи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двери стоит прохож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, что Он гов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0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лышишь ли ты голос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но так тебя Христос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к Нему, тебя Он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Нему скор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дверь открой сильн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найдешь ты для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к Иисусу поспе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 любви Его ты слыши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овёт тебя, мой бр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Им одним ты дыши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Им одним бог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но так тебя Христос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к Нему, тебя Он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Нему скор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дверь открой сильн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найдешь ты для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к Иисусу поспе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его, что ты споткну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ань, иди к Нему оп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ты и пошатну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т Он тебя под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но так тебя Христос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к Нему, тебя Он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Нему скор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дверь открой сильн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найдешь ты для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к Иисусу поспе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раз ты, друг мой, п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ставал и шёл к Н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еперь такой упрям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е веришь ник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но так тебя Христос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к Нему, тебя Он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Нему скор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дверь открой сильн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найдешь ты для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к Иисусу поспе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3:59Z</dcterms:modified>
  <cp:revision>12</cp:revision>
  <dc:subject>Slavic hymnal Гимны веры христиан, hymn 405</dc:subject>
  <dc:title>Слышишь ли ты голос Божий?</dc:title>
</cp:coreProperties>
</file>