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585-28A7-49C4-A578-366B16F9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D3D-6AAF-4B91-8697-051C349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6F0-EF31-46E5-A6F3-9EA0FEC2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EC4-563E-40E4-B0FD-18B15A4E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512-3772-4678-98EE-E6EA0864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607-FFC1-4E80-A69E-B35E74A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4C1-416A-4C41-90C6-6AA4923B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D70-4D0C-40FB-811D-3A1D198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10C-7585-41BA-B6B2-3A20ABBA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3F3-9724-46EC-BAB2-622D8536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84E-A425-49D5-BBD8-F02A5E4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0CD-9A74-40A2-B06C-3C1236F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FA50E-BA9E-49EA-A2B7-1F7F93D293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2:01Z</dcterms:modified>
  <cp:revision>14</cp:revision>
  <dc:subject>Slavic hymnal Гимны веры христиан, hymn 367</dc:subject>
  <dc:title>O Why Not Tonight? (Oh, Do Not Let the Word Depart) / О, Божьих слов не пропускай</dc:title>
</cp:coreProperties>
</file>