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596-4A46-4AA7-9A93-815A5400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A8B-50C3-4CD5-899D-F4BBDBB4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340-399B-4499-8986-5C150C99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DAE-CC86-4102-AD6A-DD8EAB57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481-54F1-4C74-841D-84FA705A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E6D-4531-495F-AC88-FE43137C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02F-A83F-4D80-B5AC-93B5A657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DF5-874D-4E93-96B0-5927085F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3F5-1FF1-400A-A0E6-43A2C0D3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CAE-DB9D-46A3-9212-C607069B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8FE-9979-4C9F-9FBC-1C3BB27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6B2-C9A8-4347-82EA-D9E970A6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39D03-3D68-4167-A83F-2D5504A357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а   Призови Христа, о греш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, о гре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счаст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к тебе поспе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мир пошлёт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отца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свят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t thrills our souls with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loving arms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songs our tongues empl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им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сердцу м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зла лишь им креп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земную т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ри имени Христ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желанный мы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бе славном, н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сим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2Z</dcterms:modified>
  <cp:revision>13</cp:revision>
  <dc:subject>Slavic hymnal Гимны веры христиан, hymn 713 (as amended)</dc:subject>
  <dc:title>Take the Name of Jesus With You (Precious Name) / Призови Христа, о грешный</dc:title>
</cp:coreProperties>
</file>