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F7B-3364-4C64-B547-0D5C51F3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DD3-B0B0-4A4C-9FBB-EB214700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EBC-BB86-4D5F-959A-A8FCF493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605-F6B7-444C-B22A-6767A52B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6A8-CF1A-4451-BCF1-BDA3166E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C06-9437-4DF4-9686-A2F5393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F4A-5398-4E5F-BAF7-E8EEF4A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DCD-DFD0-4DAE-ADDA-BB9B5592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83A-8782-4B6F-9223-CEAAE07C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746-B53B-4D91-AE58-886DA05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43E-FCDA-4703-B78D-C4DDD946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F0F-7659-416E-ABF5-E940908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DA8DE-455A-46B9-B2F8-ADEAC5731B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бро земных кра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ары Твоих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, что с перв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ет жизнь дет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добро земных кра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учи светил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веты Твоих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каждый данный м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дня, во тьме ноч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родителей,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иль чужи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ремления к доб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у юную пор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всякий вышни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шь Ты нам,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зов, молитвы ж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бещанный венец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Церковь, что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родов всех и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 уст несёт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дар, что свыше д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4:12Z</dcterms:modified>
  <cp:revision>12</cp:revision>
  <dc:subject>Slavic hymnal Гимны веры христиан, hymn 819</dc:subject>
  <dc:title>За добро земных красот</dc:title>
</cp:coreProperties>
</file>