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5FF6-AC44-4350-89F1-6890B8D9E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5417-EF0D-40CD-BEDD-D8AF7E0A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559C-2CCF-47F0-A5B8-F011DEE31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6BAA-D9AC-4AC6-8667-718F34D80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A333-9433-435F-A205-252E0B1D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B3FD-7B34-4590-93FB-CECA222C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B3F1-1E57-406E-941B-29D26C6A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1BAD-E430-46A7-B6B4-CAE6A340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C1F1-51A0-497F-9BB2-42EB2C34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805F-4351-4A30-8F46-C7278592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9F39-A4DA-4952-B33E-50DD7B66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892E-EBA0-4B94-8DC7-C3583119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9DF27-0D3A-4C45-BD3B-B7FC8EEBD25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дали Христа блуждают миллион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Рабов, в цепях отчаянной тос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 долины тьмы несутся плач и стон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 помощи спасающей ру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ам сила Божия дан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ам сила Божия дан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дите в мир и проповедуйт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лагую вест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Се, Я с вами во все дни.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дали Христа блужда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то полный сил, любви и дерзновень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сти во мрак Евангельскую вест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Зажги огни всеобщего прощень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Зови на пир, там много места ес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ам сила Божия дан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ам сила Божия дан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дите в мир и проповедуйт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лагую вест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Се, Я с вами во все дни.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Зачем нам смерть? Вот жизни да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вященны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верьте в жизнь, и будете вы жи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Христос воскрес! Он — первенец нетлень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 нетлению стремитесь также в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ам сила Божия дан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ам сила Божия дан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дите в мир и проповедуйт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лагую вест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Се, Я с вами во все дни.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1:37Z</dcterms:modified>
  <cp:revision>13</cp:revision>
  <dc:subject>Slavic hymnal Гимны веры христиан, hymn 522</dc:subject>
  <dc:title>Вдали Христа блуждают миллионы</dc:title>
</cp:coreProperties>
</file>