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C581-6A2A-44B5-A889-2AABBEB93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3B1A-7939-41B8-8BFD-C196414E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5A68-7B9E-4F69-80E8-D9D9B7CB9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903B-02C3-4ED2-A2C6-6901EA947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CAD9-93EF-46AC-A3C7-A3102AEE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1000-1529-4BCE-B40C-D3063827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A6C1-1126-4F9D-9EDF-B0C793C9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802B-3108-4F23-9857-58E62077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C033-0CBF-4BD5-9D5B-551FC70D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D6AE-7A33-4CC9-A231-065B62A6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2EC1-D5FF-4DBD-8CAB-EA16BD0F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8EA6-3A4E-4E9B-8E02-A759956D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12CC0-9289-4E2F-95A4-808F43E838E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must be more than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Breath of God, come breathe with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must be more than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irit of God, we wait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us anew, we pr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us anew, we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42   There Must Be M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nsuming fire, fan into fl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passion for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irit of God, fall in this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have Your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have Your way with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 like a rushing w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lothe us in power from on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set the captives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ave us abandoned to Your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let Your glory f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let Your glory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nsuming fire, fan into fl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passion for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irit of God, fall in this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have Your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have Your way with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4T06:13:40Z</dcterms:modified>
  <cp:revision>12</cp:revision>
  <dc:subject>The Source 3, song number 1542</dc:subject>
  <dc:title>There Must Be More (Consuming Fire)</dc:title>
</cp:coreProperties>
</file>