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828-29C6-4002-9734-91E7F701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AC0-D1B0-441B-994E-050E3596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A41-7628-42CF-825E-6D26398D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249-D6B2-4974-83F7-CF8D7359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4C7-8C34-4226-8214-E735DA40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220-57EA-4A07-9DA2-768BCE2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19E-9A12-46DF-AE01-829E383E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7AA-A2FB-41C4-B594-90E5F4D8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BFA-7BC6-4CC8-BF38-1FE9AC6F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7D1-883A-4DF2-9E35-52C405E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64F-F05C-4C45-B68C-EE5160B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E19-D349-472F-B3B7-B060577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86212-10C0-4498-8657-9D7344349B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ли свет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ушою смер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я светочем ночную т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ет она за ним стезёю свет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вершенный Бож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горит ли свет тв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душ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 небес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ая грешникам во тьме усн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шь ли ты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азав им вер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алтар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аме непреста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усть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 Богу ль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свети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ы постоя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олнце не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0:55Z</dcterms:modified>
  <cp:revision>13</cp:revision>
  <dc:subject>Slavic hymnal Гимны веры христиан, hymn 558</dc:subject>
  <dc:title>Брат, горит ли свет твой?</dc:title>
</cp:coreProperties>
</file>