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0BD-EDD9-47BA-B8F1-84ABC16C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BAB-7249-4504-8D22-9F725AD1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EAF-FEDA-4EE1-8379-BDFCF6A1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B659-75A8-4248-829B-8BCEE3B1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297A-4DCE-48C8-B6DF-447A9A0F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5BF-9427-4530-975D-57529FBC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14C6-0D0F-4DEB-9500-9257475B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2C54-A12A-4ABA-9475-4FBAAA3C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E700-4871-4262-BB8E-8AD192D2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A7A9-1F39-4097-952B-834BA2ED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5CDD-03A4-4D27-B87F-2CEB4383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3F24-CF8B-498C-9F7A-683685C2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CE457-AD27-4031-B457-F5F8CFBFB97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преда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ственной в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звавшего к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смертных Твор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обраща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тягостной до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ты увид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го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корно предай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етуй: Кто преж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ён сущ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авит с премудр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ами пл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ихрям и мор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ел указ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путь безоп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м обрет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ожию благ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ё упо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ожим с спокой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ю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и все тай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жел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увенч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ным ко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сно в заб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рьбе непоси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делу стремиш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ратишь по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сь, и получ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илу обиль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блага даёт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е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юбовью предви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мудрая в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ём благо для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ред при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ому посл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ом д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ных Своих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лаженству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в чём нет прегр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начертань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 творен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Его 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ь же Господ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м обещань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ая радост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вечный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йся! Он ви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 сокруш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скорбь и стра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естокой бор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ь и увид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несомнен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сё Он устро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благу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радостно Бо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м быть спасённ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имешь от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ный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нидешь с хвал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 искупл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вечный, гот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ерных серд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7:32Z</dcterms:modified>
  <cp:revision>12</cp:revision>
  <dc:subject>Slavic hymnal Гимны веры христиан, hymn 653</dc:subject>
  <dc:title>Покорно предайся Божественной воле</dc:title>
</cp:coreProperties>
</file>