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48A-51E9-4032-9C43-D02BC956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8A45-B9BD-428F-A534-015A31A5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BFC-89F0-48A4-BC92-5391C4F4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9C0-AD72-4C37-B701-DC86E7D3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0D6-CFAB-4EB6-9990-3FA9BFCD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1804-CB81-44B5-A713-CEFB0620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A66D-5623-443F-B189-B3A6E1A3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19E-1889-4B55-8A5D-7848AC91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6EC-E9BC-483B-B36A-517DB528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BFD2-250D-4B0F-8844-E6D3198E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5FB-7F91-438B-9608-79501754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C388-AB63-4C02-B3A1-61AE9E7C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07CE4-BAD5-4D72-A972-806E829801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at the wedding feast at Ca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e shores of Gali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, Lord, revealed Your power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wd received You joy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! Ты в К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! Ты в Кане Галилей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рачный праздник прихо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ервый раз средь тьмы житей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лаву там Свою я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y to dis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us on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14400"/>
            <a:ext cx="100551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ave no power to live as You comm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You in us this power ign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nt, then, Your favour “till death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m part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ose You now fore’er un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! Для жизни этой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Тебя, Господь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агодатствуй до мог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й свершаемый сою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y to dis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us on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y to dis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us on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s an honoured Guest among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joy to all the guests im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rengthen in Your love and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union from its very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и к нам, как гость чуд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всех благосл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епи Ты связью т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 по вер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y to dis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us on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sanctify this holy un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You have sanctified Your Br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the Bridegroom we await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the ransomed at Your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дость брака освящ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церкви вечной, как же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рачном пире восседа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искупленных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y to dis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us on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edding of the Lamb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invitation is to 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grant that these who join their liv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enter Your great banquet h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ех зовёшь на праздник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, чтоб новая ч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я всегда Твои уст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ла войти на брак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y to dis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us on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here can we find the gla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out the sunlight of Your f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can we find true peace and 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less You grant these by Your gr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! где в мире этом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света Твоего л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и истинная слад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частье в мире без Твор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39Z</dcterms:modified>
  <cp:revision>13</cp:revision>
  <dc:subject>Slavic hymnal Гимны веры христиан, hymn 740</dc:subject>
  <dc:title>When At the Wedding Feast / Христос! Ты в Кане Галилейской</dc:title>
</cp:coreProperties>
</file>