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168-31D2-40B0-AC44-2200EE65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BDF-9CAF-43FE-AA9C-BCF3BC80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4CA-FEC8-445F-A644-C4940155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B1A-8E6D-4B4A-9D32-1BB8BAAD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E59-5980-4F83-A6AD-630444F7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2804-5089-4A5A-BD00-0F2DCE03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F985-CCB0-41FC-BC58-80F7F449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DE5-D21F-4224-9994-4244CDD9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D72-E773-43B4-A8FB-69539091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7F2-0188-43D1-BECC-F7FE249F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B59-A2E5-4183-9956-9C9DD95E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D9D-7F33-444D-B218-D94FEACD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5E995-108C-41A8-98A7-247E7F9FAB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upon life’s bi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tempest to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 are discourag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ing all is l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в бурях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бурях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удру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чами уны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твой омра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many bles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ney cannot bu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reward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your home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ую нужду вос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а дор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, что Бог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hat God hath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amid the conflic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ther great or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be discourag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ov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 же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ю Его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и побежд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many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will att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and comfort giv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r journey’s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амяти все мил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хр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йдёшь от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ном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hat God hath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many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сколько мил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hat God hath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ever burd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load of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the cross seem he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called to b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ли, з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ле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ое л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ягот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many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’ry doubt will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will b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days go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как вспомн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шь г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шь все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шь хвал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hat God hath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 look at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ir lands and g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 that Christ has promised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ealth unt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шь ли бога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ами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есть сокров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53Z</dcterms:modified>
  <cp:revision>13</cp:revision>
  <dc:subject>Slavic hymnal Гимны веры христиан, hymn 718</dc:subject>
  <dc:title>Count Your Blessings / Если в бурях жизни</dc:title>
</cp:coreProperties>
</file>