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223-26D2-4669-912D-D10BA56A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3809-C447-4FBF-A5E5-CC9A021C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B53F-B0ED-4B9A-A4A8-52EEEF7B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661-687C-4374-8ADA-1152D685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E243-4F52-4EAF-8B99-14ACA90F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F513-4936-41AE-ACF4-67951D5A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7583-FEED-4F74-BD21-013443F2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40D-7648-4BEE-AF0A-7CA02402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1A36-926A-469F-86B0-FA8E8959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E524-1C76-4B4C-B95E-8983D4B2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8EB2-5BAE-4427-B446-A1F57C8F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854-9C3E-42C6-BD33-EC9F65CD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4975D-215B-4987-905F-BF43747D004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ом на небе, за облак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и новой уж нет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родные где будут с 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песни славы там у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ом небесный, где быть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стремлюсь я, чтоб вечно ж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у Бога я вечно сла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вете чудном Христу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дом на н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3080" y="914400"/>
            <a:ext cx="94867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 бурю с моря моряк стрем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чалить в гавань, чтоб отдох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рвусь я сердцем в жилище с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тдых ждёт всех свершивших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но будет в том вечном дом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Друга души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 Голгофе за грех наш у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рил нас с Отцом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914400"/>
            <a:ext cx="94867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чалях горьких слёз лить не бу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славу мы будем пе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луки, скорби, болезнь забу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м больше нужды тер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4-05T20:12:36Z</dcterms:modified>
  <cp:revision>12</cp:revision>
  <dc:subject>Slavic hymnal Гимны веры христиан, hymn 903</dc:subject>
  <dc:title>Мой дом на небе, за облаками</dc:title>
</cp:coreProperties>
</file>