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EC2-E97E-4369-A739-6301A16A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D73-D71F-4040-B361-52A01D4D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C5F-93B5-4578-A9AA-2952D6D1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5A6-691A-4972-9219-54CAB203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DD6-BFDA-4EDC-84D9-4F119664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D5E-445D-481F-8D98-71A4402D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29B-C0C3-42F3-847D-141F61EC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A99-2998-421D-8241-DDC5C1FD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9D4-D332-461B-AA8F-6E6EC8B2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3A9-2581-43E2-AA71-EEAF1B94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A9F-24F2-44DB-8381-46E573FD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F5F-639E-4A13-9219-116A414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233CB-487A-415D-AB35-259CCA79AA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тро нач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ечный 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туманы проб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те Свое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 от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и в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час полу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уви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наши о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с источником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зять от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инства Бож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уск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ядущим слив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месте 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ют песнь хва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зял Он с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 т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ти без страд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оли нед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мук умир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с Господом в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осхищён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Он возьмё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55Z</dcterms:modified>
  <cp:revision>13</cp:revision>
  <dc:subject>Slavic hymnal Гимны веры христиан, hymn 315</dc:subject>
  <dc:title>Быть может зарёй</dc:title>
</cp:coreProperties>
</file>