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FA98-C29C-42CF-9BCD-084CCF675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6EEB-A8B2-4E5E-82DE-E8C7C480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7D30-6D5A-462D-83A6-B06E0DFB4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8B5B-4C92-4565-927C-5A9691B4E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81D6-679F-4CD2-A94C-89AF1902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ED8A-4BC0-42D4-A14E-44D89932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49C9-E481-4BCE-90FD-DACE0111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73E0-6EF6-442C-B8EA-CD84F4D1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DF70-4FC9-42D3-8C9C-A839809E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B838-5D9E-44EE-A961-9B974F9D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3B44-915E-4960-B152-5A7FFEE9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A328-73A1-421A-95E0-ED42F8C8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C9C30-4F44-4A77-857E-5D4F71C3877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я чую про Христа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 серці весе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співаю в простот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 ― Ісус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на тьму гріха і з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гинув, подив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звучить моя хва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 ― Ісус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1   Коли я чую про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і моїй Ти радість 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тепер мо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цілий світ, як я, спів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 ― Ісус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якій безодні потопав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гадати я бо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і звідти врятув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, І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віті я без Бога ж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же я учу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щати, як мене прост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, І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і моїй Ти радість 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тепер мо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цілий світ, як я, спів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 ― Ісус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Тобою мертвим був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же я учу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Тебе, як Творця люб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, І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Тобою мертвим був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я весе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дух від смерти ожи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, І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і моїй Ти радість 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тепер мо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цілий світ, як я, спів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 ― Ісус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4:46Z</dcterms:modified>
  <cp:revision>12</cp:revision>
  <dc:subject>Slavic hymnal Гимны веры христиан, Ukrainian hymn 71</dc:subject>
  <dc:title>Коли я чую про Христа</dc:title>
</cp:coreProperties>
</file>