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B7C3-9DA1-4858-B67D-556D8ADB0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910F-00C4-40B2-8A1E-F5967FD6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BFD9-868F-43A8-B730-7A84EE00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0B1D-6EF1-495D-B06B-87A753C9A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0DDA-69C5-414C-939D-8CF3CFA3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E61E-4931-4A1E-91C3-E865A570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3F6A-8AD5-48AD-AC1A-F427837D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D636-4422-4693-A139-05832D51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4A67-110C-4D99-AC82-55F2C2A8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549C-DDE6-4B32-A90A-96455D88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C6EF-23C4-4ADA-95B9-09561148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7A73-CD45-42C3-A805-FB5AE557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20900-6FE2-4949-A63E-A83D0C429FD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― Избавитель м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― Твой удел и достоянь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риобрёл меня С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ею кровью и страдань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, любящий Иисус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 всегда со мн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! Ты — Избав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― мой Учитель Всебла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― ученик Твой маловер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ставляешь разум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Твоей святой, безмер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, любящий Иисус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 всегда со мн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― Пастырь верный, сильный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я ― овца Господня ста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я тернистою троп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разрушаешь все прегра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, любящий Иисус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 всегда со мн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― милосердный мо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я ― дитя Твоё наве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дал мне жизнь, как Твой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бя явил Ты в челове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, любящий Иисус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 всегда со мн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― всё во всём, вся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я ― ничто, я ― прах могил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ам Ты жертвою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двиг меня и дал мне си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, любящий Иисус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 всегда со мн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― свет, а я ― светильник Тв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озарит Твоё сия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ьму Египта, мрак зем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примет мир Твои дая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, любящий Иисус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 всегда со мн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9:44Z</dcterms:modified>
  <cp:revision>12</cp:revision>
  <dc:subject>Slavic hymnal Гимны веры христиан, hymn 467</dc:subject>
  <dc:title>Господь! Ты — Избавитель мой</dc:title>
</cp:coreProperties>
</file>