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CCC-9467-453B-8FB3-1332989F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2BE-208A-4C2D-B05D-CC286698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FCA-4F6B-4687-B379-2A123C4D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8A2-6389-41DE-B482-3C43CA1C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C50-2329-4EF6-BAB2-5F217071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B46-ECD4-4539-BAD3-7F85D247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357-F459-488D-A3AE-CAC9C89F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AD2-755A-485E-99FA-1638D07E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0EA-18F6-4737-A63F-767A7D7E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1CE-DC88-4F59-A18F-C79B709D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A52-D1B1-4545-87EC-D101FF5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FE7-6A72-4E42-A91C-A87B9A36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9FB6A-8D6C-4387-ABDE-1B9419678D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’twill be, what joy ’t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uls from sin set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life on earth will all be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’ll be home at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радость, радость буд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радость,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м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жизн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там в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ealms of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ill be nothing to ann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here we still must burdens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we’ll have up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верьте, робки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вечной радости к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, грустно в мир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о спасенье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ee of life will ever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of life for us will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gone our mansions to prepar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y we will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дерево с пл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пасителем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, избавивший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ит в любви Св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does say there’s just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through heaven’s d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don’t chose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ll face an awful f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а узкая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нам д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ею не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мы умр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hoose Christ,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ears may often mar your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aints in glory you will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our God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уть узкий избер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хоть мы слёзы здесь проль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м в блаженстве вос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юбящим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conquered death and banished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v’n He’s led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eappearance can be near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a glorious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рассеяв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в вели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чистых, светлы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варя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5:37Z</dcterms:modified>
  <cp:revision>13</cp:revision>
  <dc:subject>Slavic hymnal Гимны веры христиан, hymn 661</dc:subject>
  <dc:title>What Joy ’Twill Be! / Ах, радость, радость будет там</dc:title>
</cp:coreProperties>
</file>