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95</a:t>
            </a:r>
            <a:r>
              <a:rPr b="1" lang="ru-RU" sz="3600" spc="-1" strike="noStrike">
                <a:solidFill>
                  <a:srgbClr val="ffffff"/>
                </a:solidFill>
                <a:latin typeface="Verdana"/>
              </a:rPr>
              <a:t>	</a:t>
            </a:r>
            <a:r>
              <a:rPr b="1" lang="ru-RU" sz="3600" spc="-1" strike="noStrike">
                <a:solidFill>
                  <a:srgbClr val="ffffff"/>
                </a:solidFill>
                <a:latin typeface="Verdana"/>
              </a:rPr>
              <a:t>Ты — помощь мне, Господь</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I need Thee ev’ry h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st gracious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tender voice like Th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an peace afford.</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Ты — помощь мне,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всяк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ир дарует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нежный глас.</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need Thee, O I need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v’ry hour I need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bless me now,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come to Thee!</a:t>
            </a:r>
            <a:endParaRPr b="0" lang="en-US" sz="3200" spc="-1" strike="noStrike">
              <a:solidFill>
                <a:srgbClr val="000000"/>
              </a:solidFill>
              <a:latin typeface="Verdana"/>
            </a:endParaRPr>
          </a:p>
        </p:txBody>
      </p:sp>
      <p:sp>
        <p:nvSpPr>
          <p:cNvPr id="5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моё стрем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який час с нуж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моё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покой.</a:t>
            </a:r>
            <a:endParaRPr b="0" lang="en-US" sz="3200" spc="-1" strike="noStrike">
              <a:solidFill>
                <a:srgbClr val="000000"/>
              </a:solidFill>
              <a:latin typeface="Verdana"/>
            </a:endParaRPr>
          </a:p>
        </p:txBody>
      </p:sp>
      <p:sp>
        <p:nvSpPr>
          <p:cNvPr id="5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need Thee, O I need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v’ry hour I need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bless me now,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come to The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моё стрем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який час с нуж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моё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пок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I need Thee ev’ry h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tay Thou near b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mptations lose their pow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Thou art nigh.</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ы — помощь мне,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будь вблиз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искушенья вла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отраз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need Thee, O I need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v’ry hour I need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bless me now,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come to The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моё стрем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який час с нуж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моё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поко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I need Thee ev’ry h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joy or p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quickly and ab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r life is vain.</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ы — помощь мне,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и, вселись и 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свет проле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need Thee, O I need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v’ry hour I need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bless me now,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come to The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моё стрем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який час с нуж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моё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покой.</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I need Thee ev’ry h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ach me Thy w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hy rich promis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me fulfil.</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ы — помощь мне,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ой управля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ак Ты обещ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оставляй.</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need Thee, O I need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v’ry hour I need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bless me now,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come to The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моё стрем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який час с нуж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моё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покой.</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I need Thee ev’ry h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st Holy 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make me Thine inde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blessed Son!</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Ты — помощь мне,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Царь,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силой я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возмог.</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5:51:46Z</dcterms:modified>
  <cp:revision>3</cp:revision>
  <dc:subject>Slavic hymnal Гимны веры христиан, hymn 195</dc:subject>
  <dc:title>I Need Thee Every Hour / Ты — помощь мне, Господь</dc:title>
</cp:coreProperties>
</file>