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7F9-2705-4331-880A-9E1DE827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3C8-8F73-46D1-9277-6103DFB9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135-436B-460A-AE93-AF9BA3BA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5DC-BC14-4F58-B3F1-A34C883E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8CD-44CA-4885-85F3-EC5F635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9D6-1883-48BD-A798-ECAB92D2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302-AF73-488C-89E3-EA8873C5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121-58E3-4734-9B01-EA095ECD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22F-8D29-4231-8B8E-720EEBB6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9D2-8C56-407E-AFD1-6107A465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5BB-73D9-45BF-ABC5-E1C532D9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D7E-FCDF-446C-9F6D-19D59ADC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5C1A1-2255-439F-AF63-04757F3387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God, we sing Your might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hich supported still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opening year Your mercy sh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ercy crowns it ’til it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хранил от юных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и в наступивши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их бедствий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day, by night, at home,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are we guarded by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incessant bounty f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unerring counsel 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, вблизи, мы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лишь благостью жи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сылаешь снег и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леб насущный нам да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rateful hearts the past we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uture, all to us un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o Thy guardian care comm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ful leave before Th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ошлое благода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то пред нами — знаеш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гаем всё к ногам Т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ы, планы и меч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cenes exalted or de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our joy, and You our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oodness all our hopes shall 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ored through all our changing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дачах, в счастье иль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пок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ешь Ты в сты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, кто льнёт к Тебе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2Z</dcterms:modified>
  <cp:revision>13</cp:revision>
  <dc:subject>Slavic hymnal Гимны веры христиан, hymn 731</dc:subject>
  <dc:title>Great God, We Sing Your Mighty Hand / Великий Бог, рукой Своей</dc:title>
</cp:coreProperties>
</file>