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73   Чтоб пасти народ избранный</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Чтоб пасти народ избран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с небес спустился к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стырь добрый, неустан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милосердии к овц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Чей язык красноречив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ьи блаженные у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м расскажут, как счастлив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вцы Пастыря-Христ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Что опасность нам и нужд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зве силы нету в 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злу мы будем вечно чужд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ашим Пастырем-Христ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Если нас недуг терз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покой нам ниспошл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врачует, утеш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не чудный Пастырь Тот?</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О, великий Пастырь ста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ных, избранных Тво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 святая мне огра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земных путях моих.</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10:43:36Z</dcterms:modified>
  <cp:revision>3</cp:revision>
  <dc:subject>Slavic hymnal Гимны веры христиан, hymn 73</dc:subject>
  <dc:title>Чтоб пасти народ избранный</dc:title>
</cp:coreProperties>
</file>