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5EF-8193-4A36-913A-135AC5B8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CC9-7391-4810-A56B-819AC23C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E26-30C4-4324-800C-4AF4844F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432-8659-4921-8577-6916CCA4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0CB-9C25-4FDA-89EB-F1C4807D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4B7-53EF-4313-AB36-DF072B07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3AEE-3935-4AE2-AADD-987BE575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924-1E1F-4080-8E87-DDA53826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AC6-C74B-495B-B4E9-D3C37827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3B3-C6CF-4EFE-8446-9CD2940D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C7D-D273-4EC8-85B8-6D4E6834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FDDD-5FCB-411C-943F-5296510E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E434A-494C-444A-8AC0-854D23F310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,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being’s ransomed po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thoughts and words and do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days and all my h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Иисусу, всё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сли, чувства и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, силы и познань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days and all my hou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days and all my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hands perform His bid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feet run in His w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eyes see Jesus 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lips speak forth His pra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пусть Ему лишь служ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ги пусть за Ним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 — на Него вз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lips speak forth His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lips speak forth His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my eyes were fixed 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lost sight of all be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enchained my spirit’s vi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ing at the Crucif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душой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ирское не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лёк меня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ing at the Crucif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ing at the Cru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wonder! how amaz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glorious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igns to call me His be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s me rest beneath His w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кий дар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целый мир соз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бедное тво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ing now beneath His w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ing now beneath His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51Z</dcterms:modified>
  <cp:revision>13</cp:revision>
  <dc:subject>Slavic hymnal Гимны веры христиан, hymn 548</dc:subject>
  <dc:title>All for Jesus / Всё Иисусу, всё Иисусу</dc:title>
</cp:coreProperties>
</file>