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CC8E-E606-47C5-8788-CC382A95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12D-EC18-48BE-A0DE-8B3D960C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2771-96C0-4A66-8BF2-78605EC9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6A2-D5F3-4863-954A-357C1CB2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19A6-C5F8-4A73-B837-D3F32A27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081B-5D47-42AC-BFB2-E77B8B9C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298-79C0-4F74-9F5D-7060C537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9B86-309C-4E62-85FC-F6022EFA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092-A3CA-45DC-9F9D-F6395EE7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B4B-A997-4D8F-9B0E-A9C02A29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FD9F-D3B4-48B3-8CC4-9171BBB4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480-356D-48DE-97C1-98D45141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82B25-EAF2-4694-B406-7DB5079F07B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рам, не золотое зд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руг отобранных друз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церковь есть собр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ом искупленны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душ теперь на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тягостных грех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душ времён про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жидаемых веко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храм, не золотое зд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душ с пустыней ю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ападных, восточных стр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вера, где вечна вь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ен снежный ураг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душ из всех народ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й земли и всяких царс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юрем, из-под царских свод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общин всех и всяких па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душ, кто в царстве 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ились в блаженстве и хв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 молитвы воссыл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ьях скорбных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церковь — мир воскрес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новлённый род людс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ё наделит крест Понес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ым небом, и земл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покоя в мире э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церковь избра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Богом и Его за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только битва сужд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ё борцы теперь в изгн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 кровью бое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 слезах, она в рыд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ир, объятый суе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ень уж близок, и вели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а — Жених её — ид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ышны радостные кл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шум морей и гром невзго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Он взять её из м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есных уз тюрьмы зем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дут её венец, порф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ый рай, и пи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царь Давид, певец Си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дит Лазаря в вен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ывший нищий с сыном т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ягут в Божием двор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аведный Енох, как с бра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имется в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збойником, Христом прин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имя жертвы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Церковь вечна и един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ы я в ней быть слу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луг там нет. Прими, как сы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 ту Церковь, Бог благ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2:58Z</dcterms:modified>
  <cp:revision>13</cp:revision>
  <dc:subject>Slavic hymnal Гимны веры христиан, hymn 562</dc:subject>
  <dc:title>Не храм, не золотое зданье</dc:title>
</cp:coreProperties>
</file>