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0F6-5328-4C55-A900-8D6E27FF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E64-42C1-436E-95BF-E155BC4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9F3-1313-428E-8B36-DDC0819B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063-6ABF-4DBA-B38A-06C77E78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3B4-02F9-4CCC-9133-10FE631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E28-B2C4-4232-AFDD-80B6EC7C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0EE-DBA4-4EA3-BC1C-ABF6DDAF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AFA-739D-480A-AFF4-9101A36D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6B1-82F6-42DA-9007-4CB43541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6DD-DA6D-4348-A549-828EF75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753-D586-4BCB-8A29-478BFAD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FF9-55EB-4077-87D3-0AE27329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F2F64-2B06-4AA0-8C87-5FCA73DAEF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брат мой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 ты ни был не пада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правда и з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властно ца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омытой слезам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брат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азбит и пору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Иде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уится невинная кров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настанет п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ет Ва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ётся на земл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гнётом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рестом на согбённых плеч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идёт Он и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Светочем счастья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будет на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ёз, ни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скрестных могил, ни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ужды беспросве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ей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ча, ни позорных стол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не меч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светлый при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стая надежда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янись! Зло во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чур уж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черезчур уж тем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станет от м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лебнётся в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мится безумн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ет к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ззавет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полные скорбной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04Z</dcterms:modified>
  <cp:revision>12</cp:revision>
  <dc:subject>Slavic hymnal Гимны веры христиан, hymn 698</dc:subject>
  <dc:title>Друг мой, брат мой</dc:title>
</cp:coreProperties>
</file>