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0A4-9FFF-40DD-BD83-62B4A8F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5B0-FD34-4E37-81CE-1F2E059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504-FC92-41ED-8EE5-5F10BC92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885-94F5-4FA1-81B4-05D7577B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129-A38C-4855-9B23-6D85B7A3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19C-3EE7-41D2-B087-391E3CB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659-73D6-49B7-AE38-0B3C5EB0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CE2-A132-4F3B-9062-6B8F7D4C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333-BFB3-4B20-93EB-419574CD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23B-5F5E-44F2-B3DC-C06B855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F7E-6937-4F3B-A738-C2960FA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6D9-E5EA-4ED0-B657-92670FA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8A787-2978-4DD9-8A9D-2A14EE9C31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j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34Z</dcterms:modified>
  <cp:revision>9</cp:revision>
  <dc:subject>The Source, song number 438</dc:subject>
  <dc:title>Rejoice!</dc:title>
</cp:coreProperties>
</file>