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16F-A49F-4722-841A-4A3F9B25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740-4A17-4F64-B2E7-BB7B786B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A09-C6AA-4500-8EF9-9C691AB5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7DE-3C7D-4227-BDF4-8B7DB4CD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B08-D3C7-458C-A56C-41B05730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3402-069D-49B2-8739-9CCA0370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CC7-1280-4FA0-AA07-81668475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B5D-1D6C-45E3-AE73-8C22E01A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1EA-4581-487B-99BC-2680A766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CB1-4CC7-4544-84A5-456070D8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9F6-963B-4D75-927C-A86D8B6B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6C5-5F65-43AC-BE16-DFF4DF76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1BBE1-916B-4633-8E5A-B115F94C65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sinners, poor and nee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k and wounded, sick and s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ready stands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of pity, love and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 бе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изну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й, робкий и боль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Спаситель Вознес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душе твое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принял да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принял да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thirsty, come and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free bounty glorif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belief and true repen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grace that brings you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иютный, один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Господню добро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яет Он поро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 чист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ует жизнь и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лишь приди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ует жизнь и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лишь приди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t conscience make you li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of fitness fondly dr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fitness He requir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feel your need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сть душу пусть не м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ком не меч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ведав грех гнет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Господень прин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а, силой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ведёт нас в веч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а, силой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ведёт нас в веч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weary,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and ruined by the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tarry ’til you’re b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never come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й и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скорбей и раб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ебя ты не исправ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губиш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надежду, всю над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агай лишь н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надежду, всю над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агай лишь н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1:38Z</dcterms:modified>
  <cp:revision>12</cp:revision>
  <dc:subject>Slavic hymnal Гимны веры христиан, hymn 840</dc:subject>
  <dc:title>I Will Arise and Go to Jesus (Come, Ye Sinners) / Грешник бедный, изнурённый</dc:title>
</cp:coreProperties>
</file>