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316D-20A1-4B7A-B36D-061502CD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491-29FE-4A02-B2D4-F5779CB5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44D-A165-467E-9EE5-E1D737EF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8C1-231D-430D-AD23-D179709D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85BC-D383-476F-816A-6D19D8D2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3E1A-1127-45B3-93B5-6B555BD0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230D-65C0-49CF-BFAE-3BE25106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146-CDDA-41E6-A532-94D658FF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5EC-89C9-4916-A267-3C9667A6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76D-49B6-4625-B8CB-348C2385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2A3-F2B6-4661-913F-AABAAAC9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ED7-9A03-488A-B7F5-A7B5281D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7409D-67DE-4932-AB34-8C412A5B104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ко спасенью новый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Христа открыт пре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н тебе даруе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ворит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ть ко спасе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удьте, как дети!» — Он го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Христа нам радость да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щий всякий пусть повт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ый тот зов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что тебя зовёт Он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все сомненья, искренно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ди в Его отверстую две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н зовёт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9:15Z</dcterms:modified>
  <cp:revision>13</cp:revision>
  <dc:subject>Slavic hymnal Гимны веры христиан, hymn 381</dc:subject>
  <dc:title>Путь ко спасенью</dc:title>
</cp:coreProperties>
</file>