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4F1-236E-42AF-8FC9-CB31B7F8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6BC-2945-45B0-876A-C98C7AD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952-ED27-45BE-9063-EE8A7209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8AC-1011-4C85-A6FC-0F6895DA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852-67C3-4C0E-BA84-7B761C2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D0D-97EC-44C0-80C1-67A747A5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9BD-0478-4ABA-86FC-6292D694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CE7-73D7-4388-A457-A9213B01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21D-B9D8-47FA-B656-FFADFA62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047-FE3F-486C-9280-D48EB91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0AD-3018-475D-8A3E-C3BFE99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DF7-B620-4A33-81AB-F8243C8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C0E63-99CB-485B-A59A-96F70579D7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34Z</dcterms:modified>
  <cp:revision>12</cp:revision>
  <dc:subject>Slavic hymnal Гимны веры христиан, hymn 838</dc:subject>
  <dc:title>«Муж скорбей!» так назван Тот</dc:title>
</cp:coreProperties>
</file>