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BE8-A3E1-4A2F-98EF-A28A5B5C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392-BCA7-4D64-B6FB-DCC5E358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49A-7C16-43B5-9C45-BCC102C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A88-856D-4E87-B1DA-05C1F3D1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B0F-BE59-4E73-983E-D14B896E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052-3346-47C7-B3D0-AA2C8A1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2AC-97EE-4B55-B2C2-01D4DA1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4EC-FF47-4EA2-9DF0-D00A3B6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292-6143-4299-A0ED-5B9C291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17E-02DB-4233-9A78-C78CD90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8BE-5A5C-43A7-A6A0-5476202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0DD-7C01-4ABC-8197-4653227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9324B-4612-4BB2-BFCA-006D8459DC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God so loved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ave His only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die on Calvary’s t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sin to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 day He’s coming b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lory that will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His love to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полюбив Бог світ, що Сина дав С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ер Він на хресті, з гріхів щоб нас с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радість буде нам, як з’явиться Він з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28Z</dcterms:modified>
  <cp:revision>12</cp:revision>
  <dc:subject>Slavic hymnal Гимны веры христиан, Ukrainian hymn 72</dc:subject>
  <dc:title>For God So Loved the World / Так полюбив Бог світ</dc:title>
</cp:coreProperties>
</file>