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A1F-08DD-4269-A06F-9503D14C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5D3-6E51-45DD-A265-5F1EDE9B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F61-6194-45E2-A76E-135EAF09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0F7-BBA0-4560-BA67-66094394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B78-274B-482E-A66E-CA754571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383-FE36-4FB6-BC1C-3DB7AF80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90D-60CE-430C-940C-3F56FC4E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AD6-79FA-4051-BA8D-55E18124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B18-DD0D-4368-8D3A-823B478E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176-7406-4F26-A846-961087A6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78F-C7BE-4223-9B6C-1A115919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8D3-C508-4EB8-ACAB-569C6FA3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5927B-C135-4591-A6AF-8F0DF53D15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st falls the even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rkness deepe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with me ab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будь со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вет сменился мг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устеет тьма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s death’s 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, grave, thy vic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iumph still, if Th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мерти ж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, где ужас тв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 всё, — л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ou Th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my closing ey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through the gloom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int me to the s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дсмерт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Свой у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ездою утр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тьмы г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’s morning brea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arth’s vain shadows fl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fe, in death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ет 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ю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и смерти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ther hel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l and comforts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of the help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abide wi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лиш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ы я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лот бессильных,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ft to its 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bbs out life’s littl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’s joys grow dim;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es pas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изни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ткий ут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нет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е и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ge and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around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, who changest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есни счас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звук пу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неизменный, 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not in terro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kind and good,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ing in Thy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царским обл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со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м и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rs for all wo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eart for every plea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Friend of sinner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сц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с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олнца луч, та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eed Thy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passing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but Thy grac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il the tempter’s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нужда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час,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скус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евоз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, like Thyself,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and stay can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cloud and sunshin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ветл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чной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водя, хра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ear no foe,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e at hand to bl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lls have no weigh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rs no bitter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ен 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Ты, Господь, вбли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не тес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 то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2:11Z</dcterms:modified>
  <cp:revision>12</cp:revision>
  <dc:subject>Slavic hymnal Гимны веры христиан, hymn 823</dc:subject>
  <dc:title>Abide With Me / Пребудь со мной</dc:title>
</cp:coreProperties>
</file>