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85B6-9409-49D4-BF67-F603889E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C7EF-AC4C-485B-B6A4-C91A0699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4078-7B54-4894-9763-F49C6AD7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B9D0-35C6-494A-86C5-EF45790E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40CA-0A25-4992-9FA2-EECF4E5D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2125-B0F4-4638-B4AF-03B98081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C77F-C0D5-4C8B-8FCB-F24B76DA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D517-A052-4895-8794-567881DB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D9B-87AF-481B-8A1B-54DA8520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9680-C2C5-4F03-BC1D-87932ED6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CEEB-B275-4895-A4BB-D8E254BB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6DBE-2D19-4F9C-AC3E-2B8054EB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A03C4-70B7-47F0-ABE8-0459F2E5B4E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Господне с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ннею зар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и в знойный пол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ясь жа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ст жатвы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ора урож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й Господне с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на солнцепё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в тенистом м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прасны бу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сти тру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Господней в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придёт чуд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лачем отправляя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ля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ом ободр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ам не о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чатся ры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увидим нов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2:00Z</dcterms:modified>
  <cp:revision>13</cp:revision>
  <dc:subject>Slavic hymnal Гимны веры христиан, hymn 540</dc:subject>
  <dc:title>Сей Господне семя</dc:title>
</cp:coreProperties>
</file>