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3FB-D555-4980-A13E-0D92C3BA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7AF-BA21-402D-8DCA-0E2FF0C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DF9-5D75-4A1F-A7A2-50A9BEB7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14C-578B-4EEE-8226-FEAFA1F9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157-A331-4354-929D-7B1849D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E25-BED9-4065-B0C2-4627D38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55F-248B-4B95-8C5B-3E10E0D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AAD-73A9-4BB8-8BE9-183D594A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75C-4BCD-4C32-8D0D-58949F4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904-F002-4FB0-9026-CA81953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230-D5F1-4194-ACC4-9AA9C47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635-88CD-4154-9A3A-6BD350F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65156-28E1-4E64-BC84-AF35E8E4A5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2:52Z</dcterms:modified>
  <cp:revision>11</cp:revision>
  <dc:subject>The Source, song number 243</dc:subject>
  <dc:title>I Stand Amazed in the Presence (My Saviour’s Love)</dc:title>
</cp:coreProperties>
</file>