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088-04D5-458E-9396-4046E327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4C9-BF12-4BF2-AAC5-3B8C978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61E-F713-4DCA-8097-1AAE6192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AF2-332D-4194-AAA8-4E324843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1BB-F3D4-4175-9AE2-351DA4A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631-B2A1-476C-B257-34D4A05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D75-429A-4813-A2EF-ED9BA90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3EC-8C82-405A-B4BE-518B545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B11-8A82-4948-9669-5DA206CB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70E-2B9B-411F-8BB2-0348A4A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E43-DE0E-4C2D-8A37-BF792B0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B8E-FD99-4465-8265-2EA5FA9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270E0-6893-4F43-8C39-5D4877DA8D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14Z</dcterms:modified>
  <cp:revision>12</cp:revision>
  <dc:subject>Slavic hymnal Гимны веры христиан, hymn 335 (as amended)</dc:subject>
  <dc:title>Слыша просьбы, слыша зов</dc:title>
</cp:coreProperties>
</file>