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1667-4567-4407-88B3-F8C39708E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9FB0-E524-4FBD-BD39-4F85280C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89DE-8DF5-42B2-82AB-ECE72BAA1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AEFD-F513-4B46-8A4D-D3FED487A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73FE-4EFA-48D3-91B7-40008A61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8BDC-B713-48D1-8EF9-A16C3F41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A9DC-38C6-470D-8776-5591698C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A0C1-AD5C-4C7D-AE91-0C4AA8D6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D1AF-B22B-430F-B133-1C2821F7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BA8E-0E9E-4AF4-B479-983F9146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D2EB-F2A1-49A3-945E-B296DD78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E248-2EAA-4DB0-95E4-37DF33D3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5347D-8361-4734-8FF6-86E1F60E648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ожьих слов не пропуск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крывай от света гл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а не ожесточ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удь спасён — приди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завтра может не блес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лнце не освети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пора! О, мудрым б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удь спасён — приди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Божьих слов не пропуск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жет мир нас награ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ет отрад — он полн за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чни ж как христианин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удь спасён — приди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завтра может не блес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лнце не освети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пора! О, мудрым б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удь спасён — приди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 хочет тех изг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 Ним вступил в общенье ра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очет в них Свой труд нач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удь спасён — приди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завтра может не блес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лнце не освети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пора! О, мудрым б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удь спасён — приди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9:46Z</dcterms:modified>
  <cp:revision>13</cp:revision>
  <dc:subject>Slavic hymnal Гимны веры христиан, hymn 367</dc:subject>
  <dc:title>О, Божьих слов не пропускай</dc:title>
</cp:coreProperties>
</file>