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570-CDD0-4E24-B8B9-907B1CC8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4DF-0E61-41D3-9A5A-2E72C120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AF3-1C7D-40F1-AFBF-47E7C962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828-7302-4486-A034-6C8074C9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CAB-E08A-4B3E-9F2C-4A6664F4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D777-7FDC-4453-A0E5-90A7DD1E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5D1F-1A4C-4670-B3FB-37EDE13B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F1F-A7A1-4E0F-B5B0-E66A3989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0D0-A239-49BF-B93F-92086FDC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A6A-5307-48F2-8CA2-306B89CF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F01-AE49-427B-9D55-E2ACB9C2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3939-182D-4BE9-855A-8D062917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2C100-7B1E-4231-BA50-425275FDCB1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thanks with a grate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thanks to the Holy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thanks because He’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, His Son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let the weak say, “I am strong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oor say, “I am rich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what the Lord has done for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tha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ive T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4:59Z</dcterms:modified>
  <cp:revision>9</cp:revision>
  <dc:subject>The Source, song number 118</dc:subject>
  <dc:title>Give Thanks With a Grateful Heart</dc:title>
</cp:coreProperties>
</file>