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4B3-41E9-4C80-B80F-DEA6275E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515-A80E-4BF3-8FFF-9646316F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870-80E2-42A1-95B3-2D15A85A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7A6-EE70-4695-B464-B30BE1E3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E7D-AB9D-4D4D-B3D9-6AC57C6A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EAE-AFD8-49B5-A6A3-744981CC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F63-4D18-454A-AFD7-225FAE6B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154-C03F-4F71-AF92-DC472B92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4DD-657D-4565-AB36-28523694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B90-4794-4CB0-AE6D-6B9D23C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1C7-70C3-429F-9A36-117B021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F8D-AF4B-4BA9-89C1-25799178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95489-E3EF-4C6F-8C7F-D5A7511277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ve search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when I f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ea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6   O Lord, You’ve Search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o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eld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 uphol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earth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s from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stand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52Z</dcterms:modified>
  <cp:revision>12</cp:revision>
  <dc:subject>The Source 4, song number 2006</dc:subject>
  <dc:title>O Lord, You’ve Searched Me (At the Cross)</dc:title>
</cp:coreProperties>
</file>