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3420-FDB5-416C-A4F8-B858C69C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0B08-965A-47A0-8D99-ED6575CC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F654-76F3-412F-ABEB-95591AAC0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BB75-C66E-4976-B6D3-E517B95F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CA91-205F-44F3-AE1B-0C8F8ADB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0A1E-CDE7-4BD6-9022-5E2D7CA6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E0C0-91E9-46BC-AD8A-6326A4F0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E109-4E6C-4147-8059-9020191E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6F0C-4E41-497F-98F8-012A4AAC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1D9C-D63E-455F-85E5-7722F1F0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AF07-7DF5-4D7A-A208-C4172EF0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759B-F088-4927-BB89-CF515586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5B4DA-9670-43C2-879F-5C6BB0A9994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agnify the Lord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us exalt His name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agnify the Lord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us exalt His name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lled to the Lord and He answe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ed me from all of my troub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delivered me from all my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ll rejoice, I’ll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007   O Magnify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agnify the Lord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us exalt His name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agnify the Lord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us exalt His name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boast about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ell of the things He has d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whole world hear about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y’ll rejoice, they’ll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agnify the Lord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us exalt His name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agnify the Lord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us exalt His name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magnify Jesus togeth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magnify You, O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magnify Jesus togeth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magnify You, O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agnify the Lord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us exalt His name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agnify the Lord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us exalt His name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6:38Z</dcterms:modified>
  <cp:revision>12</cp:revision>
  <dc:subject>The Source 4, song number 2007</dc:subject>
  <dc:title>O Magnify the Lord (Psalm 34)</dc:title>
</cp:coreProperties>
</file>