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9F9-B7CB-40E3-88C9-40D3664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CF4-255C-4494-976F-39DF90B3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C7B-227C-4E78-9909-8CAF3502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F8B-0506-461E-B9B9-A3DAF9EC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3FC-3BD2-4748-BF9A-C4E3824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179-52D0-46D8-9630-609E8AB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CFC-3813-4E92-A8F9-68909B0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D13-8852-47C4-98A9-01B9DF42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E49-0EE6-4F5F-BD54-1CA1B6DE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E92-4DF9-4B4A-9B6B-2AF464E3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22A-4679-4DD2-8F49-65EAA45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C85-27C4-451A-B436-BA93CE8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3E30-6EE7-498E-94C6-169E3C3979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51Z</dcterms:modified>
  <cp:revision>12</cp:revision>
  <dc:subject>Slavic hymnal Гимны веры христиан, hymn 745</dc:subject>
  <dc:title>Бог с тобой, доколе свидимся</dc:title>
</cp:coreProperties>
</file>