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D64-32BE-41A7-B464-C418213F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EF7-8B79-4E30-8653-574F7F91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5D8-7CA8-4DA2-8801-E605811E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008-7BE1-485B-A44D-F6B9C0A3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BC0-4B3E-4A5B-8A91-8711B7C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836-8FB9-4363-A75C-18D67EBE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A5D-2F8F-4A0F-BF38-BD3DF405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E6E-816E-4FD2-B6D6-7B206221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44D-AB9C-46CD-BB88-4FDE3062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75F-8AD5-414A-9CB6-71BD434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C9E-6EBB-4AAF-8645-180B9BC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3F8-C972-45B8-8EFE-D8D9D4B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247BB-F5A6-4ACD-9A14-DC815F43EB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counsels guide, up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sheep securely fol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His wings protecting h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anna still prov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love’s banner floating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mite death’s threat’ning wave 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’s perils thick con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His arms unfailing roun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3Z</dcterms:modified>
  <cp:revision>13</cp:revision>
  <dc:subject>Slavic hymnal Гимны веры христиан, hymn 745</dc:subject>
  <dc:title>God Be With You / Бог с тобой, доколе свидимся</dc:title>
</cp:coreProperties>
</file>