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46E4-3514-444B-B870-226DB8E4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87B6-1C33-49AD-9D57-79287A64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571C-69F1-4F69-A3A7-4E014DB6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C7A2-E241-4925-B52F-85D7F825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8420-8902-4001-8D1F-F3E1F843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77ED-4A89-4BCE-952B-D9301EB5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7F77-22B1-4FA0-B1A4-A31FB248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E844-E4C1-4ECA-874D-2E32AEAC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7769-CBE8-41C9-91CE-1AC3AA76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37B1-987D-4074-8989-B2D58592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0A74-01FD-42DF-962A-63DC6964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D133-538F-42FD-AAD8-510856D2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50C64-ECC2-4A73-912A-90F4CD080A8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65040"/>
            <a:ext cx="9144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now is the tim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now is the time to gi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just as you ar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just as you are before your God,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, время приш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время пришло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время отдать Ему серд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такой, как ты есть,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такой, как ты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Отца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65040"/>
            <a:ext cx="962028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day ev’ry tongue will conf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day ev’ry knee will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, the greatest treasure remains for t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gladly choos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время, скажут, что Ты ест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ени склонит каждый из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е сокровища небес для т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вой, Господь,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65040"/>
            <a:ext cx="9144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now is the tim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now is the time to gi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just as you ar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just as you are before your God,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время пришло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время отдать Ему серд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такой, как ты есть,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такой, как ты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Отца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65040"/>
            <a:ext cx="962028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day ev’ry tongue will conf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day ev’ry knee will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, the greatest treasure remains for t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gladly choos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время, скажут, что Ты ест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ени склонит каждый из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е сокровища небес для т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вой, Господь,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65040"/>
            <a:ext cx="962028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ingly we choose to surrender ou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ingly our knees will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our hearts, soul, mind and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gladly choos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 2-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хотно отдаём мы Тебе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хотно склонит каждый из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жизнь Тебе мы с рад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м, Господь,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65040"/>
            <a:ext cx="9144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now is the tim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now is the time to gi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just as you ar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just as you are before your God, Come, come,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время пришло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время отдать Ему серд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такой, как ты есть,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такой, как ты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Отца, Приди! приди!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7:17:20Z</dcterms:modified>
  <cp:revision>10</cp:revision>
  <dc:subject>The Source 2, song number 662 in Russian</dc:subject>
  <dc:title>Приди, время пришло поклониться / Come, Now Is the Time to Worship</dc:title>
</cp:coreProperties>
</file>