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6CC-252B-4AA2-B81B-1DCC0521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23A-DA74-4186-9084-971837CC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A34-0F9C-4D73-B3E3-DC2D31A4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8D7-6C45-4648-A6DC-CC1FF2E8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AA0-2445-4708-B534-5EBA6E92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31E-36DE-4E82-AF6E-C0614268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230-B563-4B13-98AF-2B9A075C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CDD-0D97-485A-AB41-0924B78D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2E3-E309-49B0-BB59-401310F4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DF6-D471-4742-9028-B0EF43C6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840-2F05-4C69-B60F-31AF84F3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B76-B4FB-43F4-A097-77084A9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86136-1E0C-4967-9986-D1876B08E9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 рази що денно Даниїл моли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 рази молився й Пророк Іл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ові Даниїла Бог сам хорон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лля як молився дощ з неба полив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9   Три рази що д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37Z</dcterms:modified>
  <cp:revision>12</cp:revision>
  <dc:subject>Slavic hymnal Гимны веры христиан, Ukrainian hymn 99</dc:subject>
  <dc:title>Три рази що денно Даниїл молився</dc:title>
</cp:coreProperties>
</file>