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4AC-4454-43E6-9EE9-6499ABE1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4EE-3E71-4F82-A3CF-033D22D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932-517C-4F67-891E-58B114CC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680-9C0D-4851-A59E-8AEBB69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060-F3A4-4806-A5C7-A5E890F4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AB8-463C-443C-8DE7-A047D6FB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80E-D8F3-41A4-BF9F-5894EFC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6FE-000F-4A21-8C1B-6E6E08D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966-2CE4-407B-B099-4FD3084A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424-E76C-42CD-979A-C86E888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186-2D34-4C63-BC08-E556DA8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901-21ED-4352-8231-C8B2378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B2720-9A9F-4C19-BD41-513907F3D7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ед Ним нас собе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ь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истальных вод (чистых вод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брачную вече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численны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 Господний Анг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ремени уж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хищен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лаках (в облак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нас Творец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ёт Свой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счастлив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тайно и сокры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явно и от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ом (пред суд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 праведным: «Вой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Бога сво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е мы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 звуках гуслей строй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 небесных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победы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м (вознесё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Агнца, Мои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нмом праведны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, неведомую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18Z</dcterms:modified>
  <cp:revision>12</cp:revision>
  <dc:subject>Slavic hymnal Гимны веры христиан, hymn 679</dc:subject>
  <dc:title>В день, когда труба Господня</dc:title>
</cp:coreProperties>
</file>