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5252-BB09-4528-98A9-89702F16E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AFE7-3546-4672-BA8F-9B8D2CBE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6D21-F4FC-4A7F-AF32-3AF6EB94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2FF-1F9B-440F-8F66-E86669C4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B31F-D94B-4997-96F8-ED3CB84C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5505-4700-49FF-8B94-B4CD0864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9C10-C1E3-46D4-A1DB-88CA8C44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17BA-7D87-4087-922B-40E2D0FE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B0F2-0B0F-477A-93AE-DDBEDD9E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6AFA-1D80-47C3-8926-3AEC786C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1708-E11D-4575-9B40-BEF6BE49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957C-CE18-4104-99F4-883FE4C4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99B80-B007-4B17-AB53-D7C33CC0BEF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 мне, братья и сёст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вы хотите ид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новник колючий и остр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мни, и тьма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утники в рай Ханаа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ечного счастья расц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возь сумрак и вихрь ураг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идим спаситель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ажите м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олго, и путь мы сверш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 к воротам род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римет Господь нас в Свой го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м блаженствовать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очень хотелось бы с 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алёкий отправиться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олько страшусь пред скорбя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, где сил почерпн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лушаем Божье ве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посылает Свой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торый даёт подкреп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чит, и лечит нед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олго, и путь мы сверш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 к воротам род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римет Господь нас в Свой го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м блаженствовать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! Я решился оста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мире и с вами п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, Бог может наст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го святое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тствуем сердца реш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но нам руки да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месте пойдём в един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славный, обещанный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олго, и путь мы сверш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 к воротам род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римет Господь нас в Свой го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м блаженствовать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0:30Z</dcterms:modified>
  <cp:revision>12</cp:revision>
  <dc:subject>Slavic hymnal Гимны веры христиан, hymn 460</dc:subject>
  <dc:title>Скажите мне, братья и сёстры</dc:title>
</cp:coreProperties>
</file>