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164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436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28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164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2436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280" y="395280"/>
            <a:ext cx="89982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39640" y="395280"/>
            <a:ext cx="899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1440000"/>
                <a:tab algn="l" pos="2160720"/>
                <a:tab algn="l" pos="287964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1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 the Deep, Deep Lov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the deep, deep love of Jesu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Vast, unmeasured, boundless, fre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olling as a mighty oc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its fullness over m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derneath me, all around m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he current of Thy lov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ading onward, leading homewar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y glorious rest abov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the deep, deep love of Jesu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read His praise from shore to shor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He loveth, ever loveth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th never, nevermor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He watches o’er His loved one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ied to call them all His own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for them He intercedeth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tcheth o’er them from the thron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the deep, deep love of Jesu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of ev’ry love the best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s an ocean full of blessing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s a haven giving rest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the deep, deep love of Jesu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s a heav’n of heav’ns to me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t lifts me up to glory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t lifts me up to The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9144000" y="6624720"/>
            <a:ext cx="53964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hn Zaitseff</cp:lastModifiedBy>
  <dcterms:modified xsi:type="dcterms:W3CDTF">2024-02-15T08:48:42Z</dcterms:modified>
  <cp:revision>3</cp:revision>
  <dc:subject/>
  <dc:title>Slide 1</dc:title>
</cp:coreProperties>
</file>