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121-3023-4847-B58A-B5396A3D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AFC-C198-412A-B6EE-CB734BFB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1F6-737D-4D61-85E0-44D4E6D1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291-DA0A-4AA6-A43C-42B2D2A8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B16-185C-4741-8796-8FEAF740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348-B582-4E9A-9C7A-6E7A88A6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CF4-C25D-45CE-A403-2C0FD99A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343-9B55-4D33-8404-A5123A50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6B7-A219-4C31-BE51-0A70B5C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B02-3994-49D2-85B3-3E89500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6CE-141C-4E29-A2B6-2B6CDC3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D8C-84F6-4C29-AEDF-BC02ECF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8EFB1-099E-4559-B4EC-8CBD4754F9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O blessed tho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s with heavenly comfort fra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I do, where’er I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God’s han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’mid scenes of deepest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where Eden’s bowers b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s still, o’er troubled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His hand that leade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uld clasp Thy hand in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ever murmur nor rep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whatever lot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’tis my Go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tas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y grace the vict’ry’s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death’s cold wave I will not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through Jordan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50Z</dcterms:modified>
  <cp:revision>13</cp:revision>
  <dc:subject>Slavic hymnal Гимны веры христиан, hymn 644</dc:subject>
  <dc:title>He Leadeth Me / Господь, Ты Сам меня ведёшь</dc:title>
</cp:coreProperties>
</file>