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A13-A29E-4E96-B668-9E5422B4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8BF-8984-43DB-BF82-5DD9BCFF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B7F-C27C-4B07-A8AF-045FC4E7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F84-4073-41F3-A3BE-EA0D48DC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046-448F-48D8-B597-81E31B1B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F60-E80C-4C2F-A156-2F4AC84C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27E-EB82-4772-B641-7E29E457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03D-0B95-4AE7-8148-F51BDD32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623-5DDF-405E-B948-A98C9AD3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92A-69F5-414B-89A6-30085DBE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896-9FE9-43D8-A1CC-C5964210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B1F-276F-4445-9957-0FE7762D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A0D8F-819A-47A8-BE3A-AE6259B9BE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онской горнице убр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рапезу раздел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ред тем, как был пре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Свою им возв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л Он Свои стр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сию ночь предсто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озьмут Его во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удят, чтоб рас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ионской гор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следний раз, друзья, Я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ху эту совер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ами, верными сы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Свой новый заклю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вете новом завещ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г друга, как с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сем Я вам про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айте также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ю Я Своё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 иду стра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воспримет М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му не мин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кушайте Моё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 пейте Мою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те М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поведуйте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предание вы став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ать только об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ы каждого настав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л в вере каждый б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азал вам пут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же ноги вам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ворец Своё тво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 вас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делай своё де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уде Он сказ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родилось твоё 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б света не ви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зачем ты поднял ру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ы был всегда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знал Мою наук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вал теб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те, братья, и пойдём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о место, где нас жд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те бодры, в вере сто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еня от вас возь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пить сию ча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цом Мне сужде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сю жизнь ва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в мире рожден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6:50Z</dcterms:modified>
  <cp:revision>13</cp:revision>
  <dc:subject>Slavic hymnal Гимны веры христиан, hymn 726</dc:subject>
  <dc:title>В Сионской горнице убранной</dc:title>
</cp:coreProperties>
</file>