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C4F-4AAB-4D35-A506-EC03A171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B43-9503-4668-AD5D-3A081F9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8CB-0936-4419-B5FF-FCD15E1C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6BA-053E-4FF2-93AA-39649585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08F-09FE-4091-90B5-7DEF4297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DCA-BD55-4A9F-B5E7-08B9B15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8C0-8F43-4BED-9EE4-B16BC95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702-CF43-483D-9B9D-97F9EEE3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4AC-53DB-477C-ABB0-71686CC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15F-59C9-42E8-994E-B32D9506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F5-4C51-41EE-9FE9-FDCC850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8EE-ACA1-448F-B4C9-4113B4B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93132-FBC1-4DCA-8018-98F92FFCB8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world come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the mercy we’ve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You can set the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is joy that fills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a hunger and a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’ve strayed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s We Worshi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nations hear our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Jesus and Hi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ved His lov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ll the lost and broken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y hear Your still smal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their names, each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08Z</dcterms:modified>
  <cp:revision>11</cp:revision>
  <dc:subject>The Source 2, song number 638</dc:subject>
  <dc:title>As We Worship You</dc:title>
</cp:coreProperties>
</file>