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B79-0F75-4904-8C31-4146BE7C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3FE-DA0A-43A2-91E5-7574861A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11C-E08C-4C97-B968-733EF5D6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49F-03A0-4A60-8E75-07599CCB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D10-6D20-4C30-B2D4-66E47484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444-5D32-4D69-AEBC-D86F7518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732-ED62-4FFC-9260-DC762565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342-2289-4DC3-B590-251824E6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380-13C2-49E8-A22F-247EA092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671-3E8E-45C7-A570-04DA31B6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DF9-A513-4E96-A1CD-BF69D8E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412-9AEB-4B2B-8AA2-B86DD747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740CF-9473-4A05-AF5B-176648B064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Господь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ведёт в Хана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проведёт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Иорд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айся,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твёрд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ст тебе Бог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ве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ж скоро Господь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ая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м мы в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х п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уж разл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уже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х уничт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лог уж путь наш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ратья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восклон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ожий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Он спас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 Сво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овую мёрт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жи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коро уви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лаз не 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им про та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зум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игнем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удрости Бож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мём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лишь войдёт, 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здесь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а не сты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детеле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жизни, в борьбе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ёкс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чёл всё за сор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9:45Z</dcterms:modified>
  <cp:revision>13</cp:revision>
  <dc:subject>Slavic hymnal Гимны веры христиан, hymn 678</dc:subject>
  <dc:title>Уж скоро Господь нас введёт в Ханаан</dc:title>
</cp:coreProperties>
</file>