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2F8-5F16-43A1-AD52-5BC6BF74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85E-38E3-4743-87E3-7FDB34F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05C-713B-4DFD-BB21-CA4DE7B1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641-EF57-48F2-AECA-767464E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45F-EAFD-496D-9B8D-7B4E37C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028-0BED-486F-BAEB-2B266BA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EEA-7F66-4253-8A74-7537BE21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D88-3022-4321-B0D1-4607B55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D17-4C7D-4DE5-9AC2-44E34868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EF9-56A6-48A8-8184-7E13A13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A57-F85A-4A55-8CD8-78ABFE6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E2F-0508-4CEF-B2FE-F8FC033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F8F61-37A2-4D2D-89B5-20F7194FAC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27Z</dcterms:modified>
  <cp:revision>10</cp:revision>
  <dc:subject>The Source 2, song number 611</dc:subject>
  <dc:title>Above All</dc:title>
</cp:coreProperties>
</file>