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92C9-9E94-4DC6-A5E8-77103D232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0FE9-722B-41F2-B8EE-64E7C6CE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F3C8-B7EE-4F9B-B65E-F82146D41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8B5C-35FC-4EFE-A230-B9E52B4E2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5C6D-8025-4F97-BC03-0898E4FF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AF76-D2B1-4501-878B-44920796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122D-EE73-4223-9AEC-D2539177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0AED-D8D5-40B2-B212-6837C631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BBC2-1222-440B-8186-53E03230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0F12-840C-43BF-8654-730C400E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AFA5-7AB6-4EA1-8523-BEB6553D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EDA3-200B-4550-A249-20A5BE0A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27610-4709-4DFF-8D2E-38823D3BA75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, ты в борьбе и томл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итве смиренно склон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Иисусе найдёшь подкреп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овую радость и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гляди на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ыше, славнее вс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емные скорби рассе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ивном свете сиянья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уша, ты в борь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смерть Он вошёл в Свою сла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им нам идти сужде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х Он в борьбе не остав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а победил Он дав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гляди на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ыше, славнее вс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емные скорби рассе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ивном свете сиянья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держит Своё обеща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сердцем Ему доверя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ущим в нужде и страд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и мир возвещ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гляди на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ыше, славнее вс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емные скорби рассе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ивном свете сиянья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1:05Z</dcterms:modified>
  <cp:revision>12</cp:revision>
  <dc:subject>Slavic hymnal Гимны веры христиан, hymn 886</dc:subject>
  <dc:title>Душа, ты в борьбе и томленьи</dc:title>
</cp:coreProperties>
</file>