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D83-9DA7-44CA-BA44-23A0C70E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53E-4657-466B-926E-0B273EE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1F4-9AD7-4115-9C69-33F392F0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97D-B35B-4808-8EE4-DBA36124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FD8-B087-4462-B6D4-FE2B3AA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44B-CBB7-41D6-A571-ABF8A90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9B5-F3CF-44BD-BE09-274BA47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051-1701-4B80-9A9B-2D689F6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5D8-560F-46D4-993C-8BB0EEE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F35-B378-4CB7-BA71-1575F2E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9A4-05F9-4E61-873F-1E86001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0DE-21BB-4525-A447-DE1F792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3CB7F-5B2F-4BB5-A17D-4045ADAE29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ark,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ic songs are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arth’s green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cean’s wave-beat sh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at 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life be long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must da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some night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жизни крут и 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’s journeys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elcome to th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, the hear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home, 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ьш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s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aithful watches keep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s sweet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o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orning’s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end the night of w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’s long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in cloudles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ертвящей 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blessèd strains are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new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in shall b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w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we hear them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ary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bids you come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echoes sweetly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spel leads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,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bells at evening p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oice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s o’er land and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den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ousands meekly st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 Shepherd,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eary steps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 чрез 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31:07Z</dcterms:modified>
  <cp:revision>13</cp:revision>
  <dc:subject>Slavic hymnal Гимны веры христиан, hymn 615</dc:subject>
  <dc:title>Hark, Hark, My Soul! / Внимай, душа! небесных хоров пенье</dc:title>
</cp:coreProperties>
</file>