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416-3F8E-457E-84F4-56B8312C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F0B9-E0D0-42BA-9631-A163C28B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23C-DFD1-48D1-8867-F28E25AB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0F13-33EC-4D0E-8E18-681BCF82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EC3-9A4C-4FD9-8C5C-1CE80579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E5AE-9B2D-44AD-A241-0F99C897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8DD-7DF4-49FB-9F57-52B2E30C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DDDF-7C10-4835-8F81-6AA091F4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52B6-6F80-4D0C-987C-0BD888C6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346-DD91-4937-BB33-F5DA11B4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38F-1BC0-418C-A8D8-1A8B3AE5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7897-4CC4-44CD-A5AE-AFE00853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CBB91-1FAC-4FA6-8F65-41D0791CFAA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my Redeemer liv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as prepared a plac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rowns of victory He giv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ose who would His children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наю, жив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жив Христо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сто дать мне обещ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верь открыл мне к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дом Божи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д лучом Христова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навеки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верь открыл мне к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дом Божи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десь я только жду призы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зьмёт меня от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ёт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зьмёт меня от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ёт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trusting Jesus Christ for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His blood now speaks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listening for the welcome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ay: “The Master waiteth the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сердцем доверя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распят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су Его вним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ходи! Я жду теб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су Его вним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ходи! Я жду теб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now enraptured with the thou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tand and wonder at His lov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e from Heav’n to earth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ou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ie, that I may liv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беждён Его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меня страдальце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текал пречист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мне смертью крестной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текал пречист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мне смертью крестной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Jesus soon will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e time will not be 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I shall reach my heavenl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oin the everlasting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придёт уж ско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меня туда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д лучом Христова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навеки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52Z</dcterms:modified>
  <cp:revision>13</cp:revision>
  <dc:subject>Slavic hymnal Гимны веры христиан, hymn 629</dc:subject>
  <dc:title>I Know That My Redeemer Liveth / Я знаю, жив Христос Спаситель</dc:title>
</cp:coreProperties>
</file>