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E6D-6F3F-4967-AC17-04ACAEDA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6CB-A091-4D4B-960F-9F6B084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4C0-7E3B-4502-8B3D-A83BAA56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8D1-C003-4072-AB59-7C477A4C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9E3-A88E-4E92-837F-436AD45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786-6A83-49F8-9151-E997C30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63F-1440-43B0-A6A5-53A38B4A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F55-3C28-4CEC-9CEA-0BE16670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834-BA5A-487B-8597-643D745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5D7-EF0B-4345-9853-F92E5666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D89-B440-4A50-B02A-2420944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8B6-48F3-46EF-935F-696CD8C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8F63E-AEDF-4572-8A69-B010DF87B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мы беж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видны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дали горят вен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ённые для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яются двор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близок славны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ежали о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тиг над бездной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ой любви с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нас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пред нами п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за Ним беж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Его д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емся мы с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сь святую над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д миром суе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взор наш устрем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поднятый пер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вслед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, мимо грешных м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59Z</dcterms:modified>
  <cp:revision>12</cp:revision>
  <dc:subject>Slavic hymnal Гимны веры христиан, hymn 494</dc:subject>
  <dc:title>На ристалище Христа</dc:title>
</cp:coreProperties>
</file>