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FBAE-37AC-4149-8925-8D6C2BD0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8F3-6152-407B-8863-CBA9A671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11E6-4EFC-4923-B5EA-4DD27ED5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3C9-651F-48DA-B9B9-D7ED4A49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FB4-DE6E-452C-BEF6-645455C3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09B-59FB-49D6-BFB4-135659D3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70B-2FF7-41EC-B583-60E8AC7D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207-5766-492E-95B5-2F5D7099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C90-DB06-4504-B47C-31D733DB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B4D-084F-4197-935B-7813BC73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B34-75F2-4F06-8780-580736E3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24C-2CDA-40C2-A915-DDF1CDB6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49622-0442-4841-BEB8-BC0BB095FB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He whom angels wo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ld stoop to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eoples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why as sheph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hould seek the wand’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is myste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mise of new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Cannot T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was born of M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Bethl’em’s m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 His onl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He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Nazareth and labou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 the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 of the world, is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silently He suff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ith His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raced this place of t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how His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on the cross was brok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wn of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ree and thir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eals the broken-hear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ys our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lms our lurking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fts the bu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eavy 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et the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 of the world, is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He will win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He will 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earthly herit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satisfy th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pi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east and w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sinner and of 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flesh shall see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shall r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arvest He has s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me glad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sun shall shine in splend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He the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 of the world, is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all the lands shall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, at His bid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storm is st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who can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the jub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ev’r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perfect love is f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kies will thrill with rap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riad, myri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uman voice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arth to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v’n to earth will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last the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 of the world, is King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4:28Z</dcterms:modified>
  <cp:revision>9</cp:revision>
  <dc:subject>The Source, song number 199</dc:subject>
  <dc:title>I Cannot Tell</dc:title>
</cp:coreProperties>
</file>