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6B63-15B9-433B-A59A-8F998433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3FF0-E185-42BE-A9D8-BE08CC3B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A04A-AF5E-48AD-9CB7-051428F36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0CC7-3075-4B3A-B8D2-3E10C837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87DA-B2EA-4EFD-9730-20DC8469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EA43-3AF1-47B3-8375-DE1D6622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2FDD-3F90-48AC-B162-2B2014EA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F85C-41FC-4B68-A7A2-B5AE93F1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BA52-B063-4B45-8D6E-74AAD49F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A86F-C136-4E87-8125-88171178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E3DA-27C6-4728-BB6A-1910B784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00DD-816C-4806-86C0-E036009B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2A955-A25E-45CE-9883-C8896B43D8F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окое вздых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веры жел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ечно, усердно про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забыл, что лишь т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а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здесь всё на алтарь возло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покое вздых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ожил ли ты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осподень алта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ли Божий владеет тоб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в блаженство во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а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тдался Христу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с Господом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слова хо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Духа иметь вечный д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но волю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вить выше вс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бя возложить на алта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ожил ли ты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осподень алта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ли Божий владеет тоб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в блаженство во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а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тдался Христу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х тайн не пойм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жий мир не в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ударом постигнет уд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зренье и сл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тело и 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озложим на Божий алта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ожил ли ты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осподень алта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ли Божий владеет тоб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в блаженство во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а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тдался Христу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пишет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ценит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змерит источники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аёт Бог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ослушен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ебя на алтарь возложи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ожил ли ты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осподень алта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ли Божий владеет тоб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в блаженство во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а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тдался Христу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2:15Z</dcterms:modified>
  <cp:revision>12</cp:revision>
  <dc:subject>Slavic hymnal Гимны веры христиан, hymn 497</dc:subject>
  <dc:title>О покое вздыхал</dc:title>
</cp:coreProperties>
</file>