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4A41-6B0E-4DA5-A0E6-880BA8C6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2AD-A6E5-4F0F-ABA1-B8B3D629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A3C-8B7E-44F5-BEFE-DE5A9477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EE2-9AD9-4900-9C26-9E3DB4B6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A613-D787-4A4B-B391-7CA5EA5F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725-6D90-48F6-A6CA-E01B5F4D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EB72-FF15-47D5-BC4C-A2A9616E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30F-74D6-4A71-B02F-40E095EE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C8F-6053-40F3-9289-8A38C268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DEEA-D36D-450C-8254-2080D62D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34F1-7FF6-48AB-B098-11D1E89F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74D-03D1-4DFA-8E35-F1B0744F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7D88D-1277-460E-983F-F17DD665FC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у лине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оправ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світ полюбив Ві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ина нам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кров’ю Своє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и нам о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сім нам двері жит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 відкр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7   Христу лине сл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щення дарує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ом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вірить у смерть 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інн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йгірший грі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рить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митий, спасен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икуп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м мир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адість по ві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Ісуса нам д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ін візьме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вого От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и всі ра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им Хри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2:41Z</dcterms:modified>
  <cp:revision>12</cp:revision>
  <dc:subject>Slavic hymnal Гимны веры христиан, Ukrainian hymn 67</dc:subject>
  <dc:title>Христу лине слава, Бог нас оправдав</dc:title>
</cp:coreProperties>
</file>