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DD8-524B-4A9F-AA60-21F34349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563-CE28-4000-A396-C3D49CF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1A9-FCE0-4307-905D-40236F12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F6C-4C4D-4C39-90D6-417BEFD4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00C-FB9D-4E5B-8D49-9FDD22F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94A-FEC7-46D9-B201-5549806E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B15-6E3A-4C12-B443-C5AA171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E81-91F3-4E76-95B3-B92DB9A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7B6-86E4-400F-8F3A-EF63E73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947-09F6-44C2-A1D7-EE3F662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184-E15D-47F3-9F0E-5906B01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5AD-7C1D-436B-9AF5-F9A50E1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7082-3A0F-4741-B14F-0340E6033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бедн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где сил мне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желал бы 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 любви к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ладенцем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ию меня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я бедное ди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как жертво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приобр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за дар Твои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Тебе прин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ердце, Бог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, Твоё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знаю, вес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Тобой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олго сужд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ть в стране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 желанье мне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радостью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ято я завет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ю век целый с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ить дней моих пр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озьми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35Z</dcterms:modified>
  <cp:revision>12</cp:revision>
  <dc:subject>Slavic hymnal Гимны веры христиан, hymn 764</dc:subject>
  <dc:title>Господь, я бедное дитя</dc:title>
</cp:coreProperties>
</file>