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408-E447-4D6E-8632-D4CF6848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81F-D1B3-423F-B989-5780F7E7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285-6CE1-4923-BBA9-EA1E4893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144-347A-44DA-85C4-BF23B599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3C0-C372-4577-8E21-3BCDC9F6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175-A664-4A02-98F4-65130A9D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1E0-980B-43FF-9F9A-6259C2A9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C77-0560-4BF9-B461-7BC46A20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09C-0BEE-4422-8C31-056C145B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FA4-B72C-49A5-B96A-8584DFEF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6CC-C7F5-4581-A0CF-4E1C28F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5F1-FD85-4EB9-BC36-763DCF8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0D9F3-67F6-4BA6-B729-191EA2051F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 глав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есть и власть Ему вр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Ему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мы святых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Господь гос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а в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частья —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дал любви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рест нести им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авит скорби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мя славное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радость н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страдают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ть на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познают они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вен Он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,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нял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надежду для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и в небо в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6:50Z</dcterms:modified>
  <cp:revision>12</cp:revision>
  <dc:subject>Slavic hymnal Гимны веры христиан, hymn 436</dc:subject>
  <dc:title>Венец терновый возложил</dc:title>
</cp:coreProperties>
</file>