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E55-B105-4D13-8152-0CA6C99A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E75-9918-4B05-B255-7BB0BB01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024-ECFB-43CD-8270-17F4D06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CEE-FB79-46C3-832F-1B115B9D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2B9-A568-4791-AB17-925FC0DA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007-B764-4134-A1F5-CE7E2514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5B9-C1C5-445F-AE69-0545083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839-B6FA-4C84-B0A7-C0DA70A1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0FB-1192-495E-A4AA-F04EF30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8BC-A8DA-484C-AB63-70694818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44A-616E-481D-A8A2-84DDA29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FA4-E98D-44A4-9A4F-593854E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A73C1-BE53-452B-ABB7-04640947A0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для Бога, всё 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ты не назы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,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ервый пыл от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в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— су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в нём от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лаженство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для 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ирай борцов за в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руг знамён Его по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опись, пока ест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тысяч душ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без Господа влач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 им, что ты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паситель твой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идетель ты пред 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, что видел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овь Свою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ым дал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них дней твоих вес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Ему и зре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ень жизни — се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себя всёц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то предал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л презрён и 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кто был Христу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награды не тер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 тебя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покой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03Z</dcterms:modified>
  <cp:revision>12</cp:revision>
  <dc:subject>Slavic hymnal Гимны веры христиан, hymn 443</dc:subject>
  <dc:title>Жизнь для Бога</dc:title>
</cp:coreProperties>
</file>