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DDC-FF5A-42E4-915D-15BD6C53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388-D97C-463A-AF95-4F0C3238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B5F-3F8B-4E02-B4CB-28C5C604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E72-33ED-40F1-B48B-2D0C9D83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331-CB20-493E-8366-D17568FA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873-5ED5-4FCD-B3D2-E3EF0A6C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20B-87B6-48BC-BAD1-D6B3FE82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5AC-2377-46E1-A253-B75BD62B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FC9-058A-4BB8-BD35-A5D62B98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800-6756-4804-A6CD-0269D425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D70-BC69-450B-BAE0-32629FB0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0B9-5C32-4963-B22D-D198D5B7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A68CC-B298-458B-9358-96ED29601C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поб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про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те в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слава,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адлежат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обедивши смер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, Владыкой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и ад поп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ё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жди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ранных с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32Z</dcterms:modified>
  <cp:revision>12</cp:revision>
  <dc:subject>Slavic hymnal Гимны веры христиан, hymn 882</dc:subject>
  <dc:title>Ликуйте во Христе</dc:title>
</cp:coreProperties>
</file>