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41B-31D6-47D2-9D66-400DB6F8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D48-CC13-4E3C-95C8-45DB68A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81F-A58F-434E-882F-2B0B3856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CFC-518E-401E-9F09-03B42699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614-BF17-4583-BCAF-5973447E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964-53E8-4F2A-889D-FA6CB791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D23-9C29-444D-BF48-741C816C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2C7-7771-483E-B395-A4A2F8DF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1AC-F127-442A-B10B-11570D0C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35B-2B33-40CC-B131-FF55947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237-BC6C-48B4-846A-F1C5784E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D1D-6326-49F9-9368-48870383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4FA6D-2CAE-4000-A9D1-997B721F0E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ere ninety and nine that safely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elter of the f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ne was out on the hill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off from the gates of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вяносто девять ов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яносто девять овец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Пастырем в свой заг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на блуждает от ни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грозит ей со всех сто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angels echoed around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for the Lord brings back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for the Lord brings back His ow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ангелы радостный гимн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Ликуйте, Господь отыскал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Господь отыскал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on the mountains wild and b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from the tender Shepherd’s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from the tender Shepherd’s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уть бедной придётся в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ou hast here Thy ninety and n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y not enough for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Shepherd made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wandered away fro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вяносто девять овечек зд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очно ль их Теб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 Пастыря сердце для каждой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их не покинет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though the road be rough and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the desert to find My sh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the desert to find My shee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б ни встретил Я на Своё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ne of the ransomed ever k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eep were the waters cro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dark was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passed thr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He found His sheep that was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пасённых никто не видал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 где Он овцу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 тьме ходил, как Он звал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щельям и выступам с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in the desert He heard its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nd helpless, and ready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nd helpless, and ready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ека услышал Он слабый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hence are those blood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rk out the mountain’s tr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ere shed for one who had 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t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Shepherd could bring him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ему, Господь, на Твоё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мы свежей крови след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лилась Моя кровь, чтоб овцу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ликих страданий и б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hence are Thy hands so 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pierced tonight by many a th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pierced tonight by many a th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 раны зачем на руках Твоих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нак верный, что Я возлюбил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верный, что Я возлюбил Мои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all thro’ the mountains, thunder r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up from the rocky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ose a glad cry to the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I have found my sheep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ней любви вознесли хв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гоне был каждый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 пенья дошёл до небесных в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обрый Пастырь нашёл овц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0:15Z</dcterms:modified>
  <cp:revision>13</cp:revision>
  <dc:subject>Slavic hymnal Гимны веры христиан, hymn 841</dc:subject>
  <dc:title>The Ninety and Nine / Девяносто девять овец пришли</dc:title>
</cp:coreProperties>
</file>