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A18F-B8B4-4A2A-9C4E-A73C46933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F751-F46D-4D22-88A0-AEEBFDF6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73A4-56F5-4638-A6BD-64BEA1708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8397-561A-43E6-B8F9-6675EFFEA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C8EC-48EB-4EDE-BEE7-F8253FA1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3A0B-343B-4EE5-BD93-4759401B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9255-458C-467E-8A9A-0F626174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2442-EE69-4A59-9F8F-AF039672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DB7B-977B-4BD6-8BB9-120B3365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6327-6BCA-43FE-85D2-8BF16F93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FFD4-EFF4-4131-8F83-173C95BE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58C8-261B-4454-B20C-26AAC5B0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4CDEC-8F95-4AAE-850F-A9D05FFF0BC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ресшему служ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 нами во все д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ю любовь да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Он возр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я вижу рук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я слышу гл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тьме ночной Он со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яки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8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скресшему служу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век жи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т со мной, даёт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мен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соверш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ите знать живёт Он г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ёт Он и во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круг себя я ви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ю доброт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скорби ко мне бли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м ближе я к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бури и смят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в славный час Он всех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ебе возьм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век жи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т со мной, даёт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мен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соверш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ите знать живёт Он г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ёт Он и во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, христиа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ысьте голос св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Господом предстан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сельем и хвал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а удручён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ора в час невз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жизнь дарит и хра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век жи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т со мной, даёт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мен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соверш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ите знать живёт Он г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ёт Он и во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09:17Z</dcterms:modified>
  <cp:revision>12</cp:revision>
  <dc:subject>Slavic hymnal Гимны веры христиан, hymn 287</dc:subject>
  <dc:title>Воскресшему служу я</dc:title>
</cp:coreProperties>
</file>