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6D0-0EF3-45A2-8DA6-1391AAE1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C22-3C42-4E2C-8DBB-A4402FF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D1D-C041-4964-A66F-73887DF1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C8E-4BBE-4372-9CDF-66C00C23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7C1-AB19-460F-9169-D0EFCEB6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549-8E09-4461-BDAD-A57FDAE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1A9-4788-4566-9F6F-6123DEC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952-38AA-4127-B0E4-128D96FE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E59-C023-4737-9A10-95FEFE7A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2F1-BC1C-4FC1-A5D6-2F3165A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E84-D079-4ACD-A691-CEF8BCA7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FCF-9705-4B03-8C28-F28204D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8FD3B-C077-47C4-BB8F-470BEF5780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I Look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y will becomes enthrall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58Z</dcterms:modified>
  <cp:revision>9</cp:revision>
  <dc:subject>The Source, song number 571</dc:subject>
  <dc:title>When I Look Into Your Holiness</dc:title>
</cp:coreProperties>
</file>