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136-8AEE-4AD7-A8F3-51164349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EED-0E5D-4600-9F7E-791CFBF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630-16ED-46A1-87BD-2FCC290F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B2B-CBD0-4DD4-847D-5FC6A322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95C-37A9-4A69-BE49-DE05734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731-EE73-4A50-A715-EDAB1973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C68-AA0A-46A2-AE4F-CF09C960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054-127F-46B5-9803-D1BAF798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541-7DB0-4633-B5CB-0CF39D4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9A0-30F3-4977-8C18-ACC28D8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78C-0FF5-490A-A3F2-CEE6D00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A15-AA34-484D-8FE1-0B0F529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5FF2E-3CD1-41D9-8563-C850C29C73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above, beyond our understa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love revealing who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lohim in whom we have our be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, the moon,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11   God Above, Beyond Ou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osts, the King of angel ar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ovider, Shepherd, Healer,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fender of the poor,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, no eye has ever see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, in Christ, Your grace and glory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acing on our lips the “Abba, Fat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ster, Adon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01Z</dcterms:modified>
  <cp:revision>12</cp:revision>
  <dc:subject>The Source 4, song number 1811</dc:subject>
  <dc:title>God Above, Beyond Our Understanding (I Love Your Name)</dc:title>
</cp:coreProperties>
</file>