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FE2-7AB8-4844-AA33-5EEE9039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2EA-E7AC-4341-8013-E04BE6E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3A9-953A-4EB1-BF3D-12BE2989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211-6EAF-4AB4-A565-959FBC91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151-5B35-4437-8C86-EB7E218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063-5F2A-47D9-886A-C72E5AA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B00-BDA3-4228-A714-BA8930A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01D-0BB8-4AE0-993D-5CCB7367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583-E7AD-4B1C-8046-A7A0421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79D-6791-4B3A-BCDF-5559092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F14-F606-42E9-BF6B-951BB9A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915-FDF4-482B-9F37-E851274A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B2CD2-F3D8-4674-8E37-FF4FC2FF68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8   О, який я є 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01Z</dcterms:modified>
  <cp:revision>12</cp:revision>
  <dc:subject>Slavic hymnal Гимны веры христиан, Ukrainian hymn 58</dc:subject>
  <dc:title>О, який я є рад</dc:title>
</cp:coreProperties>
</file>