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A6C-C8F4-4FAD-A26E-39E7D8F4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D68-ADC7-47A8-B701-D6C03BAE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0C2-3F91-45F3-A886-430EB662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335-073C-4BEA-8152-5430731B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1A2-99DF-486B-8B4F-AA9F2019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B97-514F-4878-851C-4416F4DD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2F2-8A4E-4CEF-A5FA-36DC3853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E00-018C-4DE1-93EC-7CE913F6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77A-CD3D-4424-9005-D5E76C2E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B2F-BDD1-420D-BFCE-E9FE0A3B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B53-31E5-4C17-A0EA-4ED4DACC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401-FEBB-4A9A-8915-5F022A61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BC9E7-1657-4FAD-A183-5B1286F459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удет славой, радость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 твои грехи на крес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ликуй, спа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езопасен под крылом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хрь бури разъяр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нять не может мир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на высоте дом вечный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славе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твой тебя туда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войти в собрание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ердцем восхищ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 всерадостный спасенья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7:12Z</dcterms:modified>
  <cp:revision>12</cp:revision>
  <dc:subject>Slavic hymnal Гимны веры христиан, hymn 580</dc:subject>
  <dc:title>Ликуй, ликуй, спасённый</dc:title>
</cp:coreProperties>
</file>