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676-2DA6-4FD1-AE91-A4BCE8CA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39F-DCDD-403F-ACF5-19E3DE4C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67B-6632-4FAE-B9F7-A443F567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602-5853-4022-92FC-AC659F77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11E-B731-47FD-B3FA-4BE40908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D75-FE73-433D-A778-EA04E911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AD1-F753-48C3-84C6-4EB28F2E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21C-BE27-4C0B-99C8-1563B50D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FCC-B91B-4437-A623-78FE970F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E48-A7A4-42F4-AED2-34D38291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63C-2FEC-4318-A958-D7040DFF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E23-D1B4-4512-81B7-F41486A7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0B768-9B36-418D-AE17-0C38F71FA2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! ободрись, дни протека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! ободрись, пусть все вним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чался после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г зовёт к труду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! ободр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, брат, Христа за радость наш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, брат, Христа за скорби чаш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Царь небесный к нам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блаженство Он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ободрись! Лета проходя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! молись, враги подход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ин, стой ты на ча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ечом Божественным в рук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брат, смотри! Уж день све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о, хвали! Господь с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детей на вечный п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т слава, радость,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5:12Z</dcterms:modified>
  <cp:revision>12</cp:revision>
  <dc:subject>Slavic hymnal Гимны веры христиан, hymn 707</dc:subject>
  <dc:title>Брат! ободрись, дни протекают</dc:title>
</cp:coreProperties>
</file>