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D9E1-FB38-48CB-8167-E41988193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9F33-7596-40AD-981E-9E8FEB9FA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B1E0-4FEC-47E5-904F-C0CF20323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D68C-186C-416E-AD22-17D204FBB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3B8A-0B08-458F-B0CB-F463953DD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982D-031D-4BF3-B853-ACC2484AE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C124-AB25-43DA-AAD7-87B32F212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E158-6D05-4352-AC46-503F94722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8A5E-DF12-40B4-BD10-3571D2387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2519-7B2D-43B9-AF09-4BBFF269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D154-28D8-4B2E-BCF9-F104879C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1B92-B08D-413F-8110-A71966DC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DCC7E3-C2B5-4ED6-BA3D-2C943311666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рдце песня новая звуч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мне дал Спаситель м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с тобою всюду, Я — твой щ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угайся тьмы земн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, мой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мне да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лняет нуж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душа всегда 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7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сердце песня нов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мою терзал грех и пор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ь разбитый я стр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Господь меня к Себе привлё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ю новую мне 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, мой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мне да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лняет нуж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душа всегда 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итаюсь от Его сто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лю я под Его крыл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 Его не закрывает мг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сегда пою о 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, мой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мне да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лняет нуж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душа всегда 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порой чрез воды Он ве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трашат меня тру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встречаю длинный ряд невзг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езде — Его сле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, мой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мне да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лняет нуж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душа всегда 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Он придёт опять с неб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зьмёт меня к Се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войду я в светлый мир чуд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ствовать на высо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, мой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мне да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лняет нуж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душа всегда 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18:34Z</dcterms:modified>
  <cp:revision>12</cp:revision>
  <dc:subject>Slavic hymnal Гимны веры христиан, hymn 574</dc:subject>
  <dc:title>В сердце песня новая звучит</dc:title>
</cp:coreProperties>
</file>