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9B4-EA88-41A5-A40D-6329EDBA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084-D76C-4EE0-BDB2-81E27DD8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B94-A8F5-4E70-8EF5-A36E62C5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92C-79A5-4DE3-AAFF-BD5A840F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792-E920-4EB6-8F7B-7AFE001E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B38-8F45-4916-8AC9-10C03DEE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87D-D385-4143-8656-740C63DA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720-36BF-4BEA-8454-79A14F5E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A01-EF19-4A26-9736-9F3769D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09F-7193-4F04-BF99-91526685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02F-31DC-4A42-B330-318B648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B00-27D0-4F52-8B12-D784974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274EE-BF68-4E75-9D1E-E5CC0060BF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ем нам явиться пред вс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26Z</dcterms:modified>
  <cp:revision>13</cp:revision>
  <dc:subject>Slavic hymnal Гимны веры христиан, hymn 245</dc:subject>
  <dc:title>Ярче и лучше, чем солнце Востока</dc:title>
</cp:coreProperties>
</file>