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7B0A-5592-47B3-9987-BF2E0D609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1F48-E7E6-4103-88CB-0CDC0BE75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863D-DC27-4C55-9F95-DAC1B6876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6CF2-FB1F-4C5F-9B5B-62CE508D9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85CE-E45E-4B45-BD6D-8B979C194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C1AC-45B6-461D-87DD-94495299D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68E6-D6AD-4F21-B080-FC93002A1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BD6F-D68D-4906-A9F2-85BEE6AC5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E946-9D7F-419A-9691-12EECA67F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DABA-63A5-432C-8E15-59C9A913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3DB0-DDF6-402E-A991-A1C07105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C9C3-0F95-4D5D-A96E-AB32599D5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336224-E4B0-432B-8B04-7125D768283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ух, любви и силы пол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бес огонь Твой ниспош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бы познал весь мир грехов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Ты — Царь неба и зем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ападе и на восто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гонь Твой видим здесь и та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битых, жалких и далёк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лечёшь к Спасителя ног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1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 Дух, любви и силы пол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жги, зажги святое пла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зде, где видим грех и з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бы Христа святое и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жизнь и радость принес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христианские нар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ъедини, исправь, очи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ир унылый да увид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воих рабах иную жиз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исчерпаемый источ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их и святых дар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ток огня, поток предвеч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ли в сердца Твоих раб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жги суетные стремл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храм живой из нас созд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пламя веры и спас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грело наш остывший кр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ви Твой свет, огонь, сия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верным новых сил зал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веди людей к познан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их Спаситель, Царь и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44:59Z</dcterms:modified>
  <cp:revision>12</cp:revision>
  <dc:subject>Slavic hymnal Гимны веры христиан, hymn 314</dc:subject>
  <dc:title>О Дух, любви и силы полный</dc:title>
</cp:coreProperties>
</file>