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03F-6B58-43DE-9E3C-7FE65A2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C67-D401-4187-94D4-62C0D2FE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EC4-4A6F-4EF6-AD3A-AF691EA9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BBE-E307-4129-BECA-8F6FCCC2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454-433D-4333-88CB-E38D7FC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0E6-E881-45BC-B163-A0865D44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456-99A6-46AE-AE3C-B526C2A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D9E-DEA0-49F1-A389-88D3AB0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550-AB5F-4A39-B058-15ABEBE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FAB-58CC-49AB-9090-CBA460C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4CB-0C37-4163-8E1E-0EA17DAF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09E-F98C-44BE-9C9C-9750C4E6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7C707-9FE0-4CA7-B117-D5DDFCE280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59   Стерёгших стадо пасту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ёгших стадо пасту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девших в тьме но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оза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лав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» ангел обод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ожавших перед 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озвещаю радость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т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ов город славным ст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ам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в мир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х пле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ам знак: найдёте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царской славы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т Младенец в п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слях Он леж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шине 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ели 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скорбною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слава в вышних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людям на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оленье Бог я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ящимся во мгл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12:06:29Z</dcterms:modified>
  <cp:revision>11</cp:revision>
  <dc:subject>The Source 2, song number 1059 in Russian</dc:subject>
  <dc:title>Стерёгших стадо пастухов / While Shepherds Watched</dc:title>
</cp:coreProperties>
</file>