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2B3-3EC8-4864-99D4-4BC35B75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494-5869-4025-9631-3908F138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02B-0D84-4623-BCA1-E1E4589A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C65-3706-4A31-9516-EC65E5C4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AAF-DE64-4CA3-B9C4-19FCAAFC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10A-4DB5-4290-B18F-FEEB3DEA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0E4-13F4-4657-A7B8-8543C210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E96-6BA0-41D6-8DDB-AD38620D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480-3F2F-40AA-BC2D-3C76A164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491-E1FB-49CD-B513-36AA0677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7D4-5442-4491-96A3-EA672E33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2D4-3541-4FA3-86BB-E814355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40F94-9752-42F1-A1AE-F928F2BC01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the Sheph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mountains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es to bring His los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 to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ую ов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погиб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ль её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tiently the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s with earnest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ust and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treasure r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ахма дорог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обрет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земли и м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ingly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s the news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ce dead now liv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lost, now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делить весе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тец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ыл мёртв, потеря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 и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6Z</dcterms:modified>
  <cp:revision>13</cp:revision>
  <dc:subject>Slavic hymnal Гимны веры христиан, hymn 372</dc:subject>
  <dc:title>Seeking to Save / Пастырь добрый ищет</dc:title>
</cp:coreProperties>
</file>