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261-5C78-45AE-8EFD-328BAA4F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674-E824-40B9-BE02-CFBA1B4A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00E-F65A-4045-9286-11626ACC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93C-9E51-42A8-BED5-A21FB007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351-25DA-4DBB-AE2B-083DE734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B9B-2159-493C-BF18-89140F46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156-76E2-4769-96D4-7A07AA23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0C3-A716-4BBA-A7FF-5A6A6A66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C9A-ECED-4E23-90AF-776F0DAB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1F9-7141-4CC5-9FBA-762CD739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649-9BF0-4658-A337-24F04735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4E9-7DF9-4307-AD0F-232B405B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2223E-0263-4BA7-B293-A6440044BA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may lead me I wi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have learned to trust Him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remember ’twa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was slain on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б меня Он ни пов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меня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без страха и сты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чтоб меня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 delight in His comm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to be led by His dear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ivine will is swee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owed by blood-stained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нимать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чтоб Он меня держ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приблизить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I go, nor doubt nor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with Christ, my Saviour,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some day that I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Friend 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е страшусь я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испытаний, н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во славе зреть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44Z</dcterms:modified>
  <cp:revision>14</cp:revision>
  <dc:subject>Slavic hymnal Гимны веры христиан, hymn 513</dc:subject>
  <dc:title>Where He May Lead Me, I Will Go / Куда б меня Он ни повёл</dc:title>
</cp:coreProperties>
</file>