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D2B-DBBA-4612-ADF1-EF359916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926-3E74-40D7-AF89-0CC656D6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163-C2EF-4047-A7A0-BBFCFDB6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42D-CDB9-455B-8ABD-46B39D3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997-C026-4C06-BD67-58E6F56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938-89D4-4732-BBF2-35C3D63D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48A-42AE-48C5-8B72-BA62A8A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E23-DE03-49ED-9E54-019CDEFC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1D7-B8A9-4C43-A6C1-8478E13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342-8122-4D66-A8BD-3C7F69B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903-3422-471B-B252-5E6D4B3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A68-5BD8-4828-8EBC-F264ABF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5755B-4348-4824-9D0F-FCF1E1D98D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33Z</dcterms:modified>
  <cp:revision>13</cp:revision>
  <dc:subject>Slavic hymnal Гимны веры христиан, hymn 617</dc:subject>
  <dc:title>Ты знаешь путь</dc:title>
</cp:coreProperties>
</file>