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7</a:t>
            </a:r>
            <a:r>
              <a:rPr b="1" lang="ru-RU" sz="3600" spc="-1" strike="noStrike">
                <a:solidFill>
                  <a:srgbClr val="ffffff"/>
                </a:solidFill>
                <a:latin typeface="Verdana"/>
              </a:rPr>
              <a:t>	</a:t>
            </a:r>
            <a:r>
              <a:rPr b="1" lang="ru-RU" sz="3600" spc="-1" strike="noStrike">
                <a:solidFill>
                  <a:srgbClr val="ffffff"/>
                </a:solidFill>
                <a:latin typeface="Verdana"/>
              </a:rPr>
              <a:t>Приди к нам, о Бож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риди к нам, о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 мы уст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едние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беют в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лись на зем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гнётом печ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дай нам подня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дальше идти.</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святыню без страх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осают кам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гонит безжалост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ству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 дышит отвсю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бийством и мщенье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нам не сда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мертельном бою.</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дти за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мерть и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ять за святы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вет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жги нас ог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часы испыт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ю Твое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озари.</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9:11Z</dcterms:modified>
  <cp:revision>3</cp:revision>
  <dc:subject>Slavic hymnal Гимны веры христиан, hymn 197</dc:subject>
  <dc:title>Приди к нам, о Боже</dc:title>
</cp:coreProperties>
</file>