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59A-C0EF-4D61-A7C2-119FBA19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9B3-B6BA-48AE-BDCC-26D9D29A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6B7-E5A6-47EC-9A9C-125788C7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DC7-2158-4C7C-8EB8-27863316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8F4-E9CC-4036-A443-E5488280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AC8-4DFB-419F-9957-CED6CA72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A32-7024-4F59-B00D-DAACF284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724-F3A3-443D-B7FE-718B3C8C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5F6-8C59-405C-A502-7E467CBD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526-E866-48F7-A96C-F007F1D4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796-AA53-45BA-98A2-919CB0C0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963-71AB-4F14-953E-B8FE04B1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3A687-E680-494C-8677-ECDAF5B0DD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take a dying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aise him up to lif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heal a wounded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ake us white as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fill the empt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end our broken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ken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28   What Can Take a Dying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, awesome,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 hol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Lamb laid down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us from th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 is the power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restores our faith in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reveals the Father’s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lead the wayward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elt a heart of st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free the guilty o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ave and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, awesome,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 hol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Lamb laid down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us from th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 is the power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miracl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miracl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still a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still a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miracl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ose who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, awesome,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 hol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Lamb laid down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us from th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 is the power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11Z</dcterms:modified>
  <cp:revision>12</cp:revision>
  <dc:subject>The Source 4, song number 2128</dc:subject>
  <dc:title>What Can Take a Dying Man (Mighty Is the Power of the Cross)</dc:title>
</cp:coreProperties>
</file>