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E2F-555A-4B67-BBC4-EE1DAB91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97E-0D35-4575-939F-9383129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313-E87F-46E1-A873-76A60617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835-A73E-4BBF-9481-9437E849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9D0-D009-47BA-8F00-8A45CFCA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ED2-1574-44E7-8489-D43E65C4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023-E259-4DC4-9514-6012F74A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340-524E-4CEC-A96B-C8CBBA1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7B2-D8D7-4EF0-A8DE-AC2583E9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3B5-52B0-45B3-BA2D-06C6D1E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607-ACA1-49B1-9473-5CAB50C4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B39-F3E4-4B3D-8EE2-4B7A0BA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8A115-F24E-446D-A947-738C8C66F4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Name Above All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26Z</dcterms:modified>
  <cp:revision>9</cp:revision>
  <dc:subject>The Source, song number 291</dc:subject>
  <dc:title>Jesus, Name Above All Names</dc:title>
</cp:coreProperties>
</file>