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4</a:t>
            </a:r>
            <a:r>
              <a:rPr b="1" lang="ru-RU" sz="3600" spc="-1" strike="noStrike">
                <a:solidFill>
                  <a:srgbClr val="ffffff"/>
                </a:solidFill>
                <a:latin typeface="Verdana"/>
              </a:rPr>
              <a:t>	</a:t>
            </a:r>
            <a:r>
              <a:rPr b="1" lang="ru-RU" sz="3600" spc="-1" strike="noStrike">
                <a:solidFill>
                  <a:srgbClr val="ffffff"/>
                </a:solidFill>
                <a:latin typeface="Verdana"/>
              </a:rPr>
              <a:t>Я полн изумленья взира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полн изумленья взи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море Господних да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сти о мире вним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Им возвещённых мне сл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крест скроет ви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кровь даст белиз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воля во власти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ерю в Христа одного.</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в долгой борьбе исстрада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корби греха я стон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е Ему я отда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сердце мне мир Свой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крест скроет ви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кровь даст белиз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воля во власти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ерю в Христа одного.</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 одежде Его я косну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иле Его укрепл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кротко над мною нагну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ымолвил: «ты исцел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крест скроет ви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кровь даст белиз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воля во власти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ерю в Христа одного.</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н близок, Князь мира свят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лик Его светит над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лушай призыва Христ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ую тебе Я мир С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крест скроет ви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кровь даст белиз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воля во власти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ерю в Христа одного.</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3:50Z</dcterms:modified>
  <cp:revision>3</cp:revision>
  <dc:subject>Slavic hymnal Гимны веры христиан, hymn 74</dc:subject>
  <dc:title>Я полн изумленья взираю</dc:title>
</cp:coreProperties>
</file>