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899820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9280" y="4198680"/>
            <a:ext cx="899820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928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016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81640" y="111564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24360" y="111564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9280" y="419868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81640" y="419868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24360" y="419868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39280" y="1115640"/>
            <a:ext cx="899820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899820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39280" y="395280"/>
            <a:ext cx="899820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2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3928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016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9280" y="4198680"/>
            <a:ext cx="899820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115640"/>
            <a:ext cx="899820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lnSpc>
                <a:spcPct val="102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lnSpc>
                <a:spcPct val="102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lnSpc>
                <a:spcPct val="102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lnSpc>
                <a:spcPct val="102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lnSpc>
                <a:spcPct val="102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lnSpc>
                <a:spcPct val="102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539640" y="395280"/>
            <a:ext cx="8999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1440000"/>
                <a:tab algn="l" pos="2158920"/>
                <a:tab algn="l" pos="287964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Bless the Lord, O My Sou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"/>
          <p:cNvSpPr/>
          <p:nvPr/>
        </p:nvSpPr>
        <p:spPr>
          <a:xfrm>
            <a:off x="539640" y="828720"/>
            <a:ext cx="899964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 the Lord, O my soul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my soul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rship His Holy nam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g like never before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my soul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ll worship Your Holy nam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539640" y="828720"/>
            <a:ext cx="899964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un comes up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a new day dawning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time to s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song agai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ever may pa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hatever lies before m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me be sing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the evening com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828720"/>
            <a:ext cx="899964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 the Lord, O my soul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my soul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rship His Holy nam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g like never before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my soul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ll worship Your Holy nam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9640" y="828720"/>
            <a:ext cx="899964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rich in lo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’re slow to anger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name is gre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r heart is kin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all Your good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keep on singing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en thousand reas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my heart to fin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9640" y="828720"/>
            <a:ext cx="899964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 the Lord, O my soul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my soul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rship His Holy nam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g like never before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my soul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ll worship Your Holy nam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9640" y="828720"/>
            <a:ext cx="899964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on that da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my strength is failing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end draws nea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my time has come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till my soul’l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g Your praise unending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en thousand yea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n forevermor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9640" y="828720"/>
            <a:ext cx="899964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 the Lord, O my soul, O my soul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rship His Holy nam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g like never before, O my soul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ll worship Your Holy nam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Repeat Choru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ll worship Your Holy name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I’ll worship Your Holy nam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"/>
          <p:cNvSpPr/>
          <p:nvPr/>
        </p:nvSpPr>
        <p:spPr>
          <a:xfrm>
            <a:off x="9144000" y="6624720"/>
            <a:ext cx="539640" cy="53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6T12:30:00Z</dcterms:created>
  <dc:creator>John Zaitseff</dc:creator>
  <dc:description/>
  <dc:language>en-US</dc:language>
  <cp:lastModifiedBy>John Zaitseff</cp:lastModifiedBy>
  <dcterms:modified xsi:type="dcterms:W3CDTF">2018-07-13T06:23:37Z</dcterms:modified>
  <cp:revision>6</cp:revision>
  <dc:subject/>
  <dc:title>Bless the Lord, O My Soul (10,000 Reasons) (Ten Thousand Reasons)</dc:title>
</cp:coreProperties>
</file>