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ACA-4D2F-458B-B425-E56FF3C5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F2D-68E9-4B07-ADD6-15184C04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6EB-BD60-4F4F-AFC9-201B3F7B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CF6-8E59-40C5-BFBE-2FB79706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CFA-5D2C-4ED2-92B9-8A4275A9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E4B-1CCB-4FBB-9922-CA0CA215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A43-71EC-4CB1-854E-2897BDB3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703-DC6D-4D72-B057-C54FBB3F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1EA-D73E-4E9E-8576-3DC92CE8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7BB-6662-4B0E-86D2-738D8BDB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75D-9F1C-4615-B65A-E94E7A43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C3B-9AD3-4D40-BA18-C12A428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B8EE2-FE88-4BD7-9444-AB62AE3D5C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страдаю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так печа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теш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со мной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темно,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амолкла пес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умер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д на Иисус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возвра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ах пусть ваш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ущ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ышу глас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покое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истина и жизнь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лаг Он пол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39Z</dcterms:modified>
  <cp:revision>12</cp:revision>
  <dc:subject>Slavic hymnal Гимны веры христиан, hymn 701</dc:subject>
  <dc:title>Зачем я так бессилен?</dc:title>
</cp:coreProperties>
</file>