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4C6-5389-4C8E-81BE-93EA80C4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E73-EACB-4B64-AC2C-DA773B6D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9AA-0087-4D32-A443-F7A22428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D1C-6872-403B-ADB5-2DDF9A79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FE1-2CC4-4414-8EC4-DCE8DB5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EBD-0732-49CB-A3C2-F20C0BC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FA1-44AA-45BD-8887-4A492661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DF8-F100-49F9-A96F-9576A35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077-31B1-4A36-AC9C-4FB5D42E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902-34E3-4EAB-8656-9B6D47E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3BE-E6CB-40AE-A5C6-0164891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C08-9932-4C9E-BF4A-B499642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BFF49-9C65-4AF5-9B0B-7C79ADC185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calm, all is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und yon virgin mother and chi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y infant, so tender and m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epherds quake at the 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es stream from heaven af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ly hosts sing “Allelu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love’s pur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adiant beams from Thy holy f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the dawn of redeeming g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08Z</dcterms:modified>
  <cp:revision>14</cp:revision>
  <dc:subject>Slavic hymnal Гимны веры христиан, hymn 244</dc:subject>
  <dc:title>Silent Night (Stille Nacht) / Тихая ночь</dc:title>
</cp:coreProperties>
</file>