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9C3-5DF0-44D2-8030-68F5CC64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40C-000E-4577-8C6F-36E32F0D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06A-E827-41A0-BBD7-EBE062CC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EFF-FBAF-41F8-B253-981ACFB8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476-284B-4DC1-B0B1-32A26A17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9E5-10FD-42E0-82A2-393C31B4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65D-4BEF-4121-B38D-513D8909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9C4-CD3F-4BF5-A205-62038D65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5BD-C4F2-48DD-B0C5-160FD069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9F8-F849-40CF-BAF4-B75AF74A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4B0-22ED-4F2B-8072-205C1703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9FA-F7C7-4B9B-A663-F6CFCCA3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4E261-D0A6-45A7-9FDB-3F125164D7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   Не покину Я вас,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Не покину Я вас, не забуду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Бог каже тобі і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о вас турбуватис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тражданнях тяжких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Mid the trials of life that ass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weakness you stand ’for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strong to defend; I’ll not fail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feat unto vict’ry you’ll g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праці Я вам помаг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силу і міць по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годину сердечної вт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душу бадьорість вл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’ll be watching in tenderness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mother does over her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alk your life’s pathway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elding you when life’s tempes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тько, і мати, й рі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речуться від вас, то 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ідним Батьком для вас з т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hould your mother and father fors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be right at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y haven of rest I will 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resence you’ll ever ab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жно буду Я вас догля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як мати маленьк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усякого зла захищ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вадить у вічн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 will comfort the heart that is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catter the darkness of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eart that has known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Me find the source of del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амотнєє серце розв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 думи Я геть відже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озбите життя Я полад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засмучений в вас підкріп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віт вас забуде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м вашим як був, так і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незмінна є вірність Мо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4:00Z</dcterms:modified>
  <cp:revision>14</cp:revision>
  <dc:subject>Slavic hymnal Гимны веры христиан, Ukrainian hymn 4</dc:subject>
  <dc:title>Never Will I Forget / Не покину Я вас, не забуду</dc:title>
</cp:coreProperties>
</file>