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A99-73F1-41BF-B759-04D2394D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150-83BE-4E7A-BD0A-4176363E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730-0E08-4A67-920B-F36273C0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AC8-AA60-43E0-B077-D23054C9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FAE-0AAB-4AF3-90B3-2CFA060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4D8-1337-4905-BD3F-83821AF9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547-CDCB-4DB7-87EF-237757D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982-0FB0-4C8D-B1AD-2E8BF05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85C-9719-4BD6-8D75-229C7CA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936-5E9E-429B-9161-B7AE81B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03A-3BA0-441E-86BD-11C6F09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773-2730-45F6-9E1C-E3063AE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72CF8-6B4C-4B7E-B663-BA61545BD5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law, O happy cond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bled and there is re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rsed by the law and bruised by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we are free, there’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dem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vides a perfect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,” O hear His swe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saves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Children of God,” O glorio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race will keep us from fal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death to life at His c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salvation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4Z</dcterms:modified>
  <cp:revision>13</cp:revision>
  <dc:subject>Slavic hymnal Гимны веры христиан, hymn 385</dc:subject>
  <dc:title>Free from the Law / Сняв с нас закона порабощенье</dc:title>
</cp:coreProperties>
</file>