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226-4181-4A2E-95B7-F097D670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88A-0BED-4A7A-B87D-6D97D11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159-8EA1-498F-A0B3-54EBA9E4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B3A-C2AD-4FF5-AC9D-2A733E9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D30-FC5C-4F7D-8D2E-B7DFB149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1FB-C330-42BE-9D85-689DFCA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2CB-1904-4E99-9E1D-85F3A6E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115-ED05-436C-8AE1-D8BCD07F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61A-D702-4674-AD06-5FC87AD8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74A-D2D7-4402-9E44-336642CB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889-084A-482C-A170-2E6D88B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A03-94A1-4A36-B6C8-9CACA2F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6492E-FB27-4D8B-9837-AE942827B6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престола пред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ы детей ст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с восторженны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круг пре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х детей туда соб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вёл их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чудной песне соче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юток гол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, Который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 небе место то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и Господа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земные 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ильней любить мо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зял их от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48Z</dcterms:modified>
  <cp:revision>12</cp:revision>
  <dc:subject>Slavic hymnal Гимны веры христиан, hymn 763</dc:subject>
  <dc:title>Вокруг престола пред Творцом</dc:title>
</cp:coreProperties>
</file>