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381-9C93-48BE-8687-4B64C068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D54-A6A0-4DBD-8610-CD947621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F00-CDFE-47D1-91A7-E187B578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088-B71F-48F4-A430-3E5045F8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8CA-6E79-4277-9F92-1DF0B547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89C-0FF5-4DB0-B796-CC6F0BF1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B2-36BE-418F-A7C3-6BED2F1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68B-53DE-46DA-A6EE-C0784E39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F5B-3710-4D37-9E6E-30350FBB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616-865C-4E70-8E8B-2626661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FD5-6CEF-4C94-82A2-383E931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AA1-B2EA-4CCF-A1D6-D6B7F2B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9F10F-D819-4126-84F5-C523B465A8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tedious and tasteless th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no longer I s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prospects, sweet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, have all lost, have all l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 their sweetness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mid-summer sun shines so d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strive in vain to look br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hen I am happy with Hi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, December, Decem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 is as pleasant as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name yields the richest perfu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er than music His vo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resence disperses my gl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, and makes all, and makes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 within me rej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ould, were He always thus n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nothing to wish or to f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tal so happy as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, my summer, my summ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 would last all the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0Z</dcterms:modified>
  <cp:revision>13</cp:revision>
  <dc:subject>Slavic hymnal Гимны веры христиан, hymn 504</dc:subject>
  <dc:title>How Tedious and Tasteless the Hours / Как скучно на сердце порой</dc:title>
</cp:coreProperties>
</file>