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10B1-6413-4ED7-B6FD-CD1C2CD5E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1AC9-3CA6-40C5-9B25-A427F22D9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C396-5402-4B71-8773-D2C1AC827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1969-FE2F-44D1-8E90-A3CDF323B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1B7F-81A6-4908-83BD-993BC2522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DA60-96F6-4076-923F-CA62CBF63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9D7C-E50C-4112-BBA8-40A482CC9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2ED7-9808-4257-913F-F9967F754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ED20-FF2B-4946-AF41-112176A3C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3EE1-5056-4BCE-82BA-BC2A386A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7745-7281-4048-9FA7-9C41BA0E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9D3F-12C8-4DA2-A250-18A0C0C2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1C0BE1-EC15-493F-B1ED-FF366075304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343080"/>
            <a:ext cx="984888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йдём на Голгофу, мой бра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посланный Богом Мессия расп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правде святой проповедыва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ных исцелял, а теперь Он казн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дём перед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йдём на Голгофу, мой бра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траждет и жаром ланиты горя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аждет и уксус Тому пода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ьи воды живые для мира тек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дём перед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0944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2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зойдём на Голгоф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343080"/>
            <a:ext cx="984888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йдём на Голгофу, мой бра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рости им, не знают, что худо творят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олит. Взойдём же, дабы и за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тва Христова к Отцу вознесла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дём перед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йдём на Голгофу, мой бра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снова Он к небу подъемлет С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тец Мой! Зачем Ты оставил Меня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рат мой! Чтоб принять тебя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дём перед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43080"/>
            <a:ext cx="984888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йдём на Голгофу, мой бра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дальца Святого слова там звуча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вершилось: Я дух Мой Тебе предаю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ас Он пожертвовал душу Св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дём перед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йдём на Голгофу, мой бра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мотрим, как нашей греховности я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траданиях горьких Христа истом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орого Он нам спасенье куп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дём перед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16:04Z</dcterms:modified>
  <cp:revision>13</cp:revision>
  <dc:subject>Slavic hymnal Гимны веры христиан, hymn 724</dc:subject>
  <dc:title>Взойдём на Голгофу, мой брат</dc:title>
</cp:coreProperties>
</file>