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A45-5699-48D9-9447-303815C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68E-4C36-452E-89A5-1EE2E382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89A-5456-4F87-B8C7-E3C40070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367-FAC7-4DDC-8C67-EEB492FD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1D9-9F6B-4D35-802D-8EBFDDA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883-4D8B-4EEE-B0FF-70AD8698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8A0-0914-48AF-9940-298BB5F7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A1E-B3D2-4F82-8815-A37B4828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2E8-0DCA-4F88-91DC-292580BE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1AD-F4DB-4B31-9786-77BC2FBC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F25-F9A2-40CD-B69B-467E987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D89-B968-4FE8-BA55-EB89B5C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4B2AE-189F-4D42-A284-0569D0C18D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25Z</dcterms:modified>
  <cp:revision>12</cp:revision>
  <dc:subject>Slavic hymnal Гимны веры христиан, hymn 777</dc:subject>
  <dc:title>Я попирал любовь Христа</dc:title>
</cp:coreProperties>
</file>