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BAD-5C55-4B45-B385-8218C658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281-1A90-4632-B140-845591B4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E8BA-542A-4CC5-8FF7-E1A8EAD1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418-52B3-4BD0-B8A8-22425E90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AF3-F04A-4E8D-9349-6485E755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737-7E16-42B0-852A-1B07B49C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BC0-0E7E-49F4-8249-149EF5EA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FF8-31A1-456F-AD2C-7C4DA31F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7B21-7938-4C19-89DD-6D19290A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4DF-D29D-4C65-A59A-922B80A5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506-FDF0-438F-9AB4-87A9F923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39A-F052-415C-9D0D-2B89D9F8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21E61-CBB5-43FE-8779-5E00F76084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know the way, though it is hidden from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You are there my heart is filled with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y should I fear when You go on before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th night and day You set my heart at 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знаешь п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путь, хоть я его не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нье это мне даёт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чему тревожиться мне и страш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, и ночь, всегда томясь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know the way! The time of my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s planned before I even lived one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heart is filled with wonder and e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You have loved and led me all th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путь, Ты также знаешь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лан давно уж для меня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лю я, Господь, Тебя серд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илости, заботы и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rd, You know all, the winds that blow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ighten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torms of life Your orders still obe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even though my burdens may not light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ill, I’m at peace, because You know th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всё: откуда ветры ду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рю жизни укрощаешь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известно мне, куда и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спокоен, путь мой знаешь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32Z</dcterms:modified>
  <cp:revision>14</cp:revision>
  <dc:subject>Slavic hymnal Гимны веры христиан, hymn 617</dc:subject>
  <dc:title>You Know the Way / Ты знаешь путь</dc:title>
</cp:coreProperties>
</file>