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8E0-A4E8-476F-911D-1C6D47D7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076-8F81-4E9D-AA38-CEFCC78B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BC4-FDC5-45B3-B6BA-1993C808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1C-7AA1-40E0-B7AC-A757C185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0FC-B7BD-484A-B65A-E9C3811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294-3D3C-4ADB-ADB0-24189563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FC4-7B3E-4D6D-9A27-6CD1F0C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384-F8EE-40C5-82B0-47D2233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3B7-5C76-4C9D-A0A8-6FC9B92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7A5-9FAD-4F23-B982-C814BB7E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444-0B46-4934-AED3-7A772F6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42D-AD24-44D9-A66C-C96089A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6CAB6-ACF1-40A7-8013-3A86032C27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скажите Христовым друзь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 из гроба и нет Ег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 Учитель придёт к ним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довать их и в любви наст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, скаж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несите ту весть и Пе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рижды отрёкся пред Ним поу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онет теперь от печали и слё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из мёртвых воспрянул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малодушно Ему изме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осужденья тебя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ех твой простил и навеки за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тебе к жизни блаженны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серафимов, любимцев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беспечальных без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, чтоб греш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х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ли славу Его алт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20Z</dcterms:modified>
  <cp:revision>12</cp:revision>
  <dc:subject>Slavic hymnal Гимны веры христиан, hymn 290</dc:subject>
  <dc:title>Идите, скажите Христовым друзьям</dc:title>
</cp:coreProperties>
</file>