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F0EE-A80B-4A46-8F64-E5DBB58EC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29B2-6ED6-42D0-B182-814FEA012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5CDE-593C-41F5-91E4-77224F82B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D8AF-EEF4-49E2-8C11-477CC9626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2A9C-3B53-4DDF-BB2A-6E61628A6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6C7C-855A-4001-A70D-6F21A4CBC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4E06-C454-4D3F-8B30-5F19476F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A443-8A26-49F8-861F-19940D2AB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A80E-3180-42DD-A394-7B429BF4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4BB4-1EE0-4B87-981C-A92CD991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935D-A25D-4F20-8D1F-268E1E84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2FA0-8F64-476F-B75D-9E9CA864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B86AB2-AD20-4695-A784-7F0FE590878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йте, дивную розу нашёл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щё в юности жизни м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л, на розу меня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всюду последовать 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за Сарона выше вс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за Сарона выше вс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й душою и сердцем я славл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за Сарона выше вс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8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найте, дивную розу нашё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и Павел великий гон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асоты этой розы не чт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он после стал розы служ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к многих к Христу приво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за Сарона выше вс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за Сарона выше вс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й душою и сердцем я славл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за Сарона выше вс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а роза — Христос, мо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ороже всего для ме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оставил святую об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 грех мой Он отдал С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за Сарона выше вс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за Сарона выше вс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й душою и сердцем я славл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за Сарона выше вс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9:04Z</dcterms:modified>
  <cp:revision>12</cp:revision>
  <dc:subject>Slavic hymnal Гимны веры христиан, hymn 782</dc:subject>
  <dc:title>Знайте, дивную розу нашёл я</dc:title>
</cp:coreProperties>
</file>