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3B4-95DB-4AC1-85A3-6AF0E52F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8D7-11DE-4F77-AF2E-27DB9909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519-45F2-47A1-8BE5-3A9EBDFB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1EF-19EE-4345-8FCC-B82C05FB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800-676B-4AAE-8F7E-77BB3D1D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8ED-477B-4F39-8D8B-5919EEDE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299-EFB6-4CC7-8C43-526E73BD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87A-AAFF-4A1A-8083-E751990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77A-EAE3-4445-AC6B-7AC54A11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B4F-60D9-44DB-BD55-1E86DF16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0A6-288B-4EDE-B5DD-E45B5EF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9DD-F5B4-4CD8-A003-FF1D653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12E0C-B32A-40AD-A42F-5D404F2111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яет на мне лицо Тво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на мне лицо Твоё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меня и вверх вознёс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в Тебе найд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ие, надежды луч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47:10Z</dcterms:modified>
  <cp:revision>12</cp:revision>
  <dc:subject>The Source, song number 604 in Russian</dc:subject>
  <dc:title>Сияет на мне лицо Твоё (Это знает душа моя) / You Make Your Face to Shine on Me (And That My Soul Knows Very Well)</dc:title>
</cp:coreProperties>
</file>