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662-EA17-43D1-BC10-C1323F7A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5E6-B278-4D5F-86C0-76A9099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666-1DB1-4FD6-A1CD-3CE6D00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B86-A033-4562-B4FF-F54AD4C8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643-E20E-4133-86B9-5881FDC9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5EE-9D5D-4D69-862D-FFD3CCD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542-FB7D-4AA6-9402-44A4BFA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79A-2DD3-47C4-9ACD-C392208B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EE0-13D3-4129-9C14-C056C51F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035-8F8E-4E1C-8351-325C4DA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C48-6A29-411F-876F-856BA04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5BE-6985-4BBD-B423-8C6D5C2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58C1-6D0F-46F9-A06C-7D81318073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я у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Уте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ам навек при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овь Божия, вста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полноту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ики во все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ются в своих гре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у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силой полны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ас, для вас,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молясь и ве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а будет нам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ть 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ад к Пятидесят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е поспе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етхой жизн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щенье Духом и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вымо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59Z</dcterms:modified>
  <cp:revision>13</cp:revision>
  <dc:subject>Slavic hymnal Гимны веры христиан, hymn 309</dc:subject>
  <dc:title>Я не оставлю вас одних</dc:title>
</cp:coreProperties>
</file>