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D1D-C0E0-4DC4-A537-8542FAE2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436-50C3-4042-8A8A-85875A09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007-2363-4223-A3FA-08E0F1BB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69F-D0B2-4060-A1AF-96258926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2A4-A7A2-475E-84F0-F57F1CE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034-2B33-4ED9-BB5C-1E754DB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480-EB06-4E92-9CAC-48F2D091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6B2-6A55-44AF-A5F8-D1AA4738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BBF-76F6-4F80-8CAD-E25B0B84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73C-17C0-4B55-BD66-89E8C5F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FBD-FEB8-4573-B2B3-D0EEF44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77E-06CC-4210-A575-CCBFB049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4F96-70BA-43A3-B9D5-571A4AEDD2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частн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безбо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онешь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ой нуж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ёл сво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веселии лож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ясь рож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ской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частный мо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адскими стр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жи и нев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 смер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римым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ухла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искр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ты 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и ни в 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ска и отч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ожут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изнур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ну погр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астей 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негод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чишь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жизни так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и ков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смущ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адск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ен погиб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па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ой взгл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образ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победной,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у полу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оверш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воскрес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01Z</dcterms:modified>
  <cp:revision>12</cp:revision>
  <dc:subject>Slavic hymnal Гимны веры христиан, hymn 364</dc:subject>
  <dc:title>Несчастный мой друг</dc:title>
</cp:coreProperties>
</file>