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6</a:t>
            </a:r>
            <a:r>
              <a:rPr b="1" lang="ru-RU" sz="3600" spc="-1" strike="noStrike">
                <a:solidFill>
                  <a:srgbClr val="ffffff"/>
                </a:solidFill>
                <a:latin typeface="Verdana"/>
              </a:rPr>
              <a:t>	</a:t>
            </a:r>
            <a:r>
              <a:rPr b="1" lang="ru-RU" sz="3600" spc="-1" strike="noStrike">
                <a:solidFill>
                  <a:srgbClr val="ffffff"/>
                </a:solidFill>
                <a:latin typeface="Verdana"/>
              </a:rPr>
              <a:t>Не пройди, Иисус, меня Ты</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Pass me not, O gentle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r my humble c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le on others Thou art call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o not pass me by.</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Не пройди, Иисус, меня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не ос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ыша люд, мольбой объят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ройди мен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viour,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r my humble c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le on others Thou art call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o not pass me by.</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Боже! о, услыш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ыша люд, мольбой объят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ройди мен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Let me at Thy throne of merc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ind a sweet relief;</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Kneeling there in deep contrit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lp my unbelief.</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ай у трона пред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найти бальз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простёрт теперь душ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оги мне Са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viour,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r my humble c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le on others Thou art call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o not pass me by.</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Боже! о, услыш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ыша люд, мольбой объят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ройди меня.</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rusting only in Thy meri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uld I seek Thy f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l my wounded, broken spiri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ve me by Thy grace.</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олагаюсь на Тебя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к ищу я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цели мой дух, спас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свято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viour,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r my humble c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le on others Thou art call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o not pass me by.</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Боже! о, услыш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ыша люд, мольбой объят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ройди меня.</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Thou, the Spring of all my comfo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than life to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m have I on earth beside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m in heaven but Thee?</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Ты — источник уте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ше всяких бла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руг мой — Ты, как в мире тл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и в небесах.</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viour,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r my humble c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le on others Thou art call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o not pass me by.</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Боже! о, услыш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ыша люд, мольбой объят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ройди меня.</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5T22:26:59Z</dcterms:modified>
  <cp:revision>3</cp:revision>
  <dc:subject>Slavic hymnal Гимны веры христиан, hymn 16</dc:subject>
  <dc:title>Pass Me Not, O Gentle Saviour / Не пройди, Иисус, меня Ты</dc:title>
</cp:coreProperties>
</file>