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41F-0CE9-4F7C-AA0F-A2F1A578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924-6AC3-41FA-97FC-8AFA25C2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375-9E1A-407F-9101-2AC3FD19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2D6-5623-486C-AD2A-B9B4878C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163-E40E-4F28-91C7-863C742A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28E-4AAE-4146-84F1-961DE2A1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D8D-0290-454B-A924-BC6192D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AA9-0CD8-4E89-B9E2-EB2163B0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62C-87C3-4F61-8B7C-50D0FD24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566-4461-416A-91F5-B3878E2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522-A8A7-4000-8CD1-B09D597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D57-26B3-4778-9D5C-8CE7CE7D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8FBA3-D9AD-4515-A306-C81A578AD0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’s on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Jesus Christ he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is His new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ater and th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— основа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основа Церк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ём стоит 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ессмерт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озро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her sons and daugh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y the Master’s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d through the deathly wa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pose in Eden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 их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, Господь, и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бно им,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’n He came and sought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is holy br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blood He bought 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 her lif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её взыск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изнь её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Свое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ятости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is from ev’ry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one o’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charte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Lord, one faith, one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на по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ом скреп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м хлебом с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ем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holy name she ble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s one holy f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one hope she pre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ev’ry grace end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ет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дин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терпя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ith a scornful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n see her sore op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schisms rent asu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eresies distre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заема разд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угнет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ностью пред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рам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saints their watch are kee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cry goes up, “How lo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on the night of w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be the morn of s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лас святых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лкнет их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етлым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ся ночи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Mid toil and tribu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umult of her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aits the consu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peace forever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итвы со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ет на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with the vision gl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longing eyes ar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great Church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be the Church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идень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ят её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ржеств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т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she on earth hath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od the Three in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stic sweet comm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whose rest is w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она в общ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тцом 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ом объ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9:40Z</dcterms:modified>
  <cp:revision>13</cp:revision>
  <dc:subject>Slavic hymnal Гимны веры христиан, hymn 866</dc:subject>
  <dc:title>The Church’s One Foundation / Христос — основа Церкви</dc:title>
</cp:coreProperties>
</file>