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A316-7B53-4CB3-9C51-09F5ABF9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30E7-09DD-4B2C-B0C1-D0AD1E44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E846-712C-4BFD-9FBA-886CD491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F08D-2EC4-4DD8-9EC0-A76DDAFF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8C7-66B8-469C-9A1D-B4C1913C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BA3-E3ED-4DDC-B0D4-255A88DD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118-EA28-47A7-BEA0-F01ECD19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10E-1834-40D0-A48D-BFDD1999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25E-B976-49E2-BD38-27B82D23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FDD-F61A-4056-801B-17330A3C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4F8-7BBA-4146-9E40-F232D92D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9B00-6B3C-4A40-8ACF-2C458B6B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7A752-D0A0-410A-A77D-242921F947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 what it will be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walk by Your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 what my eyes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r face is befor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82   I Can Only Imag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rrounded by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will my heart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dance for You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in awe of You be sti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stand in Your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to my knees will I f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sing halleluja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be able to speak at 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 when that day 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find myself standing in the 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 when all I will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forever, forever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rrounded by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will my heart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dance for You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in awe of You be sti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stand in Your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to my knees will I f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sing halleluja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be able to speak at 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 when all I will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forever, forever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12Z</dcterms:modified>
  <cp:revision>12</cp:revision>
  <dc:subject>The Source 4, song number 1882</dc:subject>
  <dc:title>I Can Only Imagine</dc:title>
</cp:coreProperties>
</file>