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BD6-5AE5-4E9E-984F-D1A620D8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A58-82F8-4EC5-A076-218F4D6A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E84-6C84-4D57-88AA-1A830E14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3AE-347D-45C4-A4F4-726F0915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B0F-C9FF-4D15-88BD-A8B3E0FF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15A-ECD3-44E2-BF0B-ABBB626B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13D-756B-4A40-9779-56AE3E91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E8B-24D1-48BD-83C5-864667F1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F60-B027-4861-A6AB-9FFE4267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5C1-7B52-43E5-BF7E-FCC7C262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D61-39C7-4163-B5F5-4155FA41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5F9-ADB1-4469-BE70-F2782C2B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4FF84-FF70-4B6D-8AA7-F06137AF34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church in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lovelier spot in the d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place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6   Дізнавсь я про Церк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знавсь я про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й радість для серця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куди вже більш не пі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ши Христову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on a clear Sabbath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st’n to the clear ringing b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tones so sweetly are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наєте Церкву жи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, браття і сестри мо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іть на дорог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Церкви живої у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, close by the church in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one that I loved so w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sleeps, sweetly sleeps, ’n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i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urb not her rest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ільки в ній душ без спо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ли собі мир і спок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ллються молитви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е в ній Христос дор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close by the side of that lov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trees where the wild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farewell hymn will be ch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st by her side in the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Церква могутня, Господ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й нею іде чоло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Євангелію всі сьо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 ― спасетесь на 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hurch in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y fades away into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fain from this spot of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h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 my way to the mansion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див я усюди по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щастя ніде не зна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ився шлях безпросвіт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 Церкву вві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3:28Z</dcterms:modified>
  <cp:revision>12</cp:revision>
  <dc:subject>Slavic hymnal Гимны веры христиан, Ukrainian hymn 46</dc:subject>
  <dc:title>Little Brown Church in the Vale / Дізнавсь я про Церкву живую</dc:title>
</cp:coreProperties>
</file>