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FC1-5897-4245-82F2-A90338BC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5FD-C432-4141-B88D-39D205B5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AD8-A9E0-4E84-8996-45D23B66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4DF-EE50-41A4-978A-600B9D72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4E0-8F6A-4882-B819-D1E31D47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9B7-29D5-46C4-A7C2-AF61AE5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0BB-B5EE-4E77-8D9E-D16D83C5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DEE-90D7-4E0E-83B6-D041E75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A41-C525-4303-958C-70B9DF4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92A-788B-4B2A-A0AA-9A3C6D6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713-8A0E-4287-BC64-F9D033D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706-02CE-42AF-86AC-35DCCD84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5A68-33E4-41D5-869C-520F1D323A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mply trusting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through a stor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faith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doth His Spirit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is poor heart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leads I canno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if my way is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ing if the path be dr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n danger, for Him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ile life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ill earth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hear His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9Z</dcterms:modified>
  <cp:revision>13</cp:revision>
  <dc:subject>Slavic hymnal Гимны веры христиан, hymn 645</dc:subject>
  <dc:title>Trusting Jesus (Simply Trusting Every Day) / Доверяй Христу всегда!</dc:title>
</cp:coreProperties>
</file>