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816-FEEB-4E63-BD72-D2B70689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2CD-5665-4BA3-9459-BD8E4992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CB1-4C82-4392-BE61-6FA44C8C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8E5-0D9A-41D1-8221-F06E1B30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1AC-FA9F-4F6C-B330-3E2B0934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950-DA3C-4420-AE67-A22C8B28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F93-CF08-47D5-A592-27896E08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945-99B2-4787-99EE-4E82D278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CF9-798C-4513-B469-97D406B1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67A-3D00-4FAB-8B9A-819A031E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F0E-BB3C-4857-AC42-29019D92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DEB-E229-4B25-8FAB-7CBCD386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55A26-5DE8-4F6F-87DD-79CBBFDA48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Господом идт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Ним я не страшусь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 цель Он ясно откр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 в сердце полный мир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 в сердце полный мир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оля, луга, леса и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меня в небесный 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не был мне Господь о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не смог идти Его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не смог идти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лько с Господом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 почи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ясь, беседую я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путь Он Сам мне изб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десницей я хра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десницей я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им желаю быть в общ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ой свет, и пища, и питьё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Он мне дал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перь в руках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перь в руках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мой день придёт к зака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ёт Господь меня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меня в Свои пала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йду и радость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йду и радость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0:02Z</dcterms:modified>
  <cp:revision>13</cp:revision>
  <dc:subject>Slavic hymnal Гимны веры христиан, hymn 462</dc:subject>
  <dc:title>Только с Господом идти желаю</dc:title>
</cp:coreProperties>
</file>