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640-7524-47A9-945E-F8A7EC7E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1E8-3009-44E7-8A46-617C63F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258-BDD8-4DB2-A316-A99D3B5C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5F3-E253-46B9-9BB6-1F0DD02E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24F-B62B-496E-9A15-65B1265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359-E528-411D-B241-1AEE130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D16-3F7E-4FD3-9D8E-90E055D5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DFF-030F-42E7-B594-2C6DB53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857-BD42-419D-B4AF-6F08847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897-4650-441A-A4BA-F90A728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832-3175-411E-BBE0-DFFF6C4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139-485F-484F-B1B0-84A8B42E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BC9D7-F9D5-4A07-AFCF-C6F2DFF618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e water and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Thy wounded side which flow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of sin the double 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 from wrath and make me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the labour of my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fulfil Thy law’s dema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zeal no respite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tears forever f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for sin could not at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must save, and Thou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hing in my hand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mply to the cross I cl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aked, come to Thee for dr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less, look to Thee for gr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ul, I to the fountain f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h me, Saviour, or I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draw this fleeting br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my eyes shall clos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rise to worlds unkn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hold Thee on Thy thr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7Z</dcterms:modified>
  <cp:revision>14</cp:revision>
  <dc:subject>Slavic hymnal Гимны веры христиан, hymn 637</dc:subject>
  <dc:title>Rock of Ages / Благодатная скала</dc:title>
</cp:coreProperties>
</file>