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B923-EBFA-4270-831F-655EC40F2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0877-265C-46F3-8A6C-E847DB84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15F2-8CB5-446B-8F91-7A7087D70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BA37-DA11-4012-9ADD-2AE3C886D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B116-12E9-4B63-BC1A-623CBA04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1DB6-4C2C-47B5-AEA4-A144A09F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2962-1B08-4001-AE04-65A8691C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8205-10CC-47AC-8799-ADFA86B8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9791-FEE3-4DEF-904D-6360A528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3670-0310-4328-A465-61ACBE7C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775C-B50F-4A1C-824D-1B4828CC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27FA-F260-45E6-BB8F-AC274B52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42AB6-052C-4AD3-A07C-04733047ACF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ord of words the sweet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 words, in which there 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promise, all fulfil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nd of myste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7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слово дорого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лово дорого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жизни полн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ыто в нём свят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тство благ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amenting or rejoic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doubt or terror n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ear the “Come!”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o His cross I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ю иль страд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омненья ли впа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зов: «Прийди!» услы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у я ко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oh come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oh come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ary, heavy-la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oh come to M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, утружд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oul! why shouldst thou wa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such a loving Frie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ing closer, closer to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y with Him to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ю отда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ердце, на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миг не удаля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Бога нико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as! I am so helpl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very full of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am ever wand’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oming back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ы! Я одино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илен устоя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ухожу далё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льну к Нему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oh come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oh come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ary, heavy-la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oh come to M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, утружд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each time draw me near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soon the “Come” may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ught but a gentle whisp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one close, close to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еки к Себе Ты мощ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изко дай прильну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й и в час полно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ю мне усну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, over sea and moun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 from or near my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take Thy hand and fol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at sweet whisper “C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ай чрез все невзго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стречу я в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 земные г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радостно ид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oh come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oh come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ary, heavy-la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oh come to M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, утружд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51:56Z</dcterms:modified>
  <cp:revision>13</cp:revision>
  <dc:subject>Slavic hymnal Гимны веры христиан, hymn 370</dc:subject>
  <dc:title>O Word of Words the Sweetest / О слово дорогое!</dc:title>
</cp:coreProperties>
</file>