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4565-1A65-427F-8D66-BA432C21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5753-1443-4E0B-B56D-00E45C4B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3440-ED51-4AB0-9C20-0C111AF2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7013-2D71-4F4A-A564-2370E765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4DA6-96D5-4F39-865E-A380F341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8A95-DB75-4225-88ED-262B8B5A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DB62-E3BD-48A4-BB66-84644964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743A-76D7-4207-B8D2-F4B19BCB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0562-8B28-48A7-B0F6-64CF9A0E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ECED-395B-46F8-98E5-A4BDD484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6B73-A452-4034-A78B-1808E931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390F-9C08-46C1-9B4C-0634E09F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FA867-9D2E-4542-9572-96507BCD4A0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й світ нам каже, що користі нема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ужить Ісусу, коли ми молод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ми знаєм, напевно ми знає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ми нагороду дістаним від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ми знаєм, напевно ми знає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ми нагороду дістаним від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4   Цей світ нам ка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3:30Z</dcterms:modified>
  <cp:revision>12</cp:revision>
  <dc:subject>Slavic hymnal Гимны веры христиан, Ukrainian hymn 104</dc:subject>
  <dc:title>Цей світ нам каже</dc:title>
</cp:coreProperties>
</file>