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280-68FA-4F91-BF31-7B1E45CB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A11-E90F-44F4-B9CB-135D655B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C37-4746-472A-8C50-7253222E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ECD-C0F5-48C4-86C3-220B5F2C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593-3065-4CC7-AA29-6608653B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EC5-B658-45A5-924F-533A9061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C23-26AB-4E27-AA1E-F7E40B46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CFC-C972-482F-A7DF-AD23E1FF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743-0C9B-4815-B299-2E58089E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7C4-F470-47EB-A588-6F2275B2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06B8-94E8-4105-AE0D-B5D3F7A4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A4E-EBD7-4069-B342-16AECAA7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5C2A0-C3C1-4BC2-AAFF-F57496B226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меня так люб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мне гово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это — прав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то твер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я знаю так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просты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х и н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их, как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ец меня так люб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тички в день весен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, взирая к не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оспода цвет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вся в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наш вечно бла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являет прав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сметных чуд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лн восторга слу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ую вес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 начал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лен я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о грешном вспом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силах я по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 каждым днём отра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сти той вни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9:57Z</dcterms:modified>
  <cp:revision>12</cp:revision>
  <dc:subject>Slavic hymnal Гимны веры христиан, hymn 759</dc:subject>
  <dc:title>Отец меня так любит</dc:title>
</cp:coreProperties>
</file>