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6C0-37C3-46D5-8CDB-ABF996FB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90E-8695-4C96-9382-BD0C5F5D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212-635C-401C-ADC8-B6883264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29B-6C83-421D-8F4E-78FC846D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CC6-1EE7-4961-B228-E2E8019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DB2-14C7-4B93-B96D-DBC6B78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3CD-53EE-4576-8284-5707E82B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C19-010D-47C0-BE04-4460020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39B-445F-4ABB-B527-B109E073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9CA-8EAD-4290-98FB-CE91890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DC8-8C72-4F17-BC40-52C13750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DCA-42E4-4275-80A3-15029BF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374FC-F7B9-42FD-A5B1-68D0D5A614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24Z</dcterms:modified>
  <cp:revision>13</cp:revision>
  <dc:subject>Slavic hymnal Гимны веры христиан, hymn 795</dc:subject>
  <dc:title>В тиши ночной</dc:title>
</cp:coreProperties>
</file>