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B6A-12A4-4D27-B6B3-9D78BF1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97D-3741-4C65-BC2E-BBA42CA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BA5-9146-4C07-9CE7-662782A9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9E9-4CA0-404E-A1D7-301986E0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2AD-699E-4420-8836-465CD792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25A-51AC-4C8D-A77C-BB947FD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C64-45FC-49C6-A5D9-8D50A71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DC9-6A70-43FA-B7D2-F179FEC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096-EE77-4819-813B-E67E0CF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F31-954B-46E1-A1B2-30D27CC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EF0-717D-49E7-81FC-FE4FE751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037-0B94-4ED6-8FC0-1F04C4F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45F9-0074-463A-A4D7-01B99F3041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the holy of ho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His presence with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at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hol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0   Come Into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43Z</dcterms:modified>
  <cp:revision>12</cp:revision>
  <dc:subject>The Source 3, song number 1170</dc:subject>
  <dc:title>Come Into the Holy of Holies</dc:title>
</cp:coreProperties>
</file>