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6A3A-4ECE-4C8A-A380-A00F1F7F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7B21-E50B-4B14-B3AF-885DB545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B4F1-F4EF-440D-BBD5-A3F67A6E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A17E-EBE6-42F7-825E-85F26D4C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522F-EF4C-478D-BC03-5E70F634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2043-6420-427C-B3AB-53278A25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6062-F179-4A7B-8A92-32EC8C85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ABEA-788F-43E8-AC91-351851FD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CC89-3335-476A-B1F0-3A5D224A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664B-D7D5-4090-90A1-F43D69C6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366F-E6CA-4B78-8570-4DF11705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D5D3-55A9-4B57-AD04-95709E1D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18DB4-B8FE-4727-A492-CED901A97FA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є Той Сам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й Самий, Той Сам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є Той Самий для м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рощає, Він спас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естить Духом, ісці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є Той Самий для м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5   Христос є Той Сам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1:29Z</dcterms:modified>
  <cp:revision>12</cp:revision>
  <dc:subject>Slavic hymnal Гимны веры христиан, Ukrainian hymn 65</dc:subject>
  <dc:title>Христос є Той Самий</dc:title>
</cp:coreProperties>
</file>