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DD9-A92B-40E6-B696-1DFB0216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421-5DA3-4E5F-BB61-3B4ACF1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9A5-44D8-443D-8322-B54A7894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B2E-5405-4D95-88C0-261622BF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AD6-0B1E-46DF-801F-F9D5A52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CC6-DDDF-4041-8603-A5ADD72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CB6-D4E4-43D4-9117-F5B7E318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96A-E7F0-4130-9FC5-32A7BB05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AA8-1974-45CE-A774-DBC820A4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4F0-73F6-422C-ACC9-EC997A4B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FC8-612A-41DC-AB2D-9AD1AF3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2F0-9BF3-4416-91BA-EB96208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992C5-A45A-4639-854C-005537467D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лавить Тебя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Тебе песн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ада и вечных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жиз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ак тяжко и трудно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яжёлой тернистой дор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е счасть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славить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я пребу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новой и вечн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у земные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чная буде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 не умолкнет во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громко и стройно зву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ердце не будет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уж не будет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 я там новую пес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авую битв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овавой це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ение в веч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ечно Тебя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 раны Твои от гвоз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ечно Твоею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ённый от веч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55Z</dcterms:modified>
  <cp:revision>12</cp:revision>
  <dc:subject>Slavic hymnal Гимны веры христиан, hymn 781</dc:subject>
  <dc:title>Буду славить Тебя, мой Спаситель</dc:title>
</cp:coreProperties>
</file>