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865-8A25-46CA-ABF7-07EE4EB6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DA3-63B1-4332-A757-72E1B169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F44-1F3F-4516-BFCA-1CD790D9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9EB-F244-49E8-A2A2-D906FBA3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E66-FCB0-4E1E-AEB5-9B34BB3E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2F1-51CD-4D20-B460-7F7984F5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3F7-2BC5-4DDB-A787-5514EE58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1E2-615A-4A6B-93E6-F0D545FC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2CB-CCFE-467B-AA1A-9031F4E9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FF0-ED34-4E64-9620-D1AFC3B7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489-F02F-4335-B675-6CFD595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524-EE85-4583-BE94-14614EFA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8CFC-393D-4CCE-85D0-EB0E7D77E3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, душа! небесных хоров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тиши над морем и землё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о там для душ успоко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греха, вражды и тьмы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, внимая чудным зву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, усталый, ко Христ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шь скорбь, не омрачит разлу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бьётся радостно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издали, как сладкий зв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и Христа звучат в тиши ноч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ый пастырь Он идёт ч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дям дать надежду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; путь жизни кру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ч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одит солнце… всё темней, тем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трудам… но радостная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 стране, где больш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, на страже верно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песни славы, радости псал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убежит пред славным днём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 любви, там нет мертвя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3:03Z</dcterms:modified>
  <cp:revision>13</cp:revision>
  <dc:subject>Slavic hymnal Гимны веры христиан, hymn 615</dc:subject>
  <dc:title>Внимай, душа! небесных хоров пенье</dc:title>
</cp:coreProperties>
</file>