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8E2-2E02-418B-BC44-B8F6C994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542-BB31-45D0-84F1-08174DE6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C5A-3319-41BD-816F-B0265DED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545-1A5A-4D12-9A65-C2B03915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865B-E62A-4278-8586-BA621642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87F-BB49-4192-A888-43FE25C9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5A23-A1CB-43DB-9A78-78680D56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731-CDB2-413E-8F1E-7185581F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1ED-2291-48BA-8FAC-19CC2B58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8BA-1DD1-4E22-952D-B1386A06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D6A-8C15-47F5-AE79-DC142402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8C1-9A62-4A69-9028-F0154306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994A3-08B1-4634-9751-845AEE73C3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thy sorrow, the world hath its sh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it deeply, go hide it with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hink of it calmly, when curtained by nig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and all will b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горч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огорченье ты встретишь в пу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юдях утешенья тебе не на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лезах умиленья и в тайне д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у сокрушенье излей ты в ти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He knoweth thy grie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He’ll send thee relie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gather the sunshine He sheds on the w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’ll lighten thy burden—Go, weary one,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любящий знает о горе тво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бя ожидает на лоне Сво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знаешь, как властно спасенье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Нём ежечасно петь будут у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rts growing aweary with heavier w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droop ’mid the darkness—Go, com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m,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thy sorrow, let others be bles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give them the sunshine, tell Jesus the 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дальцев так много под гнётом скорб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утехой от Бога спеши к ним ско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кажи им с любовью о дивном Хрис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мывшем их кровью на скорбном кр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08Z</dcterms:modified>
  <cp:revision>14</cp:revision>
  <dc:subject>Slavic hymnal Гимны веры христиан, hymn 450</dc:subject>
  <dc:title>Go Bury Thy Sorrows / Когда огорченье ты встретишь в пути</dc:title>
</cp:coreProperties>
</file>