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2E2-4AA7-431B-B707-37C6FBB0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A56-8D3B-419F-B595-574CCF3C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0A0-8D1A-4D03-9218-B92C2BCB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D47-66E2-48E1-A0EE-191F5354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AC4-1743-45F5-8320-EF98146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563-ADC2-47E8-BCDA-9DD64AA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8E1-5190-4F69-B265-D7C14F5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B6A-52F0-44DC-805F-F6BB3CAB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14F-912A-432D-B5B8-E25CA75B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E69-609B-4A52-A8CE-360F580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219-B73F-4032-80EE-05C14B8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62F-32D9-4BCF-92B5-9367FE6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4577C-BD0D-4CD8-AFBC-358EE087E3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ather,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36Z</dcterms:modified>
  <cp:revision>10</cp:revision>
  <dc:subject>The Source, song number 103</dc:subject>
  <dc:title>Father, We Love You (Glorify Your Name)</dc:title>
</cp:coreProperties>
</file>