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FB5-225F-4707-9DDE-7CF4373A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C13-2FAA-48A7-AD79-8BFC5BA2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286-EB2D-4F0D-9B54-B1D8DB74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D92-6017-4674-9F24-8516E627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CE7-181D-44A4-9B00-E2BC090B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AC3-410E-4670-997A-A1446C2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8B9-8A05-4921-8B5D-21E5C511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6DF-A795-4293-99E7-08F2D6A2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732-43BA-4B05-B274-E73F8872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888-CDBD-43CD-8EAA-226E444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A97-0FF4-471A-A009-889AB23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B35-4C3B-410B-AF3E-75C3F02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2DA29-1EC3-424E-A370-F271FB5EF0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елись, печаль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Христа лю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дел твоих и без за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у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ию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шь ты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пора, положи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борьбе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веселись, печ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птать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я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ит твой душев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, как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чала дней твоих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 ли ты хра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Он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ях не постиж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 же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жизненной гроз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счастлив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, 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12Z</dcterms:modified>
  <cp:revision>12</cp:revision>
  <dc:subject>Slavic hymnal Гимны веры христиан, hymn 699</dc:subject>
  <dc:title>Возвеселись, печальный друг!</dc:title>
</cp:coreProperties>
</file>