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C5D7-BE4C-4265-8AAB-2360AB638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A866-F34A-491C-939A-9D68A7AF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3008-D67E-43CC-BB64-CD9C636BE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C9A5-2AC6-4792-BB8B-D3B658DD4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4093-9DA2-4128-B119-F231C6DD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3E72-10C2-4C72-A691-F22D69DA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93DB-79BA-4C53-8BDD-04191807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09B5-7697-457F-AF88-EA1332C1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E897-41AF-42B0-BC71-61C257FE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8E9E-9A2D-4B31-A53F-329D1930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9EC2-8D52-4D15-8F9E-759C8CF1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1304-58E9-4929-9AF6-6E56DCDC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E5B174-4980-49A0-9153-E30A623B381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dings of salvation br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the death on Calv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souls of people c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gladly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 Евангельскую ве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Евангельскую ве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а мы посто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уя Его приме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вперёд, вперёд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e fam’ly undivi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y people of desti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our hearts by Thee uni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e will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й, радостной семь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дин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сердцем и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e fam’ly undivi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y people of desti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our hearts by Thee uni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e will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й, радостной семь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дин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сердцем и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ercely, on the battle rag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grows dim—the end seems nig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attle of the 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us keep Thy banner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рок бой и страшно пла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олеблются ме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ымите выше зн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e fam’ly undivi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y people of desti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our hearts by Thee uni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e will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й, радостной семь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дин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сердцем и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 world of cold in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ny from Thee turn as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us to reveal the differ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e for Thee, what e’er bet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жизни равнодуш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пренебреж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оим единодуш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Его святой зак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e fam’ly undivi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y people of desti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our hearts by Thee uni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e will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й, радостной семь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дин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сердцем и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Fortress Faith,” as Zion’s daugh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us, Jesus, to protec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us give our foes no quar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worldly lures re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пость веры, дщерь Сио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дружно защищ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ружьем Геде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жью силу отраж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e fam’ly undivi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y people of desti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our hearts by Thee uni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e will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й, радостной семь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дин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сердцем и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us in our oblig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e faithful to the 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e bound’ries of Thy King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pow’r we may ext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виг правды, труд сур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мело совер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шатры любви Христ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в мире расшир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54Z</dcterms:modified>
  <cp:revision>13</cp:revision>
  <dc:subject>Slavic hymnal Гимны веры христиан, hymn 490</dc:subject>
  <dc:title>Tidings of Salvation Bringing / За Евангельскую веру</dc:title>
</cp:coreProperties>
</file>