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9</a:t>
            </a:r>
            <a:r>
              <a:rPr b="1" lang="ru-RU" sz="3600" spc="-1" strike="noStrike">
                <a:solidFill>
                  <a:srgbClr val="ffffff"/>
                </a:solidFill>
                <a:latin typeface="Verdana"/>
              </a:rPr>
              <a:t>	</a:t>
            </a:r>
            <a:r>
              <a:rPr b="1" lang="ru-RU" sz="3600" spc="-1" strike="noStrike">
                <a:solidFill>
                  <a:srgbClr val="ffffff"/>
                </a:solidFill>
                <a:latin typeface="Verdana"/>
              </a:rPr>
              <a:t>Путём я узким восхож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утём я узким восхож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 вновь у Тебя прош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средь жизненных преград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стопы мои в Свой 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воим путё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и в вере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ердечно буду 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иведёшь меня в Свой гра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не желаю преб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омненьи, в страхе обит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молитву сердцем 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осить в Твой Небесный 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воим путё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и в вере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ердечно буду 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иведёшь меня в Свой град.</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чу я жить не так, как 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враг стрелы обнаж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ижу лишь Едемский с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я, иду в Небесный 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воим путё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и в вере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ердечно буду 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иведёшь меня в Свой гра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Хочу на самый верх вз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аву Божию на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ыше всех земных на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еди меня в Свой 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воим путё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и в вере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ердечно буду 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иведёшь меня в Свой град.</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9:58Z</dcterms:modified>
  <cp:revision>3</cp:revision>
  <dc:subject>Slavic hymnal Гимны веры христиан, hymn 199</dc:subject>
  <dc:title>Путём я узким восхожу</dc:title>
</cp:coreProperties>
</file>