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4F8-3B4D-4017-BDA2-6F7998A2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7CD-5007-4007-8649-63B13782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8BF-FE15-4671-B4EF-24F5CD8B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395-25E9-4CF5-9B95-F8BF5B16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E09-1C2D-45BA-8C64-A56878E8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1CA-33F3-4B54-AEEA-762E4B19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9FB-F133-4B8A-9D74-02FA3028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1D6-4AFC-4F08-96D3-EE36039D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924-2620-4575-9928-0FDCE491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19A-77F4-48F0-A12D-B3BE1CB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C35-3C5E-4D92-9D38-8448E49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79D-2847-425B-AF0E-1E484C86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92053-E002-4801-B964-802D884F5F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, робкий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Спаситель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душе твое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иют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Господню добр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яет Он поро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 чист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сть душу пусть не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ом не меч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ведав грех гнет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Господень при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й и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скорбей и раб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ебя ты не исправ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губиш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6:33Z</dcterms:modified>
  <cp:revision>12</cp:revision>
  <dc:subject>Slavic hymnal Гимны веры христиан, hymn 840</dc:subject>
  <dc:title>Грешник бедный, изнурённый</dc:title>
</cp:coreProperties>
</file>