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4B2-45CD-4BFA-A48C-85B98819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B4D0-2387-4536-9393-BF19ADF4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A71A-0EDE-4AEB-A04C-4FBCCC89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A60-97CA-4979-8ABF-AF3A97FA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4DB0-6EE8-4D31-AE0B-84F4930D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06A-CD72-44D4-B7AA-3CBF1B8B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73F-D440-4A79-B86F-97D42A8D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288-1763-42C5-8A7C-49BA6BB8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1EA-7542-487C-8585-05CD6302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208D-1B05-4A0F-B749-CD4DFC02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7329-B8A7-4033-B85B-30C3067B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A3B-3CD3-4801-ADFE-CC918AA1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902F9-9682-47B4-8B83-44B529C8DB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forgave my sin in Jesus’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been born again in Jesus’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Jesus’ name I come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hare His love as He told me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id, “Freely, freely you have recei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eely, freely g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 in My name and because you bel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thers will know that I liv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od Forgave My 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power is given in Jesus’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arth and heaven in Jesus’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Jesus’ name I come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hare His power as He told me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id, “Freely, freely you have recei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eely, freely g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 in My name and because you bel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thers will know that I liv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01Z</dcterms:modified>
  <cp:revision>10</cp:revision>
  <dc:subject>The Source, song number 123</dc:subject>
  <dc:title>God Forgave My Sin (Freely, Freely)</dc:title>
</cp:coreProperties>
</file>