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F11-04A3-4E76-8487-B4252924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62D-595F-433B-AED3-FE20D21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F0D-AD7E-4FDE-A308-DED3870A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C29-FBC2-480B-AB72-3035B7A2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F6A-9BD7-4E7B-AD10-C75EAC13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9A4-100A-458C-A7C5-95E4C726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1A7-1DF4-4464-81F0-DEF8AFA4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88A-B635-4587-A2BB-DED1552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AAE-53D0-475B-AB30-7344F44F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7D6-88C4-403A-A082-A5534C27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2B2-D8E2-49AA-9124-762520C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B32-1111-4075-B667-415A09E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9A2A9-5A3C-4C97-84EC-79D5B4AA86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from the realm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your flight o’er all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sang creation’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proclaim Messiah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 in the fields ab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o’er your flocks by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th man is now res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shines the infan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ges, leave your contempl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visions beam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e great Desire of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have seen His natal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before the alta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long in hope an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ddenly the Lord, desc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temple sha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54Z</dcterms:modified>
  <cp:revision>15</cp:revision>
  <dc:subject>Slavic hymnal Гимны веры христиан, hymn 228</dc:subject>
  <dc:title>Angels, from the Realms of Glory / Божьи ангелы, летите</dc:title>
</cp:coreProperties>
</file>