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2685-316C-4001-B2C3-9043EFCD7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5CA8-90F4-4900-8FC3-2F371EE0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2EE3-135F-4476-B22A-7512FA8A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0FF1-1A25-4E11-A0EB-F244181F5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096A-DEB1-4F6A-96C2-45B7A332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3DCD-E675-4A2B-9AB8-B423ED0F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BFB0-759B-4EB6-8A67-B353FBB3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4251-E611-4C94-8732-0D8242AC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7E2A-9214-456C-8F22-BBE757D5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2912-F89A-475D-B00C-44AC0D26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99BB-4DD6-4D87-BCA4-8E12AF95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714B-D880-4749-AD1A-1BD45104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63655-56E5-4F64-9EAD-3E99BF525B8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мой Спаситель, и знаю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бою спасён я от жизни пус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чтоб избавить, отдал Ты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мой Спаситель, люблю я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, мой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но Ты первый меня возлюб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е на Голгофе спасенье 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мер за грешных, безмерно люб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мой Спаситель, люблю я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жизни и в смерти хочу я люб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живу Твоё имя хва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же в час смерти твердить про себ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мой Спаситель, люблю я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ителях славы, в небесном к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нцом на челе, в свете вечного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рженно в сонме спасённых с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мой Спаситель, люблю я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8:50Z</dcterms:modified>
  <cp:revision>14</cp:revision>
  <dc:subject>Slavic hymnal Гимны веры христиан, hymn 648</dc:subject>
  <dc:title>Люблю, мой Спаситель</dc:title>
</cp:coreProperties>
</file>