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EE47-74CD-4F0B-9A86-DADEF7B8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C5B5-5365-4972-8B55-DD9ABC99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A7AD-1199-448D-BD74-4615D5B2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25FA-867B-46E8-88A6-E3B88AC4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5BC3-52FF-4671-990B-66FF2963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1369-C8ED-438B-BE49-1ABE226E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D853-6341-4546-AD48-45A6B96C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7C52-072E-4CAC-A17C-250CF60E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4401-E967-42F7-BAE0-D50C11EB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928C-496B-4971-93C3-F3F42A32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F265-BD1D-4464-81F9-2E67CAB6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345C-EF45-49D1-BD6B-0CE37B8E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5B691-88D3-4D5B-BCD2-AEC42D3D2A2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витый чистой плащан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, снятый со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погребён в чужой гробни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 ней приложена пли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утихли гнев и зло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врагов: Он может вст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траха их, у двери гро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а положена пе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бвитый чистой плащаниц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нула ночь, поутру р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огиле женщины спеш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 в одежде легко-тка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а светлых ангела сид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чать отпала от гробниц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глась на землю пли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робу лишь только плащан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в нём лежащего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глядят в недоум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Учитель их исче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ышат слово утеше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ого вы ищите — воскрес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ёны, радостью объя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жат к апостолам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вестить, что Бог распя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стал из гроба С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7:48Z</dcterms:modified>
  <cp:revision>12</cp:revision>
  <dc:subject>Slavic hymnal Гимны веры христиан, hymn 292</dc:subject>
  <dc:title>Обвитый чистой плащаницей</dc:title>
</cp:coreProperties>
</file>