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5C4-6659-4278-9D77-BF2E5B99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2A5-58CD-48CA-AFD1-8FCFAEA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684-38A8-4738-AFE3-EEAE72FB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700-9A06-492B-8200-1A729B2B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6D-0C6A-4221-91BD-67A089C9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C55-FC5D-437F-B392-47FEAA7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D01-5688-4FBD-A00D-FC440DF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694-A35A-4C83-8D5D-0CE3B6B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A0B-6A1B-4792-A2E2-AACCDC5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D9F-3419-4398-AA6F-5EA717E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DD6-6854-40BC-BD3D-F88FD2E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45A-E89B-4F21-91D0-FD566B5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00752-5C67-429F-8D12-0287FB3463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3Z</dcterms:modified>
  <cp:revision>14</cp:revision>
  <dc:subject>Slavic hymnal Гимны веры христиан, hymn 438</dc:subject>
  <dc:title>Go Bury Thy Sorrows / Сокрой своё горе</dc:title>
</cp:coreProperties>
</file>