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9A0-62EE-419D-A7EC-98722FB7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1C5-71AF-4C11-A61A-ECB40C5E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E2A-609D-49CF-9A96-A06EDED2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3DE-BAB7-42F8-88C4-8B00720F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226-9A84-420E-8670-EE0D0437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B24-2EE8-4FB5-8110-9623BAAB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805-DF4D-4D4A-A3D4-65705772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38E-E454-41FD-9B40-B8A5761A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5EB-2E65-4DEA-AE97-77A5EA26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E4E-0BE5-4280-BFF0-A2424EA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9FA-241F-4359-8B1A-8BB97B04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C2C-8CD4-4972-B7B1-DDDF996A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78674-1E74-4F8F-BAE7-135621C309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oubled heart, there is a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reach of toil an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where changes never 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not fain be resting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чудны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где гор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асилий и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царствует там жизнь и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чудесном 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hen bowed down beneath th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eav’n allowed, thine earthly 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up! thou’lt reach that blest abo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нет мук, нет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страданий жизне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огил и нет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для истинных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 on, nor deem, tho’ sore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igh unheard, one prayer forg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rest will dawn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трудись, в надежде 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ведёт нас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гибшим весть н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Иисусе ест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29Z</dcterms:modified>
  <cp:revision>13</cp:revision>
  <dc:subject>Slavic hymnal Гимны веры христиан, hymn 674</dc:subject>
  <dc:title>Wait and Murmur Not / О, чудный край, где горя нет</dc:title>
</cp:coreProperties>
</file>