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636-C88C-4A75-BCE0-F5CA128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16C-0D29-4328-BE75-BAD1768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521-670A-4DAE-9AEC-1A26BD6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21E-33F2-4CDC-B600-8F0F2ECC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E08-16DA-4FFE-BFA3-9C25BF6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570-3B7B-4036-AE95-4ADD5963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6E2-0B14-4A19-99B9-42638B68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463-E22F-41AA-B8C9-4EF5F2C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408-FEEC-4596-8B81-40ECDDC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2B6-38A6-4E3D-A85C-CF350C9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02F-0243-4117-AA3E-CE8AB3C9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439-3AD7-45BD-BA48-BCECD9A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5B95-1D37-42A1-AB29-C352EB5A48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Jesus shed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y back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Blood that Jesus 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soothes my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my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 dries all my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5-01T01:35:51Z</dcterms:modified>
  <cp:revision>11</cp:revision>
  <dc:subject>The Source 2, song number 972</dc:subject>
  <dc:title>The Blood that Jesus Shed for Me (The Blood Will Never Lose Its Power)</dc:title>
</cp:coreProperties>
</file>