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F4A-645C-46A7-9E58-C7A9D7FC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B66-AFBD-4D1E-9D5E-B7DD5F0D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BF8-4F59-417C-873A-89C2B0AC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64B-F35B-4A2F-8990-9C2AD764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636-B3AF-406F-9803-820C5735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C408-C9D7-408B-8A9B-8E7CBD98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307-8F1C-4520-8378-3A01FA77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631-0765-4F3B-AD44-BD504194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F34-21AD-4868-A59D-08C6D525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C6A-AA64-4B32-854B-BF34B3F5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84D-DC4F-4C74-9CF5-98BF6EA2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ADB-9DBB-4CEA-AAD7-29DFF57D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76BD4-8270-490D-9904-E01784459B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И там, где сует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мир даёт и там нам кровь Хрис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Среди земных забо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дежда на Христа нам мир да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Хоть зло вокруг кипи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на груди Христовой мир цари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мир цари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ир, полный 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Вдали от дорогих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осподь их сохранит в путях зем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Хоть будущ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мн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ристос царит, и сила нам да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Хоть зло вокруг кипи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на груди Христовой мир цари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мир цари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Хоть смерть вид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руго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а побеждена давно Хрис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ж придёт конец земной борьб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ристос нас в край небес возьмёт к Се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Хоть зло вокруг кипи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на груди Христовой мир цари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мир цари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6:30Z</dcterms:modified>
  <cp:revision>13</cp:revision>
  <dc:subject>Slavic hymnal Гимны веры христиан, hymn 581</dc:subject>
  <dc:title>Мир, полный мир</dc:title>
</cp:coreProperties>
</file>