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DF0-67CF-4BC1-9714-816B933C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DCE-FF44-4C91-AAFC-0C430093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CBF-3AED-4531-AB83-42CFC810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FE1-6101-4151-A5E2-94E4951A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8AF-FA12-46B0-8D20-FA71174D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87D-547E-48AB-8D4C-DED5FE21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68A-48A8-463E-8314-B24775BC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8B1-3204-4A89-B422-C18E2F44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505-5336-4D7E-8AB5-FE444A7D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C68-B84E-4F3F-AFFA-042269BA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821-BF80-428D-BFD1-129796D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787-4862-4C51-99EE-1567FAFF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2DF58-D5A0-4878-88C4-1B4559DC81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You clothed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frail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169  Ты сделал первый ш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делал первый ш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кры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делся в хруп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и во Хрис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ry out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You let me hear You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не ждал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у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дал услышать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orever grateful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orever grateful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orever grateful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k and save th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чно благодарен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агодарен за Твой крес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агодарен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шёл от уз спасти нас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6-29T06:21:14Z</dcterms:modified>
  <cp:revision>12</cp:revision>
  <dc:subject>The Source 4, song number 2169 in Russian</dc:subject>
  <dc:title>Ты сделал первый шаг / You Did Not Wait for Me (I’m Forever Grateful)</dc:title>
</cp:coreProperties>
</file>