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5</a:t>
            </a:r>
            <a:r>
              <a:rPr b="1" lang="ru-RU" sz="3600" spc="-1" strike="noStrike">
                <a:solidFill>
                  <a:srgbClr val="ffffff"/>
                </a:solidFill>
                <a:latin typeface="Verdana"/>
              </a:rPr>
              <a:t>	</a:t>
            </a:r>
            <a:r>
              <a:rPr b="1" lang="ru-RU" sz="3600" spc="-1" strike="noStrike">
                <a:solidFill>
                  <a:srgbClr val="ffffff"/>
                </a:solidFill>
                <a:latin typeface="Verdana"/>
              </a:rPr>
              <a:t>Отче Небесный</a:t>
            </a:r>
            <a:endParaRPr b="0" lang="en-US" sz="3600" spc="-1" strike="noStrike">
              <a:solidFill>
                <a:srgbClr val="000000"/>
              </a:solidFill>
              <a:latin typeface="Verdana"/>
            </a:endParaRPr>
          </a:p>
        </p:txBody>
      </p:sp>
      <p:sp>
        <p:nvSpPr>
          <p:cNvPr id="39" name=""/>
          <p:cNvSpPr/>
          <p:nvPr/>
        </p:nvSpPr>
        <p:spPr>
          <a:xfrm>
            <a:off x="179280" y="828720"/>
            <a:ext cx="98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Heavenly Father, Lord God Almight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 are the Potter, we are Your cl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uld us and use us for Your great servi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ight of the world, shine through us today.</a:t>
            </a:r>
            <a:endParaRPr b="0" lang="en-US" sz="32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тче Небесный, Боже всесиль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наш Создатель, Царь всей з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ый, всезрящий, мудрый и див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между нами, свет нам пошл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Heavenly Father, gracious and lov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uide us, Your children, from day to d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dwell among us in might and pow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 us, be near us, humbly we pray.</a:t>
            </a:r>
            <a:endParaRPr b="0" lang="en-US" sz="32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тче Небесный, благ всех источн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оставляй нас, в правде хра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ствуй над нами, мир, непорочн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удрость и силу в сердце вдохн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Look now upon us in all Your merc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nd us Your peace in this world of strif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rmly unite us in love and friendship;</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rs is the praise for ever. Amen.</a:t>
            </a:r>
            <a:endParaRPr b="0" lang="en-US" sz="3200" spc="-1" strike="noStrike">
              <a:solidFill>
                <a:srgbClr val="000000"/>
              </a:solidFill>
              <a:latin typeface="Verdana"/>
            </a:endParaRPr>
          </a:p>
        </p:txBody>
      </p:sp>
      <p:sp>
        <p:nvSpPr>
          <p:cNvPr id="4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тче Небесный, будь нам спасень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святости, к миру всех направля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у наполни радостным пень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лагодатью нас укрепляй!</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5T22:26:34Z</dcterms:modified>
  <cp:revision>3</cp:revision>
  <dc:subject>Slavic hymnal Гимны веры христиан, hymn 15</dc:subject>
  <dc:title>Heavenly Father, Lord God Almighty / Отче Небесный, Боже всесильный</dc:title>
</cp:coreProperties>
</file>