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1436-75A0-4FEA-8DC7-03CDE4BA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68F-8018-44F9-B75E-FAE8585C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D61-EDF9-489D-B012-1E48FBEE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000-B624-41D2-85A4-6406CEEF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6DE-273D-4DA8-BD4F-1337A12D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3CBA-4E84-4B19-A9D1-8CA2B24E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A199-ACF0-4CE4-A044-BD22F5A7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5499-0ECE-4247-ABF6-E7DDD553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B0C-2025-487B-B8E0-71362DB9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E81-4366-481D-8B5C-FD00BBCE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9ED5-EEE0-4E2D-89B5-5086F730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1DB-1031-4C64-BE51-A94EE792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B60BD-BEF6-4CFF-AF53-2E6B237E76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я сила, Божь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аполня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гонь любви Хрис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не пог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любовь объеди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 нас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ёт, нам помо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кий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я сила, Божье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адим друг другу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авде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ьются песней зв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сной руч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Спаситель будет с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ёт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шёл добра пут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наш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охновенья дай нам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у возвещ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мир, пленённый лож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Тебя по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и нас силой свы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ость нам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ебя могли услы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онцы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расширь сердца спас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авде утвер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рукой пронз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 в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любовь к святому де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ширяй наш к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знь не пролет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есплодный зв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5:34Z</dcterms:modified>
  <cp:revision>12</cp:revision>
  <dc:subject>Slavic hymnal Гимны веры христиан, hymn 483</dc:subject>
  <dc:title>Божья сила, Божье слово</dc:title>
</cp:coreProperties>
</file>