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63A-FE56-457E-9CB0-20925C5F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6CA-0ED8-4240-8719-DE50EC7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E06-F53E-4FEA-A37A-49560BA1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4BE-A578-4775-969B-C41A5C2F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853-D8C7-411E-9FD1-AB550C30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5F4-B88B-4F3E-B732-6C71D93E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8E6-FBC8-4C98-83F3-1833263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0A9-21B8-42B4-A056-DCAB215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3CE-0E90-418D-98B6-E07520D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ABE-C563-459A-8E32-94F4B84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0B4-A56F-4A1C-BA51-2664F16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C8E-FC34-4520-B884-9D32C24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B23E1-D2B7-42FB-9F3A-5F66861DD2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38Z</dcterms:modified>
  <cp:revision>13</cp:revision>
  <dc:subject>Slavic hymnal Гимны веры христиан, hymn 892</dc:subject>
  <dc:title>Почти уверен</dc:title>
</cp:coreProperties>
</file>