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B24E-1882-42EA-99B5-3FF8F19A7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D6EB-7CAC-4429-98CC-097ECE75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2DF5-E794-4A2E-B320-F72775820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621F-6AED-4F64-A340-FDB29119E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8709-28C2-4993-8C45-70941C26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7466-B9A0-498C-B56D-51D503E5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C8D1-131F-41FE-950A-74F7E075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2771-61B3-4A09-841C-D3FED29A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FA56-5DE0-4BA4-9F1C-87D123EC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1DB6-F4B7-4F22-8705-23033EEE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763D-5D44-4C95-B0D0-94E3C114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8346-AC79-4641-9517-CB6F37B5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3953DC-BC66-4C6E-BF1A-61F93925CD2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Him with many crow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amb upon His thr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rk! how the heavenly anthem drow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music but its ow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ославьте, все,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ьте, все,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шёл Он на прест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Ним ликуют неб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ёт чудесный х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wake, my soul, and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Him who died for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ail Him as thy matchless 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all eter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, душа, и п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му, Кто спас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― Искупитель дивный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― Царь твой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Him the Lord of l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hold His hands and s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ch wounds, yet visible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beauty glorifi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ь Царя люб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ды глубоких р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 на небе сохран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для жизни д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angel in the 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n fully bear that s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downward bends his wondering 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mysteries so br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еет сераф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ядеть на Бога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лоняет голову пред Т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 нами в теле ж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Him the Lord of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triumphed o’er the gr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rose victorious to the str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ose He came to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ь Царя век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смерть побежд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ть людей от всех вра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рука силь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glories now we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died and rose on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died eternal life to b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ves that death may 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хвала и чес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мёртв ― и жив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умер, чтоб нам жизнь прин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, чтоб смерть попр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Him the Lord of heav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with the Father kn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with the Spirit through Him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yonder glorious thr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ь Царя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диного с От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Он Духа, чтоб при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ей в Отцовски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hail, Redeemer, hai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ou hast died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praise and glory shall not f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out eter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ю хв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ечную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щедротам нет чис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 во век в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45:03Z</dcterms:modified>
  <cp:revision>12</cp:revision>
  <dc:subject>Slavic hymnal Гимны веры христиан, hymn 808</dc:subject>
  <dc:title>Crown Him With Many Crowns / Прославьте, все, Христа</dc:title>
</cp:coreProperties>
</file>