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3</a:t>
            </a:r>
            <a:r>
              <a:rPr b="1" lang="ru-RU" sz="3600" spc="-1" strike="noStrike">
                <a:solidFill>
                  <a:srgbClr val="ffffff"/>
                </a:solidFill>
                <a:latin typeface="Verdana"/>
              </a:rPr>
              <a:t>	</a:t>
            </a:r>
            <a:r>
              <a:rPr b="1" lang="ru-RU" sz="3600" spc="-1" strike="noStrike">
                <a:solidFill>
                  <a:srgbClr val="ffffff"/>
                </a:solidFill>
                <a:latin typeface="Verdana"/>
              </a:rPr>
              <a:t>О Господь, я Твой</a:t>
            </a:r>
            <a:endParaRPr b="0" lang="en-US" sz="3600" spc="-1" strike="noStrike">
              <a:solidFill>
                <a:srgbClr val="000000"/>
              </a:solidFill>
              <a:latin typeface="Verdana"/>
            </a:endParaRPr>
          </a:p>
        </p:txBody>
      </p:sp>
      <p:sp>
        <p:nvSpPr>
          <p:cNvPr id="39"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Господь, я Твой! Раб услышал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ас любви Твоей, Бог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ы луч святой осиял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чь светлей мне стала 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ближе к Твоему кре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Ты умер з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ближе, ближе к Твоему кре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влеки мен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илою Своей, Бог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ё сердце осе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служить Тебе мог я всей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у новую вдох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ближе к Твоему кре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Ты умер з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ближе, ближе к Твоему кре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влеки мен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Чуден, Боже сил, тихий час ноч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с, когда спит мир людс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но с другом, я говорю с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ж даёшь душе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ближе к Твоему кре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Ты умер з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ближе, ближе к Твоему кре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влеки меня!</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Глубину Твоей без конца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отчасти понял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 вечных дней мне скорей я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вети скорей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ближе к Твоему кре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Ты умер з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ближе, ближе к Твоему кре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влеки меня!</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4T11:01:27Z</dcterms:modified>
  <cp:revision>3</cp:revision>
  <dc:subject>Slavic hymnal Гимны веры христиан, hymn 3</dc:subject>
  <dc:title>О Господь, я Твой</dc:title>
</cp:coreProperties>
</file>