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CA8F-96B0-491A-86C5-ADF9043B4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30EC-D8A0-4DBD-91BF-605AD280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86B8-611A-4F40-A0CC-820964884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8441-ED56-44E7-A5E6-FF59DC315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8AF8-91E2-4676-8024-621EA499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6F1F-7696-467D-ADFB-372B4A81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6253-EB52-4479-BE10-E0B854AB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35D6-AE42-41E6-96D8-9C53D662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B75D-BAB8-4F16-B892-FA1A0546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8144-EF01-4948-8187-CC2AAE42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B31E-21B1-4C81-B3C8-6A1AC1C0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DBD9-46EC-4933-9652-896501EA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F9710-ABB2-44B5-BB0C-801354B6576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звещайте вы 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ам дарует жизнь в полн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ославляйте Его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а Иисуса воспойте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звещайте вы о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Он умер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открыл Он для всех для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вы пойте во всяк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возвещайте вы о Хрис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звещайте вы 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бедила Его р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одом будьте на выс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иден миру издал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звещайте вы о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Он умер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открыл Он для всех для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вы пойте во всяк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звещайте о Нём,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спасеньи для всех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исполнил завет От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овершил Он в любви С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звещайте вы о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Он умер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открыл Он для всех для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вы пойте во всяк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6:18Z</dcterms:modified>
  <cp:revision>12</cp:revision>
  <dc:subject>Slavic hymnal Гимны веры христиан, hymn 559</dc:subject>
  <dc:title>О, возвещайте вы о Христе</dc:title>
</cp:coreProperties>
</file>