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951E-45EE-457D-8EAB-AE02B15CE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F9D5-7E8B-47CF-B846-4E9825C5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BDAC-9B4F-4CFF-A191-4ABBB6D8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8283-5187-4E6B-9F8D-9A271B3E8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75F8-814A-45A0-B797-798E2707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0AD4-BAA3-4084-B589-1F6B383B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6220-789C-4F7E-8EE8-4D25A169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B3C3-C5BB-4DEE-9114-941ED5A0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57F3-1D37-4E47-96E4-38C25519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EFB0-C234-478E-ADFD-9AA2CE9E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DCF3-97B1-4CFD-B790-7A5BE383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D909-2211-472A-9F02-A084E250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15E74-2D43-4900-B9A2-0D948355D15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ёл я Друга од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же всех на св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освободи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з греховной с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ердце привязал к С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ко мне любовь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й теперь и я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ю куплен кров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шёл я Друга од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ёл я Друга од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ёл Он на му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нам вечной жизни д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м купить спас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имею, кем я 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м я не счит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 таланты, жизнь и ч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я посвящ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ёл я Друга од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хранить Он буд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ведёт Своей ру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веки не забуд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 славы впер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стремлюсь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скорбь и труд мой путь ле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ному пок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ёл я Друга од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чудный мой Спас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лизок, верен Он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сильный Утеш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ая сила разл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м Другом несравнен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всегда соедин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ечным, неизмен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5:34Z</dcterms:modified>
  <cp:revision>12</cp:revision>
  <dc:subject>Slavic hymnal Гимны веры христиан, hymn 583</dc:subject>
  <dc:title>Нашёл я Друга одного</dc:title>
</cp:coreProperties>
</file>