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56</a:t>
            </a:r>
            <a:r>
              <a:rPr b="1" lang="ru-RU" sz="3600" spc="-1" strike="noStrike">
                <a:solidFill>
                  <a:srgbClr val="ffffff"/>
                </a:solidFill>
                <a:latin typeface="Verdana"/>
              </a:rPr>
              <a:t>	</a:t>
            </a:r>
            <a:r>
              <a:rPr b="1" lang="ru-RU" sz="3600" spc="-1" strike="noStrike">
                <a:solidFill>
                  <a:srgbClr val="ffffff"/>
                </a:solidFill>
                <a:latin typeface="Verdana"/>
              </a:rPr>
              <a:t>Сидел Христос с учениками</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Сидел Христос с ученика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Елеоне, а пред Н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оял за крепкими стена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ликий град Иерусал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вященный город красовал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адах, пестревших здесь и т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над домами возвышал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царь, величественный храм.</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И, указав на храма зда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истос сказал ученик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танет день, до основа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раги разрушат этот хр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Настанет время войн кровав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мор, и голод подой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 прихотям царей лукав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род восстанет на народ.</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И будет ужас и смят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околеблется земл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вас жестокое гон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здвигнут люди за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И предадут на поруга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емницах будут содерж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ез сожаленья, сострада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ас будут бить и распинать.</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7.</a:t>
            </a:r>
            <a:r>
              <a:rPr b="0" lang="ru-RU" sz="3200" spc="-1" strike="noStrike">
                <a:solidFill>
                  <a:srgbClr val="ffffff"/>
                </a:solidFill>
                <a:latin typeface="Verdana"/>
              </a:rPr>
              <a:t>	</a:t>
            </a:r>
            <a:r>
              <a:rPr b="0" lang="ru-RU" sz="3200" spc="-1" strike="noStrike">
                <a:solidFill>
                  <a:srgbClr val="ffffff"/>
                </a:solidFill>
                <a:latin typeface="Verdana"/>
              </a:rPr>
              <a:t>Не ужасайтесь, не ропщи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о время, дети вы Мо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ученья твёрдо вы сноси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имя правды и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8.</a:t>
            </a:r>
            <a:r>
              <a:rPr b="0" lang="ru-RU" sz="3200" spc="-1" strike="noStrike">
                <a:solidFill>
                  <a:srgbClr val="ffffff"/>
                </a:solidFill>
                <a:latin typeface="Verdana"/>
              </a:rPr>
              <a:t>	</a:t>
            </a:r>
            <a:r>
              <a:rPr b="0" lang="ru-RU" sz="3200" spc="-1" strike="noStrike">
                <a:solidFill>
                  <a:srgbClr val="ffffff"/>
                </a:solidFill>
                <a:latin typeface="Verdana"/>
              </a:rPr>
              <a:t>Моё великое уч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спримет мир, и племе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изнесут с благоговенье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радальцев первых имена.»</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9-08-18T06:58:28Z</dcterms:modified>
  <cp:revision>4</cp:revision>
  <dc:subject>Slavic hymnal Гимны веры христиан, hymn 256</dc:subject>
  <dc:title>Сидел Христос с учениками</dc:title>
</cp:coreProperties>
</file>