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CE99-19AB-4A3B-A8CF-E7BFF4C4A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BDEF-116A-4993-9B93-7755F752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64F9-4C09-48F3-9E0D-228AB4D70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74D7-2187-4615-9F30-F8D78BDC3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AAE5-D94C-40A2-BF97-E55142F0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8EFA-F43B-4185-9A91-B977D701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D992-8495-4BE3-B1D5-1E18078E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7A9F-5216-4562-9345-FDC7C9AC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AB09-3FE8-4070-B587-4E4B924B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B55D-2542-4741-8447-8DF87011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9051-2DB4-4C0A-A445-AEF873D5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D24D-0F90-4959-AE62-E9EF3DE2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12D0C-CD8C-4F73-9F70-0B43FB8CB33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God of this c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King of these peop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Lord of this n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light in this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hope to the hope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peace to the rest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99   You’re the God of This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like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like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greater things have yet to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reater things are still to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er things have yet to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reater things are still to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God of this c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King of these peop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Lord of this n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light in this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hope to the hope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peace to the rest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like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like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greater things have yet to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reater things are still to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er things have yet to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reater things are still to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like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like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greater things have yet to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reater things are still to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er things have yet to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reater things are still to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5:32Z</dcterms:modified>
  <cp:revision>12</cp:revision>
  <dc:subject>The Source 4, song number 2199</dc:subject>
  <dc:title>You’re the God of This City (Greater Things)</dc:title>
</cp:coreProperties>
</file>