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14B-F9B7-45CD-AD74-78A4C3B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DA-68B2-4CCB-B035-A47E937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828-921D-49A9-A319-69CCB38E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7B1-822C-4260-89DA-DDA09D12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412-7D44-456B-A6E6-44F805E5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E8D-8CE2-487B-8B7D-C018B834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17F-08DF-47EB-8B6A-021274F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F64-75FD-4ED6-AF66-D447031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93C-0D73-4AC0-9013-92AA65E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AFD-E30D-45D4-A7AE-4CFB193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A00-9702-4B4C-AA97-6FC57277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42D-92B4-4E04-8262-3F8B2FD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5678-4940-4344-ABBB-22CCF8A470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умом Тебя, всем помыш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ушу Тебе по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с каждым сердца бие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меня со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ю милосердную в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икогда не роп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вою многотрудную д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которых пришёл ис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пречистою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рыстной глубокой люб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33Z</dcterms:modified>
  <cp:revision>12</cp:revision>
  <dc:subject>Slavic hymnal Гимны веры христиан, hymn 474</dc:subject>
  <dc:title>Научи меня, Боже, любить</dc:title>
</cp:coreProperties>
</file>