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2D3-C921-4547-8CC1-FD6E41B7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38D-7EA0-42DD-9DE1-BA6DFC6B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2A5-33AB-4A3E-A978-350C9A96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AFC-521E-4457-BC0B-4D694A56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22F-E9C7-4377-9A05-FD911325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0F7-E73F-4393-B4EC-6612D140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C13-EA82-44D4-8E6E-D019F55B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10E-CCDF-41EF-82F6-D6D38CAD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722-DC9E-4594-AA24-8E428A2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A44-7E8C-4B9A-A579-3CDEDC1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C6E-15C7-4346-9607-8EE7EAA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4D7-E10A-4137-AB00-A365840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9184C-CDFC-4347-8533-3DC21F6A14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медлишь на греш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Иисуса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ты не хочешь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есценный, Его благо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Агнца святого взгля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традал без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скорби до дна Он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от суда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Ему жизн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мерно счастлив буде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ая омоет весь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лее ты станешь, чем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05Z</dcterms:modified>
  <cp:revision>12</cp:revision>
  <dc:subject>Slavic hymnal Гимны веры христиан, hymn 400</dc:subject>
  <dc:title>Что ты медлишь на грешном пути?</dc:title>
</cp:coreProperties>
</file>