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8CC8-FD62-434C-8710-52D8F6C4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E92B-7DA2-4398-9E41-E6768AD4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FBB-3A0D-4B69-8EBB-96F0420B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37A-DBE4-4AFA-A49F-FA2464B5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EA2-5433-4846-B6B8-65A9FF09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DBA-DCD2-4C8A-A44E-4781F26E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9EEB-8F3F-4DDA-9000-1AC8DE6E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F52-2F96-4AE9-A44C-7DB613AF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D51-3065-40B4-8676-41243CD5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A79-C75B-4724-B96B-6A5022AA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1E8-F5B3-4104-BD22-59CC5BB7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746-CBF4-44AD-933E-2349F871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1A36E-736E-4308-8B4E-6E9F39FED4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 не умр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на костре, не от ме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дце радостно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ас вера горя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вая вера не умр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ы за веру шли в остр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долеть их мир не м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внукам их в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ую верность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уч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друзей, любить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ать Христа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рочном царстве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2:46Z</dcterms:modified>
  <cp:revision>13</cp:revision>
  <dc:subject>Slavic hymnal Гимны веры христиан, hymn 616</dc:subject>
  <dc:title>Живая вера не умрёт</dc:title>
</cp:coreProperties>
</file>