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0E5C6-529C-4210-9E76-04BB17E0D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3C238-730E-4722-BC61-B28C72AFC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A0529-EE56-4E60-A870-E8591E65B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4F116-47BC-4E60-8BE1-D53B0A659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2D170-44D3-4CAB-A113-25494FE55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3B393-A44E-4B0D-AD2B-36B76680D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3927A-F853-4D95-A3D1-7B38C08AB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BCA5B-C80C-4F67-BF47-63093EC73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1A660-5D24-4A80-B5DF-A88B5E687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886E0-9363-4355-BBDB-DEBBDEC93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5B08D-FE55-4391-BF53-9374C3B37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8E38E-90E6-48D3-A388-607F9F695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88653E-4A82-47CD-B6BE-BAF9F95E35C1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ord, pour out Your Spir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n all the peoples of the earth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et Your sons and daugh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peak Your words of prophec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end us dreams and vision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Reveal the secret of Your hear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ord, our faith is ris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et all heaven s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coming of Your 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1974   Lord, Pour Out Your Spir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re’s gonna be a great awaken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re’s gonna be a great reviv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our l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re’s gonna be a great awaken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ev’ryone who calls on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y will be sav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ord, pour out Your Spir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n all the nations of the worl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et them see Your glor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et them fall in rev’rent aw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how Your mighty pow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hake the heavens and the earth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ord, the world is wait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et creation 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coming of Your 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re’s gonna be a great awaken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re’s gonna be a great reviv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our l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re’s gonna be a great awaken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ev’ryone who calls on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y will be sav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Barry Hart (compiler), The Source 4, Kevin Mayhew: Buxhall, Suffolk, England, 2009.  ISBN 9781848671713.
</dc:description>
  <cp:keywords>lyrics words praise worship songs</cp:keywords>
  <dc:language>en-US</dc:language>
  <cp:lastModifiedBy>John Zaitseff</cp:lastModifiedBy>
  <dcterms:modified xsi:type="dcterms:W3CDTF">2011-02-16T01:07:24Z</dcterms:modified>
  <cp:revision>12</cp:revision>
  <dc:subject>The Source 4, song number 1974</dc:subject>
  <dc:title>Lord, Pour Out Your Spirit (Great Awakening)</dc:title>
</cp:coreProperties>
</file>