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C0B-2487-4FB0-998A-323540A3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B52-C6C2-47DC-92C2-4D202EC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065-F2D1-417A-AD09-B9A3FE67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86D-539B-4659-9B24-D86A9982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57C-C141-4754-AB80-77B7000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AF1-C353-40A3-87CF-14541872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C47-CDE9-43EF-979E-BFA5C30E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1E7-AE86-4401-A559-0FB5778A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6B0-E521-439E-BA57-B10DBDF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B1D-1585-468C-8CC4-3EA4357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60C-AB63-4A10-BBAA-F87CF496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CDB-40BA-4CAD-9E46-E1EDCD01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00F4F-67F6-4253-B06B-AA68602364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49Z</dcterms:modified>
  <cp:revision>12</cp:revision>
  <dc:subject>Slavic hymnal Гимны веры христиан, hymn 811</dc:subject>
  <dc:title>Один ли Он был должен несть?</dc:title>
</cp:coreProperties>
</file>