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D3F-22FB-4296-8107-CDAD6502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D96-4136-4255-8FAC-66824024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970-39FC-45CF-AAEF-319F8833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B2F-824C-4EB8-A1F0-24F5D856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E53-6A04-46C0-9E9D-DE2C9235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711-5664-4BDA-B5BB-8A2F48FB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089-58B7-46AB-8282-316D7A17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F98-DCED-46D9-88BE-70ED448A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2F2-AA36-4B80-9A69-E41CAC02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C00-90CF-4030-B235-EF4893DA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7BF-24BB-4310-B603-96F49B51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1FE-A610-40AE-B940-751E90B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7001C-5747-4CC1-AE59-3D0B3ECC25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блю Тебя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груди моей мал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дух изне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житейской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олела усталост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люблю Тебя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жги в моём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ог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радость и счастие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рным и твёрд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быть во вс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им ближним дай, Боже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кавый смущ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душу мою обма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Боже, с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ердыня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дай мне духовно ус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Ты при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удить этот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ховный, порочный и з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войду, о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брачный Тво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й прекрасный чертог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51Z</dcterms:modified>
  <cp:revision>13</cp:revision>
  <dc:subject>Slavic hymnal Гимны веры христиан, hymn 801</dc:subject>
  <dc:title>Я люблю Тебя, Боже</dc:title>
</cp:coreProperties>
</file>