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216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80</a:t>
            </a:r>
            <a:r>
              <a:rPr b="1" lang="ru-RU" sz="3600" spc="-1" strike="noStrike">
                <a:solidFill>
                  <a:srgbClr val="ffffff"/>
                </a:solidFill>
                <a:latin typeface="Verdana"/>
              </a:rPr>
              <a:t>	</a:t>
            </a:r>
            <a:r>
              <a:rPr b="1" lang="ru-RU" sz="3600" spc="-1" strike="noStrike">
                <a:solidFill>
                  <a:srgbClr val="ffffff"/>
                </a:solidFill>
                <a:latin typeface="Verdana"/>
              </a:rPr>
              <a:t>На Голгофской горе</a:t>
            </a:r>
            <a:endParaRPr b="0" lang="en-US" sz="3600" spc="-1" strike="noStrike">
              <a:solidFill>
                <a:srgbClr val="000000"/>
              </a:solidFill>
              <a:latin typeface="Verdana"/>
            </a:endParaRPr>
          </a:p>
        </p:txBody>
      </p:sp>
      <p:sp>
        <p:nvSpPr>
          <p:cNvPr id="39" name=""/>
          <p:cNvSpPr/>
          <p:nvPr/>
        </p:nvSpPr>
        <p:spPr>
          <a:xfrm>
            <a:off x="539640" y="287280"/>
            <a:ext cx="899964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 Голгофской г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ижу старый тот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есть символ мучений, сты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люблю я его, он дороже вс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людей возложён на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вовек я тот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прощенье дарует От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ему привлечён на всю жи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авный день заменю на венец.</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287280"/>
            <a:ext cx="899964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как стар этот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уж забытый людь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 нему привлечён дух мой в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на нём Агнец Бож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заклан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зойдя на Голгофу с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вовек я тот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прощенье дарует От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ему привлечён на всю жи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авный день заменю на венец.</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287280"/>
            <a:ext cx="8999640" cy="673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 том старом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ижу кровь я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инаю всегда горь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традал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пролил кровь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мне вечную жизнь даро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абуду вовек я тот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прощенье дарует От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ему привлечён на всю жи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авный день заменю на венец.</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9-28T22:04:17Z</dcterms:modified>
  <cp:revision>3</cp:revision>
  <dc:subject>Slavic hymnal Гимны веры христиан, hymn 280</dc:subject>
  <dc:title>На Голгофской горе</dc:title>
</cp:coreProperties>
</file>