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FA8-9A83-403A-8A65-40050776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28F-A4AA-4898-8FE1-8CDF134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4A3-C61D-4817-8F8C-17FDB9AC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ECF-A803-4627-91A6-BD533E1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49F-D2F2-44DD-930E-4504202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DA2-B882-4607-BCDA-CB4BEA72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395-EA0D-4E2E-BB5C-23ED9A5A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CDE-AB21-4E6B-9251-CC3A4FBC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A3A-2D5F-468B-B431-F47729C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879-F338-46ED-B61F-68C3396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BB5-454C-4E68-A6BA-D63E832D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510-00E1-4CDE-9355-3F18C4B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A1C9A-10E9-4866-AA57-233D3D3BAE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00Z</dcterms:modified>
  <cp:revision>13</cp:revision>
  <dc:subject>Slavic hymnal Гимны веры христиан, hymn 459</dc:subject>
  <dc:title>Слышу призыв Иисуса</dc:title>
</cp:coreProperties>
</file>