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9CE-0D70-44CE-97A4-FCADB51D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7EE-269B-4D40-A07C-D39989C7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17B-1CD6-4497-869F-410AFDD0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5C4-2CA5-436E-9741-047040DB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04D-7033-4E5B-A4E5-EF1A87FE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65B-DF5F-4BAB-B806-B3FF6D57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C23-EBAE-44F9-BF92-D0EE8322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6C7-9707-4603-ABDB-C8A8F548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5C8-4B4A-4BA7-8A1C-AEDF5FC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4C7-964B-4A8D-9FBB-530D2A92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065-EFFB-4A5F-81D5-101A4D77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E4E-D356-436B-976F-97074786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F134C-AD9A-4D68-96C0-C25B49F14D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w in the grav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he coming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гробе Он леж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гробе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я славы ожид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watched His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seal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стер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печать клад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cannot keep his pr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re the bar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побежд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 расторгае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4:21Z</dcterms:modified>
  <cp:revision>13</cp:revision>
  <dc:subject>Slavic hymnal Гимны веры христиан, hymn 288</dc:subject>
  <dc:title>Christ Arose! / Во гробе Он лежал</dc:title>
</cp:coreProperties>
</file>