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9DF-064C-4C37-8691-B08D2E6B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984-F832-495A-AD60-9C775D7E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EAC-08C0-48EA-B312-E8C468BC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269-830B-4853-BA54-31836628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B2F-42C4-424E-9879-8AB98AB5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2B6-5D03-4710-AE8C-2C446BA7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F3B-9C3E-40DA-84A3-CE8AFA33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125-DFB7-4282-9614-EE06B01C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F35-99BD-4F25-8E2A-72DE7F03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98F-5C4B-4A7B-87F2-2535B0C5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6C5-30C4-4EEC-872F-30FE5E58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A49-7121-426A-8517-2DA4C510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7E7D0-4D1D-4866-BF6A-58F6861339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, имя всех вы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имя всех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, Славны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мануил, Бог вечно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тель, вечно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2:40Z</dcterms:modified>
  <cp:revision>10</cp:revision>
  <dc:subject>The Source, song number 291 in Russian</dc:subject>
  <dc:title>Иисус, имя всех выше / Jesus, Name Above All Names</dc:title>
</cp:coreProperties>
</file>