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4A2-3182-43D5-A4B9-8B305F30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344-D1E9-4BCC-8FAD-46D15C38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318-1A77-4BD0-AADD-015B84CC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775-EA94-4861-80EF-E1789FE2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4F7-A66A-44AD-9B88-A17950A9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058-F953-41DB-A51F-FDBD9D48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CE3-D333-4218-A0C0-220C6EBA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ADAF-257A-46CB-98BA-3096AA55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6D1-8FC2-4AA8-A4B8-E28510C2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AE23-137A-48E8-81BB-90A33690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8AC-C703-46B1-A93E-A4766C78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036-EE4A-4508-A9EE-BED8277F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967A5-5C34-44E2-91A5-19BB9714A2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Спаситель с небес к нам нис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у плоть на Себя восприн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решную землю с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 раба ныне скромный прин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, 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Спаситель с неб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на землю Господь Сам с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почёте, не в царском вен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чертоге, не в пышном двор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пещере приют Он обр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, 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с надзвёздного трона с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Владыка, Господь и Творе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радости — скорбь Он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пасти Своих бедных ов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, 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5:40Z</dcterms:modified>
  <cp:revision>13</cp:revision>
  <dc:subject>Slavic hymnal Гимны веры христиан, hymn 229</dc:subject>
  <dc:title>Вот, Спаситель с небес к нам нисшёл</dc:title>
</cp:coreProperties>
</file>