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5EC-32BD-4E99-A929-88EC9D81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B03-9BCC-4233-8F03-35A9F5F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E25-7817-47C5-9E69-9B5331C6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81C-9CEA-4098-ADCE-03F54806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129-0F20-448C-8F35-795E0005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D6C-3505-46CC-9F36-00C33DC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C6F-221D-4CEC-A69F-08DC17BE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837-067A-4FB5-8759-56C35F7E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6DE-4E22-443A-AEBA-5802F8AE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7F9-F377-4B20-8637-5B69F123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8AB-521F-46ED-BA85-B9ED2686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B3D-264B-40D7-A174-04A81B9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A0EA6-B36E-439E-86E9-EFC0AF6594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доходит солнца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царствовать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тупит вся земля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будет Он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народов и пл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ногам снесут д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знатными почт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б зайдёт в Его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доходит солнца лу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молиться будут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главу Его вен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ой славе и кр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и будет Он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анет бурь, уйдёт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мирно зажи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лолетних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«Осанна» вос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цел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нет смерть, исчезнет ст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ьше даст людским сы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потерял тогда 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живущее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рабства раз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нит ложь и су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— хвала от всех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тдалений, из пусты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енье ангел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емли услышится: «Ами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29Z</dcterms:modified>
  <cp:revision>12</cp:revision>
  <dc:subject>Slavic hymnal Гимны веры христиан, hymn 833</dc:subject>
  <dc:title>Куда доходит солнца луч</dc:title>
</cp:coreProperties>
</file>