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54</a:t>
            </a:r>
            <a:r>
              <a:rPr b="1" lang="ru-RU" sz="3600" spc="-1" strike="noStrike">
                <a:solidFill>
                  <a:srgbClr val="ffffff"/>
                </a:solidFill>
                <a:latin typeface="Verdana"/>
              </a:rPr>
              <a:t>	</a:t>
            </a:r>
            <a:r>
              <a:rPr b="1" lang="ru-RU" sz="3600" spc="-1" strike="noStrike">
                <a:solidFill>
                  <a:srgbClr val="ffffff"/>
                </a:solidFill>
                <a:latin typeface="Verdana"/>
              </a:rPr>
              <a:t>Прячась в пустыне сухой</a:t>
            </a:r>
            <a:endParaRPr b="0" lang="en-US" sz="3600" spc="-1" strike="noStrike">
              <a:solidFill>
                <a:srgbClr val="000000"/>
              </a:solidFill>
              <a:latin typeface="Verdana"/>
            </a:endParaRPr>
          </a:p>
        </p:txBody>
      </p:sp>
      <p:sp>
        <p:nvSpPr>
          <p:cNvPr id="39" name=""/>
          <p:cNvSpPr/>
          <p:nvPr/>
        </p:nvSpPr>
        <p:spPr>
          <a:xfrm>
            <a:off x="179280" y="828720"/>
            <a:ext cx="98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рячась в пустыне сухой в нище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вали к Спасителю десять боль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Ты помилуй!» — очистил Он 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ить пришёл один — где ж девять 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ж девять 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ж девять 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чистил Он дес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ж девять т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ав пред Иисусом в толпе, в тесно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Самарянин, Его прославля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исцеленье, что Он даро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тко спросил Христо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Где ж девять 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ж девять 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ж девять 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чистил Он дес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ж девять т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то — Назарянин?»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так спрашивал люд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зве Христос Он в Его просто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огие души чудес только жд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ля них чудо есть: где девять 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ж девять 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ж девять 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чистил Он дес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ж девять те?</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идим мы взоры людей на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ышим вопросы с насмеш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Кто —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ми отвергнут Христос, осужд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вот свидетели — где девять 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ж девять 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ж девять 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чистил Он дес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ж девять те?</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9-08T20:48:13Z</dcterms:modified>
  <cp:revision>3</cp:revision>
  <dc:subject>Slavic hymnal Гимны веры христиан, hymn 254</dc:subject>
  <dc:title>Прячась в пустыне сухой</dc:title>
</cp:coreProperties>
</file>