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15</a:t>
            </a:r>
            <a:r>
              <a:rPr b="1" lang="ru-RU" sz="3600" spc="-1" strike="noStrike">
                <a:solidFill>
                  <a:srgbClr val="ffffff"/>
                </a:solidFill>
                <a:latin typeface="Verdana"/>
              </a:rPr>
              <a:t>	</a:t>
            </a:r>
            <a:r>
              <a:rPr b="1" lang="ru-RU" sz="3600" spc="-1" strike="noStrike">
                <a:solidFill>
                  <a:srgbClr val="ffffff"/>
                </a:solidFill>
                <a:latin typeface="Verdana"/>
              </a:rPr>
              <a:t>Боже, о Боже, услышь меня</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же, о Боже, услыш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взываю к Тебе, Отче,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ведь сказал: «Воззови ко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твой Отец, отвечу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о порою вера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ускло светит, словно свеч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ак роса сверкает на пол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и моё лицо всё в слезах.</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 укрепи надежду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охрани, Боже, душу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обращаться лишь только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верный Друг, Помощник в бе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Знаю ответишь: Ты верен слов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й любовью Ты любиш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едь надеюсь, Господь, на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упованье, Ты — жизнь моя.</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1:27:58Z</dcterms:modified>
  <cp:revision>3</cp:revision>
  <dc:subject>Slavic hymnal Гимны веры христиан, hymn 215</dc:subject>
  <dc:title>Боже, о Боже, услышь меня</dc:title>
</cp:coreProperties>
</file>