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B77-BF87-4216-9242-F778C24F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361-2A45-46D2-B23E-D2F43636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023-A819-416B-A26E-0CEDE7E7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CBA-4AB9-43D2-B1DA-D16953F4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156-033D-43FC-82FA-B9932C76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4BE-8132-4729-A609-496883B3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5C0-A19F-40A0-923B-F449A936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35E-AF26-45C1-9676-77B2184A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F9A-BE83-4B52-B185-99ABDDB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7EA-3876-4D31-8C41-B0B99DEC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CEC-80F1-4E02-9129-4C49418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12F-A96C-498C-8B09-6FB2ABB8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3186F-B664-4A47-9F3B-EA5AD43891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основа Церк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ём стоит 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ессмерт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озро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её взыск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изнь её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Свое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ятости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— основа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на по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ом скреп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м хлебом с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ем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ет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дин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терпя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заема разд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угнет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ностью пред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рам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лас святых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лкнет их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етлым у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ся ночи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итвы со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ет на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идень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ят её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ржество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т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она в общ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тцом 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ом объ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 их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, Господь, и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бно им,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7:08Z</dcterms:modified>
  <cp:revision>13</cp:revision>
  <dc:subject>Slavic hymnal Гимны веры христиан, hymn 866</dc:subject>
  <dc:title>Христос — основа Церкви</dc:title>
</cp:coreProperties>
</file>