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2558-7E38-4625-9F6F-493DDE59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D3F7-4061-463D-81CE-BEBE6413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02E4-3FDC-4A5A-A30F-5A59A21B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F96-A5BC-4AF0-83CF-22D9329F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DF2-79D7-4873-A3BC-9CBDA23D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779-9D70-4220-858D-3DE4A4A5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BCC-7AB7-459C-810F-974AAA4A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806-F1C3-461C-A7FC-06A75D55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7F4-0BD5-47A5-A620-1FD90BBC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2DB-8077-46C4-91FD-17034327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0FBF-9EA9-4F3A-9FF2-2B39E1E3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40B-0553-448E-A5E0-89325729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2682A-34CB-43CF-9FB2-0E62121783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цяний по люб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ки знайдуть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ристовій святій кро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2  Буде дощ благослов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а Святого з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шле Господь нам хрещ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мари надходять у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скорійш нам зі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нам нове відродженн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щ благодатний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шли нам, Боже, теп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шукаєм прощ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чуй нас, просим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0:33Z</dcterms:modified>
  <cp:revision>12</cp:revision>
  <dc:subject>Slavic hymnal Гимны веры христиан, Ukrainian hymn 92</dc:subject>
  <dc:title>Буде дощ благословення</dc:title>
</cp:coreProperties>
</file>