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20A-677E-479E-9939-AA4D78B5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936-8B57-46B1-B2DD-D1C2A462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673-43D5-4F68-9891-9ECCAA04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1AF-40FF-44DA-A2A2-8BEA3C4B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797-348B-4A02-BC4E-14C2B744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552-06F1-4550-9C45-8DA23AD5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184-1DE4-4321-A343-E7088A5B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D3D-4B67-47CC-9A40-6EA9C656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C3A-48F2-4592-AF58-93374693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EEE-9C54-4506-90B9-E9EA971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C16-4899-49E6-A7DB-44125466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253-55F8-4A49-A7A3-693B31F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243FE-0332-4C47-BDA1-6D811DF21E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to the world! the Lord is c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earth receive her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every heart prepare Him 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 and nature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 and nature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, and heav’n and nature 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ся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уйся мир! Господь гря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я, ликуй пред Н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ми скорей Царя ц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,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to the world! the Saviour reig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n their songs empl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fields and floods, rocks, hills and 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 the sounding j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 the sounding j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, repeat the sounding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уйся мир! Христос при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ерквах поют о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я, сады, леса, хол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,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more let sin and sorrow g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r thorns infest the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comes to make His blessings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 the curse is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 the curse is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, far as the curse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грех не ослеплял нар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терны не рос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жизнь даёт, снимает гн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, 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rules the world with truth and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the nations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glories of His righte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, and wonders of His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ёс Он мир и благо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се могли позн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Бог велик и справедл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, 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9:53Z</dcterms:modified>
  <cp:revision>14</cp:revision>
  <dc:subject>Slavic hymnal Гимны веры христиан, hymn 243</dc:subject>
  <dc:title>Joy to the World! / Радуйся мир! Господь грядёт</dc:title>
</cp:coreProperties>
</file>