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6</a:t>
            </a:r>
            <a:r>
              <a:rPr b="1" lang="ru-RU" sz="3600" spc="-1" strike="noStrike">
                <a:solidFill>
                  <a:srgbClr val="ffffff"/>
                </a:solidFill>
                <a:latin typeface="Verdana"/>
              </a:rPr>
              <a:t>	</a:t>
            </a:r>
            <a:r>
              <a:rPr b="1" lang="ru-RU" sz="3600" spc="-1" strike="noStrike">
                <a:solidFill>
                  <a:srgbClr val="ffffff"/>
                </a:solidFill>
                <a:latin typeface="Verdana"/>
              </a:rPr>
              <a:t>Услышь, Боже, плач мо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Услышь, Боже, плач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тон, и мо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ревога и уж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ли н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раги торжеству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рузья в раздво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тесно, и в горе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маю 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то дал бы мне крыл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мог я в лазу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голубь, высок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ететь над земл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чался б далёк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ылся б от бу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пустыне нашёл 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еланный пок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бман и коварст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улицах виж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ражда и злодейст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сели в сердц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от, кто мне был вс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роже и бли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товит мне гиб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злейший мой враг.</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 Тебе, мой Созда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очью, и утр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полдень спеш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горячей моль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ани от ковар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бавь от беспут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ири нечести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ею руко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На Господа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и все заб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ревоги и страх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ей возложи,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Он поддер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оет щедр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ёт утеш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ир для души.</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20:53:13Z</dcterms:modified>
  <cp:revision>3</cp:revision>
  <dc:subject>Slavic hymnal Гимны веры христиан, hymn 206</dc:subject>
  <dc:title>Услышь, Боже, плач мой</dc:title>
</cp:coreProperties>
</file>