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B12-6864-4C6D-8B43-3797D691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598-88E7-4F9D-96E3-B96EB1D5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69F-4FB8-4C2E-AA1F-03BD45F5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9B0-C295-433D-A50D-6D158CEF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C34-DF5D-414B-8E61-B6478380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67E-73C0-424C-902D-76124AB5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1A8-48DB-4B75-8480-BEDC242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9CD-6591-49D8-A315-8C2E7189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706-FBC8-4E3F-9B8D-9FD7F34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2BC-0C74-4D9E-BE65-8280607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5F4-9960-4919-91DC-5E7713B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9D6-6D22-46FA-BF9D-4BC06055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55E8E-29C2-44FD-8430-00A16E50B6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Your unfail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has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 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heart could full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lorious, how beautifu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4   Wonderful, So Wond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ful, so pow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ighty works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eauty of Your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kes my heart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rvellous, how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nders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ptured my heart with t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s beautiful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, Beautiful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46Z</dcterms:modified>
  <cp:revision>12</cp:revision>
  <dc:subject>The Source 3, song number 1634</dc:subject>
  <dc:title>Wonderful, So Wonderful (Beautiful One)</dc:title>
</cp:coreProperties>
</file>