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4D82-6DCC-49BB-B246-3D3FCC86E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3AEF-BCA4-481B-861C-3A1D444E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E4B7-0A6F-4CCD-A499-8CE8187C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DB08-B0EA-4476-82C8-88BF00860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7209-D3A7-4AA0-B805-9857E5DE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4529-F72B-477C-9242-DEA42245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42AA-CDCD-4E3E-A9D6-5322AEE1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35D4-B988-4AF4-A638-1C89226E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CA73-AA98-4376-BF69-46B9D140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1650-91B4-42CE-A5F6-099F618F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EF6E-BC39-4837-BFBA-7371F996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26EB-1E50-4F25-80D4-8B9FD3BE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D4FB2-720F-4CDC-9FD9-438086B32C6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unseen things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and His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and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блю я весть благ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а и звуки 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иру повеству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ose who know it b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m hungering and thir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ar it like the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ный на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й радостно вним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торженно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hen in scenes of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ing the new, new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e the old, old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 have loved so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звуках аллилуй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ою на выс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у же весть благ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e my theme in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ell the old, old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and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иру Бог я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Иису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 Его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I know ’tis tr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satisfies my long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nothing else can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Господне 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авать друг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о всему осно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наш создан 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e my theme in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ell the old, old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and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иру Бог я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Иису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 Его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wonderful it se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 all the golden fa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all our golden dre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тократ ми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все мечты зем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ливых детских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did so much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 is just the 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tell it now to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любовью повторя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ем радость мне да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м то возвещ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грудь моя пол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e my theme in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ell the old, old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and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иру Бог я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Иису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 Его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pleasant to rep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seems, each time I tell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wonderfully sw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ятно повтор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ушу ожив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some have never he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essage of sal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God’s own holy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другим в смир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зать и спеть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ог даёт спас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ристе и со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e my theme in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ell the old, old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and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иру Бог я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Иису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 Его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1:44Z</dcterms:modified>
  <cp:revision>13</cp:revision>
  <dc:subject>Slavic hymnal Гимны веры христиан, hymn 649</dc:subject>
  <dc:title>I Love to Tell the Story / Люблю я весть благую</dc:title>
</cp:coreProperties>
</file>