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CA2-E917-434B-B9D5-7E16B7B3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A3C-507E-49D0-B37E-D9FB29A9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D51-D703-4D10-A2A0-EC21DC8F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B72-D8F8-4585-94CF-42263337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8347-897E-4460-8E03-7428B3DC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7006-B100-410F-B32C-01446263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379-B51B-4167-B9B2-629FBF46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66C-E91D-4BBF-AEFC-22DE4C7C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E28-704D-4D92-8EAA-AB07C70B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C9E-7522-492F-BC22-9735AC40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617-B7D4-4A34-A861-8E74A546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E80-472E-47A6-9450-60941E06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49F28-79D0-49FD-8FF6-C57F26708A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roubles assail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ngers aff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friends should all fail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es all uni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ужда ли боль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а ли боль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рудностей ря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ль измен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и ли грозя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one thing secure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ver be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omise assure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will prov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 жизни сур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ое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rds, without g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storehouse, are f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m let us learn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God for our b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тиц нет амба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есни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алый и ста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с них бер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saints what is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ne’er be den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long as ’tis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will prov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т Всевыш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ую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у и пищ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мотрит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atan assails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top up our p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ourage all fail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riumph by fa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ску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путь омра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ужас охв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ера тверд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nnot take from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oft he has t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heart-cheering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will prov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су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х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им ясне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trength of 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 goodness we cla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, since we hav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Saviour’s great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ами ничто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в нас до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лости Бож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ла нам з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our strong t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afety we h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is our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will prov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ях и сомн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бед 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утеше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4:00Z</dcterms:modified>
  <cp:revision>13</cp:revision>
  <dc:subject>Slavic hymnal Гимны веры христиан, hymn 873</dc:subject>
  <dc:title>Though Troubles Assail Us / Нужда ли большая</dc:title>
</cp:coreProperties>
</file>