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604-F7BA-499F-B626-47B42733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B37-F747-405C-A210-A6F92C0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913-5145-4711-BDF7-FB11A4FB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850-85C1-47AD-8A78-9B8B7691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79D-7C92-4FAC-8420-B345782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EA6-F762-4F3B-ACA0-F5E2AAA8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388-EAF6-408D-9ADA-0B90B3A4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BEC-8CD6-487D-9F36-76BDD648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FE4-E58C-49DB-B672-93320B4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E54-8FAE-4E87-BC7A-F2DA100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5C2-DF5A-45CD-A756-E14E552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480-374C-4900-9723-0CB179F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ECFE7-988B-4CEA-A480-534D7004F3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Wither, pilgrims, are you 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each with staff in h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on a journ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t our King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hills and plains and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o the better land!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ell us, pilgrims, what you hop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r-off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robes and crown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Saviour’s lov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rink from life’s clear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ye not the way so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 little, feeble b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; for friends unseen are nea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angles round us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our Leader, walks besid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e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Pilgrims, may we travel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t bright and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elcome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to our pilgri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 come, and do not leav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8Z</dcterms:modified>
  <cp:revision>13</cp:revision>
  <dc:subject>Slavic hymnal Гимны веры христиан, hymn 613</dc:subject>
  <dc:title>Whither, Pilgrims, Are You Going? / Ты куда идёшь, скажи мне</dc:title>
</cp:coreProperties>
</file>