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7</a:t>
            </a:r>
            <a:r>
              <a:rPr b="1" lang="ru-RU" sz="3600" spc="-1" strike="noStrike">
                <a:solidFill>
                  <a:srgbClr val="ffffff"/>
                </a:solidFill>
                <a:latin typeface="Verdana"/>
              </a:rPr>
              <a:t>	</a:t>
            </a:r>
            <a:r>
              <a:rPr b="1" lang="ru-RU" sz="3600" spc="-1" strike="noStrike">
                <a:solidFill>
                  <a:srgbClr val="ffffff"/>
                </a:solidFill>
                <a:latin typeface="Verdana"/>
              </a:rPr>
              <a:t>Во грехе я утопал</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was sinking deep in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r from the peaceful sh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Very deeply stained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king to rise no mor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 грехе я утоп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нал, куда мне пл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вигался грозный 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навек покры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he Master of the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d my despairing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e waters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safe am I.</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был неда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л тихий ст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калу меня извлёк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спасё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nothing else could hel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ёмной бездны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All my heart to Him I g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 to Him I’ll c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His blessed presence l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 His praises sing.</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ердце отдаю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быть вечно с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на высо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звал рабом Свои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so mighty and so tr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its my soul’s best so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ithful, loving service, too,</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m belongs.</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любви, так дивной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всеми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ы все Христу отд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изнь мою.</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nothing else could hel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ёмной бездны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ouls in danger, look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completely sa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ill lift you by His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the angry waves.</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гибающий!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тебя спас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й силою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бездны вознесё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s the Master of the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illows His will obe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your Saviour wants to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 saved today.</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Творец и царь м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держит ярость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сь к Нему скоре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ь спасён!</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nothing else could hel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lifted me.</a:t>
            </a:r>
            <a:r>
              <a:rPr b="0" lang="en-AU" sz="3200" spc="-1" strike="noStrike">
                <a:solidFill>
                  <a:srgbClr val="ffff00"/>
                </a:solidFill>
                <a:latin typeface="Verdana"/>
              </a:rPr>
              <a:t>	</a:t>
            </a:r>
            <a:r>
              <a:rPr b="0" lang="en-AU" sz="3200" spc="-1" strike="noStrike">
                <a:solidFill>
                  <a:srgbClr val="ffff00"/>
                </a:solidFill>
                <a:latin typeface="Verdana"/>
              </a:rPr>
              <a:t>(×2)   </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тёмной бездны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спасла!</a:t>
            </a:r>
            <a:r>
              <a:rPr b="0" lang="ru-RU" sz="3200" spc="-1" strike="noStrike">
                <a:solidFill>
                  <a:srgbClr val="ffffff"/>
                </a:solidFill>
                <a:latin typeface="Verdana"/>
              </a:rPr>
              <a:t>	</a:t>
            </a:r>
            <a:r>
              <a:rPr b="0" lang="ru-RU" sz="3200" spc="-1" strike="noStrike">
                <a:solidFill>
                  <a:srgbClr val="ffffff"/>
                </a:solidFill>
                <a:latin typeface="Verdana"/>
              </a:rPr>
              <a:t>(2 раза)   </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4:22Z</dcterms:modified>
  <cp:revision>3</cp:revision>
  <dc:subject>Slavic hymnal Гимны веры христиан, hymn 37</dc:subject>
  <dc:title>Love Lifted Me / Во грехе я утопал</dc:title>
</cp:coreProperties>
</file>