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603-E29E-4C8E-AF2A-A674062C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0F8-6E86-4AC7-B1D8-747023A4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D36-3E98-4D6F-B3CE-731C56E4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753-0B4A-43A1-82C5-4E224891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E4B-CCE9-4B87-B7D9-D48748C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D8E-0991-4E9B-8E6A-6B8D2C4A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B66-678F-4CB5-8655-6F550C70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2F3-E1AD-4EBB-8DE5-5408F31C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8E6-7D05-4AE4-8A32-E51FDA0F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60A-FF30-49BE-97A1-86414EB9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1CC-DBF8-4BD5-9BFF-ACC689F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C3B-8687-4F36-87BE-866B80C5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E993D-0324-4AA9-8B3B-97AB83E2E1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we’re not in a hur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e need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all our cares and wor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ay aside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we long to see Your f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we long for Your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9   We W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we’re not afraid to tar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yearn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for Your mighty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arry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fill this house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holy fire fill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, we wait, we wait, we w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47Z</dcterms:modified>
  <cp:revision>13</cp:revision>
  <dc:subject>The Source 3, song number 1599</dc:subject>
  <dc:title>We Wait</dc:title>
</cp:coreProperties>
</file>