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1B-EE60-4A34-85A8-4EBADFC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D2-D871-4CF9-8A1A-7B69408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BF2-0AC7-45EF-9BB6-3A781DA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552-8947-456B-8589-CF9F81C2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535-0830-49C6-AE47-340650EF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CCF-67B9-454F-B527-C886D13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473-9021-426D-AA1F-23099E0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04-D316-458E-9F85-B60D35E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004-F00E-4485-AF88-18E186E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9A9-6454-4072-A7CD-E707ACE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808-BF99-416E-9425-1D7A379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FFD-0FF5-46A0-87EA-9E696D8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177B6-72E9-405F-9968-12F36DAE68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церковь ждёт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его я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идёшь Ты в све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нять её томл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, идя навстречу к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ьёшь поток любви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церковь ж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отя во всяки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пребыв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звучит из уст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Ты утеш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же жаждем мы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ть лик чудесны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именем Твоим к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ышим поно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тех, кто, горды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ли дар спас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и пред людьми я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лавы и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бодрость нам, чтоб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погасли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о тьме не сп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когда раздастся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ених идёт!» — сказать: «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ебя уже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облекшись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ем, Боже, мы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ть на брачном п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смотрим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исходит в сердце к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03Z</dcterms:modified>
  <cp:revision>12</cp:revision>
  <dc:subject>Slavic hymnal Гимны веры христиан, hymn 325</dc:subject>
  <dc:title>Спаситель! церковь ждёт Твоя</dc:title>
</cp:coreProperties>
</file>