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CF9-D385-4686-99F9-E3A64288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CA6-48A4-453D-83BF-F2EA6EE5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3B7-05BA-4486-BCC3-C0882A9C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668-E77C-409C-856A-19F1B270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238-89C5-4EB9-A4E1-66286F2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1D4-3B6E-4AD0-A915-5C9B9985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475-99F1-4B8D-B06C-C79EBE5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495-4AAD-4904-B505-83B22CEE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928-2025-4BA4-BDD4-6B9A33E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2F0-5047-4014-8827-BEB5A50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4C3-44EF-4E12-A00D-8A2FC9F3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FF0-74D1-4CB2-8C2A-49C37A6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0C3C-CDD8-4FA2-AE57-79491899EF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7:37Z</dcterms:modified>
  <cp:revision>12</cp:revision>
  <dc:subject>Slavic hymnal Гимны веры христиан, hymn 843</dc:subject>
  <dc:title>Крестный путь пред мной</dc:title>
</cp:coreProperties>
</file>