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032-AD2A-4657-82E5-8D99F4F4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DA1-EAD0-4A61-B388-E42E0C55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1B7-CEE5-44B1-8472-6DF7347B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4FC-E2C4-49AF-A7CF-49F43BBB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0CF-D33E-4ED9-9752-80A2D389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F28-3BA7-4EB1-926E-6B618800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365-1CCE-43F6-A948-8092A919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97B-B351-4F83-80BE-C866943B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688-955F-4AE4-8086-E5FBD21E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144-6C0C-4C9D-958B-1A12682F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1A5-C4A3-440E-8DE0-5B055A0F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3F5-D20C-4905-81B2-21EC7781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2D059-D3EA-463C-8853-8D9D4F88A2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чудесно змінилося моє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маю спокій, за котрим я ш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7   Як чудесно змінило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ишив мандрівни і блукання мо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гріхи всі мої, змиті з моєї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 одержав тверду і пев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більше не маю вагань, ні стра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долині смерті, є світло для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є певний, що Він є зі мною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небесний дім йду, д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е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я вбачу Ісуса лицем у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5:22Z</dcterms:modified>
  <cp:revision>13</cp:revision>
  <dc:subject>Slavic hymnal Гимны веры христиан, Ukrainian hymn 37</dc:subject>
  <dc:title>Як чудесно змінилося моє життя</dc:title>
</cp:coreProperties>
</file>