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B130-1756-4EEC-97EA-75E171E6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9E7-8F14-4E6F-9DB5-409491D3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41D3-E517-4737-B639-CDF15D48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2DC2-7DB9-4879-BD86-27BFD123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996-4FF8-4C0E-BAF2-A6CCA278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BDD4-3335-45C9-8B26-182B59F1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D2F-7BDE-4675-9196-4FE56040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E18-6549-4753-942F-BBAC3EAD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ACF-218E-423B-B169-EAC773F4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AD8-0740-4ABF-BCAC-33556CD4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FFF-2C28-4B25-B1C5-D0708A35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B32-BB6D-4844-AB4D-328E5AD0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F9B06-6EBD-4951-A142-96F9E46A378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прекрас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, друг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и ту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на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нешь на зло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радости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нешь к Иисусу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шь ты в Нём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зглянь на прекрас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сли прекрас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, друг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сли, как вет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ут на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их ты множе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е взи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олитвой лучш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би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 прекрас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, друг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д языка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пчет с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ощряй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клеве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охраняй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 путь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 прекрас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, друг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уй, как милос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 заблудш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дящих в грех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 на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27Z</dcterms:modified>
  <cp:revision>12</cp:revision>
  <dc:subject>Slavic hymnal Гимны веры христиан, hymn 515</dc:subject>
  <dc:title>Взглянь на прекрасное в жизни</dc:title>
</cp:coreProperties>
</file>