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D6B6-F912-4E61-BD49-6E0DE68C3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BA0C-ACC6-4A99-AF46-E4ECA33E6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C392-F612-432E-9FC5-3EC27237C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3DE9-2C20-421E-A59E-1AA3223A4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11B8-43A3-4BD3-88A7-771FC2609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DF25-8A35-4BE8-AAA6-6DE1CEE68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7519-649C-4369-A11F-ACE451270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05FE-C161-465F-8753-E0FA2B722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D3CA-785F-46B2-9632-BE97EFDC6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A7AF-A97F-48B6-B484-2C663658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D4EB-1141-439C-B827-9B6471729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BC79-F8C9-4EB2-85CB-CA9C83FE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43D050-B9EC-47EF-A3B1-1558DBDB38D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страдающих лю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мерно Ты люб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 рабов греха, стра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кровь и слёзы л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Вифлеема до кр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скорбей и слё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аш мир, объятый тьмой грех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Отца Ты нё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2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сподь, страдающих люд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Ты ли плакал над толп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лимовых сын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я великою душ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звоне их ок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дал бы мне источник вод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ы, томясь тос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ень и ночь за свой на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лакал бы с моль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ревни, сёла, гор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верии живу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бессильного т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одвиги зов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02:00Z</dcterms:modified>
  <cp:revision>12</cp:revision>
  <dc:subject>Slavic hymnal Гимны веры христиан, hymn 528</dc:subject>
  <dc:title>Господь, страдающих людей</dc:title>
</cp:coreProperties>
</file>