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185-689C-431E-89B0-F41B8463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FBB-0EEA-4895-9C68-370AFBD9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7A7-5869-484E-A2A9-48CF46DA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889-26C4-402F-AEB1-3604184D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E58-9D84-4BE8-AE0C-DB1D500D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6A9-B5CC-4692-A831-88B7DD0B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861-309F-41C4-B642-6F7C6788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C6E-F413-4BE7-BDB6-8B06168E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C69-DA28-4C0A-851C-CD61A8FA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5DC-079E-4D5A-A423-2E9A1D04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9DC-D75B-47BC-8DB6-8256E999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240-2FF7-4856-B8C7-343BCB12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970FB-C245-4017-8B94-4994DAF01E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our God we shall do valia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is He who will tread down our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ing and shout Hi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is King! 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Christ is King! Christ is King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od has won the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His people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word has slain the ene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arth shall stand and see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repeat from start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62   Through Our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7:13Z</dcterms:modified>
  <cp:revision>12</cp:revision>
  <dc:subject>The Source 3, song number 1562</dc:subject>
  <dc:title>Through Our God (Victory Song)</dc:title>
</cp:coreProperties>
</file>