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439C-25A4-45E3-8C20-53A5B9DF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C2E-2036-43D1-A0DF-C81335EC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6CA-EC29-4CFC-A172-378B7FA4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34B5-B2C2-4745-874C-B93E4961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02FE-87AD-46CF-92DD-7064256F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EE2-91B8-434F-AE83-8F8CCCB3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3FF6-0657-470C-92E5-DFAD3C63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D75-137C-452F-A7EA-46100321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440C-722D-478C-AF11-8C965433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3F5F-AE13-423D-B485-576FCEB8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0857-2283-45EF-BCAE-86059362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39A-7DCF-48A3-AD92-C234EE30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CB9A5-D9E8-44B4-9A01-1FD62839E3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 жи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дал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 ужасы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ынья и тос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вблизи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готов 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от муки и ог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мне под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мой живё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умраке но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д толпой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редь невидимых сет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Он мой по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пути св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данно поскользн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груди Христа тотчас склон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еплюся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же мне скорбе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ав к стопам св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готов всегда я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ва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0:13Z</dcterms:modified>
  <cp:revision>12</cp:revision>
  <dc:subject>Slavic hymnal Гимны веры христиан, hymn 461</dc:subject>
  <dc:title>Спаситель мой живёт!</dc:title>
</cp:coreProperties>
</file>