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D08-F368-4259-BDC1-D842C792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F61-A5D2-41D4-9189-726B51B3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88D-011B-4B3F-B054-E773A1E9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907-D2B1-4640-AB45-9848DDC0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FAA-D33C-47C9-B3C8-2EB7752B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8AB-22A1-4B31-AA4C-E9EE82DA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A84-3AD3-4098-AF92-2495F30C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499-1B35-4796-AE8A-BFABEFB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E1A-E5B9-4C06-B943-71462276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A58-BA7B-4CA0-8A75-3D5AD7B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DF9-4C47-4066-AE8C-34C2D59D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28E-B96A-4480-9B82-D4EC1E2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448F0-BE5D-4F02-B7AC-291488F2A1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Божьем С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юбви и добр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итался Он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 о Божьем С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с радостью и ве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другим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открыл нам д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ый рай,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лился Он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бедой на Голг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аняет Он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хвал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Его д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с Ним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Его мне жизнь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25Z</dcterms:modified>
  <cp:revision>12</cp:revision>
  <dc:subject>Slavic hymnal Гимны веры христиан, hymn 639</dc:subject>
  <dc:title>Буду петь о Божьем Сыне</dc:title>
</cp:coreProperties>
</file>