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148-C2A2-4488-9938-B9F4DC25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881-66D3-4151-8844-3ABF63B3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C7F-E098-436F-A3EA-B4ED797B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6B5-CFAA-46A0-97C5-CA5292FA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45B-905B-4A53-97B5-AB2E6E5E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AC9-EC84-4F0C-A7F3-04FB470A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368-B0D8-466F-9A28-6D312C9C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977-67CD-49E8-86F3-21B48AB8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768-B899-4769-8B25-5706526B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259-A4F9-4021-B121-13F87C84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7B5-885A-40CF-B3A9-459F65C8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637-458F-4D90-AB56-D58AE7FF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84262-99FA-478C-A8DC-4FA626F1DB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presenc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ly One is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bow before Him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reverence and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m no sin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tand on holy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presenc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ly One is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7   Be Still, For the Presenc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glory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shining all ar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urns with holy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plendour He is crow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awesome is the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radiant King of l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glory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shining all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power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oving in this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omes to cleanse and he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inister His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work too hard for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aith receive from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power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oving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58Z</dcterms:modified>
  <cp:revision>10</cp:revision>
  <dc:subject>The Source, song number 47</dc:subject>
  <dc:title>Be Still, For the Presence of the Lord</dc:title>
</cp:coreProperties>
</file>