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D86-BD65-4489-95F6-288D2DCE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C51-67EA-409E-905C-85B57453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3CF-4E8E-42F3-9974-7D1C1EF5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4AF-6172-4348-B8BD-105E7B33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8FA-391E-49B5-8DBA-60F88A92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ECC-B68B-4CC1-8357-EA8EB2D3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000-C4EE-449A-932B-CFFEC93B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7E1-1766-46E5-934C-090BE18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BF3-78A0-4676-B13C-E83F5AFA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E95-90EE-4D91-8824-A5F8EA86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4B8-FEB1-4964-8028-80AF380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ED9-9ECE-4FB8-A1F0-AA08CFA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02FB5-85D7-474A-A9CC-27648DB572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6:20Z</dcterms:modified>
  <cp:revision>12</cp:revision>
  <dc:subject>Slavic hymnal Гимны веры христиан, Ukrainian hymn 116</dc:subject>
  <dc:title>Ісус ― ім’я найвище</dc:title>
</cp:coreProperties>
</file>