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6</a:t>
            </a:r>
            <a:r>
              <a:rPr b="1" lang="ru-RU" sz="3600" spc="-1" strike="noStrike">
                <a:solidFill>
                  <a:srgbClr val="ffffff"/>
                </a:solidFill>
                <a:latin typeface="Verdana"/>
              </a:rPr>
              <a:t>	</a:t>
            </a:r>
            <a:r>
              <a:rPr b="1" lang="ru-RU" sz="3600" spc="-1" strike="noStrike">
                <a:solidFill>
                  <a:srgbClr val="ffffff"/>
                </a:solidFill>
                <a:latin typeface="Verdana"/>
              </a:rPr>
              <a:t>Молись, душа моя, молис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олись, душа моя,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а и скорби ночь про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танет день, откроют вход,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доверием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олись, душа моя,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Спаситель твой от бе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се молитвы даст ответ,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жайся и молис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олись, душа моя,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свой путь мы соверш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славе явимся пред Ним,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деждою молись!</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6:50Z</dcterms:modified>
  <cp:revision>3</cp:revision>
  <dc:subject>Slavic hymnal Гимны веры христиан, hymn 166</dc:subject>
  <dc:title>Молись, душа моя, молись!</dc:title>
</cp:coreProperties>
</file>