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CFE-75A8-49C2-A879-FFBE7260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4E3-5361-41FE-9EB1-908FB5F3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62F-FEBD-4196-9D14-B9600C7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AD7-40A2-4753-9B85-772EC1C0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8D6-962F-4339-8720-5B673AA7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653-BFB9-4AD2-9FBB-FAC79F1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7A9-23C1-4436-B881-242A6BB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CAB-C016-4708-B320-18175C6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7B3-5E5E-4479-AEE2-A1B5DC7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1CD-640A-431C-AB7A-1D0C8C8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A5A-D0FE-4388-AD9E-FDD71B8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BDC-5388-457B-A1B1-49640D5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23393-79C7-41F9-96FC-66EF60ED32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5   Воздайте славу Богу наш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ерный Бог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еправд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еден и истине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44Z</dcterms:modified>
  <cp:revision>11</cp:revision>
  <dc:subject>The Source, song number 25 in Russian</dc:subject>
  <dc:title>Воздайте славу Богу нашему / Ascribe Greatness</dc:title>
</cp:coreProperties>
</file>