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0</a:t>
            </a:r>
            <a:r>
              <a:rPr b="1" lang="ru-RU" sz="3600" spc="-1" strike="noStrike">
                <a:solidFill>
                  <a:srgbClr val="ffffff"/>
                </a:solidFill>
                <a:latin typeface="Verdana"/>
              </a:rPr>
              <a:t>	</a:t>
            </a:r>
            <a:r>
              <a:rPr b="1" lang="ru-RU" sz="3600" spc="-1" strike="noStrike">
                <a:solidFill>
                  <a:srgbClr val="ffffff"/>
                </a:solidFill>
                <a:latin typeface="Verdana"/>
              </a:rPr>
              <a:t>Слушайте повесть любви</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ушайте повесть любви в просто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шайте дивный рассказ:</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навеки простил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ли неправда потерянных дн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чит вас в тягостный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ьте всем сердцем и верою вс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сли под мраком житейских скорб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мень надежды пог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ните только хоть мыслью сво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при виде соблазнов зем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бый смущается глаз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да слышится в чувствах прост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ог нас навеки простил во Хрис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от гибели спа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40:26Z</dcterms:modified>
  <cp:revision>4</cp:revision>
  <dc:subject>Slavic hymnal Гимны веры христиан, hymn 70</dc:subject>
  <dc:title>Слушайте повесть любви в простоте</dc:title>
</cp:coreProperties>
</file>