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25E-A1A1-42D4-A5EB-3ABEFEB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558-4AE0-45AE-B78E-6C1450D4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10C-5953-44F5-97CB-C91B5725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9AA-4F67-4E80-8222-CD1C714E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C3E-A5C0-412F-85B0-099AAD5C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E01-1322-495B-94DD-6D6824A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63F-8B15-4A79-BFD5-863CBEA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0B3-2812-4A54-B5C8-6BB1D37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2B7-3AC1-4941-9219-A3327E07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691-0357-4674-B840-28850DD1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011-A7F5-4830-88EF-E91BAC6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3A9-F55C-4F35-B3A7-F6BEE1C5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0293B-33AA-455B-9727-0A1418E27F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у Святий, нам серця пробу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чни від мене, на мене дих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мо Слову: поміч Ти да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иренно, Боже, ждем,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6   Духу Святий, нам сер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00Z</dcterms:modified>
  <cp:revision>12</cp:revision>
  <dc:subject>Slavic hymnal Гимны веры христиан, Ukrainian hymn 36</dc:subject>
  <dc:title>Духу Святий, нам серця пробуди!</dc:title>
</cp:coreProperties>
</file>