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D118-88CA-4D20-91EB-808AD39C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A77-0A8D-4C0A-B63E-063F9803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4888-B783-4A20-AF56-F3EC4630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588D-2EF4-4D5D-BE43-E6DC19C2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148B-9CA3-4C10-B76F-20F36354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82B-305C-4243-803A-0BDE2A80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A576-02AF-4F71-9326-43B8BA09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964-40B2-4B0E-903C-F30DE42F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FEF-10FF-4FFD-9D7B-047F1A09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7F2-BDC5-49B8-86A5-932B4D8A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29A-1535-4203-90A5-72A35CFF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B0D6-21B4-4D3B-A2BD-30DF75BB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CF0D2-5312-4F56-B31B-CABDF193287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d with everlast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d by grace that love to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 breathing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taught me it is 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ю вечную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ю вечну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открыла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спас от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л Христа при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s full and perfect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s presence all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love which cannot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His and He is min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полнил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Божьим доро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любви святой 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above is softer bl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around is sweeter gre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thing lives in every h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less eyes have never se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стало мне р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земля красот пол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жизнь кипит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ась во мне ве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rds with gladder songs o’er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’rs with deeper beauties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I know, as I now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His and He is min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тички радостно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ля, на лес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торгом дышет гру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gs that once were wild al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not now disturb my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osed in everlasting ar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illowed on the loving bre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чера внушало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сегодня не смут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ыт в Христа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мой и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o lie forever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ubt and care and self res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He whispers in my 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His and He is min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 страхов и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 радости дрож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 Себе меня привл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orever, only 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he Lord and me shall p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h, with what a rest of bl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can fill the loving he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ов, навек Хрис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может разлуч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— надежда и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езде отрадн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and earth may fade and f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st-born light in gloom decl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hile God and I shal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His and He is min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е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одним лишь я с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знали там и 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7:09Z</dcterms:modified>
  <cp:revision>12</cp:revision>
  <dc:subject>Slavic hymnal Гимны веры христиан, hymn 856</dc:subject>
  <dc:title>I Am His and He Is Mine (Loved With Everlasting Love) / Божью вечную любовь</dc:title>
</cp:coreProperties>
</file>