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86D-0365-49EB-9527-E81A5C12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90A-6298-43C5-9C58-3D4DD9DF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98B-26B5-44FE-9CF8-179CED43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1F3-4FDC-4640-9B09-CCB641D5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30CF-6F5E-42F4-B4C7-036B49FA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10B-78ED-470B-885D-A512D92B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C007-7E0E-493B-A075-09D0DB41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1A0-EDB3-483C-A606-9F37595A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08E-16CF-4F8F-8ACB-B976AC71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8AD-33D6-4E8B-B7A5-105BEB35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A7E-EF1F-401F-9A4E-8A7538BB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655-272B-421A-ACAC-766FAA71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7B01A-B889-4768-B833-0871490E38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влечёт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еховного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им радость без ко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равде соблю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вселяет в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ую любов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огонь во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л во тьм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шь Дух Святой влеч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несёт да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аждем мы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новую везде т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сердцам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помог поз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благод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мы ждём, пр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вь и 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19:43Z</dcterms:modified>
  <cp:revision>12</cp:revision>
  <dc:subject>Slavic hymnal Гимны веры христиан, hymn 313</dc:subject>
  <dc:title>Лишь Дух Святой влечёт сердца</dc:title>
</cp:coreProperties>
</file>