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167-D51E-4957-9B18-87F1426E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D52-F5B7-4EFB-8597-BDF3743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CD7-4A07-4006-B258-88AF181F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42A-04C2-4893-86F5-155F967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FAE-CA43-4846-9669-435B95D4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873-BFAA-4225-AB5E-6606184B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032-5EAF-4A3D-80E5-3C4404D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0DD-C1B4-4BB2-B737-DA569E2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F72-E4FD-4738-8930-5C3B3D95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E3C-BA2E-4CF3-A257-9FA16E4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460-A889-425D-BA23-1015A7BC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C3F-AF65-490D-A1C7-CC53D00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14A16-5B47-4230-8ECF-4A3478CE2A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35Z</dcterms:modified>
  <cp:revision>12</cp:revision>
  <dc:subject>Slavic hymnal Гимны веры христиан, hymn 479 (as amended)</dc:subject>
  <dc:title>Таков, как есмь</dc:title>
</cp:coreProperties>
</file>