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536-9E54-4BBB-8AC5-FC18B1BE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B73-7960-48F2-97F0-3893F929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513F-0353-47FF-8211-4A4C6426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BF29-99CA-44EC-B1C9-3F50B888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0983-86EB-403C-A357-D41E5FAC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66A-DBD4-4F31-982B-9A6B30A0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537-D1B2-414C-982D-B48B5BAC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D6B4-3210-4ADF-A2FF-3108A4E6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5AA-D827-43CE-A4D7-0EAA67B1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1576-BB1E-4457-833F-8B7682DE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339B-393B-400E-B0D1-084C114C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949-4FAB-4EEA-9D8A-C1F2A337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4C3DE-0636-4EEC-895B-7004453E04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fountain filled with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awn from Emmanuel’s vei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inners, plunged beneath that f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e all their guilty s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сточник жизни Бог откры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зни Бог откр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, кого Христос ом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silent in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silent in the gra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is poor lisp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mmering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silent in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нашёл и спас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e all their guilty s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e all their guilty stai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inners, plunged beneath that f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e all their guilty st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, кого Христос ом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ying thief rejoiced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ountain in his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 may I, though vile a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all my sins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ойника в последн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ла Христова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, у ног Его склон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all my sin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all my sins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 may I, though vile a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all my sins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, у ног Его склон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dying Lamb, Thy precious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never lose its pow’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the ransomed Church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saved, to sin no 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ров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о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чрез неё войду 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saved, to sin no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saved, to sin no m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the ransomed Church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saved, to sin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чрез неё войду 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’er since by faith I saw the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flowing wounds supp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eming love has been my the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be till I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, как верой мог узр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святой кр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жив, я буду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be till I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be till I d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eming love has been my the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be till I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жив, я буду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in a nobler, sweeter song, I’ll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ower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is poor lisp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mmering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silent in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свой путь законч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ло ляжет в п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нашёл и спас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36Z</dcterms:modified>
  <cp:revision>14</cp:revision>
  <dc:subject>Slavic hymnal Гимны веры христиан, hymn 429</dc:subject>
  <dc:title>There is a Fountain / Источник жизни Бог открыл</dc:title>
</cp:coreProperties>
</file>