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86D-7D9A-4839-8FFF-5989CED4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39C-FA19-429F-8757-916F782B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18F-3600-45F2-8555-AFABD3C0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F9C-E34A-4594-97E2-E072EC4E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CC4-D725-4904-91E3-1915A72B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82B-2240-4F37-BB4F-0F9B984F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AC9-E03E-46FC-B6D5-07C4E48B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E82-8D9B-4411-A7D8-AA9A5D9E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030-58DF-4695-87D4-DFEB23FB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11D-8F60-4B9D-BC04-DE7174D5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178-4713-40E1-8340-FF783DFA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D18-3FAB-4B99-AD6B-BBC927E9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EF794-83AA-4284-B1C5-797ECEB51E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Дух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мольбе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оляю 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Триединый, Дух Свя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лежит во тьме гре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е мое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ть мне дай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ольше душ привлечь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е мое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ей всю Духа пол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любви огнём го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е мое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 Христа уж здесь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10Z</dcterms:modified>
  <cp:revision>13</cp:revision>
  <dc:subject>Slavic hymnal Гимны веры христиан, hymn 787</dc:subject>
  <dc:title>Бог Триединый, Дух Святой</dc:title>
</cp:coreProperties>
</file>