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8AE-D8DD-46A9-A108-883F72CC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5E9-10DE-4CD2-8B9D-8ED5D8DC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6C9-9634-4863-8B9A-F12788D4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A3A-027C-493E-A9ED-85B56EC0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602-8B4F-4E62-AE94-F2B7E666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AF9-E705-4BB3-AB5A-87D3366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A94-305F-46AB-B76F-AA09CF9B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DA1-A3B8-4B76-BB1F-5A3B34AC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592-D04D-4E8F-9125-7D1CD54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9EB-5A68-454C-A58E-EFA7E8A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C3C-7272-43D0-911C-8F91ABC5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78A-9DDA-44F7-AC3A-F441C4F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5B912-99EE-4DB1-A52D-7EC7CFC39A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 вест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асён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е грехи мои Ты с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умер для греха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л бы лиш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ерю вест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я Твой,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спасён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похи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, Господь,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я 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сила —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искупленный я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оддерж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десь меня хран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покой дар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меня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край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дай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мне только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Ты жизнь прерв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уж зн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 Сам введёш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радость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32Z</dcterms:modified>
  <cp:revision>12</cp:revision>
  <dc:subject>Slavic hymnal Гимны веры христиан, hymn 627</dc:subject>
  <dc:title>Я верю вести той</dc:title>
</cp:coreProperties>
</file>