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BEF-1945-48BD-AA56-60ECCB79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30F-B4AC-4ABF-A8C3-7497F63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09E-27DC-4C2B-A7B2-1E5449D5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AFC-729C-44E3-8260-9A999AFC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35F-6A48-4754-BE8A-82B34ABD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7C8-848E-4361-84AC-60682B5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A1E-3147-4431-8F67-68E8344D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D7D-5DD5-4CB5-992A-F737BE2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D4D-C5F8-4705-AFA5-86B193F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6A7-3FFA-482A-9A0E-10104A5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987-CD3D-4DF7-87F7-1E3C1B4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528-1E25-41FF-800F-E181990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6014E-3F05-4D43-8909-B951326B86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Скажіть мені, браття і 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ви зібрались і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ня лежать на дороз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рен колючий рост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емо ми в царство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ого щастя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ізь темряву чорної но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ачим світ Божого дн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4   Скажіть мені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Як дуже бажав би я з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леку дорогу пі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умка одна лиш триво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де сили знайт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слухаєм Боже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уха Святого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ші серця підкріпля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 в боротьбі подає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, браття, тепер я ли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е, що у світі я м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і в всім допо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сюди і вам помагав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раді твойого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но нам руку по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зом підемо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Божественний рай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09Z</dcterms:modified>
  <cp:revision>12</cp:revision>
  <dc:subject>Slavic hymnal Гимны веры христиан, Ukrainian hymn 44</dc:subject>
  <dc:title>Скажіть мені, браття і сестри</dc:title>
</cp:coreProperties>
</file>