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FB6-F0D0-416C-87A4-12D73491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FAA-B35B-4D4B-A259-058C834A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A04-1171-4081-84C0-5073130B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AA6-F701-40DE-8B2A-365D0DE7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087-4B6F-4421-987F-76AAD9BE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875-C439-44B6-8421-7899979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3A9-6796-4EE7-B383-E666686E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FAA-B32F-427C-ABFD-E2476091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B83-F0E1-4D9E-8D2D-865017F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E1F-1026-4E7F-A2AA-78A6F40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70C-9270-4DFC-82B1-092784A0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AD7-D0C5-48AE-B4A1-CD17C07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FFA57-7F37-49A4-AA54-132F028C51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50Z</dcterms:modified>
  <cp:revision>12</cp:revision>
  <dc:subject>Slavic hymnal Гимны веры христиан, hymn 469</dc:subject>
  <dc:title>Иисуса глас я услыхал</dc:title>
</cp:coreProperties>
</file>