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0CB-6C7D-43D1-95FB-5EB240AD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199-C07D-43CD-8D44-5551EB44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F1E-AC6B-4387-A411-3A589466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19F-A6FC-4906-A9FE-1FD56407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461-45BD-46BF-8AD3-1B8A56F1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921-3FE2-4C4B-A02B-5CC675FE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E95-B23D-48B9-993A-9A02D014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9DF-7C25-4CC4-9B89-789022D6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DF9-046C-4796-BD9F-9B53C41D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A61-9660-4339-BC79-0EFC538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E5B-63EA-4309-AC42-5D5BB60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321-ECFD-4DA9-AD2E-87113BC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2E735-99FE-4653-A5E7-7102C88D2C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b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oming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eye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heart wi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b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oming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eye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heart wi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worthy, worth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00Z</dcterms:modified>
  <cp:revision>10</cp:revision>
  <dc:subject>The Source, song number 480</dc:subject>
  <dc:title>The Heavens Shall Declare</dc:title>
</cp:coreProperties>
</file>