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879-821E-4ECA-81B9-4BD4A670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043-4F5E-4302-8C51-A60CE678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408-2309-4F4E-AC4D-926C9054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C55-C71F-45CE-86A2-9C7E920F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076-5891-440A-BFF6-CC14FF87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2CD-3E9F-49B3-BBAA-FEE2E716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126-CD15-449A-AE8C-C9F22956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91A-2C9B-4F6B-A521-183FE995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355-4F92-433A-9424-50D4DAF8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A49-7E17-46DC-8B05-104201A1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071-A826-46D7-8624-E865D419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FA6-9FC9-45E9-B46F-C792B9A9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32ACA-44F6-4212-803E-95DEDD342A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но лилия степ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цветая, оживи, душа м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рёл стремись выс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лёко к небу, в Божие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тремись к стране жел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! Там тебя давно уж ж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 Божьего прест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 весёлый хоры ангелов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овно лилия степ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олн не бойся;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мело в челноке Христа плы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 пристани при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будешь испытания св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ебя не привле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еняет мир блестящей су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ск для мира драгоценны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рак тленный, поглощён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ть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и Врач земли несчаст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жечасно дух несётся мой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вергни же стрем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енье, а прими меня к С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Своё создань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страданья от меня не отхо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ыми в часы пад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сомненья мощной верой утвер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ряди, как Царь по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наш бедный и меня воз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конце борьбы опа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прекрасный двери жизни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едь принял наказ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еянья и за грех душ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Тобою побеждё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ажёна: воцарись, мой Бог,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6:30Z</dcterms:modified>
  <cp:revision>12</cp:revision>
  <dc:subject>Slavic hymnal Гимны веры христиан, hymn 510</dc:subject>
  <dc:title>Словно лилия степная</dc:title>
</cp:coreProperties>
</file>