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1AF-919A-4DBE-BAAA-42BF29C5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58B-6699-4682-98FE-F31E1160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CAC-6369-49A1-A157-C12E60EF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6F5-02AE-4DD6-9D0D-BBAF99DA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E4D-396F-4733-869C-D66C6B24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68A-3AB1-4D13-B70C-C08837E7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F42-71C9-415B-9AE9-9308A5A6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30E-A511-457B-A156-9B80DE3D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7E6-CFAA-487C-A0F5-416B724C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37F-2B8E-4A0D-9581-2DE5029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6A7-9859-4762-9B81-A6FAD5B6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5D2-EC1E-4942-BC50-78F41C89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3C186-1C7F-41E9-95AB-7A8B18A5C9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все, кто пла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 дни живёт в тос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о Мне залог уда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лишь в Моей ру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придите все, кто пла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, кто от жа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т в лютый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, кто одна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изранен сата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горя вы тер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ас долго грех терз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к светлой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ильте пере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ши день вче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те все М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со Мной не будет стра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ы Я обмою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обижены, несчас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ерзает сат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крылья безопа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д ними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осли бурьяном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 людской живёт, гр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на призы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икнется ду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3:27Z</dcterms:modified>
  <cp:revision>13</cp:revision>
  <dc:subject>Slavic hymnal Гимны веры христиан, hymn 368</dc:subject>
  <dc:title>О, придите все, кто плачет</dc:title>
</cp:coreProperties>
</file>