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4F4-C1C7-4052-B0E3-A44D50BC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37C-3D50-4C7B-95FA-06AFD137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95D-6312-4916-8670-2A992FDB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5177-6C7D-4796-9F3F-77EBCC47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B345-7516-43E1-A9D5-B0DEEA63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D0A-5A57-4C78-8EC3-CF4929E5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ED26-88AD-49A8-BAD1-C9E04178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FC6D-9547-4D84-9A23-A5FCEF5C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37DC-F234-4398-83AB-F976685D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6E5F-0286-449A-812C-108AD357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8EE-EFD2-4608-B880-61E79048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F2AC-CB7E-47A0-BA6B-7EB5B347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2D6D7-662D-43CE-9A51-36F90FD435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жизнь возьми: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Тебе посвящ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руки, их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раю я в мол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раю я 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ноги, должно 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тезям ходить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голос, чтоб он м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Тебе, мой Царь, мо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Тебе, мой Царь, мо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7а   Боже, жизнь возь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устам достойным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ебе благовес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 и сере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зьми моё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зьми моё доб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возьми любов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у ног Твоих ст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ьми всего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, навек Твой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, навек Твой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02Z</dcterms:modified>
  <cp:revision>14</cp:revision>
  <dc:subject>Slavic hymnal Гимны веры христиан, hymn 437 (as amended)</dc:subject>
  <dc:title>Боже, жизнь возьми</dc:title>
</cp:coreProperties>
</file>