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86</a:t>
            </a:r>
            <a:r>
              <a:rPr b="1" lang="ru-RU" sz="3600" spc="-1" strike="noStrike">
                <a:solidFill>
                  <a:srgbClr val="ffffff"/>
                </a:solidFill>
                <a:latin typeface="Verdana"/>
              </a:rPr>
              <a:t>	</a:t>
            </a:r>
            <a:r>
              <a:rPr b="1" lang="ru-RU" sz="3600" spc="-1" strike="noStrike">
                <a:solidFill>
                  <a:srgbClr val="ffffff"/>
                </a:solidFill>
                <a:latin typeface="Verdana"/>
              </a:rPr>
              <a:t>Воздайте хвалу Владыке</a:t>
            </a:r>
            <a:endParaRPr b="0" lang="en-US" sz="3600" spc="-1" strike="noStrike">
              <a:solidFill>
                <a:srgbClr val="000000"/>
              </a:solidFill>
              <a:latin typeface="Verdana"/>
            </a:endParaRPr>
          </a:p>
        </p:txBody>
      </p:sp>
      <p:sp>
        <p:nvSpPr>
          <p:cNvPr id="3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O worship the King, all glorious abov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gratefully sing His pow’r and His lov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ur Shield and Defender, the Ancient of Day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Pavilioned in splendour, and girded with praise.</a:t>
            </a:r>
            <a:endParaRPr b="0" lang="en-US" sz="28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здайте хвалу Владыке влады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йте Ему, в любви Он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гучий и Вечный, Защитник наш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венчан величьем, хвалой облечён.</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O tell of His might, and sing of His grac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ose robe is the light, whose canopy spac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is chariots of wrath, the deep thundercloud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form,</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dark is His path on the wings of the storm.</a:t>
            </a:r>
            <a:endParaRPr b="0" lang="en-US" sz="28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ещайте другим, как дивен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 свете живёт, всё держится 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же во гневе судить Он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олкают напевы, трепещет народ.</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3.</a:t>
            </a:r>
            <a:r>
              <a:rPr b="0" lang="en-AU" sz="2800" spc="-1" strike="noStrike">
                <a:solidFill>
                  <a:srgbClr val="ffff00"/>
                </a:solidFill>
                <a:latin typeface="Verdana"/>
              </a:rPr>
              <a:t>	</a:t>
            </a:r>
            <a:r>
              <a:rPr b="0" lang="en-AU" sz="2800" spc="-1" strike="noStrike">
                <a:solidFill>
                  <a:srgbClr val="ffff00"/>
                </a:solidFill>
                <a:latin typeface="Verdana"/>
              </a:rPr>
              <a:t>Thy bountiful care, what tongue can recit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t breathes in the air; it shines in the ligh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t streams from the hills; it descends to</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the pl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sweetly distils in the dew and the rain.</a:t>
            </a:r>
            <a:endParaRPr b="0" lang="en-US" sz="28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ет слов описать Господню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а в мир пришла в начале ве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жит с гор ручьями, течёт к нам ре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етит с облаками, нисходит с рос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4.</a:t>
            </a:r>
            <a:r>
              <a:rPr b="0" lang="en-AU" sz="2800" spc="-1" strike="noStrike">
                <a:solidFill>
                  <a:srgbClr val="ffff00"/>
                </a:solidFill>
                <a:latin typeface="Verdana"/>
              </a:rPr>
              <a:t>	</a:t>
            </a:r>
            <a:r>
              <a:rPr b="0" lang="en-AU" sz="2800" spc="-1" strike="noStrike">
                <a:solidFill>
                  <a:srgbClr val="ffff00"/>
                </a:solidFill>
                <a:latin typeface="Verdana"/>
              </a:rPr>
              <a:t>Frail children of dust, and feeble as frail,</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n Thee do we trust, nor find Thee to fail.</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y mercies how tender! How firm to the en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ur Maker, Defender, Redeemer and Friend!</a:t>
            </a:r>
            <a:endParaRPr b="0" lang="en-US" sz="28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Мы — пепел и прах, мы — дети з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точник всех благ мы в Боге наш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ы благодати даёт без засл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наш Создатель, Защитн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и Друг.</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31:13Z</dcterms:modified>
  <cp:revision>3</cp:revision>
  <dc:subject>Slavic hymnal Гимны веры христиан, hymn 86</dc:subject>
  <dc:title>O Worship the King / Воздайте хвалу Владыке владык</dc:title>
</cp:coreProperties>
</file>