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D63-071D-4702-A457-56904FD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642-DABE-4194-96E8-9831CD9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570-458C-4690-B392-57835A22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25F-AF0D-408E-935C-BE0FC1B4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586-8F77-451F-AA9A-EAABA89E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1B4-7FA6-471B-83F5-54DB75C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4F-6383-49C8-BFFB-C63E1B0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A75-17EB-42CD-AFFF-2D8FF2D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97C-7BE5-480B-BD50-63843F2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948-C6BE-4857-97A1-28A0B65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1DA-7C0F-4D2D-A364-D7C9BBB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8DD-5657-4277-B3D2-FED3E2A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CE0BB-2DAA-4D92-9CD6-1DB0598AF6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11-06T11:18:41Z</dcterms:modified>
  <cp:revision>11</cp:revision>
  <dc:subject>The Source, song number 243 in Russian</dc:subject>
  <dc:title>Всегда удивляться я должен / I Stand Amazed in the Presence (My Saviour’s Love)</dc:title>
</cp:coreProperties>
</file>