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5EBA-A0CD-4F2F-892B-167E13B1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805E-8501-4E7C-A4DD-ABE5A6FF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E6F-0116-4ED3-A612-2E81CE16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49D6-A6AB-43CE-87C1-AC87A737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9A4D-9097-4130-87E7-C15BA701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F8D4-F669-40E1-8E85-827F8C23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10CB-A263-4514-A83C-C481B2FB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32FD-49A4-4E7A-9616-1B355A8A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B164-524D-4452-BA5E-C37D8B9F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A43F-4A8A-49C6-AF7A-6E9982AF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275A-92C1-40A9-ADD0-BC4AD9CD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0606-E38F-4F0B-BDD9-C920E423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4997C-B8D2-4C0D-A7DD-155BEC92997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untain mak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cean ta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impses of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rn in my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ship of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s up the sk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89   Mountain M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made it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id: “let there b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at we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und of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ks of Your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ar creat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nd bre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trokes of Your beau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ushed through the clou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ght from the heav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uching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made it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id: “let there b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at we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und of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ks of Your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magination runs w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reathes the breath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cross the fiel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cross the m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made it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id: “let there b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at we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und of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ks of Your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7:08Z</dcterms:modified>
  <cp:revision>12</cp:revision>
  <dc:subject>The Source 4, song number 1989</dc:subject>
  <dc:title>Mountain Maker, Ocean Tamer (You Do All Things Well)</dc:title>
</cp:coreProperties>
</file>