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3EB-F256-43B2-9966-0FDFC978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63A-0B0E-4B09-A678-2103005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68D-0F0B-444C-B561-747D8BFB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6E9-471A-41DE-829D-588822E1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AF4-A820-45DD-B79D-1898964D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1C1-15C8-4652-9DDB-7C5F791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DA2-5D5C-4D72-AF40-5057E3D6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C7D-1340-4B92-BB0B-2772E2A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3BA-B639-4A9F-AC06-DF03C010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2BD-3481-45EC-BC20-6997653B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974-1A14-42FE-81CD-B170B81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BA6-5C56-48EB-ABBA-A217FD2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F0D0E-2804-46A4-9D20-975694B7BC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жизнь Ему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призывая, Он даёт и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страдая, взял твой грех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ерь Его сло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бой за Ним вступ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битва злая, ты ж не ун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уша больная слаба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ерь, победа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Христа взи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не забудь о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сияя, день горит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дь земная исчезает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Нём пребудь, о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труд свершай ты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ой день кончая, в Нём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а святая приготовит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Нём ищи тво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жгучей взор твой у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няют тучи вид Христа крас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е, в царстве рая, горе позаб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будешь ты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12Z</dcterms:modified>
  <cp:revision>12</cp:revision>
  <dc:subject>Slavic hymnal Гимны веры христиан, hymn 363</dc:subject>
  <dc:title>На Христа взирая</dc:title>
</cp:coreProperties>
</file>