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A3D-8A49-4C56-8CA1-41FB61CA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275-2765-4F95-B774-C968D804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AD5-5523-4A0C-9C75-80A47E3B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174-0EEB-416D-AF14-C560C07D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D18-95A6-478B-B085-66872B17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A17-45C8-4AC6-ADBF-7BDDBF49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9D1B-7CA5-4255-9C03-8399F286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6F2-CC5A-48E7-87D0-D4CA9C1D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7BD-AA4B-4382-90A2-9DCB842B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DB2-C902-4337-8399-771CD77E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A2B-DD14-4685-96D3-37DEC4EC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20E-A4E5-400D-B0F3-E2BE2FFD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7005D-8274-42F1-9331-4344D20311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Когда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мерть Свою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с любовью, как к друз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хлеб,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ломив, им всем ра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слова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рузья, примите, ешьте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тело есть Мо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когда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с вином Ты чашу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, о ней м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ия есть кровь Моя», — с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е пейте из не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т новый Мой завет в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ам, друзья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е всегда творите 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вспомните Мою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же кровь Твою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ую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истерзанную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спомнить в этот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Господь, всегда во в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мыслить лиш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Ты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ко уми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6:29Z</dcterms:modified>
  <cp:revision>13</cp:revision>
  <dc:subject>Slavic hymnal Гимны веры христиан, hymn 727</dc:subject>
  <dc:title>Господь, когда ученикам</dc:title>
</cp:coreProperties>
</file>