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E68-41D2-4235-8E3C-947B1D0E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E3A-486F-4F04-B31F-95B8ED7C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4BB-9B44-40F2-B6ED-D894E254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6E6-8C15-47F0-AD68-6CA86506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509-A23C-47EE-B930-A4F69E85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954-0076-4770-B8E1-7B2A85CB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A4A-3AE3-4AF6-8560-8ACE092E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FAA-0BC5-4894-BFB0-B5FE23DC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300-6DDE-4B79-AAC2-187421D6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FA5-C56F-4B0B-A6EF-1DBADB87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89A-E49C-474F-8812-FF85204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A5E-BA97-4AFE-BE95-F7384D2D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E6111-1667-4BF3-A7D3-8C8E548D06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O blissful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our Saviour, heav’n is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’s toiling ended, O glorious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when day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 з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лавное ут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приме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заботам, светает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зем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no clouds will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torms will threaten, no fears ann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ay of gladness, O day un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eternal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нет места ту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м житейским, страхам зем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наступает радостный, лучш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отдых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a hand will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the Father, whom I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ious presence, His word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my portion on that fair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Того уви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за мой грех был изъяз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ышать,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чего жаждет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O glad re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dear loved ones who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n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fair homeland, we’ll know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оеди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и, кто раньше в вечность у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разлуки, там душ об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ухода с эт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9Z</dcterms:modified>
  <cp:revision>14</cp:revision>
  <dc:subject>Slavic hymnal Гимны веры христиан, hymn 683</dc:subject>
  <dc:title>Beyond the Sunset / После заката</dc:title>
</cp:coreProperties>
</file>