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2EA-62CE-4876-A284-FBD417FB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0DF-B545-4BD5-A188-7E58F9F9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7BA5-B7B4-4117-BFE4-8732CE75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C62-987C-46C4-8FDB-30310AFB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DC2-B00C-49AA-8A63-05E6E0CE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46F-472E-46E0-A699-89BF64A8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C3F-C71F-4912-8A93-D8F2C3DD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AF8-9FC5-4C1E-ADE6-644B655A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82B-1F10-473F-B701-02B5831D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CD4-A996-4EC9-A639-75AB0F36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E0F1-3083-4683-B18C-28403B9E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2A1-6348-4970-A094-63D7D978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DAC6B-E010-4723-8CFB-3EE1580D68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care not for rich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ither silver nor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make sure of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enter the f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хочу не богат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не богат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азны сере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бесного Ц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енья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pages so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, Jesus,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й спас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же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раницах свящ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my sins they are ma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the sands of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y blood, 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ufficient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мне много пор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еску у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х рек и пото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Иисуса силь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y promise is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bright letters that g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your sins be as scarl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make them like snow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правды нам д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яет нас все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ех, как пурпур багря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лю Я, как снег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that beautiful c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mansion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glorified be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ure garments of wh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од дивный,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 дворцах веч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любовью согл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сь в белом од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evil thing com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espoil what is f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angels are watc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my name’s written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уш яды не трав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 безвестно серд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де ангелы славя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28Z</dcterms:modified>
  <cp:revision>13</cp:revision>
  <dc:subject>Slavic hymnal Гимны веры христиан, hymn 620</dc:subject>
  <dc:title>Is My Name Written There? / Я хочу не богатства</dc:title>
</cp:coreProperties>
</file>