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F69E-F6F0-47F3-9E29-C8DFFA1F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5F86-55E4-43E1-8EA9-BCF06833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F7BA-C8BF-4D2D-B553-9889E57CD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405F-3BDD-4D0E-A9E9-80416F255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1D3D-0567-4967-B482-4D3E64E1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ACEB-1F6A-4283-AB91-8FADC6B8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CD80-121C-4825-AE8E-C050D242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0326-0EF1-4DB9-9E50-47820CAF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38C9-1062-47B2-827D-9983F1FE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4F9D-42EE-4BD7-9606-A7244396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79C2-6C34-4210-BD42-83361909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0C77-697E-46DB-9E01-DE8FE3BA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B65E5-2966-475D-94B6-31D2D9165E5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я ли в воинстве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всю жизнь слу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хочу ль я скорбь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радостно дел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капли крови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роз ли мне ж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от, хотят чрез ров ид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ль в страхе отста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я ли в воинстве Хрис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а ли нет перед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лышу ль зов к борьб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мир красивой суе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анит меня к себ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нет, кто хочет побе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должен в бой вступ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бой иду! Христос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— слабый — с Ним ге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1:49Z</dcterms:modified>
  <cp:revision>12</cp:revision>
  <dc:subject>Slavic hymnal Гимны веры христиан, hymn 456</dc:subject>
  <dc:title>Не я ли в воинстве Христа?</dc:title>
</cp:coreProperties>
</file>