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84A-DCF5-471A-8E7C-C874EB12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749-7A75-4271-96BB-776B669C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DED-FFA4-43F2-9A97-C0557326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BD3-A4DA-47F3-AE05-198D9C90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2D9-2955-4E09-8AF6-0595FC58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B3E-3626-4103-BA07-94351AE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5AB-C1AE-44E1-9367-F2883DF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014-8CE3-4DCE-82A7-103EE8B9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4C8-7E64-44DA-AE51-A7F7A1AC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B83-B898-4C79-82D2-7BCD6DD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E12-9DCA-43C5-8838-C301E08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270-2A95-4E61-BB5A-C5EE83E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F2DEA-3480-4F0C-8A44-D2AF770C21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the shadows are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gh seems the path to the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, sometimes how the sw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empests down over the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how long seems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times how weary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iling in life’s dust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ock’s blessed shadow,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near to the Rock let me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blessings or sorrows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climbing the mountain wa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ing the shadowy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29Z</dcterms:modified>
  <cp:revision>12</cp:revision>
  <dc:subject>Slavic hymnal Гимны веры христиан, hymn 844</dc:subject>
  <dc:title>The Rock That Is Higher Than I / Бывает, сгущается тьма</dc:title>
</cp:coreProperties>
</file>