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BFC-04E5-47B6-8832-9AA7AF43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1E7-97AE-4244-B872-D9CDE22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46A-C6E5-42D4-882D-8C85DD68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902-1DBA-4C1D-84F3-3018D52D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D6D-0037-49AD-A175-71C3C412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B30-F997-464C-BE51-8693B7C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9DB-21CE-437B-B665-A2CA810C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09B-826E-4034-B867-F97EB2A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FF3-32EF-4045-A7BE-7FF55ABE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36F-79DC-4571-9139-0135E8C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9C8-72C1-43A3-8834-87C6486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F82-3C0A-4DFF-A39B-DE57851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5BC92-0BD7-4763-931C-F7B3B6E8D2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14Z</dcterms:modified>
  <cp:revision>12</cp:revision>
  <dc:subject>Slavic hymnal Гимны веры христиан, hymn 666</dc:subject>
  <dc:title>Иерусалим прекрасный</dc:title>
</cp:coreProperties>
</file>