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EFD-0228-4CBF-8B40-7F7C8843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8F3A-F58C-4B39-BA31-7440A68D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613-9AFD-46AE-957A-83792B40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A87-B889-4FCE-8316-19AEB532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A99-2ABA-4805-AE6F-35D5E1B0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7CC-80BD-4CD7-BCA0-D7C152AE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389-2C6B-42EF-8320-17FB7476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264-1916-4EC4-965F-4C8507BD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1EF-3737-487D-932A-7167A89C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2F1-AC56-40C8-BFFD-942F4E9D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14D-519A-4122-9BDD-B51107B9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18B-23AD-40CA-B320-13F52A5E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53FA0-4BD5-432B-987E-8E6974CB6D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without one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at Thy blood was sh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Thou bidst me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9а   Таков, как ес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без дел, без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вши с радостью Твой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верою в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and waiting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id my soul of one dark bl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 whose blood can clea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sp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не смея ж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то меня мог оправ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познавши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though tossed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any a conflict, many a doub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ghtings and fears within, with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для всех чуж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мненьях, страхе и боль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ый бурею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poor, wretched, bl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ht, riches, healing of the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a, all I need, in Thee to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увидел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Тв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Отец, моя сем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Thou wilt re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welcome, pardon, cleanse, r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Thy promise I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путё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проложенным, прям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навеки быть Т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27Z</dcterms:modified>
  <cp:revision>13</cp:revision>
  <dc:subject>Slavic hymnal Гимны веры христиан, hymn 479 (as amended)</dc:subject>
  <dc:title>Just As I Am / Таков, как есмь</dc:title>
</cp:coreProperties>
</file>