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38D-D87E-459C-8223-40447B1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273-4A38-4C23-9251-475B689A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3D5-1CAD-4287-BB7B-FA294653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608-8C8F-4392-912E-06727198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BD1-517E-4507-A377-AB3DA96B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BDF-7007-45F3-9E3D-966CFB7C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81D-926B-46D7-AAD6-3D73B38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2C7-1A07-44C0-B6E6-9BF279F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450-6EF4-468A-A41C-0E3FE07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DB8-4487-44AF-8814-D8C798C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46C-3BBE-4171-A362-CAE35FAB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4BC-8249-4A43-9E7E-6E786DC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E3905-6F28-44CA-82DE-989165C4D4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тая вьюга, как з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-то рыдает, из сил выб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 горемычный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о, в подвале каморка уб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о в ней и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лишь два стула да к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ёхн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ом окно за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иумолкнут, то снова в ры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разом нач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не знают, что мать без с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мочка!» — громк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олодно, мамочка, холодно, мил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очка! кушать хоти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 уж не слышит их песнь уны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юга доносит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Боже, о, где ж состра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людская люб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безнадёжных одно уп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! спаси бедня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47Z</dcterms:modified>
  <cp:revision>12</cp:revision>
  <dc:subject>Slavic hymnal Гимны веры христиан, hymn 779</dc:subject>
  <dc:title>Воет, бушует и не унимается</dc:title>
</cp:coreProperties>
</file>