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0D6-195F-4AFD-A182-EC8B09D5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FBD-033D-42CB-93BA-8041E81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35B-6E0E-4325-B4CF-A6DC4F61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910-87B6-4BDF-BB92-556B15D5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780-3D68-473A-B208-FC465259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760-329E-4A04-AED6-9DA532A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D39-229A-4055-9026-4DEDCB28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4E2-BDB0-43D0-A87F-B12547CE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C47-D68B-46F5-8002-7ACBBA62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946-E163-4431-8560-3017602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CAF-C6A1-46A0-BB39-4BCC48F5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2A7-27A2-4982-A96F-D46CF57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71EF4-3A5C-406B-B054-85686AAA3F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06Z</dcterms:modified>
  <cp:revision>12</cp:revision>
  <dc:subject>Slavic hymnal Гимны веры христиан, hymn 480</dc:subject>
  <dc:title>Утешайте малодушных</dc:title>
</cp:coreProperties>
</file>