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6825-6682-4A27-8066-090BB761C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32DE-9F21-44BF-9E7A-037A9731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EB39-63FA-46A9-B5D4-6A01F604C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717B-F048-4D33-939B-A5ECCA2A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C9AB-191B-4B88-955A-8B63482E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A865-6F78-4CA5-A38A-CAE0F268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5D0B-6090-40E2-AC8F-1B6471BF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E72C-9E26-4522-A4D4-AD5C35BF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9FB8-EA29-43EE-9841-CFE6012E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170A-28C6-404D-85BE-EC1DDF2C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39AC-859B-405F-831A-FA67F25E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3420-578B-442B-BA09-73EE410F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6E240-AF74-4B48-ACA1-6B707DA2A78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m have I in heaven but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thing on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desire beside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eart and my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ny times they f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there is one tr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always will prev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29   Whom Have I In Heav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the strength of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the strength of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the strength of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 portion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2:56Z</dcterms:modified>
  <cp:revision>12</cp:revision>
  <dc:subject>The Source 3, song number 1629</dc:subject>
  <dc:title>Whom Have I In Heaven But You? (God Is the Strength of My Heart)</dc:title>
</cp:coreProperties>
</file>