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0E8-A0C7-4189-B034-2A321ACA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BAA-09D5-43BB-8D39-0ABC674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872-665F-436C-BE75-F888F263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A74-20B2-4DE5-908F-FB0CBF1F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075-6303-4397-9011-4A786C25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FA5-9F05-4437-90CF-ED9BA8CB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08E-A703-418E-B75F-70CBE248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BF9-70A8-437B-A99E-C0550077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07C-B015-4B85-A663-EA91809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9D3-D439-4DD1-A239-A5D2F0F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C07-4F93-4EE4-93CA-668156D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FF5-4A2B-426B-9527-D871F5D1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84317-4556-40E5-9101-CD6F0BEE0C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Христос і спит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аланта, про талан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скажеш Йому про талан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аланта якого тобі д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 талант, умножай тал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, мій брате, твій тал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 талант, умножай тал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талант який Господь тобі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8   Коли прийде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28Z</dcterms:modified>
  <cp:revision>13</cp:revision>
  <dc:subject>Slavic hymnal Гимны веры христиан, Ukrainian hymn 98</dc:subject>
  <dc:title>Коли прийде Христос і спитає</dc:title>
</cp:coreProperties>
</file>