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ECC-285A-4A48-B942-49294685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C26-1C71-4F85-9F18-A49476A3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C9D-DABD-4DEE-B3F0-DAD14FF8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A4F-0847-4C5D-A821-B5AA476A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AF6-64E9-4BAD-ADEC-80F9E79A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096-C40E-43D7-8EFB-56483C80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F42-0FF9-49ED-BE5A-3D81929B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4EC-BC67-40D7-94AB-51819964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ED6-85A1-4921-B1C1-B7912B39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617-136D-4CCF-ABF5-F22E75D7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9D9-C5F6-497A-A11E-EC6B6FA7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B1C-F88B-4A8D-9557-0ACF8BE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79EBC-CCE3-4519-9673-8B8311366F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в я Ісуса, життя я не 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ами обнятий, у тьмі я блук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, як почув я Господ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дрися, душа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9   Не знав я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втомлюсь в житті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спокою й душі в світі ц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 чую, ллються небес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”, то ві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і довіривсь, тепер з Ни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смертній долині, без страху я 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не залишить!”, слова чую з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г наш 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00Z</dcterms:modified>
  <cp:revision>12</cp:revision>
  <dc:subject>Slavic hymnal Гимны веры христиан, Ukrainian hymn 49</dc:subject>
  <dc:title>Не знав я Ісуса, життя я не знав</dc:title>
</cp:coreProperties>
</file>