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FA7-450E-4487-BC19-AD1FA5BC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007C-9697-4E96-84A9-96BFCF8D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49AB-C3F1-4AF3-A488-543F86A8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0A7-EE8D-4F58-9ED9-A9B50E00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037-1983-48F8-B0FF-28DC7A59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B79E-1892-4FB8-A4FC-CB1E6C74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B19D-6CC0-4323-9A78-B84DA800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359-D7FC-4ED3-B9F9-050BA08D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901-6B54-4518-8DCC-1D2C7DB8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4FF8-BF07-47B6-9049-07AB3CFF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188-1CA5-4CEC-83EE-F989DA26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7E5-BFA6-466D-9F0A-B5DEF691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31473-96C5-4122-8565-901422DB06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агрянице стои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рновом венц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го спереди связаны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скорби глуб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едном л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жалости к людям и му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багрянице стоишь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телом скорби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люд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позорная пытка ужас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шный час для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равненно боль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, что жертва для многих нап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любовью го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яя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нежно объять мир стремило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многим понят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лпа над Ним злобно глуми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кипетр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лени скор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равствуй, Царь Иудейский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ич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затекшие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я всех ц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остниковую палку влаг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или тростью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колючкам в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 впалым ланитам хлест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евали в лиц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лилася с че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они всё сильней хохот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традал и терз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порочный над Богом глум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, о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Спаситель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так тяжко том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10:15Z</dcterms:modified>
  <cp:revision>12</cp:revision>
  <dc:subject>Slavic hymnal Гимны веры христиан, hymn 285</dc:subject>
  <dc:title>В багрянице стоишь Ты</dc:title>
</cp:coreProperties>
</file>