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42D-486A-47A0-8563-F876D093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F7B3-F8D7-4812-B3D2-71FB7EE5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FA9D-84DC-427D-91D7-55BEF318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D651-4565-4DE8-A9B9-170AE3FF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8897-2388-4D67-BD03-EE05A114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966E-8646-4C8F-BAB9-B8C08789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7D08-91D0-4C07-B021-CC497D6A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3F87-6324-4AA2-8B66-20255ADD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85F3-3540-40A0-A018-188B5905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E097-3EBA-419A-BD53-BC992562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A587-18E3-4434-BB79-6D335F6E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2388-13C4-4383-91E5-EC645284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C493A-C884-48BA-A215-07740383347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тільки ві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тільки ві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все можливим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тільки ві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2   О, тільки ві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5:30Z</dcterms:modified>
  <cp:revision>12</cp:revision>
  <dc:subject>Slavic hymnal Гимны веры христиан, Ukrainian hymn 112</dc:subject>
  <dc:title>О, тільки вір</dc:title>
</cp:coreProperties>
</file>