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8a   Awesome G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rolls up His slee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ain’t just putting on the ritz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thunder in His footste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ghtning in His fist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wasn’t jo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kicked ’em out of Ede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n’t for no rea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shed His blo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return is very cl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you better be believ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sky was starl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void of the nigh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poke into the dark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eated the ligh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dgement and wr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oured out on Sodom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and g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us at the cros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ope that we have n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quickly forgot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8:56Z</dcterms:created>
  <dc:creator>John Zaitseff</dc:creator>
  <dc:description>Graham Kendrick (compiler), The Source, Kevin Mayhew: Buxhall, Suffolk, England, 1998.  ISBN 9781840031201.</dc:description>
  <dc:language>en-US</dc:language>
  <cp:lastModifiedBy>John Zaitseff</cp:lastModifiedBy>
  <dcterms:modified xsi:type="dcterms:W3CDTF">2024-11-14T22:44:55Z</dcterms:modified>
  <cp:revision>4</cp:revision>
  <dc:subject>The Source, song number 418 (as amended)</dc:subject>
  <dc:title>When He Rolls Up His Sleeves / Our God is an Awesome God (Awesome God)</dc:title>
</cp:coreProperties>
</file>