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C61-78AB-46EA-8A26-AF3492B0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CCB-8D19-46F5-96B3-C6AA889A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123-D10A-4434-8CE4-E5605411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A21-B807-428F-9923-6FAEEB52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779-10A1-40DE-AF15-3D76BFD3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540-459C-4DC2-BDF2-58BF9307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C91-08F7-4BDD-8AF0-DF1E63D1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565-6F86-412F-8F30-9CACA55A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1CF-B745-4F8B-AD0F-3A65A23D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FFF-A14A-4D58-82F1-5C9F2540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887-A337-4F37-AD69-20D3CA9E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D61-5E51-422D-B6E1-DA109601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1669D-96DA-4B71-9DDB-DCFDE32B10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me to s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8   Бог є лю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о велике щас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любить Він і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t me Jesus, the loving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t me Jesus, who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; ми Його не зн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Він нам світло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in bondage of sin and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in bondage, by sin ensl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. Ми гріху служи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― нам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, Himself He g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, bore all my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 will praise Thee, Thou Love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 will praise Thee, while life shall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паситель вмирав за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Відкупитель спасіння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буду величати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славить Твою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3:08Z</dcterms:modified>
  <cp:revision>12</cp:revision>
  <dc:subject>Slavic hymnal Гимны веры христиан, Ukrainian hymn 78</dc:subject>
  <dc:title>I Know God Loves Me / Бог є любов, о велике щастя!</dc:title>
</cp:coreProperties>
</file>