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BA5-1D3D-4897-89C3-93579B03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252-8A2D-4BB0-BEE1-68CCADEE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DD44-7A66-4F00-A908-0611ACA5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2897-C601-499F-9D0B-96F8D43A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DF89-5E38-4C41-A266-69E2A9DF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26A7-135B-4F06-B569-0F4A2CFD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97C-5613-42D9-A329-82A98259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F0DA-AA7F-4693-90CF-33CD218F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814A-990C-4582-ADBC-987C0185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631-6DB4-498B-9030-37F8FFD5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170-FE65-49E9-AF72-025EC0C1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561-BF8C-4B5B-9852-8E6F030F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D736A-2AAD-4537-91F1-EC12637C3DC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очи веры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утратил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надежды крылья всё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если б к Тебе меня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бросил за с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дежду, как меч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любовь была б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 любовью был бы Ты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б очи веры,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огда б любовь ост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енился сует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ы бездну устран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 мною и Тобой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18Z</dcterms:modified>
  <cp:revision>12</cp:revision>
  <dc:subject>Slavic hymnal Гимны веры христиан, hymn 441</dc:subject>
  <dc:title>Если б очи веры, Боже</dc:title>
</cp:coreProperties>
</file>