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326D-CDD0-41F5-9ABF-B4C317FB6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0EB6-9137-4FA9-A33E-303C33B43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AD78-7CB5-44CB-A542-71048E6C9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AE9F-8A7A-4B4C-AD7B-D4314610E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D244-3C54-4B66-AA2E-9133EB56B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508C-3552-459F-A1D5-FD3D91E2E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A113-3CA6-4C54-BF7F-D19AD02DC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FDDC-1745-4A54-A3C1-DFE799B06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93DB-F646-4D66-8264-29F41D477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7EA7-87EF-4282-B8F9-AB239D471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1C6A-EE65-49F3-837D-85185D6C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8F82-BFAA-4632-8CF7-FCA98BC94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EA7DFA-3DAE-4881-B4CC-11B7A1C4E28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enly Father, Lord God Almigh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are the Potter, we are Your cl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uld us and use us for Your great servi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ght of the world, shine through us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32   Отче небес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тче небесний, Боже могутн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Утішитель, Дух правди 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юди присутній і Всевидюч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ь тут між нами, нас просві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enly Father, gracious and lov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uide us, Your children, from day to d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dwell among us in might and pow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less us, be near us, humbly we pr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тче небесний, скарбе ласк многих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с, Своїх діток, не забува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йди, вселися в серцях убог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лагослови нас, щастя нам д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now upon us in all Your merc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us Your peace in this world of strif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rmly unite us in love and friendshi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s is the praise for ever.  A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тче небесний, збав нас від сквер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чистотою душу вкрас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Твоя ласка радість нам вер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с із неволі, Боже, спас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8-08-02T00:57:57Z</dcterms:modified>
  <cp:revision>15</cp:revision>
  <dc:subject>Slavic hymnal Гимны веры христиан, Ukrainian hymn 32</dc:subject>
  <dc:title>Heavenly Father, Lord God Almighty / Отче небесний, Боже могутній</dc:title>
</cp:coreProperties>
</file>