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0C8-0CE6-40BA-B7F3-DA3796A8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445-BC30-4B72-B8D7-9EA0D908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A3A-202F-4628-802C-56794C3E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072-791F-4520-8803-58D71B73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C1F-D195-4247-8BC6-4CFC807F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293-BFCB-436B-BF4A-2C288A70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70D-B3BD-4992-8D84-BD91AADF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923-AFF8-4DEB-AC4F-946A17C1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4CF-7833-40EA-89CB-260A778F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5F2-928B-4E54-B498-0F97ACE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086-F60D-4431-B165-2E331183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8E2-FC95-4C3C-B4DF-BC1C43B5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C3609-21C1-45D8-ABE4-B0A76CD090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у Божу м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старенька вже в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ригадую минулії дав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моя мати знай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пасіння 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буду я часу щасли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3   Книгу Божу м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ю: про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читала мати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в, страждав, вмирав Ві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уважно слухав в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за тебе ц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―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ворила мати ― ти Його люби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 давно, давно я ч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лів тих не заб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ені ця Книга ― світло на шля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лова Христа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вперед за Ним 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о щастя хочу вічного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11Z</dcterms:modified>
  <cp:revision>12</cp:revision>
  <dc:subject>Slavic hymnal Гимны веры христиан, Ukrainian hymn 73</dc:subject>
  <dc:title>Книгу Божу маю я</dc:title>
</cp:coreProperties>
</file>