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9AD-B616-4C3E-B1E6-581149BD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396-4B28-4F9B-9378-85B2527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434-660D-4BB2-9E27-5B938097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5BD-748C-438E-89A2-418DAB57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292-48D5-40FE-9D81-2769C50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186-26F1-429C-9703-D46BEB8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5A0-F637-45E3-BA31-EC9C4D71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FED-09BD-4E96-BBF9-2AF27F6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3E9-9658-4B7E-9250-5DB81E9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A13-B88F-4679-9BB5-3D6584A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889-5F52-4149-A492-52B8C65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681-63F0-437A-9CE0-DA1FF3C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06B0D-AE54-4873-8052-7DC1C180C4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сюду страданий и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ен наш жизне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ы жизни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грозя захлест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чалены добрые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нередко туманит с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арче, усердней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шла стороною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всюду стр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свою мы грехом иск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теперь оправ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лнии нас не ср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каяться, плакать,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уете постоянной,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егко соврат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, наш Небес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нас научить и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хочется всем нам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оды собирали м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мы страждем и плач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 в наши душ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46Z</dcterms:modified>
  <cp:revision>12</cp:revision>
  <dc:subject>Slavic hymnal Гимны веры христиан, hymn 506</dc:subject>
  <dc:title>Сколько всюду страданий и горя</dc:title>
</cp:coreProperties>
</file>