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7A4-F62E-4186-9D64-65319569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C02-B9CA-49A1-87B6-B274AFF2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96B-BFF7-4735-AC5A-79746FE0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0C1-984C-4EFC-9D7A-82529094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0A6-3ED5-435F-A246-F78D90D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5CC-BB02-4A15-8616-826B722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30D-5217-4357-ACA9-34C57459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03F-7206-44E5-8A70-8A6E1A5F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58E-8FCB-447A-B8A0-53B20280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F36-B543-4872-9B15-B7DA604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8DD-B369-4A9D-B9DA-B649EE2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3E2-159A-4D83-889B-183247A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9D081-6F87-40CB-8E84-6ACE91072D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18Z</dcterms:modified>
  <cp:revision>12</cp:revision>
  <dc:subject>Slavic hymnal Гимны веры христиан, hymn 804</dc:subject>
  <dc:title>Свят, свят, свят Господь Бог</dc:title>
</cp:coreProperties>
</file>