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675-CF2F-42FF-8514-A5974E6A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823-FBBA-48DF-B91F-8259CEE7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6B0-8EE8-42C9-9FED-C3E9B437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45C-CF7A-4C31-B16A-3B794AC5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4BA-6B08-4EE6-B466-8C8A82F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1B2-BA26-43C6-A5B9-FAB94B0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605-76D2-43B9-988D-E5166334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309-CCB7-41A3-9319-75381AD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F7A-5EBF-44FB-AAD1-A855A84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1EA-E26E-441A-AB84-BBC03F3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E02-F26E-47D5-A02F-4216773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9DB-1744-4C9F-B4BB-16807727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6FF88-E520-452B-8C51-0642E959F2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вечног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 Спаситель давн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Он на пришельцев взи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встретит у в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ечных об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любимых мы встретим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ньше нас ушли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 Божию там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они поют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ретенью Бога готовься,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остаться вне две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ославить душой восхи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38Z</dcterms:modified>
  <cp:revision>12</cp:revision>
  <dc:subject>Slavic hymnal Гимны веры христиан, hymn 657</dc:subject>
  <dc:title>В вечных обителях вечного рая</dc:title>
</cp:coreProperties>
</file>