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875-D1FD-4442-BE2B-C6F399E4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39E-1A2B-49CB-9FC8-438553B8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B6B-C3E4-4752-9408-5649CCB9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28BC-1523-4573-B523-9A276EAC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E27-79B4-4D7D-AD66-92216160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0EB-B18F-4B8C-9610-55A44EBA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02A-15E9-4CB6-B6D8-544E3EC9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80A-F20A-408D-9572-3A939BAD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D1A6-A724-4386-A8AF-FFFD4C0A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9BF-1D18-499E-A1A9-B5978CA7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A7E-87C7-4A91-A3EF-446DD2F9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40A-AFBF-4946-A03F-212A9A51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D4073-9DE1-4650-A3DC-62F103DA4D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make me lie down in green pastu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make me wanting for noth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fill my hu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oney from Your sweet, sweet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671   Водишь к лугам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ишь к лугам Ты зелё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боюсь зла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, как мё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толил мой голод, дал мн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let me worship bef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I can love and ador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my Shephe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my Jesus, You are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едстою пред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сней любви, с хвал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Ты мой Пасты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Иисус, Ты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7:28:16Z</dcterms:modified>
  <cp:revision>9</cp:revision>
  <dc:subject>The Source 3, song number 1671 in Russian</dc:subject>
  <dc:title>Водишь к лугам Ты зелёным / You Make Me Lie Down in Green Pastures</dc:title>
</cp:coreProperties>
</file>