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E2B-9AB4-4977-B46C-3DCFDBE8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6E8-6315-4C63-A356-1045BA0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BE1-84AC-4697-9C12-17D354B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82A-0F9B-4CD6-86C3-419B310C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287-40A9-48FD-81D7-EB4DB49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094-E08C-42FF-BAA6-3C7D2709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603-FA4C-4B98-90DF-524AE48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B07-8679-468B-B1AD-81F3F8D1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D55-DB97-4B07-AB77-0BB65AA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937-CC88-452C-92B5-4C01294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D91-71DA-436F-94A1-C613940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4CF-EAC8-449F-9B6B-C5E5C8E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63C0F-FCCD-4646-8202-3BE1BFCC3D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12Z</dcterms:modified>
  <cp:revision>12</cp:revision>
  <dc:subject>Slavic hymnal Гимны веры христиан, hymn 692</dc:subject>
  <dc:title>Отчизна моя в небесах</dc:title>
</cp:coreProperties>
</file>