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8E2E-2F96-4E3C-9621-63E07DC6B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F195-148F-4220-9E3C-CC15D1F99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0A9C-674D-49B5-91AC-61FF4F774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CB06-B0CA-458E-9007-C0C7EEFA4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E17C-2D83-4942-AB93-BC0E7560B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8BEE-013D-4253-8236-854151C54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5AF9-1059-49B3-B55E-6598097DF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BBDA-06D4-40F4-BD07-909792838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E504-A1C0-4A18-898A-028700CF0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37F7-8CAC-4A9A-9DAB-83B622CB2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AD7B-2744-4D04-8C84-76C0CD2FA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271E-D59F-477E-B7A0-329957C5C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7B874E-AC1E-4262-ABBB-9FD32635C4B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зроблю вас ловцями люд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овцями людей, ловцями люд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зроблю вас ловцями люд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підете в слі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підете ви все Моїм слід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а, алілу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зроблю вас ловцями люд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підете в слі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47   Я зроблю вас ловця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9T02:39:10Z</dcterms:modified>
  <cp:revision>12</cp:revision>
  <dc:subject>Slavic hymnal Гимны веры христиан, Ukrainian hymn 47</dc:subject>
  <dc:title>Я зроблю вас ловцями людей</dc:title>
</cp:coreProperties>
</file>