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250A-768D-4BEF-BA00-42C2FE74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011D-A980-4115-8FAF-AD0F521F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10B8-68CA-4B64-ADE8-BD51EC6B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6766-0EC0-4BD1-8B26-8675C25F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A15F-714A-4599-A986-FFC8358E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5157-6B60-4F3C-A747-C90C7F2D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5461-4F9D-4B19-9F65-BA0F910A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2850-AC38-4A7D-B37F-66D9810A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99CB-713A-4C2B-880D-3E2701E0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1392-1062-47CF-8346-5D09601E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AAA8-49FA-4E40-AD40-E715125D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D85E-A953-45A7-A504-1C39192F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4FA3B-CFCC-48C9-AD8A-A9037E3B1AE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wn at the cross where my Saviour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wn where for cleansing from sin I cr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to my heart was the blood appl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   Там, де один р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, де один раз Спаситель м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ертву приніс на вівтар свят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лодкий спок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to my heart was the blood appl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ь вс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крові свят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wondrously saved from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o sweetly abides with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t the cross where He took me 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 я дивно спасен від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приносив я за гріх коз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кров Ісуса мене спас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р прине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t the cross where He took me 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ь вс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крові свят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, джерело живої в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и всі мої труд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мною насаджені с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лідними бу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precious fountain that saves from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I have entered 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Jesus saves me and keeps me cle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ь вс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крові свят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Jesus saves me and keeps me cle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is fountain so rich and sw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st thy poor soul at the Saviour’s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unge in today, and be made comple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ийте усі з джерела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о ходите шляхом Й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раз заспівайте хвалу Й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 любові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unge in today, and be made comple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ь вс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крові свят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47:04Z</dcterms:modified>
  <cp:revision>13</cp:revision>
  <dc:subject>Slavic hymnal Гимны веры христиан, Ukrainian hymn 11</dc:subject>
  <dc:title>Glory to His Name (Down at the Cross Where My Saviour Died) / Там, де один раз Спаситель мій</dc:title>
</cp:coreProperties>
</file>