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899820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9280" y="4198680"/>
            <a:ext cx="899820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928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016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81640" y="111564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24360" y="111564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9280" y="419868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81640" y="419868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24360" y="419868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39280" y="1115640"/>
            <a:ext cx="89982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89982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39280" y="395280"/>
            <a:ext cx="899820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3928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016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9280" y="4198680"/>
            <a:ext cx="899820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115640"/>
            <a:ext cx="89982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539640" y="395280"/>
            <a:ext cx="8999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1440000"/>
                <a:tab algn="l" pos="2160720"/>
                <a:tab algn="l" pos="287964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92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There is a Redeeme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"/>
          <p:cNvSpPr/>
          <p:nvPr/>
        </p:nvSpPr>
        <p:spPr>
          <a:xfrm>
            <a:off x="539640" y="828720"/>
            <a:ext cx="899964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a Redeemer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God’s own Son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ecious Lamb of God, Messiah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 On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, O our Father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giving us Your Son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eaving Your Spirit til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rk on earth is don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539640" y="828720"/>
            <a:ext cx="899964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my Redeemer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ame above all names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ecious Lamb of God, Messiah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for sinners slai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, O our Father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giving us Your Son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eaving Your Spirit til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rk on earth is don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828720"/>
            <a:ext cx="899964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I stand in glory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see His fac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re I’ll serve my King for ever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at Holy Plac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, O our Father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giving us Your Son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eaving Your Spirit til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rk on earth is don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"/>
          <p:cNvSpPr/>
          <p:nvPr/>
        </p:nvSpPr>
        <p:spPr>
          <a:xfrm>
            <a:off x="9144000" y="6624720"/>
            <a:ext cx="539640" cy="53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29T06:28:56Z</dcterms:created>
  <dc:creator>John Zaitseff</dc:creator>
  <dc:description>Graham Kendrick (compiler), The Source, Kevin Mayhew: Buxhall, Suffolk, England, 1998.  ISBN 9781840031201.</dc:description>
  <dc:language>en-US</dc:language>
  <cp:lastModifiedBy>John Zaitseff</cp:lastModifiedBy>
  <dcterms:modified xsi:type="dcterms:W3CDTF">2024-11-15T02:50:24Z</dcterms:modified>
  <cp:revision>4</cp:revision>
  <dc:subject>The Source, song number 492</dc:subject>
  <dc:title>There is a Redeemer</dc:title>
</cp:coreProperties>
</file>