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155-6DB0-457A-B4F1-C6FE2BC6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E06-F3D6-4A22-BFF5-DDFACD86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018-35EB-4739-A77C-D1D5705C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094-BE18-4053-AC3C-DDE42DB3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CC39-5158-4C7C-BDC6-545C8D5E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D036-2636-4ECC-A1CA-8AEC4132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9B2-EF2E-404F-99BA-05EF6AFE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0975-1B72-4021-B9C5-1B06EFA1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7002-6715-4730-996D-C98B18C9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59C5-9850-4553-B875-532BD2D0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8101-8F67-4F54-B17F-B67643B3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558-F718-447F-B9D0-A0D7DD4E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609DD-D11C-4379-A9B5-951BF54FE3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а ли боль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рудностей ря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ль измен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и ли грозя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 жизни сур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ое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ужда ли боль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тиц нет амба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есни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алый и ста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с них бер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т Всевыш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ую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у и пищ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мотрит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ску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путь омра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ужас охв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ера тверд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су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х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им ясне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ами ничтож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в нас до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лости Бож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ла нам з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ях и сомн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бед 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утеше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18:31Z</dcterms:modified>
  <cp:revision>12</cp:revision>
  <dc:subject>Slavic hymnal Гимны веры христиан, hymn 873</dc:subject>
  <dc:title>Нужда ли большая</dc:title>
</cp:coreProperties>
</file>