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C782-3ED6-474B-A349-83F514E14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8CA9-2764-406A-8DE0-FAAA5C9A0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5570-E74F-4F71-A69F-5E9FCCBFC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622A-09A9-468D-8F14-B1B38FB46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C3FB-49E0-4961-8734-693A1E405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0282-508E-47F3-A8F1-2947701AE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409D-A851-4797-981C-D13864E63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575F-2C0A-4125-8242-D9DD6B4E0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69F0-1870-4AFF-AA85-7F61D5C86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4B22-B891-4CE7-AE8A-4B0E459CD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EC34-B184-47AF-AD82-33380C252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09AB-CC3A-4035-AAD3-EBC874B96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E6B533-D0DE-4C2B-B1AA-D02AE22F04A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ослушай, о грешник, последнее врем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Несёт Иисуса последний призыв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Зовёт Он сложить твоё грешное брем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К подножью Голгофы, и будешь ты жи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оследнее время, последний призыв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Тебя призывает Спаситель: «Приди!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едь завтра уж поздно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там смерть впереди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риди же, о грешник, не медли, приди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1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ослушай, о греш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012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Устало несёшь ты нелёгкое брем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орочных привычек, греховных страстей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А вдаль убегает всё лучшее время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Лишая надежды и радости все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оследнее время, последний призыв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Тебя призывает Спаситель: «Приди!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едь завтра уж поздно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там смерть впереди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риди же, о грешник, не медли, приди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6012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Зачем ты томишься в страданьи напрасно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ричину нося постоянно в себе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оверь, что твоё состоянье опасно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оверь, что ты гибель готовишь себ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оследнее время, последний призыв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Тебя призывает Спаситель: «Приди!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едь завтра уж поздно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там смерть впереди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риди же, о грешник, не медли, приди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06:51Z</dcterms:modified>
  <cp:revision>13</cp:revision>
  <dc:subject>Slavic hymnal Гимны веры христиан, hymn 410</dc:subject>
  <dc:title>Послушай, о грешник</dc:title>
</cp:coreProperties>
</file>