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DE2-2BC0-4667-9837-510AB85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5CF-73A7-4B17-8277-57C5C819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750-F3EE-4DE6-8A69-C9C18CE6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105-2F52-4FEE-B0C0-ABD094F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890-2F11-4914-9122-E7882BE1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A65-3305-448B-9834-73E78FA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4DA-7EBD-4A42-82A9-7D1B250B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B2F-0833-4C45-937A-138F125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21B-4078-42D7-A813-49257402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7E9-843D-4136-AEF8-65F2909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D22-26A1-495A-93F4-99C3239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3A1-3722-4D35-A421-58A9C3C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8EE5C-064D-4904-B3D5-033FB0611F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,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ught this s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13Z</dcterms:modified>
  <cp:revision>9</cp:revision>
  <dc:subject>The Source, song number 309</dc:subject>
  <dc:title>King of Kings, Majesty</dc:title>
</cp:coreProperties>
</file>