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A51C-5C01-4C73-BA25-B1D83970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08D5-7A70-4C6E-90AE-26724B07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7B71-48B2-4CFA-9859-7C674503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3FCB-A821-478F-A626-BF24939AE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F442-2243-4254-95E9-A9F1E508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A025-71B7-4A6B-B4BE-87F0E711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9381-2FD9-424A-A25B-F42683DF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4F81-3691-4EBA-9569-89F3CD3A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81DF-9B38-4226-AE09-3E693BCD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0464-AED9-4166-8722-47B5875A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1CB2-E35D-40BC-96E7-FD192A53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5571-4C25-4E17-802A-1936C8BA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AE20E-1316-493C-BE1A-157CA2E8BBF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учася, у двери твоей Я ст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усти Меня в келью св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мощен, наг, утомлён и у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руден Мой путь и дал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итаюсь Я по миру беден и нищ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учуся у многих жили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учася, у двери твоей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глас Мой услы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дверь отопр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ебе кто Меня призовёт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ому Я войду и того возлюб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ерю с ним разд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лаб, изнемог ты в труде и борьб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илы прибавлю те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лачешь, последние слёзы с о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тру Я рукою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в печали тебя утеш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яду с тобой вечер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учася, у двери твоей Я стою;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усти Меня в келью св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усти Меня в келью св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7:30Z</dcterms:modified>
  <cp:revision>13</cp:revision>
  <dc:subject>Slavic hymnal Гимны веры христиан, hymn 391</dc:subject>
  <dc:title>Стучася, у двери твоей Я стою</dc:title>
</cp:coreProperties>
</file>