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C736-27B2-42C0-B5E9-19FB6F1D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7BE9-ACEC-4581-8D62-26253B60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F6AA-CBFA-4F81-9682-2EF532B1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92F2-DBE0-48FE-8FFD-5D39DF22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9A9B-CA46-48EA-AB6A-B8797C19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3A3B-CC46-440E-928C-96C1A834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2A45-2F9A-4EA3-B510-A797B561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4525-97E1-43E5-B5E6-7A08131B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35F4-99BC-43BF-A917-B133D5F3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94D7-4E69-4C71-BA2C-9C691F71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DD9B-FD8A-4F13-B001-2422C839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377C-5021-4C15-BA2A-E6F6DA73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D3E1D-2F30-4BB1-BB16-3E304E29B90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n it be that I should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 int’rest in the Saviour’s bl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ed He for me, who caused His p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, who Him to death pursu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гу ль постичь люб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 ль постичь любовь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т Его крови свят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ль Он умер з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был Ему чуж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3080"/>
            <a:ext cx="96012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ld I approach th’ eternal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laim the crown, through Chr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ld I approach th’ eternal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laim the crown, through Chr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в пути, а, нако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ст мне золотой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в пути, а, нако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ст мне золотой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6012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azing love! How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ou, my God, shouldst di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azing love! How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ou, my God, shouldst di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― побед зал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за меня страдал Сам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― побед зал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за меня страдал Сам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Tis mystery all: th’ Immortal d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can explore His strange desig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vain the first-born seraph 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ound the depths of love di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тайна, глубже всяких тай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винный злыми умерщв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я согрешивших 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цом Небесным утвер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6012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mercy all! Let earth ad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ngel minds inquire no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mercy all! Let earth ad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ngel minds inquire no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да знают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и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да знают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и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ft His Father’s throne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free, so infinite His g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ptied Himself of all but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led for Adam’s helpless 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л в небе Свой престо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к грешникам с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ичижил, смирил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ёл на казнь, нас возлю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43080"/>
            <a:ext cx="96012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mercy all, immense and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, O my God, it found out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mercy all, immense and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, O my God, it found out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светле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тьме греха нашла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светле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тьме греха нашла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ng my imprisoned spirit 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st bound in sin and nature’s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e eye diffused a quick’ning 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ke, the dungeon flamed with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в темнице изны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цепями скован бы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ебесный свет посл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овы крепкие раз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43080"/>
            <a:ext cx="96012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hains fell off, my heart wa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rose, went forth and followed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hains fell off, my heart wa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rose, went forth and followed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милости я стал друг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ялся, встал, иду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милости я стал друг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ялся, встал, иду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condemnation now I drea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and all in Him, is m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ive in Him my living H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lothed in righteousness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осужденья, не страш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за меня свершил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мой Спаситель и Г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жизнь дают Е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19:35Z</dcterms:modified>
  <cp:revision>12</cp:revision>
  <dc:subject>Slavic hymnal Гимны веры христиан, hymn 881</dc:subject>
  <dc:title>And Can It Be That I Should Gain? / Могу ль постичь любовь Христа?</dc:title>
</cp:coreProperties>
</file>