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765-199B-4A43-ACA7-83A2DF63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C90-D7AB-42D1-B1B8-DDDD7E3E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11E-3876-4305-B3DB-7AE09D56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75C-0BD5-49FA-83BB-37830AE3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597-F170-4FF0-8680-FA8C866C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227-D97B-4F9F-8A0D-150D1857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674C-F77C-4212-85F2-B229157B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EF3-46F9-4041-8504-836B246F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95E-938C-439C-A3CE-E20BCE9D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D9C-31D7-44E6-A2EE-064B0AAB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DB9D-8EBF-4089-BC14-427705E0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7FD-47CF-4B1F-ABB6-92794CAB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39903-AFF8-47A7-A79B-74845A5D8B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ову Твоем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ной про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лись у Твоего ст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истерзанная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жизнь душ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а чашу я б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 слову Твоему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нимаю взор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умер Ты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оминаю подвиг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 страданья, Твой за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лач в ночной борьб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ветят мне, как солнца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мнил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ромчится жиз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ну в земной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шь на обла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 об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1:24Z</dcterms:modified>
  <cp:revision>12</cp:revision>
  <dc:subject>Slavic hymnal Гимны веры христиан, hymn 729</dc:subject>
  <dc:title>По слову Твоему, Господь</dc:title>
</cp:coreProperties>
</file>