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ABE5-A1B1-432E-A279-FA6BDC54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EC29-4954-4922-8792-E5DA5AC8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47C1-0F19-46D5-B3D3-30969AAA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BC7D-4655-45C7-9F20-8546A345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291D-C9AC-4B4D-B0D7-3DCF692F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5F7D-6A59-4D39-BDC6-6D37A2C4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C964-C173-4ED6-B0E7-3454F920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BFF4-EC26-4B5C-B2AA-4761C363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BF99-1350-468C-B5EE-2FEA747F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9FBD-EEE0-40CC-8962-B59C462F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E97D-2F16-47BE-81E0-5E1D93C7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26D6-08EA-4AF6-A44C-D2787CB9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F1370-5436-46FE-8FAF-694FF3E8CFD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though I walk through the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shadow of d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erfect love is casting out f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n when I’m caught in the mid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storms of this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turn back; I know You are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80   Even Though I Walk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fear no ev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y God is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f my God i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m then shall I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m then shall I f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ca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rough the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 high and ev’ry 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 never let go of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can see a light that is co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heart that holds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glorious light beyond all comp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 will be an end to these troub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until that day co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live to know You here on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fear no ev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y God is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f my God i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m then shall I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m then shall I f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ca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rough the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 high and ev’ry 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 never let go of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 can see a light that is co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heart that holds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 will be an end to these troub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until that day co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 I will prais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 I will prais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ca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rough the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 high and ev’ry 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 never let go of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though I walk through the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shadow of d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erfect love is casting out f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n when I’m caught in the mid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storms of this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turn back; I know You are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4:47Z</dcterms:modified>
  <cp:revision>12</cp:revision>
  <dc:subject>The Source 4, song number 1780</dc:subject>
  <dc:title>Even Though I Walk Through the Valley (You Never Let Go)</dc:title>
</cp:coreProperties>
</file>