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223-363E-4853-855D-C891030F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9C8-F14B-45ED-9C73-28932367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3B3-4009-454D-9BD7-FC8434F1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A4F-90CF-45F9-804E-75BE5ECA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2DC-BB46-4CA6-B648-56686EE3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519-35A7-488C-AC55-B3BA4861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E5F-B60F-4D18-946F-3153FF45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592B-DC87-46DF-B13B-E2AE6BF8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4FD-DEB7-4E86-A254-326DDFA0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E40-DB72-49EC-B6A1-1408A428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5DB-77D4-4C33-9933-8978C5E9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3F0-F3BD-4721-B50E-7D8A8C8C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CDCAA-8F46-4B92-9042-EA59DFA502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joyful, we ad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of glory, Lord of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unfold like flow’rs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ing to the su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ликованьем прославля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икованьем прославл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славы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сердце открыв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м: милость нам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lt the clouds of sin and sad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ive the dark of doubt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r of immortal gl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us with the light of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гони неверья т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и сомнений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й нас к жизни лучш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дай сердцу и у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works with joy surround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and heaven reflect Thy r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s and angels sing around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ntre of unbroken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ют мощь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с ангелами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ечном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ld and forest, vale and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ery meadow, flashing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ting bird and flowing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 us to rejoice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г и поле, лес и г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 потоки и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нье птичек, туч узоры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ворце нам 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tals join the mighty chor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the Morning Stars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ther Love is reigning o’e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ther Love binds man to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песню подхват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 рассветом начала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— наш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олюбье вяже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singing, march we on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ctors in the midst of str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 music lifts us sun-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triumph song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ужным пеньем выст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тели над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радость возвещ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день за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43Z</dcterms:modified>
  <cp:revision>12</cp:revision>
  <dc:subject>Slavic hymnal Гимны веры христиан, hymn 610</dc:subject>
  <dc:title>Joyful, Joyful, We Adore Thee / С ликованьем прославляем</dc:title>
</cp:coreProperties>
</file>