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A06-1362-48F6-BE00-825D23F1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FA6-BE06-421C-9B56-52BFA378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556-56B4-4CFE-A14E-1ADD558D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546-452C-4F75-907D-99633713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378-0B72-4EFB-801A-D0D42C94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A46-9822-41F6-BD7E-09AE6F0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0A8-6A57-48BF-B18D-633625D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CED-1349-44A8-97D5-9B24D390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A5A-DB22-409F-88F9-0D73F29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BC3-555F-4742-BD38-0F755892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111-D10C-412E-971E-D33975E8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59D-1439-4540-9E2B-B99930A3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F8960-6539-4CF6-BDC0-BF1D908E90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познавшие радость спа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мыт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не видите наши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забыли заветы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ьме беспросветной весь мир уто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нерав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и адском вся внутренность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тесь, придите! зовём в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вы, познавшие р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крывают лохмотья по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щи, убоги, мы помощи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услышим мы голос пр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спасенье и мир обрет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де угарном больного весе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е жгучем безбожных ре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ше отравы мы ищем заб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м мы, где вы? спасайт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, где вы, носители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чертога и вечного 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ас зовём и не слышим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уснули, молчанье хра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11Z</dcterms:modified>
  <cp:revision>12</cp:revision>
  <dc:subject>Slavic hymnal Гимны веры христиан, hymn 527</dc:subject>
  <dc:title>Где вы, познавшие радость спасенья?</dc:title>
</cp:coreProperties>
</file>