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8F5-61EF-40C5-80D6-8377392C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7E8-AD08-4135-9726-10977EC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230-1605-4747-AA4F-7010635A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ABA-2A8D-4246-B545-67EA539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C5B-BD7A-4246-8263-E8FCC63F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0F2-70AF-41AA-9E21-71CEB601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06A-C8B9-4A2F-BFFC-444C421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EDB-A980-4778-8D65-93ECE53B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023-98DA-4E3A-9954-DD2C071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F07-AD52-4E7E-B777-9860F1D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504-DC97-4A84-8198-36FB930E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91D-B1C1-4D3D-9272-3D3AF507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DF7A-E826-473A-AFCF-FC0AAF7E64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3   Jesus, Hope of the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39Z</dcterms:modified>
  <cp:revision>12</cp:revision>
  <dc:subject>The Source 3, song number 1363</dc:subject>
  <dc:title>Jesus, Hope of the Nations (Hope of the Nations)</dc:title>
</cp:coreProperties>
</file>