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54E-2E42-43EB-878B-DF3C64A3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8F2-D59A-43D0-B3EC-3C28F038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E78-3254-4B4F-BC5E-3401B7E6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338-4F16-400A-BAD2-A2E31CB8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9C9-315E-4F08-BDAF-56FAB91F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60B-65D3-4A82-A895-6E55FD1D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A87-F1F1-46FD-9338-B830B849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696-92B3-4B91-99E1-1FD0CA52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E31-269E-4007-9A1D-3F3EDA2F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426-4EC0-475B-931C-2FD0C6FC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322-3AE4-4D3F-8874-2A2CF411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DDF-AEA5-4218-92A3-19DD90A7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29028-47D8-4708-A32A-65A1136242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Lord, He is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 from 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Christ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 is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9:59Z</dcterms:modified>
  <cp:revision>10</cp:revision>
  <dc:subject>The Source, song number 158</dc:subject>
  <dc:title>He is Lord</dc:title>
</cp:coreProperties>
</file>