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3</a:t>
            </a:r>
            <a:r>
              <a:rPr b="1" lang="ru-RU" sz="3600" spc="-1" strike="noStrike">
                <a:solidFill>
                  <a:srgbClr val="ffffff"/>
                </a:solidFill>
                <a:latin typeface="Verdana"/>
              </a:rPr>
              <a:t>	</a:t>
            </a:r>
            <a:r>
              <a:rPr b="1" lang="ru-RU" sz="3600" spc="-1" strike="noStrike">
                <a:solidFill>
                  <a:srgbClr val="ffffff"/>
                </a:solidFill>
                <a:latin typeface="Verdana"/>
              </a:rPr>
              <a:t>Хвала Тебе, наш Господ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ive thanks with a grateful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ive thanks to the Holy 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ive thanks because He’s gi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Jesus Christ, His Son.</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вала Тебе,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вала Тебе, Бог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вала за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ына Твоего.</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nd now let the weak say, “I am stro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Let the poor say, “I am ric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Because of what the Lord has done for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ive thanks.</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еперь слабый скажет: «я сил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едный скажет: «я бог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лагодаря тому, что Бог нам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вала.</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8:48Z</dcterms:modified>
  <cp:revision>3</cp:revision>
  <dc:subject>Slavic hymnal Гимны веры христиан, chorus 53</dc:subject>
  <dc:title>Give Thanks With a Grateful Heart / Хвала Тебе, наш Господь</dc:title>
</cp:coreProperties>
</file>