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816-533A-41D1-A2B9-E26F12F9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2AF-F30C-4FD7-8BB7-04F060B0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393-E831-4CF4-A006-D1B61031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339-63FF-4586-85EB-BA0904E8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628-27D1-46EF-9842-4E44B7AD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762-9CA7-4CAD-BD71-38860747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387-4FD8-4C74-8763-ACD96AEF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0C4-4BBD-4A69-9D3E-2658C5BE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DB0-C0BB-4DF5-BB45-3B514E6F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116-658E-4710-B8A7-5203599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E29-A5CC-41E8-85C5-22A6FBB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CFD-3CA6-4345-A455-04A4B17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69D8D-AA5D-47C0-AECB-BC509C6C6C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 последний час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с вами должны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ердца в скорбях и в м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ы мучительной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так отрадно было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счастливые де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ться Божьи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же, ближе к Нему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стал последний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много здесь 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— блаженство, Царств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трёт слезу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рощайте, братья,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ас утешит Сам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назначил нам св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ой радости бы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38Z</dcterms:modified>
  <cp:revision>12</cp:revision>
  <dc:subject>Slavic hymnal Гимны веры христиан, hymn 749</dc:subject>
  <dc:title>Настал последний час разлуки</dc:title>
</cp:coreProperties>
</file>