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034-00B1-48CC-B51C-ADFFE06B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334-0215-4F89-9745-E2DA119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778-7F5E-4ACD-A2CC-2B13C4F0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AE2-4ACB-4350-8E59-340F6499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235-9119-46BE-8BD7-B616D731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0D1-7335-4E8B-AF47-C43B725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4C9-45D1-4DC1-87F0-FDD57DE1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A8F-8AE6-4C93-873B-BC2C96F8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F03-D135-4992-BA00-5B67CBD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4A3-D20C-4F42-8F9D-1196D1C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7AB-15A0-4ED9-8CC7-727BB4F3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081-4966-450B-A9CE-9216A3E2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90C85-39DE-449B-AC08-E4B23FC489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let me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lif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ever worldly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wilt have me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from sorrow, pain o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dom dare I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alone shall be my pra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9   Father, Let Me Ded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child presume to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r how to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Father’s love re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best to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glad heart, while it 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e in all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whate’er the futur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36Z</dcterms:modified>
  <cp:revision>12</cp:revision>
  <dc:subject>The Source 3, song number 1199</dc:subject>
  <dc:title>Father, Let Me Dedicate (Be Glorified)</dc:title>
</cp:coreProperties>
</file>