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D575-2E7E-4C37-AA77-E7A6091F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9E7E-CA7B-4EE1-B239-14B6525F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824B-E4C4-4E0C-B769-E1DF92108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BDC8-8B68-419B-BB28-FA93B8B0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DA0B-EF2A-4417-9BFE-666765BC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54D4-7583-4290-85AE-112BD418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011A-16C6-45C0-8D4A-1A18D77C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9471-4D18-45F8-A276-A39E64C4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2C2D-538D-4223-84E4-6F5F90CD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D7B5-218C-447F-B49E-13F4A80D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8F79-8E98-46C9-A299-893D6D59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2737-EAC2-413A-AB17-E58DDF9A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EE92D-ECBE-4CAD-A445-A508B402EB8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моя терялась в суе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 не думал и не 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грешников Он постра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и милость вос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остил блуждавших в темн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Он освободил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изнь моя терялась в суе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 Божье грех открыло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гибал я в страшной пуст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Христа увидел пред с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и милость вос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остил блуждавших в темн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Он освободил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перь Иисусу от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отрадно жить и в нище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шой восторженной п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мн о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и милость вос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остил блуждавших в темн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Он освободил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любви открыл спасенья пл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явилась в полн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ритель грешным людям 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и милость вос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остил блуждавших в темн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Он освободил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5:16Z</dcterms:modified>
  <cp:revision>12</cp:revision>
  <dc:subject>Slavic hymnal Гимны веры христиан, hymn 419</dc:subject>
  <dc:title>Жизнь моя терялась в суете</dc:title>
</cp:coreProperties>
</file>