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E6E-8F09-4500-B7F0-0A057C89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254-7364-4979-898E-2D8F472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EA5-8E57-41B8-B95C-2BCACA0C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5E0-617F-4A88-A570-A413A993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E1B-0B0B-4516-8DCC-5DC34547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186-F384-4A5E-AD98-80B66A98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F23-7D8F-44B2-BB3F-592F60A3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5E1-FA19-4E60-9A9B-9735D16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DEA-BEA7-4E06-8D7C-D1272483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E51-8165-454D-B581-8E5D5C8F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FA8-0995-44D5-A93F-A791FEA1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922-47BE-4285-BB5B-A477BDD6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2C1B1-CCCB-4C06-841B-ABDE403CA4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beautiful beyond d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marvellous for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wonderful for comprehen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nothing ever seen or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grasp Your infinite wisd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fathom the depth of Your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beautiful beyond d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enthroned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Ar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tand, 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, 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to whom all praise is d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3:09Z</dcterms:modified>
  <cp:revision>10</cp:revision>
  <dc:subject>The Source, song number 589</dc:subject>
  <dc:title>You Are Beautiful (I Stand in Awe)</dc:title>
</cp:coreProperties>
</file>