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D69-2E46-4A7E-AC25-A1A61D45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CF07-566F-431F-BC63-6034FCD5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206-17C9-4490-B36C-CE2EA8C9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897F-2A29-4874-9FB0-02DBEB40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E8B-890A-48A1-8644-9082EC32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AD8-FFF8-4433-BDE4-949B96ED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6A0-F561-4692-91C8-397F3F22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950-7A17-4326-A270-318C907F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E4C-5E1B-4933-89C5-936734A3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B3E-FD53-47A8-8E01-50CEACD0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0C24-C2C8-4C2C-9AE8-53071F7A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62D-3C3B-4526-8197-3578A00E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94621-E3CC-4007-8D2F-7CCB81D57E4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оил на крови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надежду я св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имён не при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ерю имен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троил на крови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цо ль Его сокроет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тию креп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волнений, бурь и 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якоре Его держ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 крови за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меня в потоках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ё рушится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хожу опору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с славой 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ерным Он меня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тым в праведность,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ез пятна предстать пред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4-12T07:22:58Z</dcterms:modified>
  <cp:revision>13</cp:revision>
  <dc:subject>Slavic hymnal Гимны веры христиан, hymn 634</dc:subject>
  <dc:title>Построил на крови Христа</dc:title>
</cp:coreProperties>
</file>