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53E-FAB1-4BAF-B241-2FBAB108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0D0-83DE-4A7C-9540-5843EDD5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2FF-8385-4B28-AC89-A31D1A8A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20F-EBBB-416D-BC3D-E2A3D112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2E4-A99E-4134-B9F9-06DA340B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C7D-1353-4DA9-A583-F71A52C8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024-B1E6-456E-9190-8E499FFD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E51-C6F9-4218-9139-F3221F2C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B69-AE5F-483C-8C92-D6D9664F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BAD-06E8-4A28-A3DC-4CD81166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CAB-146D-4012-950C-F3956AC2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D55-6723-43C5-A738-1C352CC7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C537B-7AE8-4662-BD1B-2BFC602FC9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beauty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lory of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ove which from our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nd around us 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добро земных крас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бро земных кра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ары Твоих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, что с перв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ет жизнь дет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wonder of each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day and of the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ll and vale and tree and fl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n and moon and stars of l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учи светил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цветы Твоих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каждый данный м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дня, во тьме ноч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joy of huma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ther, sister, parent,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s on earth and friends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gentle thoughts and mi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родителей,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иль чужи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тремления к доб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у юную пор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Church that 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eth holy hand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fering up on every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pure sacrifice of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всякий вышни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ёшь Ты нам,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зов, молитвы ж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бещанный венец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self, best gift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race so freely gi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at great, great love of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on earth and joy in hea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Церковь, что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родов всех и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 уст несёт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дар, что свыше д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9:15Z</dcterms:modified>
  <cp:revision>12</cp:revision>
  <dc:subject>Slavic hymnal Гимны веры христиан, hymn 819</dc:subject>
  <dc:title>For the Beauty of the Earth / За добро земных красот</dc:title>
</cp:coreProperties>
</file>