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10E-EEAA-4E00-AC82-2B2D9F51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BFE-AD27-406A-B2D4-5C579927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0BD-92C6-46E1-9EEA-0928E405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15D-41CA-45F1-BBAE-21CEB986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6CF-5E4C-419E-A72F-FB43CE21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CDA-6751-443F-88C5-8D34A9BE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DED-8996-42AC-9A68-CD33A52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0F9-0788-4617-8791-CDF6062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6E0-89C4-4F6E-B1A2-7A2C8D5C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357-A225-41BF-BA2B-C083BF38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679-36FC-4923-BA4C-5F8AA03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0DD-CAC9-4382-BE69-198F5E9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F8AD6-389B-47FB-8098-B975037EC0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the Weak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10Z</dcterms:modified>
  <cp:revision>10</cp:revision>
  <dc:subject>The Source 2, song number 862</dc:subject>
  <dc:title>Let the Weak Say “I Am Strong” (What the Lord Has Done in Me)</dc:title>
</cp:coreProperties>
</file>