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CE2-C182-46B4-B48D-66482341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0AB-49C1-467A-A5B1-34B98EF8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405-4377-4847-A68F-815D0136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9FF-894C-4615-8EBF-2FF83C6B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522-73CC-4082-BB1C-0E13A81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8E8-AAE3-4C30-9466-33A3EA4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AF5-3566-4C56-B789-5214CD31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4A6-728A-4CBC-A26A-44284CB2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66A-C945-46F1-9A51-CB8823F3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5CF-A412-400F-A4B5-12B08DB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AB0-CF31-4E21-B320-5318DEB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902-2AA7-4395-A5EC-38CAECDA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DC975-B3AE-4765-980B-AE27722502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 мне недостойном печ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кровью Своей Он ом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Его мне прощенье да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Он вашим Спасителем б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Отец мой, благой Промысл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ст бесконечную радость вкус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м меня ждёт в золотую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я с вами туда мог вступ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ая есть у меня там о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не видал человеческий гл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й я предстану, моя в том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в неё облекли также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мир Свой Спаситель мне в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людским непонятен у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тот сердца во Христе со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тот мир был дарован и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инял Христос вас, дру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теперь вашим Спасителем ст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сь за других, вы к Нему прибег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ашей мольбе, как моей,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05Z</dcterms:modified>
  <cp:revision>12</cp:revision>
  <dc:subject>Slavic hymnal Гимны веры христиан, hymn 624</dc:subject>
  <dc:title>Спаситель о мне недостойном печётся</dc:title>
</cp:coreProperties>
</file>