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33E-CBA8-41C6-AC3D-17C62AF9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641-66F2-4466-B604-C0609C69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DA1-43C9-4B4D-8B8F-6C4594AB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0A1-FEF8-4DFC-8481-15F3B4C9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641-C1F5-4395-92CA-D073E71D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86B-69DA-41D5-B43B-2F340782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7BE-7990-4059-ABF6-04A5B4AE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777-3F40-4F64-9164-B27CB46A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75F-D8F1-4336-9285-4F1901F1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3D6-3891-4E63-8548-ED1757DE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44D-16B6-4B45-9EBA-CE4959C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D99-F119-4130-92C5-822FC39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18E8-0442-4DA8-AE42-025A6756FE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e have heard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singing o’er the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untains in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ing their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, why this jubil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r joyous strains pro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gladsome tiding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nspire your heav’nly s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Bethlehem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whose birth the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dore on bended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, the newbor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ithin a manger l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rd of heav’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y, Joseph, lend your 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us sing our Saviour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8:17Z</dcterms:modified>
  <cp:revision>12</cp:revision>
  <dc:subject>Slavic hymnal Гимны веры христиан, hymn 879</dc:subject>
  <dc:title>Angels We Have Heard On High / Ангелы, к нам весть дошла</dc:title>
</cp:coreProperties>
</file>