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206-4D0C-4342-B9AD-EC0C0850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790-1D89-456C-8593-7B2F8DC9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EC1-BF09-4A05-9C92-63E67EE9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32D-A7BB-457F-88B0-EE7A44AE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215-5154-43C4-BE95-561FA727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84E-239D-4FB6-93CD-C82C1225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545-3E7C-486A-9788-C364EB22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8DF-7ABB-4896-83CF-68C6F081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0CB-1AD2-419C-A72C-2E5185F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ADD-D4E1-4B41-99D8-FF659D57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1DE-7034-4B0E-B93D-8239BBC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3C5-0DC6-4490-9CA7-5957CB60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AA16A-FB00-4402-8F5D-FECCEB9877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y blood and righte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eauty are, my glorious dr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dst flaming worlds, in these ar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oy shall I lift up my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ва праве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праведность и кровь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лучшая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осмелимся пред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й суд в конц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shall I stand in Thy great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o aught to my charge shall 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y absolved through these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in and fear, from guilt and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ий, страшный,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анет обвинять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, помилован, прощ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веч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believe Thy preciou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, at the mercy sea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doth for sinners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, e’en for my soul, was 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я верю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чистилище ви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силой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грешник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believe were sinner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sands upon the ocean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for all a ransom p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a full atonement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только грешных, как пе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ах земн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традал за всех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крови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1:00Z</dcterms:modified>
  <cp:revision>12</cp:revision>
  <dc:subject>Slavic hymnal Гимны веры христиан, hymn 884</dc:subject>
  <dc:title>Jesus, Thy Blood and Righteousness / Христова праведность и кровь</dc:title>
</cp:coreProperties>
</file>