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22BD-53B0-4530-8A7C-2CB6A7EC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FC16-CD6D-4707-BB12-17EAF90F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3C54-6095-4896-9183-B6FA3210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3FFA-0632-4903-AB00-04BEB99B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FCD5-6194-4A8D-960E-B9CD4431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0D2A-D5E8-42F9-B197-C534098E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A389-E748-4252-AA82-6F322A3E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C0F0-6F05-4457-92D0-90CDCC92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F06B-CF57-4D92-A628-32A94C95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FDDF-7E7F-471F-BEB6-317F220F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D8A7-852F-4877-9629-160B2043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AEFC-033A-4F13-A300-FAFD5782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49FAF-B858-44FC-AFFF-7CA045AA4A8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but a stranger 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 is a desert dr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в небе край род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в небе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ой Отец бла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nger and sorrow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und me on every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father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анник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путь лежит во мг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би лишь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ough the tempest r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rt is my pilgrim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олог путь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яжек жизни 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me’s cold and wild wintry b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shall be over p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reach home at 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ё пройдёт, как с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т путь сверш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 Отц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t my Saviour’s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be glor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Христа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туда влеч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re the good and bl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se I loved most and b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, too, I soon shall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у лико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воспе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Его лиц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fore I murmur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e’er my earthly l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ль я стра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 не могу роп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urely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t my Lord’s right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father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Сам Христос 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асить Он венц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6:04Z</dcterms:modified>
  <cp:revision>12</cp:revision>
  <dc:subject>Slavic hymnal Гимны веры христиан, hymn 813</dc:subject>
  <dc:title>I’m But a Stranger Here (Heaven Is My Home) / Мой в небе край родной</dc:title>
</cp:coreProperties>
</file>