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229-D620-4B3A-B5A7-43FB902D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9B3-126E-46DB-8B0E-43D1F473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ED7-C7E6-4B13-8C88-504C7875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7D2-5EBC-4516-8123-26AE967D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7C6-EC66-4186-B67E-B517CBB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B4C-9FE5-4532-822C-4637717E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471-71F7-4BAF-BDE7-289D3283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D04-4DAF-4BE9-AE54-E65AEE60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F50-1B82-43BD-B5E5-DC5EB05C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473-811D-42A4-8FB3-6F4B2C52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4D2-A810-427E-9A82-A11789F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3BA-8C4B-4932-A490-D5DF170F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C6F42-AE12-430D-A483-F73CEB1578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кто сии и кем облеч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ые ризы снежной бел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уста хвалой п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, кто 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это те, кого Христос при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за кого Он умер и стра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х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все за Агнцем вслед они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через скорбь велику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Нём мир душе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х земной тернистой шёл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с любови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их сильною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тем, кто верой в Господа пос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вступить средь раскал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м славу дал в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ьем чертоге вечен их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х забыта, слёз они не л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овую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гнец нас кровью омы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56Z</dcterms:modified>
  <cp:revision>12</cp:revision>
  <dc:subject>Slavic hymnal Гимны веры христиан, hymn 788</dc:subject>
  <dc:title>Кто, кто сии?</dc:title>
</cp:coreProperties>
</file>