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1</a:t>
            </a:r>
            <a:r>
              <a:rPr b="1" lang="ru-RU" sz="3600" spc="-1" strike="noStrike">
                <a:solidFill>
                  <a:srgbClr val="ffffff"/>
                </a:solidFill>
                <a:latin typeface="Verdana"/>
              </a:rPr>
              <a:t>	</a:t>
            </a:r>
            <a:r>
              <a:rPr b="1" lang="ru-RU" sz="3600" spc="-1" strike="noStrike">
                <a:solidFill>
                  <a:srgbClr val="ffffff"/>
                </a:solidFill>
                <a:latin typeface="Verdana"/>
              </a:rPr>
              <a:t>Как снеговой покров зим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ак снеговой покров зи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рывает грудь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сети мира суе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сердце облег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холоден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ю, мне сердце разог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ём любви Тво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вой образ в сердце затемн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тремленьях силы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елах моих царит зак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гас свободы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холоден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ю, мне сердце разог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ём любви Тво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е иго дл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боримый гн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мне нет радости, ог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мненье сердце жж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холоден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ю, мне сердце разог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ём любви Тво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Я с миром не ищу бор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не приятней с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же в час моей мольб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ным я угнет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холоден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ю, мне сердце разог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ём любви Тво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Я пред Тобой, как лёд заст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хни же н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точник вечного ог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жёгший огнь све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холоден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ю, мне сердце разог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ём любви Тво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Я чёрств, как камень, сердцем ст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ак плавильщик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сердца выплави метал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ечной чи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холоден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ю, мне сердце разог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ём любви Твоей.</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5:13Z</dcterms:modified>
  <cp:revision>3</cp:revision>
  <dc:subject>Slavic hymnal Гимны веры христиан, hymn 161</dc:subject>
  <dc:title>Как снеговой покров зимой</dc:title>
</cp:coreProperties>
</file>