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E148-B3FF-4FA8-BD30-D35EF172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A40-F1F6-42CD-9BD0-B050377D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9AB-1C9E-4FB5-9A1E-D4C8C43A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F67-BFB9-45D9-BFCA-97DC441A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B068-6385-46C6-ABEE-F9C4D660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B5D-8410-488E-AA98-35DD4A62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3F16-3ED0-44A8-9686-3D63026B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51F-FFEC-4670-99BC-56C0CCC1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C84-E767-47ED-8FF0-53FABE5F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BF3-0CEC-4AEA-9D55-D03FB110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B325-74BC-41C1-A64D-9E0DA8F7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A1DD-71D9-48E3-B570-5DAEE1ED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9CB7F-EA41-4A5C-90FD-C1F2595C85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лозунг, данный молодё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зни и борьбы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— лозунг силы, лозунг Бож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зирая на Иисуса, в 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нами веет Божье зн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озунг юности на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т, как радостное пл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жённое Самим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лозунг, да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тав героями, как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мело в бой с врагом вступ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ужасе бежит др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 мир неся закон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любовью покоря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дножию Е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 Его и на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ест свой скорбный приним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ликой радостью серд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идя как ужасен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овой жаждою пыл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убелить себя, как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чуждаемся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зы тюрем приним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гом радостных псал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ушах мести не та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ога правды умоля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ть грехи врагам лю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браз совершенный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раз неба отраж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ём хождени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нам неведомы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и сердцем усвоя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добие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 волнам огня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ёрдо мы за Ним шаг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пожаров и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укрепляясь верой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ри мира укрощ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й вселенной мир не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5:20Z</dcterms:modified>
  <cp:revision>12</cp:revision>
  <dc:subject>Slavic hymnal Гимны веры христиан, hymn 442</dc:subject>
  <dc:title>Есть лозунг, данный молодёжи</dc:title>
</cp:coreProperties>
</file>