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0</a:t>
            </a:r>
            <a:r>
              <a:rPr b="1" lang="ru-RU" sz="3600" spc="-1" strike="noStrike">
                <a:solidFill>
                  <a:srgbClr val="ffffff"/>
                </a:solidFill>
                <a:latin typeface="Verdana"/>
              </a:rPr>
              <a:t>	</a:t>
            </a:r>
            <a:r>
              <a:rPr b="1" lang="ru-RU" sz="3600" spc="-1" strike="noStrike">
                <a:solidFill>
                  <a:srgbClr val="ffffff"/>
                </a:solidFill>
                <a:latin typeface="Verdana"/>
              </a:rPr>
              <a:t>Быть лишь таким</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ыть лишь таким, каким Он бы хот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ждый шаг на своём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верив всёцело Иисусу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ждый миг своего бы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линой лишь быть бы в Его рук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ать лишь то, что Он нам в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лишь таким, каким Он бы хот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ждый шаг на своём пути.</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4:57Z</dcterms:modified>
  <cp:revision>3</cp:revision>
  <dc:subject>Slavic hymnal Гимны веры христиан, chorus 40</dc:subject>
  <dc:title>Быть лишь таким</dc:title>
</cp:coreProperties>
</file>