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C65-7AD7-4FA0-91A3-BECBBB27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CB2-C893-4817-8BE8-53093EF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ADF-57A7-4616-B94E-C1342EB5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B14-F729-41CE-B75B-7ABFDE23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6A8-21CE-4FDD-938B-81FA496D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95D-C70C-498D-8A9A-723D9E6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034-A4D2-4B52-9D39-EAED8F2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2FC-D863-4812-BA6E-EFDB531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64D-BF2A-4402-9AF2-2A9F6D2F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A3E-47F0-44AA-B11D-831EE9C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DA5-F295-4D9B-9C92-FF3120C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B8F-3055-4B9D-AFEB-F85CE540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620C-6EC7-43AB-B63E-74BD86039D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est Lord Jesus; Ruler of all n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of God and ma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will I cherish; Thee will I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y soul’s glory, joy,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 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 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are the meadows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dl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bed in the blooming garb of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fairer; Jesus is pu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makes the woeful heart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 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 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is the sunshine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o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twinkling starr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ines brighter; Jesus shines p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angels heav’n can b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 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 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airest beauty, heavenly and earth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rously, Jesus, is found in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be nearer, fairer or d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Thou, my Saviour, ar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 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 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! Lord of the 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and Son of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and honour, praise, ado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nd forevermore be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 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 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47Z</dcterms:modified>
  <cp:revision>12</cp:revision>
  <dc:subject>Slavic hymnal Гимны веры христиан, hymn 835</dc:subject>
  <dc:title>Fairest Lord Jesus / Иисус прекрасный</dc:title>
</cp:coreProperties>
</file>