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6A2-35C3-4FE9-ACE8-B5748344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9EB-5ADA-4595-820F-5397D52B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A98-5C36-4EB3-8425-B3AA12CB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0CB-6A02-4D7D-844B-D5AB33B3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BA9-CF0A-4F99-9CD5-80F02E1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18B-E455-4E22-9C96-765383E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B78-F5CE-43FC-8330-2FE3D8F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9EF-29D7-4AA1-99DB-C0E74D6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B60-8A22-4779-8FDE-2438FDE3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A6D-BBDB-4EDF-93FB-97ED357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939-BC84-4D3A-9B8E-3C4A9D9B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F02-DC22-43F2-BD4F-ED2B93F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453C2-E17A-4AA2-AAB7-1C2B590399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я ищу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ижу с кажд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хочу пойт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но я ищу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куда вел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юн, мне да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дти Его тро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лю ис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дверях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ть иго прос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Нему стучаться 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ворит: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31Z</dcterms:modified>
  <cp:revision>12</cp:revision>
  <dc:subject>Slavic hymnal Гимны веры христиан, hymn 756</dc:subject>
  <dc:title>Рано я ищу Иисуса</dc:title>
</cp:coreProperties>
</file>