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981F-1A21-417F-9A7B-4FB128C5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8FE-E906-4F3B-8AEE-DA6D5F10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2506-75EA-4D4B-A6BD-A1852294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BA8B-BA53-4ECA-9545-E4062E69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1AC4-AD5D-48CC-BF27-18DBA6EE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718D-B067-4822-9C31-90DD0C6B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EAB-2E7D-47D0-AE93-68470BB7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5F19-6C75-48A8-AE46-71A39AB9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9F16-2E57-4D28-9E98-55CB7A10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3024-B7BD-494A-BC1B-74E5CE92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F6AE-9C3B-4B07-AA9C-20BF1F99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249E-D42B-4317-B025-2BBA3B9A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8A3A0-A60E-44E0-B725-B788431900C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свой крест, иди за Мн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гов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за тебя перед тол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ко кресту приби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«Возьми свой крес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приблизил Он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и снял тяжкий гн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послушным быть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ти, куда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ряд скорбей иль смерти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бурные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 крест за Ним я вслед п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ни вё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ердце, волю, жизнь мою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я от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Спаситель, 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ух и пл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7:28Z</dcterms:modified>
  <cp:revision>12</cp:revision>
  <dc:subject>Slavic hymnal Гимны веры христиан, hymn 433</dc:subject>
  <dc:title>«Возьми свой крест, иди за Мной»</dc:title>
</cp:coreProperties>
</file>