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8C1-E399-4525-8EF4-2BA366F4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C2D-F5FF-4EF8-9332-AF0434FD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523-83EA-4786-BD9B-434384A3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F99-EA7E-4EE8-850D-263C24FB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B20-A3B4-4799-BA46-400809B0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7AC-F1BA-4441-8944-BA4564A9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C02-14E8-48AB-BEB3-2DA9A28B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0A2-B236-4263-B79A-508C0EC3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469-1326-4D58-868E-8A65B930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975-51C0-48B0-A4A4-C367B72E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E2B-54A2-4753-90A3-29105E25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C94-20F0-48E0-9402-85F865E6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111D0-1B01-4D20-B631-0B208BECA3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vellous grace of our loving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exceeds our sin and our guil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nder on Calvary’s mount out-pou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here the blood of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sp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1   Милість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лість Господня велика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більша, як наші всі гріх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а Голгофі з’явила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Агнець кров Свою пр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will pardon and cleanse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 than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and despair, like the sea waves c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eaten the soul with infinite l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, yes, grace unt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ints to the refuge, the mighty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 і вагання, як море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шують, щоби душу згу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всі гріхи милість більш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навчає нас свят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will pardon and cleanse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 than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 is the stain that we cannot h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we do to wash it a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There is flowing a crimson 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than snow you may be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провини ― не скриєм ї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ж може змити їх нам з душ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лянь, ось тече струмок на зм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им він зробить тебе, як сні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will pardon and cleanse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 than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vellous, infinite, matchles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ly bestowed on all who belie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hat are longing to see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this moment His grace rece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я милість дивна й безмежн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риє тих, що вірні Й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, що готові любить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лість в цю хвилю прийміть св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will pardon and cleanse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 than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7:09Z</dcterms:modified>
  <cp:revision>12</cp:revision>
  <dc:subject>Slavic hymnal Гимны веры христиан, Ukrainian hymn 101</dc:subject>
  <dc:title>Grace Greater Than Our Sin / Милість Господня велика так</dc:title>
</cp:coreProperties>
</file>