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C38-5CBC-4484-8043-42E21FFE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AB8-94BE-49BC-B65F-DA9EE31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0A0-DD9E-4F41-B24F-953CFD3D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0AC-E76A-41FD-B86B-FFBD041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FF2-6F86-4FE5-8EB6-054C1A82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CD1-EFAC-4C64-8F19-556787C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505-3324-43EC-91C2-D20C783E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2B0-82E5-4E3C-BBC3-12E54D69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1CB-B9D0-49B4-A79A-C8232CF7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E80-7B9F-4185-A9E7-50298E9F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C5D-9FF8-4CF4-B921-FC77036B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979-03C7-45F5-AD05-3230A6F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FD87A-C9D5-4417-9C8B-514355017C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стро наши дни теку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ень они про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с собой туда влек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уда не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скитанья год пр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земной, несчас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нник ближе под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тране родной, прекра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быстро наши дни те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лго ль будем мы блу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эт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лго ль нам ещё зде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Бога книга наш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ил Он ски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наши пишет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испыт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нистый кончим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м в чертог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лит нам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Своей чуд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, Боже,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й в начале 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о дни нам исчис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ирско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нам в скорби ун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смир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 молитвой прибе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31Z</dcterms:modified>
  <cp:revision>12</cp:revision>
  <dc:subject>Slavic hymnal Гимны веры христиан, hymn 734</dc:subject>
  <dc:title>Как быстро наши дни текут</dc:title>
</cp:coreProperties>
</file>