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CA8-A334-42AF-9DD3-5D401159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723-800D-4F7E-B09D-9265497D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2AF-2AAE-4099-BCDB-C4E1C5C1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3D4-DCB8-44D2-856C-8F7F1459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E27-68BD-490A-91E6-EFC3A10B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558-0C1E-4515-94C6-8F9CDDDB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80F-E2A5-433A-809E-5567C9F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57E-3EFA-469E-8014-813A5205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F37-E9C1-42BF-828D-AC3C0B98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8BE-EBCA-4909-998D-FF4A2F1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87A-243D-43DB-A389-211CA63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ED7-8D18-47FF-8C4B-F7DADF4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09E7D-345F-4D14-B71A-7ECE014286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eav’n You came, helpless ba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ed our world, Your glory ve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o be served but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Your life that we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om Heaven You 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arden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vy load He chose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eart with sorrow was t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 but Yours,” 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see His hands and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cars that speak of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flung stars into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uel nails surren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us learn how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our lives enthron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ther’s needs to pref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Christ we’re ser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12Z</dcterms:modified>
  <cp:revision>10</cp:revision>
  <dc:subject>The Source, song number 114</dc:subject>
  <dc:title>From Heaven You Came (The Servant King)</dc:title>
</cp:coreProperties>
</file>