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0381-31CD-436C-ACAB-97A6480E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FF9A-BF9D-4CD5-B1DB-CD370872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E5F5-7D92-4A0C-B6C7-95A6B786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6BCF-E3FA-457B-87A2-1E8E7D4F9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9C32-D6BB-41F4-AA71-B76E4B9B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BC0B-EDEC-4226-8717-89A31DA9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325E-08CF-487C-BC63-3F133E04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AF99-6364-4EF4-9908-D53D5633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99C3-1B2E-441D-A83B-E7A348ED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CB91-E1EE-4D67-AF1C-E00D36CF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ED55-6E9D-4553-9E43-D2D882A3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E487-1214-463D-AB4A-15C27FCE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5B590-3923-49CA-8D48-ABBEE7C0E84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on, O King et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ay of march has c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nceforth in fields of con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tents shall be our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ди нас, Царь Небес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нас, Царь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в последний б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род Твой с громкой пес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вслед за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’ days of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grace has made us st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, O King et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lift our battle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и благо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итывал Ты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послушной р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щенный дал прик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on, O King et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sin’s fierce war shall ce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oliness shall whis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weet Amen of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нас, Царь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грех исчез с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свету повсеме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е при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not with swords loud clas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roll of stirring drum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deeds of love and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eav’nly kingdom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 копьями, с меч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 ужасом вой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с добрыми дел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т Твои сы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on, O King et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follow not with f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gladness breaks lik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’er Thy face app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нас, Царь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битва не стра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Ты, там свет чуд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лишь хвала зв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cross is lifted o’er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journey in its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wn awaits the con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on, O God of m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крест, Твои зав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кавый не затми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ждёт венец побед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нас, Боже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4:52Z</dcterms:modified>
  <cp:revision>12</cp:revision>
  <dc:subject>Slavic hymnal Гимны веры христиан, hymn 828</dc:subject>
  <dc:title>Lead On, O King Eternal / Веди нас, Царь Небесный</dc:title>
</cp:coreProperties>
</file>