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E9DB-216C-43A6-84BF-506716E3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F606-C813-4D0E-ADC1-F26893EC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0ED6-F280-4798-8431-D19A3E89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46C-6C70-4524-AFEF-A4C4E6CE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B94A-181E-4896-B184-A2779275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016D-9E76-4186-A95E-62DF8E06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2C52-9FE9-4C39-8B29-3238D50B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99AE-AEB2-4FC1-9CEC-03F3777B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B907-FF19-4CA1-BEE8-09F1251B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B033-DD1F-41B6-9F10-C97E319F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780D-E3E2-4830-A75C-C5503B04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2F2D-54A6-420A-A149-A370B944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A77BE-F9D1-4C58-B662-1087F4776D4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и там поля беле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рагоценнейшим пло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нивы золоте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налитые зер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осподь, Тебя мы мол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ылай жнецов в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шеницу собир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десь и там поля беле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и же их вперёд с рассв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олдневную жа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ботать знойным л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ужить Христу Цар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осподь, Тебя мы мол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ылай жнецов в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шеницу собир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для Бога рад труд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тву с поля соби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с нивы возврат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радостью объ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осподь, Тебя мы мол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ылай жнецов в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шеницу собир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8:33Z</dcterms:modified>
  <cp:revision>12</cp:revision>
  <dc:subject>Slavic hymnal Гимны веры христиан, hymn 784</dc:subject>
  <dc:title>Здесь и там поля белеют</dc:title>
</cp:coreProperties>
</file>