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117-BC60-4455-B807-460DB201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87A-7C18-45BC-81E1-17F2D2C7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E50-68FF-4343-89AC-2AD4FD90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735-645E-49B0-8D2D-3F181A9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416-A04C-4AFA-B7D0-A69721F7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D90-A21A-4CDA-8057-2F08FB4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20B-FD3B-40FC-9A3B-34CA3054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7A4-ACC5-4ED8-AA97-49BCEFAE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3CB-BC67-4032-AC7A-498E708F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19A-D59C-4D55-B59C-227581B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E35-F987-4D61-B2C1-ECE1370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40B-EE8F-4660-B269-784AA9F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8B538-D498-4A72-B206-FC9EC6AE47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в истин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здесь — ты будеш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идно, Бог назначил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стезя нас ни в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добра или же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ть мы будем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в душе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стретить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ждено уж тут суд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встретимся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м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31Z</dcterms:modified>
  <cp:revision>13</cp:revision>
  <dc:subject>Slavic hymnal Гимны веры христиан, hymn 748</dc:subject>
  <dc:title>Итак, расстанемся с тобой</dc:title>
</cp:coreProperties>
</file>