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614-BBE7-4CF1-BB08-DC1FC060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5D4-BE3C-4825-999B-F1F83DB9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C4C-1071-481F-AAA6-878C8CCF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48E4-5673-4577-A457-50457EB9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6CC-CB48-4643-B096-FD59D1C8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087-7661-46F2-B0AB-890AC87C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653-5493-4D25-9EF6-127AA292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D9D-BD78-4430-9625-00C0B91B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E15-2B03-4F5F-8851-C09B6E76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09D-955B-475B-BC33-5443D9FA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154-9E32-4722-9E7F-2D0C288D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9EF-95E5-4685-8FA3-D8E2F1CC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6B135-D3ED-460A-BA8D-112A77E6C5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 past the outer cou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holy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ast the brazen al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want to see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ass me by the crowds of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priests who sing their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unger and thirst for Your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t’s only found on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67  Take Me Past the Outer Cou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me in to the Holy of ho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 in by the blood of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me in to the Holy of ho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the coal, cleanse my li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8:01Z</dcterms:modified>
  <cp:revision>9</cp:revision>
  <dc:subject>The Source, song number 467</dc:subject>
  <dc:title>Take Me Past the Outer Courts (Take Me In)</dc:title>
</cp:coreProperties>
</file>