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9BCE-F9BA-4A0C-BD3E-EB85BA80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176F-5BD3-42DF-B3E7-C253AE2C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4108-3C5F-4390-ADDE-A1CAE53F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4AE2-621E-44F7-BA4A-D8C5A66B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5957-B7DF-478E-A339-D22AF233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0CBA-D649-4D90-A63D-19A02690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9F3-2FD4-4EFE-965C-97A79C46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AC8A-FC56-4B3B-8D23-978335A4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FE1B-2100-4C91-B1F2-17B22B14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E10E-C63A-4C98-BBCF-021AA302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6CDA-84A2-43A4-B89A-BC1388D5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EAC1-6B10-4368-A857-74411058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A1498-DC3D-47D1-9DA5-002FBBF95C1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neath the cross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fain would take my st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hadow of a mighty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in a wear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близи креста Христ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близи креста Хрис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сегда пребы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 Скалы высокой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дых от борьб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ome within the wilder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rest upon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burning of the noontide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urden of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утнику надёж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щита от невзг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 страданий отдох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земных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fe and happy she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refuge tried and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rysting place where Heaven’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ven’s justice m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лабым ободр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гнаннику при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илость Божья в мир сош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менила с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o the holy patri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ondrous dream was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seems my Saviour’s cross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ladder up to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ог Иакова в нуж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ом чудным обод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мертью Агнца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д в небо нам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e cross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ne eyes at times can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very dying form of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suffered there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Христ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рел я в свете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а, Верного От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умер з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rom my stricken heart with t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o wonders I conf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nders of redeeming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unworth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прильнувши ко кре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лубже позн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Господней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оту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ake, O cross, thy sha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abiding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sk no other sunshine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unshine of Hi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ни креста Хрис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у до конц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до мне иных луч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свет Е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tent to let the world go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now no gain nor l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inful self, my only sh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lory all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покидаю, не скор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сё здесь нипоч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жусь лишь самого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юсь Его кре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56Z</dcterms:modified>
  <cp:revision>13</cp:revision>
  <dc:subject>Slavic hymnal Гимны веры христиан, hymn 415</dc:subject>
  <dc:title>Beneath the Cross of Jesus / Вблизи креста Христова</dc:title>
</cp:coreProperties>
</file>