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9113-2033-40D3-9BB8-0A4392846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F548-C47D-4D0C-99AE-D789C0280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4A82-9CBA-44C5-ACBF-117533662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AC1D-CADE-4634-BA42-04797068D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04F8-2D08-4AB7-B76C-D34E0AD14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8C8F-8877-4445-8ECE-8A5B781E1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29BF-99CF-4C2E-8792-F6ECCF951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CFB9-39D5-43DA-8129-90D9E6102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A452-C562-40FF-B660-48BED8F45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A601-E257-40AC-B74E-75D1048B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124A-D0E0-4332-95A6-DD201AF17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2404-704C-47E9-8E81-31E2CEBCF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A232E9-5FE5-49CB-B6DE-91519F9B283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an hear my Saviour cal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an hear my Saviour cal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an hear my Saviour cal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thy cross and follow, follow M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5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лышу призыв Иис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у призыв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у призыв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у призыв Иисус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озьми крест с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едуй ты за Мн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He leads me I will fol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He leads me I will fol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He leads me I will foll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go with Him, with Him, all the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иду, куда ведёт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иду, куда ведёт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иду, куда ведёт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страданья, скорби в мире 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go with Him through the gard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go with Him through the gard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go with Him through the gard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go with Him, with Him all the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готов с Ним на Голгоф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готов с Ним на Голгоф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готов с Ним на Голгоф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Иисусом всюду во все д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go with Him through the judgeme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go with Him through the judgeme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go with Him through the judgeme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go with Him, with Him all the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ройду с Христом прегра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ройду с Христом прегра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ройду с Христом прегра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остигну вскоре веч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give me grace and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give me grace and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give me grace and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go with me, with me all the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лотой венец Он даст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лотой венец Он даст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лотой венец Он даст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престолом Бога в веч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уша моя, мужай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уша моя, мужай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уша моя, мужай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идёт уж вскоре взять т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11-28T02:19:53Z</dcterms:modified>
  <cp:revision>13</cp:revision>
  <dc:subject>Slavic hymnal Гимны веры христиан, hymn 459</dc:subject>
  <dc:title>I Can Hear My Saviour Calling / Слышу призыв Иисуса</dc:title>
</cp:coreProperties>
</file>