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7E0-7005-47BC-9160-6486592E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9DB-1E3A-4582-8867-8DA01765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6B5-A043-4EFB-9C1A-335ACCFC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006C-4C2C-42E6-8979-BF10D941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599-D22A-4127-BF9C-6A087FD1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F79-A145-471D-A510-424C45C1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991F-5FCF-416F-8836-02EE9F95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E7D-CDC1-41D6-9D5A-E1AE7D1E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C733-87AB-4859-A0AB-F57DC8D5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7366-CD0C-4EE3-81B4-5B32F033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80F3-DC99-4F19-9897-D7198740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B29-BD88-445A-A5EE-54A15F63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7B1E0-7E53-4984-B085-3C2786C5655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реть, как све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тёмном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добра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х Он не с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менных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видит с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лядит н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ви и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ример подас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, нужду 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ждай доб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для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нести бла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зные 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, будем вер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5:07Z</dcterms:modified>
  <cp:revision>12</cp:revision>
  <dc:subject>Slavic hymnal Гимны веры христиан, hymn 897</dc:subject>
  <dc:title>Мы должны светить</dc:title>
</cp:coreProperties>
</file>