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755-11A1-43EF-83A3-79902430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703-4532-4D44-8E85-55AFD4A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00E-9A51-4938-B466-24AD83B8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C3A-796C-48B0-8EB8-12E4FE46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377-9D2A-49AD-BAEE-B05AF0BD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255-E43A-4984-91D1-17648C4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61D-E0BD-4381-A616-BC72224B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B1C-15EC-4191-8496-E094381A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F97-BEEA-47A1-A29F-88D58E5C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116-5602-4E26-BDDA-7C392EC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683-E59D-4FF3-9BA8-4EBE9C7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C72-7D30-4EAC-9A9B-33D0CDC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B2BBB-0033-4E73-9B70-5C33A1A7BB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 when I am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easure that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 as a precious jew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o give up I’d be a f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1   You Are My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21Z</dcterms:modified>
  <cp:revision>11</cp:revision>
  <dc:subject>The Source 2, song number 1081</dc:subject>
  <dc:title>You Are My Strength When I Am Weak (You Are My All In All)</dc:title>
</cp:coreProperties>
</file>