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5B9-6366-4042-AAC2-FB5B4ECA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38F-3A5B-4387-B1A3-60C5428F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431-52ED-4FAD-9086-5B51228B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F43-C310-47BF-929F-4AEE5938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2E8-B0B9-4480-92E0-988B2707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359-B6E6-457C-A2DA-8A019747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140-4514-414F-803A-C4781DBB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BAD-F5D6-4C3E-BC5C-DC18A717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130-E025-4934-9DA9-FE786A68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5EB-6777-414F-9381-A514806A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5F9-D5B9-42A2-AAEE-E3DE196A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447-DAFF-42DE-97CD-71624581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9004B-FB41-44F7-ABEA-51816E88C3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morning, sowing seeds of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noontide and the dewy e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for the harvest and the time of rea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1   Будем розсів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Слово Боже р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заході сонця, і вдень, і вноч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о чекати урожаю з л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sunshine, sowing in the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ing neither clouds nor winter’s chilling bree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and by the harvest and the labour 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 в пору добру, чи в час непо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ть у час бурі, спеки чи дощ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 занедбаєм славної на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ing forth with weeping, sowing for the M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loss sustained, our spirit often griev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weeping’s over He will bid us wel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правду Божу вс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і перешкоди різні навкру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час настане, жниво все достиг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1:58Z</dcterms:modified>
  <cp:revision>12</cp:revision>
  <dc:subject>Slavic hymnal Гимны веры христиан, Ukrainian hymn 41</dc:subject>
  <dc:title>Bringing in the Sheaves / Будем розсівати</dc:title>
</cp:coreProperties>
</file>