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85B0-3227-475E-8BB7-D720176E8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4155-E383-4B07-AFD2-1AF1258F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81F7-63F3-41AE-BAF1-E97A5D59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878A-E07A-4E4A-AEFA-55A63A51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5800-7AB3-4CB9-9BA5-1EFDD828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1563-CA26-4752-84E4-3807C668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1068-3AD7-4CF9-88EB-9E63857E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AD0D-DE5C-45F1-8A26-A80DE162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2903-F1D3-4FF0-93C2-16B745C1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C78B-2578-4370-9B77-863429AA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3E19-08B2-4C3C-87AC-943F8DDA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21C1-2DA8-4625-8265-EC199E6D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161AD-17CE-4900-98E8-3B128BC2457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коро Спаситель на землю при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лаве и силе небес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Он с любовью к Себе призов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в чертог Свой чудес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них твой грядёт, о невеста, не сп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ей приготовься, светильник заж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ыйди поспешно навстре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ж скоро Спас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ы и минуты мелькают, как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ёмная ночь уж проход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ёй вдалеке разгорается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вечный, день судный подхо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них твой грядёт, о невеста, не сп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ей приготовься, светильник заж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ыйди поспешно навстре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скорее на землю гр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ленье, и смерть разруш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ое царство везде утвер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нам обители р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них твой грядёт, о невеста, не сп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ей приготовься, светильник заж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ыйди поспешно навстре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7:48Z</dcterms:modified>
  <cp:revision>12</cp:revision>
  <dc:subject>Slavic hymnal Гимны веры христиан, hymn 327</dc:subject>
  <dc:title>Уж скоро Спаситель на землю придёт</dc:title>
</cp:coreProperties>
</file>