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D4E-8939-4CE3-97EC-BC36F590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0E2-89A2-4D53-B292-BD8503DA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DC6-E5CD-47FD-8AD1-B0478C3B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9AD-30A3-4DFA-AF1C-3288886C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C41-6962-4A6A-AD58-625A1D6A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8B6-F239-4C4F-9911-97E4E1B5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86D-345F-49ED-A14F-E20EE80A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6C5-CB78-4CEB-A845-C88C5D4D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AD6-2C64-4937-9ECB-AE1EED56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47F-3E03-434B-9DE0-D15486B0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570-5B3B-4B93-9B64-3D72F37C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ACC-713E-44B7-AD8F-C5ED3903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69622-A376-4AF8-9D1E-4E655AE2E8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hall rejoice, we shall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e glad in it, and be gla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17   This is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day 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hall rejoice and be glad in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7:14Z</dcterms:modified>
  <cp:revision>9</cp:revision>
  <dc:subject>The Source, song number 517</dc:subject>
  <dc:title>This is the Day</dc:title>
</cp:coreProperties>
</file>