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EA0-017B-4BF9-91ED-6991A004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D83-5AEB-4A17-9104-F4B5AE97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921-FD44-4453-A826-058CC8BF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7D5-5D67-4E82-87E3-35A011E8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BE5-9B22-4AE1-895F-9E23C2AA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DDF-26B3-4582-947A-8AE77B07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A8F-CD19-45A0-9D1C-91288246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65D-8D80-4303-BDF9-3E9D47E6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CE0-70FF-434D-B5CD-8B65D9F1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C50-F0B0-4A6C-A3C5-8CB465F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2AF-9614-4DF8-9AFD-E74AEBB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91C-44BD-42F9-A648-A7EFE291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AB016-5701-43CC-8CFC-3D58DC8804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mock purple ar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 piercing Thy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ands bound, taken out of the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агрянице стоишь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агрянице сто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го спереди связаны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ood from Thy fore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now trickling dow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more they are engulf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ughter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вали в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лилася с ч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ни всё сильней хох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традал и тер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рочный над Богом глу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, о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так тяжко то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ace showing the suff’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Thou didst a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so for Your tormentors—what p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скорб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едном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жалости к людям и му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suff’ring transc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re physical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hough Thou art in dire situ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телом скорб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зорная пытка ужа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er far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ual suff’ring end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they would reject Thy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ый час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равненно бо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, что жертва для многих нап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ompassion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ches out to Thy foe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rt for them is o’erfi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любовью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я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жно объять мир стрем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do not under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their hearts are clo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prophecy they are fulfil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многим пон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лпа над Ним злобно глум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ring the sceptre to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your knees, every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ever, O King!”—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ors’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кипетр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скор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равствуй, Царь Иудейский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и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nto Thy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God’s only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the reed of bulrushes are for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текши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я всех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стниковую палку вла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reeds they bea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arp thorny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laps on Thy gaunt ch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af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ли трость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олючкам в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 впалым ланитам хле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37Z</dcterms:modified>
  <cp:revision>13</cp:revision>
  <dc:subject>Slavic hymnal Гимны веры христиан, hymn 285</dc:subject>
  <dc:title>In a Mock Purple Arrayed / В багрянице стоишь Ты</dc:title>
</cp:coreProperties>
</file>