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9FB-6684-46ED-9FB1-FA9F7636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218-33E9-4C33-8FA3-CC4B4D64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829-8F09-42BA-B034-E772C25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27B-927B-43BA-939E-D3091F54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C5C-197D-4698-B1A6-F6DCBA8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4D9-8407-423D-9B86-015A706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696-D8D1-40C6-9D89-6AC4F862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BB9-E176-4287-A286-340E278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4C0-936C-40ED-84CD-04BD8A08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865-50EF-4817-B6FB-26DC3CB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A31-0F2C-4BEF-B940-D82CEE5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633-31DC-428D-A4B6-13E0F28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9F101-AB7C-4C70-A149-CC8F49EC46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36Z</dcterms:modified>
  <cp:revision>13</cp:revision>
  <dc:subject>Slavic hymnal Гимны веры христиан, hymn 385</dc:subject>
  <dc:title>Сняв с нас закона порабощенье</dc:title>
</cp:coreProperties>
</file>