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4E3-720B-4BEB-AE70-D55D687E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D4C-EF81-4EA3-B557-4D8B047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39E-50BA-45F7-8435-E5436282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151-D6C7-44FF-ADF4-0A96792B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597-2EFF-4EFE-8138-C207A95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E7D-DD0A-4CEC-946B-7D068FB3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83E-A3F3-4D96-BF48-9B168D39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5A6-D43A-4567-B67A-255DFFF6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76E-663C-4B59-B109-14EF9FA4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D05-A710-46A2-8D9B-10D5AA6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35D-05F5-47DB-B3B7-F5371C5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B47-1C85-4994-92B2-59F9547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F740-E3BD-4279-AF7B-CD18E17E0A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57Z</dcterms:modified>
  <cp:revision>14</cp:revision>
  <dc:subject>Slavic hymnal Гимны веры христиан, Ukrainian hymn 22</dc:subject>
  <dc:title>Come, Let’s Ascend Mount Calvary / Зайдім на Голгофу, друзі!</dc:title>
</cp:coreProperties>
</file>