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89C-71BD-4031-AC7A-5DA8035A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29D-075E-41A4-AE01-68351EF0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13F-EFEE-4E81-8FE9-CCB07306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5DE-428C-419B-B1C1-31326451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E01-8CCE-4125-AA1C-52F9032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4C6-738A-4575-9F1E-51AE05F6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2B2-2C74-44EC-82C0-360C54D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738-8CEE-4B2A-8BB6-ACE4C355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36E-B62A-4D8B-88ED-90E835F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537-6B33-42B7-A0F4-B2A82EC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5D1-9EF4-4407-9462-E7A2A3E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00C-815F-4E48-8105-D65B605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FE1E-8621-48E6-BD5E-334280FA60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44Z</dcterms:modified>
  <cp:revision>12</cp:revision>
  <dc:subject>Slavic hymnal Гимны веры христиан, hymn 613</dc:subject>
  <dc:title>Ты куда идёшь, скажи мне</dc:title>
</cp:coreProperties>
</file>