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80C-A0FD-40B0-9F14-3C594905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64B-440C-416F-A3B0-B78722D3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6BF-86A9-4568-AAFC-B890B458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458-E99A-4BE6-BCD4-C9D394A8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2F2-413E-4675-B9BC-21CE393E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8AB-7A27-496C-824F-C29E4EB9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4E3-4296-4CD1-A42B-1F1694BB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005-9280-4D2D-A475-553FEB69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F65-71F6-4B9B-BD1B-8F75F8E2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CA5-BAF9-468F-9C43-B7CB77E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114-4A21-4826-9640-1E2923C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B54-1493-4FC0-9A23-F9BF62C4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491C7-AAD9-4173-B88F-B4E2957E04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твои очи слезами пол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твоё сердце дрожит без в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ий и горя ты много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ть и бороться не чувствуешь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ало надежды, так много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ало ты веришь, что милостив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ни: Господь не оставит С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и во всех испытаньях зем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чём твои 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ьи пади перед Бог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твои страхи развее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чит недуги, прогонит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воги умчатся в безвестную д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28Z</dcterms:modified>
  <cp:revision>12</cp:revision>
  <dc:subject>Slavic hymnal Гимны веры христиан, hymn 710</dc:subject>
  <dc:title>О чём твои очи слезами полны?</dc:title>
</cp:coreProperties>
</file>