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107-D6DF-498C-BB8D-65D91990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287-8597-4585-8851-F9A6131E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54D-6BBE-4BA3-A354-C1E5043B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3EA-6F47-410E-B2E5-79445CDA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A5F-2437-4684-A9A0-B1A48769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B1D-A045-4647-AA91-CE338CDA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A02-302F-4333-BEAE-FCB9F108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097-D926-4737-BDD0-8CB3161D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6D8-5586-415D-BC11-0435D971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8F3-0780-4330-91FA-586AA0EA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63D-749D-4160-AA22-CB909A7F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D84-02BF-4225-A95D-4C2B27A2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5D042-F984-45DE-8571-6529CB47AD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, братья, и в песнях дух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и честь воссылайте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нашёл всех в оковах грехов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явил к нам любви полн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ен в Своей благодати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храняет нас в жизни 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оздвигнет святую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арит нам венец зол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уйтесь, бра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, братья, тяжёлый наш жреб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мы в мире строптивом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ст покой нам блаженный на н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крепит нас в тернистом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10Z</dcterms:modified>
  <cp:revision>12</cp:revision>
  <dc:subject>Slavic hymnal Гимны веры христиан, hymn 609</dc:subject>
  <dc:title>Радуйтесь, братья, и в песнях духовных</dc:title>
</cp:coreProperties>
</file>