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6C0-6401-4E3D-9B78-22F91437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189-676B-412F-8A23-AB5E1FA0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07E-0F67-44AE-B4ED-B2AC1937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0FE-2562-4F94-BBA5-B93D619A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651-65E3-4F8A-A277-D49757D0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FCF-B51C-46A8-96A2-E52B5AEB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77D-51DB-4D84-9DB7-A75467FA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7A6-4B46-458C-AAA8-C94C0F66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0CB-9A56-4E58-8B75-FCA6A99D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BA3-EFA1-4663-8765-FAC2D77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C77-9F4F-4D7C-9369-9227AB46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434-FC68-4A77-B05D-F07B681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154EF-8BD6-4383-9BCF-913285A165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повисла над городом юж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пыхнет восток голу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на земле мне не ну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олько Спаситель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шёл меня в мире су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души моей тягостный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всемогущим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ё сердце от счастья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 повисла над гор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ничего не мог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не прожить не гр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пою 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Нём отдыхае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ывают минуты лих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как море, запенится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не боюсь я стих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ядом Спасител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йный ветер над городом 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ажая деревья в с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уда от Христа не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уда, ни за что не п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40:37Z</dcterms:modified>
  <cp:revision>12</cp:revision>
  <dc:subject>Slavic hymnal Гимны веры христиан, hymn 790</dc:subject>
  <dc:title>Ночь повисла над городом южным</dc:title>
</cp:coreProperties>
</file>