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1AE-52C5-408D-95EB-49752E65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E5A-72B6-49B2-BAF1-D068D27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A17-E42E-4ADF-9EA9-449E8C50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D05-877B-4C4A-8623-4927D207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313-22D5-4FFA-96E4-E895FA8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F8F-1207-45A8-AE55-0F77E398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A116-32EA-4982-8F1D-4F1D98DE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FAD-9D9C-4D38-9D31-72695BB5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F97-7F37-4754-8BB7-627C5F6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9F8-66C5-4A9C-93B0-075FDEE3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FF8-54FD-462E-83EF-79F68AC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67C-7897-4467-9C1E-5D26673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80AA4-2516-40FB-8E8D-2F49A6B815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заблудшему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щему домой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зовёт, любя вд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, заблудшему в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лас довольно мне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ужит мне советн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он гласит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 святыми может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сть на престоле в выш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я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ься от всех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решное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ю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46Z</dcterms:modified>
  <cp:revision>12</cp:revision>
  <dc:subject>Slavic hymnal Гимны веры христиан, hymn 359</dc:subject>
  <dc:title>К тебе, заблудшему в пути</dc:title>
</cp:coreProperties>
</file>