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0A5-3FAA-4BF3-BD6F-18D06F5D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D62-1BCB-466E-81F0-3E9F1AE8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BA5-D076-46D7-9ACC-0CBDC933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BEB-E3BB-4CB1-9B0A-94D5B88F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E0A-73B8-4255-ACE8-C0EB94D1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CF2-2AEF-4F9A-8E94-284501E7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D83-FF6F-4BD7-9AC4-D4B20018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27D-CCA2-49C5-9FCA-C094536F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FE4-37D3-494E-A0C2-11516C0B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AB2-CA9B-4DCD-839B-43A267FB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905-B58A-4831-9AA6-54BF15FF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877-6D42-4782-8A5A-B623B0FB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A2242-466D-4F97-9404-2848088257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спустися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ого затро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холодных дивно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и святой ого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о песни мы 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лодно мы вста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нас нет радости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енья на у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ух Святой, спуст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лго будем прозяб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с неба ветер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ой любви в нас не ви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ж — так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спустися к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излей в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шу — о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30Z</dcterms:modified>
  <cp:revision>12</cp:revision>
  <dc:subject>Slavic hymnal Гимны веры христиан, hymn 311</dc:subject>
  <dc:title>О Дух Святой, спустися к нам</dc:title>
</cp:coreProperties>
</file>