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02EE-6BDE-48CF-9733-290BA407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60B-56A4-49E2-B894-D5FCDDEC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94E-8792-451F-A899-344D160D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FC2-38E7-41E6-B2F1-4B9F7C5C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A855-6733-4E01-A71C-6DAF2648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AE8B-1985-4575-BB36-12D0AD65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B094-8B6D-4C22-B370-454AEE00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493-636B-423E-8FE3-03AA17C8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E27-FB82-4B82-A3D7-4F51F34B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EFB-8BB2-4899-B962-C6CDBA15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A5F-3E41-4C3E-A284-30481AD8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FF2-1781-4565-94A6-5125A949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526C5-ECD8-4451-AB75-DD1764D477C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оже,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Ісус може ізцілять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хворих ізці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ртвім життя д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іпим дає Він зр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ивії ходять в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5   Він може, Він м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оже,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Ісус може ізці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3:42Z</dcterms:modified>
  <cp:revision>12</cp:revision>
  <dc:subject>Slavic hymnal Гимны веры христиан, Ukrainian hymn 105</dc:subject>
  <dc:title>Він може, Він може</dc:title>
</cp:coreProperties>
</file>