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8FD-A7E4-481C-9320-9B264177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B174-5159-46B4-A6E5-D7E8662A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FE29-3045-471A-9646-1FD02066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D56D-1258-4284-93BA-51EF5D7F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4106-0878-47F8-98F6-026C706A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74B-95C4-42CB-A3A5-33389ECA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A37-447D-452C-802B-4CF37005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0CFB-06A1-4385-9C6A-F1777C23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7C3-73A5-4B54-8E8F-A13719D4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D590-8353-473D-B3F6-AEFDA0E5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8B2-FA3E-486D-8294-F808E311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E55-CDD1-4CD2-B380-7EF63AB2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C65C8-01FD-4888-9D89-99264A2D16A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год пришёл к конч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ш Господь жи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радует нас ны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м Свой мир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а земле мину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, слава, крас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чность нам дар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любовь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 год пришёл к конч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ж, Господь, всёц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сех и навсег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наш дух и т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якого вр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, чтоб год гряд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был Твоим, наш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як, в Тебе жив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прославить 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в жизни быстрот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е нашей пл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ь ко славе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жизни нашей х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вечный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и во всех сердц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мир познает сл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ти в Твоих путя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0:53Z</dcterms:modified>
  <cp:revision>12</cp:revision>
  <dc:subject>Slavic hymnal Гимны веры христиан, hymn 732</dc:subject>
  <dc:title>Вот год пришёл к кончине</dc:title>
</cp:coreProperties>
</file>