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510F-41D1-413E-944C-031D7EF5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D912-C396-4EB2-8A15-B76CA0A0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DC8-2D6E-4CD4-842C-E98D8B82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607-5515-4007-81D6-EF96334C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8DB-E95D-4A1C-8FFD-709767A6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B36-4864-475E-847D-6F99460D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888-6AB0-4ED1-ACC3-2B8D2BDC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57F-C61C-4346-8C43-40646445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D27-561B-4AC5-830E-68CA9FAC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856-864E-49E5-82EC-A48E2947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CE6-8708-4AC7-A9D0-7BC768C4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2C0-ED61-40B8-830D-09FBAF96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D10C1-13F8-486E-A48D-83E1D09C21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тру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 нам выступать в пох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Начальник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!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не бойтесь, н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Побед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вучит тр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душно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мся к вечной цели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х войско благослов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евностью горели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раг сил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тив нас не усто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чрез Агнца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― наш Вож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крепкий щ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 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ожию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душно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мся к вечной цели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х войско благослов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евностью горели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лго будешь ты враг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ь сво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ай в ряды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скорей в Отцовски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ав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го тру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душно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мся к вечной цели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х войско благослов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евностью горели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3:40Z</dcterms:modified>
  <cp:revision>12</cp:revision>
  <dc:subject>Slavic hymnal Гимны веры христиан, hymn 491</dc:subject>
  <dc:title>Звучит труба</dc:title>
</cp:coreProperties>
</file>