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352-E8C7-4973-9178-FD0322C1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172-D6ED-4C92-B9DD-D73653C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E81-2EA1-4FBF-83B7-305CBB47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E4F-DD1C-4DCA-B6F3-D4BA51C3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581-4AB7-452A-9771-75AB015A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018-7351-43FF-971F-011D39E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CB9-8922-4F23-862B-055980BE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78A-8769-4241-B9F3-570BC28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699-62E4-4AEA-9234-0D4FA43D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CBF-D4F5-4F8A-B5D3-7F29C8B8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CD8-E0FC-4848-B8C5-D0FCB73E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15E-88DB-48F5-BD7B-B20E444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47E71-6D02-460C-A12E-E94E01C676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of Christ I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’ring o’er the wrecks of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ight of sacr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s round its head subl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woes of life o’ert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s deceive and fears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shall the cross fors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it glows with peace and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 of bliss is b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ove upon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he radiance 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s more lustre to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ne and blessing, pain an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cross are sanct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is there that knows no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s that thro’ all time ab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45Z</dcterms:modified>
  <cp:revision>12</cp:revision>
  <dc:subject>Slavic hymnal Гимны веры христиан, hymn 864</dc:subject>
  <dc:title>In the Cross of Christ I Glory / Я хвалюсь крестом Христовым</dc:title>
</cp:coreProperties>
</file>