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FF6-AB9D-4F75-B9A8-F9C824DB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12C-8AE6-40CE-A903-817E1ECF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1CE-F189-4247-91A3-44DCC171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A09-29D5-4C13-8CC1-1C36BEF7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630-A5F9-45D0-91C5-047B9F98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709-0081-4E62-ACB1-B2454DF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DD7-50EC-495A-B798-8B171C5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4A0-9ED9-4A64-A942-81D8A6E4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AAD-32EE-42FE-A333-761EA29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0DC-B90F-494F-A163-52C2541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A20-CDE2-4DC3-BE9F-4D0C83D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407-7AB8-4087-A42F-6B7E6C4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2E487-97CB-4B17-BCB7-0DFC557F7D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ги Господа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пойдём, чт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ам пр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овета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нас напр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илы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обно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 к тру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чущий хлеб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жаждет, к источ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мы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слугой сво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мрака и лж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ь должно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славить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ржеством воспе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небесн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рует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обитель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одвор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и песнь вос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42Z</dcterms:modified>
  <cp:revision>12</cp:revision>
  <dc:subject>Slavic hymnal Гимны веры христиан, hymn 525</dc:subject>
  <dc:title>Все к труду!</dc:title>
</cp:coreProperties>
</file>