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97C-669F-4855-8314-2F913CB7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444-B116-4C89-8E24-B583C03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9E-C94D-442E-87F7-737DC243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4EB-1A28-413D-A4DB-FA04D53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DD9-DAAF-4136-996F-95A768CA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33F-1684-4DAF-BB9D-6D3FDB39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29A-04CF-43C3-9402-7113FAB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97-0CE9-43B4-A72F-3D2E5F53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61B-1DE4-4EF8-B285-7BEB433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77D-54F5-4E97-B3F9-A136A15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195-6447-4787-9B7F-22A6151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858-76F3-49A2-94C2-3E4D9E6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D57C-E253-4E80-A869-250EAE3375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3:08Z</dcterms:modified>
  <cp:revision>13</cp:revision>
  <dc:subject>Slavic hymnal Гимны веры христиан, hymn 243</dc:subject>
  <dc:title>Радуйся мир! Господь грядёт</dc:title>
</cp:coreProperties>
</file>