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F140-241B-46DC-A480-76FBC3B9B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5DC7-627A-42F2-85EB-35040CC6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79D1-E7C2-4276-9A96-8F6266F8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B380-3207-4D04-8148-5D17F1B9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9ADA-AF43-49E2-B7B7-837805FC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93C8-63C5-4236-9558-AFF637C6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A607-2E07-41DB-987D-D2A4257E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7712-8786-43F1-9C8A-FAC77F22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C6B2-8E07-466F-881D-106FD01D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68A4-5D1B-42EC-ADA9-A0CFE49F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587F-1EF0-413A-89AC-F31F442C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6F69-6A47-45CF-B920-5D907686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D4F62-69E3-4784-87A6-8CBCB4BF8A6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 — орудье ка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олгофу нё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тко без боя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го хот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пути зем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ёл и я в терп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Его кре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рест — орудье ка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идя смирен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крестом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ал Царь всел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лаза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же крест суров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Он облегч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в греха ок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емя усла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иго бла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уше м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и отва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крестом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бремя, зн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мне легк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го взи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недале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3:09Z</dcterms:modified>
  <cp:revision>12</cp:revision>
  <dc:subject>Slavic hymnal Гимны веры христиан, hymn 493</dc:subject>
  <dc:title>Крест — орудье казни</dc:title>
</cp:coreProperties>
</file>