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62C-09C5-4FEE-BCA7-9BA0B626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E7A-109F-427D-9D26-9F00BD78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F0E-CD0B-4983-A060-A6F1C8EA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80B-23E3-4B60-9726-43062A3C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B20-F6BD-48DE-A379-4F0EABA1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C7F-7805-40A7-8B57-D8344216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779-A4D2-4607-A04F-C56D8AA8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CED-3F88-465A-90F5-EC9CE4D9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85C-6345-46EF-92EC-1EA93CCA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95F-58DC-4622-A800-3CC62694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43D-CBEB-4FA2-B1EA-99E08F03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C29-9697-46C3-B0FC-95684F60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EFFA7-9F49-4839-9AC7-DC96484C8A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наш свет и упов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ердыня наша и ск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нам мир и оправ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авляет нас от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часто враг иск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душевный нам 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ев свирепый, разъя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аждет всех нас погло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— наш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враг пылает злобой ди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бессильна наша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ним боролся Муж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ого послал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 этот дивный Муж всесиль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Царь наш и миров Тво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ш Господь любвеоби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человеческих сер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ы мир был полн враг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с нами и мы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имся мы сердц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сё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ь мира в злобе и смят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не может погуб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ан Богом осужд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язан скоро должен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мир нас всех осу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навидит, будет г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ог заступник верный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ой жизни —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нас лишат им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а, свободы и сем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 к нам с утеш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адит нам крес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40Z</dcterms:modified>
  <cp:revision>12</cp:revision>
  <dc:subject>Slavic hymnal Гимны веры христиан, hymn 621</dc:subject>
  <dc:title>Господь — наш свет и упованье</dc:title>
</cp:coreProperties>
</file>