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CDF-FEE3-484C-A52A-69635932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E35-7DF8-45AD-A1C6-B9CDCAA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4A1-028D-459B-A3A6-60D94FC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D15-E06C-4FD1-8FBC-DE7F5C15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051-0B41-48D6-88DD-210AABFF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7F1-8003-47A1-8ECE-EDF4B5BF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BCC-1562-47A1-AB6A-8087571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C5A-228D-4AA1-AB1C-D182E1E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12E-298B-4E2A-86C8-62BB6AE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D41-8DCB-4ACA-AF96-F70A8E3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0A9-5C6E-4294-AFBA-10C3420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2AF-44EB-405C-BDB1-1CD490C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AFA95-8225-4131-94A8-806051CBED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кращий інший-світл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печалі там не з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святий, край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ть там святі пі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и там живуть я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 там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2   Є кращ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китне небо там без х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ий край, світл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е має там при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ості там без кін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ясним лицем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крізь нев’януча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край, дивн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винні всі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віт пройнятий весь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шов терпіт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Він змиє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край блаженства нас в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усі ід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им будемо там віч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гайтесь! Скоро час ід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в вірі вас Господь зна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а нами знов прий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49Z</dcterms:modified>
  <cp:revision>13</cp:revision>
  <dc:subject>Slavic hymnal Гимны веры христиан, Ukrainian hymn 52</dc:subject>
  <dc:title>Є кращий інший-світлий край</dc:title>
</cp:coreProperties>
</file>