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704-B099-4B23-B4A4-71FD08B1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C8C-58BA-43A1-80D4-C81E0CE9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9A6-EA1A-4047-B6F3-F4B5DF79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18D-7F9E-4BC0-AAC4-021B76A2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421-DDD8-4D3D-B703-BC5B5F59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35C-F473-4054-812C-322FD21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E14-4139-4AF0-9269-DA435F8A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FAB-4806-44DE-AE57-6CA1F7A5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E2C-E490-479B-B19F-98088BB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6F8-C35E-4ACD-A792-CB6CD960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B3D-6D13-4061-9DE9-246D8DE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3D6-A6AC-4F0E-959D-D7821744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4A7D3-5DA6-4758-BF3E-25AE608BC8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вол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а   Житейское море буш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руч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у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ты ве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ю дов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 жит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а за вол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16Z</dcterms:modified>
  <cp:revision>13</cp:revision>
  <dc:subject>Slavic hymnal Гимны веры христиан, hymn 773 (as amended)</dc:subject>
  <dc:title>Житейское море бушует волнами</dc:title>
</cp:coreProperties>
</file>