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7CC-1C7D-4928-83A2-4B5901CA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94D-D58A-4F3C-9D0D-59E0EC34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51F-0F90-4B22-A7CD-9C62F90F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D29-86D9-47A4-A413-21838060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2F6-2FC7-4DD2-8E78-7CBC3FFB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ECA-E8B5-472E-BD88-52E5F41E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310-9261-4DFD-933A-C3640AA0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1E2-2D08-4B07-B150-1FE63C2E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5C2-165C-4570-AD8A-792D841C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9E36-A9F1-4463-9190-EFE75B36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B69-90EA-4319-8B89-798177DD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266-A9C3-4E74-8582-C9DB848D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07CAD-CB6C-471F-9759-A26DEF265F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гольську пісню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ім пісням ти вол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ові в небі хва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покій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   Повість скажи про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стив Він у пуст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рога як перемі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і пережив невес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нений був від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безпритульний, голо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помагав у нуж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багатив Він нар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же був бідний то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 хресті розіп’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на ньому вми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 домовину покл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воскрес Він і вст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кажи з напоми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 тому це ро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грішну бідну люд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д життя полюб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6:15Z</dcterms:modified>
  <cp:revision>14</cp:revision>
  <dc:subject>Slavic hymnal Гимны веры христиан, Ukrainian hymn 2</dc:subject>
  <dc:title>Повість скажи про Ісуса</dc:title>
</cp:coreProperties>
</file>