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585-1236-401D-AD5E-3111252F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414-FCBE-45B4-BAFD-60DCFA68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570-A280-4837-9193-0CDFEE97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C52-447F-4FB4-9D35-8EEDCBCE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8B6-55C8-4C0C-B0E4-8DC26BCA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B12-EAD6-48EF-BDE2-812B3407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E4A-38E2-47BB-A43B-804C00D2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00B-AB0A-4ABB-B6BB-3F4ECD33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2BE-6A6B-4406-A05B-196500E4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3CB-4E23-413D-9A12-8B3E9226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446-8F85-4F71-8727-B27BB997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16E-2986-4E80-B7A4-8AFE91F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F6B15-C428-4CD1-AC3A-7F8D15EC15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Твои, Иисус благ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же нам плодов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ар прославить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ь, мы — Т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тви малые Л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,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Лозе предвечной ль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отим на ней пре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че, крепче с каждым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ь, мы — Т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рас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осят плод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м, Боже, 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асти пе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ь, мы — Т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34Z</dcterms:modified>
  <cp:revision>12</cp:revision>
  <dc:subject>Slavic hymnal Гимны веры христиан, hymn 761</dc:subject>
  <dc:title>Ветви малые Лозы</dc:title>
</cp:coreProperties>
</file>