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D36-C37D-49F6-91AA-0B223037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9B3-400B-4F4C-8BC9-FDE8C7BD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755-DB67-42D2-83A0-A559F8BE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B91-6383-4731-88ED-A39AD107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315-16B1-4083-BCDE-A6C9FD85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E3C-D92C-4D39-A0F2-8ED7D9DC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D70-F89F-4AE6-8B08-5FA641F4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A0B-4BC5-423D-8DE2-EF924F45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15C-19A7-4502-AA33-402012B6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9F0-25F0-4598-BB25-9FBB3BAA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5182-07FC-4327-A702-D3C7585A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307-4193-4460-AD3D-54E28DAB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B5BD0-F42D-4973-91AA-6D96D037E6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нежданно судный де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траху люди побледнею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унынья ляжет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умолкнут, занеме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ет землю тьма гус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нет солнце, месяц, звёз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оры встанут в море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раке буря зарыд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ёт нежд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стся с неба голос трубны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час откроются мог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ящих в прахе непроб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удит слово вечной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нежданно суд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т горько плакать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ут песни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ло, страшно, жутко бу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01Z</dcterms:modified>
  <cp:revision>12</cp:revision>
  <dc:subject>Slavic hymnal Гимны веры христиан, hymn 322</dc:subject>
  <dc:title>Придёт нежданно судный день</dc:title>
</cp:coreProperties>
</file>