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CEA-CD24-41CA-9D2F-D28B2DDB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B7A-9689-4A8C-881B-20C3B87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2ED-09E9-4688-B0D8-D72AD980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D90-1F66-49BC-97CF-F02E6D1C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7E7-AE97-4CB2-9D1B-1A6DA72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F1D-CC8C-4502-840B-A9D143F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F52-F9BA-4732-A167-DC71B13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9D6-67AC-4C03-8ADE-59FB2F0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44F-8164-4F1C-B491-70ED5BB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116-F0A6-42F0-8363-F88D107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C2D-2884-4784-BC4A-BE740D6C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416-9B1B-434B-929F-9851C4F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5BE09-AAAB-486D-A73F-6EB3646AEE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3   I Cling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at the empty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omises I have in You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ali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You said wa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ffered, died and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u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bring 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43Z</dcterms:modified>
  <cp:revision>12</cp:revision>
  <dc:subject>The Source 4, song number 1883</dc:subject>
  <dc:title>I Cling to the Cross</dc:title>
</cp:coreProperties>
</file>