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945-8BDB-46B2-87BC-4CD07356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74F-FA8E-4386-889C-0BB4E9CF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E6D-0035-41BE-BA6E-262933CD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DCC-DA42-4A48-B081-80CE452A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28F-5862-4123-9D76-ED865109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CE9-88FF-4E24-A053-58EEDDA4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A90-DEE8-455E-A16E-5B67EEBA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9080-EA14-49EA-8C57-7AA492A5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A52-B8B5-4958-8D0C-EEFA9C3F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7C7-850C-4EA8-A137-16FB2C4A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95A-C104-4722-B463-31724F75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929-A608-4725-B746-83B0082C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DC6B6-70DB-4C6D-A9D9-3642E7C8CF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love (more lov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ower (more power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of You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love (more lov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ower (more power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of You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5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ore Love, More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love (more lov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ower (more power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of You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love (more lov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ower (more power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of You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ek Your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ek Your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ek Your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0:55Z</dcterms:modified>
  <cp:revision>11</cp:revision>
  <dc:subject>The Source, song number 359</dc:subject>
  <dc:title>More Love, More Power</dc:title>
</cp:coreProperties>
</file>