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33B-20D1-4844-886C-58766D95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A2E-36D2-48F1-8A7F-BA2EA1DF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26F-DE64-4664-AC2E-59A90845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92C-002E-4238-81AD-D348BC0E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1F3-09B3-450C-A546-AC0C64D3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4CB-C5A8-4AAA-BD2A-F9605076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8D4-50EC-4FB7-8F7F-BBED1777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6E0-0225-4726-AF66-7330ACE6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0AB-5CCF-4B7A-B6FA-6D4AEDA9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884-4F2A-4F68-A897-12786900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404-F444-45D7-95F9-BBD87B95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E01-34C3-4E17-8A2D-0A22094C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7501A-6214-412D-B50A-91A17B7D46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 всем Его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ю возношу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дко верить 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я на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го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служу, мол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посвящаю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иятно в Бога в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пребывая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Господа жизнь м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овляясь с каждым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найти от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Голгофского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у за грех в наг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праведность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4:11Z</dcterms:modified>
  <cp:revision>13</cp:revision>
  <dc:subject>Slavic hymnal Гимны веры христиан, hymn 622</dc:subject>
  <dc:title>Сладко верить в Иисуса</dc:title>
</cp:coreProperties>
</file>