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036-8173-45C0-A6CD-F2848FD8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678-7FF8-4B77-8A4C-553AC78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FEC-D422-47F0-916C-CC8CAF91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7A4-5E8A-48FB-9D25-DD379870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E83-4216-4F5D-9BC4-048DF0F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98B-28BF-4AC8-A6E8-F8CBCC51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109-2E83-4292-B201-3C54090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E76-EA17-4C5E-856A-B12CD24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CC9-1F02-4CA6-A8E3-4D6EA3C9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E15-50FF-4B17-BF0D-BFD1CBE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E0A-24C3-4496-B65F-E16A747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503-9B61-4DA7-B226-D2A5234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1B87-9162-4C07-B02B-462F7B5C7A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03Z</dcterms:modified>
  <cp:revision>12</cp:revision>
  <dc:subject>Slavic hymnal Гимны веры христиан, hymn 593</dc:subject>
  <dc:title>Твёрдо я верю</dc:title>
</cp:coreProperties>
</file>