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16A-490E-4D03-8E52-6B44AC89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F74-C000-4F2F-B557-C1E81DD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507-0025-4983-8B37-2B1EDC59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22A-45ED-4D87-BB36-CD016F2C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BD3-D3DE-4E2B-A6B7-FC877830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483-FE88-44FC-A6D7-7611ACB7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A5C-D728-42AC-9E1B-B11A4F1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647-75BB-44F5-8327-570CDE73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912-FC09-47E1-ADA5-6C2F5678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E39-0358-4792-83AE-77880D6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218-0230-46FA-AE39-0042857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20E-85C5-4372-9AFA-2E2ABCB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597D3-B01B-4DB0-9092-CBA9CD7C29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hree kings of Orient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gifts we traverse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untain, moor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yonder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a King on Bethlehem’s 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ld I bring to crown Him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forever, ceasing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all to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ankincense to offer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ense owns a Deity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 and praising, all men ra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Him, Go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rrh is mine, its bitter perfu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s a life of gathering g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ing, sighing, bleeding,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in the stone-cold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now behold Him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and God and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,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to heav’n re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7:30Z</dcterms:modified>
  <cp:revision>13</cp:revision>
  <dc:subject>Slavic hymnal Гимны веры христиан, hymn 231</dc:subject>
  <dc:title>We Three Kings of Orient Are / Вот, волхвы с востока идут</dc:title>
</cp:coreProperties>
</file>