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C20-DB76-4606-9A33-4BAEE538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85E-7AA1-4037-82C7-AF20242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ED3-5D50-4307-A862-DA34DB6A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840-221D-4FBE-9A38-17A46AEE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991-6DFD-4F48-BEEC-7D5ED491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E7C-680B-4CC9-AFB8-03A97DFB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EDC-8227-4B24-BC5B-1B43792D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BBF-223C-4C3A-9DD7-5630EF1C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DAD-EC29-4CAD-95D1-AEF1F96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CC8-0EDC-46DF-9BA7-9079D9A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9D5-45D9-4863-B99B-AC827AD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693-EC61-4EA6-BBC1-6CBC278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2A831-8160-4586-BA5D-A684D2C35C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яслям бедным прибежали паст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Младенцем ликовали, как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яслям бедным прибеж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 светлый их на поле пос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ённом в Вифлееме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Жизнедавцу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чистым Богу славу воз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лся в Том Младенце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родился, чтоб избавить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7:53Z</dcterms:modified>
  <cp:revision>13</cp:revision>
  <dc:subject>Slavic hymnal Гимны веры христиан, hymn 234</dc:subject>
  <dc:title>К яслям бедным прибежали пастухи</dc:title>
</cp:coreProperties>
</file>