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0646-7885-44DB-9432-DC954BB21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6B39-BDA8-499D-A621-F51FF0C2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323E-3910-472B-BB2E-ED3F184C0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6D50-A4C4-4F9E-B794-7147BBBF9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D2F2-4217-42D9-B956-174F674F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9967-E958-4B27-8F42-A37C89A8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0C9F-57D2-4A67-81C2-085C8417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D306-3D4D-42CF-BF9F-48751564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D8D0-B7E7-43EC-876E-B03CAC35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4593-E9CC-44E5-997F-EB7BF0F6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04B9-25AC-45F0-98E0-76F75645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9C2C-5DC8-4884-AE12-E9C0EAA7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453A9-5F81-4870-B2BA-E37E3C2C935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the name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the name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my rock, He’s my fortr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my deliverer, in Him will I tr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the name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3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Praise the Name of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0:22Z</dcterms:modified>
  <cp:revision>10</cp:revision>
  <dc:subject>The Source, song number 435</dc:subject>
  <dc:title>Praise the Name of Jesus</dc:title>
</cp:coreProperties>
</file>