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808-9C48-4844-B567-B0823E86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5B3-AAD4-4663-BAAB-469D0998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FDB-876C-4543-9E8D-C0725185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C44-0DE9-4E6E-A82B-131B1A5B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313-1FC8-4AC8-8A84-808117F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153-C45B-4369-87D2-A1D3CE8A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56B-1BFC-4EEA-9232-B5BB7BA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5AB-607D-47F3-87AE-EECAD73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DA3-3C0E-47E4-B1D2-AE342018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13C-576B-4C3D-9EB1-4854D67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FA4-B412-4E0E-8B37-BE784B8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2DD-6950-4411-A83F-C4262B1E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E32B3-2E80-4FA0-AD09-FCEDAF7F92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30Z</dcterms:modified>
  <cp:revision>12</cp:revision>
  <dc:subject>Slavic hymnal Гимны веры христиан, Ukrainian hymn 51</dc:subject>
  <dc:title>O Why Not Tonight? (Oh, Do Not Let the Word Depart) / О, Божих слів не забувай</dc:title>
</cp:coreProperties>
</file>