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5D6-6268-4FE8-8945-3602CAE7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DEF-C3D2-4C69-8F79-A8219DF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B21-EED2-4314-A63A-CB1C3EA2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B37-7464-4613-8B4B-7588C832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9F3-0025-4E2F-A99E-BD575A5E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530-0F80-4BCF-8FFD-EC9D3B94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1C2-5416-4B29-8B12-2F83E023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112-8944-4620-BE5A-0802B399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918-9E2A-44FF-817E-05A942D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9B5-F778-482A-A916-C7DCA83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330-8D04-4A35-AA63-9521CDFC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2D2-3724-4994-912D-D4C6D58A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48E38-1BBB-4A93-A629-BB1139E268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27Z</dcterms:modified>
  <cp:revision>12</cp:revision>
  <dc:subject>Slavic hymnal Гимны веры христиан, hymn 860</dc:subject>
  <dc:title>Не унывай! Господь всегда с тобой</dc:title>
</cp:coreProperties>
</file>