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AB8-9FBC-412B-A796-A5632E20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3FC-E657-4893-A7C6-FCF67087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72B-E594-41C6-BD58-31326F67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0F1-E447-462B-96DC-BF764D99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2D8-3F08-4D39-B36A-FC0AE0C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3C5-36A5-467C-8CCB-83FEE77E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3D7-B4BA-447A-B28C-3424116D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8B4-8CC8-427E-B405-32404A3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133-3EDD-4859-906D-72C9C45F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2BE-EC8B-45B5-8164-C41FF83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619-78E5-465F-AB28-2FAECBB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995-ABD7-4FB3-9946-34F1146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8CEAB-D02C-47AC-8C19-27E2262D96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8   By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umbly bow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y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heaven’s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the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06Z</dcterms:modified>
  <cp:revision>13</cp:revision>
  <dc:subject>The Source 3, song number 1158</dc:subject>
  <dc:title>By Your Blood (Come to the Table)</dc:title>
</cp:coreProperties>
</file>