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5DC-149B-450D-A032-6B89C113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50F-A1AB-4266-8357-F467FE20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0B8-091C-4036-8933-A6A0D81A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725-E4C1-437D-8067-6E1E9DD0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EDF-9D72-4406-9D64-C504D4B3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196-9271-42EA-ABB1-EFDF50E9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591-BC9A-49D5-8DBD-E3093FB2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33A-17C7-43A5-997F-B72BDD92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4BB-AA6A-473A-A163-1D90CFD7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B65-0B60-430C-9010-08FB93F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421-B4E8-41CA-9997-E1395A75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0AE-DE01-4C69-A075-F04D6437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CD99B-010E-4353-8F6B-5F3D47DD6A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y Lord and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y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How Lovely You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died and rose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forgave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eek and low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pure and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the Bridegr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will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ride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18Z</dcterms:modified>
  <cp:revision>10</cp:revision>
  <dc:subject>The Source, song number 279</dc:subject>
  <dc:title>Jesus, How Lovely You Are</dc:title>
</cp:coreProperties>
</file>