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33B-878F-4E63-92BB-A3630142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55B-2ED1-428E-99BC-3B31ABD8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60D-EAD5-4942-9323-D4FB4E68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24E-6B72-414C-8895-9E8F8B2B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7F8-A914-4B18-8C5D-5ACD739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A8E-7352-4AD1-A135-078719BC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C9D-D759-45C5-B45B-9BE9B53B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BE4-F9DE-4A68-AB4C-843E3A2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5C1-7B2E-4D2C-BA49-100500C4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9C4-59D1-4221-AFB9-F3C064C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B49-3DFC-4316-99B5-5AF412C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23A-764E-4964-9209-1F4BBBA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FBC2-15C8-4758-99F0-B2B9260B30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чашу 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ам Божи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ко мучи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герой Один сто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трость воин в рук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уничиж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 на крест повеш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какой зло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, кто всем добро 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ён был о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 медлишь, о мой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дали сто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 молитвой и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обра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27Z</dcterms:modified>
  <cp:revision>12</cp:revision>
  <dc:subject>Slavic hymnal Гимны веры христиан, hymn 284</dc:subject>
  <dc:title>Там в Гефсимании Один</dc:title>
</cp:coreProperties>
</file>