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7C0-8687-41C4-B51A-AA80945C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8C7C-A18A-4912-823A-942DB275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FBF7-7784-4657-92A8-0C4DB365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735-BED8-4991-A559-3E653559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277-E371-488F-AE8F-CC661100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8C9F-0760-4673-AC34-53697568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FE4F-7AF0-49ED-A172-3152FEC3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85AE-94B1-49AD-9377-950B6591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F42B-D312-4B2D-9427-169F856C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855-B2F9-4736-9692-6E20BC31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2B0D-5526-4259-904A-9CC508A0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286-5A15-45FF-8037-FCE54400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02D30-C847-474E-8540-864892E535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cribe grea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our God, the Ro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work is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His ways are just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od of faithfulnes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injust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od and upright is He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5   Ascribe Grea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5:45Z</dcterms:modified>
  <cp:revision>10</cp:revision>
  <dc:subject>The Source, song number 25</dc:subject>
  <dc:title>Ascribe Greatness</dc:title>
</cp:coreProperties>
</file>