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6F0-98E9-4EB4-9CE1-0E673A55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BB7-8121-4F7D-B98B-A3C9BE4B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B41-DC7C-4944-98BF-43999E75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9C4-1557-4B59-A2D4-43360D32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2D9-B647-47B1-8DAE-430CEF06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FD8-E57B-4689-8795-C4248F21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65F-E5BD-49A1-9936-9D7BA1B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710-942C-4045-8429-008ABEAF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B14-3C3B-40C4-AE2F-F2BF2BB1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5D6-B4D9-427F-B45E-01E737F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B0A-F87B-492E-9656-788B165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22B-BA1A-4D7F-B899-84DC49B3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12D68-6ED4-4EA7-8E8D-09420D3FB0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Божье слово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сплавить мож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у нас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песня веры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х может к Богу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им дать над зл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весть живая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здатель дивных м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слал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известен Спаситель народ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шёл страданья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ть спасенье мно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39Z</dcterms:modified>
  <cp:revision>13</cp:revision>
  <dc:subject>Slavic hymnal Гимны веры христиан, hymn 530</dc:subject>
  <dc:title>Есть у нас Божье слово</dc:title>
</cp:coreProperties>
</file>