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8C1-73D9-4AE9-B34A-8ED4FE50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159-E122-4791-BA40-03A2F21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50D-BA33-4E0A-8C31-6617381A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5CA-A9FF-4034-8120-0FDE4F68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BFC-CCFA-4A48-9BF9-C82FB993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F53-71BA-4F13-BAA0-E4B1666B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020-B8FE-47AC-BDC9-AB8A35F0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E8C-7E06-4168-B075-8EA113B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C9E-4857-4546-B386-C342CD00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7E4-95C7-4964-AB73-579EB27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439-597D-4179-ACF3-ED9CFA6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A73-0499-4E09-821F-FEA9E15B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90B8D-3E3F-44F6-BA7D-09BCF06522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ясный лучший мир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мир, светл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 ника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песни там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ухи светлые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там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мир, светлый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ясный лучши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уч на небе голу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тонет под тр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рай,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там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ком Господа От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м ликуют в мире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ы виновны п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весь мир объят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пришёл за нас тер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ожет все вины ст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у блаженства вновь в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время нас не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спешит оно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час наш подой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9:32Z</dcterms:modified>
  <cp:revision>12</cp:revision>
  <dc:subject>Slavic hymnal Гимны веры христиан, hymn 665</dc:subject>
  <dc:title>Есть ясный лучший мир иной</dc:title>
</cp:coreProperties>
</file>