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F586-19B1-4193-A367-A7BDDD7EC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A284-C570-4D9A-BE14-43C562776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AE24-066B-4569-BAE5-6B84E7CAE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22F4-0FB9-490C-A631-7A6C3ABFB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9ECB-B0FB-476F-8D8C-C4FB14804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2029-6A9F-4F0B-AB58-FB1824FF3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4755-63D7-4671-9AD7-7B5FFE638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D941-AB6E-44D1-8FFC-A23708C42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0B4B-E57C-4D8A-8116-AFEFF554F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FA27-9E77-4434-BDDC-55CD40A0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4D41-1CF2-4F36-A1EA-F97C03ED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DF65-4355-4FB8-ACA6-0773E283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EA8D08-B5E3-4156-B607-19961F4366E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bove all pow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bove all k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bove all n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ll created thin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1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евыше си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выше сил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выше царст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выше сла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х земных богатст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bove all wis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ll the ways of ma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wer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fore the world beg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выше мудр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х путей людск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ий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адыка всей з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bove all kingdom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bove all thron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bove all won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orld has ever kn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выше солн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х пла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выше всех чуд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ие видел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bove all w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reasures of the ea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s no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measure what You’re wo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вознес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небом и землё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т пу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краснее, чем Тв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ucif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aid behind the ston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lived to di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ected and alo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а гр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ознёс на крес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распят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ретий день воскре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ke a ro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ampled on the gr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took the 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ought of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bove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цвет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топтанный в пы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жен б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сё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ыше все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1T14:51:02Z</dcterms:modified>
  <cp:revision>11</cp:revision>
  <dc:subject>The Source 2, song number 611 in Russian</dc:subject>
  <dc:title>Превыше силы, превыше царств / Above All</dc:title>
</cp:coreProperties>
</file>