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D41-4F29-4826-B828-3887A4DD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05B-3CEE-4774-A87E-926599B9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946-81AA-41A0-9FA5-2FB157B4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602-1DD4-4BD2-B950-01F37BD6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C6B-B705-4068-B633-D1ACBDA8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221-EDF4-4C16-ABFC-12DE21A3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E2B-AF38-4CAC-A863-A4FCC985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A8A-9BC4-411F-9C27-5B4225E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96E-6580-4E14-B030-06D1524B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DD0-D654-450E-9B0F-891B38BF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098-8F63-4E63-AB09-9A7E77A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C52-88E7-41F2-9B4E-5D4C7EF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145FA-7F7F-4153-B966-D3E47BD8F3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б вид Его му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врезался мо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б цель всех помыш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: любить и жить лишь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м Тебе, Господь, обяз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навек я исцел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олен был и адом связ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ю рушил ада п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если б вид Его му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мерть Спасителя взгляд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сердце радост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счастие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я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икнет в душу, примиря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живительный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кровь Христ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я грех великий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мой Он принял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отдал Он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корбях — моё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Его я радость п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ветлый и своб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 меня, Господь, из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ёртвый духом и хол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новой жизнью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неизре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мерть Спасителя вз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Нему в любви сми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звы рук и ног лобз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 рук, где я чертой кров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ан к вечной жизни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мой дух за Ним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ёт обновленным,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7:09Z</dcterms:modified>
  <cp:revision>13</cp:revision>
  <dc:subject>Slavic hymnal Гимны веры христиан, hymn 725</dc:subject>
  <dc:title>Ах, если б вид Его мучений</dc:title>
</cp:coreProperties>
</file>