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8DE7-A8BF-45E8-8B41-7331A609D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6A09-3F6C-4DCF-8D69-48A929B85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58C0-C4BC-40B0-9DF0-17AFD41D4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BDD8-B1D0-44DA-B1DD-8435912BF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A914-6654-4F89-BA58-5DDE67CF1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3BA1-39C8-44C3-B33E-F2172BF93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45C5-326F-462F-B2D3-F9B75535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6B4B-073A-428C-AE37-7D0F8B350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C498-5941-48A5-9CFB-E010E3A2E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61E7-7BBE-4878-BB28-9A5520F6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9294-1AAE-4C55-95D8-C63FBD63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3B75-2DB5-4181-A3CE-C9D7E795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E627A4-A8DE-4DDC-9D3C-A36A0B4EF03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ave you been to Jesus for the cleansing pow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you washed in the blood of the Lam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you fully trusting in His grace this hou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you washed in the blood of the Lam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2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ы познал ли благода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познал ли благодати полно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мыт ли ты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ешься ли ты во всём Хрис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мыт ли ты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you washed in the bloo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the soul-cleansing blood of the Lam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your garments spotl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they white as s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you washed in the blood of the Lam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ыл ли грех, всякий гр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отворною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учил ли ризы белые, как сне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мыт ли ты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you walking daily by the Saviour’s si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you washed in the blood of the Lam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Do you rest each moment in the Crucifi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you washed in the blood of the Lam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тоянно ли идёшь Его пут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мыт ли ты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бываешь ли в общеньи со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мыт ли ты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you washed in the bloo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the soul-cleansing blood of the Lam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your garments spotl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they white as s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you washed in the blood of the Lam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ыл ли грех, всякий гр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отворною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учил ли ризы белые, как сне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мыт ли ты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the Bridegroom come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ll your robes be whi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you washed in the blood of the Lam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ll your soul be ready for the mansions brigh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be washed in the blood of the Lam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еянья светлые хранишь ли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белённые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готовлен ли ты жить среди свят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мыт ли ты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43080" y="914400"/>
            <a:ext cx="9734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you washed in the bloo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the soul-cleansing blood of the Lam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your garments spotl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they white as s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you washed in the blood of the Lam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ыл ли грех, всякий гр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отворною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учил ли ризы белые, как сне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мыт ли ты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ay aside the garments that are stained with s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be washed in the blood of the Lam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’s a fountain flowing for the soul unclea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be washed in the blood of the Lamb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ложи всё, что запятнано грех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мытым будь кровью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источник для живущих в мире с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омыт ли ты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you washed in the bloo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the soul-cleansing blood of the Lam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your garments spotl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they white as s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you washed in the blood of the Lam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ыл ли грех, всякий гр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отворною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учил ли ризы белые, как сне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мыт ли ты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11-28T02:20:31Z</dcterms:modified>
  <cp:revision>14</cp:revision>
  <dc:subject>Slavic hymnal Гимны веры христиан, hymn 428</dc:subject>
  <dc:title>Are You Washed in the Blood? / Ты познал ли благодати полноту</dc:title>
</cp:coreProperties>
</file>