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341-92F3-4093-B0E9-FA8E17E8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CD4-92C3-451A-9608-3F057174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BF8-A3AA-4CA7-A774-FBE4BE81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7F3-1756-4F3F-A786-A155BA9D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9A2-4F82-43A2-848B-500AFBFB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8D9-2467-42AC-AB12-A07C2377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5FE-4C20-40B4-9114-1E6EAF54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3FB-B9C8-46E8-9C49-7597E2A8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C0A-78AD-4325-BB9A-50FB2D37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970-7FB4-4852-8C04-E32AD1E0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D7D-F68F-4717-BD93-D301A28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FC5-DF31-4D77-86B6-E3A1ADE8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7CD55-FF4F-41AB-9DD7-23D387DCE7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верь для нас од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возь неё си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пасите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й всех пригл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верста дверь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оходят дверью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рай войти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ый, знатный и пр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чрез эту дверь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Спаситель прим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ир душе своей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Отец обни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 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емной он сл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небесный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сподь во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51Z</dcterms:modified>
  <cp:revision>12</cp:revision>
  <dc:subject>Slavic hymnal Гимны веры христиан, hymn 371</dc:subject>
  <dc:title>Отверста дверь для нас одна</dc:title>
</cp:coreProperties>
</file>