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a:t>
            </a:r>
            <a:r>
              <a:rPr b="1" lang="ru-RU" sz="3600" spc="-1" strike="noStrike">
                <a:solidFill>
                  <a:srgbClr val="ffffff"/>
                </a:solidFill>
                <a:latin typeface="Verdana"/>
              </a:rPr>
              <a:t>	</a:t>
            </a:r>
            <a:r>
              <a:rPr b="1" lang="ru-RU" sz="3600" spc="-1" strike="noStrike">
                <a:solidFill>
                  <a:srgbClr val="ffffff"/>
                </a:solidFill>
                <a:latin typeface="Verdana"/>
              </a:rPr>
              <a:t>О Господь, Тебе известно</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Тебе извест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чего теперь мы зд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же в радости небес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вств излить избыток ве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Ты в прошлых днях нед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изволил нас во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всю жизнь веди нас к ц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царство вечности вступ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Спаситель, Царь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с всех благосл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мы в союзе тес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ли в мире и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ай же нам благие нр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й жизни суе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достичь нам вечной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следовать пок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3:51Z</dcterms:modified>
  <cp:revision>3</cp:revision>
  <dc:subject>Slavic hymnal Гимны веры христиан, hymn 18</dc:subject>
  <dc:title>О Господь, Тебе известно</dc:title>
</cp:coreProperties>
</file>