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182-71E9-43D2-8F69-8277A2C0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073-D804-4F21-9368-C0D46963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A45-64E9-44D8-B318-7B678C41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111-CF1D-499C-BD6F-4966A02F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11B-80F8-42D5-904E-D823B4BD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D01-2D94-43BA-9106-7C22538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9F8-717C-4288-B5D6-D48E0F84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75E-DE01-4A59-9385-F76AF2A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36F-6385-4A05-AC17-06527E27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B66-DE17-4D9E-AFCD-6770497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4C3-7DFD-41CD-955A-B8BD11E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04D-6318-47DA-8E1D-865DD81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973FD-16B7-4898-BA80-63913635E5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 me and I will be sa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the one I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I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9   Heal M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32Z</dcterms:modified>
  <cp:revision>12</cp:revision>
  <dc:subject>The Source 3, song number 1239</dc:subject>
  <dc:title>Heal Me, O Lord</dc:title>
</cp:coreProperties>
</file>