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B81-B99B-49C4-85EA-E43B3569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AF7-A1A8-4BCE-A2F6-3DE3C91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445-E018-4F2A-9555-46C6A674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8CA-502B-4F7C-BB40-F11BAB29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290-B77A-4D34-A63B-297C9B8C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069-9951-40A8-BC56-1404DBEE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0EC-20E8-4030-BF8D-EFFCDF4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329-1AC5-408A-B4D2-3374FB9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8F5-83FE-4283-8C17-7C42F05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8B8-0EAC-4EFC-A189-CAC15BB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B5A-EDE2-4554-846D-79AFE1B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D68-2889-4715-94E9-3B96865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D4DA3-76C5-4C12-955A-DDAE0780D3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26Z</dcterms:modified>
  <cp:revision>12</cp:revision>
  <dc:subject>Slavic hymnal Гимны веры христиан, hymn 887</dc:subject>
  <dc:title>Ночью с моря люди громко</dc:title>
</cp:coreProperties>
</file>