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8576-8072-4230-B16C-5F5387B6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0B20-7F87-48FF-9132-7FDF1847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78B3-8332-49AB-8D25-7DB4B987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B441-F90E-40F5-A061-1FD0751C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467A-CB6B-45E1-B5BF-429D861A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788-93FF-43DE-99DB-62BE6BAC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84BF-90E7-4429-8B5C-F850138D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57A3-1546-4409-B281-20502AA5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4823-156E-4390-990F-330A8A5D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F16E-4915-4509-9083-E80D84A7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5812-F5FB-4A90-8142-2B5E57A0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9BD9-16B7-440D-9E4F-0B29A883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F889E-1EFF-4528-89E6-9551BE55696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те ли Божий гол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ывающий к дел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озрел на ниве кол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пешите все к труд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, любовью пламене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тот могучий з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ветит, не роб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ужить, Господь, 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ышите ли Божий голо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несчастные нар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 ведают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 нас, и в наши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огуча темн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 неверии косне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т множество у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ветит, не роб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ужить, Господь, 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голосом про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с Творец не ода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л мудрости выс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ложил великих сил;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ничтожный дар име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всё ж нужны для тру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ветит, не роб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ужить, Господь, 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зовёт к высокой 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ботать для 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йдём, чтоб нам на де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ить Бога Сво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евностно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, иль там, вблизи, вд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е всякий вдохнови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готов — меня пошл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5:48Z</dcterms:modified>
  <cp:revision>13</cp:revision>
  <dc:subject>Slavic hymnal Гимны веры христиан, hymn 541</dc:subject>
  <dc:title>Слышите ли Божий голос?</dc:title>
</cp:coreProperties>
</file>