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CB6-E172-4093-9144-57975633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13F-6D70-48A9-B8D1-3C5DF3B8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01A-2DD0-40BB-A649-F34EAA95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D7B-BAB7-4043-B1AA-38B120F3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CA3-3BC3-4647-AFA4-986085E6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6F5-33BC-4007-B9DA-AE5B99DF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CF9-80CE-4EEA-AB02-9CCC028A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DA2-1310-44F9-A6B6-31217C90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ACD-0E96-49E7-B66D-32C9FAD0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884-1A54-4283-92B7-E8DB0C0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762-B7EA-442C-9B2D-30CF5C31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A8B-51AE-48BA-ACA0-8C7E6A3E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FE781-9F88-43B9-829A-9E11592875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у жертву віддав т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сія лиш правди людей науч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жих зціляв, за що так постра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ам всі муки терпить до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агне, ― а оцет Йому под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 Його уст води живії теч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2   Зійді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в любові благає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и їм, не знають, що чинять Мені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а молитва знялась від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єм Ісуса слова до Отц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! нащо Мене залишив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і друзі, то за вас Він терп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вже ж не зворушаться наші серц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вершилось! Я Дух Мій Тобі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с Він пожертвував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53Z</dcterms:modified>
  <cp:revision>16</cp:revision>
  <dc:subject>Slavic hymnal Гимны веры христиан, Ukrainian hymn 22</dc:subject>
  <dc:title>Зійдім на Голгофу, друзі!</dc:title>
</cp:coreProperties>
</file>