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457C-7FD8-49BB-A09A-E53E1DA8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FF4F-19C7-4D45-8905-2A7B80F1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8C9F-8F3C-429B-9682-03CCB77BD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40D7-9AAB-4D56-BC43-01392589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C825-58BB-44C4-B777-AA7B51ED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614F-F733-432F-B654-E980809C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9B16-D2F8-4F32-AE52-82A662B2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AA58-2602-45E0-A5BF-0C16B0FF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C76F-9BC4-4917-97CE-FA6809CF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34B1-CE32-4CF4-8A5C-B22314B6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ED04-DC7C-4B4D-8C53-4DF01EBB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C3CE-5017-407B-B697-2CF15072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F24DB-00EC-4008-80A1-61266D654E9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сотни уст имел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тни нежных голос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глубины сердечной пе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авил бы Творца ми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песней песню я бы п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что Бог мне дал в у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если б сотни уст имел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голос мой был слыш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видят солнца св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дух взносился вы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олётом дней, с теченьем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всегда для Бога 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ждый миг благод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безграничную любов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не открыл небес об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 меня от всех грех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ньем, смертью на кр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место дал на выс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лагодати петь я б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сможет петь язы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хвалить хочу я всю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от речи не отвы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умолкнет голос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каждый вздох Тебе хвал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, о Боже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у нескладную м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небесах полней и луч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хваленье восп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 сонме ангелов Т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будем чудно каждый ми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11:44:39Z</dcterms:modified>
  <cp:revision>12</cp:revision>
  <dc:subject>Slavic hymnal Гимны веры христиан, hymn 820</dc:subject>
  <dc:title>О, если б сотни уст имел я</dc:title>
</cp:coreProperties>
</file>