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657-A176-4EE7-A406-56E16FD6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CDB-90BC-4A66-8729-2E0E92AC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B8A-33B0-47F7-81A3-C1BA71B2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C25-D914-4AC1-95FC-4EED3FED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4E7-F0D9-4C41-A9E2-7C2E3C6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CEF-4311-4BB9-8150-672AB544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DDD-653C-4ADA-A6A9-EF43A232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A11-D471-41F1-A498-DB14E3CD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50F-60AD-41A1-AFF5-B953D93F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BCA-8D4C-4BD0-B695-2DF1DA57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1C3-CC00-473C-B568-EE366A4E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2D6-08B1-44FB-A2C0-B8C9FD7A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40797-91F8-4706-83BE-08877124A5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какой беспредельный великий востор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греховные узы расто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Голгофскою смертью разрушивши 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ил Своих избранных ч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ой беспред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завершенье Своих величайших тру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стал из могильных 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 ликуют все люди и своды неб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Спаситель из гроба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воскресеньи Его — оправдание вс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кресеньем Его попран гр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кресенье Его — расторжение з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 воспрянут Ему честь, хва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 и со славою торжеств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ожественным светом сия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и в славе Он той же любовью дыш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её верной пастве явл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Спаситель три дня в глубине был зе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из ней вынес дар дорог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ияет светлей драгоценных кам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 — Творца примиренье с земл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живёт воскресенье Христово в серд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изгонит сомненье и стр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, и мрак ночи навеки исче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истину в славе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7:13Z</dcterms:modified>
  <cp:revision>12</cp:revision>
  <dc:subject>Slavic hymnal Гимны веры христиан, hymn 294</dc:subject>
  <dc:title>О, какой беспредельный великий восторг!</dc:title>
</cp:coreProperties>
</file>