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99C-7F7C-4AA6-88BF-BE30187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D1C-DF0A-4A65-8EFE-DE66BE7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79E-B306-4B94-99A1-41D83F6A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2AA-D0E5-4434-A3C8-151841F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293-D5E9-4C85-8F1D-53B1FE8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BAA-FCC7-4EA9-80BB-0FF5E943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698-4BB6-481C-A1E4-D0C59CD1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AE4-73CD-4D3A-8E81-6ADB294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664-8932-474D-B53E-F9718F5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BAE-F4DC-45A1-9FDE-268417B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E75-ADDE-404E-BE03-F8E8405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4CB-086C-4FEF-B91F-BBBF409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9FADA-7605-468E-B50C-6FE3BF4C4F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тесь, братья мор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грозен бурный 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уж видны ма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их за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бойтесь, братья мор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и мы от бури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олны мор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грозила нам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ий, бур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награда к нам близ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аван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ой унынье и то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уйте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отитесь, как одна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те па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у нас ждут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08Z</dcterms:modified>
  <cp:revision>12</cp:revision>
  <dc:subject>Slavic hymnal Гимны веры христиан, hymn 716</dc:subject>
  <dc:title>Не бойтесь, братья моряки</dc:title>
</cp:coreProperties>
</file>