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56C-118D-425C-ABB8-727D9AFF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1AC-4311-4C0C-B382-8E78557D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F3B-069F-442C-99ED-69EB5DD0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F9D-4411-4CEB-92A6-7AFFBB66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78C-BA25-440C-BEC6-EC8ACAEE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F77-C61E-47BA-A192-8A7799C3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774-BCF5-4935-A4A4-7B12DCB3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50F-5947-4F96-B4C0-110387F5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B12-7AFA-44AF-921E-76E42FE4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4BD-DDE4-40B4-8F37-CE3CB35C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6F7-CB58-410E-92BE-A3B1408A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BF8-A014-4029-A457-76579693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432FF-86BF-4DF8-9305-3A338C2933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осле ночи, свет после ть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ь после зноя, блеск после мг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после смерти, песнь по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за горем, луч за дож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 после жатвы, пир за тру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за борьбою, явь после гр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осле н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китанья — милост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траданья — слава в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сть покоя — после угро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45Z</dcterms:modified>
  <cp:revision>12</cp:revision>
  <dc:subject>Slavic hymnal Гимны веры христиан, hymn 488</dc:subject>
  <dc:title>День после ночи</dc:title>
</cp:coreProperties>
</file>