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71AF-FE79-4F0D-AE0C-CFE02EF84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B08B-E3E7-44AF-A886-2AD88A17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E108-9E14-4F31-86E0-AD3D54361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C5B4-B0CF-41F1-AAE0-ACAEAC4FC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4944-9102-428B-A530-15AF6BD4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51E5-8C93-41E6-9150-26C3B847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94EB-0A3C-4DD4-B042-FBF96B7E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E519-E165-4385-89AE-B68FDD6E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76E5-CDD2-4B41-ACEA-E5AD96BE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2011-0D82-4117-B2EC-BFEE7D60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277F-46AA-4387-AE3A-995A5E68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E7A8-DE25-4A6B-B51F-365EF1B9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6EE47-E09F-4743-B02B-5C46BB9867E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God’s righteousness revea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on of Man, the Son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kingdom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redemption’s sacrif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glorified, now just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kingdom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7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, God’s Righteous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is kingdom will know no 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ts glory shall know no bou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majesty a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is kingdom’s King has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is kingdom’s reig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is kingdom’s ru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is kingdom’s power and author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God’s righteousness revea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the expression of God’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race of God, the word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vealed to 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God’s holiness display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glorified, now just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kingdom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is kingdom will know no 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ts glory shall know no bou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majesty a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is kingdom’s King has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is kingdom’s reig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is kingdom’s ru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is kingdom’s power and author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God’s righteousness revea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6:37Z</dcterms:modified>
  <cp:revision>10</cp:revision>
  <dc:subject>The Source, song number 278</dc:subject>
  <dc:title>Jesus, God’s Righteousness Revealed (This Kingdom)</dc:title>
</cp:coreProperties>
</file>