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E11-5DD1-4AFB-8894-6E74A83D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AEE4-82BE-4825-9143-D12B36B1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4D0-060B-4025-AD0D-C3007738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01C9-011C-49CD-AC78-CAA5720A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C237-B6FC-43E6-B743-22142862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0F24-B7B7-4A4C-8CD1-CF8B8F86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E4C-FFFF-4DB5-A671-659E184C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69EC-84C5-40B6-9310-4B4114E8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635C-861C-433B-95CC-8FAFC775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F98D-9549-4521-9028-07DD0854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D827-D70D-4C48-A024-B366EEB6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3E83-0A95-4FE1-A780-4AB3F0B5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4EEF1-C989-4004-A8A3-4A5209640C7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, honour, glory to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righteous, worthy is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, honour, glory to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righteous, worthy is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ath could not hold Him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He is ri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ated upon the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5   Blessing, Hon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2:48Z</dcterms:modified>
  <cp:revision>10</cp:revision>
  <dc:subject>The Source, song number 55</dc:subject>
  <dc:title>Blessing, Honour, Glory to the Lamb (Glory to the Lamb)</dc:title>
</cp:coreProperties>
</file>