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02A-8F0F-4633-BB77-257D3175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141-CC70-4BA8-9F93-40FD582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776-090E-4C7D-9A74-B0EEC7EC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48A-604F-40F7-835A-459BC96C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C76-7881-4A06-86D9-1B11BDC3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AA4-41EF-480B-92DF-58AEEFB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8D5-19C6-4B8B-92FE-A2A77576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07E-14B1-4A73-A7CA-5CFEE09A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967-5069-4767-A8E4-1B31D0F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BED-B54A-4D6D-9470-55AAC16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0DA-AC2B-41FC-94CE-C9BCC2D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229-08E3-4DB6-BF66-D88F02F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7718-295B-4DB2-A7FD-866AB8304A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is great and greatl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reat and greatly to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Cho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08   Sing Un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53Z</dcterms:modified>
  <cp:revision>12</cp:revision>
  <dc:subject>The Source 3, song number 1508</dc:subject>
  <dc:title>Sing Unto the Lord</dc:title>
</cp:coreProperties>
</file>