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468-0294-4CF3-AF86-C51C6143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8AE-67F8-4E54-9AB9-F05F388A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B6C-6EBD-43C5-A4F0-3B0A9BB4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091-E48A-4F67-AFEB-BA965740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BCF-CC70-4B75-ACC8-6BDF933E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EEF-F22F-4947-8E9E-1E9FC6B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8B7-7200-46AA-A1F5-F340F5AB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5D3-89BF-4575-BBE3-006344FA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1FD-C0FE-4F63-9F09-47B835E5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7E6-FD79-43B3-9E27-215FBC7C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6EB-4BC9-43A4-810E-FED6D52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497-8313-4F06-8C55-EFE87399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35160-09E0-4336-97E1-ADA401D353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лхвы с востока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дары, не глядя на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ю к Божью Сы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ий кончаю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лхвы с востока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Царь нам рожд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м почту Его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ковечно,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буде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в дар несу я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ебес пришёл в нищ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опенья и м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дут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ны горькой запах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хранит в юдол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Умерщв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ерт был в гроб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Он, Воскресш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и Бог страдал за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9:00Z</dcterms:modified>
  <cp:revision>13</cp:revision>
  <dc:subject>Slavic hymnal Гимны веры христиан, hymn 231</dc:subject>
  <dc:title>Вот, волхвы с востока идут</dc:title>
</cp:coreProperties>
</file>