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381-BEC2-4C55-8C89-40E27504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C0E-9838-4678-A6BA-48695B85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DEB-B6C9-430F-BF11-2297D4AC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FB5-8886-49C7-A4FD-23BC618C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8FE-CBF7-4091-AEC7-B7BAED7D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7A3-CED7-460F-87B5-92CE5358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42D-D387-41FF-BBFA-7E74AD3A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63D-8227-456A-9D4F-F703605C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353-1A9C-4E6B-870A-C3B0D29E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A18-3FAB-42E7-AECD-BF55BD85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AC4-3227-4034-B511-82FCD3BB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643-9355-4F9F-A7A6-9C5CD293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FF6CE-BB6D-41EF-A2C8-0BC4D8F535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гибающим правду с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пробудите уснувших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дям блуждающ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искупления всем понес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оляйте к Иисусу при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спасения славьте, хвал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несчастный мог счастье на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страдающем, в скор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здник Дух Божий лишь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сияющим слуга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о о том на земле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уждение тяжкого дол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ать к бесконечному счастью люд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слаждение в жизни недол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тешенье безрадост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28Z</dcterms:modified>
  <cp:revision>12</cp:revision>
  <dc:subject>Slavic hymnal Гимны веры христиан, hymn 531</dc:subject>
  <dc:title>Людям блуждающим</dc:title>
</cp:coreProperties>
</file>