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C8A-81AD-4B92-96DC-E07B9918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6F9-7F0B-4AF9-B2C2-E4101ACF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C6E-5AF1-4D58-B48B-F2A49593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6E6-5C26-4974-A26A-D098765E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58C-B6F9-4439-A2C1-CDDCD565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847-4A3D-453D-9527-1B041E3B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DCD-D2A9-4C72-99A2-009CA724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12E-1FA1-4DA2-90DD-B8865BA3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6C3-3B22-42A6-8044-06CC746B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3EB-1192-4A8E-A971-20C959F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87E-9FAA-46BF-B776-31CD12B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D2A-52AB-4CD3-A938-D5A5C56E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0B78D-9845-4020-B9F4-79EAD1F119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weary, are you heavy he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grieving over joys dep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  Коли горе на серце наля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ре на серце нал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шу смуток дуже зв’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the tears flow down your ch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b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sins that to men’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льози твій спокій звору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айні гріхи душу м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fear the gathering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s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anxious what shall be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чиш, що біда над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лод або смерть при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troubled at the thought of dy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’s coming kingdom a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світі пропасти не люб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царстві Божім хочеш б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5:19Z</dcterms:modified>
  <cp:revision>14</cp:revision>
  <dc:subject>Slavic hymnal Гимны веры христиан, Ukrainian hymn 6</dc:subject>
  <dc:title>Tell It To Jesus / Коли горе на серце наляже</dc:title>
</cp:coreProperties>
</file>