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CF9-F48B-48E1-B9E4-DE376F68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1F1-322C-4EA5-A9DE-7FABD615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668-D0A0-4826-9782-0EEEFAF3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59C-CDE5-4414-9582-417F23E6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BA7-CB4F-417D-B338-BE809209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53E-571C-4DBC-B9B5-D55A968F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F77-5F4D-4B59-81F1-E6D25C29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D2D-B1C0-4A7B-BC50-47CD65EB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629-4873-4B9A-BFC8-FC0DFD9E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031-1C17-4247-A012-FC70A9ED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14A-3E86-43D4-B753-621105D1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B5F7-8B39-4351-B045-8360564A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6B822-417F-4576-96C8-BC9A4E44CD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ecious soul, cease from sadness and sorr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ust remember, your God loves you sti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waits you a brighter tomorr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God promises, He will fulfi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тоскуй ты, душа дорог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скуй ты, душа дор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 и радостна 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, поверь мне, настанет друг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нас любит Господь, не за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lace your trust in the Lord; doubts will vanis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mmune with Him often in pray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om your heart every fear He will banis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your soul He will lift from desp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ты на Господа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чаще молися в ти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тихнет на сердце трев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покой для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ar in mind, Jesus Christ died to save yo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e cross for your sins He did p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lasting salvation He gave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said, “I am with you always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, что Христос, тв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ради страдал на кр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бед твой благ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тобою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n’t despair when your burdens appal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n’t complain at the load you must b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t times when hard trials befall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t assured: you are under His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щайся в тяжёлые 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бремя не ропщут у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в жизни бывают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дейся на милость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life’s winds and waves He’s the mast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protect us, He ever is n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save from the brink of disas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our craft into port He will st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волны бушуют, как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ер страшно и грозно шу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ты! С любовью во вз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бя твой Спаситель гля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нашей Он Сам управ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щиту Он нам по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ёт Он нам то, что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с к радости, к счастью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традать здесь осталось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к последней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наш сур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нас Спаситель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hard trials are still undergo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soon life’s final battle will c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will finish our course, fully kn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we’re off to our heavenly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8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we’ll have peace and quiet—for 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disturbance or storm will be the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, our Saviour, will reign there forev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is glory and splendour we’ll sh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стань тихая нас ожи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и страшной и грозной там 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солнца Христос там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сияет та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9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ecious soul, cease from sadness and sorr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transition for us may be nig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e know not—today or tomor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may be in our “homeland” on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скуй ты, душа дор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 и радостна бу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родина наша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ш вечный, блаженный при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55Z</dcterms:modified>
  <cp:revision>14</cp:revision>
  <dc:subject>Slavic hymnal Гимны веры христиан, hymn 717</dc:subject>
  <dc:title>Precious Soul, Cease From Sadness and Sorrow / Не тоскуй ты, душа дорогая</dc:title>
</cp:coreProperties>
</file>