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79F-C30C-49BD-976E-8406D0A9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A29-746C-4CEC-8578-83D7DACA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EA8-8C15-46E9-B2E4-C16420A3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ACF-FBF0-44C1-B9AE-5994D3F0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D9D-47EA-4903-B664-4DE843C5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493-D75A-47CE-8E33-A41956C6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114-4695-4F3E-9FCD-26911D3B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1E9-83AE-4F59-9C81-6E713B3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203-561C-4C5F-9C05-30A5C627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4C4-3DCB-4F3D-8472-44BD9CB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02E-82A0-4E70-9B1E-6FC1ED5E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807-18BF-49FF-B3A7-115D71C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989AD-5952-42C9-8238-225F6D7C81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oming to earth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in power and love to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ns of His coming multi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ning light breaks in eastern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, for the time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to claim His chosen b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redeemed and pu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is whole earth scattered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’s dominion will then b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sighing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shall the dead in Christ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ght up to meet Him in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these glories meet our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 and true would He find u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in gladness and not in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3Z</dcterms:modified>
  <cp:revision>13</cp:revision>
  <dc:subject>Slavic hymnal Гимны веры христиан, hymn 323</dc:subject>
  <dc:title>What If It Were Today? / С неба Спаситель придёт опять</dc:title>
</cp:coreProperties>
</file>