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9   Обетованья всегда пребуду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бетованья всегда пребу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Иисуса их подтвержд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и угаснет надежда в жизни,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бещал Бог, то да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бещал Бог, то и испол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ы в жизни погасло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ы звёзды померкли в н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етованья все стоя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 в час страданья, когда темне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ежда гаснет, встаёт невер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орьбе разбиты, кругом уны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бещал Бог, то да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бещал Бог, то и испол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ы в жизни погасло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ы звёзды померкли в н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етованья все стоя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от волны смерти кругом бушу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ила крови меня пронос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остно я пою в надеж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бещал Бог, то да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бещал Бог, то и испол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ы в жизни погасло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ы звёзды померкли в н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етованья все стоя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воскреснут все дети Бож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ангелы нас там встретят т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получу я венец побе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бещал Бог, то да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бещал Бог, то и испол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ы в жизни погасло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ы звёзды померкли в н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етованья все стоят.</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47:47Z</dcterms:modified>
  <cp:revision>3</cp:revision>
  <dc:subject>Slavic hymnal Гимны веры христиан, hymn 59</dc:subject>
  <dc:title>Обетованья всегда пребудут</dc:title>
</cp:coreProperties>
</file>