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354E6-CAB7-4B39-B53C-901453F0D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96FE2-BB9C-4DAB-8E4F-09AC6EB31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44E3C-2CA8-4A43-84FD-5423EFD75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E3F37-6546-446F-BAE2-00CC2391F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3608E-3F0A-4AB1-B2ED-072D94099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02619-CBE7-435B-A8A5-9CE4A7C8D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7DE42-FE3D-4030-A7C3-3DD4C0F4C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BC3A3-8040-40E8-AE1E-32B65E786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2FED1-D876-43D9-932E-6D9F8112D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A357E-16E6-4CE0-B067-689399F5A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D2F28-EDE7-4C6F-9849-BD4624AB2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77F59-7EE7-4677-B024-B6791BDC5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E407FB-DFE7-4394-987C-EC7B72A3E437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Earthly friends may prove untru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Doubts and fears assai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ne still loves and cares for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 never fai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98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Братья могут измени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ратья могут измени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чёрный день тревог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Один завет хранит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оставит Бо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 never fail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 never fai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av’n and earth may pass a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ut Jesus never fai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оставит Бо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оставит Бо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бо и земля пройду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не оставит Бо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ough the sky be dark and drea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ierce and strong the gal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 remember He is nea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He will not fai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ли всё покрыто тьм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раг сбивает с ног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рдце верой успоко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оставит Бо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 never fail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 never fai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av’n and earth may pass a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ut Jesus never fai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оставит Бо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оставит Бо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бо и земля пройду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не оставит Бо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life’s dark and bitter ho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ve will still prevail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rust His everlasting pow’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 will not fai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тёмный, горький жизни ча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учших дней зало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а твёрдая, что на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оставит Бо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 never fail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 never fai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av’n and earth may pass a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ut Jesus never fai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оставит Бо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оставит Бо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бо и земля пройду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не оставит Бо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25T01:26:49Z</dcterms:modified>
  <cp:revision>12</cp:revision>
  <dc:subject>Slavic hymnal Гимны веры христиан, hymn 898</dc:subject>
  <dc:title>Jesus Never Fails / Братья могут изменить</dc:title>
</cp:coreProperties>
</file>