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D4E-41C4-4D0F-BD5A-19BE71CA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A66-1D86-43AE-B104-DABBDFB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835-BF36-4726-B199-0E604FA1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E4A-785F-436D-A857-F5188E2B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9C6-23B0-4815-8556-EB659FF6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282-128E-4AE2-B0E2-F4318208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3A6-84CC-42FB-B47C-2935291E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129-2675-4C46-A672-39C7451C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DCC-F735-4D7D-B773-AE0329F2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166-FCF8-4414-90D0-C14DF50D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A67-30BA-494F-AB28-FAE88AA3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FE0-F57F-4D9D-A607-CCDE506B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85D2A-5503-49C6-8D7A-10D061BD3E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, and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e that are upright in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e that have made Him your ch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sadness and sorrow de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воспойте,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е кровью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овую песню воспо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ас спас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joyful, for 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and in Heaven supre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ashions and rules by His wor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“Mighty” and “Strong” to red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м Того, Кт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, чтобы нас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с ценой Своей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навеки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in the conflict for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enemies almost prev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armies, just hid from your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ore than the foes which ass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у нам даст и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итву с грехом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Своею поддер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Своим у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, and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raises proclaiming in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arp and with organ and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ud hallelujahs prol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со всеми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бную песню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искупил Своей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ава вовеки 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5Z</dcterms:modified>
  <cp:revision>13</cp:revision>
  <dc:subject>Slavic hymnal Гимны веры христиан, hymn 573</dc:subject>
  <dc:title>Be Glad in the Lord / Воспряньте, воспойте, ликуйте</dc:title>
</cp:coreProperties>
</file>