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811-F6B7-4066-BECD-044B80D4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5F3-CF8D-4310-8A20-F0283156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615-C9B9-49BB-82E8-BD39339E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FDF-5C93-424A-AC16-206796F6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0FB-23C6-4BE3-ABD2-3C5BC0A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87F-19FE-4876-9090-A4EF607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240-8175-41D5-B185-C31AA31E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1DC-D7FC-4E74-86D6-0A427AA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58D-A35E-4D5C-85B9-7183F154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16A-2FBB-44E0-BCF3-E3BD99A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A0E-05DF-4FAC-B006-1FB3317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B9-FE15-4028-9029-6F779BFF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E4927-8DBE-4789-9889-F0EBE951C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асла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могу ль тебя об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угие в звуках п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мне привет сла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 верными общ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лучше буду зн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станет песнь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льётся там ре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нет необъ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слышу голос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Христа, в тот день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там тебя ис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там повстре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обнимет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сточник засия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шь ли меня ты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17Z</dcterms:modified>
  <cp:revision>12</cp:revision>
  <dc:subject>Slavic hymnal Гимны веры христиан, hymn 684</dc:subject>
  <dc:title>У источника спасенья</dc:title>
</cp:coreProperties>
</file>