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C495-6117-43CC-88F3-BF469A235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2167-9A24-4866-A286-A57E7028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8343-2CE5-4D76-AC18-CB9A5255C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0883-FDF2-4B60-A315-9209818B4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63E6-6BEE-48B2-8390-6802A106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716D-CF7F-4E0B-80A0-2EA365A3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23A5-F529-4D1E-842F-374BB5F4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6755-D56B-41F2-9685-374BB6C5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0857-4EE3-4EDC-A665-CFBF5D9C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3EF1-013B-4DBC-B6C4-C9D6F41B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B87D-4BCB-4C26-A332-1B06E71A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5A96-A6C6-486E-9111-71C07DBC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C4221-18C4-4104-8E96-6D2AE15A75C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 wai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bide in me I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 longing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de me in Your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ing me to my kne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I know Jesus more and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724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ere I Am Wa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live in me all my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breathe in me and I will 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 eagles’ w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4T06:09:35Z</dcterms:modified>
  <cp:revision>11</cp:revision>
  <dc:subject>The Source 2, song number 724</dc:subject>
  <dc:title>Here I Am Waiting (Eagles’ Wings)</dc:title>
</cp:coreProperties>
</file>