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001B6-8AD3-47E0-A72C-4A65FDEBA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B6624-FA49-45EA-9EA3-F546F481E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A1842-6521-4F73-9CEB-9242F92A0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EF774-6933-479F-AEF0-4E3981079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C131A-CD5E-40C9-A0FD-881D73C8F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CF1E7-753D-450A-8FCD-FCC86F531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5008A-60A6-4DB5-BB00-A92E120E8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D41C1-0D34-4A95-916C-154BC9EB3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78710-AE98-46AF-9A53-A3B62355E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8B198-D831-4241-8AEA-DA45583C2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8A222-BA88-4360-B632-5FA62C11D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63C17-AC39-4F9F-95FE-321770D1F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8CEE06-7EDB-42F6-BF8C-36A401371CBF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кончатся дни твоей жиз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оставишь: заботы и тру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тебя после смерти постигне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тебе будет вечный прию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мой друг! пред тобою сегод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знь и смерть, что желаешь избра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ы «завтра» не сделалось «поздно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сегодня прими благод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58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Когда кончатся дн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этом мире ты жаждешь поко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довольствий и выгод себе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час последний всё это мину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ичто не поможет теб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мой друг! пред тобою сегод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знь и смерть, что желаешь избра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ы «завтра» не сделалось «поздно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сегодня прими благод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, возможно, подшучивал тай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д призывом упасть пред Христо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час последний узнаешь ты яв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спасенье и жизнь только — в Н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мой друг! пред тобою сегод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знь и смерть, что желаешь избра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ы «завтра» не сделалось «поздно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сегодня прими благод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прощённый, грехами покрыт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не сможешь на Бога взира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лько чистые сердцем увидя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ут вечно Его прославля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мой друг! пред тобою сегод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знь и смерть, что желаешь избра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ы «завтра» не сделалось «поздно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сегодня прими благод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ли хочешь быть чистым душ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 к Иисусу приблизься в мольб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час последний Он небо откро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 святыми даст место теб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мой друг! пред тобою сегод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знь и смерть, что желаешь избра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ы «завтра» не сделалось «поздно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сегодня прими благод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00:16Z</dcterms:modified>
  <cp:revision>12</cp:revision>
  <dc:subject>Slavic hymnal Гимны веры христиан, hymn 358</dc:subject>
  <dc:title>Когда кончатся дни твоей жизни</dc:title>
</cp:coreProperties>
</file>