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8DF-74E8-4B24-AC00-9DD433C8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A1B-D3F0-4320-BA59-53B2EA09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35A-D68B-441C-B4B0-8ABFF936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656-2115-4FB0-881A-1016452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C4C-F892-4FB2-A4B0-458AECE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D7B-396B-4AFF-916D-4312149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CB8-8975-4047-8077-23456F8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BA7-9172-4BE9-A972-3F354763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8C9-8A56-4810-8233-DAB2DC8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C33-BFA0-49A8-937A-9F756A4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39D-357C-442D-933D-52670D4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931-7EB1-4E36-B66A-E54101C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3CC99-F7BA-4EB3-8693-31FB4B34B2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,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, 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бес, живущий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,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миров, начало,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ложу к ногам я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ought the nations, 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 this sinner 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круг поёт хв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и верн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енье на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грехи мои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мне слав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11Z</dcterms:modified>
  <cp:revision>11</cp:revision>
  <dc:subject>The Source, song number 309 in Russian</dc:subject>
  <dc:title>Царь царей, великий Бог / King of Kings, Majesty</dc:title>
</cp:coreProperties>
</file>