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6A68-FB35-45B6-A008-E568195F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B8F-6EE6-43F6-8083-D83A3198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DA3-6ED3-4663-836A-5F5DD488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B9A-B152-422D-9B6F-39A8349A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FC5-0D79-4B62-8847-0C97458D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8AC-D62D-4007-B5D1-86424B4E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EAAC-6F08-455A-8CB5-627FE673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B3D-CE5A-4877-A090-755344C0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EEC3-E6B0-4537-A57A-BB5A78E0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5FD-B53A-4A69-80D8-6A309A92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507-D744-44CC-8387-B517B53B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DA0-AFF5-45B2-930C-292A6F0D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C49D7-D18E-4D05-A36D-86EDC1D946A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ield not to tempt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ielding is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vict’ry will hel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other to w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ёрд будь в искушен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 будь в искуш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страшней, чем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шь, суме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нему 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ght manfully on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 passions subd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ever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бости не слуш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зло ру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k the Saviour to hel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fort, strengthen and kee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lling to ai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un evil compan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d language disd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name hold in rev’r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take it in v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ружися с лож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смей роп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имя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не приз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oughtful and earn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d-hearted and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ever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будь призва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частьи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k the Saviour to hel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fort, strengthen and kee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lling to ai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to o’erco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giveth a cr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faith we shall conqu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often cast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х наградит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и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победим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мы жив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 is ou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trength will ren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ever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, расторгший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йствует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k the Saviour to hel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fort, strengthen and kee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lling to ai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9:00Z</dcterms:modified>
  <cp:revision>12</cp:revision>
  <dc:subject>Slavic hymnal Гимны веры христиан, hymn 859</dc:subject>
  <dc:title>Yield Not to Temptation / Твёрд будь в искушеньи</dc:title>
</cp:coreProperties>
</file>