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C20A-FBB2-4B88-A0F5-318EE95D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D87-58A1-47B7-B3B1-80444906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97F-E3E2-4EF5-AA7A-138C879E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C3D-083A-41E6-BCBA-A8835C8A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CCE-392D-4255-8896-9A436A78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9EB0-52CE-4845-B3A3-FA71739B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B89-AF45-4B81-8F5B-724D8CAE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9FC-0C4E-4B70-8066-FE4A5CDD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6F4A-5BDE-4F0B-91A8-3C681DD3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43C-BE22-4149-A286-A9673E00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ABF-DCD8-4CB0-97B2-542D71BA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4EE-BB55-4501-BC91-2EBF14E1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B66DF-2FFC-4F3B-BE0C-45D62A9D58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окончу путь мой 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, где блаженства льются пот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этом мире я т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отчизне, куда стремл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, мой Спасител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печали, нет воздых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едугов, нет умир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там всё лик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в тот дивный, дивны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этом мире тёмно и жут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томился, нет мне прию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6:02Z</dcterms:modified>
  <cp:revision>12</cp:revision>
  <dc:subject>Slavic hymnal Гимны веры христиан, hymn 680</dc:subject>
  <dc:title>В этом мире я только странник</dc:title>
</cp:coreProperties>
</file>