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7AD-A4D2-4CA4-8033-BB90DA21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F75-F171-40C2-831F-C6C4C408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F84-5156-4505-AB6F-1A00CAD4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AB4-2186-42ED-AFB4-28AA5D9C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E38-DD7A-427F-91D8-787B8824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54F-13D0-4751-883D-36C70B50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F20-BD11-4AB6-9AA6-441D5F92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59F-01E4-49F9-BC4A-E7ACC32F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AB6-907C-4DC8-A6D8-BD49AC2C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194-8A05-4F92-A5E3-3AC4043A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481-D501-4157-B5CE-B7CE1935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A91-CCB7-47D7-A39E-22ABA677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E5658-96A1-43CD-AEB8-A42A12E721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і, ніхто на всьому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 силі вірних подол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волю нашу зруйнув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 в кайдани зак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тяжким Своїм страждан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прозрівшій волю д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 з усім його змаган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’язниці їй не вготув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7  О, ні, ніхто на всьому сві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і, ніхто на всьому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нас не може правду вз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люди, ворогом натхне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орніть нас будуть, знева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іймем в гору прапор прав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’ю темний світ залл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 в хвальбах ще й тимчасов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радість в Господі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і, ніхто на всьому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оже горе нам вчи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гатства серцеві відн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с безсилими зро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олото і що ми ма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усе в нас забер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ління чисте залиш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ним щасливі можем б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0:38Z</dcterms:modified>
  <cp:revision>12</cp:revision>
  <dc:subject>Slavic hymnal Гимны веры христиан, Ukrainian hymn 57</dc:subject>
  <dc:title>О, ні, ніхто на всьому світі</dc:title>
</cp:coreProperties>
</file>