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DAE-72F0-4EA6-943A-9F64A287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E71F-01D6-4A85-B13C-109614F1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279B-6D74-4D70-92E1-3623272D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1F4-69D6-4D7E-A068-4D2F8D2A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8F8-0947-46B1-9EC6-318598DC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236-FCC0-4BFE-BF38-5976FEE3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BA63-6418-406E-BE7A-8BA2F3E1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889F-B6E8-4FED-8A7E-C639DB98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64C-4A9D-48C0-BBCD-95B30A40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067-E342-4847-BC6E-2E2DD2A7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D40-82E5-4238-802A-6C2000DB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AA4-5216-40D2-85C9-EEF92735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05156-FC3A-4E85-B389-36C8418214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зни Бог откр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, кого Христос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, кого Христос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сточник жизни Бог откры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ойника в последн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ла Христова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у ног Его склон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у ног Его склон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ров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чрез неё войду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чрез неё войду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, как верой мог узр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святой кр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, я буду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, я буду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свой путь законч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ло ляжет в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нашёл и спас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нашёл и спас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8:18Z</dcterms:modified>
  <cp:revision>12</cp:revision>
  <dc:subject>Slavic hymnal Гимны веры христиан, hymn 429</dc:subject>
  <dc:title>Источник жизни Бог открыл</dc:title>
</cp:coreProperties>
</file>