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9BE-2144-478B-85B0-0D96385A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267-45C5-4F5C-862D-480EE756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99F-F634-4EE6-9008-8AB3D78B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B0E-5A91-42FB-8FC1-FD59B549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026-0B1A-4ACC-8B81-3DDA2A29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EA7-E1B0-409F-BD3A-69CE3750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4A0-4FB4-42E8-962B-8AAF2F44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1CE-2E72-42FC-8FFE-B43103C8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EE5-2E1E-4A82-8204-FCAE4989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DAE-9EA9-45D9-A7CC-A18AF62A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F4C-13D7-4116-8E42-104E32B9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615-0C1F-4EDA-8EFD-025CCF0C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9A9C6-40C8-4B9E-A173-82EF5A3217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ed me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aw Your face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at place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opened up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lieve Your sweet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d been so bl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at I’m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all-forgiv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ery road leads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69   You Led Me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teach me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an empty to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ells me of Your resu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lif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one lies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ose folded grave-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ody 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at I’m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risen chil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ery road leads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teach me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1:53Z</dcterms:modified>
  <cp:revision>12</cp:revision>
  <dc:subject>The Source 3, song number 1669</dc:subject>
  <dc:title>You Led Me to the Cross (Jesus, Keep Me Near the Cross)</dc:title>
</cp:coreProperties>
</file>