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677-7856-409D-AD35-2100DF61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1DA-E2B9-4898-85B7-4CDCCB7A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E22-0764-4A0F-9B7F-9A2291F7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B97-CF4A-45FB-8D59-2C2FF0F7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973-1C38-4E71-B02C-9BF951F5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BC68-9C89-4291-843D-57793C3B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A23-4345-4B6F-9BB2-8526E2AC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78B-D952-4BED-8F1E-D94A61E3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D27-3CEA-4910-A63A-43048638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A46-ED2C-45FB-8D40-B293E22B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C9E-09B8-4E0C-9849-C30B6DC5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69C-3D63-4E1E-8278-DABF7D4B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754B4-0136-41A5-8043-516F4F4B7C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keep me nea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 precious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to all, a healing str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s from Calvary’s moun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креста хочу сто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хочу сто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ерцат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 Голгофы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течёт ре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, a trembling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nd mercy foun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he bright and Morning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d its beams aroun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меня на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езда свят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мой озар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! O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its scenes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walk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shadows o’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открылся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ий Агнец Б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лёк меня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 всего доро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 I’ll watch and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ing, trusting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I reach the golde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я буду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и надеж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Бог велит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безмятеж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4Z</dcterms:modified>
  <cp:revision>13</cp:revision>
  <dc:subject>Slavic hymnal Гимны веры христиан, hymn 424</dc:subject>
  <dc:title>Near the Cross / У креста хочу стоять</dc:title>
</cp:coreProperties>
</file>