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834-C195-41D0-90F1-78EC0E0B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634-EC08-4EC4-9A4D-BE7B0BA4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9DB-2E01-4110-8D48-08455DE1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6F9-C50D-4EBE-A2FC-F4C37B2B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0300-37DA-4115-BA6D-71AC8460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BA3-42A6-4C6B-ADAA-EC06DC40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A11-1378-4164-B417-03CD756E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A34-3A47-4B15-BC8C-ABABEC73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DCD-095B-4685-BF74-E8AC34B8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DAC-78A2-4834-A539-2AA1F785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DFA-3190-4295-9871-F0F38F6A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37E-1CE0-4EC0-A4C8-5B6CA9F2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2855A-49A1-4649-9867-3C763B9366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, Спаситель, увижу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е небес, в славе неб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мешь меня Ты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Твой чудес, в мир Твой чуд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искушений на это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блуждений в губительной мг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жидаю свободы и б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, на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ро ль, Спасите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, мой Спаситель, угодно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й управляй, мной упр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е иль страшной житейской борь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ь мне дай, помощь мне 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в сомненья свои не вп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надежды своей не тер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 Святого в меня излив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укрепляй! Им укреп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а земле я ещё нахож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я чужой, ей я чуж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к небесному миру стрем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у покой, жажду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моё да ликует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смолкает хвала ник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любить я хочу лишь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ы Царя, правды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наступит кончи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не прервёт, жизнь мне прерв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лаженства удел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придёт, скоро ль при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ж не буду душою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прославлю Христа благо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хвалить я любви полно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! 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9:29Z</dcterms:modified>
  <cp:revision>16</cp:revision>
  <dc:subject>Slavic hymnal Гимны веры христиан, hymn 477</dc:subject>
  <dc:title>Скоро ль, Спаситель, увижу Тебя?</dc:title>
</cp:coreProperties>
</file>