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339-A362-4B83-B2B0-69FE5734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0C3-A1F1-467C-A29B-300CCCF4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B3E-0BB2-4766-AC6D-5AE14134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127-7EBF-46CC-B1F2-61AA8280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BF9-6031-476D-915F-9F2596AE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799-1FA3-4507-B4A4-D4E3024D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DED-6631-4CA6-B530-989491D6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4B3-D09B-4B2B-BE98-E37ED07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DB4-388C-4C13-BDC2-A24B991A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6C4-827A-4C7E-B048-7B9AEDC5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BBB-1920-464C-8D78-54BFE1E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528-3E59-4F8F-80D0-BD4C70E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9E4C3-DEF8-4319-B621-5AAEE0E2C9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руках 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’tis the voice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e in a song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field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jasper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есть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ёт меня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аст мне место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from corroding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from the world’s tempt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cannot harm m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з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в сердц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the blight of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my doubts and f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a few more tria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a few more t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для Него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 и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heart’s dear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di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on the Rock of Ag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my trust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го лиш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let me wait with pati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 till the night is o’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 till I see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 on the golden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ла пройдё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ле этой 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ечн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5Z</dcterms:modified>
  <cp:revision>13</cp:revision>
  <dc:subject>Slavic hymnal Гимны веры христиан, hymn 643</dc:subject>
  <dc:title>Safe in the Arms of Jesus / В руках я Иисуса</dc:title>
</cp:coreProperties>
</file>