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445-F72A-4E9E-886B-3B2AEA45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5D4-BE67-4FF4-8F41-036F3479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159-EBDA-4545-B025-F228751D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634-59AE-4344-8F76-1FBB6307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DA7-450F-4830-A54B-85989817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AD3-F901-431C-AC89-38AE62DC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CF7-EA22-4F81-8E3E-E9768056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FE2-7BFD-420F-92FC-CDB85D4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FA5-93CA-4622-9D2B-0F2528EF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EA1-8DC3-41F7-B1D2-C569772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8D1-7DF6-4A49-B961-93A1593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DE6-A4B2-438C-90CA-AC52251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ED9E-882F-4642-BAFC-EA9A0AF0E5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оины рат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ы за веру 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на подвиг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ликий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али меча не им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м мы горяч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ерой в Вождя пламен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ем в сердцах лишь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оины рат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ьют, всенародно руг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т на суды и к власт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цирках со смехом брос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ищу голодным звер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нями нас мир поб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нусным позором клей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ир на крестах распи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юрьмах холодных гн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зло мы добром отве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м Творца за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миром вражду побежд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ен путь нам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воины дружной семь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за великим В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емся с ложью и ть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Христову 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42Z</dcterms:modified>
  <cp:revision>12</cp:revision>
  <dc:subject>Slavic hymnal Гимны веры христиан, hymn 473</dc:subject>
  <dc:title>Мы воины рати Христовой</dc:title>
</cp:coreProperties>
</file>