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289-5B89-4865-BFBF-7EF4721E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760-46A3-495E-B552-14A810A1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729-39E4-4520-B904-A2F6DDD7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A9E-3D14-42FF-AEE0-BBF9D9BD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C5A-7AB9-4262-AA1B-B6352416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D42-EFF9-4E7C-95C5-B175970C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679-BC17-4871-AF83-37DC9AC1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CEA-9CF3-4B3E-A5BD-A3D9B8EA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A09-38FC-4996-9DC1-56EDFCA0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CAD9-E752-4A49-84E4-85CF3785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1D7-A35D-4BC0-A03F-82FA8327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B94-D977-493A-8EAE-D5485689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12697-5FC6-4C3B-9D10-730C5EB705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снит ли враг со всех сторо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мраком путь твой окруж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й силой обле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шь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еснит ли вр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еет небо над глав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редавшись 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 сомненья не вним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ись и упов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й опоры ты лиш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ь душою удру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певших Бог благосл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ыше наде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ся ль скоро гнёт н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горечи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ова обод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, укреп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путь земной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в небесный свет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хваленье при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5:52Z</dcterms:modified>
  <cp:revision>12</cp:revision>
  <dc:subject>Slavic hymnal Гимны веры христиан, hymn 481</dc:subject>
  <dc:title>Теснит ли враг</dc:title>
</cp:coreProperties>
</file>