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B86-11EC-4848-A771-9B13C6BF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8EB-9576-48F8-BCAD-C1D34737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83B-16BF-4FF7-B81D-360857A2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456-1060-460A-9734-7DA95AFB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570-9F1E-41BA-9234-41E841DD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DB5-AA8E-4915-96E1-80A58FE9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559D-554A-4514-9BA3-02ECAF8D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B75-19D5-4AD2-B398-DB55A962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83B-A7BF-41EA-9417-B8CDC067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94D-9867-4965-BB94-42DBA25C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3D3-9976-475E-9D67-A711226D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F0C-3189-4909-A0F0-A02D820E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3E720-D46C-4986-90ED-0F60ED0C03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ghter than the brightest st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er than the purest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ing us with courage a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ollow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98   You S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fear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made the heave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be afr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put the stars in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los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know how great You 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giv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plans are full of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world we will have trou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 have overcome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ghter than the brightest st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er than the purest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ing us with courage a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ollow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4:58Z</dcterms:modified>
  <cp:revision>12</cp:revision>
  <dc:subject>The Source 3, song number 1698</dc:subject>
  <dc:title>You Shine (Why Should I Fear Man?)</dc:title>
</cp:coreProperties>
</file>