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781-5BC6-40A3-8874-BC1D5E77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15C-C884-439A-953B-CFD26BF9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209-6712-4385-9D31-309BF15A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4EB-A1A2-45E2-80F8-0F4390BF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4BB-2542-43A3-84F7-421B8DA4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C78-5C06-4175-895F-D6A2F72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244-5C2B-4D01-9707-5186986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A91-860E-4758-B5FD-02F8D7A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DCF-675A-4DC5-9FA3-3A26E743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105-2F2A-4FA9-925B-1556FCC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99B-6322-4F83-A3E9-93190F8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F68-EA21-4CFE-8F8D-19FDEBE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8CF45-B98D-4F6A-94BF-51A2B4B995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6:29Z</dcterms:modified>
  <cp:revision>15</cp:revision>
  <dc:subject>Slavic hymnal Гимны веры христиан, hymn 240</dc:subject>
  <dc:title>Он оставил престол</dc:title>
</cp:coreProperties>
</file>