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DC58-2C7A-4E36-AB2E-E0D1DBC1E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F5B7-B8D2-4BC7-922A-5C5ADFC4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698E-A2E0-4B84-9C86-A96EF099C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4F34-69FF-4EE0-B5E0-46824F23A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A768-A6F8-40F0-8824-D0ADCD13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A5DA-9B35-431A-AD4D-892E6F9B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9379-A7EC-446D-8074-653E3FB3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11F5-1C78-4B2D-8568-2AAF7F44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5F33-A761-4D6D-AD90-9F698D58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CF44-C04F-493E-BEBE-F9B54207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2677-A1B1-4BFA-966E-3CB6243A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9788-B0EF-4871-888A-2CD4620B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F1EDC-F3BC-4CF4-ADEB-97520B8B8BC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me to the garden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dew is still on the ros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voice I hear, falling on my 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on of God discl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дин я пришёл утром в са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я пришёл утром в с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шина. День будет погож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началом дня свет проник в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лся мне Сын Бож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 walks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 talks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 tells me I am His 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joy we share as we tarry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ne other has ever 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еперь со мной, говорит с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ывает меня Сво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осторгов тех, что даёт Он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гу передать друг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343080"/>
            <a:ext cx="96012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speaks, and the sound of His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so sweet, the birds hush their si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melody that He gave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in my heart is ring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ворит Он с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олкают песни зем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удесный гимн о Его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мне и в пусты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 walks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 talks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 tells me I am His 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joy we share as we tarry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ne other has ever 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еперь со мной, говорит с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ывает меня Сво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осторгов тех, что даёт Он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гу передать друг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d stay in the garden with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the night around me be f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He bids me go; through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oice of w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voice to me is cal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ел бы остаться в са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царит покой безмятеж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к труду зовёт и чрез шум невз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лышен голос неж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 walks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 talks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 tells me I am His 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joy we share as we tarry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ne other has ever 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еперь со мной, говорит с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ывает меня Сво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осторгов тех, что даёт Он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гу передать друг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5:55Z</dcterms:modified>
  <cp:revision>12</cp:revision>
  <dc:subject>Slavic hymnal Гимны веры христиан, hymn 848</dc:subject>
  <dc:title>In the Garden (I Come to the Garden Alone) / Один я пришёл утром в сад</dc:title>
</cp:coreProperties>
</file>