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EE2-2A02-44C1-92E7-C144E348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B27-597A-497C-8962-D1C32D0C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CC5-C281-4190-A198-F373EB1B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7DE-B312-4160-B312-BAE8A5BD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6B0-13C4-4DFA-A43A-FE3F0F6D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A46-D2DE-4672-BE48-D707532D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9DB-BD3E-4BF7-B56C-DC5330C6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4AF-80FB-419A-BA84-ADE00037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D4D-DAEB-4F93-9109-1B1B11A4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27C-EC1E-487B-BF07-A46A3CB6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9CE-C3E1-4B28-84E1-1CBDD3D8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A20-647F-489E-A49A-DE03795D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7749E-D57D-4BF0-9A47-070B8E65A8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спасенья возве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ти нас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любви и силы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8а  Грешники, к Христу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в нужде,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жью щед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вятость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ас влечёт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 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 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и своим стар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этом нам не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Он, чтоб вы нужд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шли к Нему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 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 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нетённые, прид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длит кто и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 быть, то никогд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н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 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 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: в Гефсим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простёр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е ум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 люди Божий с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лощённый Бог вознёс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жизнь вс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душой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веряйся ник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 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 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у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есням громко вт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Иисуса ч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0:04Z</dcterms:modified>
  <cp:revision>15</cp:revision>
  <dc:subject>Slavic hymnal Гимны веры христиан, hymn 338 (as amended)</dc:subject>
  <dc:title>Грешники, к Христу придите</dc:title>
</cp:coreProperties>
</file>