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9</a:t>
            </a:r>
            <a:r>
              <a:rPr b="1" lang="ru-RU" sz="3600" spc="-1" strike="noStrike">
                <a:solidFill>
                  <a:srgbClr val="ffffff"/>
                </a:solidFill>
                <a:latin typeface="Verdana"/>
              </a:rPr>
              <a:t>	</a:t>
            </a:r>
            <a:r>
              <a:rPr b="1" lang="ru-RU" sz="3600" spc="-1" strike="noStrike">
                <a:solidFill>
                  <a:srgbClr val="ffffff"/>
                </a:solidFill>
                <a:latin typeface="Verdana"/>
              </a:rPr>
              <a:t>Наш Всемогущий Бог</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he God of Abr’ham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reigns enthroned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Ancient of eternal day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od of l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ш Всемогущи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ит на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вечный Бог, и Он жи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людских сердцах.</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hovah, great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earth and heav’n confess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bow and bless the sacred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ever blest.</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Сущий, и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емля и небе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Ним сливаются в хва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голос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He by Himself hath swor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on His oath depe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shall, on eagles’ wings upbor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heav’n ascend.</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аш Всемогущи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любовью повел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праха встать, Его иск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йти в уде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shall behold His f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shall His pow’r ad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ing the wonders of Hi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evermor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менчиво нам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атство, слава, вла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Нём одном душа наш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ую час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e God who reigns on hig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great archangels 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Holy, holy, holy,” c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Almighty King!”</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клялся Он С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мненью места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х возьмёт Он в мир и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бесный свет.</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was and is the s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evermore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ternal Father, great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worship The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жет нам Свой 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им мощь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ём Он дивен и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всего.</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e whole triumphant ho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ive thanks to God on hig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Hail, Father, Son and Holy Gho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y ever cry.</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оёт хор не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наш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ец и Сын, и Дух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рода в род!»</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il, Abr’ham’s God and m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heav’n our songs we 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ight and majesty are Th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endless prais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Всемогущи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спешим возн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ренье и мольб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у и честь.</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33:56Z</dcterms:modified>
  <cp:revision>3</cp:revision>
  <dc:subject>Slavic hymnal Гимны веры христиан, hymn 99</dc:subject>
  <dc:title>The God of Abraham Praise / Наш Всемогущий Бог</dc:title>
</cp:coreProperties>
</file>