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A3B-24AC-4619-A4D7-D75E1D31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632-114D-424C-A571-3B31B288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5A3-1A68-4510-9B37-D4F269AA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2CE-10A3-4389-BFE4-7FDC019F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E60-1A71-4545-A4A5-A2D2BE35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DB1-20A2-420D-9AC7-65ECCA2A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94C-04D5-49FB-B591-E7402042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0BD-621B-473C-83D8-3D585A66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70F-88B1-4379-80A1-4BFC8A86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BDB-F63C-44C8-94D6-1E2E2469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CF3-B912-4B15-B62A-F5E3ACCA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152-AE23-4757-AEAC-F12ED393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BB5D4-A52D-46B4-910E-1E777799F9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покорными сл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Твоими нам хочется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у Твою сделать жизни ос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Твоею врагов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ными сердц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отдавшими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ем, Владыке влады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м трудиться, творить Тв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чтоб славить мог всякий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смиренными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станем, когда Ты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воцаришься, излечишь неду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удалишь, самолюбье и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6:00Z</dcterms:modified>
  <cp:revision>12</cp:revision>
  <dc:subject>Slavic hymnal Гимны веры христиан, hymn 874</dc:subject>
  <dc:title>Верными сердцем, покорными слову</dc:title>
</cp:coreProperties>
</file>