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49F-2AEC-4B60-A6BA-2D7A78D6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2F5-393B-4A45-B69B-354994CA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954-DD1F-4B4D-AEFA-24DA93F5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2FB-CC4D-42FB-8C3C-F645A9C1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1B7-FBC3-4DC5-8DBC-F2422DAC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49A-7D48-4CE1-A792-3856AC81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10E-8C46-4391-9A8F-D6AE9B56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392-116F-4F7F-8489-A9C6C39A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739-D9EC-472F-A5F1-63AE728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D40-B270-4C34-B371-688E6CC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F4C-E902-4C70-8330-BA20CAE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9DC-A317-424D-A275-707779C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F5857-9238-4CA3-98D6-5A147E5B71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ye pure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, and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estal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angel choi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saint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 out the strains of joy an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rapture, noblest m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youth and snow-crowned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en and maidens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high your free, exultant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ndrous praises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on through life’s long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chanting as y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uth to age, by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ladness and in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, ye pure in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ious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14Z</dcterms:modified>
  <cp:revision>12</cp:revision>
  <dc:subject>Slavic hymnal Гимны веры христиан, hymn 888</dc:subject>
  <dc:title>Rejoice, Ye Pure in Heart / Ликуй, Христов народ!</dc:title>
</cp:coreProperties>
</file>