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B469-2AD5-446F-B976-92FFA83A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2E22-7901-4DB0-906F-B0940869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8431-CDDC-4CC8-BFF0-B60E020F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2539-8127-4C8B-93BD-FC5F7464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F352-5556-407F-8495-E408FB05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6141-5211-4876-9BA4-13CB12C3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4275-A753-4975-9744-E68B0CA2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0791-4B5E-4B18-9029-D6F712C9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80AB-0664-45FE-BD53-DFFE2680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FD40-41D9-4DAA-8A01-7DE6157C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F188-AB3F-4047-A745-63D81D84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4532-AEBC-47A4-B624-A58C2408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A0A12-79FC-42D6-94FF-B4604E447A9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s made to prais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s made to glorif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 circumstance to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chance to than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s made to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s made to worship at Your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o obey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s made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40   I Was Made to Praise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lways prais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lways glorif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 circumstance I’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chance to than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lways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lways worship at Your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obey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s made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4:13Z</dcterms:modified>
  <cp:revision>12</cp:revision>
  <dc:subject>The Source 3, song number 1340</dc:subject>
  <dc:title>I Was Made to Praise You</dc:title>
</cp:coreProperties>
</file>