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451-6794-4B1F-9521-6D010C61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09C-1025-4FA6-9A7C-4237BF7A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C4E-CB46-409D-A70B-AAB4AC84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FBF-09E8-4564-9FD0-A2E3D9C8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807-A33D-4454-B6CF-BE22461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BF3-5382-4C90-9A32-3272017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88F-050F-4FCD-A8ED-174774F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9C2-EE84-49AE-B2CE-728A64DF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EB3-DA2F-47B0-81B2-60B6482F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609-EE3E-49AF-8736-721B445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5DF-11EF-4CD4-B46E-4983C78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A77-E0D8-458A-B094-9C54A436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B68BD-0990-4190-9281-EFA2C19E59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ело нам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плетаются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зком,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вят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и яд разоль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тяжёл и так д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ется — вот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шь, ах, где же т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обедой зажг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на ноги п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я дальше пой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чутясь на коле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затворив за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е эти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взлетишь т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забьётся так гул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ручьём по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т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полнят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поднимут на крыл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облегчая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и мелодии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земной уве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рогие мг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дающи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любви, дерз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надежду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! в эти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28Z</dcterms:modified>
  <cp:revision>12</cp:revision>
  <dc:subject>Slavic hymnal Гимны веры христиан, hymn 786</dc:subject>
  <dc:title>Часто на этой дороге</dc:title>
</cp:coreProperties>
</file>