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25A-B9F9-431F-97B7-D286046E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C44-1886-46EF-ADEE-9398FC43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669-75AD-4797-9827-5F7AEEEB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DB7-EF1E-4510-BF4B-1EA13804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A3E-2F41-4A0F-96F2-5692D1CA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F7B-5068-4A03-A1C7-9535135C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834-8E89-40EA-B5B3-6C146F30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E93-AD29-4680-8BC4-D3020004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B97-19DB-4B23-B214-417B10C3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4C0-C4B9-4D63-BA17-85A3CD40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456-F486-4FEA-82C5-B0188AA1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613-A07A-4187-BCCE-D6E6DDBF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0F774-6C22-4C47-B441-AF235ED4D6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у я всем живу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истос мой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д бременем гнету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н умир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у я всем живу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истос мой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всем, к Нему иду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сскажу я всем живущ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я не слышу 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уждаю, как ов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ня находит 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ию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орьбе с грехом был ра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стал и изне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был скорбью затумане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е мне во всём по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мо смерти прохо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зол в пути м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ед ними не па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ражу святым меч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ерёт меня з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ять вперёд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наю с Ним разл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наю с Ним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36Z</dcterms:modified>
  <cp:revision>12</cp:revision>
  <dc:subject>Slavic hymnal Гимны веры христиан, hymn 514</dc:subject>
  <dc:title>Расскажу я всем живущим</dc:title>
</cp:coreProperties>
</file>