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B25-B6DD-4015-8DD2-2B2D1EB1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CDBA-BB11-4308-8880-AC676920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CBE-84C4-4700-8892-25265CD6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F692-F9A1-4CCA-A00E-1EEA170D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DB82-C88A-47D3-A5C2-966092F9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41DD-B8DD-4992-AFE6-20BDF793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24DF-D491-4241-BAF9-7FAE92AF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9A4C-8093-483F-926D-8420AE15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769-1A5C-4487-8245-1D8E263C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D1E-50CB-4322-AB29-E93085BC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AB5E-8840-4BD3-8D84-3EF06EEA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F12-3062-493A-BEA2-B5F22CAC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3E16B-A973-43D6-9DD2-79A45028723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 возрадуйтесь, друзья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исус Своими нас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, и смертные ок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ю смертью ваши Он пор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честь и царственное з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о Христе на небе сужде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кровь Его, за смерть и за стра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оно Христом обрет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том возрадуйте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нам о чём в виду врагов хвалить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Христом — ничем, ничем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 Нём здесь на земле продл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бурь, средь волн, чтоб в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и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те, все земные наслажд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е вы тщеславье лишь с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познала уто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Христа; вам части нет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ожет быть с той радостью сравни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с вручил Спасителю Оте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Его могучих мы хран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астырь знает нас — Своих ов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воли Бога не падёт на з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й волос с нашей голов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Отца небесного при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 дары Его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Бог за нас, кто против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ста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, стадо малое,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Отец дать царство об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 Христом врагов ты поб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облака свидетелей пред 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жидают встретить со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украсит славными венц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Иисус, — во след за Ним п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6:33Z</dcterms:modified>
  <cp:revision>12</cp:revision>
  <dc:subject>Slavic hymnal Гимны веры христиан, hymn 296</dc:subject>
  <dc:title>О том возрадуйтесь, друзья Христовы</dc:title>
</cp:coreProperties>
</file>