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D3F-2786-4813-A8A4-8A83613E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38A-4B21-451C-8A8B-82364CD5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404-98A0-4A7B-8EB1-285A633A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9D4-C5CE-43F6-8BB1-F567432A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4B8-90B0-43D4-A4F7-9283D6B4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BA0-753E-4549-831E-CFFEE74A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99E-ADD6-4535-B9A5-48948A96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D3C-1D4C-40C9-83C7-0CFE970E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E5A-E591-461A-BB64-81C87850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E55-30DB-4AC2-9803-F2960B9F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49B-FCFD-4581-9AAD-BA57E4F3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AA2-0A96-4E78-8669-F058FE2A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46876-7FD7-4569-A309-3ACAE54291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ы, друг несча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Христа сто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спечности оп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 мир гляд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без замед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точнику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аши благ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без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ты, друг несча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! Как солнце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ердц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! Счастливый жреб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н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, и брось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ог Христа свят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пусти ты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емленьях суе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, мой друг, сего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е оп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й, любовь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зв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час, быть может, вск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твой стыд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может с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53Z</dcterms:modified>
  <cp:revision>12</cp:revision>
  <dc:subject>Slavic hymnal Гимны веры христиан, hymn 351</dc:subject>
  <dc:title>Зачем ты, друг несчастный</dc:title>
</cp:coreProperties>
</file>