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8</a:t>
            </a:r>
            <a:r>
              <a:rPr b="1" lang="ru-RU" sz="3600" spc="-1" strike="noStrike">
                <a:solidFill>
                  <a:srgbClr val="ffffff"/>
                </a:solidFill>
                <a:latin typeface="Verdana"/>
              </a:rPr>
              <a:t>	</a:t>
            </a:r>
            <a:r>
              <a:rPr b="1" lang="ru-RU" sz="3600" spc="-1" strike="noStrike">
                <a:solidFill>
                  <a:srgbClr val="ffffff"/>
                </a:solidFill>
                <a:latin typeface="Verdana"/>
              </a:rPr>
              <a:t>Полны уста мои хвалой</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лны уста мои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ь моя прош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у пою теперь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у звучит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Господь мой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рех мой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ело сердце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н за нас взы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ть искушения по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ставят дух стра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Ты — Бог, Спаситель мо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овтор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пасенья радостную в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ши другим сказ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их для Бога приобр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ними воспе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хвала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ристу вовек.</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6:34Z</dcterms:modified>
  <cp:revision>3</cp:revision>
  <dc:subject>Slavic hymnal Гимны веры христиан, hymn 108</dc:subject>
  <dc:title>Полны уста мои хвалой</dc:title>
</cp:coreProperties>
</file>