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C2F-4DD6-4877-9A7C-DB1DA152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64B-D82D-4C12-9D4D-7B57826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D91-A8EC-475F-8999-94946F47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F6A-5BAB-431B-89B1-0461E264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214-C86F-4005-BBAC-0FF3048C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BFE-44E2-4709-91A6-A2E34197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238-7C25-45C2-BF19-7000D7FB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BCC-744E-4D01-A171-5EDF3EBF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C92-9CA9-49AF-9E17-4CDAD6D2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968-2357-406A-9EEE-0A5ECB9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E49-95CD-4126-ADDF-C1CF02F2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E1F-767E-4514-B94A-A524EBB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259BE-C734-463F-A7EB-3DE2171E63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м мы 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правды 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чь могло широки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приходит правд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тупает новый д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ьмы греха, сомнений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ое «я» уходит в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крывается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безмерной и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, врачует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— силу для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м — покой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 Богом жить всег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Библия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51Z</dcterms:modified>
  <cp:revision>12</cp:revision>
  <dc:subject>Slavic hymnal Гимны веры христиан, hymn 563</dc:subject>
  <dc:title>Открытой Библией везде</dc:title>
</cp:coreProperties>
</file>