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629-A4E2-4004-8FA4-02726CE9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DBC-DEA5-4BF1-B50A-35F250AE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3A7-9D71-403B-BAE3-233D2C3B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D36-1E10-499B-A893-58812F35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1DE-0CBA-4346-A39F-FACA5983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87F-628B-4DE7-96F2-B8A2546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C30-F17C-4FE0-A7FD-ABD388B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8A2-9525-436D-AB99-EE28133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97D-9AAC-4D51-B3AB-7033EE39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578-0537-4423-A4B0-6593377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1A5-B331-463B-BD64-FFE41E78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802-5025-45EE-8762-92F9ACC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9B162-40FA-4C07-9180-7694EAF60A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 all of my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,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aid, “I’ll never forsake the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 divine that never can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ound me, shadows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onceal my Saviour and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Light, in Him is no dar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I’m walking close to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right sunlight, eve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my way to mansion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 gladly I’m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, sunlight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0Z</dcterms:modified>
  <cp:revision>13</cp:revision>
  <dc:subject>Slavic hymnal Гимны веры христиан, hymn 439</dc:subject>
  <dc:title>Heavenly Sunlight / В свете небесном</dc:title>
</cp:coreProperties>
</file>