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FAF3-41AD-48A7-896F-D41E0D34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CCD-A7B6-4733-A73F-507C0E2D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33AE-4D0C-4548-B41A-7604BABA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099-C7D0-4BB0-82AE-22C52F62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743-CC8F-44AF-ADB4-CDD6FDA9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E6E-DC30-40BB-8701-65FE783D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DF5-A55C-46F6-9832-73C8529D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08B-9C7D-4EA9-A29B-EB3EB59F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EB0-CAD0-4738-97CB-1071BABF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AAC-0781-472F-9B28-3D3D498A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607-A6D2-4E00-A599-01EF41D7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13B-47AB-4677-A7CB-84CB0DB8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FEFB0-4DC4-408A-918E-8E45A58A70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к Господу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ю жи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Его свято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йдёш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ославят все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грешников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вечность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г мой, к Господу пр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оставил Свой пре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ны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емлю к нам с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ассеять мр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ославят все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грешников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вечность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! спасение т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обрёл Христ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н произнё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вершилось вс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ославят все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грешников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вечность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ь греховный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крыл спасенья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еб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ославят все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грешников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вечность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40Z</dcterms:modified>
  <cp:revision>12</cp:revision>
  <dc:subject>Slavic hymnal Гимны веры христиан, hymn 347</dc:subject>
  <dc:title>Друг мой, к Господу приди</dc:title>
</cp:coreProperties>
</file>