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E67-CEEA-481B-99B7-43FD6BE1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C1D-FDAC-4D79-BBAB-C8441B80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076-2809-41AA-9197-6C63313B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033-D967-4BE0-A9C1-8F1674EF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FD8-5DFF-4B7E-9279-6D370914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04F-A635-47E8-9ECC-79871DAD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590-96B0-498C-B9BC-685CE215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B1B-B269-4062-A3AF-21BFAA00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B20-B727-457E-B55F-0C1076F6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BA0-7C70-4336-9BA6-8833D8B7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590-964A-42EC-9E7F-2E1629CD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71F-94EA-4A6E-99F2-685A7C0A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6D8AF-96FB-4A0E-86EA-D0F266A808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преб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мо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лию чит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будь со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дер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нь забот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служ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святости стрем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йдё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держ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лишь за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лик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и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ют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не тороп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есту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и в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уская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ым будь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мир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одимый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в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дёшь ты к слу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го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27Z</dcterms:modified>
  <cp:revision>12</cp:revision>
  <dc:subject>Slavic hymnal Гимны веры христиан, hymn 858</dc:subject>
  <dc:title>К святости стремися</dc:title>
</cp:coreProperties>
</file>