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C5C-8AF8-470C-AD4C-9D09957C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822-9FD4-44D0-BC0F-8CFADF5D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0E2-C9B1-439A-9AE8-8362D27A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253-DB36-4CD0-B0AE-AAE52883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802-0356-4396-AF38-3EC50802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771-6816-4B2A-BA06-6720E23B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62C-DFD4-41F0-A0F9-971AE7CB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C9E-AFC4-4EE8-B8C7-868AAABE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CD4-C7A2-4082-9689-C2BCD149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CF64-05EB-4D38-98E0-BF6EACC2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808-43DB-4A99-91DE-AD424FC5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7AD-0E46-437D-9241-0D07C644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21B59-7CB4-4353-B99A-044EB8DCB5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далеко вже видно то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ього вірні лиш люди ввійд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Спаситель веде у Свій 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й відкуплений і вірний лю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8   Там далеко вже ви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у славі, в небесній кра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чудова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ють Творця там у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дкуплені кров’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є зібрання спасенних вс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сі Духом обняті во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любові співають піс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роном Його пресвя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2:15Z</dcterms:modified>
  <cp:revision>12</cp:revision>
  <dc:subject>Slavic hymnal Гимны веры христиан, Ukrainian hymn 68</dc:subject>
  <dc:title>Там далеко вже видно той край</dc:title>
</cp:coreProperties>
</file>