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4F11-CB9D-4BBC-99DB-10986A2C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094A-8B2C-46A7-B318-760A4814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C66E-FFE3-4B18-8D47-F903F6816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FF97-11D4-4560-9A09-7098689F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FBCD-EBCF-4F69-8854-3D77783E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C370-79B4-4AC8-BB9E-A4A34AC7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7EF8-E47D-484D-BC45-3B7D6CB5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BB22-2C30-48E9-BE3C-6913F3D9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BD1A-8A9F-4C3F-B053-182C4ACB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47DE-BB18-4587-992C-B337AB67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3199-AA23-45CC-8981-C2212387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4897-4F79-41FC-99D7-422F14FE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EC140-6160-42F3-B148-57AB07178E1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ли ты, грозит б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 ль воет, ночь круг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веряй Христу всегд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 сиянье ль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бедное м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ёт прямым пут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 мной — я весе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ок? — сильней мо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хе? — слышу как бы гр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Тому, Кто сп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и в смертный ч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 вечность не у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4:47Z</dcterms:modified>
  <cp:revision>13</cp:revision>
  <dc:subject>Slavic hymnal Гимны веры христиан, hymn 645</dc:subject>
  <dc:title>Доверяй Христу всегда!</dc:title>
</cp:coreProperties>
</file>