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DCA-0AA1-4C4A-BD2E-3834E576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07C-2C62-49E9-8207-A0BDFAF2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AEC-0152-4973-A4DA-A9E05128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3DD-88E2-43CE-ADF0-A57180B4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E71-33ED-4B03-9B27-2AEF72B4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6E5-3E9C-4B8E-86F9-D820FC4A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83D-6729-4BAE-9F3E-6C0E60FD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9B0-B041-4CD1-9464-2FB1BACB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C3F-FF11-4D9B-ACC1-F8C0E772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BA1-07B7-43ED-9303-96482D4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6FC-0072-4B58-B1D8-C39B2EC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9E3-D758-4508-94D4-66FF728A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08C85-D20B-4F39-8FB9-30789F33B7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Боже, Тобой я из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Твой тернистый,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же людьми я, не знавш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бирь за любовь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ёлые цепи на ноги од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свой звон по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чудны и дивны слов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авду я должен тер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Боже, мой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жу за решёткой, так тяжко и бо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мыслях моих лишь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ди забыли вели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т законов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юди, вы — братья, познайте же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законы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ужья, и пушки, и все пулемё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перекуйте вы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ужны нам гордости, мести оруж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ужны плуги да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ышли на нивы Христовы вс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полагали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ивы Христовы давно уж пос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до нам Бога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ыслал жнецов на поля и на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ать, собирать и 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00Z</dcterms:modified>
  <cp:revision>13</cp:revision>
  <dc:subject>Slavic hymnal Гимны веры христиан, hymn 517</dc:subject>
  <dc:title>О Боже, мой Боже, Тобой я избранный</dc:title>
</cp:coreProperties>
</file>