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175-DA93-433E-A55C-FD21AE44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ECA-19B4-4F39-BEEA-485340F8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7AA-B848-46A8-9858-C52CE3D6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02C-C706-4F7D-8B1E-5F08A3D7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A1E-792E-40C0-A74E-13A02FD8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907-9DCF-4E57-8BA4-77ED11A1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548-7CBF-44D5-AFC9-A176557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813-CACC-4FF5-9AE0-B703F727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B49-6EBF-410E-9CC0-392C97D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582-8794-4A08-AF89-3FE5CA8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DFC-45E3-47D5-A581-00E4FCA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350-8CE1-4652-AD5C-2569743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EEC9A-FF67-4928-BD56-F6D2363C83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the Light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6-04T06:03:44Z</dcterms:modified>
  <cp:revision>12</cp:revision>
  <dc:subject>The Source, song number 335</dc:subject>
  <dc:title>Lord, the Light of Your Love (Shine, Jesus, Shine)</dc:title>
</cp:coreProperties>
</file>