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732-F950-4BD2-9C27-AA54FB03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235-5A37-4C8C-88D2-FA3EB48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0B4-72E4-4E7B-9163-11AFA78E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5B5-4F00-4FFD-BC5F-4B6E976E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46D-8BC4-4AE8-AF4C-695C341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383-5EB1-442A-8101-2782D13F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951-2016-495C-939F-3788610B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619-B00E-47C6-A57C-DDD8822B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D8D-6AA3-48B0-8394-34755C60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873-AA43-4B86-8220-3A5E945D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4ED-B5BB-4EE6-B0E6-77C034B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499-FFB9-4CC6-8570-6ED33AF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6D8D-4AF2-45A4-BDED-33CCABFF61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а, любви торж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приглашён был давн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призыва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же на путь в ту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ешника с радостью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имет тебя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благодат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обитель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подобной ей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нет ни палящего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ури, ни скорби, н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ьоны спасённых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ками и ветвями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там в соглась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азарь, страдалец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ный в жизненном б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нят, как гость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мыслить о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, средь житейского ст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и, Боже,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29Z</dcterms:modified>
  <cp:revision>12</cp:revision>
  <dc:subject>Slavic hymnal Гимны веры христиан, hymn 658</dc:subject>
  <dc:title>Я знаю обитель покоя</dc:title>
</cp:coreProperties>
</file>