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B976-1869-4439-911F-6F4C3C09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5D34-56D2-4B8D-8423-5B2083E9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C202-67A7-4CA4-8DC2-BC7CD7E32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0701-E02B-4D1F-9702-C9FAAD43C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8EEF-2CED-4AC3-AD0B-E14C7F57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5DAC-42CF-4E08-9D0D-E4DA02DD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CD10-B6D5-4EC3-ADEE-1F5BAA01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2ED7-DF9A-4811-8C29-AE9C9E57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775D-8D52-433B-BB9B-188264DD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728E-9CE1-495A-BDE6-E8AC849E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E880-DC87-4F7E-8E5E-F1F02474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FBBF-231B-4857-920E-8D24C3BA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4DE2B-395F-46AB-8551-B58C1D707E8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Jesus I knew not I did not know lif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pent all my days in contention and str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n I heard a voice which all trouble surmou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loves you, He loves you,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sweetly it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9   Не знав я І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в я Ісуса, життя я не 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хами обнятий, у тьмі я блук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ж ось, як почув я Господні сл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, Він любить! бодрися, душа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sin I was d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now I am sa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oves you, He loves you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weetly it s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гріхах я блук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Спас знайш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”, я зна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 нас Він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I am depressed by life’s trou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wro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nowhere my spirit finds solace and song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is message from heaven in echo res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loves you, He loves you,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sweetly it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втомлюсь в житті цім земн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є спокою й душі в світі ці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ж ось чую, ллються небесні сл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, Він любить!”, то віс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sin I was d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now I am sa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oves you, He loves you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weetly it s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гріхах я блук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Спас знайш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”, я зна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 нас Він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trusted in Jesus, I now live in Hi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go through the valley—the pathway is d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He never leaves me, His grace still abound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loves you, He loves you,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sweetly it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ві довіривсь, тепер з Ним жи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 смертній долині, без страху я й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ін не залишить!”, слова чую зн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, Він любить! Бог наш 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ов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sin I was d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now I am sa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oves you, He loves you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weetly it s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гріхах я блук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Спас знайш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”, я зна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 нас Він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4:39Z</dcterms:modified>
  <cp:revision>12</cp:revision>
  <dc:subject>Slavic hymnal Гимны веры христиан, Ukrainian hymn 49</dc:subject>
  <dc:title>When Jesus I Knew Not / Не знав я Ісуса, життя я не знав</dc:title>
</cp:coreProperties>
</file>