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BBE-CE37-429C-8175-84B20B4D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1E2-ECED-4FAB-ABA5-76FA90E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385-880E-429D-BE3A-07A151B9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EDF-1DE1-458D-9762-436F0409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927-D653-48EC-9636-007F57A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023-BF40-42C1-94B9-F6DDEBCF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BC8-1FD5-4690-84B0-253D732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763-AAAA-4DD4-AA57-3FDC8575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7D8-17FA-47EC-B134-20A7D81A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B52-9BAD-40A2-9025-9417CFCA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F5C-299A-447E-AADB-B0BCF47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884-77CC-4325-9024-686A4DD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111E0-5823-46E3-BDDA-E4DDC22DDF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37Z</dcterms:modified>
  <cp:revision>12</cp:revision>
  <dc:subject>Slavic hymnal Гимны веры христиан, hymn 424</dc:subject>
  <dc:title>У креста хочу стоять</dc:title>
</cp:coreProperties>
</file>