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7A3-3E79-4757-BE75-BF6FE08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83D-163A-4656-A60A-B5A3FD4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088-1C18-4F4B-BC63-04ED043F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84E-C03A-41B4-A1AE-9660C36E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96A-CA1B-4EEC-A995-343A1E7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E81-6939-4311-A864-D74D312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99A-9883-4E61-A595-8E932B1A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C06-1ED5-4E73-80D0-79AB006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73E-6ED6-44FA-A5BA-DA4C959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5F3-85FB-4A9D-8313-B56EBA5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E6E-7ADB-49EF-9884-AC770AB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C85-4C42-4F20-8F03-5D4A574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8E43B-3129-4D3B-BDC1-AA30A690C5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к земле нам обетованной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ёт нам Своё насле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о славе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к победе при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 уз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ожий за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ся через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ся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лах, а не в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 свер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ерой невозм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вучит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с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 мы, но по благодати мы 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ценный Дух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ша плоть сл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й сла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ляет силу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да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30:10Z</dcterms:modified>
  <cp:revision>11</cp:revision>
  <dc:subject>The Source, song number 438 in Russian</dc:subject>
  <dc:title>Ликуй, ликуй! / Rejoice!</dc:title>
</cp:coreProperties>
</file>