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48C-9BAC-4DD6-8449-F23E9E1E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964-715B-4E6F-B00C-3BF4BC6E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D79-83C6-4D48-A588-F4ADCDDA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80D-0CFF-4899-B7D9-9E3EF6C2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6AF-329F-4354-A2D9-C5B4C030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7E9-3163-4B45-8E99-48538395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B37-B07B-4F31-AF67-B78AE76B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AE6-2BD1-4FF8-BC0B-3F5E48ED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196-2F6F-47B3-843B-74FDAF90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9AB-9627-45DC-9DBE-51DA14C0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1BF-F0C6-4E5A-B156-A37AA52C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E63-69C5-40E2-B8D1-0A190501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39FF8-8885-43B7-A46E-A28BB5A813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рко плакав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корботній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ьози чисті лилися з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даремно Він плак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бачив у з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рно гинучих бідн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9   Гірко плакав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чого же Ти плач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ю на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е храми Твої не бли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ж не Твій віков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стол в небес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страждання Тебе тягот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, Я плачу з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лю Свої сльози і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ніс вам на землю небесн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ж за це розіпнете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ивлюся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людей, як браті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траждають в гріхах на зем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е згадують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за них Я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увають страждання Мо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 плачу з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лю Свої сльози і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ніс вам на землю небесн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еї розіпнете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олюся за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ною куплені 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ийміть святу жертву М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аю ва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литій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ддав за вас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 плачу з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лю Свої сльози і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ніс вам на землю небесн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еї розіпнете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6:24Z</dcterms:modified>
  <cp:revision>13</cp:revision>
  <dc:subject>Slavic hymnal Гимны веры христиан, Ukrainian hymn 39</dc:subject>
  <dc:title>Гірко плакав Христос</dc:title>
</cp:coreProperties>
</file>