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391C-D649-4E7D-9696-AC43BCF6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3AD-9B75-4167-AF56-885DB3AD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B8D-A058-4CCE-B92C-55D665D2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974-9401-4F24-A1C8-B692CFB2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E20-BEDD-4C99-84F0-1603AF87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30C-C465-4880-A684-4E1C86FD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D6B-C0B7-49D6-A449-EC2A1EBD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D7E-5940-4F95-9DFC-E1C9988A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C09-9ECA-412F-86E8-6368106D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B52-2D8B-43F1-B6D1-18447298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AF9-9E81-44DE-B132-42529F62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C62-708C-4A2E-80AE-2A7E57CA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79281-2E7F-4CBF-BF14-7DB77A8134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heard so many so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stened to a thousand tongu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ere is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sounds above them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song, the Father’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ung it ove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eter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written o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90   I Have Heard So Many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’s perfect melo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eator’s symph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inging ove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’s perfect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g of Love has sent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You’re singing ove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46Z</dcterms:modified>
  <cp:revision>12</cp:revision>
  <dc:subject>The Source 3, song number 1290</dc:subject>
  <dc:title>I Have Heard So Many Songs (The Father’s Song)</dc:title>
</cp:coreProperties>
</file>