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16D-C085-436B-B965-E782283A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E8B-1872-44D7-88A6-F07772F4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A95-95F1-4BD8-A8D9-6DD3061C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75B-CE09-4228-9470-DD1C9D78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BA0-84C2-4A6A-8C53-3877418C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6EF-3750-4D67-A464-006A8ED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09E-6C18-47BE-A4E7-180ECB91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C99-B901-4027-8034-5536B1C8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480-D199-42CA-B916-DF3C57DB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472-B394-4E75-A496-13881BB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F1D-FD39-4047-A55C-2C6A04D8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2F3-F2AF-4DC1-94B7-27C1DD47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33F74-1B5A-4843-A0F0-76551945FE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love what Thou dos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o what Thou woulds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heart is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with Thee I will one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o and to en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nd all my soul with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is earthly p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with Thy fir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I never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live with Thee the perfec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ine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9Z</dcterms:modified>
  <cp:revision>13</cp:revision>
  <dc:subject>Slavic hymnal Гимны веры христиан, hymn 312</dc:subject>
  <dc:title>Breathe On Me, Breath of God / Повей, Дух Божий, вновь</dc:title>
</cp:coreProperties>
</file>