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A87-A6CA-47EA-80A4-D87EE2D7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2B4-2659-4895-809E-3A416499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FD1-9FD1-4A37-A0E4-FA29DAD5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853-DDAA-4E89-BF1E-A5F9411C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7B2-9144-4811-8CFE-248DFE2D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9A2-060C-4417-BC2E-820D7738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292-6DF5-448A-9B7C-CE99C9BB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DC5-734C-4147-B3F1-C1A750C2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CCF-AF6F-43A2-89AC-E01863C3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841-8FDC-4656-A8EF-F6B1C388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8A4-E904-413B-9694-34753109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698-3504-4884-95F7-2E21F256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E880F-4431-4C33-942B-C1C747B628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1   Worthy, You Are Wo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You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You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45Z</dcterms:modified>
  <cp:revision>11</cp:revision>
  <dc:subject>The Source 2, song number 1071</dc:subject>
  <dc:title>Worthy, You Are Worthy</dc:title>
</cp:coreProperties>
</file>