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2E7-064A-4E13-9149-E34485E7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534-80A5-45D4-835B-3619D281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C07-CD0C-49BC-A54E-F13BB6E6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8D7-E69C-4C6B-A800-0527DE0D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0F2-F85F-4B84-87F8-F11C4FD8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217-547D-4CA1-80C6-DC6A0936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710-E98D-4D68-8E9D-8058CDC1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CBE-1AAD-4950-A724-82C5096E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87F-D7FA-4596-A83F-EE1132AD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EB6-7AAD-44A0-B241-087C8FBE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855-52E2-4343-AA8A-2F3FB421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6D8-F97E-4BA9-9304-3DAE418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1D508-D738-4671-95FB-A668970254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перёд прямым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двигаясь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Тому, Кто жизнь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 силы мне достичь высо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емлюсь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есен мой земно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учит страх, сомненья ж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корбь близка, а грех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тремлюсь достичь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к небу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цепь тяжёлую в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ой слышу песн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м пою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ья славы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вперёд, молюсь Хрис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осподь, веди на высот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59Z</dcterms:modified>
  <cp:revision>12</cp:revision>
  <dc:subject>Slavic hymnal Гимны веры христиан, hymn 853</dc:subject>
  <dc:title>Стремлюсь вперёд</dc:title>
</cp:coreProperties>
</file>