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243-2AE4-4156-BF01-B13E4E0F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126-4F4D-4550-9DDF-CF5DD253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A20-B074-40AC-92C8-2D498D53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D96-FC2A-4A77-BC85-ECCF07BF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059-3009-4ABB-AE3B-B6DCB034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B48-475B-4C43-8B46-96368E0B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615-6C0C-4B17-8607-FE758788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40C-66C9-4CFC-9F25-85F3E605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DF2-BEC0-438F-9A80-9D2FDD98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838-9107-44B4-81D3-5D156E9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304-6354-464B-822D-628365D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258-BF9B-4A40-A17A-0E486C7E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70E27-24CF-4D4D-B5EE-BFC89CAD2D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ur God is an Awesome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00Z</dcterms:modified>
  <cp:revision>11</cp:revision>
  <dc:subject>The Source, song number 418</dc:subject>
  <dc:title>Our God is an Awesome God (Awesome God)</dc:title>
</cp:coreProperties>
</file>