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8487-8D23-4F27-9DB2-297C1D5F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808-C2D7-4E09-BD17-B8ED3E2F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1CE-E985-4D05-A0E4-136C7D6F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252-1827-4ABC-960A-6B66CB4A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8A9-CFD4-417D-A690-ACCA1D7B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DC5-80AC-4784-A3B9-C9CE467E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D42-33D6-41DA-AF46-9EAC7C92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F2C-50D9-4AB9-901B-5FB33565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5C5-C94F-4940-9692-D8599087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CB6-B443-4C3C-AD80-E0C15B4C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679-6B48-45FE-B06A-C6505A60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4130-6DE2-4641-A7E1-8B789310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DE23C-F392-4DAA-A259-3D84400071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все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благосло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благую в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му в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очет все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 за грех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ением Сво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дишь ли в пуст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шь путь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таких Иисус при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ыскать,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кто Спасит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отда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го воз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хвалу возд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хоть мра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исус 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к земной небес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5:54Z</dcterms:modified>
  <cp:revision>13</cp:revision>
  <dc:subject>Slavic hymnal Гимны веры христиан, hymn 397</dc:subject>
  <dc:title>Хочет всех людей Господь благословить</dc:title>
</cp:coreProperties>
</file>