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DE0-F1CD-40F4-BF62-2C27C8E9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86F-56F5-46D2-9375-399A9203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4AC-0723-45FE-8498-DAE4E540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F68-1774-4FB3-A3F1-533D60D4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7B5-8612-4B80-A621-1D6BD5AF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181-8819-4220-AE9C-1FAAA4AF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B7C-37D5-4F87-95F7-83BFE9CD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CC6-0420-4ED7-87C5-1F31AE9D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71A-29FD-4D8E-807E-FB2529E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78E-C5B9-40B6-9E11-61A0B00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9AE-C7BC-4CFE-9F70-2CA90269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B7B-202B-4823-8DC6-2116635E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58AD9-23FA-4260-B33B-55283941A6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autiful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, mould me, 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56Z</dcterms:modified>
  <cp:revision>11</cp:revision>
  <dc:subject>The Source 2, song number 640</dc:subject>
  <dc:title>Beautiful Lord, Wonderful Saviour (The Potter’s Hand)</dc:title>
</cp:coreProperties>
</file>