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53</a:t>
            </a:r>
            <a:r>
              <a:rPr b="1" lang="ru-RU" sz="3600" spc="-1" strike="noStrike">
                <a:solidFill>
                  <a:srgbClr val="ffffff"/>
                </a:solidFill>
                <a:latin typeface="Verdana"/>
              </a:rPr>
              <a:t>	</a:t>
            </a:r>
            <a:r>
              <a:rPr b="1" lang="ru-RU" sz="3600" spc="-1" strike="noStrike">
                <a:solidFill>
                  <a:srgbClr val="ffffff"/>
                </a:solidFill>
                <a:latin typeface="Verdana"/>
              </a:rPr>
              <a:t>Господь, мой Спаситель</a:t>
            </a:r>
            <a:endParaRPr b="0" lang="en-US" sz="3600" spc="-1" strike="noStrike">
              <a:solidFill>
                <a:srgbClr val="000000"/>
              </a:solidFill>
              <a:latin typeface="Verdana"/>
            </a:endParaRPr>
          </a:p>
        </p:txBody>
      </p:sp>
      <p:sp>
        <p:nvSpPr>
          <p:cNvPr id="39"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Господь, мой Спаситель, Тебя я мол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ей омой кровию душу м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е чистое сердце пошли от Т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нега белее соделай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нега белей, да, снега бе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мой меня, стану я снега беле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Господь, мой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внемли Ты моль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ам освяти меня в жертву С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цело Тебе отдаю я с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х, снега белее соделай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нега белей, да, снега бе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мой меня, стану я снега беле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И с верою я принимаю Твой да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чищено сердце любовью Т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знаю, молитве Спаситель мой вня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делал нечистое снега бе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нега белей, да, снега бе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мой меня, стану я снега белей!</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22:35:22Z</dcterms:modified>
  <cp:revision>3</cp:revision>
  <dc:subject>Slavic hymnal Гимны веры христиан, hymn 153</dc:subject>
  <dc:title>Господь, мой Спаситель</dc:title>
</cp:coreProperties>
</file>