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7FF-EBEE-4E0C-A7A5-2240567C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9D6-C5B2-4BA9-ADB2-8D2DCBEC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356-6011-4474-A797-6168EAC0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E75-F920-4B2E-8E7A-0DEBD5F3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AD7-E30E-470A-9008-6AA2FEEF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0D5-6646-4139-91FA-B06F4950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D44-E951-4EA8-9F15-04ECEE4F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988-8542-46E6-9E79-83D6137C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B53-ED6A-4527-825F-4DD71154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B87-64B4-471B-B906-3C391EEA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B55-8E77-45F3-A4A9-F85E8AAE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773-B90D-4841-9C79-32DF0A3A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62660-1D29-43FB-9DD4-72F89BEF4F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 and worth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 and worthy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lift up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lift up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oly and j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power we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mercy He 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 and worth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 and worthy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42Z</dcterms:modified>
  <cp:revision>11</cp:revision>
  <dc:subject>The Source 2, song number 706</dc:subject>
  <dc:title>Great Is the Lord</dc:title>
</cp:coreProperties>
</file>