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E851-79D8-4E7B-B913-36052C39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6BD8-A940-4F06-B573-6FBE3C53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FC7C-60DF-494C-9648-EE787E9B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60CF-610D-4FA6-8726-A63E7E68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9A8A-9D6A-40F0-BE76-BB4CE01A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79A-4120-457C-BFE9-E63DD488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FE7C-B8F6-4B5E-B015-FFE25156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31CF-37B0-49DF-96EF-110599A9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B6A0-9CE1-4015-8B3C-4DCC16E1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BAC-7B03-4402-8DC3-79DAC5B1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A4E-E191-4227-870A-DEDBD02E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0408-1FCE-4CB0-BD3D-839C48B5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F42C1-D821-4A7A-90B1-11E23D0645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зав Господь Святим Дух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ухай, Ноє, своїм ухом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ій ковчег, стрій ковч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ій ковчег, стрій ковчег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Триста ліктів довжи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п’ятдесят шири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ридцять вверх, тридцять ввер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ридцять вверх, тридцять вверх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4   Сказав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оп прийшов, умножа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род, бачивши, злякав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нів іде, гнів і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нів іде, гнів і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чуть люди многі в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кали всі на го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пастись, там спас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пастись, там спаст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ди землю залив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живущїї крича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пастись, де спас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пастись, де спастись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г із другом обійм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час останній розставали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іркий час, гір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іркий час, гір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 з сестрою розстав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ати й дочка обійм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ин з отцем, син з отц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ин з отцем, син з отц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в ту пору ясно ст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життя тяжке наст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ибель всім, гибель вс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ибель всім, гибель вс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же пташки не щебет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водами всі літа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дчай ― крик, одчай ― кр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дчай ― крик, одчай ― кр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Сили їх укорот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оді вони топ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воді, в тій во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воді, в тій во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Один плавав над в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вчег Ноя із си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вилях тих, в хвилях т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вилях тих, в хвилях 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Але ось вже не верши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вчег станув на тверди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горі, на г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горі, на гор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Ворона Ной випус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рон води виглядає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землі, нема зем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землі, нема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Голубиця виліт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сток свіжий відшу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ливний, олив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ливний, олив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Верхи гір вже відкрив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ди в море вже злив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ша є, суша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ша є, суша 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Тоді двері відчин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оя радість появила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йшов Ной, вийшов 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йшов Ной, вийшов 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7:27Z</dcterms:modified>
  <cp:revision>12</cp:revision>
  <dc:subject>Slavic hymnal Гимны веры христиан, Ukrainian hymn 84</dc:subject>
  <dc:title>Сказав Господь Святим Духом</dc:title>
</cp:coreProperties>
</file>