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B02-DBC7-4DB2-86EE-E6F00B88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FBAC-B0A7-4FA7-942E-F507355E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50E-FD4F-48A5-BA15-03304368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128-06A6-4DF8-8300-800B2A64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70D-381B-4113-8327-D48134B1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16C-41C8-4C15-A509-0D3E38B2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151-FBE5-43D8-AC05-ACE16509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1F6-83BD-42A7-8FF5-91A56B1F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428-54EE-4023-80A0-E8F33F2B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634-891C-4709-9739-48D8E59C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222-CE8F-41D8-BB20-1420D2DC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D25-901D-409F-97CE-9F8FBEDE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965C5-EEE6-4871-A9BC-37F02C19F6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stand in the mi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mul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ose from e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ibe and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Your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deemed by Your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chased from death by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16   Lord, I Stand In the Mid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are n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od enough to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are n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express my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will lift up my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ing from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 to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Christ we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, ev’ry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people, ev’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glory, giving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praise un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stand by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eansed by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Your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ed b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mbly we bow and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lease You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k in us and throug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we ar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more lik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all the nations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reve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 to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Christ we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, ev’ry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people, ev’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glory, giving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praise un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knee shall b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Lord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 to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Christ we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, ev’ry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people, ev’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glory, giving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praise un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8:03Z</dcterms:modified>
  <cp:revision>12</cp:revision>
  <dc:subject>The Source 3, song number 1416</dc:subject>
  <dc:title>Lord, I Stand In the Midst of the Multitude (Hallelujah to the Lamb)</dc:title>
</cp:coreProperties>
</file>