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D59-BBA2-46CF-8A3C-A69B4E6B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FDF-5900-4893-8567-27C217C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FCC-989B-4CD8-A13F-5526A7EA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EFE-6F3C-4C24-A2CF-5F25CD95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9F5-1456-4211-B7CE-95D0A46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CBB-4C77-42B6-91FA-97083A1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035-6495-4D61-8EAD-7328B1A9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C74-DB98-477C-B20C-A20F00A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72B-C35F-43E6-983F-08FC96F1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D95-13C3-4141-9BD9-514CDDA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F60-9368-47FC-97B4-FCDDE571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DBE-FDBC-4DA4-9FAF-426DC4E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924CB-BE38-4EA7-A2D2-0049351228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пасител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Он всех в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йся пред Ним, Он сей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43Z</dcterms:modified>
  <cp:revision>12</cp:revision>
  <dc:subject>Slavic hymnal Гимны веры христиан, hymn 333</dc:subject>
  <dc:title>Войдите, друзья, все в отверстую дверь</dc:title>
</cp:coreProperties>
</file>