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97DA-541A-4AA0-BC27-5A4545A3D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4C9E-AFA3-4298-8815-9E9A8AB53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C778-7830-4150-AC9C-9619E1889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7740-32E1-4705-A897-975DA6629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7E46-DCC0-45EC-AFA6-02BEAFD4F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B97C-749B-432C-859A-D75A406DD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8098-57EB-4FAE-BF27-5E4C97611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FA93-BBDD-49CE-85DC-DB9A04505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3ADD-63E8-420D-862B-9C1EC1C52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11E2-A8AE-4258-A881-81DC3033C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7ECD-BA3B-4D9F-812B-48DDA3061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2453-1C64-4519-AE9D-DA7F279B6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246CD1-23E1-4742-8E9B-E8AFFC31BD8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Одинокий, забытый, чужой человек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Не ропщи на суровую долю свою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осмотри на бездомных, больных и калек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На великую в мире страдальцев семью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Каждый с горем знаком, своё бремя несёт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уть проходит вздыхая, иль тайно скорбя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И, барахтаясь в тине житейских забот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Людям времени нет посмотреть на теб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0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динокий, забытый, чуж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Тяжело, тяжело одинокому жить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Но ещё тяжелее не верить в людей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Замыкаться в себе, втихомолку тужить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Опасаться врагов и бояться друзе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руг, забытый людьми, не забудь же о Том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Кто тебя призывает в небесный Свой до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Ободрись, не ропщи, молчаливо страда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И лишь Богу в тиши свою скорбь излива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 испытаниях земных доверяйся Ему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Он скорбями тебя приближает к Себе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Изгоняет из сердца неверия тьму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Со Христом даёт мир и в житейской борьб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23:06Z</dcterms:modified>
  <cp:revision>13</cp:revision>
  <dc:subject>Slavic hymnal Гимны веры христиан, hymn 709</dc:subject>
  <dc:title>Одинокий, забытый, чужой человек</dc:title>
</cp:coreProperties>
</file>