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801E-9D79-45EF-B8D7-1301D9C0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E499-0B73-4F6D-BBCA-4D78A30F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0441-970E-41A6-88A0-8B05F7C5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4E18-CA11-494F-8208-FCB1AE8E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91ED-948F-4F4D-9B4E-B9E7F057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4C6E-1581-4EC9-A93F-BC293B27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60F8-A0AC-4848-8A41-02E1F62F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5DAC-1E92-4ABD-9931-B683BC0C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DCA1-E03F-45C6-BA67-0DBD80BC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333E-18AE-4DD3-8370-93458426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D502-5146-4AE0-8462-D490F125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E005-B293-4DF5-BB6B-5B664E1C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924B2-0DB5-4D77-8656-86BBAEC9800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Jesus, my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name is Jesus, Jesus, Jesus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3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e’s the Saviour of M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25:23Z</dcterms:modified>
  <cp:revision>10</cp:revision>
  <dc:subject>The Source 2, song number 732</dc:subject>
  <dc:title>He’s the Saviour of My Soul</dc:title>
</cp:coreProperties>
</file>