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977-4158-46CA-95B8-75781B67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7BF-552D-4B18-972A-12E30ECE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0AB-8C79-4D9F-A893-AE0F1D6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306-38D4-47E8-8B36-CD40F8B2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CCD-5A26-435A-8076-38A67BEC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BEE-E071-4C72-B9E0-5B856A1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7A9-09AC-40C5-8BA9-64783523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DAD-1863-4C50-A8F9-F99BB505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BD3-FCFC-47A9-9101-2696393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AB1-60DD-4128-A2E0-5731BAB6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F46-ED00-4EE6-8F3E-9C34AAA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866-A947-4245-B7E8-DD64497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6BC5C-C4AC-478E-A7A3-57A07E0EFA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6   Отец небесный, мы с любов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мы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Тебя благода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, Сына Твоего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благоговении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Он есть и вновь гря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8T05:24:18Z</dcterms:modified>
  <cp:revision>13</cp:revision>
  <dc:subject>The Source, song number 96 in Russian</dc:subject>
  <dc:title>Отец небесный, мы с любовью / Father in Heaven, How We Love You (Blessed Be the Lord God Almighty)</dc:title>
</cp:coreProperties>
</file>