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8586-8C96-4AFA-9981-B66ABB08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280-8433-4713-8297-EF79007B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6F6A-286A-49F6-B346-75A01DA8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1F0C-6972-43A5-A17F-590664C4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6235-43ED-4A10-B283-3DFD1406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FC4-8B9E-4713-B85C-A67F972E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FE1-AC2D-488F-8374-E59F5AB2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8061-A66F-483A-8527-47D12A16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2E4-16C2-4CD5-972A-A7FDCB43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72B6-1F47-4512-A3D5-989BEF44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6E53-CB16-4AA9-B1B3-9644D5AB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16F1-09CE-4EE3-9A3A-DAC93E83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F7DE9-A378-4F34-83A6-13B6F8C894E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didst leave Thy th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y kingly cr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ou camest to earth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in Bethlehem’s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s there found no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Thy holy n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оставил прест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оставил престол и на землю сошё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народу принесть благо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ифлеем тихо спал и совсем не жел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бавителя в дом при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my heart, Lord Jes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room in my heart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ven’s arches rang when the angels sa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roclaiming Thy royal decr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of lowly birth didst Thou come to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n great hum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ебался эфир, ликовал горний ми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вещая рожденье Ца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смиренного тут не особенно чту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взошла им любви за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my heart, Lord Jes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room in my heart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camest, O Lord, with the living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should set Thy people f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with mocking scorn and with crown of th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y bore Thee to Calv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ово жизни принёс, осушил много слё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бавитель любил и спас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народ озверел, перешёл злу преде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Голгофу Его посл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my heart, Lord Jes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room in my heart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heavens shall ring and the angels 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t Thy coming to victo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Thy voice call me h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ying, “Yet there is ro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room at My side fo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рожат небеса, все узрят чуд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падут пред Иисусом в моль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скажи мне тогда: «Поднимися сю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десь есть место, Мой раб, тебе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heart shall rejoic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ou comest and calles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0:16Z</dcterms:modified>
  <cp:revision>14</cp:revision>
  <dc:subject>Slavic hymnal Гимны веры христиан, hymn 240</dc:subject>
  <dc:title>Thou Didst Leave Thy Throne / Он оставил престол</dc:title>
</cp:coreProperties>
</file>