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C2B-BA10-4329-91E9-1D617A69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060-47EE-4D0F-97F3-9EE39DF4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AEC-2A80-4271-81EA-250B9525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B88-9EC1-475F-AA08-B5A6DF63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FF0-0C0F-4A4A-9600-2F2863F1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3C1-30A9-4852-BD33-EF764AC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D74-2E3D-4AAD-85D1-23126632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350-F2F4-4695-B518-94559AC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7EF-DB97-4B09-8FF7-F4A99C3D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AE1-FDB5-4588-B9F3-1B6C13B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C5A-AA4D-4FBA-82FE-346E9B0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654-F37D-469D-A3B1-88F3C4CC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A88B1-DF5F-472B-BE1A-3E0AF7F16A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me upon the midnight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lorious song of 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ngels bending near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ouch their harp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the earth, good will to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all-graciou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n solemn stillness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hro’ the cloven skies the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eaceful wings unf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their heavenly music floa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e weary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its sad and lowly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bend on hovering 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er o’er its Babel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ed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, beneath life’s crushing l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forms are bending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oil along the climb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inful steps and s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! for glad and golden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swiftly on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t beside the weary 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the days are hasten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prophet bards foret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ever-circl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round the ag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eace shall 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ancient splendours f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hole world give back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now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2:47Z</dcterms:modified>
  <cp:revision>13</cp:revision>
  <dc:subject>Slavic hymnal Гимны веры христиан, hymn 795</dc:subject>
  <dc:title>It Came Upon the Midnight Clear / В тиши ночной</dc:title>
</cp:coreProperties>
</file>