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DC3-4279-47D4-964D-AD2B0B41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440-57FE-4990-9A02-52AD96BA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977-0CDC-4066-81AC-4FBE43E5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418-F299-4600-A438-4DB8C0CB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8C9-A267-427F-96A1-EF4D9F6C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C2D-920F-4D67-927E-1197517D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6D5-ACE5-415D-9CF4-B7198A41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1B8-1316-4424-9EC5-F562F8AF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276-EAF8-420F-89D0-28AE9AC3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B52-B960-4599-83BB-4AEE9C8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C98-AA7A-4208-B308-76116FD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CEB-857B-47FD-B5D8-ADAB3E31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67B4-9B87-4E50-9D2B-5083232BCD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6   Бог добрий є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09Z</dcterms:modified>
  <cp:revision>12</cp:revision>
  <dc:subject>Slavic hymnal Гимны веры христиан, Ukrainian hymn 106</dc:subject>
  <dc:title>Бог добрий є!</dc:title>
</cp:coreProperties>
</file>