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258-9BA4-4122-8ED4-A0F2F49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AA7-E7D8-48D3-8851-84F7FED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387-BF71-4CCC-B2E1-72515A06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D27-78C1-4070-A37C-0F03B523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0FE-EE93-4188-B6D8-2022FDC5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EA7-8EE0-4143-8D2A-126DDE0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322-9549-4253-8E05-8653729B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691-E687-4190-936E-25B1BF8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E9F-E604-4FCC-A6AC-8251FE97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B38-C7F3-4266-89E5-761D259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D07-4700-4E6F-97E1-2F6F860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33D-F8C6-4A30-94D3-5A27262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110F1-E1C6-48E5-B560-B31D252F64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, друг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 полуночи ж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шествует побе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ертными судить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ядёт, и всех проб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я Его тру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удья тогда ос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енивого р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удись от 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лажен, ког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уде Его на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бессмертную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ой радости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 же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, душа, и бодр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в час неж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ут тебя н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дивые вздрем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кудел у них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о несчастн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тались вне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, о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жги светильник т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рядёт в венце побе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ластен на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24Z</dcterms:modified>
  <cp:revision>12</cp:revision>
  <dc:subject>Slavic hymnal Гимны веры христиан, hymn 380</dc:subject>
  <dc:title>Пробудись от сна, друг бедный</dc:title>
</cp:coreProperties>
</file>