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0930-ABB9-4C0E-BF99-188C240F5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DEB5-1422-4CD1-9FC1-60CCC7A9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7FC0-47ED-4CE6-9905-2569EE95B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872E-E3C4-4BE2-86F0-3598F5DC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23AB-AEFA-4F3C-B50D-AB5580E1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0AA8-2CBC-4924-9A7E-39BA0C47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BA87-6A24-4FDF-8771-C37D4945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9224-6A50-4472-8B1F-7B2B4A93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F5BF-70F9-426F-9BC6-BBC3B248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1490-3AF6-41A4-B587-00EE919E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C7CF-75DA-44EB-B344-A69F716E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782B-ED0A-401A-ADB4-E19CA93A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F4EDC-3903-4C74-A770-A726447EB0F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there is, above all oth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is love beyond a brother’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2   Любить нас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ить нас Христос безмір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вжди ніжно, завжди вір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ly friends may fail and leav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day soothe, the next day griev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is Friend will ne’er deceiv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астя світу промин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друг нас забув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 же ні, не залиш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Tis eternal life to know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k, oh, think how much we ow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хресті Ісус в страждання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им дав Він оправда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s precious blood He bought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wilderness He sought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is fold He safely brought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инуле все прощ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сть дивну посил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то Йому лиш довір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ed Jesus! Would you know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yourselves entirely to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то пізнать Його баж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окій, щастя той пізн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k no longer of the mo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past new courage bo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carries all your so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илічує всі бол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нове життя дару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ає Своїм Сл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your sins shall be for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ackwards shall your foes be dr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х до Себе заклик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воє царство Він прийм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st of blessings He’ll provid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ught but good shall e’er betid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to glory He will guid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блаженство обіц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горі завжди помаг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веде Він нас до 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9:31Z</dcterms:modified>
  <cp:revision>12</cp:revision>
  <dc:subject>Slavic hymnal Гимны веры христиан, Ukrainian hymn 62</dc:subject>
  <dc:title>Oh, How He Loves! / Любить нас Христос безмірно</dc:title>
</cp:coreProperties>
</file>