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3</a:t>
            </a:r>
            <a:r>
              <a:rPr b="1" lang="ru-RU" sz="3600" spc="-1" strike="noStrike">
                <a:solidFill>
                  <a:srgbClr val="ffffff"/>
                </a:solidFill>
                <a:latin typeface="Verdana"/>
              </a:rPr>
              <a:t>	</a:t>
            </a:r>
            <a:r>
              <a:rPr b="1" lang="ru-RU" sz="3600" spc="-1" strike="noStrike">
                <a:solidFill>
                  <a:srgbClr val="ffffff"/>
                </a:solidFill>
                <a:latin typeface="Verdana"/>
              </a:rPr>
              <a:t>Лишь Один приходил</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ишь Один прихо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на кресте умер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от смерти меня искуп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Шёл покорно на каз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огласился тер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грехи моей жизни покры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 кресту пригвоз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о кресту пригвоз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еня был замучен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 поруган, презр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о кресту пригвожд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рехи Он на древо вознё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ерпеливо и нежно Он учи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ёт благодатных мне 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ужденья мне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Он — защит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грехи ко кресту пригвозди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 кресту пригвоз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о кресту пригвоз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еня был замучен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 поруган, презр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о кресту пригвожд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рехи Он на древо вознёс.</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пришёл ко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 Ним пребуду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ждый день я иду вслед за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ликованьем в ду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и хвалой на уст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ои все грехи Он простил.</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 кресту пригвоз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о кресту пригвоз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еня был замучен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 поруган, презр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о кресту пригвожд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рехи Он на древо вознёс.</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7:08Z</dcterms:modified>
  <cp:revision>3</cp:revision>
  <dc:subject>Slavic hymnal Гимны веры христиан, hymn 273</dc:subject>
  <dc:title>Лишь Один приходил на кресте умереть</dc:title>
</cp:coreProperties>
</file>