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1B6-4DE1-4F67-8061-37CA5D77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C8F-9407-45DE-8306-C1808637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1AF-4AC3-4E4F-AD29-9C9FF311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27B-9B50-431A-9A5A-206A0133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3FD-782B-43F4-AF04-CDDB3DAF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EE9-D277-4361-9561-93F7A47E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D44-2921-48B9-890E-6D0BF0B1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785-58F3-4C94-8ECB-CA609E13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7119-70AF-4CC2-9FA4-68F6150F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2C1-3E1D-41F7-9C8A-08A5EC1F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319-A415-4DBC-9735-6647B6B9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F9A-4D8D-4B72-9020-00718C9F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1FAC2-0111-4EC2-BC6B-08C0570F90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чому Бог м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рив Свою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бо чому Спаситель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мене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8   Не знаю, чому Бог мен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як Бог дав м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іння дар прий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ила Його Слова 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є н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 я, як Дух Св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ть в вір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дкриває нам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жественних сл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 я часу, ні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прийде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через смерть, чи Сам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день Він заб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9:43Z</dcterms:modified>
  <cp:revision>12</cp:revision>
  <dc:subject>Slavic hymnal Гимны веры христиан, Ukrainian hymn 48</dc:subject>
  <dc:title>Не знаю, чому Бог мені</dc:title>
</cp:coreProperties>
</file>