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9DA-7286-47B0-A4AF-7E7EDC7E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39A-5EFA-4FDA-B49A-814E8D68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107-12EC-4D9C-A269-490D39E3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4B9-7F9C-4EB9-971E-80B99816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C2C-C2AF-4917-A6FE-5786737F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8A8-B04F-42F1-BA5C-EBB550E7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C51-D43F-4169-A8A9-1D60B61A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CDF-B76D-4E56-8132-346E73BD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420-57E9-4422-B786-E87CB98B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849-6FB7-45B4-B66B-8BFAAF90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FE0-5CC5-495A-B352-7C159A79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591-61B8-44F5-B8EA-B1D6B25C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51B17-8175-4C56-8FA2-919ECCB6D8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гне й рветься туди все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енні, в небесни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свойого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6   Насліддя моє в небес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е жде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ме у оселю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дих мирний на травних луг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Його світлім, блаженні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коро у небо п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у шлях тернистий, зе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сіх вірних слуг Божих з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усі Божім пречистих, свя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3:29Z</dcterms:modified>
  <cp:revision>13</cp:revision>
  <dc:subject>Slavic hymnal Гимны веры христиан, Ukrainian hymn 26</dc:subject>
  <dc:title>Насліддя моє в небесах!</dc:title>
</cp:coreProperties>
</file>