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493-1449-487A-9B8D-BED53E8E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234-4E4E-4C9D-AEB1-6127D018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415-15F7-4F12-BA9B-ABCA262D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A43-07E1-4FC4-8256-FF012D7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9F1-6A67-43C4-B473-634B89CF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793-892E-4652-89C3-8752D695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91A-F437-424A-A9B1-52DBDD1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589-6C30-47C5-9E84-245CB18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0CD-FA64-4601-B01D-BA1A4D14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492-627A-48F0-9D24-EB846A4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142-597A-4171-B576-652EF25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8B0-1D8B-4F31-B9D2-2B50928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F7A1-DA07-4EE3-9B2C-F9DC732FD7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reen hill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side a city w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dear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ave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not know, we can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ains He had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e believe it wa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ung and suffer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we might be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o make u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 might go at last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by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as no other goo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 price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ly could unlock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en and let u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2Z</dcterms:modified>
  <cp:revision>13</cp:revision>
  <dc:subject>Slavic hymnal Гимны веры христиан, hymn 418</dc:subject>
  <dc:title>There Is a Green Hill Far Away / Есть холм зелёный там вдали</dc:title>
</cp:coreProperties>
</file>