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766-EA33-40C5-849A-AD3E412C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41A-63EE-4B41-84C1-975863E7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055-DCBE-49A5-B1E8-46B67EE7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CB2-DE87-4932-B0B7-3DB76DBA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F07-F332-4DD9-9BC1-1E193BB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9FD-3B62-4A52-B70F-64308E72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C65-AE06-431F-A941-D0C63140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12C-46D4-4AC0-B8B1-264F8E55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0D7-09EA-4609-8975-3B316778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443-35E9-4351-8B22-1347009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B5E-7FA4-417A-A276-6FEC5F25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52C-F859-4AF5-B25C-715D784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7A3BD-BF8F-40BC-8B31-9BD513E57D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ze upon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of my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r of my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ch me how to liv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18   One Thing I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ay of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v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 place of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upon Your nam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want is You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upon your nam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want is You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46Z</dcterms:modified>
  <cp:revision>12</cp:revision>
  <dc:subject>The Source 4, song number 2018</dc:subject>
  <dc:title>One Thing I Desire</dc:title>
</cp:coreProperties>
</file>