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C59A-F048-4ECF-9712-90DC5E999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A0F2-4805-4817-9A1A-F340579D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507C-8136-4915-9D90-069AF9AE2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321D-49F5-4E5B-83B0-14B434A93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9DF7-C4C8-4274-87FC-F84A8DAB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B8FA-9682-40E7-9C0C-294B9655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C3E7-F2CF-40E6-88A9-AFC29273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83B0-6DCF-443D-8C13-BD6BBE6B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A8FD-6E4B-4278-9ABB-6079D372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DB78-52DF-422D-8B5D-48625752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5D4B-A2AB-4C04-A2EB-3447D2F1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D41F-8433-42C8-87E9-EA73B81E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4D65D-9086-4DA4-9ECD-BD3C817B6AE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them over again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words of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e more of their beauty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words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   Брате, знову нагад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рате, знову нагад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вяту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моїм серці буде х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ш свята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ds of life and beau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ach me faith and du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 words, wonderful word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words of lif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 любови ллє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до неба рве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Христа! Слав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любов Христа!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, the blessèd One, gives to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words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ner, list to the loving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words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ям в світ Христос прині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 небес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тішає в хвилю слі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Його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so freely 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oing us to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 words, wonderful word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words of lif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любов навчає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их Бог проща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Христа! Слав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любов Христа!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ly echo the Gospel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words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fer pardon and peace to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words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рате, знову нагад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вяту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никне з серця сум, відч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радість з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onl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nctify us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 words, wonderful word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words of lif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личе спів люб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життя обн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Христа! Слав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любов Христа!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4:51Z</dcterms:modified>
  <cp:revision>14</cp:revision>
  <dc:subject>Slavic hymnal Гимны веры христиан, Ukrainian hymn 5</dc:subject>
  <dc:title>Wonderful Words of Life / Брате, знову нагадай</dc:title>
</cp:coreProperties>
</file>