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E91-CDA3-4932-9478-476ED1E5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0BF-04F9-4CEF-A7F1-64EF3A47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FD9-A269-4BF4-9A1A-6541B9C4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44F-41FD-4E6C-8426-5005D166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234-E992-46B4-B858-C9CFE40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A25-4BCE-4E69-93EE-95508D71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BE6-9478-498F-AC48-7D198F27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21B-5BF2-40DF-A771-8AD8F8E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F8F-2878-45C5-9F44-5A3B038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0F7-3FE9-42D3-8021-EF1CA2F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36F-1E47-43C7-A22F-A4D4349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67A-6F23-48D9-B83E-75D3042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D7C2-72E8-447E-B44F-CE305565E7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My Life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03Z</dcterms:modified>
  <cp:revision>11</cp:revision>
  <dc:subject>The Source, song number 230</dc:subject>
  <dc:title>In My Life, Lord (Lord, Be Glorified)</dc:title>
</cp:coreProperties>
</file>