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82B-81DB-4F2D-A201-46026BCF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D3E-E3D6-463F-97CD-C9D4284A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9CD-0807-4DE6-B50F-815F94B0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16F-098D-4316-A254-1ABD6DE3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B4B-C43A-4EE2-82C3-A6094123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608-536A-45A4-AB18-C1128C76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D55-A400-464D-8222-0181CB38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A04-7F48-4CEE-ACA5-E5663E7B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798-7B55-458A-AFB3-55A8952D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71A-5147-493A-AE11-A26B159D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115-B867-425D-ABDB-A2ABAD4F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E85-F4F3-4027-8787-3CF728C3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50401-072A-47BE-B3E5-82B446BF71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знал ли благодати пол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ешься ли ты во всём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познал ли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ли идёшь Его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ываешь ли в общеньи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янья светлые хранишь л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ённые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лен ли ты жить среди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ложи всё, что запятнано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ым будь кр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источник для живущих в мире 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7:24Z</dcterms:modified>
  <cp:revision>13</cp:revision>
  <dc:subject>Slavic hymnal Гимны веры христиан, hymn 428</dc:subject>
  <dc:title>Ты познал ли благодати полноту</dc:title>
</cp:coreProperties>
</file>