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72</a:t>
            </a:r>
            <a:r>
              <a:rPr b="1" lang="ru-RU" sz="3600" spc="-1" strike="noStrike">
                <a:solidFill>
                  <a:srgbClr val="ffffff"/>
                </a:solidFill>
                <a:latin typeface="Verdana"/>
              </a:rPr>
              <a:t>	</a:t>
            </a:r>
            <a:r>
              <a:rPr b="1" lang="ru-RU" sz="3600" spc="-1" strike="noStrike">
                <a:solidFill>
                  <a:srgbClr val="ffffff"/>
                </a:solidFill>
                <a:latin typeface="Verdana"/>
              </a:rPr>
              <a:t>Лейтесь, слёзы сокрушенья</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Лейтесь, слёзы сокруш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це, плачь в тоске св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ий Сын рукой твор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знесён на крест скорб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Ты сделал в мире зло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ерднейший Иису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преступника како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сишь бремя тяжких уз?</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Был Ты тернием венчае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страшной смерти осужд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учен, жёлчью напояе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древу смерти пригвожд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за что Твоё страда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меня был мучен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мои слова, дея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греховные мечты.</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Я грехов и зла исполне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т ни в чём добра во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страдать бы вечно долже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вину свою в ог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о это наказа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обрый Пастырь за овец</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ам отдался на страда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латит долг за тварь Творец.</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О, любви неизмери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виг чудный и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сти непостижи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м понять не может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гнец, в жертву принесён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ем Тебя вознаград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не, за дар неизречён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велишь добро творить.</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Я готов: дай Сам мне сил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спошли Твой Дух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с любовью до могил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не лишь видеть образ Т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шь иметь одно жела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блюдать святой зав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душе Твоё страда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всегда запечатлеть.</a:t>
            </a:r>
            <a:endParaRPr b="0" lang="en-US" sz="3200" spc="-1" strike="noStrike">
              <a:solidFill>
                <a:srgbClr val="000000"/>
              </a:solidFill>
              <a:latin typeface="Verdana"/>
            </a:endParaRPr>
          </a:p>
        </p:txBody>
      </p:sp>
      <p:sp>
        <p:nvSpPr>
          <p:cNvPr id="44"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9-08-19T21:36:47Z</dcterms:modified>
  <cp:revision>3</cp:revision>
  <dc:subject>Slavic hymnal Гимны веры христиан, hymn 272</dc:subject>
  <dc:title>Лейтесь, слёзы сокрушенья</dc:title>
</cp:coreProperties>
</file>