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726-8375-42B4-9505-4ED4A29D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4E0-8801-4645-B5A0-2F8F0BCB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9D7-3250-4EE3-B5A5-ADE27ACF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BCD-1A96-4E81-A05A-8052B8A8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60F-951E-4ACC-8E09-6CB57C2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033-2A00-4726-83DD-D172FA13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C17-40F5-4E99-B7D2-5F7106D5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615-5CB5-4625-88EE-DBF52EAD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2E7-563C-4F3E-8099-D28A5836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631-9F64-4B57-8C4E-1DCB558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51A-BF09-47A2-A495-4F832C62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D06-3B38-4408-BD31-9796A2D8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C3537-52D1-4D91-AF2F-308FD3AE33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 этой бур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ердцу даст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аждущих напо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ительной вод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в этой бурн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ю удру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враг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ащитит, ут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жизненном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ех меня терз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усь я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— 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мне где и в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ты на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2:26Z</dcterms:modified>
  <cp:revision>13</cp:revision>
  <dc:subject>Slavic hymnal Гимны веры христиан, hymn 330</dc:subject>
  <dc:title>Ах, в этой бурной жизни</dc:title>
</cp:coreProperties>
</file>