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CAD1-C3DE-4D88-8C1E-DE56AE2F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2416-93C1-428C-9866-91B214F5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9DE7-4958-419A-889F-95919FD5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2C3-EE8D-4F6B-A1B0-A8F3BD31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E72-4EFC-4486-94DB-64427DD9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F38-DED1-47CD-AB48-887C6DAC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0F8D-AD02-41A0-87F2-FA9EDD2C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5021-6CCD-412D-BC79-8946A9C6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0BF6-BFE2-4C9F-AD2F-F6BE3A97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518C-2F40-454A-B8CF-AA3C97D5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FB02-78FF-43F6-ABFA-7DDD36F3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151-0EBA-42D9-9DCD-A0EB438E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1890B-A142-4E38-8C26-42934BDCAB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orning gilds the sk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awaking cr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ток горит зарё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к горит зар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поёт дух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ike at work and pray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Jesus I repa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 иль тру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твердить вез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night becomes as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rom the heart we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еет всё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ружней по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ow’rs of darkness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is sweet chant they h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ят силы ть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звучат псал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nations of mank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your concord f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и луг и л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и круг небе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ll the earth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ng joyous with the s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ы всей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 возглас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this, while lif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anticle div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в теле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ет песнь м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this th’ eternal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all the ages l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о все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льётся, как ре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51:28Z</dcterms:modified>
  <cp:revision>12</cp:revision>
  <dc:subject>Slavic hymnal Гимны веры христиан, hymn 822</dc:subject>
  <dc:title>When Morning Gilds the Skies / Восток горит зарёй</dc:title>
</cp:coreProperties>
</file>