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DD34-A6F6-4E78-9FA2-BBF859EE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024-606A-4C57-8F12-D6774AE0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52F0-0357-4B8C-B0BD-61109B59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09A9-FFA7-4EA2-AEC7-2A30219C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7D4-98D5-4EEB-B531-23200CE3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9059-03F9-40FA-801A-24A8B042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E45-57C4-4BE8-8D7E-36DA97D8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EFE6-2216-4098-801F-A35F7104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B74-9B8F-42FD-9654-AC723861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375-7E72-4549-A39E-5289C978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B7F1-2234-4D05-85B4-5522BB7F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35D8-9E4F-4120-9726-3AE561BD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9B444-2937-4124-B367-A0224667F2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, поспеши на Голгоф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давно тебя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ьётся поток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якого, кто лиш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скорей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придите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при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зовёт Он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ша, поспеши на Голгоф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ы от бурных поры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не сыщешь ниг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Боге ты станешь счастл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жище наше в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скорей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придите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при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зовёт Он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 от греха изб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олитой Иисусом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наешь ты радость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ишь: «прозри и жив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скорей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придите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при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зовёт Он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л нам с надеждой прекра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, и мир для сердец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ли ко Христу не нап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нам сияе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скорей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придите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при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зовёт Он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3:39Z</dcterms:modified>
  <cp:revision>12</cp:revision>
  <dc:subject>Slavic hymnal Гимны веры христиан, hymn 343</dc:subject>
  <dc:title>Душа, поспеши на Голгофу</dc:title>
</cp:coreProperties>
</file>