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2EE-93E1-485F-9F75-C79A6BB3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824-633C-4807-B900-72D0A02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30E-B286-452E-AA82-678A9427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A97-A1A1-4C4B-BA4C-F3FAC36F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E02-881D-4FBB-BC31-C8DEBE36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3C8-976C-4A3A-8FD6-FF703F2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BFD-8EAE-4D25-A2E4-62DEFD54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A4A-D026-4920-80C3-BE3784DC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55A-EB13-462E-8AEB-503C3F61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1E7-B44C-4B72-86D8-25E859F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C96-9D40-4C9E-AC4A-95A701E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AA4-595D-4055-8471-14904AE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397E2-9247-4F8F-919F-706D668919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heavens in His h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word of Hi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put the spirit i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63   Who Holds the Heave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righteous by th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marvellous 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irs the heart of a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His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10Z</dcterms:modified>
  <cp:revision>11</cp:revision>
  <dc:subject>The Source 2, song number 1063</dc:subject>
  <dc:title>Who Holds the Heavens In His Hands? (Glory to the Lord)</dc:title>
</cp:coreProperties>
</file>