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A38-636B-4781-B837-55B7F0D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A02-5A70-4D9D-A325-57AEC29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015-8300-4BDA-9679-A507314E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B31-09DA-42BA-BB92-B7EB7D32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0E4-48AB-4487-B726-31E3F99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6B8-AC4E-404A-A120-41DE6DFC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DA4-9F93-4FEE-9B89-7E202DB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608-6C60-4E6E-81F9-65E829BC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DDD-A2A1-45D4-BBD5-54870D0A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F44-D216-4684-AC65-6E56C253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F43-ADE9-46BE-9EE8-9FE5233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AAB-DBFC-45C8-856D-6F4D021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DE831-98D9-4228-A5D4-D57B26A464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21   Иисусу х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омы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силой подня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38Z</dcterms:modified>
  <cp:revision>11</cp:revision>
  <dc:subject>The Source, song number 1021 in Russian</dc:subject>
  <dc:title>Иисусу хвала / To God Be the Glory (My Tribute)</dc:title>
</cp:coreProperties>
</file>