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A2F-A88E-472F-9D18-356F8A86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48F-00A1-464D-AA4F-6A65BCC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C95-C0DA-4EE0-A606-7E5BB501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AFC-3BF6-4A90-951F-305C0C4E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551-8A4E-44A4-B693-8BDCD575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BA3-7611-4CD7-A94C-AF1AFA07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683-2490-4DD1-BD1D-271DAE8D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ADB-DDF8-4147-B7C5-F1ECB9E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E23-9FEC-478F-B6CD-CC38378A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628-CDF3-42BC-9E73-2DA26C8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0B1-107E-4FD5-94C6-CCAC3A8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BF0-827C-4BF1-BE83-222520A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830A4-4BA4-4A6E-8101-272482FEB7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11Z</dcterms:modified>
  <cp:revision>12</cp:revision>
  <dc:subject>Slavic hymnal Гимны веры христиан, hymn 511</dc:subject>
  <dc:title>Силой мира облечённый</dc:title>
</cp:coreProperties>
</file>