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6B38-2FA7-47C3-995A-67C96753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EFC-D561-4D65-BB0B-8BB48430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8036-86DE-4A40-84A5-E01EE6F9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BA48-EE0C-4F92-AB31-5065AA35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8D69-80F5-4BD8-A728-052C26EF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7CB-8DAC-414F-90B5-63C02DF3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1AA-17BB-4F1C-B1D4-BA146484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65B-3D4F-4327-A9F0-813A574D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3772-4A4D-4530-A8D5-1B6FA24B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36B7-2414-4BF5-9593-701D9ED7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1C2-1829-49B2-8236-6E1E7A18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583-6111-49D1-95C0-000A1D87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F0CD9-630E-4003-AA2F-833251D6B9F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Євангельську ми ві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Христом підемо в слі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єдиною сім’є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за Ним вперед, впере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1   За Євангельську ми ві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ротьба іде кипу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емлі по всіх місц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іли хоч гріха пекучі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 прапор святий в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 байдуже спогляд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розп’ятого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Христос заповід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у присвятить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у й святість ― скарб від Бог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ронімо ревно вс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ине земна тривог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Христос прийде в кра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вду сіймо, свято жий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світло понес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шу ми любов загрій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аці щирість покажі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1:53Z</dcterms:modified>
  <cp:revision>13</cp:revision>
  <dc:subject>Slavic hymnal Гимны веры христиан, Ukrainian hymn 21</dc:subject>
  <dc:title>За Євангельську ми віру</dc:title>
</cp:coreProperties>
</file>