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010-A3D3-4761-A73A-97FE8E67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CB4-CAED-4E98-95E1-1355770D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1E3-AD32-42C7-881C-F6A67051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EBE-EA3B-4845-9868-3387564C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B5F-205A-4E24-87DE-FBFFCB81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73E-7A74-4722-B1B4-65473364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80F-147A-45D0-B3EA-5EC2F0A9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C32-0D5E-4872-9305-C8FAEAB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31A-3F84-4C88-BFCB-25621A77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637-93C8-41AB-9FFC-AB897B6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F7B-5BC5-4CEC-A766-C1DC952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4AF-FE02-4173-BE64-4ADBC558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95C6-9252-4B94-97A6-F694C12FDE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и звук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пове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Господн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вать друг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сему о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ш созда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весть благ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тократ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се мечты з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х дет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овто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радость мн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то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грудь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о повт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шу ожи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другим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и с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даёт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радостно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аллилу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ю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у же весть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32Z</dcterms:modified>
  <cp:revision>12</cp:revision>
  <dc:subject>Slavic hymnal Гимны веры христиан, hymn 649</dc:subject>
  <dc:title>Люблю я весть благую</dc:title>
</cp:coreProperties>
</file>