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560-891B-42D3-866C-30565E7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37B-7D10-47C9-930F-F4346AC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904-459D-4DBF-9CFC-CF1F585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BB3-D144-4379-ADC5-15EA4D5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67B-40D0-4959-9730-6FA237C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6FC-6BFF-428C-9584-9CB8D637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EA7-1C43-47D2-B428-74054A3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E2E-CD1C-4AE5-A3C2-561A8D16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705-EF51-4477-ABB9-D57C8E3E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1A5-0F59-45EA-A4D5-8F4171A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860-27BA-470B-BAD1-3082CE0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4D2-F088-479E-A91D-5447AD1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E97E4-B2EA-4C56-B041-446D60C6F8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од реки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рег зеленью о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л Саронски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колодца Сих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с Христ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епоясан, я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аву пол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н хочет награ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ого сл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корби верю я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 Ем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путь, каким Он 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ть Отца зак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за Ним, путь не тяж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так как люб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буду я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й душой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57Z</dcterms:modified>
  <cp:revision>12</cp:revision>
  <dc:subject>Slavic hymnal Гимны веры христиан, hymn 651</dc:subject>
  <dc:title>Моя душа нашла покой</dc:title>
</cp:coreProperties>
</file>