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3E0-D4DD-423A-BA69-9B80ACF0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487-B220-47E0-B0C0-7F95FF3A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86B-0E49-468E-A746-3B97553E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EB1-B632-42F3-A20E-80C10E43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5EF-ECAF-4302-9DAD-5A3F8D77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51B-D280-4A92-8D86-8F9BB305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8A8F-BC2E-47C6-9FE9-09A41461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108-7539-4F92-AFD2-10C29A9C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DCA-CABF-402D-ADD6-41C44EAA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E8FC-D9C6-4FDD-A929-DC8AA54A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48A4-0588-49BC-904B-D552E8A0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B2A-9DFB-40FE-96B6-4254CC08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A5369-0379-4AFE-BFED-3828DBF4CA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й Дух в сердцах жи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частье! Там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лько милых обой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кже и вр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Божий Дух в сердц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я любовь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ир, там нет вра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пасностях Господь 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ни в чём ну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я любовь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роде иль в сем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ью Бог руков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счастье там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5:11Z</dcterms:modified>
  <cp:revision>13</cp:revision>
  <dc:subject>Slavic hymnal Гимны веры христиан, hymn 741</dc:subject>
  <dc:title>Где Божий Дух в сердцах живёт</dc:title>
</cp:coreProperties>
</file>