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246F-3335-410A-B4EE-671C5DDD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43F0-7CA7-427E-8854-0759CFCB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EA5-B0F2-467E-95FA-01735D2B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502F-5C37-45A3-B78E-9F754209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C223-EE14-44A3-87E1-5914E06C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F8B8-83DF-4BAF-8DDC-25488123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573D-4127-4504-9607-11343FAC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0243-4686-4BD0-A783-CF8B5223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6695-64E1-47B2-A955-B77E8899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1F7D-A07A-4DB5-B5C3-BB1DF828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24B8-CA78-4813-9E55-71F6D3B5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042B-33AF-470B-8950-F36FB29C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40AEE-DD2D-497E-A95C-AAFF1204F58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ови Христа на помощ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, грешный челове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тебе Он мир и рад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ибнешь ты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зови Христа на помощ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призови Христ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итя зовёт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искушений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проси сил у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то имя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епляет нам серд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радости и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даёт Его р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2:57Z</dcterms:modified>
  <cp:revision>12</cp:revision>
  <dc:subject>Slavic hymnal Гимны веры христиан, hymn 713</dc:subject>
  <dc:title>Призови Христа на помощь</dc:title>
</cp:coreProperties>
</file>