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420C-BF6E-4285-8843-E88B23BAA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1F0C-47C2-43C2-9ED8-CBB86DD0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2B9B-7B53-44E6-9A77-A18C54FB1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7F2F-DC63-44B4-87C4-7843E5CA0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6DBB-3F19-48D8-8E7B-E63A1844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242A-A690-4ACE-B322-88C14A75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02FE-6470-4DE3-8113-9E2B17E0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A980-0CF3-498A-826C-B3FBD478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875E-F27A-4605-AA27-63602758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08DC-50D1-42DC-A908-B093ED6C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1A9D-6949-4579-AFC1-08C62F15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018C-432D-4691-93BD-75D2DED7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99489-01AB-4F7F-A90A-2FB4F54D640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ly, sweetly, toiling for the Mas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 we forth with willing hands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soe’er to us He has appoin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fully our mission to purs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ружно, дружно будем 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, дружно будем мы труд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о Божье мы найдём вез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я Божья в нас да соверши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верны в слове и тру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iling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ly we go, joyfully we g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iling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vineyard here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живой, с радостью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нограднике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adly, sweetly, we will tell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is love to mortals here bel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, the brightness of the Father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eely here His blessing will best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о, просто людям мы расскаж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ын Божий грешных возлюб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ддержит начинанья на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луженья даст потребны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iling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ly we go, joyfully we g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iling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vineyard here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живой, с радостью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нограднике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ekly, meekly, toiling for the Mas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lking faithfully the path He tr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ing wand’rers to the dear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inting sinners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, прямо чрез пустыню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ойдём послушно за Хрис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х, нищих, немощных и си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Агнцу Божью, к свету приве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iling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ly we go, joyfully we g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iling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vineyard here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живой, с радостью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нограднике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12Z</dcterms:modified>
  <cp:revision>13</cp:revision>
  <dc:subject>Slavic hymnal Гимны веры христиан, hymn 553</dc:subject>
  <dc:title>Gladly Toiling for the Master / Дружно, дружно будем мы трудиться</dc:title>
</cp:coreProperties>
</file>