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78E-06B8-4C28-AE85-D77925E5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B8B-1514-4094-9011-3516ED3A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D32-2DE2-47C0-8EAF-C4F1E94C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1AF-996D-4BF6-9781-E2DAA876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C43-1D82-4B77-90F8-101A8F72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CEC-9642-407F-A670-5D5BEF99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B08-E503-4579-B2D8-58819149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DEF-4C03-49B2-9219-1BF4EC98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2AC-0DD9-471E-953C-F54ECEEA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E618-F019-4582-9F96-02AD6EF5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07C-F22F-48F4-B733-22BFB662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C9B-3613-4EA6-8FFC-E4EB8CFC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FF1AC-E750-4DBF-A2F7-4C6F0B9485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полный утомл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весть твоих друз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устроил пир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и больной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анник, полный утомлен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рех твой удруч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: Бог снимет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ть тебя жел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нечист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елей, чем морем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вымоет свят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оде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всем гостям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― прощенье, оправд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41Z</dcterms:modified>
  <cp:revision>12</cp:revision>
  <dc:subject>Slavic hymnal Гимны веры христиан, hymn 390</dc:subject>
  <dc:title>Странник, полный утомленья!</dc:title>
</cp:coreProperties>
</file>