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806C-50CB-44B6-8070-69523DF9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4D34-9306-4F93-B03C-D90A606C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529A-4021-4376-843B-A78224EB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1309-18D3-4EE8-8A3B-16A378B9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1790-72E4-4610-B07D-C8E2FD7F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3BB6-015C-4286-943D-CEDDA008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3263-F749-4FD1-A609-7D72B4B0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1016-A637-45BF-AB03-DC30B819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2083-5BC8-4B1E-9F3C-EB28FA5C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029F-83CC-45CA-BF40-4594DCB1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5836-3148-483E-A3C1-015232E8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316E-B175-442A-8E3B-D344AC8F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F9D9E-D816-4560-97AF-04E052295B7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faith looks up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Lamb of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Агнец Божий,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с высо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hear me while I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all my guilt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 let me from thi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wholly Th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ей мольбе вн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нья у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лость мне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Thy rich grace im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ength to my fainting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zeal insp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олноты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 сердце силу в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царствуй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ou hast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 may my love to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e, warm and changeless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living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мер Ты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й нам, обрат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ть во вся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ог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life’s dark maze I tr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riefs around me sp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Thou my Gu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 пути зем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да и скорбь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ом ца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darkness turn to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pe sorrow’s tears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let me ever st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e asi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в утро обр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ыданья прек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позволь сой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ути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ends life’s transient dr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death’s cold sullen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o’er me ro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смерти л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уёт и принес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t Saviour, then in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and distrust rem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 bear me safe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ransomed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в Твое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мой от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к С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5:22Z</dcterms:modified>
  <cp:revision>12</cp:revision>
  <dc:subject>Slavic hymnal Гимны веры христиан, hymn 829</dc:subject>
  <dc:title>My Faith Looks Up to Thee / О Агнец Божий, Ты</dc:title>
</cp:coreProperties>
</file>