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6DE-0CCB-4267-8F46-18BE4DA7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596-B9AF-418A-B07E-755FCB2A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B54-76FD-4EF6-8422-92040BF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A9B-EC35-497A-A577-2D55764F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074-1659-40B8-81B9-1F689F9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332-57AA-411A-95D2-4F5B978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51F-A3E5-42C9-8F9C-BF4799E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B64-4AAF-4E00-BB24-4A9ED69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F60-05D4-4A18-928D-AF1D4FE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571-BFAF-4DA7-8A9C-21A8416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AF0-4D95-4989-B8E2-CBB1BDE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AD9-7DA6-4DCA-9DBB-5E46E525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30AAF-DE19-430D-ACF1-20A3CF9C81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мне, страннику, в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мне в сердце живо, мило, н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ос пришёл меня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те мне Библ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когда я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и то слово уте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трахом сильно пере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ней найти спас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источник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мог видеть я стез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 в согласии её 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конец, обресть жизнь ве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етильник прав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ести мог верно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же Иордан, реку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я в страну Ханаан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29Z</dcterms:modified>
  <cp:revision>12</cp:revision>
  <dc:subject>Slavic hymnal Гимны веры христиан, hymn 791</dc:subject>
  <dc:title>Дайте мне Библию, святое слово</dc:title>
</cp:coreProperties>
</file>