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C2B-8D3D-4C2E-AF12-42C600B0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5FB-347D-4C6F-B7B9-047A756E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BA5-A8AE-432C-80D9-4199B0D5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402-99B7-4200-99D4-09E21E97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3D3-57C3-4A9D-AF39-AD265FC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C64-58F0-4C08-AC53-DE4E8A99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E98-4DA2-4437-B7A5-A9EF4EC7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450-3915-4784-B7FD-30677E7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556-8F5E-46F5-978E-A6C1AA4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C2F-CBF0-4E6F-8ECA-D373DCF8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53F-2055-46D8-B747-E6579601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E2E-94C0-43B3-896F-8ED5A5F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73D31-A8CF-4CAD-83EA-B368F83F66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y that made 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406   Истин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шёл к нам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дай мне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красоту, что пленила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могла мн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days, 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и Царь, Созда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Т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рад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небрёг Своей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 на землю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2:20Z</dcterms:modified>
  <cp:revision>12</cp:revision>
  <dc:subject>The Source 3, song number 1406 in Russian</dc:subject>
  <dc:title>Истинный свет / Light of the World (Here I Am to Worship)</dc:title>
</cp:coreProperties>
</file>