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6E1E-1009-4445-AEA7-21E7FC6ED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6AE6-5C18-4C4E-AE2B-19928769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900A-12BC-4139-B978-91653825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6C51-6F68-46F6-8761-9D07391F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D395-7064-4FE7-BC14-CB81ABB2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7147-12CB-4F06-A2BA-44DCB52B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E0C8-8F65-4DB0-B1C8-13B882C4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23D6-8AD2-4088-B738-D292AF13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1D70-E150-4FF1-B52C-148DAF62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D577-8CF4-4F28-ACC2-EC61E662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A146-7F16-4DF4-858A-D2E82596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DAA7-0263-418D-B046-8E063312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8A451-8F25-49A9-96DE-5C259630BA9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Небесный, только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ержись промыслом свят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крощаешь ураг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послушен океан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десницею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ывущих по морю люд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ец Небесный, только 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, Ты ― Бог долин и г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которые бег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и наши с давних п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легчают всякий труд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десницею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щих, едущи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Ты над земл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голубь, крылья простир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свет не гаснет в тьме но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удрость избранным давал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десницею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тящих в воздухе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риединый, жизнь и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людей от всяких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им разума и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аждый радостно спеш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хваленье возн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оре, в воздухе, в пу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46:26Z</dcterms:modified>
  <cp:revision>12</cp:revision>
  <dc:subject>Slavic hymnal Гимны веры христиан, hymn 875</dc:subject>
  <dc:title>Отец Небесный, только Ты</dc:title>
</cp:coreProperties>
</file>