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C84-73CE-48B9-A3EF-97352D1D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C7D-F683-4D8C-8EF7-EE453F8C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C14-A4AE-44E0-827C-B9537EF3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5F4-1F1F-4E05-A0EB-9AD6518A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6DF-8A9F-496F-8F44-965A789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AE7-8285-47DB-8335-27FC0CF4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9C7-CE63-43C3-B843-ED33115E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5D8-93AC-42C5-8152-2A0D87E7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A2A-F217-4A51-8961-4A16F2D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5E3-0662-44D0-89BF-8B9D609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139-4E8A-4F21-92A4-78A4601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F37-E867-4A50-9669-63EAF80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BA2A0-DACE-42E5-80A7-26B3D6E5EB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02Z</dcterms:modified>
  <cp:revision>12</cp:revision>
  <dc:subject>Slavic hymnal Гимны веры христиан, hymn 847</dc:subject>
  <dc:title>Спаситель, мысли о Тебе</dc:title>
</cp:coreProperties>
</file>