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6E6-9F93-41F3-B452-742FA39F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554-8F90-495D-AFFA-CE42B6FB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41A-974F-437E-BA26-6A189634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539-8EB9-4A49-879C-D6285A6D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A3F-F907-418C-A3BC-EC99052D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8DD-C149-498D-9EA7-51BDFC32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20A-2FFF-48C3-AFB2-F1E88F7B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9E9-D21F-4E2B-8985-513B58FC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F5A-F72C-4D78-BAF6-8C417407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A78-4DC6-428E-9A9F-706976F1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8A3-F1E0-4539-8DA6-A83A6257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E16-D5E5-4B4E-A8A2-68D2F9F4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66493-01EB-4F17-A34E-E65454FD97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 есть я в ду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за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преда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цел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адостн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пас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радост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пасителя ди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частлив есть я в ду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через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ест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Как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лишь у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, мир ты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ирское прой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то ты там пожн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только, как с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ман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радост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пасителя ди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через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ест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Как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у всю нам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ить Духом Свят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люблю Его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радост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пасителя ди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через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ест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Как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55Z</dcterms:modified>
  <cp:revision>12</cp:revision>
  <dc:subject>Slavic hymnal Гимны веры христиан, hymn 604</dc:subject>
  <dc:title>Счастлив есть я в душе</dc:title>
</cp:coreProperties>
</file>