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898-FD96-42E3-B965-D4520A81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344-E8B2-44BC-8EE5-21D5608F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A67-FF3B-4200-8EDD-631FFDD7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0D3-5EDF-40C4-8C9C-8A0AFE6C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8AF-29F0-4E76-BE90-17FFF24D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243-CCC2-4637-BC73-2BF022EE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35F-D447-4230-B993-BF5F541C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36F-F324-4DCB-B2E7-74B92FFB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13D-E25F-4ADF-9842-DC44ACCB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79A-DAD8-408B-9BF0-7E9BF06B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9CB-E578-41F9-BFC0-77F15F8D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766-B828-4082-8334-465AA53E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C1AD1-984A-49F4-B9DD-72A093714E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 wond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nsellor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, isn’t He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sn’t H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, 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 wond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nsellor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, yes,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08:39:51Z</dcterms:modified>
  <cp:revision>10</cp:revision>
  <dc:subject>The Source, song number 242</dc:subject>
  <dc:title>Isn’t He Beautiful</dc:title>
</cp:coreProperties>
</file>