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A9D-579F-469E-9C7C-57DE79CB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47E-7C58-4CE7-BBB8-A64876C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2C0-0C12-403B-8321-36F68E61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E48-721B-43C5-909F-E4A80D4C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6C3-67EE-4CEF-B763-44BA6D3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578-99F8-467A-87C8-52751B80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776-54C4-4D3D-95EA-867C9694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C93-6C26-4299-817B-CD483107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3D7-71FB-48C9-8F5C-BDDE11B1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F1B-16A3-4424-BDA5-8F295053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A02-D14E-4B77-891B-6E19120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090-5F55-49DC-A7A2-6943B1B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E8521-1003-4691-A0E1-802DBFC629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07Z</dcterms:modified>
  <cp:revision>12</cp:revision>
  <dc:subject>Slavic hymnal Гимны веры христиан, Ukrainian hymn 85</dc:subject>
  <dc:title>Сумно бушує життєвеє море</dc:title>
</cp:coreProperties>
</file>