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889-5EF3-4B19-8396-7E50B7F5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FE5-B3D3-4A69-9310-12517C52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5D1-7BAF-4D02-AF48-AE5847D2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2D7-C2C7-431B-A105-DDC05BE5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F19-0478-4556-AA52-6C5F7EB5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190-0312-43CB-8D52-4898B1FA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240-B39E-45FA-8FCC-5792D24A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715-D65C-4184-8A42-024B9CEA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5FF-C3BF-4D5B-824F-12785FC5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1A9-82DC-461E-AD08-4EF42230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E1C-40EE-4181-84A8-2B731BEE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99C-D2A1-4F9D-B28E-053D7758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53D81-D6E1-4909-9D2E-0494490DE4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е принял я кре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ою дан святой об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быть в соедин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й блюсти святой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и ж моё жел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Тебя, о мой Госпо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постоянное стар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возбуждать, смирять же пл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ое принял я крещ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, Христос, в Твоё стяж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ердце, тело, душу вн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отвергни обещ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ь навек к Тебе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 длани, где Христов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исан к вечной жизни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е здесь меня с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душа придёт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47Z</dcterms:modified>
  <cp:revision>12</cp:revision>
  <dc:subject>Slavic hymnal Гимны веры христиан, hymn 722</dc:subject>
  <dc:title>Святое принял я крещенье</dc:title>
</cp:coreProperties>
</file>