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CCA-5CF2-4C54-B483-55070695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522-3AD0-4310-A65C-BD22AD0F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C54-3CED-485A-9D6F-6C11C30C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E5-2E5F-4FA7-9227-A738325F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E9A-7E01-4C3F-B1AC-DE8822E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8A4-4332-49E6-B03D-2A87361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B36-13E9-4291-821D-3E08A0B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408-F5DC-4909-97F0-236BD44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FC4-CBB1-4DCD-ABD4-BFB5131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A8B-D0C0-46EB-B252-4F9C88A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40F-0CA5-41CA-9651-2AE2C1D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7CF-9D36-4993-B776-EA3E9F8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F7437-EDD4-4483-AE03-EF68E9D0AC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омлён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Твоя меня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чистишь сердце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в нём си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ой гл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ебя увидеть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знать любовь Твою к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 мо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мне открой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я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ил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42Z</dcterms:modified>
  <cp:revision>11</cp:revision>
  <dc:subject>The Source, song number 329 in Russian</dc:subject>
  <dc:title>Прихожу к Тебе (Твоя сила любви!) / Lord, I Come To You (Power of Your Love)</dc:title>
</cp:coreProperties>
</file>