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3</a:t>
            </a:r>
            <a:r>
              <a:rPr b="1" lang="ru-RU" sz="3600" spc="-1" strike="noStrike">
                <a:solidFill>
                  <a:srgbClr val="ffffff"/>
                </a:solidFill>
                <a:latin typeface="Verdana"/>
              </a:rPr>
              <a:t>	</a:t>
            </a:r>
            <a:r>
              <a:rPr b="1" lang="ru-RU" sz="3600" spc="-1" strike="noStrike">
                <a:solidFill>
                  <a:srgbClr val="ffffff"/>
                </a:solidFill>
                <a:latin typeface="Verdana"/>
              </a:rPr>
              <a:t>Лишь Один приходил</a:t>
            </a:r>
            <a:endParaRPr b="0" lang="en-US" sz="3600" spc="-1" strike="noStrike">
              <a:solidFill>
                <a:srgbClr val="000000"/>
              </a:solidFill>
              <a:latin typeface="Verdana"/>
            </a:endParaRPr>
          </a:p>
        </p:txBody>
      </p:sp>
      <p:sp>
        <p:nvSpPr>
          <p:cNvPr id="39" name=""/>
          <p:cNvSpPr/>
          <p:nvPr/>
        </p:nvSpPr>
        <p:spPr>
          <a:xfrm>
            <a:off x="179280" y="395280"/>
            <a:ext cx="9720360" cy="4140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There was One Who was will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to die in my stea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at a soul so unworthy might liv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the path to the cr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He was willing to trea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ll the sins of my life to forgive.</a:t>
            </a:r>
            <a:endParaRPr b="0" lang="en-US" sz="28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1.</a:t>
            </a:r>
            <a:r>
              <a:rPr b="0" lang="ru-RU" sz="2800" spc="-1" strike="noStrike">
                <a:solidFill>
                  <a:srgbClr val="ffffff"/>
                </a:solidFill>
                <a:latin typeface="Verdana"/>
              </a:rPr>
              <a:t>	</a:t>
            </a:r>
            <a:r>
              <a:rPr b="0" lang="ru-RU" sz="2800" spc="-1" strike="noStrike">
                <a:solidFill>
                  <a:srgbClr val="ffffff"/>
                </a:solidFill>
                <a:latin typeface="Verdana"/>
              </a:rPr>
              <a:t>Лишь Один приходил на кресте умерет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Чтоб от смерти меня искупит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Шёл покорно на казнь, согласился терпет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Чтоб грехи моей жизни покрыть.</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395280"/>
            <a:ext cx="9720360" cy="4140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y are nailed to the cr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y are nailed to the cr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 how much He was willing to bea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ith what anguish and l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Jesus went to the cr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ut He carried my sins with Him there.</a:t>
            </a:r>
            <a:endParaRPr b="0" lang="en-US" sz="28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2800" spc="-1" strike="noStrike">
                <a:solidFill>
                  <a:srgbClr val="ffffff"/>
                </a:solidFill>
                <a:latin typeface="Verdana"/>
              </a:rPr>
              <a:t>Припе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о кресту пригвоздил! Ко кресту пригвозди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За меня был замучен Христос.</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Был поруган, презрён, ко кресту пригвождё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Но грехи Он на древо вознёс.</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395280"/>
            <a:ext cx="9720360" cy="4140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He is tender and loving and patient with m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ile He cleanses my heart of the dr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ut “there’s no condemnat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I know I am fr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or my sins are all nailed to the cross.</a:t>
            </a:r>
            <a:endParaRPr b="0" lang="en-US" sz="28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2.</a:t>
            </a:r>
            <a:r>
              <a:rPr b="0" lang="ru-RU" sz="2800" spc="-1" strike="noStrike">
                <a:solidFill>
                  <a:srgbClr val="ffffff"/>
                </a:solidFill>
                <a:latin typeface="Verdana"/>
              </a:rPr>
              <a:t>	</a:t>
            </a:r>
            <a:r>
              <a:rPr b="0" lang="ru-RU" sz="2800" spc="-1" strike="noStrike">
                <a:solidFill>
                  <a:srgbClr val="ffffff"/>
                </a:solidFill>
                <a:latin typeface="Verdana"/>
              </a:rPr>
              <a:t>Терпеливо и нежно Он учит мен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даёт благодатных мне си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сужденья мне нет, Он — защита мо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се грехи ко кресту пригвоздил.</a:t>
            </a:r>
            <a:endParaRPr b="0"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395280"/>
            <a:ext cx="9720360" cy="4140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y are nailed to the cr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y are nailed to the cr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 how much He was willing to bea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ith what anguish and l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Jesus went to the cr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ut He carried my sins with Him there.</a:t>
            </a:r>
            <a:endParaRPr b="0" lang="en-US" sz="28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2800" spc="-1" strike="noStrike">
                <a:solidFill>
                  <a:srgbClr val="ffffff"/>
                </a:solidFill>
                <a:latin typeface="Verdana"/>
              </a:rPr>
              <a:t>Припе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о кресту пригвоздил! Ко кресту пригвозди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За меня был замучен Христос.</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Был поруган, презрён, ко кресту пригвождё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Но грехи Он на древо вознёс.</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395280"/>
            <a:ext cx="9720360" cy="4140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I will cling to my Saviour and never dep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will joyfully journey each da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ith a song on my lip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and a song in my he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at my sins have been taken away.</a:t>
            </a:r>
            <a:endParaRPr b="0" lang="en-US" sz="28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3.</a:t>
            </a:r>
            <a:r>
              <a:rPr b="0" lang="ru-RU" sz="2800" spc="-1" strike="noStrike">
                <a:solidFill>
                  <a:srgbClr val="ffffff"/>
                </a:solidFill>
                <a:latin typeface="Verdana"/>
              </a:rPr>
              <a:t>	</a:t>
            </a:r>
            <a:r>
              <a:rPr b="0" lang="ru-RU" sz="2800" spc="-1" strike="noStrike">
                <a:solidFill>
                  <a:srgbClr val="ffffff"/>
                </a:solidFill>
                <a:latin typeface="Verdana"/>
              </a:rPr>
              <a:t>Я пришёл ко Христу, с Ним пребуду всегд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аждый день я иду вслед за Ни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 ликованьем в душе и хвалой на устах,</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Что мои все грехи Он простил.</a:t>
            </a: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395280"/>
            <a:ext cx="9720360" cy="414036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y are nailed to the cr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y are nailed to the cr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 how much He was willing to bea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ith what anguish and l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Jesus went to the cro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ut He carried my sins with Him there.</a:t>
            </a:r>
            <a:endParaRPr b="0" lang="en-US" sz="28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2800" spc="-1" strike="noStrike">
                <a:solidFill>
                  <a:srgbClr val="ffffff"/>
                </a:solidFill>
                <a:latin typeface="Verdana"/>
              </a:rPr>
              <a:t>Припе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о кресту пригвоздил! Ко кресту пригвозди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За меня был замучен Христос.</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Был поруган, презрён, ко кресту пригвождё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Но грехи Он на древо вознёс.</a:t>
            </a:r>
            <a:endParaRPr b="0" lang="en-US" sz="28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9-28T21:42:15Z</dcterms:modified>
  <cp:revision>4</cp:revision>
  <dc:subject>Slavic hymnal Гимны веры христиан, hymn 273</dc:subject>
  <dc:title>Nailed to the Cross / Лишь Один приходил на кресте умереть</dc:title>
</cp:coreProperties>
</file>