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72F-7B2F-4FA8-B628-AAE416AA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5CA-34D4-4C61-99C1-7357E115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710-258D-4D8A-91BF-16B02FAC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E85-FADF-4F9D-971A-82A171FA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748F-8061-426F-B4DA-289AADED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B18-64BC-4CEC-AE60-1AA64E22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776-8EF3-4358-B6CF-0EFE37EA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13C-09A5-4E37-BD85-85180D17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9D0-E276-4C97-8FCD-F1E2D015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E5BF-B561-465E-840A-223DC53F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BB1E-D210-4A98-8AB9-15C61AD0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0CD-604C-4510-AAA7-7D4CA919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D4CA3-C587-4C15-84C5-AA865EACDC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еко, далеко, далеко,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гранью небес голуб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так нежно,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так мило, лег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лаждаться в общеньи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леко, дале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боко, глубоко, глубоко, глуб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ечтаю о родине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слёз, ни трев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покойно, лег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традный мой дом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, я хочу, я хочу, я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быть в том блаженном к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час придёт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полу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место в блаженном кра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29Z</dcterms:modified>
  <cp:revision>13</cp:revision>
  <dc:subject>Slavic hymnal Гимны веры христиан, hymn 696</dc:subject>
  <dc:title>Далеко, далеко</dc:title>
</cp:coreProperties>
</file>