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F62-A45E-4ACB-B659-CFF012C9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CF4-6EAE-4360-8DDF-7BFD9C91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22B-4F05-42C1-80E5-3E5FECB5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702-B706-46C2-82FE-A3D369BD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B36-6DA1-4E32-84D8-683F9652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534-901A-475E-9630-266296E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14D-3D87-4E6E-AE40-B2A79A96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71C-B00B-44B7-802D-4CCE6D3F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7BB-816D-483D-BDF4-D71031B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13F-8F0F-4BF3-BA1D-40A870F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F5F-6D98-4C85-A7E8-83877AB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332-0B2B-40D3-9F82-14C99C9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78CBA-6A45-4529-B2A3-7D3915C6D2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4   I Come Before You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25Z</dcterms:modified>
  <cp:revision>12</cp:revision>
  <dc:subject>The Source 4, song number 1884</dc:subject>
  <dc:title>I Come Before You Today (Thank You, Lord)</dc:title>
</cp:coreProperties>
</file>