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37E-F927-4186-AD8C-96E197E9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777-0CC4-41CB-86E0-44B999E6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282-415E-4354-88D8-018E1BBC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1B5-53D3-40E2-AD5E-23822B27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7FA-0BC4-4FB0-B1D7-53984F57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99B-B0EB-4878-A4F6-C70A39AB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22D-9831-4839-A826-18E118D9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EF2-B8A5-4C2C-B33E-9151391C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6CD-10A8-4C0D-BCF2-AB635DCC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BB1-CC4B-4917-8921-46489629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9F1-999B-4D48-AABA-7743BE67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4DE-1942-41CC-A31E-588F8C80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F1429-EB42-457B-9A06-739A465F03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wondrous love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uel cross He suff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urse to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И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tell the wondrous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my lost estate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boundless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e ransom freely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повествов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еня от мук изъ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любви и со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отел Свой выкуп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ise my dear Redee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iumphant power I’ll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the victory He giv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sin and death and 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вечным торж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илён, как побе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д смертью и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heav’nly love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rom death to life hath brough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 of God with Him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слабого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в рай путе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пре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9Z</dcterms:modified>
  <cp:revision>13</cp:revision>
  <dc:subject>Slavic hymnal Гимны веры христиан, hymn 570</dc:subject>
  <dc:title>I Will Sing of My Redeemer / Буду петь, как Искупитель</dc:title>
</cp:coreProperties>
</file>