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935-A516-41CF-B894-C3128ED7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4EA-6574-4D30-AB4C-6D6B4F8B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FC4-F230-4DA4-A83B-E3230D86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0CA-12B7-480F-ACEB-EE179D7A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2F5-FE7D-49DE-B24B-10EFA90A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870-E920-4079-9C4E-37CBA233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7DB-123E-44BC-A611-E265A67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CD7-89B7-41ED-BF38-06EC4014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530-FFD8-4D74-8651-F5FE33E6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46D-ED77-4F56-9345-C082FC80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4B7-4CED-42B5-AAD5-D28C3C74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830-18F6-4244-975D-8B7BC0E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79FFD-B71A-4942-8289-FFE371D8DA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ere are the reapers that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the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sickles of truth must the work be 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one may rest till the “harvest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де же жне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где же жнецы, чтоб теперь со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олей, злом богатых, — добра сно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пами любви надо труд сверш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тени ночной класть нельзя сер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out in the byways and search them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heat may be there but the weeds are t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earch in the highway, and pass none b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gather them all for the home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щите колосья среди тра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шеницу средь плевел найдёте 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бросьте колосьев, что у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те их в житницу прин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elds are all ripening, and far and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orld now is waiting the harvest t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reapers are few, and the work is gre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uch will be lost should the harvest w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т колос созрел и к земле по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жатвы великой мир скоро жд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ников мало, а труд вел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длить же нельзя, ведь всё пропа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come with your sickles, ye sons of 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ather together the golden gr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il on till the Lord of the harvest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are ye His joy in the “harvest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рите же, люди, свои серп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ите с обильным зерном сно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тесь до встречи Царя-Г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житницу Божью войдёте 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5Z</dcterms:modified>
  <cp:revision>14</cp:revision>
  <dc:subject>Slavic hymnal Гимны веры христиан, hymn 534</dc:subject>
  <dc:title>O Where Are the Reapers? / О, где же жнецы?</dc:title>
</cp:coreProperties>
</file>