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784-A146-4F79-98A5-6F4A2D03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A90-AC4A-4541-9A72-C69FA1F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412-F4DF-435F-A3F5-AEDD4EC8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639-3455-434D-9995-890AD622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37F-8217-4100-AD9D-0E3A4A6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29F-35BB-4871-804E-09D981A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083-CA2A-4F3C-83A1-C68FBDD1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94A-8DB3-44A9-941C-ECA0056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EE4-0DF1-446E-B17D-FDCD115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988-A83D-4C3E-8997-C9608B8E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F2C-D1C8-4A46-8758-AC5E47D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B5B-2B01-4ECC-BDC1-2A8F861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459E9-0DA0-4062-8F60-67815C5799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0:23Z</dcterms:modified>
  <cp:revision>13</cp:revision>
  <dc:subject>Slavic hymnal Гимны веры христиан, hymn 244</dc:subject>
  <dc:title>Тихая ночь</dc:title>
</cp:coreProperties>
</file>