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D6B-F3B5-451D-B784-16D826BF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B8D-DA55-413D-83F5-622A04AC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06D-167B-49B3-8CF9-259C4A02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069-E4F5-463A-9B30-467CFB30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BC9-337D-41FA-9EFF-7587E077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47E-67E9-4FB2-96D1-09BF042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09A-C672-4C3C-876F-BF3AA3D4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9EC-5733-4B51-8DCC-7A4455B3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1B4-87C4-4774-A4DA-F012D059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478-1A01-4C50-B50B-A7FB6BA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9F8-53AD-481A-BA56-01D1827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237-C016-40B7-83EA-8CE4118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1A157-536D-44BA-AD42-28AAC9394C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18Z</dcterms:modified>
  <cp:revision>12</cp:revision>
  <dc:subject>Slavic hymnal Гимны веры христиан, Ukrainian hymn 50</dc:subject>
  <dc:title>Не хотів би я без плоду</dc:title>
</cp:coreProperties>
</file>