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9FF-B51D-454E-AF71-3B0B0CDC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6EB0-E750-4210-AF0E-E1651697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9D0-FA34-49E8-91BB-023A54A5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735-E72E-45C1-AFFF-6E3123D2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BD71-E5FC-43A3-B8A1-82575EBD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6E37-8FC6-42C0-869B-7A345201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C2A7-375F-4149-B568-2F67B586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7B7B-0AA9-4F2A-AFDA-D1ACCACC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474F-311F-497B-AB6A-67C7A877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2D7-534A-488E-A91A-E9C008C3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C196-E773-4B0A-9908-94959A93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A75E-7506-47DD-87C3-A4222CA5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72845-FAD1-49F3-A461-2DAC6636B54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сскажет ручей говорл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му моей тайны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лугам и полям молчали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ежит он холодной струё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сскажет, что волны слых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му моей тайны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тело моё погруж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крещеньи в полночной ти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расскажет руч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 мира сего отрека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 Богу в крещеньи дав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славы Христа обеща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ой я тогда лико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олночный, при лунном сия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ался священный об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блаженном, святом упов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я от Бога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итве священной вним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еслася от вод к небе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ом душу мою наполняя,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мне Бог в сердце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 великую тайну свят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яю я в сердце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новой я ныне лик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 в церковь живую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поток был свидетель безмол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ей тайны великой,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чистые, светлые вол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моею прошли гол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ыть мне ручей одино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ыйду на берег ве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от берег зелёный, высо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завет заключил Бог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мне, мой Боже Вели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завет до конца сохра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скорбном, враждою покры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сёцело Тебе посвя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1:13Z</dcterms:modified>
  <cp:revision>12</cp:revision>
  <dc:subject>Slavic hymnal Гимны веры христиан, hymn 720</dc:subject>
  <dc:title>Не расскажет ручей говорливый</dc:title>
</cp:coreProperties>
</file>