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AAD-EDA3-4C24-B434-E32F05E0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F11-DB8E-463C-84B5-8952736C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98D-3DA9-409B-B922-89002B7F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810-E99E-4963-9D8D-366B3435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C1A-7CF9-4DB9-A3CE-913126F2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04A-15E3-462F-A2C8-52CF7805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033-7F14-46CB-A479-D4E58D00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455-4B9C-46E5-A3C5-0118994E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9C3-1E80-4203-8DC8-BB32F94E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A84-40CC-4EBD-9460-0E32309E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5C4-320C-41E0-8A7A-52FCF7CC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04E-5219-427D-BEAF-8AAAEBD1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A03C3-F6E5-48E1-940E-3417A44998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You were fors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accep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ere condem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22   Вот, я искуп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я искупл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ми был остав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ыновлён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alive and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is with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You died and ros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бьёт жизнь клю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Твой обит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ю кровью я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 мне н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г Ты за меня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хочу Тебе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ы — мой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 мне н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г Ты за меня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хочу Тебе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5-06-01T11:28:52Z</dcterms:modified>
  <cp:revision>13</cp:revision>
  <dc:subject>The Source 4, song number 1722 in Russian</dc:subject>
  <dc:title>Вот, я искуплен / And I’m Forgiven (You Are My King)</dc:title>
</cp:coreProperties>
</file>