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9027-3C2C-4A58-A69C-3120EEA60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EF1A-C840-4F66-A22E-0BB6E468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5E12-6BB4-4BAD-A30E-A1F20EC76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04B6-8DFD-4C5C-B0E6-61C558211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1B3F-83D5-4A05-BBB1-DBD19E13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8A02-CBAC-4BD5-BDFD-8E412022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F03C-C501-4309-AF9A-5E9BBEB5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D544-D5F8-4FCE-B43D-821AAD1E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C7FD-1C60-4701-A914-480717FA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7054-77C6-48C0-A493-42251F67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F7C6-BA12-47CC-B3AB-49211A3B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D092-503F-4BC0-BEF6-1B36C852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9B58AA-F681-4271-A13A-B41971E08BF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молитвы, в час прощ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твоей нужды боль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приятный, в час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ли, брат, дом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час молит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еко ты заблуд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Христа в путях зем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ебя Он примир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, мой друг, вн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найдёшь ты утеш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решном мире сём, брат м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 Иисусе в день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 обретёшь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прийти к Нему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зыщи прощ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с небес об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твой искуп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11-28T02:16:35Z</dcterms:modified>
  <cp:revision>14</cp:revision>
  <dc:subject>Slavic hymnal Гимны веры христиан, hymn 335</dc:subject>
  <dc:title>В час молитвы, в час прощенья</dc:title>
</cp:coreProperties>
</file>