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4A4-ABE1-4C06-9BD3-C62BD9BD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7EA-330B-4FB7-8BB8-D55EE053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729-E32E-4D34-8D17-734B47DE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7FE-5443-4FD8-9284-D9676F5F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42C-FDE2-4C22-99B6-E53CFE5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59C-672E-4C2B-9A82-FC0B6343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6BF-1B1D-4CCA-9669-53DA6B73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9FB-D3C8-4AEC-B2DF-EC0E62A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6D3-546F-4FAC-89AC-8BDD87FD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D53-D1D8-4006-B4D5-88B2DC0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624-4807-4282-85D7-CCA9611B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5B1-ABD0-4F40-985A-712FE73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0563C-D274-4458-B223-AA4531A271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your load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ocks and asks ad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, will you let Him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pleasure, room for bus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Christ the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place that He can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heart for which H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n grace He calls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day is time acce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 you may call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and time now give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pass God’s day of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y heart left cold and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Saviour’s pleading c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0Z</dcterms:modified>
  <cp:revision>13</cp:revision>
  <dc:subject>Slavic hymnal Гимны веры христиан, hymn 350</dc:subject>
  <dc:title>Have You Any Room for Jesus? / Есть ли место Иисусу?</dc:title>
</cp:coreProperties>
</file>