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927-D9CE-42CB-AB9C-1957D116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CC0-E6B2-497E-829E-AAF9CE8D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32A-08E0-4B9A-A108-4E1A4045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3F79-B67B-4EC1-B199-14F07446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C6C0-FB56-41A7-9F69-47BCD7DB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EB2-5194-4938-9125-992DA36B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5184-6D08-4025-9317-BE68EB06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A1B-6705-471D-9821-D7105C50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6B34-8B9A-4429-9128-65B1431A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12B5-E55E-4769-8838-531143B6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E7BB-1BB8-47C2-8B08-C7160118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DD53-C3AF-43F7-B834-1A157531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72CD0-02A2-4D71-AF4E-1E0268B0013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and near the fields are tee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waves of ripened gr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and near their gold is gl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the sunny slope and 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десь и там поля беле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и там поля беле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агоценнейшим пло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нивы золот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алитые зер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forth with morn’s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in the noontide’s gl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un’s last rays are glea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them gather eve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 же их вперёд с расс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лдневную жа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ботать знойным л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ужить Христу Цар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, whom thy Lord is s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now the sheaves of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ward then at evening w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shalt come with joy unt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ля Бога рад тру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у с поля соб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с нивы возврат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радостью объ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4:27Z</dcterms:modified>
  <cp:revision>13</cp:revision>
  <dc:subject>Slavic hymnal Гимны веры христиан, hymn 784</dc:subject>
  <dc:title>Far and Near the Fields Are Teeming / Здесь и там поля белеют</dc:title>
</cp:coreProperties>
</file>