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E19-D6AB-446B-90E5-9A3AEE6D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BC9-EE9E-48DF-9CC3-19A731B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FB0-EB17-4B3E-A468-02A81B0A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187-F7F0-4537-BCA4-FED5A5EB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92E-F60F-4194-A437-73A12B31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ECB-92A1-4542-80F4-68D1F97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021-89E4-469A-9472-E65C0DE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1EB-BF41-4674-A672-716FEC74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9AE-F645-45BE-8FF2-4868B77D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767-25D1-466E-BBCF-66F44B2E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8BA-DAB1-47AF-80D7-B1B9B17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80A-C74D-4AD0-82D2-4E69D6E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E530B-3C99-4B7A-84E3-9A81854C25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4   Blessing and Hon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kingdom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ne shall 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matchless wo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8:23Z</dcterms:modified>
  <cp:revision>12</cp:revision>
  <dc:subject>The Source, song number 54</dc:subject>
  <dc:title>Blessing and Honour (Ancient of Days)</dc:title>
</cp:coreProperties>
</file>