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7C5-19C8-4E3D-8F03-863A6E91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42B-0A34-4314-A83C-8533AA60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C0D-ED13-4F4C-85BF-11E06239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C5B-CE89-4839-BA50-FBBA3642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1C7-EC14-4344-8832-768B1A6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86F-92ED-4644-814D-B9A0F3A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D97-284A-4541-9115-E7BBB29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1AF-6DB3-48E7-A18D-1AFF80D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0F8-56CF-4980-BCCC-110D29D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78C-E97D-48C2-B620-1145928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5B0-8135-4772-B001-F0AFFB8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AD3-9529-4C0D-A6D8-5A05A5B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C77E0-A3B2-4A7C-8E78-C56F69C9D6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Our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ong as it rises to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s cover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our hearts and remov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standing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coming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urrounded by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ve crossed that river b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is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be singing for 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15Z</dcterms:modified>
  <cp:revision>11</cp:revision>
  <dc:subject>The Source 2, song number 714</dc:subject>
  <dc:title>Hear Our Prayer (Our Father)</dc:title>
</cp:coreProperties>
</file>