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6D7-989B-4E43-8574-6B6E0EAB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759-036C-438E-9C28-19122CA7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DEE-F4AD-4F2A-8D41-B4190D85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B987-4282-4FEF-8999-134032B3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9BC-DA78-4C6E-B078-4896D13E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4A0-F4B2-4294-A9AA-B63FD896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79E2-127E-4C7C-9B03-507B7223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85A-1D96-472F-959E-8F4503D1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1C6-A76B-4568-92F7-0BB937EF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942-0EA0-4A84-846C-25B5144A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42C-F0A4-4938-BEE0-74C41BC5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F8F-96CA-4173-81E9-D4FCF80B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C2BF1-EAB1-4CAC-952E-05CDDCBC79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п один в руках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ночь мне не страш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устым пред Ним яв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так страш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мне года бы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о было возвра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и радостью, и счаст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о б Господ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рудитесь, дети Бож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ходит, ночь близ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пока не поздно, д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ербуйте д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14Z</dcterms:modified>
  <cp:revision>12</cp:revision>
  <dc:subject>Slavic hymnal Гимны веры христиан, hymn 532</dc:subject>
  <dc:title>Не хотел бы я бесплодным</dc:title>
</cp:coreProperties>
</file>