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83D-AFF1-45D0-835A-7CC9139D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B03-DE9F-4A20-B724-919F811F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957-1D52-4F6E-A936-3AD97490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055-9715-40C1-BA83-D60D3E12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FCE-B876-47DB-953F-502809BA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65C-A76F-4C79-8349-34DE4035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E40-4D22-4F2C-BE42-7E29E62E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99E-DBD0-4EA0-A535-4DF35393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AE6-4E29-4529-B7C8-76107259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41A-D72E-46D1-A4AE-47E9E06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CAA-8116-4E4C-8ADF-9F4399EB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634-E133-49BC-81B4-6C4AE40D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BDFB4-4ABD-4C16-AB78-E907265EF6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худых не дел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не гово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мы — Христо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смо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л худых не 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недобрый 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нас 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ь нас хо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жаждою в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зла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ки 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у сопротив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добру стрем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46Z</dcterms:modified>
  <cp:revision>12</cp:revision>
  <dc:subject>Slavic hymnal Гимны веры христиан, hymn 760</dc:subject>
  <dc:title>Дел худых не делай</dc:title>
</cp:coreProperties>
</file>