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C11-CD5A-45D7-BC3F-3DD670D4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A3A-7A33-4EFA-9F71-26F0D9CD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3A6-56AA-4A83-A908-B3CF3415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9C1-A1FF-4AA2-B4F5-504C808E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9D9-7AE2-49BA-8B1E-B12DBA25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CA8-0833-4AD2-97E9-51E23DB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F03-7DDF-4CFB-8061-2ABC0A2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C47-C38E-43EA-9283-C91B38E7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3B5-197B-4E76-9677-9BDB6BD4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DCC-D4F7-4D3B-A987-85ABAE9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701-BC3E-492B-9932-74C525F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BB7-B826-4875-BDFF-D2C7677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A81C4-CBBF-4E95-9311-DC6EB1B4D7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20Z</dcterms:modified>
  <cp:revision>12</cp:revision>
  <dc:subject>Slavic hymnal Гимны веры христиан, hymn 869</dc:subject>
  <dc:title>Любит мой Иисус меня</dc:title>
</cp:coreProperties>
</file>