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C72-E734-48F5-9E47-1AEAF38D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C9D-98A4-42F1-A60D-A67F05F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B83-27F0-42B3-90F8-7FE68BB4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01F-EF8D-40F0-A2AE-18A2B4DD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38E-B283-47C4-A258-5DD58B0B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A4F-0906-43DC-A5B1-373525C0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6E8-0556-4B2F-AD9E-8F27C92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4E0-48DE-4BE8-B4C1-CE841AB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AB4-EBC0-4C53-B716-B8774317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716-E177-492A-9EF4-ADAD25B9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820-AE04-4630-855F-BE60402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32D-976F-4FEC-AE84-9127D09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71F98-2FF4-4B42-8F31-8001000BAF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ство, где Иисус цар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Божиих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туда их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царство, где Иисус ца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еловеческих сы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нут тех 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, кого от все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увижу в том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х, кто средь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озлюбили больше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ечный Бога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47Z</dcterms:modified>
  <cp:revision>12</cp:revision>
  <dc:subject>Slavic hymnal Гимны веры христиан, hymn 755</dc:subject>
  <dc:title>То царство, где Иисус царит</dc:title>
</cp:coreProperties>
</file>