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DDF-A65F-4514-9D04-FFF6DFBE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BE1-8FB5-41E5-96B0-65CAA96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05B-0291-4D6F-A258-85809AEE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C0B-EE41-48E1-A82C-315E9334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874-65D7-46AD-ACC3-4BED1205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658-5998-4206-99A4-562BF585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857-19C3-4082-BA30-5E958B13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028-A53C-4725-A062-E304B1B9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AD7-3788-46F7-818E-0B6535F0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AF8-D540-45E8-961E-10FE1F70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75B-9135-4436-A88C-6CFD3520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1B0-E764-4213-BF4A-8098A502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A6D73-51E3-427B-B2A1-A8B942F0B8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й Пастырь, я ни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у знать нуж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лачных пажитях па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жив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ляет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 путь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мне любов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и до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мой Паст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я з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ы; рук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готовил пищ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ду моих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ил на голову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любовь и 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за мною в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ме Божьем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в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46Z</dcterms:modified>
  <cp:revision>12</cp:revision>
  <dc:subject>Slavic hymnal Гимны веры христиан, hymn 834</dc:subject>
  <dc:title>Господь — мой Пастырь</dc:title>
</cp:coreProperties>
</file>