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43D-7561-4772-AC13-7C351E4C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C2D-91E4-4692-8C17-91A2BDA4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F90-A528-42D7-86F8-84041D1C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122-BD4D-4861-B11A-2AD07197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14B-71E2-4765-81A9-8A03188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367-26DF-4067-88BC-B882F5A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0F1-750D-4566-85F5-814CB078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561-E935-4924-961D-84C6DDC3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9BA-D309-44CE-B54C-8F2BB0A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C2B-F633-4D70-B038-B81B98A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1F3-A27E-46FA-9492-08C5F84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444-BB0C-406A-9A45-0A4DE4D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8F4FC-2923-4794-B2A6-E9CD311DD0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7   Love Unfa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16Z</dcterms:modified>
  <cp:revision>12</cp:revision>
  <dc:subject>The Source 3, song number 1427</dc:subject>
  <dc:title>Love Unfailing (To the Ends of the Earth)</dc:title>
</cp:coreProperties>
</file>