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6D0-7916-4A9D-8B90-E5FB9C38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3A2-435A-45A7-9E71-2553D9F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E9D-5330-4B61-B649-AAACB2D7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D4B-98F6-4B95-9F02-A87BCBE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369-6506-4533-8E4A-FB3B64DF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5EB-7883-455F-9150-EDBCC30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94E-A4C6-48B1-9401-74E6B15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DA2-5F54-48DC-8D14-0368CF4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770-5589-44F2-AB69-117048A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65A-1BEA-4F94-9952-948DAC1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ECE-51E9-433C-8BBD-66E244E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5AA-930A-4508-ABFD-F7848E3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4CAD-F5E6-471D-AB5B-7F9AA90429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ever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ed Your bloo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 called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ank You for Sav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 a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’n is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only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viour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”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let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has let me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58Z</dcterms:modified>
  <cp:revision>10</cp:revision>
  <dc:subject>The Source, song number 472</dc:subject>
  <dc:title>Thank You for Saving Me</dc:title>
</cp:coreProperties>
</file>