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12F5-5C76-4E73-B749-385E8996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7670-120E-4392-9862-3E12B55E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0098-74CA-46DC-BB8A-E5E159778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AF41-F041-4962-957E-9633D88B5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78AF-8EF8-4C1B-8D3D-F41ED0EE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9248-3DF7-4FE6-90B7-FC67C975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3F89-B136-4255-BD57-18A29B6B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CDE1-4CDB-410D-8563-743F4364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BE6A-1752-44EB-928D-C2A1ED10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ED53-F041-4F48-927D-13673686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962F-964A-4820-B26F-27473646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4CE0-1DC7-4CC7-9A1C-36E9975D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A0C95-A7B8-458D-B433-7C6C92AA446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Агнец Божий,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й с высо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ей мольбе вн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мненья уд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лость мне 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у Т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Агнец Божий, 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полноты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 сердце силу в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царствуй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умер Ты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дай нам, обрат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ть во всяк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ог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 пути зем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да и скорбь кру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ом цар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в утро обр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ыданья прекр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позволь сой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ути до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смерти лё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уёт и принес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ец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,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мне в Твоей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мой от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к С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2:22Z</dcterms:modified>
  <cp:revision>12</cp:revision>
  <dc:subject>Slavic hymnal Гимны веры христиан, hymn 829</dc:subject>
  <dc:title>О Агнец Божий, Ты</dc:title>
</cp:coreProperties>
</file>