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77E-9943-41CB-BC0B-333E9222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F8D-F8BD-45CD-9500-CA089D6F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9E4-3A76-4918-992E-07C72AEA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713-AE8A-4916-AA19-A27C6AC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3F7-BEA7-407E-AD37-9A4F4B59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C7D-84D8-45CE-B06E-751527A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5A5-C74E-4E08-B638-2FD15ADE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149-1E5B-4BC9-A634-3C26E1E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F35-B151-41EE-9D57-D0EBF2E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E12-3E9E-48A5-8C84-7FFABC6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D5D-C0CB-48B9-A6C7-502498C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A8B-BFCC-4C8E-A3CF-11BB944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E1128-A883-4D70-A88A-0931EF8E55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open Bible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s our glorious mot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’ry breeze its flag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catter blessings rich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it goes its golden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ing as from an unveiled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issipate the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o the work that sin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hows to men the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radiant with forgiv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lost of Adam’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s sweet mercy from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ffers rest to weary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omforts those who sit in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aint, it strength imp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lds with hope th’ eternal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6Z</dcterms:modified>
  <cp:revision>13</cp:revision>
  <dc:subject>Slavic hymnal Гимны веры христиан, hymn 563</dc:subject>
  <dc:title>An Open Bible for the World / Открытой Библией везде</dc:title>
</cp:coreProperties>
</file>