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45FC-DF9F-4EBE-9360-5E899B58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353E-DF2E-49FE-A213-2450294C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002D-E7DD-4ECD-A2FD-7EEF1E30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71E2-12E5-483B-B5FA-030AC5A4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8CA0-1FDF-4D4C-9F15-A09DF3A0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70B0-FB92-421D-BD0C-58DE618D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E719-520C-4194-9D4D-527EFA20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D9E3-225F-4C6E-AD75-0925436E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6847-B6A8-4306-B6D5-B2B85F50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C704-B0B2-4D03-B1A8-236084CE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9C80-02B6-427B-9114-5A71CE1A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8B3F-666D-4078-8BD3-EDADF9F6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215C0-FB0D-44F9-876B-719E3302C8E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я для Иисуса я жизнь позн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я молюся, Он всё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отдаюсь Царю царе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уть, путь добра для душ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вя для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ой и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отд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 меня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господ бо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тремлюсь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миг принадл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лишь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я для Иисуса, Кто вместо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крестом на плечах на Голгофу шё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познаю, и молюсь не р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сердце моём был Ему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ой и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отд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 меня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господ бо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тремлюсь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миг принадл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лишь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я для Иисуса, среди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быть смирённым Его слу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рно нести крест тяжёлый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адать под гнётом земных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ой и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отд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 меня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господ бо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тремлюсь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миг принадл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лишь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я для Иисуса в наш краткий 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делать хочу, что любил Он С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ть одиноких, больных, кал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изнурённых к Его но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ой и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отд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 меня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господ бо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тремлюсь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миг принадл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лишь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2:21Z</dcterms:modified>
  <cp:revision>12</cp:revision>
  <dc:subject>Slavic hymnal Гимны веры христиан, hymn 845</dc:subject>
  <dc:title>Живя для Иисуса</dc:title>
</cp:coreProperties>
</file>