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CBC-E744-4E0B-8C5E-BC5005A5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5EA-F8BF-48BE-926C-3DA27A6E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9BC-8B4A-4961-970C-B44B7654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923-D446-4686-8E0A-C4992E10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167-4935-496B-9350-70786145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171-26B6-4554-B720-28BCF74F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C4F-6ADF-4A00-832E-857AC3E0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944-DF4D-4682-95E3-A93EACAB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EE7-789D-4438-AA55-4FD39E4F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E5C-661F-417B-A506-0E123311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F48-6BB1-412B-9717-E7846CA4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7EB-2EB9-40F6-9C24-5E30484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DFB12-5112-4028-A98F-121E8AF403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е дни наше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жие силы весны мла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святим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ар для Него дорогой (навсег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быть нам при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исус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земной, необъя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Христу посвятить (навсег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учшие дни наше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, как Он приз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посвященья для нас н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мы больше не мо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дь нам жизнь даровал (даров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однимем ж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менем чудны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горае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енной крови Христа (Хри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о им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ойдём на борьбу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сячи гибнут в поро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благой мы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 ним пойдё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постигнут го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за Христа не страш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ной песней хва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долеем врага (победи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19Z</dcterms:modified>
  <cp:revision>12</cp:revision>
  <dc:subject>Slavic hymnal Гимны веры христиан, hymn 554</dc:subject>
  <dc:title>Лучшие дни нашей жизни</dc:title>
</cp:coreProperties>
</file>