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F1DF-8D43-4A1B-9E37-45CC7211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32D-1EEC-4B4D-ADCB-5D3155AD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6CCD-AC2F-4F9B-8D3A-95C337F5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34D-84CA-4741-A4CD-E25C61D8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170-0B9F-4C54-A965-8CE3A122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E42-3DD2-4C43-ADCA-50249701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625-AA67-44EB-ADDF-34D62A7C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70C-90FC-4AFB-9A5F-D4D3119B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9C96-4C29-4C56-9AAB-37FEE3D6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6682-0FFC-4448-9552-7B23F1AC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7413-6449-4EE9-AF86-0B23508D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EBC-17D8-498C-ABCE-3543298C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38DFF-9D5A-4834-A439-EFF96AB71B2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ay not be on the mountain’s he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over the stormy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ay not be at the battle’s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ord will have need of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ть может, не на верши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, не на вершину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дальний путь чрез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бой опасный, лицом к вра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ёшь Ты, Господь,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if by a still, small voice He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aths I do not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answer, dear Lord, with m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You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here You want me to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сли Ты тихо призов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чуждую мне троп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чу, Господь, руку взяв Тв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 я пой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here You want me to go, dea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mountain, or plain, or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ay what You want me to say, dea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what You want me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 я пойду!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,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 то я скажу.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м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haps today there are lov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Jesus would have me spea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ay be now, in the paths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wand’rer whom I should 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 хочет слова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чрез меня 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ную душу с пути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к Себе при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, if You will be my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dark and rugged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voice shall echo the message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ay what You want me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веди лишь Ты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корбь, тесноту и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сть я ту чудную повторю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 то я ска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here You want me to go, dea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mountain, or plain, or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ay what You want me to say, dea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what You want me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 я пойду!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,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 то я скажу.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м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surely somewhere a lowly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arth’s harvest fields so w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 may labour through life’s short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, the Cruc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тся где нибудь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енное мест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есть работа мне для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пятого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, trusting my all unto Your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You always love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do Your will with a heart sinc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what You want me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оте Твоей предав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Ты любишь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сердцем служить буду я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м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here You want me to go, dea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mountain, or plain, or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ay what You want me to say, dea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what You want me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 я пойду!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,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 то я скажу.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м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04Z</dcterms:modified>
  <cp:revision>13</cp:revision>
  <dc:subject>Slavic hymnal Гимны веры христиан, hymn 556</dc:subject>
  <dc:title>It May Not Be On the Mountain’s Height (I’ll Go Where You Want Me to Go) / Быть может, не на вершину гор</dc:title>
</cp:coreProperties>
</file>