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EE4D-F826-495F-A260-6B11B882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8E51-AF84-402F-9B60-2796C294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9723-3851-49D6-B572-D4594F75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7CF9-EE59-478B-9306-CD75E221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31D0-DBC1-4574-A9C2-0554BC4B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51A3-653A-4071-9A05-4788EBDB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0096-48F2-4E8E-9BA4-468CF56F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E562-0282-4B85-9C12-8C7B8339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55EF-45E1-400C-86FA-CB769AED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57B5-7342-4590-87E3-D8B0059F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05B0-3409-4F72-873C-3E917881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AE66-6413-4FE7-B404-586C0A7F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C442D-2B94-4A5B-A638-A2169BE8525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стил! Да, Он прос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грешение Пет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мертный грех Он не вме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еченье у кос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ангелы,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хоры Божьих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н простил! Да, Он прост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прельщённый суе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тив Господа греш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ришёл к Нему с моль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сподь меня про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ангелы,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хоры Божьих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каянья смолкнул сто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милован, прощ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мой палач — зак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уше царит Си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ангелы,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хоры Божьих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у грозного меч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у призрака с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ия све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жена Им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ангелы,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хоры Божьих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стил! Да, Он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т запада вос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души Он уда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окров небес об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ангелы,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хоры Божьих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5:29Z</dcterms:modified>
  <cp:revision>12</cp:revision>
  <dc:subject>Slavic hymnal Гимны веры христиан, hymn 606</dc:subject>
  <dc:title>Он простил! Да, Он простил</dc:title>
</cp:coreProperties>
</file>