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B11-038E-45DE-A15F-974C52DA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06C-6040-4A41-BFB3-0172F59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94C-4718-4FA9-9FC4-9E5267CE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EA5-4CB9-43A4-9359-4CBBC4C7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671-1717-4006-AC88-7643C779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59E-7BBA-4514-AC0E-30E90A0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F42-F453-4382-9BAC-3FF5CCEE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4A2-74AB-43F7-94FF-5A3FDD9F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D24-1A5F-48B3-9A99-4E940034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447-FE74-4D91-83C6-DF84A6E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663-05E8-4910-9897-0811AAC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402-048C-4569-B49C-C103E37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BA94-2D85-48A8-8603-FB278CBB9F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heaven was filled with His prai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sin was as black as could 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came forth to be born of a virg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welt among men, my Example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d Him up Calvary’s mount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nailed Him to die 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uffering anguish, despised and rejec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ing our sins, my Redeeme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ft Him alone in the gar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 rested, from suffering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came down o’er His tomb to keep vig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pe of the hopeless, my Saviou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grave could conceal Him no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tone rolled away from the do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 arose, over death He had conquer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is ascended, my Lord ever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trumpet will sound for His co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kies with His glory will s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day, my beloved ones brin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ous Saviour, this Jesus i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24Z</dcterms:modified>
  <cp:revision>13</cp:revision>
  <dc:subject>Slavic hymnal Гимны веры христиан, hymn 836</dc:subject>
  <dc:title>One Day / Некогда с неба</dc:title>
</cp:coreProperties>
</file>