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3FB0-032A-40B3-AED7-FEE43037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E475-BE01-49E2-BEFF-99D5F38C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26A4-40F4-4A3B-8FC5-D1B18450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14C3-8651-4D52-8C6F-3A7911B9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8853-3C41-4412-8935-8994521B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8EF3-F34E-4B23-8D6E-BF075976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EA48-CBCA-4A84-8412-9F19DD75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49DA-3032-4C97-B8F5-4E6469FF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6059-64AE-4575-964D-348EF6F5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9AFB-09CA-4D24-B68A-05C09B5A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25CF-1CF1-4244-84D4-54D5765F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7077-2D15-444A-B306-E77EF489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03756-CE9D-4100-8A2A-A4E486B5963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over of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will never let You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ve taken me from the miry c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ve set my feet upon the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w I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You, I nee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my world will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never let You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, my closest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worship You until the very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9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Lover of My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1:20Z</dcterms:modified>
  <cp:revision>10</cp:revision>
  <dc:subject>The Source, song number 290</dc:subject>
  <dc:title>Jesus, Lover of My Soul</dc:title>
</cp:coreProperties>
</file>