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3</a:t>
            </a:r>
            <a:r>
              <a:rPr b="1" lang="ru-RU" sz="3600" spc="-1" strike="noStrike">
                <a:solidFill>
                  <a:srgbClr val="ffffff"/>
                </a:solidFill>
                <a:latin typeface="Verdana"/>
              </a:rPr>
              <a:t>	</a:t>
            </a:r>
            <a:r>
              <a:rPr b="1" lang="ru-RU" sz="3600" spc="-1" strike="noStrike">
                <a:solidFill>
                  <a:srgbClr val="ffffff"/>
                </a:solidFill>
                <a:latin typeface="Verdana"/>
              </a:rPr>
              <a:t>Да будет Отцу Всеблагому</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 будет Отц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благому хвал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я любовь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смерти спасл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паситель! да буде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честь вове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Тебе избавл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челове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г сил! будь прославле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Духе Свят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едёт к небесам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мудрым пут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вове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честь и сла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с нами! Амин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2:23:25Z</dcterms:modified>
  <cp:revision>4</cp:revision>
  <dc:subject>Slavic hymnal Гимны веры христиан, hymn 93</dc:subject>
  <dc:title>Да будет Отцу Всеблагому хвала</dc:title>
</cp:coreProperties>
</file>