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D4E-471F-46DA-8AFE-AE4FA987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758-A5AA-4453-961D-832EC58E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81C-2FFD-40EE-B4DA-86BFE2F6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9A5-A82C-4C63-9F84-EEB60E95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321-4113-41A2-972E-EC81343B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C0A-237D-4266-A808-A438EE06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DB4-7F7B-4C39-8F40-FB0B1B62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A8C-01BF-41DA-A6F8-DBB40DEF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4F8-CF14-4089-AB98-39D6B5EC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63B-DFDE-493B-8BFA-DBBE355C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D20-262F-4AAD-B3A9-F044E16E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2DF-1E68-42BC-889C-D24DC08E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FEC67-B289-4CAD-88D2-0CF248432D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вми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кров Свою пр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ажданням на хре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Я відкуп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від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від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0   За тебе Я вмир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 землі прож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корботах та жур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и у небі 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щастя дать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ість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ість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бо залиш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ю Я зійш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грішних полю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ти тебе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Я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Я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уми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корбному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бі Я волю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ї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страждав, страж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яка де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страждав, страж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яка де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 дорог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у життя від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Він ― Спаситель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хвалу склад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― Пастир і Любов,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гріх тві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― Пастир і Любов,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гріх тві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2:16Z</dcterms:modified>
  <cp:revision>14</cp:revision>
  <dc:subject>Slavic hymnal Гимны веры христиан, Ukrainian hymn 30</dc:subject>
  <dc:title>За тебе Я вмирав</dc:title>
</cp:coreProperties>
</file>