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008-3603-401C-B8B1-C6A9E2C6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1C1-9D5E-4E27-8964-EEAB563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C46-032D-416D-9AFE-383F3F36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73E-2D5C-4AF1-849B-23F1A7FB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7A2-CC04-4D60-B9F3-CF4471CC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A45-59AD-4516-80A5-01D736FA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70A-F908-4324-897F-D652A54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B1B-5A34-42A4-847D-C841336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BD8-B9B2-41BA-A34E-5D102BC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0A5-BBBA-4328-8751-2F3B849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94A-0029-4FB0-9DA4-4D757F3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734-6282-4211-BFC5-14CB74A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975C7-2090-44B8-BB56-40F498A90B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mortal, invi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nly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ght inacces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 from our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blessed, most gl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ighty,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name we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resting, unh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lent a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ting, nor wa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lest in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justice, lik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soaring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louds, which are f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goodness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, life Thou g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oth great and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life Thou l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e life of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lossom and flour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eaves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er and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aught chang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Father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Father of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ngel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veiling their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we would r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elp us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only the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light hid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6:27Z</dcterms:modified>
  <cp:revision>12</cp:revision>
  <dc:subject>Slavic hymnal Гимны веры христиан, hymn 878</dc:subject>
  <dc:title>Immortal, Invisible, God Only Wise / Бессмертный, Незримый</dc:title>
</cp:coreProperties>
</file>