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C7A-5B7A-43E3-9353-0DD492B0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5EC-CBA4-48B9-B3A1-C7C94164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722-B1E5-4C55-A4A8-C7DCEAC1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613-BCF3-4101-A704-DE6ED646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644-E322-4F3B-88B5-ACA93BE1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6AE-5EB5-43C2-A8D5-252100CC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063-CAE1-47D7-93FF-5BDDBC1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E24-4189-4AD9-AF01-CF7A869C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7C8-62CF-4CF0-AC09-BA6B88E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897-1D2B-4389-946C-1364CEF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005-B2D9-4845-9590-D839E4D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2F3-37CF-4800-B92A-0BBCB5B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62D3-3E80-468C-BDF9-95BF8C7806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and pick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ving hope of grace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fe transform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ing me, You heal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 from sin and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ught me life, You made m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Rescu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d me before I kne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ew me for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created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bought me, and You s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poured ou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reation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You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57Z</dcterms:modified>
  <cp:revision>9</cp:revision>
  <dc:subject>The Source, song number 605</dc:subject>
  <dc:title>You Rescued Me</dc:title>
</cp:coreProperties>
</file>