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4CDF3-184B-4015-8E2F-2ED2A4D70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F4744-23EB-4377-8750-27D13F270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383CF-F905-4B8C-A666-7FEF25CCE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BD208-ED89-4D0D-81A6-61E6425D2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9128C-A8ED-426F-AF38-E9615AE44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24477-8469-44FD-B788-8692581F7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8DA89-DEFD-41C1-A465-AD6BDC48A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C1201-CB41-4204-95C0-39AEC04DF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51510-64C6-4A57-88B5-F4A72DCA6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9040C-8FB8-45B8-A4FF-83F7D5DA2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0EAEE-D8EE-46EE-B396-4FB229E52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6FBA4-07B0-4BCE-B6EC-088352BA9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29D523-794D-4730-8097-3A34DC0EAED5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ow deep the Father’s love for 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ow vast beyond all measu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t He should give His only 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make a wretch His treas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ow great the pain of searing lo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Father turns His face aw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s wounds which mar the Chosen 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ring many sons to glo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185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How Deep the Father’s Lo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ehold the Man upon a cro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y sin upon His shoulder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shamed, I hear my mocking 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all out among the scoff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t was my sin that held Him t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Until it was accomplishe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is dying breath has brought me lif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know that it is finish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will not boast in anyth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No gifts, no pow’r, no wisdom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ut I will boast in Jesus Chris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is death and resurre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y should I gain from His rewar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cannot give an answ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ut this I know with all my hear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is wounds have paid my ranso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0-12-18T08:14:42Z</dcterms:modified>
  <cp:revision>10</cp:revision>
  <dc:subject>The Source, song number 185</dc:subject>
  <dc:title>How Deep the Father’s Love for Us</dc:title>
</cp:coreProperties>
</file>