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5</a:t>
            </a:r>
            <a:r>
              <a:rPr b="1" lang="ru-RU" sz="3600" spc="-1" strike="noStrike">
                <a:solidFill>
                  <a:srgbClr val="ffffff"/>
                </a:solidFill>
                <a:latin typeface="Verdana"/>
              </a:rPr>
              <a:t>	</a:t>
            </a:r>
            <a:r>
              <a:rPr b="1" lang="ru-RU" sz="3600" spc="-1" strike="noStrike">
                <a:solidFill>
                  <a:srgbClr val="ffffff"/>
                </a:solidFill>
                <a:latin typeface="Verdana"/>
              </a:rPr>
              <a:t>За тебя в Гефсиманьи</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За тебя в Гефсиманьи молился Христо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ебя был смертельно скорбью томи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ебя к беззаконным пошёл на допро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ебя на суде издевались над Ни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еспредельно любя, посвятил Он Себ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ебя, за тебя, за тебя!</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За тебя Непорочный терпел клев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ходился во власти безбожных люде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 Голгофе позорно прибит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отверженный умер как раб, как </a:t>
            </a:r>
            <a:r>
              <a:rPr b="0" lang="ru-RU" sz="3000" spc="-1" strike="noStrike">
                <a:solidFill>
                  <a:srgbClr val="ffffff"/>
                </a:solidFill>
                <a:latin typeface="Verdana"/>
              </a:rPr>
              <a:t>	</a:t>
            </a:r>
            <a:r>
              <a:rPr b="0" lang="ru-RU" sz="3000" spc="-1" strike="noStrike">
                <a:solidFill>
                  <a:srgbClr val="ffffff"/>
                </a:solidFill>
                <a:latin typeface="Verdana"/>
              </a:rPr>
              <a:t>злоде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заблудших скорбя, не щадил Он Себ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тебя, за тебя, за тебя!</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Для тебя Искупитель из гроба воскрес</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на небе пред Богом Ходатаем ста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с тобою везде: и в борьбе, и в труд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илу свыше и нужную мудрость дава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ходил Он страдать, чтоб жизн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вечную да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ля тебя, для тебя, для тебя!</a:t>
            </a:r>
            <a:endParaRPr b="0" lang="en-US" sz="30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1:02Z</dcterms:modified>
  <cp:revision>3</cp:revision>
  <dc:subject>Slavic hymnal Гимны веры христиан, hymn 265</dc:subject>
  <dc:title>За тебя в Гефсиманьи молился Христос</dc:title>
</cp:coreProperties>
</file>