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305-2057-4D75-82F4-CA57CDA6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171-F99D-4225-B12C-56985520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8D6-32F4-4CAD-ABCB-028A44BA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FE9-6BBD-428A-A178-F525369B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C98-2868-4F9B-BB9E-5D84A889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E43-FFE5-4A32-93F5-FA552A09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C20-37CA-42C6-B728-948AB31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965-42D4-4683-BBB7-A560E74C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314-ADC5-4832-B88A-BC27E09E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032-4946-451B-88E7-A95D6F1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652-A735-4F67-9F33-7B24B6D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60C-A297-4BCB-8657-D5B6100C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36A10-C392-481D-B2A3-FADC2759C2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ur confessio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very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are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we’ve noth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come to You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ay, “Help us alo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Our Confession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broken heart and a contrite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yet to de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rt of mercy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’s strong curr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river flow by Your Spiri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ies fall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mercies flow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mercies f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shower them dow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9Z</dcterms:modified>
  <cp:revision>10</cp:revision>
  <dc:subject>The Source, song number 248</dc:subject>
  <dc:title>It’s Our Confession, Lord (Sweet Mercies)</dc:title>
</cp:coreProperties>
</file>