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68</a:t>
            </a:r>
            <a:r>
              <a:rPr b="1" lang="ru-RU" sz="3600" spc="-1" strike="noStrike">
                <a:solidFill>
                  <a:srgbClr val="ffffff"/>
                </a:solidFill>
                <a:latin typeface="Verdana"/>
              </a:rPr>
              <a:t>	</a:t>
            </a:r>
            <a:r>
              <a:rPr b="1" lang="ru-RU" sz="3600" spc="-1" strike="noStrike">
                <a:solidFill>
                  <a:srgbClr val="ffffff"/>
                </a:solidFill>
                <a:latin typeface="Verdana"/>
              </a:rPr>
              <a:t>Мой дом и я служить хотим</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My house and I desire to ser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ear Lord, Christ Jesus, only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give me strength each day, I pr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follow You in what I do.</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Мой дом и я служить хот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Христос, лишь Одно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дай мне силы само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лушным быть рабом Твои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Oh, help me, Lord, in daily lif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be a helpful witness 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ose who live today with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m I must love so tenderly.</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 помоги в поступках вс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самому в пример для т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которыми я должен 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торых должен я люби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he thought is always on my mi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time my family should fi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build a temple in their heart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in it hide Your precious words.</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сегда лишь мыслью занят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я и вся моя сем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двигли в сердце нашем хр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им спасительным слова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I give as offering to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family and what I do.</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lease, hear my prayer, O Lord, tod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send Your blessing as we pray.</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Тебе, как жертву, отд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бя и всю мою сем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ь, Господь, мольбу 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лагодать излей Твою!</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4T06:09:54Z</dcterms:modified>
  <cp:revision>3</cp:revision>
  <dc:subject>Slavic hymnal Гимны веры христиан, hymn 168</dc:subject>
  <dc:title>My House and I Desire to Serve / Мой дом и я служить хотим</dc:title>
</cp:coreProperties>
</file>