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327-1AB3-4D9E-9F70-EEE13E04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E7F-4952-407F-87EC-406642D9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6E3-0481-4C5E-AC77-606131EC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9CF-4F27-4920-BF02-F35C4F7C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176-A88A-47D3-A7F0-4B03DA2E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AD0-04EE-4EB3-B9E6-E8A3946B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F99-89A4-4BF9-9E78-8E54B287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406-8ECA-45F5-B9CA-7F276BB8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BA0-0BDD-4DE6-923E-B79061F6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8F5-4DD7-4237-8318-8CB9D41F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ABF-A58C-44C2-9B06-D321AEFB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B9D-8631-4127-8C89-36034D6A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5C92E-3160-4108-B33F-6448448461C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те, люди, на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ныне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ведь скоро закрыться мож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об этом 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ирайте, люди, на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 Амоса звучат так я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написал на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ди горько стонать все бу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ой томим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Господню искать все бу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ущий ище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акроет от них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гут найти уж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дить все будут от моря к мо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ово Господне на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ны будут мученье,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сь уж не смогут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2:30Z</dcterms:modified>
  <cp:revision>13</cp:revision>
  <dc:subject>Slavic hymnal Гимны веры христиан, hymn 412</dc:subject>
  <dc:title>Взирайте, люди, на Слово Божье</dc:title>
</cp:coreProperties>
</file>