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44F-4A3F-40BB-A4E8-2940854F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FFB-4B6D-4682-93B7-FF04D0F0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428-8508-497E-AD9A-A14A8DB8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303-2334-4E9A-8E12-9EF4C463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C74-E854-45B5-82B8-F488681F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8E5-657E-44EE-82A7-9AE0136C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B12-8127-4174-80AD-963CDF22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2DB-C024-423F-9065-9F5EDE4C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783-02C0-486B-A07D-3FB37D38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6C9-5567-4CC4-8237-AA15B0F5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265-CDD2-4091-B3E3-E5E76AEE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AB5-3666-4147-AC5A-76E42A08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3304E-0003-4A4D-AFAD-0604A7E6F2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решник! чтоб в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м мог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вечный жел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грех обли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не проти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дли при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ожет Дух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замол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решник! чтоб в серд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арства насле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грешных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ися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иром ц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я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огорч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же да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л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храм опоро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 крас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тарь же Госпо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ыпан зо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вновь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бе зажиг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ьше уж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угаш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6:55Z</dcterms:modified>
  <cp:revision>12</cp:revision>
  <dc:subject>Slavic hymnal Гимны веры христиан, hymn 306</dc:subject>
  <dc:title>О грешник! чтоб в сердце</dc:title>
</cp:coreProperties>
</file>