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DD1-E60B-4B6B-8484-2D5BAB10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5E-0711-403E-B812-6065E57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489-F37B-402B-9941-38BFA69C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113-AF9C-4A2A-9E86-D6ABA5D2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511-452E-48C9-B19E-D26BDD4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DEC-371E-464A-968A-DBCEF7A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6AD-E10E-4C43-B16B-04F347E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653-BABC-4BF4-84DD-FE1581CB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23E-F8B8-4E53-B750-9CF5066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F21-F559-4C93-9C39-A889031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B82-FA4A-4C9F-893E-01708C7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C7C-956B-49DC-9F80-3E350D2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F91F2-E99F-46B6-99A6-4176F2346F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01Z</dcterms:modified>
  <cp:revision>12</cp:revision>
  <dc:subject>Slavic hymnal Гимны веры христиан, Ukrainian hymn 69</dc:subject>
  <dc:title>Як скоро дні біжать вперед</dc:title>
</cp:coreProperties>
</file>