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D47B-F2A9-445D-879F-EA69DBC1C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5576-B071-485C-802B-AC364F21A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E607-BF06-4EEF-BDD5-AB1FBE544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C9A4-857B-4AB2-9442-7116A7B38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A04B-5FA1-4019-B417-1263A4889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A346-95AF-4EC6-BD42-2AB428670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75E5-2949-4803-9160-D0004B2DB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96D0-0518-4538-AE9A-E1375C021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0DED-34A1-4885-BFD5-0F14007C6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F813-3E3A-43A4-8EDE-D49D577FF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8B27-FC95-47F9-AAED-E220A7BAB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D2C8-2901-4D97-98D3-80E2242D5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DFE43C-976C-4383-8776-72ACA7DD009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, приди, Еммануи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 от власти тёмных с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воле страждущий наро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терпит, молится и ж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! ликуй! Емману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ёт народ от вражьих с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8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риди, приди, Еммануил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, Господь, как на Сина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ё величье покаж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ю нам волю открыв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ердцах и мыслях напиш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! ликуй! Емману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ёт народ от вражьих с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, Жезл Иессея, внов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свободи греха раб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моря зла спаси люд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всех Дух истины изл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! ликуй! Емману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ёт народ от вражьих с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, Звезда, обрадуй н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близок, близок славный час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бавь от всяких бурь и бе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ьму прогони, пошли Твой св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! ликуй! Емману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ёт народ от вражьих с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, Давида Ключ свят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двери в Царствие откр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враг нам смертью не гроз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, приди, Еммануи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! ликуй! Емману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ёт народ от вражьих с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6T03:54:07Z</dcterms:modified>
  <cp:revision>12</cp:revision>
  <dc:subject>Slavic hymnal Гимны веры христиан, hymn 880</dc:subject>
  <dc:title>Приди, приди, Еммануил!</dc:title>
</cp:coreProperties>
</file>