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C71-EE01-4A61-9874-F2C57617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E2F-8734-4447-AAA7-C67516F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BE2-47D7-4742-8985-446437A2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D95-8708-452B-A8B9-8054ACBE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E4C-7719-4AF8-868E-4868223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E99-B5D3-4874-A878-3A405A6A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997-5404-4ED0-A8A0-6FFF3F17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9C6-D12C-489E-AC91-67891F62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2C8-DC28-469C-B2F1-0D7A5B31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32B-EBAB-470A-8ECE-5AB76F5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452-4A4F-4DAB-884D-FD6894C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A6B-33A8-41DD-9D29-98829CF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A396A-66E1-4811-8D1D-5DB1A46B50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fe and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d, Lord,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hands and let them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feet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and beautifu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voice and let me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ps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messages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silver and my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ove, my God, I p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y feet its treasur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self and I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5Z</dcterms:modified>
  <cp:revision>14</cp:revision>
  <dc:subject>Slavic hymnal Гимны веры христиан, hymn 437 (as amended)</dc:subject>
  <dc:title>Take My Life and Let It Be / Боже, жизнь возьми</dc:title>
</cp:coreProperties>
</file>