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278-8A69-477A-9B4A-7C2DCEB5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643-5BDE-4204-BD7E-26DDE7E1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574-594F-4230-B0A6-1B8F70FD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35E-128A-4845-BC2F-0277DC1C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B1D-BB6A-4577-9808-0AF1F38F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FEC-CB35-4B28-BE31-3C774E9B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1DF-8784-40CD-A3CF-312B3E34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E80-9285-4285-A21B-A00710B9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301-1278-4D94-A5BA-46F1DDB2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5EC-A3B5-403A-A0E1-D600BF3E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0BE-8BE2-4088-A42B-121F4C35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EB2-244E-4E79-B8D0-A6ECB133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6BA10-DFC2-4B42-981D-793FCD46B1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 is risen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s of men and angels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Господь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пришла с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 your joys and triumph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ye heav’ns, and earth, re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ь Всевышнего хва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небо и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s again our glorious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, O death, is now thy 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наш славный Царь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скажи, где твоё ж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ying once He all doth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y victory, O gr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Он, чтоб жизнь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 не страшен нам ни м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’s redeeming work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ught the fight, the battle w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подвиг совер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рагов унизил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in vain forbids Him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opened parad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Владыке не ме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крыл всем людя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ar we now where Christ has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our exalted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 крыльях мы ле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свыше, вслед за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like Him, like Him we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s the cross, the grave,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еть с Ним, с Ним 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терпеть, с Ним веч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5Z</dcterms:modified>
  <cp:revision>13</cp:revision>
  <dc:subject>Slavic hymnal Гимны веры христиан, hymn 291</dc:subject>
  <dc:title>Christ the Lord is Risen Today / Наш Господь Христос воскрес</dc:title>
</cp:coreProperties>
</file>