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5D5-9246-42BC-AC26-4B76EBB7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FB5-6771-41C1-A8C8-2064E3C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FBF-105F-4827-9BA8-98E0FFAB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AE4-B524-4DF5-BF80-5A6CA91E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08D-CE4D-4D87-B800-58CA51AB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E3C-482B-4FD7-8FCC-76AB0535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CB1-1064-4869-8873-D3DE2BE4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E68-3660-424B-B8C4-81E148CF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7BB-B5C0-4DF4-A5D2-EDC704AC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F6C-52B7-4F9A-95AB-FE9A35D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6CF-400C-4512-B0AB-BDF92CF2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445-8E6E-4D33-B06B-E538DBD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55E95-EA05-4541-A567-E4E699FCCC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 водах оке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ідний край небес плив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знуть бурі і тум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вічну ми вві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 водах оке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ідний край небес плив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знуть бурі і тум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вічну ми вві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9   Ми по водах оке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, скільки вже припл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их рід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йшли там спокій мил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уть ще інших моря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, скільки вже припл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их рід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йшли там спокій мил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уть ще інших моря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працюйте небага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е кінець журбі, сльо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бесні вдягнем ш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чна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працюйте небага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е кінець журбі, сльо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бесні вдягнем ш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чна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11Z</dcterms:modified>
  <cp:revision>13</cp:revision>
  <dc:subject>Slavic hymnal Гимны веры христиан, Ukrainian hymn 19</dc:subject>
  <dc:title>Ми по водах океану</dc:title>
</cp:coreProperties>
</file>