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5750-FB7D-4934-A515-9B1A8CF5D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4D66-6278-4D30-87FC-5A8EF293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A9C9-ED34-43CE-96A8-648001706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5D18-ABE3-46AA-880C-FA41D439D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7F12-2406-4F5B-BC1C-83901671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0AEB-5B3B-48A8-88DC-763A8FE3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9C1F-7F02-45A7-9F8C-418EB7EE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1B9C-9280-4545-8520-1AB82910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F234-0CA2-4CFD-98B3-99431365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FF14-13FE-4692-BED9-15CEED4D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E8CE-F106-48D6-961A-AF43F821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1420-CD04-4968-A70F-8BCA958E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14D442-5C4A-49EE-9F67-25ABC5D3E77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водам живым поспеш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ошей греха и заб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оду её погрузите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отраду на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ропись! Можно ли жд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но ль спасеньем души риско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и Господь простир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ого хочет при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5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 водам живым поспеш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водам живым поспеш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вы покрыты ви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ас омоет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облечёт белиз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ропись! Можно ли жд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но ль спасеньем души риско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и Господь простир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ого хочет при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с любви призыв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, покайся и в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ожью слову вним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ходит в отверстую дв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ропись! Можно ли жд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но ль спасеньем души риско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и Господь простир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ого хочет при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ды живые чуде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оживляют круго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раскается грешн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ликует о 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ропись! Можно ли жд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но ль спасеньем души риско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и Господь простир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ого хочет при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0:43Z</dcterms:modified>
  <cp:revision>12</cp:revision>
  <dc:subject>Slavic hymnal Гимны веры христиан, hymn 356</dc:subject>
  <dc:title>К водам живым поспешите</dc:title>
</cp:coreProperties>
</file>