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6BB9-7BC3-4804-9CCC-3088E652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4F28-37CA-43F5-B6AA-6942005F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E735-CAC6-42C6-81F1-FFAE3342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2DDD-3F5F-4060-9835-74ADC25C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07FA-0E21-484F-B08F-5A30E713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5844-CF0B-40F1-A0F8-58A28928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E77C-DA02-44F1-B16C-8ADF9F7E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8DA3-F1E2-43BE-8C4B-0CEA19B5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18D8-5C50-485A-8FE4-63AD3E66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C8E4-2E25-4451-BAEF-1F8388F4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DA32-8CDF-4D63-BA0A-DE41416E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331E-1866-48E2-A448-923E38F7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29710-AD3A-489A-B44B-7BA60D8754F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In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et us sing for joy to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et us sing for joy to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et us sing for joy to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et us sing for joy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et us sing for joy to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shout a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Rock of our salvation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71   Come, Let Us 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come before Him with thanksg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xtol Him with music and s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Lord, our Lord, is the great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reat King above all g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et us sing for joy to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shout a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Rock of our sal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bow before Him in our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kneel before God, our great K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He is our God and we are His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why we shout and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et us sing for joy to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shout a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Rock of our sal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6:32Z</dcterms:modified>
  <cp:revision>12</cp:revision>
  <dc:subject>The Source 3, song number 1171</dc:subject>
  <dc:title>Come, Let Us Sing</dc:title>
</cp:coreProperties>
</file>