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614-9FF6-418F-AF6E-C973FEF2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63E-66F6-40B7-AE69-98BA479A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3B0-DDCF-473B-8853-2500C919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865-B01F-4906-838F-FB83D90D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593-0C40-4FFC-A113-C7D65975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DE2-AD04-4433-85AC-955B6F7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A54-53EC-4F4E-B090-2A502164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A73-27A3-4835-8C97-27AB4DC2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A5B-93BA-40D5-AAEB-244AA09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A0E-4698-45B7-8A2C-BF833D1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626-01A4-4657-9143-6C345E6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3E3-A788-4ADD-9674-FDE9BF3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69DBA-AA22-4670-B176-6C8F3CEFA4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лько душ блужд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мрачных скал, средь тер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уть им дол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 блуж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м гроз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идут, не з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ерть кругом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сколько душ блуж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ртвы не стра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готов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х овец заблу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сп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казать пойдёт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равды, дом От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кто ут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е серд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стрече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кажешь: «Добры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ечка най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луши она блужд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учена в бе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зял её боль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у, бери к Себ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22Z</dcterms:modified>
  <cp:revision>12</cp:revision>
  <dc:subject>Slavic hymnal Гимны веры христиан, hymn 535</dc:subject>
  <dc:title>О, сколько душ блуждают</dc:title>
</cp:coreProperties>
</file>