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073-BD52-4A73-AF13-3D353BB7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B99-B7BC-4763-8EC3-2B9D7D0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12D-3C9C-4281-92C3-4F983E72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68E-2987-4276-A45A-E1159DA6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A9F-058B-4725-B847-BD449E50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993-28E7-47CD-B474-F0965DFF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04F-F491-4D0A-B9D3-896A36FD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95D-F26A-4FA8-8580-6D836AAE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E72-8C8A-4EC8-A14C-B181C7D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168-1C9A-4F53-99A3-2FB76E9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588-5522-4566-B736-5E6D766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451-B7F3-400D-B20D-A348887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0F888-4F87-4811-9734-0B8A8F7C7C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 wondrous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mercy and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ansions bright and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prepare for us a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walk the pilgrim path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uds will overspread the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ravelling days are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hadow, not a s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hen be true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, serv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ne glimpse of Him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e toils of life re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to the prize before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is beauty we’ll beh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pearly gates will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tread the street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38Z</dcterms:modified>
  <cp:revision>12</cp:revision>
  <dc:subject>Slavic hymnal Гимны веры христиан, hymn 889</dc:subject>
  <dc:title>When We All Get to Heaven / Пойте о любви Христовой</dc:title>
</cp:coreProperties>
</file>