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BB99-CECC-431D-84A6-7574B8DCA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A7F5-620C-4630-985C-2355C3683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4D43-1FD2-4422-9E98-614632146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D3E8-0F8D-4F75-A010-1BA819854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6A30-62A6-4AE6-A809-AB9535723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CE2F-3FB2-4D3F-B281-D01FEF3DA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A3F0-ABA8-4BDC-9A9E-46BB6A228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AC7B-2868-4BF3-ADE7-5F5D78C2E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50AD-3ED6-4518-A546-44BD3EB4E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6C53-3187-4928-BB40-D9DD780EC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F2BE-31EE-4459-AB5E-8169ED92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9760-FF30-42A0-871E-0936CACBE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BE361D-E2A0-426A-9B0B-D23F6C9A737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pressing on the upward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w heights I’m gaining every d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ill praying as I’m onward b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plant my feet on higher ground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5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тремлюсь вперё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емлюсь вперёд прямым пут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подвигаясь день за дн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юсь Тому, Кто жизнь да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Дай силы мне достичь высот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lift me up and let me 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faith on heaven’s tablel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higher plain than I have fou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plant my feet on higher gr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возьми, веди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тьмы ночной в сиянье д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близь меня к Своей гру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 высотах утвер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heart has no desire to st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doubts arise and fears dism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some may dwell where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b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prayer, my aim is higher gr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тесен мой земной при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мучит страх, сомненья жгу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скорбь близка, а грех гнет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я стремлюсь достичь выс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lift me up and let me 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faith on heaven’s tablel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higher plain than I have fou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plant my feet on higher gr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возьми, веди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тьмы ночной в сиянье д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близь меня к Своей гру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 высотах утвер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ant to live above the wor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Satan’s darts at me are hurl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faith has caught the joyful s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song of saints on higher gr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няться к небу я хоч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цепь тяжёлую влач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ерой слышу песни 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там поют на высо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lift me up and let me 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faith on heaven’s tablel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higher plain than I have fou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plant my feet on higher gr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возьми, веди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тьмы ночной в сиянье д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близь меня к Своей гру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 высотах утвер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ant to scale the utmost he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catch a gleam of glory br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still I’ll pray ’til heaven I’ve f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lead me on to higher ground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зам души моей откр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денья славы неземн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я вперёд, молюсь Христ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Господь, веди на высоту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lift me up and let me 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faith on heaven’s tablel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higher plain than I have fou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plant my feet on higher gr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возьми, веди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тьмы ночной в сиянье д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близь меня к Своей гру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 высотах утвер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1:08:19Z</dcterms:modified>
  <cp:revision>12</cp:revision>
  <dc:subject>Slavic hymnal Гимны веры христиан, hymn 853</dc:subject>
  <dc:title>Higher Ground (I’m Pressing On the Upward Way) / Стремлюсь вперёд</dc:title>
</cp:coreProperties>
</file>