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102-A3D8-4B60-A56F-6DA01C6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A1E-58A3-434C-93CA-A1AAE40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AD8-04C9-41B1-B004-2D9442DC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714-6F89-4400-9851-888D5812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9EE-CF4F-46A2-B49D-C2E59811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036-7CBB-4AB2-83B5-246D91CB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AEE-7287-4BF3-A604-888F9BDA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8CA-9F0A-415C-91DE-B73B604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5A5-2217-43D1-BE9A-F65C896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C2B-AC3B-4BCE-A193-99453CF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CA0-4FFC-49AF-98A6-CB3A835E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95C-FF5E-40B2-B374-D954586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5620-9284-4EAF-844E-28633B0B10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84   К Тебе, Господь, прихож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при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рность свою при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то Ты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ем Ты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ьму из жизни за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ом правды Своей вос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олезни мои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5:20Z</dcterms:modified>
  <cp:revision>11</cp:revision>
  <dc:subject>The Source 4, song number 1884 in Russian</dc:subject>
  <dc:title>К Тебе, Господь, прихожу (Я благодарю Тебя) / I Come Before You Today (Thank You, Lord)</dc:title>
</cp:coreProperties>
</file>