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CF0F-CAAC-4E90-BEE4-E83CE49E9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9B89-2901-4266-B5B6-366C5146E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E20A-DFEA-4846-950F-63693F90A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132F-A072-4D8E-8163-BE6EBDCF6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6D69-A573-4F90-83CA-1F7AAE560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2906-4B69-409C-B9B5-508A4ABD6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6AB4-0C21-4FF6-8E05-A515C6D0E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B0E0-985A-467E-94CE-25021D954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EABB-C410-4C6D-92B5-7BA91F829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91C7-713A-460E-8B63-858FF4AD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75E6-A5C7-4061-B8A7-67B1D0E4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EDC7-F677-4551-ACD4-DA6EABE9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BBBF9F-5646-4920-9F56-5BEF6AD1FD4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Never will I forget, nor forsake you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promise for you and for 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ugh the flood and the fire I w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more by your side I will b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0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оставлю Я ва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оставлю Я вас, не забуд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ворит Он и мне и теб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охраню и в пустыне безлюд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тяжёлой житейской борь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’Mid the trials of life that assail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n weakness you stand ’fore the fo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 strong to defend; I’ll not fail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defeat unto vict’ry you’ll go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гу одолеть все прегра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ой свыше в пути надел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минуты тяжёлой утр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ешенье и крепость пош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I’ll be watching in tenderness o’er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a mother does over her chil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walk your life’s pathway befor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ielding you when life’s tempests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d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лю Я вас, не забу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мать и отец, и друз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рекутся от вас и осудят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м другом для вас бу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Should your mother and father fors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ever be right at your sid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My haven of rest I will tak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My presence you’ll ever abid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целю воспалённые ра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рачую сердечный нед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строю разбитые пла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одрю обессилевший ду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I will comfort the heart that is lone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scatter the darkness of n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heart that has known trou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in Me find the source of deligh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итаю с заботою неж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учу ваши руки к тру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храню в этой жизни мятеж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ебесное царство вве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6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Never will I forget, nor forsake you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promise for you and for 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ugh the flood and the fire I w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more by your side I will b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лю Я вас, не забуду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мир вас отвергнет, то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ам — Отцом и хранителем бу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окинет вас милость Моя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2:44Z</dcterms:modified>
  <cp:revision>13</cp:revision>
  <dc:subject>Slavic hymnal Гимны веры христиан, hymn 708</dc:subject>
  <dc:title>Never Will I Forget / Не оставлю Я вас</dc:title>
</cp:coreProperties>
</file>