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831-B309-43E2-9262-2C34157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63A-5D30-4E0A-9D07-377EF88C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A0B-A36D-451D-8AB7-AE7E3442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043-6C8C-4981-9DF7-B87F440F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0F1-F369-43A8-8558-B57663A2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5A9-7C9F-4509-AD70-8BA1FA2E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FE0-5B4F-4FE0-9D90-CB16717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388-083D-4DFA-A8E9-F59B8AD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292-70BD-4895-B54D-B7AA665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674-4299-4309-8EDC-37ECE03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07C-1B59-4AC8-AEC3-E241A2E4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316-CD18-409A-B20B-BB94026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395DE-47AA-48FE-99A7-3A342CD40D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ing now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blood-ransomed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ul there is peace,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ickness there’s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overty,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orm and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uts in my hand vict’ry’s p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coming all f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 I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free from all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in the s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I know I’m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, and I st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blood with the si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dam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trength for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grace for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help by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healing and comforting b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8Z</dcterms:modified>
  <cp:revision>13</cp:revision>
  <dc:subject>Slavic hymnal Гимны веры христиан, hymn 420</dc:subject>
  <dc:title>I’m Redeemed / Я могу теперь петь</dc:title>
</cp:coreProperties>
</file>