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D13-E0E2-4264-932B-FD3CCBD6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008-FEE2-4C15-AC4B-26434591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188-58FD-4AE6-82CD-D91A085C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810-01B5-4108-A854-BE48E27A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658-CDF7-4D5F-BB57-EC4CC1DA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80B-AD19-402A-9F76-86BD36B4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F99-A2FE-4BC6-8B8B-17B2DBEA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5F0-6811-4DED-9D97-7EB60143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032-E3EF-4D8A-A12B-84055F4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BFB-3939-4D8E-993E-84527B48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A20-4E25-4D53-97FB-BDFA82A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4FA-0AB1-45D2-BAA5-83461E06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6AB4E-99CB-45F3-9324-44F6856F6A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а   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4:51Z</dcterms:modified>
  <cp:revision>13</cp:revision>
  <dc:subject>Slavic hymnal Гимны веры христиан, hymn 366 (as amended)</dc:subject>
  <dc:title>Не веди, друг, жизнь беспечно</dc:title>
</cp:coreProperties>
</file>