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5F0-3B3C-43F7-B37B-690D20E4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8F6-B020-4675-9BF3-8DFDB87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B7B-882A-463E-AD6E-891989D6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661-06CC-4A07-A7DF-2B0FBD0F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980-C75C-44FC-945F-778DA40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5B2-2FC2-4DD9-A74F-5F088506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A0C-FF83-4953-BB6F-D62D06A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184-A40D-4203-93CB-41E7C91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B07-B149-43CC-B65B-0E35BB0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F89-23C7-4B9A-BB1A-6C8A9CA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F8A-A476-4C06-9F8F-6EA04EA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686-109F-4C68-B6BD-65C401B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80865-15CB-45F1-BE9A-E7759A2C6C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ходи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мой Руко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Ты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 лицом Т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на Теб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жу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Тебя у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знать Тебя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радостно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ам Ты мне откро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шь меня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13Z</dcterms:modified>
  <cp:revision>12</cp:revision>
  <dc:subject>Slavic hymnal Гимны веры христиан, hymn 809</dc:subject>
  <dc:title>Пред лицом Твоим, Спаситель</dc:title>
</cp:coreProperties>
</file>