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884-1D90-4BEB-BBE4-54CCE68C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699-3029-47C1-8C67-66CAC0C2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EFB-0184-4711-A63F-3701B2AB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F7F-E66D-43AF-B2C6-8FFE350A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023-0B46-4E8A-A7C1-1EB37D99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4B8-740A-4A1A-95C3-F2EA3A1D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FE8-183D-4B2B-BF86-256C31A0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92F-21A8-4982-8257-3B59A143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5AE-8453-457A-A769-A1DAF7AA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882-2730-40B1-89AF-686D6B0C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838-E4D8-49ED-A52E-6FE9387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EC0-5E52-44D0-825C-1CBD14BA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83698-35FE-4010-802C-FB91BD8931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яті усі ж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окійн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чистії теч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6   Чи зустрінемось з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ор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вічне там 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там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істім світлі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ж нами і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в смертельний темний 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крови ці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 спасіння нам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будем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шлях наш ми про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стрінемось з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ворця ми рай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59Z</dcterms:modified>
  <cp:revision>12</cp:revision>
  <dc:subject>Slavic hymnal Гимны веры христиан, Ukrainian hymn 66</dc:subject>
  <dc:title>Чи зустрінемось з тобою</dc:title>
</cp:coreProperties>
</file>