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A05-6D4D-4293-9703-B34EF64B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ED5-697E-43FA-9F12-A0E82417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FF4-DFB7-4976-995B-D5BCC678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CEF-BC01-4625-9D37-C1B24AD1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2A8-9A1A-48B4-A05D-180B7647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B5F-DB07-42B0-A71E-35AE46F2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562-86DD-4456-B630-18531B92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B6C-4B9B-456E-AAE8-DB11D9D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FA6-7429-490E-BA00-3447A29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3C7-D5E3-4791-8421-4E07FF7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FC1-CCCB-458A-BAB7-6065495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2D4-8A8A-4166-9B19-F787E8B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E535D-1AFD-409E-BE00-2C641A5E35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Слова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славу Он даст нам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инуясь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ребудем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слушно с Ним хочет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нь ниспа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туч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улыбкой заставит пр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будет ни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еза на о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лишь в послушаньи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ремя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традае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янье не медлит прийт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утраты нам ж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 горесть,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мы в них можем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ю радость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всё нам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бя на алтарь прин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блаженство д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м, кто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быть и послушно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общеньи с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 ноги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союзе с Ним будем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скажет —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кажет — снес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, но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9:17Z</dcterms:modified>
  <cp:revision>12</cp:revision>
  <dc:subject>Slavic hymnal Гимны веры христиан, hymn 647</dc:subject>
  <dc:title>Когда мы со Христом</dc:title>
</cp:coreProperties>
</file>