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A15-06E8-4ECE-B8B6-F873768C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727-6CEE-45F5-A8F1-FBAB8C1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C6B-E2E3-4B45-979D-AAC5B14A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439-80FC-4A2C-9B50-579E874C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259-667E-4F36-B102-02A86E8E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CC3-E0E0-4818-A2E4-7C68872C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638-C25C-4960-B970-33174D14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95D-6D9A-4F0A-A3D8-23CA520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757-75E3-477E-ADC9-11DE1AE5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0FB-ED2B-4149-8DF2-72804E5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A61-6925-4D66-A9D0-3C7F1103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B0B-5A86-4B07-A2D3-893E669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4986-E1A3-459B-9257-667854F077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throne of Go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a strong, a perfect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 High Priest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ever lives and plead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graven on His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written on His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while in heav’n He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fore the Thron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Satan tempts me to desp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ells me of the guilt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ward I look and see Him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an end to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the sinless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ful soul is counte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the Just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im there! The risen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erfect, spotles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unchangeabl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glory and of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ith Himself I canno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purchased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hid with Christ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4-04-12T09:21:53Z</dcterms:modified>
  <cp:revision>12</cp:revision>
  <dc:subject>The Source 2, song number 643</dc:subject>
  <dc:title>Before the Throne of God Above</dc:title>
</cp:coreProperties>
</file>