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5</a:t>
            </a:r>
            <a:r>
              <a:rPr b="1" lang="ru-RU" sz="3600" spc="-1" strike="noStrike">
                <a:solidFill>
                  <a:srgbClr val="ffffff"/>
                </a:solidFill>
                <a:latin typeface="Verdana"/>
              </a:rPr>
              <a:t>	</a:t>
            </a:r>
            <a:r>
              <a:rPr b="1" lang="ru-RU" sz="3600" spc="-1" strike="noStrike">
                <a:solidFill>
                  <a:srgbClr val="ffffff"/>
                </a:solidFill>
                <a:latin typeface="Verdana"/>
              </a:rPr>
              <a:t>Труден путь невзгод</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руден путь невзгод,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слабее жизни н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дай жел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ебя мне дверь от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ни, как чёрные страниц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епки цепи су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умру в своей темни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ль меня отвергнешь Т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ердце просится на в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рько с нищенской су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мою украсит д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лько Ты,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смотри, как я стра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трашны мои вра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к Тебе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ходи и помоги.</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2:57Z</dcterms:modified>
  <cp:revision>3</cp:revision>
  <dc:subject>Slavic hymnal Гимны веры христиан, hymn 205</dc:subject>
  <dc:title>Труден путь невзгод, страданья</dc:title>
</cp:coreProperties>
</file>