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24E-DDEF-47DC-BFA6-193B3B76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F7D-E3DF-475F-8A8E-EF31313F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55D-AD21-4DA7-9CEB-2F68837C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BF2-5813-4D67-8B4D-0E1952EA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C17-073D-4480-A330-09220E48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675-9365-4CBC-8714-7238668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360-7BAC-4DF9-97F8-C8E5B748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59F-5A63-4D7E-A9CD-EBA99FF6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FD5-8F0D-4D99-BFD9-29E449B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D4D-7845-431E-B204-A91F11EF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A83-B9D1-4746-9A6E-01F99C7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3A0-A0D1-49D0-AE79-95B631CB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F988-B819-4301-99E1-7F2B273EB8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oubt not thy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has decl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remaineth no more to b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nce in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world He appea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pleted the work He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ake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Jesu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everlasting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 with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never cans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Jesus, thy righteousness,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ook, sinner,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nd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Who was nailed to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was H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earer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 Jesus thy guilt was not l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from His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d the sin-cleans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is dying thy debt has no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о твоё 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not thy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pentance or pray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blood, that atones for the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Him, then, who she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ayest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eight of iniquitie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0Z</dcterms:modified>
  <cp:revision>13</cp:revision>
  <dc:subject>Slavic hymnal Гимны веры христиан, hymn 360</dc:subject>
  <dc:title>There Is Life for a Look / Кто поднимет свой взор на Христа</dc:title>
</cp:coreProperties>
</file>