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332-EEA8-4970-B447-51A7BA03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2A0-9F66-4FF4-9DA6-5F4E22F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087-4CF7-4E3D-B0F7-EE3BA78E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44F-BF5E-43B1-B446-8ECA8D4A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C2B-7284-452C-B212-07C2F968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612-D530-4EB8-ACFC-0F1E8A9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242-478A-4A2F-A39F-E8F67FAD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BC5-0373-416D-B0F0-1D6CF70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B94-DCF7-4DF3-9D62-10863721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CC0-2805-402F-B86D-E54EE91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617-81FF-4126-A250-2BD42FF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172-3662-4D0F-94B3-355FC60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F48FB-827F-454E-9534-4E2D0A0ABC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a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and holy, tried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e a living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08Z</dcterms:modified>
  <cp:revision>11</cp:revision>
  <dc:subject>The Source, song number 334</dc:subject>
  <dc:title>Lord, Prepare Me (Sanctuary)</dc:title>
</cp:coreProperties>
</file>