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19C-6B0D-47AF-8F1C-5EAE62F6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D8A-FDFB-43C2-9C2E-ED1D87D4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2D4-E132-4953-B828-4A57C5A4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626-7E3C-40B0-B4E3-7455EC76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F95-C9A5-4F64-A105-3A24EF64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3DB-9331-4524-B802-72FD1338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A4C-7B14-4DDF-BDDC-6584D6E7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D0D-D540-48AE-B66A-A599CA14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688-F5B2-4FDC-B1E5-F152D22E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A74-8869-4B39-B8BC-2D42E7B6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019-108E-4CC7-B801-4D8B2AA9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A02-7A84-488F-B87F-6629D793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FCEF6-0717-4B18-BA66-BB1F303F7E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, радость непрест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ам ведёт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на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анит от бед и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й внемлет Он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пойдё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льнуть к рука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 бременем сур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пасть нам без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ры, жизнь даю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, как солнце, в нас г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грешных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благ Он н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04Z</dcterms:modified>
  <cp:revision>12</cp:revision>
  <dc:subject>Slavic hymnal Гимны веры христиан, hymn 567</dc:subject>
  <dc:title>Радость, радость непрестанно</dc:title>
</cp:coreProperties>
</file>