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1B4-A161-4A41-B3D5-900C77AD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75E-B73D-4531-904F-2E9F1D51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167-269F-4345-9E32-E2CDE95D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E33-41FD-4A03-BFDA-6E9C9744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B70-6261-469D-9FB7-46F680B5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588-FFE9-4AD4-9705-4E140D4E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F5E-5B03-4F14-B838-A388694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95E-25D7-4592-93E8-2CB8E5CB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88B-2B0D-4E65-9DA6-5F0AC5E6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5CA-D378-4AE8-84FE-F25463B4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972-7BCD-4C33-960C-D98B344A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D70-A351-49B3-95F0-0F0C4CE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D8846-1536-4A60-91E6-2D5C45053A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меня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без страха и сты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чтоб меня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б меня Он ни пов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нимать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чтоб Он меня держ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приблизить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е страшусь я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испытаний, н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во славе зреть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45Z</dcterms:modified>
  <cp:revision>13</cp:revision>
  <dc:subject>Slavic hymnal Гимны веры христиан, hymn 513</dc:subject>
  <dc:title>Куда б меня Он ни повёл</dc:title>
</cp:coreProperties>
</file>