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D9D-ED0A-4C17-A684-F7472022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3BC-7EC6-49FA-AF86-BB5D256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76F-8BED-46B2-9CC4-361FEF44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788-48FF-4B4B-A1A1-67AEBD85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9C9-64D4-4C17-8E6F-A9E4C01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A26-C9B1-40EE-9860-7C2C1E5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10C-90C7-4C02-A8EB-303E003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C04-CBB7-447B-9B34-064F3675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0CB-136C-4082-BF1B-115B5E7E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E40-BE39-4CAF-A32E-D3AB8E3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488-5102-4F61-81F0-D9EF67F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B66-3FB1-407E-9FD9-E4C30AB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BBF2D-76FC-4C17-B198-EE38D42021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jesty, Worship His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04Z</dcterms:modified>
  <cp:revision>12</cp:revision>
  <dc:subject>The Source, song number 346</dc:subject>
  <dc:title>Majesty, Worship His Majesty</dc:title>
</cp:coreProperties>
</file>