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FFA-1172-4550-AE36-A3BEF22F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4A7-5FFE-413B-B0A5-E2492A31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38E-3892-4B1C-AA2B-39B3FE54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348-A2F3-4436-8343-0AE046F5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2D3-D810-44E4-8C27-730BC587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6F1-7634-4095-9E80-94828E6F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CA7-3128-4BA1-8F53-0E11C5D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837-ECEE-4C92-90D1-1DF667A9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2B7-5241-4F14-8534-AE1C5141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B9B-9C8A-4BD8-8AFD-184CD7A3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6F7-58D5-4074-AE95-A2AF35B1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FFD-9142-414C-9392-5E939F3C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D9587-2E64-4341-8CC2-BB6947C40A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 дрогнет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если даже и будет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страшись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 по тропинке с тобою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сь мир побе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тебе ведь Он даро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ты так слаб и без с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на пороге неведо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пает силу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, что даром дарит нам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то течёт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деждой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Бог любовь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38Z</dcterms:modified>
  <cp:revision>12</cp:revision>
  <dc:subject>Slavic hymnal Гимны веры христиан, hymn 719</dc:subject>
  <dc:title>Пусть на пороге неведомых дней</dc:title>
</cp:coreProperties>
</file>