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EDEF-2C3A-47DC-8CEB-CE1F1367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DE48-D3CD-41AF-B575-3CDE8861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8D08-9B86-4EC9-AD02-215FB866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B308-6723-46DE-99E0-4B7E3F4B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DD17-1C79-4F31-8215-969858E6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AC35-DBFE-4534-A426-86961093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A830-69ED-4060-ABF9-E98D2DB5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0BD2-F07D-4A12-9959-5B75A957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80F9-A08E-4CB6-B80F-E2D48C9D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7A02-52BA-437C-8FB5-944D01B6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B6D2-6369-4F77-B0A6-C73995A8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F405-B279-4C27-ACE2-F61BC61C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3B61F-4AD6-4674-9DDA-A1D93BC016A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a water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o one drop of 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a mountain tow’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 single grain of s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the blazing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o a candle fl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a thousand years to on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God and we are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960   Like a Waterf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yond sight, beyond m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yond sense, space and ti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st beautiful mystery of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God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gels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st beautiful myste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ee times holy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, whose name 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st beautiful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tride among the st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ll them each by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 the galax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e only dust upon the sc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the world was for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even day or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e angels s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pure de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ere there and we were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yond sight, beyond m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yond sense, space and ti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st beautiful mystery of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God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gels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st beautiful myste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ee times holy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, whose name 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st beautiful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God, my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ost beautiful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God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gels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st beautiful myste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ee times holy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, whose name 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st beautiful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7:47Z</dcterms:modified>
  <cp:revision>12</cp:revision>
  <dc:subject>The Source 4, song number 1960</dc:subject>
  <dc:title>Like a Waterfall (Beautiful Mystery)</dc:title>
</cp:coreProperties>
</file>