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DF2-E436-4423-8412-BF6E1705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D38-5004-4B04-83E2-D8074191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5D1-01E7-4F1A-9113-C3EC014E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00E-CCBC-491F-BA70-D21599B6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4EC-25E9-403B-96AE-CD46EFF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A04-692E-485C-A0C1-9074319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335-99C9-4C78-ACB0-07056BF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6A3-2945-497E-85B6-3C80F58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CFA-075D-4437-AE9B-C23E0F84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B67-9049-4EA6-8975-54E3D84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228-06EE-4762-B635-0ADF65C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82B-3245-41E5-BFAB-8897BC9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9EE2-4E8E-4F4A-A0C1-16742ECE71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ібрання закін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одому йде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чого ми науч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ерця візьм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9   Ми зібрання закінч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ож будемо ми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учитися тут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житт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сть Бог жити, ми зійде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з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будень, чи в неділ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31Z</dcterms:modified>
  <cp:revision>12</cp:revision>
  <dc:subject>Slavic hymnal Гимны веры христиан, Ukrainian hymn 89</dc:subject>
  <dc:title>Ми зібрання закінчили</dc:title>
</cp:coreProperties>
</file>