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AC7-C894-4857-8FD0-A9A21B30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AE8-8D52-4E5C-9D85-425E4477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458-32D6-4189-B20B-1B2441C5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FC7-EA7D-4B68-B6E9-4115F3F4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D77-D4E6-4035-A4DC-7BFDDCCC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5F9-BA4D-4E30-A4E6-5566BAE0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56F-6E1D-42E2-B6A5-F60760F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074-A03A-41DD-AB27-86E2D49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FFD-39E5-4B3A-A153-C4E59393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699-2287-4482-8B56-D8AD132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761-B4AC-4AD0-A10C-42BCDA18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CC9-275D-4DD4-9F79-51AB65E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88375-1F35-426E-A691-6EC31B538E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лежит мой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моим Спасителем хра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азал: не бросит Он меня од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злом поддержит Он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лежит мой дол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жою долины смертн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невзгод и немощей навек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астыря мне щит от зла да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буду горечь смертных с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увижу славу утренних лу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Иорданских я примкну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им я в немощ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ой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 за Ним, пусть Он идёт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глу долин меня Он про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у я в край, где не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47Z</dcterms:modified>
  <cp:revision>12</cp:revision>
  <dc:subject>Slavic hymnal Гимны веры христиан, hymn 503</dc:subject>
  <dc:title>Путь лежит мой долиной смертной тени</dc:title>
</cp:coreProperties>
</file>