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9C0-404A-456D-A158-0FEC854A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AFF-CE34-4B1E-8D1F-3C7AF756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A44-DF2E-46AE-BC30-65612088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FAA-74AF-4EB2-8E6C-DC378145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D62-E24E-48F0-B120-1E1FB3FE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BFA-F102-448E-97EB-A150F8F5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6D7-93BF-469F-A9DC-BA721CB5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30B-F9EB-4EC8-AC55-2256D2A3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743-9179-4927-8117-A05B769A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076-6355-4626-B4CE-E1CAD441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549-AFA3-462F-AEC9-9122C163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D52-9F44-4F4A-9152-AAE81503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98B28-CFCA-4342-9F92-46C6F9E7EE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! слушай ухом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звучит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, любящий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емной стучит прохож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зовёт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, Агнец Бож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! слушай ухом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елье сердца сокр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греха ц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йдёт Он и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в ней заблест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чь любви Его по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ток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стук тот разда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и же сердца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танет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ный пир веч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 твор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слушай голос ди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н главу скло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олкнет звук призыв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ть пройдёт; тогда, ры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 склон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в дверь стучать ты 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ывать тогда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шь ты несчаст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ойди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0:25Z</dcterms:modified>
  <cp:revision>12</cp:revision>
  <dc:subject>Slavic hymnal Гимны веры христиан, hymn 337</dc:subject>
  <dc:title>Грешник! слушай ухом веры</dc:title>
</cp:coreProperties>
</file>