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FBA-C2E3-42E9-94F2-6D1EE7CD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446-49F4-4702-BB8E-FF460373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110-BB80-4E02-A2C6-AAA6A099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7D9-9E6B-4CD4-8B00-3E42BA16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C1C-115B-4B58-9BB3-96460597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26D-6AA5-41A5-97CE-5183BBCD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F91-A7E2-489C-9CE8-84D3266C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700-B163-43CF-A782-41958B38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74D-2415-46A3-979B-9A39AC8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B71-1834-4D3B-A628-340BF83F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01F-993D-4ED0-B64C-DB65F0C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D1A-C3CF-4847-AAA6-D153DA9D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F8D29-C5F7-4EFC-AAE8-B919501827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 к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сь исстрадался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к одиноким,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льше не верит в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шли нас, о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ихой, смиренно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душам усталым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искупил Ты их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ую весть при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ем, что жизнь нам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олько, как школа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-то… страна уж 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ьем навеки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радостной, светлой ул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вободно вздох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ь по поверхности з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уже поплы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54Z</dcterms:modified>
  <cp:revision>12</cp:revision>
  <dc:subject>Slavic hymnal Гимны веры христиан, hymn 537</dc:subject>
  <dc:title>Пошли нас, о, Боже, к забытым</dc:title>
</cp:coreProperties>
</file>