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3</a:t>
            </a:r>
            <a:r>
              <a:rPr b="1" lang="ru-RU" sz="3600" spc="-1" strike="noStrike">
                <a:solidFill>
                  <a:srgbClr val="ffffff"/>
                </a:solidFill>
                <a:latin typeface="Verdana"/>
              </a:rPr>
              <a:t>	</a:t>
            </a:r>
            <a:r>
              <a:rPr b="1" lang="ru-RU" sz="3600" spc="-1" strike="noStrike">
                <a:solidFill>
                  <a:srgbClr val="ffffff"/>
                </a:solidFill>
                <a:latin typeface="Verdana"/>
              </a:rPr>
              <a:t>О как блажен, как счастлив</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как блажен, как счастлив 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 Спаситель м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тово место для мен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ране небес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 мирским богатством несравн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город золо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вечно буду жить я с Н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жалкий прах земн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дь мир — не родина мо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шлец я на земл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небе только дома 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лаженной сторон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ет ночи в той стране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еркнет солнца св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се сердца звучат хвал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плача больше н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братья, сёстры, радость н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на и в мире с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видим свет, что светит т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да мы все при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Агнца! За мен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л на Голгофе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минь.</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0:35:08Z</dcterms:modified>
  <cp:revision>4</cp:revision>
  <dc:subject>Slavic hymnal Гимны веры христиан, hymn 103</dc:subject>
  <dc:title>О как блажен, как счастлив я</dc:title>
</cp:coreProperties>
</file>