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35F-C6C3-4E82-BBC2-DE610F05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3EDB-E0F2-4D33-887F-FA9E4F7B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91D2-38B3-4E7B-BE59-E71AC4A3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BE64-441B-4880-BBA6-4808A24C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BA5-5D92-4EC6-AE00-2B8A5172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A67-EEC2-4196-BBB0-59D710B4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F294-2AB7-4AD6-9651-06098436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8117-8DAA-4D0F-95DE-120D8265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986-95FE-4BF0-936E-C1F3E8D0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454-AE41-4553-A86D-02F14AE5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C31F-18A4-4B6F-98E1-836D77BC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08A-16D5-449F-B60E-C7F45533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905D6-FF79-4C4E-B578-6DECBFBA78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 смелей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разум, волю, сердце,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осв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же вз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братства смело возвещ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 силы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церковь мир гля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труд ей предст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место в ней займ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подвиг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иди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озни, хитрости вр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мы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3:25Z</dcterms:modified>
  <cp:revision>12</cp:revision>
  <dc:subject>Slavic hymnal Гимны веры христиан, hymn 524</dc:subject>
  <dc:title>Воспрянь, Христов народ!</dc:title>
</cp:coreProperties>
</file>