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E27-ABD6-48B3-B764-6B8B3474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553-1311-452D-88F8-8006386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AC6-2C55-484B-8A30-4E74B30F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5B6-724E-43A5-8E57-3E17245C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D50-2B8F-4AB8-8F91-B80675DF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8AC-AA1E-42C3-82D4-4E12FE3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B4A-D4BD-4ECC-8B24-4F5D3189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1F5-A6AD-428E-BE20-72874F13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D3F-652B-4BD9-95F0-5965219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5D1-D52F-48E1-874E-D640A5B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27C-ED2B-410B-AAE8-D5F5AE3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87B-806F-4F99-ACA2-F549E05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2F308-CD07-4E73-85BC-36DE8023A4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   Ныне есть тот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, будем радос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ы в нём,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что Господь 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8:12Z</dcterms:modified>
  <cp:revision>10</cp:revision>
  <dc:subject>The Source, song number 517 in Russian</dc:subject>
  <dc:title>This is the Day / Ныне есть тот день</dc:title>
</cp:coreProperties>
</file>