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892-8DCD-41BD-9D4C-6499FE22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05A-BC02-438A-A2D4-1F336430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62F-8B85-41A5-99C7-DC945C30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396-43CE-475F-82DD-7CC93758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1A8-A06F-4CD5-A8E8-DC18005C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80B-F513-4169-9C18-66C84673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66E-1379-4631-943F-9767FB0C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3B0-292C-4C74-9036-C112CE66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C26-C849-48DB-BD49-7C7916B8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753-2550-46B1-929D-D530317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9FD-2AC4-4CA8-97D7-C124E08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565-216C-4460-AEFF-09F1E7E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DC43D-80BB-4F5E-8D06-BE61E92156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 Божь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и в глубин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е солнышка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на светящая в ноч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ренья Божьи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ветер, дух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а вблизи, вд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тра, вершины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койный вечер, звёздный хор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уг, кормилица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а, луга, сады, пол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прекра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щедрой осенью плоды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 чутко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я всем, одной семьё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ий,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Христу ярмо забо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, пред своим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те ниц и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Бог живо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ославлен! Будь прославл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4:28Z</dcterms:modified>
  <cp:revision>12</cp:revision>
  <dc:subject>Slavic hymnal Гимны веры христиан, hymn 871</dc:subject>
  <dc:title>Творенья Божьи на земле</dc:title>
</cp:coreProperties>
</file>