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B9D-C332-4A73-B1A6-06FC0D72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9ED-AEE0-407D-9188-27E717C5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DA5-61C8-4F86-86E3-1A19C645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E8C-1E9E-4A9B-9D54-C264C187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D66-CD29-4A42-BB2F-27949F54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8EE-7452-42A2-922D-52A10F57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3CE-2E32-435D-9081-B59046F7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464-3712-4A23-B190-69C52C94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58E-7490-4AFF-B949-F28D53B2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25E-EA87-4804-8B8B-85EF8CAA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CCA-87E1-4011-8224-E5B739B5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8E3-F54C-46D6-910D-24CA71E1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5C396-5B3F-4768-9DC2-26399C02A1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, мир Он всем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с Богом прими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вознес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ангелами съеди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ли ради нас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ей небо и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и ангельской вн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Христа — наш дол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 — Пред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концу веков рож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речистой Девы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плоти Сам Бог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 взяв раба, с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людьми благов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Эмману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ю мира всех при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правды Ты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ля нас принёс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целенью всех воск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оставил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упразднил держа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чтоб нас под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жденье свыше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5:22Z</dcterms:modified>
  <cp:revision>15</cp:revision>
  <dc:subject>Slavic hymnal Гимны веры христиан, hymn 227</dc:subject>
  <dc:title>Вести ангельской внемли</dc:title>
</cp:coreProperties>
</file>