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8A82-A5C7-44C7-A280-69D582A6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104-6FA9-4813-8D68-609172F2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667E-D1D1-4ABE-8FEA-C7CC5DD7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5EFD-5ACE-40CF-BDCB-CB1A8F72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4364-ABC6-4639-8DBE-30F8B715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DAB0-A051-4B41-8C5A-4D7D6AFA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5563-D2CC-4DD8-9F55-6E73DEAF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FFF3-9EFD-4868-B0D3-BCAF2720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54A-0CE8-4C86-9563-65870881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E970-EB87-45FE-BB9E-083B38BA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226-9787-4023-8403-37D6425F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BECA-C63C-4180-94F0-DCCC052C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8BE87-45A6-4C57-9D26-4E746C90319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путь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ир его не зн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путь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ибели в грех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ко спасе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ех есть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аженных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путь спасе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друзья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комые, р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друг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астники в грех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тверг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ни узн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и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лся я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этот уз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скорби и стра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в об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я в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 за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нуту восх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облаках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2:16Z</dcterms:modified>
  <cp:revision>12</cp:revision>
  <dc:subject>Slavic hymnal Гимны веры христиан, hymn 349</dc:subject>
  <dc:title>Есть путь спасенья</dc:title>
</cp:coreProperties>
</file>