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B78-5480-49D5-A238-F06BB603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B87-DC4D-4199-BB0E-479B74CB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FDF-65F3-436A-9773-A66B82B8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C73-D2A1-47FE-80B9-E08506E4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858-272B-48FD-B0E8-0B5DB517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E4F-DCBD-4C25-B28D-E4A84C72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854-8C88-4169-9B0D-DE209767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CDF-D403-4431-B11B-44A0F932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112-7709-481E-AAB1-6EE40517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10C-7B0E-4D05-BFAD-FC295261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F2A-657A-4E1B-8732-1D664967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710-3CAA-4BA3-9848-190E907D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3D34D-9C4F-4FCF-8FB2-DF5B529BBA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диний лікар є для на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аскавий наш Спас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анами Своїми с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вірних ― наш Зб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4   Єдиний лікар є для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сі гріхи мої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Лікар, мій 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ім Отця мені відкрив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наш Примир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агну щиро все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, мій Відкуп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є ім’я люблю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двічний Цар,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уг невиліковний тв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ізціляє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могутність зрозумі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ірним помага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мо, браття, всі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 Його безмірн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лавить серце 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ню милість див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3:49Z</dcterms:modified>
  <cp:revision>12</cp:revision>
  <dc:subject>Slavic hymnal Гимны веры христиан, Ukrainian hymn 74</dc:subject>
  <dc:title>Єдиний лікар є для нас</dc:title>
</cp:coreProperties>
</file>