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C63-C2FA-4F5F-A08E-43D5C32A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1D1-2EDB-4DCE-A479-54F91834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4B7-7341-475F-9F2C-A8497B7A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AC8-11A1-4D83-B801-98566BDF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DA4-7975-463F-88C5-C5CF09F7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9F5-C883-4290-B6B9-3E171A93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86A-62F6-4D12-AF56-74D25C4D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3CE-1998-4CC6-8A26-37DD1E2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08E-6193-4A92-8E36-72A1DB31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B63-74B7-4313-9BB0-D1E576F9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3F3-5C52-4582-BC11-9BFF710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065-EB07-4D09-BDB1-FACD6FF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1BC44-71E5-4F22-BC7C-3887979F78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0Z</dcterms:modified>
  <cp:revision>16</cp:revision>
  <dc:subject>Slavic hymnal Гимны веры христиан, hymn 338 (as amended)</dc:subject>
  <dc:title>I Will Arise and Go to Jesus (Come, Ye Sinners, Poor and Needy) / Грешники, к Христу придите</dc:title>
</cp:coreProperties>
</file>