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060-082A-42FB-8BC5-89A66222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9F8-40CE-45B4-AC9B-3D27DB18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8AC-221D-425D-85E8-C2F2B747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191-A0D0-4CCF-AD83-52468701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06E-1C5C-4F39-AE42-EB39F9F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F57-80A7-4F0E-B767-63FD6F83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82C-0859-4D4C-9285-FB461DEE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F6B-F600-4E83-A6CB-84CD6A3D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050-0A75-41FD-A928-E90CB00A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451-89F1-4D07-9E6E-B0FA469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E07-2F4E-451C-B9AD-6CA5163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5F4-DB50-44F7-B35A-A3E31EA9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874A4-8773-41F2-8619-3340A4A452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хранил от юных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и в наступивши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их бедствий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, вблизи, мы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лишь благостью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сылаешь снег и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леб насущный нам да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ошлое благода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то пред нами — знаеш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гаем всё к ногам Т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ы, планы и ме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дачах, в счастье иль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по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ешь Ты в сты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, кто льнёт к Тебе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12Z</dcterms:modified>
  <cp:revision>12</cp:revision>
  <dc:subject>Slavic hymnal Гимны веры христиан, hymn 731</dc:subject>
  <dc:title>Великий Бог, рукой Своей</dc:title>
</cp:coreProperties>
</file>