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312E-BA9E-4508-9DF9-327769AA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9C4-45F6-46F5-A645-7421C45C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C3D-1E3E-4683-9942-A6967E00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6C1-7930-4132-88A6-6257D166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FB6-A93B-439F-BE3F-513FD661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CAC-7EB5-4F9C-AF61-A99062E5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D1AD-EEEE-4DDE-8F62-15E94E96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8A3A-3F53-41D3-9783-367837C0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CD3-048F-4B27-ABE0-803C8695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E948-A8FB-41BF-AC72-84231196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05E-D630-404B-A9A9-C9199664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083-90AF-4492-AB38-9C89DDC1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E1E74-3340-44F9-8779-C7E9D40737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Пилатом Иисус сто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и оставлен, презрён, изб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! вопрос роковой зву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то сделаешь с Иисусо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еред Пилатом Иисус сто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судом Он стоит ещё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за Кого ты признал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защищать горяч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руки мыть, как Пил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согласишься с Христом стра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ыться нельзя, Бог велит реш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рекись же, как Пётр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 пугает тебя вра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согласись жить с Христом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 мой Господь, отдаю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ль, в скорби люби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ё счастье и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сделаю с Иисусо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3:14Z</dcterms:modified>
  <cp:revision>12</cp:revision>
  <dc:subject>Slavic hymnal Гимны веры христиан, hymn 408</dc:subject>
  <dc:title>Перед Пилатом Иисус стоит</dc:title>
</cp:coreProperties>
</file>