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7FB1-975F-4317-82F4-44B5B3BB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8D6D-00E4-4ACF-ADCB-277914F9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BC96-52C5-4603-A51D-E0A3135B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1E29-6E71-4BF2-B0AD-DDE758C01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9632-3EAD-4BBB-86FB-440B62B7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8376-04D9-40EA-8996-21C10960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2573-4B66-4C17-AEA8-23479837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43CF-982E-4460-A1F4-B4C1D1BC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4A9E-40B3-41B6-BDF2-36CA72F4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5A57-797B-4F90-B71F-64B30A0C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8DEB-BA37-41F4-8915-71852781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F2BF-C795-45D9-BAE3-E8F5E93F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D0F4A-D30A-4BCB-958B-E3CD29E35AB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wn life’s dark vale we wa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atch and wait and wo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небес Своих лазур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ес Своих лазур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пящих нас, а бод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Он на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ll know what griefs oppress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is arms will rest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нимет наше б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о блаженства в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joy His loved ones br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praise through heaven r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радости да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небо «Аллилуйя!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beauty bright and v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glory, grand, et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вся обнов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крас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ой озар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let my lamp be b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m my soul be y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ильники горя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ших ру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и ожид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ших сердц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joy His loved ones br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praise through heaven r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радости да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небо «Аллилуйя!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beauty bright and v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glory, grand, et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вся обнов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крас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ой озар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more heart pangs nor sa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peace and joy and gla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удем дни нен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нет мир и счаст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doubts and fears will vanis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gloom His face will banis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чезнут все сомн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ёзы, и том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joy His loved ones br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praise through heaven r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радости да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небо «Аллилуйя!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beauty bright and v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glory, grand, et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вся обнов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крас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ой озар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ll know the way was dr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ll know the feet grew w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нает как ус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редко отдых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крест нес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31Z</dcterms:modified>
  <cp:revision>13</cp:revision>
  <dc:subject>Slavic hymnal Гимны веры христиан, hymn 324</dc:subject>
  <dc:title>When Jesus Comes (Down Life’s Dark Vale We Wander) / С небес Своих лазурных</dc:title>
</cp:coreProperties>
</file>