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972-7B73-45C5-9B93-999F7E7D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B0B-1332-411C-B783-88436FB2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348-AB08-4CD7-AE97-B10D9669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76E-174B-4097-B7BD-D2637F7C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E40-E998-407F-8FCF-8CAD9069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DB0-8CBD-4AC6-AE34-90B08D7E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A77-98CB-4BF3-BC30-8F6E87C4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B4E-5563-4FA3-8C0F-93BD1E6A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153-CF45-42B0-9426-24F0317B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78C-9A20-41E1-89A1-01699AC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096-C214-478E-86BD-5C183669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274-5303-43FB-904A-CF4C52F7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4207C-63D9-4B0E-99D8-5FD20216F0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a Child of hope is b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a Son is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 shall the tribes of earth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, all the hosts of Heav’n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ладенца дал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дал нам вечный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ын дан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свято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менах 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shall be the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more ador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ful, the Counsell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and mighty Lor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ог крепкий и Твор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елый на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ник, вечности О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ый в род и ро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’r, increasing, still shall sp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ign no end sha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ice shall guard His thr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abound below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Он укре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а мира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Он правдой у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Свой и завет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0:37Z</dcterms:modified>
  <cp:revision>14</cp:revision>
  <dc:subject>Slavic hymnal Гимны веры христиан, hymn 235</dc:subject>
  <dc:title>To Us a Child of Hope is Born / Младенца дал нам вечный Бог</dc:title>
</cp:coreProperties>
</file>