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EAC-AC18-4427-A199-66C31EC4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9D9-8751-499E-841A-F3A2A3A4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12A-D32A-4434-9621-B6361FAA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542-A2BA-4F60-A9E8-CC497D5C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041-1468-430A-A6EF-E983C9F9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7F9-EE9E-48BF-A0A3-DCBD4F5D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93C-1CC5-43D2-AF19-0BD1D620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9D4-DA8D-4AED-8159-B98D7D5E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BB9-53A9-4103-AF34-7FAF91AE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2DC-8FB6-429C-B88C-7F77900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8C2-858E-47C0-8B3A-B6F12DD0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49A-490C-4C2C-B226-CD238F4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DCCAC-BB46-4B29-A8F9-4EE3EBF9A2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hite-robed angels 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y a friend is gathered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fear and toil and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мыслить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нгелы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ркой снежной бел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y Redeemer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rapturous songs of triumph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ndless, joyous st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г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аше лилий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 радости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ints’ eternal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palms and robes and c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’er f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our joys ar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утник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вши кровь в святой вой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побед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romised land so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my raptured spirit 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orever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сле битвы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вход свободный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7:20Z</dcterms:modified>
  <cp:revision>12</cp:revision>
  <dc:subject>Slavic hymnal Гимны веры христиан, hymn 816</dc:subject>
  <dc:title>The Heavenly Land / Люблю я мыслить о стране</dc:title>
</cp:coreProperties>
</file>