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7DB8-F3CE-4E17-A560-AB03FF7D9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15C9-241F-4C15-ACD2-EB6920AF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4062-E9E2-44D9-AA61-117F5E851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6404-A125-4DEB-B9D2-3A20B44E7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86DA-2C8E-401A-89B0-B63E2F4D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B305-F7F4-453D-8C3B-5647C19C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EF82-A4CB-4F71-8279-18DE5FCB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DB56-28A9-4095-AE51-32BA6C5B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13DD-BAEE-4543-A558-BF35F092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3E2B-B494-462E-91BB-EA1D7659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5EAC-CEE8-4706-9410-ED1B5E80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B385-F976-469C-99F0-141DEF7A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56400-4D0D-45C4-AA00-DC9C975C1DA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, Almight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, O Prince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s what I love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give You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 are my righte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, Almight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7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Worship You, Almighty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11-23T10:08:38Z</dcterms:modified>
  <cp:revision>11</cp:revision>
  <dc:subject>The Source, song number 271</dc:subject>
  <dc:title>I Worship You, Almighty God</dc:title>
</cp:coreProperties>
</file>