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77A-BF91-4480-A723-0EDCCAC6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8B8-853F-4F8C-ABA7-ADAA64AB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C5F-04D9-47E4-B1D5-681B3BB7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CB9-38E6-4511-BD0F-3FF9E05C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3D1-B1FC-4B35-8CA2-3982E8D8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DF2-FF7F-4466-A06E-D30C370B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126-1586-4FBF-9AB4-1C446F7F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7D5-5851-45C6-ABA1-EF4AB5FB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2CD-7229-44AD-B5FD-FB49BD52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868-EF78-435E-B198-52C3A65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CA1-FA86-4F5A-8596-9B9549F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ECB-2FC4-421C-9A39-B2701FA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59B76-FB0F-4AF0-AEDA-2499F43988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! о ди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в первы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й моей в завет в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сердца под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ивный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шёл в долин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пр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Он руку, я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увидел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любовь Его вос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жизни радостной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счастье,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 душу мн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ил я в люб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омыт крови стру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кавшей некогда с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4:16Z</dcterms:modified>
  <cp:revision>13</cp:revision>
  <dc:subject>Slavic hymnal Гимны веры христиан, hymn 721</dc:subject>
  <dc:title>О дивный день! о дивный час</dc:title>
</cp:coreProperties>
</file>