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E1E-6CA6-4C3F-BF0A-8755F743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4FE-3646-420B-86B0-DAC13BE8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FB8-AD82-4307-A1D4-F07D2E4C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062-583C-49C5-B286-0052BA3C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BCA-0334-4D63-A4DF-12A67218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C7B-5225-4FE7-8E60-517F38F9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A8B-171B-4F3E-A5E0-72C01795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FCB-C1FA-4597-B19C-7284B1B3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2B6-C79C-457C-97E2-FBA1A021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F16-AB5F-4D18-8308-7C6C6EB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534-6AC0-41C8-9910-50AFB689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96B-42FC-4A39-87AE-49F59B62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6C218-D991-49BE-B80B-B92C4426CD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grace and suff’ring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shown m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judgement You rece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ve w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’ve w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35   At the Foot of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can trade these 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 am made compl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given m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eath You bo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ve w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’ve w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can trade these 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ade these ashes 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34Z</dcterms:modified>
  <cp:revision>12</cp:revision>
  <dc:subject>The Source 3, song number 1135</dc:subject>
  <dc:title>At the Foot of the Cross (Ashes to Beauty)</dc:title>
</cp:coreProperties>
</file>