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4BE-DF39-4D16-93C8-4986A085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5CC-6BE7-4630-872B-1C1969CC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BC4-0452-4361-8CF5-81CDFC2F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A18-2B59-4EDE-A2CC-ECB680B7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AA1-FC63-4D19-9A1A-6A43B4DD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523-C400-45CC-A9F1-08588596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F9A-94D5-4FDE-B89E-1E784A63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B51-0AC6-4C59-93AA-DEFC0A76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D37-AB11-4D7A-A304-FEFAD90E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F92-7F83-4664-9B67-BB0BBDF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37D-80FD-4AF3-A843-84D42D2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F66-7F58-4B11-B487-7C8D1731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4F2C0-F905-4CA3-A800-1A489C943D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ad that once was cr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crowned with glory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oyal diadem ad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ighty victor’s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 глав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есть и власть Ему вруч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ghest place that Heav’n aff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ongs to Him by 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’s eternal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Ему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мы святых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Господь госп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а в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joy of all who dwell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joy of all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He manifests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nts His Name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частья —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дал любви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m the cross with all its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its grace, is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name an everlasting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joy the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рест нести им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авит скорби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мя славное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радость н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uffer with their Lord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ign with Him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profit and their joy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ystery of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страдают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ть на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познают они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вен Он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He bore is life and h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hame and death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eople’s hope, His people’s w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everlasting t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,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нял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надежду для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и в небо в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7Z</dcterms:modified>
  <cp:revision>13</cp:revision>
  <dc:subject>Slavic hymnal Гимны веры христиан, hymn 436</dc:subject>
  <dc:title>The Head That Once Was Crowned With Thorns / Венец терновый возложил</dc:title>
</cp:coreProperties>
</file>