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509-8368-4B2A-95D8-A1913369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176-B50B-4D67-BAAD-3B611339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BBBC-E76A-49D2-A3DC-716F90DD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CC1-10E9-434C-BD7D-67267CA4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83D-4E9C-47F0-A2A8-E44643D4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794-C562-4E24-93DC-41835CC7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E0B-4C65-4D0C-8086-7179BAFA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51D-5D02-4DBC-8BC6-7781AC1E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416-18E6-4E97-9604-1A3150A5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8BC-0F01-4B80-B633-4B616FED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339-C34E-476D-81DE-0392D674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EB5-EB72-475F-AECC-B291D634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EF0FF-45DB-4E8A-A729-8A852F7D6F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! I am resting, 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joy of what Thou 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inding out th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y loving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bid me gaze upo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beauty fills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, by Thy transforming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64   Jesus! I Am 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great Thy loving-kin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aster, broader tha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marvellous Thy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vished all on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rest in Thee, Be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what wealth of grace is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Thy certainty of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made it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mply trusting The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hold Thee as Thou 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love so pure, so chang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its deepest long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ets, supplies its every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sseth me round with bless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e is love inde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lift Thy face up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work and wait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ing ’neath Thy smil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th’s dark shadows fl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ness of my Father’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nshine of my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eep me ever trusting, res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with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57Z</dcterms:modified>
  <cp:revision>13</cp:revision>
  <dc:subject>The Source 3, song number 1364</dc:subject>
  <dc:title>Jesus! I Am Resting, Resting</dc:title>
</cp:coreProperties>
</file>