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E54-AFE6-41C2-A56C-2E56EA9D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AF3-CFC0-4AA8-B8C8-D32ECEB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F1F-A462-43FA-877A-3CD15840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C43-307E-4F97-B856-134F55DB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474-6694-4281-913B-4919B7BE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13A-6304-4ED7-B1F5-065DAB5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FE9-8B54-48F8-9AB7-96CD3BF9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FB5-D2E8-46AF-815C-8D28DF6C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0A4-806A-434F-8065-DD7A57D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AFE-7FC0-40CC-9CA6-3410A73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31D-D2CB-49ED-8531-198A925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646-7390-442A-9C3E-B11FA00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AC5D4-5C0A-4E6F-A4D3-981CBD95D0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кол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18Z</dcterms:modified>
  <cp:revision>12</cp:revision>
  <dc:subject>Slavic hymnal Гимны веры христиан, Ukrainian hymn 75</dc:subject>
  <dc:title>Precious Moments We Share / Дорогії хвилини Господь нам послав</dc:title>
</cp:coreProperties>
</file>