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356-36C5-455E-8A98-A513E154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388-034E-4A58-BE1A-0EF8CA5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F68-50C4-449F-8A4E-844EDD10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5E6-6989-4748-B8A0-E975A612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E3B-A128-4E0D-AE0A-D8A9830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AEA-F777-4B05-AC34-073C2F8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BD5-1E10-4AEB-918F-78C7131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AF6-8F60-4137-8957-096D45CB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277-B88A-4B5B-BAE8-EA8FB666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89D-1509-40F8-AC53-545ACDFD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07E-D399-4F5E-B5A2-0F2F19D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6CB-2BE4-4F0E-85AF-4098452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C6E63-3262-4111-8D5F-7A8122C811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жити раді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но, раді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веде в небесн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світли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3   З Ісусом жити раді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д смерти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в,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ловом правди відр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відрод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Духа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ослав,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ом Він мене хре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ожи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Бог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,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адість ту вели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лість ві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сім серцем я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,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своє я від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я від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9-22T21:54:31Z</dcterms:modified>
  <cp:revision>13</cp:revision>
  <dc:subject>Slavic hymnal Гимны веры христиан, Ukrainian hymn 23</dc:subject>
  <dc:title>З Ісусом жити радісно!</dc:title>
</cp:coreProperties>
</file>