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4C8-F076-469D-9E1B-ED0517C0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824-4892-44BA-97CE-035D5BA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7B5-8447-4528-B93D-F23F1174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10C-F146-487C-B1BC-F18057B2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7A6-5AF3-4F25-BF31-1EB9CA0D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C34-0EF1-448E-99FB-A2666EA1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613-2B25-44AE-B514-B11B3F73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E2F-95E8-4102-BFEA-B0080133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0FE-A644-483D-8A21-7DE0F3E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590-4967-42CF-8CB0-20A6B47B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20A-3030-487F-93CE-25342ED6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0C8-326C-4ED4-9A53-F79634B2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3A6E2-B807-4E1E-9840-DF972B13E6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in His palace so fa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tells of its bl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yon heave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children in splendour sha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двластен Хри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овеки жить буду 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ебес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души показ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теперь Его Духом во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loves me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is mercy and kindness so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unceasingly 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soever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Refuge unfailing is 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еня возлюб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зобильи Он всё мне да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полняет нуж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б я в мире не ж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мой щит от врага и з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promise is 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e all shall be gathered at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is kingd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life’s waters so p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is life with its trials is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но слово 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Своих Он в свой час забер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бес вы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дом Отца Сво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 шумом земное прой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6T21:34:39Z</dcterms:modified>
  <cp:revision>14</cp:revision>
  <dc:subject>Slavic hymnal Гимны веры христиан, hymn 598</dc:subject>
  <dc:title>I Belong to the King / Я подвластен Христу</dc:title>
</cp:coreProperties>
</file>