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AE7-6C8E-44BA-946F-280FB2EA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894-D68A-4EE9-8232-7C37464D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4A0-CA16-44F0-A310-CD5BC942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095-11DF-4DF3-9A75-86BA0A12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C5D-B1D3-4929-A03D-D63A2C54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8C2-84D0-482E-A219-11DE7218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B63-9B8D-436F-9ACE-F826E4DD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033-FABE-4B80-8B52-530B6FEE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E3F-1763-49EA-BE88-49DCF39F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C5D-8C35-4D25-A6A3-4C3A2D28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800-864A-4605-87E6-DE2A7768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6D6-A99D-4E03-A997-2CDC76DD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53BAC-F673-48E3-B0E3-B89F154D66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веки жить буду 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бес кра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и по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перь Его Духом во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двластен Хри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зобильи Он всё мне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 я в мире не 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щит от враг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слово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оих Он в свой час забер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 вы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Отца С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 шумом земное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2:52Z</dcterms:modified>
  <cp:revision>12</cp:revision>
  <dc:subject>Slavic hymnal Гимны веры христиан, hymn 598</dc:subject>
  <dc:title>Я подвластен Христу</dc:title>
</cp:coreProperties>
</file>