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050-CEDD-44A8-B11F-46DE04A0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30B-AD2F-4D44-9B5C-8C50217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A29-4A1F-4F6C-8A21-CFBB084F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216-AF0B-471E-8C58-1C4B40F9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BD7-3C9E-46CD-86ED-85AF3558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95-6DB6-44F4-8F8A-29B3B47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1F8-A219-450C-818C-97F1247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4D2-C5BA-4504-B4E1-C1810823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66A-9D81-4963-BDBE-66A15CE0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EFA-312B-4633-9FF4-A4DEBED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8DD-287E-4F3B-BC72-774B0E8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F3F-EA1D-4786-AB01-C4FAD9F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2A325-F348-45DD-9682-BCA7649429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это слово мне м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 оно ласки,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 на руках нас но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храняла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ты пере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горя с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ы берегла и хран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орога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ама, это слово мне м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любит, жа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к сам не ценит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нежно леле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а ты только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ко Христу возно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помогала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 болезни взрост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нет подобной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часто дети не це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олне всю забот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у, доброту они гу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у не жалею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, поздно будет у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и терзаться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Ваша кратка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гостя с кос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10Z</dcterms:modified>
  <cp:revision>12</cp:revision>
  <dc:subject>Slavic hymnal Гимны веры христиан, hymn 815</dc:subject>
  <dc:title>Мама, это слово мне мило</dc:title>
</cp:coreProperties>
</file>