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4C0-817F-4BD6-9C0D-BE82CA1A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5EE-D3A1-4B29-AB1A-72904A4B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E23-5D04-4B48-9078-30FF46BA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B52-11F6-4956-A081-A0597D92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307-AC8C-4CEB-B50E-6B41377A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0DE-E0EB-495E-B057-11F3F66F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933-1248-424D-BCB5-7B689364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F10-9087-4317-A7BD-51C91D9C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DFA-F3B7-4C7C-80D2-CDF698DC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71C-4D9D-4426-93AA-BD46D490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430-3EE4-410E-B1DF-53CE07A7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682-34CB-4A00-A500-EF6FB008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1B8E3-90F1-42F7-B963-F38A4F473D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труб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святих згромади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прозірною рікою, як кришт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весільну, там веч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ере Ісус на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6   В день, коли тр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бавлення звістить труб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вістить всім ангел Бо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нема вже більш ча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будем підхоплені у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ас всіх Ісус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дягне в славу нас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бавлення звістить труб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, що тайне і зак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день виявиться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Господь буде судити всі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війдіть” Він скаже прав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дість Пана свойого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бавлення звістить труб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при звуках гуслів стрій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рф небесних, золот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імн побіди в день спасіння виклик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сню Агнця і Мойс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співаєм в зборі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бавлення звістить труб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9:14Z</dcterms:modified>
  <cp:revision>13</cp:revision>
  <dc:subject>Slavic hymnal Гимны веры христиан, Ukrainian hymn 16</dc:subject>
  <dc:title>В день, коли труба Господня</dc:title>
</cp:coreProperties>
</file>