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6435-E2E8-4A49-A316-6379E4362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C28C-8C03-4AAD-B933-3A021CF5A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B50B-6509-42EF-AAC8-8E7D8D870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04AB-3A78-4667-910B-3E08CE127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DA74-4A8A-4657-80DE-E17600570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08DD-B2C8-4B1D-B171-570AEA9FC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A8D4-BBFD-4C28-AAF3-A09A5A8A6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EE69-425F-484A-B797-C54B1F76F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529B-17A0-4645-8AD3-1D79B91CA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EBE9-6142-410C-98D6-99E67AD2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353A-1EB2-4FCB-AC2F-F96BB5F6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C129-5FAC-4BB5-B316-54BD82D4D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70EAF6-4282-49E4-9C46-E7A50C2AA83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усть берёт, кто хочет без сереб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Божий дар спасенья, вечного добра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лушайте, идите и спешите взя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То, что Бог всем хочет дат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усть берёт бедняк! Пусть он даром пьёт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от уста Иисуса уж давно зовут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«Воды жизни вечной без конца текут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аром пей, кто жаждет пить!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8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усть берёт, кто хоч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риходи, бери, бедный друг, скорей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ыне день спасенья для души твоей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Завтра будет поздно, уж не будет зва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Больше Божья благодат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усть берёт бедняк! Пусть он даром пьёт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от уста Иисуса уж давно зовут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«Воды жизни вечной без конца текут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аром пей, кто жаждет пить!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усть берёт, кто хочет! Путь Божий прям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стинно, правдиво слово Бога к нам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сё, что обещает, Он в любви даёт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ищий духом да придёт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усть берёт бедняк! Пусть он даром пьёт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от уста Иисуса уж давно зовут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«Воды жизни вечной без конца текут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аром пей, кто жаждет пить!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6T23:56:13Z</dcterms:modified>
  <cp:revision>14</cp:revision>
  <dc:subject>Slavic hymnal Гимны веры христиан, hymn 382</dc:subject>
  <dc:title>Пусть берёт, кто хочет</dc:title>
</cp:coreProperties>
</file>