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A5F-8969-4E29-90CC-692BB38C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C11-74F3-4CD7-95C8-047A97FC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B95-AB47-4E04-BD35-411FFA7F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A9D-D9B2-484C-8924-5DBA44DD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1F4-69FE-4C89-92F4-7F5DE354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7AA-D80A-49DE-A1C8-568CB387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305-B2B4-4A2A-8A39-EE9219F4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E88-667F-4B1D-9F3A-94603A77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C11-133C-4622-A954-36F85EEF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F6B-B934-4750-8FE7-012240F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976-1A5E-455D-B70A-9CDAA428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305-2F88-4610-9A36-9F2C7BE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73F13-04E6-4A3B-9005-DE08312121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sent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called Him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me to love, heal and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миру Сына дал,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иру Сына дал,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целял, прощал,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as death gives way to vict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ee the light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ll know He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сто смерть отдаст по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я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арствуе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d and died to buy my pard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empty grave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ove 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ёс Он крест, чтоб дать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щает гроб Его пус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o hold a newborn ba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l the pride and joy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— держать млад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жность и мечты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greater still the calm assu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child can face uncertai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льше счастья в упов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преодол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паситель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one day I’ll cross the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ight life’s final war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йду за реку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ей битве с ней сра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5-06-01T12:34:46Z</dcterms:modified>
  <cp:revision>11</cp:revision>
  <dc:subject>The Source 2, song number 701 in Russian</dc:subject>
  <dc:title>Бог миру Сына дал, Иисуса / God Sent His Son (Because He Lives)</dc:title>
</cp:coreProperties>
</file>