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2C1-4153-4315-BAFB-23E394A0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656-13EF-4E3C-8F9C-AC74DDF9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C4A-7B52-4838-8A25-90D22B73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E40-2FD0-44ED-9974-252D6E4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F9A-51F1-4A02-8697-C7DFB6DC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127-BF4C-4303-94BC-F4FB4ED1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ED3-7BF2-4219-87E6-D3722385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A1E-EE12-495D-BC5B-2FB512E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A37-6F58-45D3-AAEA-5D50A607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FCE-E1D8-484B-836B-ECB651C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586-5A25-4419-B462-3F792FF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E51-BF14-4AB2-98C8-74F44B7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661AE-E549-4518-ACCA-747F794129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Бог до Н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топлю світ во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и ж збудуй собі ковч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родини і для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а   Сказав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й повірив, ― не ваг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вати ковчег взя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Ноя висмів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а правди не прийм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хлинув, як те мор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біг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люди вже благ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а себе нарі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правди не прийня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ташки в небі ще лі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ятунку скрізь шу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всю покр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безбожних затоп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Лише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з Ноєм і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Як ковчег став на верш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оєм вийшла вся родин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ак, як було за днів 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безбожним гірка д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48Z</dcterms:modified>
  <cp:revision>12</cp:revision>
  <dc:subject>Slavic hymnal Гимны веры христиан, Ukrainian hymn 84а</dc:subject>
  <dc:title>Сказав Господь Бог до Ноя</dc:title>
</cp:coreProperties>
</file>