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62E-AC44-4159-BFF4-71EC0CD7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E87-72CA-4C66-B9E3-D8C58A22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522-26AD-4647-A7E3-66ACFAC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64C-305E-4B4E-A873-A78CE703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DBA-B0D3-494C-85C8-7BCE758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604-ED55-499E-BEB7-59E3F701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311-E203-4271-9A2E-6D4C11E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D72-31A4-402F-BD39-56A2BBD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31C-B282-4990-B714-BE96CB10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AF6-4245-4573-AAD1-16A6CD7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D1D-65FC-49E2-92FC-B9B7293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D7E-FA31-4E9C-9371-195A8AB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A9A05-4B8A-4880-84B4-F1CC2F7EAC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Иисус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явший торжест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людей к Отцу воз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лавленный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ее Ма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припасть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бзать перст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той радостной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осподь Иисус воскрес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вечною раз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ной землетря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звал мёртвых из мог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к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скре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благ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мое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лежат п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ём рабе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кани мёртв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аю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явися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ими следы мог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связи, дух гнету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Твоей свобод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всё светлей си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я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ой дух приготовл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стрече Вышнего Ц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ссмертьем в смертном т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подобен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и свят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осущест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0:06Z</dcterms:modified>
  <cp:revision>13</cp:revision>
  <dc:subject>Slavic hymnal Гимны веры христиан, hymn 293</dc:subject>
  <dc:title>О, Господь Иисус воскресший</dc:title>
</cp:coreProperties>
</file>