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05E6-66CF-4204-BEAA-BCBA1E3F3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0219-2D1C-4366-8EB3-2730757F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E082-1808-4D6F-8FAC-E8759884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8E69-0619-44AC-9467-176A6F23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32D5-29AA-49F5-B2B6-A9B96BEE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EB2C-B4B7-41BA-8342-03E68A8A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597A-25B3-4099-AD8B-3FE6C456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B222-3571-4C09-963F-B263BFB8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D826-E35E-45DC-A1DE-378EFF27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EB42-4718-4785-84A2-A0C24FED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B95B-2615-452F-97F1-6CE380F7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1C71-034F-4FD5-8B0C-EAAAB474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F74CC-1126-47E4-AAE4-06227D9D831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re once was only hu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gave His healing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re once was only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brought comfort like a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feel the sweetness of Hi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iercing my dark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ee the bright and morning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it ushers in His joyful glad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7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Where There Once Wa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urned my mo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dancing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lifted my s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’t stay sil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must sing for His joy has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re once was only hu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gave His healing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re once was only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brought comfort like a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feel the sweetness of Hi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iercing my dark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ee the bright and morning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it ushers in His joyful glad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urned my mo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dancing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lifted my s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’t stay sil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must sing for His joy has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anger lasts for a moment in ti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His favour i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ill be on me for all my life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urned my mo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dancing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lifted my s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’t stay sil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must sing for His joy has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9:43Z</dcterms:modified>
  <cp:revision>10</cp:revision>
  <dc:subject>The Source, song number 577</dc:subject>
  <dc:title>Where There Once Was Only Hurt (Mourning Into Dancing)</dc:title>
</cp:coreProperties>
</file>