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75E-6B62-40ED-9A6B-4CE60E66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3A0-0984-49B6-A9B3-438A0A0D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351-63E8-4CA6-B51F-155CE061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7BD-2B5C-4783-A167-724A3078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724-9A25-439A-A19A-97C35803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448-8137-4CC3-93CE-889035CB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AFD-3524-4587-982A-FF2B1B2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65B-A40B-4873-8496-29CCF02E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FA2-8001-4FA3-9F36-C9F362EE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16C-A1B5-49E1-85F9-1F4CDB6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CA3-9A9C-41BD-96F8-AE48ADB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8BC-D896-430A-BA09-B57B8996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EE152-6F0C-4B15-9974-DF7291FA85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arch me, O God, and know my heart to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y me, O Saviour, know my thoughts, I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 if there be some wicked way in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eanse me from every sin and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raise Thee, Lord, for cleansing me from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ulfil Thy Word, and make me pure wit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e with fire where once I burned with sh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nt my desire to magnify Th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take my life, and make it wholly T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y poor heart with Thy great love di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all my will, my passion, self and pr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now surrender, Lord, in me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Ghost, revival comes from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a revival, start the work in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ord declares Thou wilt supply our ne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blessings now, O Lord, I humbly pl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 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24Z</dcterms:modified>
  <cp:revision>13</cp:revision>
  <dc:subject>Slavic hymnal Гимны веры христиан, hymn 827</dc:subject>
  <dc:title>Search Me, O God / Сердце моё, о Боже, испытай</dc:title>
</cp:coreProperties>
</file>