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BBA-B644-486B-8920-4447AB0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73D-341B-43C3-9010-BBF8E3D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FE4-B1F6-41C8-812A-40E4D4D5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22E-1B2A-4349-BB63-9B86A437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6D4-BF80-4C3B-AFB3-CE06156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D13-77AE-4AE5-9627-487E1DD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B23-DE51-47F3-B582-0642361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E9-19AE-46AA-B735-EE14EBBE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F9F-0FB4-4FB3-A589-FD4D1DD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75F-EC2B-487A-BD28-CA41179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1D8-60C1-4757-AFA9-9CA7715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183-4235-45F0-8816-C21DE6F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61593-B312-4A9F-853E-C2C0B2FF89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of life are ra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ests wild on sea an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k a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God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emies may strive to inj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all his art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urn what seems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everlast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He may send some affli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make me long fo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n love and not in 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chastenings will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while here the cross I’m b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ting storms and billows w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for my soul is c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can harm His Father’s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0Z</dcterms:modified>
  <cp:revision>13</cp:revision>
  <dc:subject>Slavic hymnal Гимны веры христиан, hymn 619</dc:subject>
  <dc:title>He Will Hide Me / Хоть и буря жизни стонет</dc:title>
</cp:coreProperties>
</file>