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A65-CCC8-4167-966A-A795B415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C57-53B7-4366-8465-985689DC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277-E861-454B-9C4C-DFF46191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47B-7035-46C3-9497-BD58B6C7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D2B-A0A3-479E-8A66-9BD1FB38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E5E-F2C8-4870-BCAC-91F9715C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FCA-68FC-4CCA-BF98-47D2C4F0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F36-8F28-4F54-B233-7C4240CC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CC0-5661-4FCA-A358-343B3F4F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2EA-CFE7-4B4D-B429-8C511B6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056-C00E-419C-B6D0-FF7D72F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73A-11C5-403C-90B4-F9695284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05725-0653-4DC0-B097-07C7926FEC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нас Христос безм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ніжно, завжди в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у проми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друг нас забу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е ні, не за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2   Любить нас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 Ісус в стражданн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м дав Він оправ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инуле все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дивну посил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му лиш довір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ізнать Його б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, щастя той піз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лічує всі бо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ове життя дар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 Свої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до Себе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н прий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лаженство обіц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орі завжди пома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еде Він нас до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03Z</dcterms:modified>
  <cp:revision>12</cp:revision>
  <dc:subject>Slavic hymnal Гимны веры христиан, Ukrainian hymn 62</dc:subject>
  <dc:title>Любить нас Христос безмірно</dc:title>
</cp:coreProperties>
</file>