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0</a:t>
            </a:r>
            <a:r>
              <a:rPr b="1" lang="ru-RU" sz="3600" spc="-1" strike="noStrike">
                <a:solidFill>
                  <a:srgbClr val="ffffff"/>
                </a:solidFill>
                <a:latin typeface="Verdana"/>
              </a:rPr>
              <a:t>	</a:t>
            </a:r>
            <a:r>
              <a:rPr b="1" lang="ru-RU" sz="3600" spc="-1" strike="noStrike">
                <a:solidFill>
                  <a:srgbClr val="ffffff"/>
                </a:solidFill>
                <a:latin typeface="Verdana"/>
              </a:rPr>
              <a:t>Зажги сердце моё</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ive me oil in my lamp, keep me bur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ive me oil in my lamp, I p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Give me oil in my lamp, keep me bur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Keep me burning, ’til the break of day!</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жги сердце моё, мо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жги Духом Святым с неб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обужденье пошли в моё сердц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Жажду к душам погибающих люд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ing Hosanna, sing Hosann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ing Hosanna to the King of King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ing Hosanna, sing Hosann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ing Hosanna to the King!</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еснь хваленья, песнь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у петь Христу, Царю ца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еснь хваленья, песнь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у петь Царю царе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6:14Z</dcterms:modified>
  <cp:revision>3</cp:revision>
  <dc:subject>Slavic hymnal Гимны веры христиан, chorus 20</dc:subject>
  <dc:title>Give Me Oil in My Lamp / Зажги сердце моё</dc:title>
</cp:coreProperties>
</file>