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E93-E202-44F8-95EC-A406B8D8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7A0-135F-406F-B3CD-C2FD735F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22E-7427-4F5A-86F8-2CC5D002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5C8-802D-49E2-9DED-7A325F30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771-E793-4A9A-AC05-A4E82719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0DB-3856-4D7D-B68A-704C3276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CC0-6EA2-4F2A-9CBE-0E8298DA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1F7-FC7B-4CD1-8348-2CB5C9C9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08B-7687-445C-A2CC-2AB312E3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E0E-8E43-4A2E-9ADC-3644922C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580-4217-4FB1-A8F8-B8AFE6C1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970-EFE1-4012-B974-471C6AED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7766A-547C-44E3-BDFD-74932A4C6C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ftly and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, on the portals He’s wa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тко и не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и нежно Иисус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ет, 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у порога, стучит, ожи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we tarry when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plea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ing for you an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we linger and hee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merc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es for you an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и медлить, когда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, о каждом скор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лагодати принять не хотите 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ля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me is now fleeting, th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pa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ing from you and from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are gathering, death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и сгущаются, смерть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еспощадно г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ходит, в обитель и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ичу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the wonderful love H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d for you an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 have sinned, H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and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 нам Господь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отдал Он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но Он нам про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3Z</dcterms:modified>
  <cp:revision>13</cp:revision>
  <dc:subject>Slavic hymnal Гимны веры христиан, hymn 357</dc:subject>
  <dc:title>Softly and Tenderly / Кротко и нежно Иисус призывает</dc:title>
</cp:coreProperties>
</file>