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6B0-7722-443E-8197-8B1D5BCF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5BB-86D6-4CEA-AC15-50FB0C7E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CED-1D92-4EA1-8E35-D5A08A74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1FB-CA20-4580-83B5-961FF7D5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A50-0DF1-4E87-B91A-0FE52C67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1C7-E325-4BC4-89B5-9C214C93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9E6-61E2-4D3C-8D56-B717CA9F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C33-7A4B-484D-BA89-360BB8DC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928-F63D-4E07-8A22-DFA93470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6AC-8C3C-401E-B3A9-620AEE5E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347-7096-4DDD-9B0A-6358741A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B99-E5A2-4874-AA80-50213C39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37D01-E4D4-44EB-8383-51C321C7D2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идти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смиренья 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учи сноси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ы дня, и труд и 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медлительных заж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я любви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к истине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ить всех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дай сил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ладостном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уженьи верность со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о любовью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рных ждёт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пошли, и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мне жи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2:37Z</dcterms:modified>
  <cp:revision>12</cp:revision>
  <dc:subject>Slavic hymnal Гимны веры христиан, hymn 830</dc:subject>
  <dc:title>Господь, дай сил идти с Тобою</dc:title>
</cp:coreProperties>
</file>