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71D-9403-4EF2-BA9B-2D965668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EE2-57B0-481A-ADC7-54B308FF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6A2-CA50-4A99-AD3B-0FE9D808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A78-0C4E-4F2F-8A41-36EEF2F0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676-AD56-4EA0-A1EE-3A007571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7E3-E8FE-4335-B579-C95137B9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8B9-B5C3-4220-A6F3-F54EA31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A27-DE32-43DF-AD0E-6B8E3D81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D04-82A2-4A3D-A187-B6DE71F6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553-F8A0-40DB-AE06-CC1E42C9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34D-C216-4261-B734-D45B738A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74D-E9B1-4021-9857-00E15519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49B95-EB2C-4558-999E-B9A45B1579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ift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joy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at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t be a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t sound in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Love You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35:33Z</dcterms:modified>
  <cp:revision>10</cp:revision>
  <dc:subject>The Source, song number 214</dc:subject>
  <dc:title>I Love You, Lord, and I Lift My Voice</dc:title>
</cp:coreProperties>
</file>