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01F-A64E-4003-A085-96758984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D50-377D-4761-95E2-1E635EF0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C80-1E98-4208-ACD2-94FD25EC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9B8-0990-4DD8-96C1-AEC78C34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23E-3026-40E2-8CA4-EB7341AF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9B6-C90F-4D7A-8367-B4C1D7A5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6F2-6256-4B76-8DB8-75766494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120-DA1C-4C83-BF2B-FBC75B99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370-0DC9-4B21-8E8C-97CAD296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DE9-35AB-4C94-BDB0-BA5C957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FC7-CA74-4A18-BC0B-E22AF61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145-B9C5-44E8-B0F8-39C10572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039C7-4A05-4B6E-8971-F314793FCB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чу напрасно утро про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ркий полдень со Христом хочу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же в вечер запись да будет ч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лугою бы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чу напрас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душ блуждает во грехах, во ть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слёз горячих пролит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лезни мучат страждущих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осподь, хочу я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омах печально и тревожн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етей молиться некому 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злое пьянство ― темнота ум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ествовать хочу 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28Z</dcterms:modified>
  <cp:revision>12</cp:revision>
  <dc:subject>Slavic hymnal Гимны веры христиан, hymn 455</dc:subject>
  <dc:title>Не хочу напрасно утро провести</dc:title>
</cp:coreProperties>
</file>