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642-4171-4987-AE00-BE8FAC64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F6D-0F99-43CD-AA56-FB47FC00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71E-5B35-4C2B-8C4D-8DCFCCB0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7C8-ED2A-44DE-80F6-4B2B7AA4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7CB-2659-4119-9140-C6EBBC10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B06-B373-4B39-B951-1A7BE1D6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E50-FFB6-48FF-A5B2-59717099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5DB-75E5-4913-BD40-0001CD3D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F4C-D417-4A16-AB3E-4C23F9F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5EC-733A-4AA8-AC06-EC592813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466-74F0-4E0F-82C4-9EADDF5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54C-A178-4C69-81A1-97C08C42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2DA8B-1914-47B6-937E-1C068AF7D2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has dawned upon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d from cre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salvation now unfur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for ev’ry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with fanfares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with scene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 humble gift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bor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43  Joy Has Da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unds of wonder fill the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songs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mighty Prince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elters in a 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s that set each star in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ped the earth in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ing now to a mother’s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ulnerable and help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epherds bow before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zing at the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fts of men from distant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phesy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ld, a King is born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ense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rrh, His death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y His blood He’ll wi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Adam, Son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n as a rans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conciling God an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, our mighty champ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Saviour, what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glorious myst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 Babe in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e Lord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4-12T09:22:32Z</dcterms:modified>
  <cp:revision>12</cp:revision>
  <dc:subject>The Source 4, song number 1943</dc:subject>
  <dc:title>Joy Has Dawned</dc:title>
</cp:coreProperties>
</file>