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166-DE45-4D00-B780-D0D53CDE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1D9-2993-4946-9A27-481D6FAC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7AA-11E3-42E9-8C1A-9156D047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AE0-4E96-4999-A56C-DD4A87AE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846-5C1B-4281-94B5-A11626C2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4F7-8F77-478F-8E24-D9A3F742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FE1-1379-4A28-8F7F-D652F2C5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BCC-6304-44D6-87B6-1EBEC91A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A4C-5C7F-4C1B-8B01-F7AAB192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1BD-6C4E-41A9-82BD-E143F3C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150-19C2-43E8-9946-D174C9E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B98-8DA6-42A1-8DC7-CFAA43C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D10E1-182B-4B6B-9F29-5E027069C2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rs I spent in vanity and p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ing not my Lord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not it was for me He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моя терялась в су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рялась в су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 не думал и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грешников Он по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God’s Word at last my sin I lear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 trembled at the law I’d spur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guilty soul imploring 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грех открыло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ал я в страшной пуст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Христа увидел пред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ve giv’n to Jesus ev’ry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gladly own Him as my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raptured soul can only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перь Иисусу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традно жить и в нищ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восторженной 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о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love that drew salvation’s pl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grace that brought it down to m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mighty gulf that God did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открыл спасень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явилас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ель грешным людям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0Z</dcterms:modified>
  <cp:revision>14</cp:revision>
  <dc:subject>Slavic hymnal Гимны веры христиан, hymn 419</dc:subject>
  <dc:title>At Calvary / Жизнь моя терялась в суете</dc:title>
</cp:coreProperties>
</file>