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0C6A-6A69-4ACE-AFB2-4C7C47C2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80C6-E57C-41FB-A9AB-1891EC29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91A3-0179-443C-98DB-BE0F9979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0AC2-A705-43AB-8470-7712DF2E0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9202-17F5-4AA5-9290-EB5E9F9A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515E-F5A6-4997-9CD1-4C649978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F327-6B83-4A20-A08D-DD461463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88B3-963F-45A3-AE10-96A9AED6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844E-33E3-4959-BF8C-763FFF68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0F44-0549-414B-8EEF-0CCAD962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27C5-9EAC-41FB-B3FE-C5DD72FE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1DAC-524C-4291-97D1-58F24E46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2ACB9-D0F5-4273-883E-74F77FDFF2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жив Христос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сто дать мне обещ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верь открыл мне к жизни в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дом Божи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верь открыл мне к жизни в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дом Божи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знаю, жив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здесь я только жду призы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придёт за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озьмёт меня от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ведёт меня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озьмёт меня от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ведёт меня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сердцем доверя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распят за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лосу Его вним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приходи! Я жду тебя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лосу Его вним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приходи! Я жду тебя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беждён Его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меня страдальце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стекал пречистой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мне смертью крестной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стекал пречистой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мне смертью крестной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 придёт уж ско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ам меня туда возьм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од лучом Христова вз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навеки вос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од лучом Христова вз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навеки вос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2:33Z</dcterms:modified>
  <cp:revision>12</cp:revision>
  <dc:subject>Slavic hymnal Гимны веры христиан, hymn 629</dc:subject>
  <dc:title>Я знаю, жив Христос Спаситель</dc:title>
</cp:coreProperties>
</file>