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51B-D5E2-4AA1-B588-13C5CCCB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CFE-870A-413B-9781-DA8D9826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DC1-ED08-4C00-8393-45CD785F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019-CD07-4F38-B1F6-31F64E63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FE0-9D7C-4618-952E-CAEAFC3E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ED4-032B-4DC3-8BFF-0C36183B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687-14C1-4AE0-ABA8-EDDB5FCA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905-54C2-4CBA-95EC-AC83EBE9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D89-32F4-4532-AB9E-68D7B630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8F0-404D-4982-8C23-F6B95CD0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1B0-27FF-4C16-9893-7ED54F1A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727-E46A-4704-ACE9-9584A6EC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2F0A4-6833-42F3-B644-D90799678D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меркнущим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ит словом и д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вою мне даст си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, как Он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еликих и м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ть, как Он здесь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в эт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лого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т благодать без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Свой по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м лучом дл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Ему в жизни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—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4:49Z</dcterms:modified>
  <cp:revision>12</cp:revision>
  <dc:subject>Slavic hymnal Гимны веры христиан, hymn 896</dc:subject>
  <dc:title>Господь меня хочет сделать</dc:title>
</cp:coreProperties>
</file>