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D34-00DD-4729-ABA8-94E5BD90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55A-CD88-4A79-B815-022C8148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B38-3742-405C-BD54-D9ED5000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9C0-1457-41AE-BF5C-AA546756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17D-7582-40AA-80D0-228F00CE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C26-1B88-47D6-91C0-38C81459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D57-18C1-4459-9219-4C602B8B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4E3-F102-41C8-A12E-74A379B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06-2DCE-469F-81DD-095AEB2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2B0-C7F4-4293-B3E2-D9B7548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B69-6812-4379-A14B-422E834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55C-1EF4-4CE9-8391-80AEB3C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14C5-BD47-4322-B187-46DEBA7C72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44Z</dcterms:modified>
  <cp:revision>12</cp:revision>
  <dc:subject>Slavic hymnal Гимны веры христиан, hymn 339</dc:subject>
  <dc:title>Грешных всех Христос зовёт</dc:title>
</cp:coreProperties>
</file>