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89</a:t>
            </a:r>
            <a:r>
              <a:rPr b="1" lang="ru-RU" sz="3600" spc="-1" strike="noStrike">
                <a:solidFill>
                  <a:srgbClr val="ffffff"/>
                </a:solidFill>
                <a:latin typeface="Verdana"/>
              </a:rPr>
              <a:t>	</a:t>
            </a:r>
            <a:r>
              <a:rPr b="1" lang="ru-RU" sz="3600" spc="-1" strike="noStrike">
                <a:solidFill>
                  <a:srgbClr val="ffffff"/>
                </a:solidFill>
                <a:latin typeface="Verdana"/>
              </a:rPr>
              <a:t>Как овечку, Пастырь</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Как овечку, Пастырь силь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веди меня вперё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жити Твои обильн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к Твой всех к водам зов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Иисус мой! о Иисус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меня Ты кровь прол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Иисус мой! о Иисус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меня Ты кровь пролил.</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На земле Ты будь мне друг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гнцев в мире охраня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 веди небесным луг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заблудших выруча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Иисус мой! о Иисус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грехи мои понё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Иисус мой! о Иисус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грехи мои понёс.</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О, исполни обеща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Свою мне благод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сле долгого скита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спеши меня прин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Иисус мой! о Иисус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ближай меня к С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Иисус мой! о Иисус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ближай меня к Себе.</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Сделай сердце мне способны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чный Твой завет люб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любовь ко мне подобны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учи любовью ж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Иисус мой! о Иисус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о могилы будь со м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Иисус мой! о Иисус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о могилы будь со мной!</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28T02:09:44Z</dcterms:modified>
  <cp:revision>3</cp:revision>
  <dc:subject>Slavic hymnal Гимны веры христиан, hymn 189</dc:subject>
  <dc:title>Как овечку, Пастырь сильный</dc:title>
</cp:coreProperties>
</file>