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EF00D-DCE6-4048-A68E-0758A24C6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D559D-2585-4CF9-9F28-16495F46D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1D337-137F-4C03-B2CA-191EEC669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EFD99-990C-45D7-9F7C-73C9A7647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EB47E-5C0A-4583-80BD-03E41A8C1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EEC79-4E16-4F7C-BD32-C402E1CF8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E5EA0-4C10-4331-B838-38B6F49B1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A1978-C1C8-4524-85D3-6C2329B76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61A1C-7FC6-4479-8209-12B902DC9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68DC1-8164-4069-8AA9-F51F1C3C9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63823-7A37-4E75-8C7A-5F4862B19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DF5E9-13BB-4EC5-AC71-94D97C8EE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AF65E6-8D63-4BCE-B10C-71B580BB5E73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рит зарёю свод небес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с Спаситель мой воскре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мрак рассеял, грех попра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вет, и жизнь мне даров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ри дня лишь Искупитель м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ыл поглощён той смертной тьмо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третий день гробницу 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сторг, и грех был побеждё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289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Горит зарёю свод небе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итель! Нет врагов таки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не сразил Ты власти их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камень и с груди мо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ринешь силою Сво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ри дня лишь Искупитель м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ыл поглощён той смертной тьмо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третий день гробницу 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сторг, и грех был побеждё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скрес Он! Что ж мне уныва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и меня пришёл спаса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усть покинет мир мен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с со мной, и счастлив 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ри дня лишь Искупитель м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ыл поглощён той смертной тьмо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третий день гробницу 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сторг, и грех был побеждё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я Он пища, мой Он щи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мру я, Он меня призр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я надежда Он и цел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Нему стремлюсь всегда отсел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ри дня лишь Искупитель м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ыл поглощён той смертной тьмо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третий день гробницу 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сторг, и грех был побеждё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с воскрес, и я прощё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Богом с Богом примирён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к царству вечности ме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овёт, от гибели хра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ту любовь и благод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бя мы будем прославля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здесь, и там, когда в свой ча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Себе в обитель примешь н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9T23:08:32Z</dcterms:modified>
  <cp:revision>12</cp:revision>
  <dc:subject>Slavic hymnal Гимны веры христиан, hymn 289</dc:subject>
  <dc:title>Горит зарёю свод небес</dc:title>
</cp:coreProperties>
</file>