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98F-D0FB-45C8-BD15-29EE4317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B0D-A760-44EB-A7F5-D1D5929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CE7-AAB0-4B5A-8623-89491DFA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5AC-15F7-47D4-A257-CF52C7A2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4F4-F411-4990-AD98-174756C2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A5C-D7C9-4D06-B5E3-8B7D92F9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600-7857-4423-A49E-401F04A1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134-1497-4D0B-B669-1114DF2A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92D-BCE9-45B5-AD16-A6722CC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08D-9DB0-4C6E-A9C9-3C6A9BB7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200-B4F3-4BA1-BEE7-1B70FE95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5D7-6CC8-4CA4-AC83-ADD2D3E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360CC-875E-4E39-B327-FA02F298B5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, what love is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ays so dear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, the guilt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go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Lord, What Love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they watched Him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spised, rejec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, the blood He 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e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this love of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flow like riv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wash your guilt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09Z</dcterms:modified>
  <cp:revision>10</cp:revision>
  <dc:subject>The Source, song number 370</dc:subject>
  <dc:title>My Lord, What Love Is This? (Amazing Love)</dc:title>
</cp:coreProperties>
</file>