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2C2-0196-4159-8B5E-536EE23F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244-521F-4D51-9BA0-42A14645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231-775E-47A1-92F2-E1F1D02B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5A6-96C9-4579-A6F0-133DFD0E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52C-148D-4D2F-A635-DB018438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F56-5FC4-4523-94A6-C33C37AE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449-191E-4621-9219-E87E606F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072-DA35-4D7C-B45B-08DB6214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BE0-B9DF-4694-861F-CEC9B12A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4FF-B4D2-4B34-9BE5-4A907515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F55-28C1-45D6-A485-3465A7AA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0BB-2487-4AFD-97F6-EB390A6B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E5A9A-C8AF-4EB2-A96C-0A9E2E09C3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ся ли мы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ятые вс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покойною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чистые тек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третимся ли мы с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розрачною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й, светлой, как кристал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скликнем мы с Тоб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ень теперь на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ами и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непроходимый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оль тяжкою це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м его откр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жаясь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Христа мы будем 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землю за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сходил, чтоб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будем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уть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встретимся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ся хвалу Отц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03Z</dcterms:modified>
  <cp:revision>12</cp:revision>
  <dc:subject>Slavic hymnal Гимны веры христиан, hymn 689</dc:subject>
  <dc:title>Встретимся ли мы с тобою</dc:title>
</cp:coreProperties>
</file>