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6902-4157-4DE3-8103-D8886BD9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FD9-4B80-45A0-B553-F146388C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EE9A-897C-4C1D-9537-4280BD7F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65F-55A9-4540-A58D-986289A9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BAC-D9D3-4181-8F79-3540D828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B3EF-4DD7-4711-8B8C-D7EACD78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E245-3316-4227-B0A5-9ADDBA34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8D5-9D9C-470E-B275-1D4D815D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24DC-0146-484F-B8AD-21353063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7E3-DAF8-42C1-AD0C-EC080018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57C2-947C-4804-A3A6-B51F0B45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0810-CA3E-48D7-BCA1-86DE9AB6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39738-1F56-45B6-BC3D-3BC6663D0A4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ба верная, радость пол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чёт рекой, дух ликует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жба вер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ок жизни путь, счастьем ды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Отчий дом вижу с каждым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юсь врага, безопасен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й мир души нахожу в ти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3:44Z</dcterms:modified>
  <cp:revision>12</cp:revision>
  <dc:subject>Slavic hymnal Гимны веры христиан, hymn 625</dc:subject>
  <dc:title>Дружба верная</dc:title>
</cp:coreProperties>
</file>