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9A2-487F-466C-817A-01C251B7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578-37A1-4732-84AD-B3FA5473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EE0-D196-49D5-9C35-F0E380BC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84B-9CF8-406C-813A-4D7A9CF3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FF8-9F15-41C0-803D-3EA83B96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DEB-1C7D-4FDA-A011-E9A2951F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510-7E5D-447A-B5E6-2EA0062B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8B6-93E6-4E79-81B7-78031CB4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DFDD-9CEF-47E8-9898-850123B6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B8F4-D5B4-4D6D-A307-C930644C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376-57D1-41FA-BA06-466FBAC6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83E-E24A-4F31-B19A-BB3DBA84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32FB0-ED0F-4CEB-8C30-5C501FEA0F6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гробі Він леж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я слави дожи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1   У гробі Він леж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емно стере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а в гроб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емно став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амінь й пе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смерть подо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скрес у сла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нам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5:58Z</dcterms:modified>
  <cp:revision>12</cp:revision>
  <dc:subject>Slavic hymnal Гимны веры христиан, Ukrainian hymn 81</dc:subject>
  <dc:title>У гробі Він лежав</dc:title>
</cp:coreProperties>
</file>