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0CF-E5C0-4633-BBFE-0DE99D54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AF3-EB1D-4926-BE71-808AF4F4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ACC-DD3C-4B5A-B22B-41183251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AED-52CC-47D3-9D03-735AF954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7E7-7BB6-44AF-8758-28CEDA5F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875-1EC8-4554-BDB3-6363E95D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0B1-B47E-479B-B43E-DBF4085D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C0C-1492-494D-8ACA-4D1B9F79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D5C-9A14-443B-A49F-CF7DEFDB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A87-CC06-45E7-9E9B-52C68256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ED0-3B4E-4CB0-98B0-BE841FE3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77E-1A4E-4B87-9E9B-5040B28E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3D7B2-B91C-4C80-A99A-0E4460BACD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жить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зарил Он мне стез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о блаженство, что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а любовь, какой гор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, к Его слов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общеньи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 вернись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редное гу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ел я тот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дали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амый дорогой ку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 мне сокру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 мне в сердце радость,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светлой мне сте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0:47Z</dcterms:modified>
  <cp:revision>12</cp:revision>
  <dc:subject>Slavic hymnal Гимны веры христиан, hymn 885</dc:subject>
  <dc:title>В общеньи с Богом жить хочу</dc:title>
</cp:coreProperties>
</file>