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26BD-5E4C-4EF8-9A66-AE2DA2ED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26A6-B68F-40C8-8D0C-A8112A24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9D16-37A6-4CFC-8DDE-4B71069F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5B61-C68A-488E-A991-1A44D06E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7C77-938C-4724-B557-CA3E5FE8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C72B-63EF-484B-B87C-D7A048BB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6AE0-90E8-4948-A466-1105BC98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F6AC-23BF-4762-8355-E5FD6624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06A4-8538-4728-9C73-8EEBC432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B787-23E1-47B6-8FED-A1504A2B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86D5-B8ED-4B41-B677-CC4031F2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5CA0-E397-499B-84C2-DCE9605D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D1961-DB3E-49FC-BB23-5A2ECC2C88D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peace like a river, attendeth my w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sorrows, like sea billows ro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atever my lot, Thou hast taught me to s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, it is well, with my soul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ечёт ли жизнь мир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чёт ли жизнь мирно, подобно ре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сусь ли на грозных волна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 всякое время, вблизи, вдале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 (it is well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my soul (with my soul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, it is well, with my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со мной (Ты со мной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Господь (да, Господь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 (it is well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my soul (with my soul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, it is well, with my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со мной (Ты со мной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Господь (да, Господь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Satan should buffe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trials should co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blessed assurance contro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Christ hath regarded my helpless 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as shed His own blood for my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и вражьи нападки, ни тяжесть скорб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склонят меня позабы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Бог мой меня из пучины стра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любви восхотел искуп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 (it is well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my soul (with my soul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, it is well, with my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со мной (Ты со мной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Господь (да, Господь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sin, O the bliss of this glorious thou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sin, not in part, but the who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s nailed to the Cross and I bear it no 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Praise the Lord, praise the Lord, O my sou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в мире сравнится с усладой так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ой грех весь, как есть целик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 кресту пригвождён и я кровью свя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скуплен всесильным Хрис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 (it is well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my soul (with my soul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, it is well, with my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со мной (Ты со мной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Господь (да, Господь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me, be it Christ, be it Christ hence to l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Jordan above me shall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 pang shall be mine, for in death as in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 wilt whisper Thy peace to my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т сердца скажу: для меня жизнь — Христо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в Нём мой всесильный опл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леды от греха, искушений и слё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меня Он любовно сотр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 (it is well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my soul (with my soul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, it is well, with my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со мной (Ты со мной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Господь (да, Господь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Lord, haste the day when my fa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hall be si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clouds be rolled back as a scro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trump shall resound and the L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hall desce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en so,” it is well with my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осподь! Твоего я пришествия ж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нять мою душу гряд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знаю, тогда лишь я сердцу най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кой у Тебя на гру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18T21:26:18Z</dcterms:modified>
  <cp:revision>12</cp:revision>
  <dc:subject>Slavic hymnal Гимны веры христиан, hymn 817</dc:subject>
  <dc:title>It Is Well With My Soul / Течёт ли жизнь мирно, подобно реке</dc:title>
</cp:coreProperties>
</file>