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10A-B27C-48DA-A94C-D6D75B8C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A20-15E0-4C16-90E8-CCC4ACE0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B25-5F86-42FD-BCBE-A05AF008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24D-5C53-4999-8EA5-7F38334E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EAF-0404-4C7D-A0E1-BB21FBC9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3F1-46A9-4755-AD98-45AB2A07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248-F579-4EF4-B118-C6791A6B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490-2093-4C3E-A8C2-E8ECE6F9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EA9-4EEE-44F7-B8D5-30EDB25C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671-E8D2-41F8-8A1B-9EF1620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A67-2390-4EEB-8996-19FEF9E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777-DAE6-4BE1-9278-5D3B6028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E8725-E7F7-41D0-9648-264DB83C48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 in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earn to walk in Your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ep by step You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ollow You all of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God, You Are M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cp:lastPrinted>2011-02-09T04:18:08Z</cp:lastPrinted>
  <dcterms:modified xsi:type="dcterms:W3CDTF">2011-02-09T08:25:35Z</dcterms:modified>
  <cp:revision>11</cp:revision>
  <dc:subject>The Source 2, song number 906</dc:subject>
  <dc:title>O God, You Are My God (Step By Step)</dc:title>
</cp:coreProperties>
</file>