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F7A-94F1-4F0C-BDD3-D7EEEC3D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02A-5303-4738-81F7-B41BDD24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57D-FA0E-4C31-9518-EB7E36A7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D55-EFE7-4C7A-930F-75660851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40E-F3B8-49FA-BD26-AA14F80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211-5E32-459D-B436-790107C0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D1F-374B-407D-85DC-AC66705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5E3-E059-404F-AD4C-90247F2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FCC-9B0D-4C51-9ADB-73CADB39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581-752E-48CF-AC43-4BC57E1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510-AB2B-4E1C-8623-7EFC5CD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B8E-CD7F-4B6E-9B1B-2563BD9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949B9-86CA-449A-AA18-7C24F2F844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walk with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glory He sheds on our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we do His good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abides with us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all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мы со Христом в свете Слова и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инуясь во всём, все пребудем мы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hadow can 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cloud in the sk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is smile quickly drives i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doubt nor a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igh nor a 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abide while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тень ниспадёт или туча вз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ребудет ни страх, ни слеза на оч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burden we b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orrow we sh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ur toil He doth richly re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grief or a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frown or a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s blessed if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бремя несём иль страдаем в борь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ь утраты нам жаль, встретим гор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ч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e never can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elights of His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we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favour H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joy He best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for them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ю радость познать, нужно 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от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блаженство дарит только т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пе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n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sit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we’ll walk by His side in the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He says we will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 sends we will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ver fear, only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общеньи с Христом к Нему в ноги пад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скажет — пойдём, что прикажет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есё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8Z</dcterms:modified>
  <cp:revision>13</cp:revision>
  <dc:subject>Slavic hymnal Гимны веры христиан, hymn 647</dc:subject>
  <dc:title>Trust and Obey / Когда мы со Христом</dc:title>
</cp:coreProperties>
</file>