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673-84AC-4C05-AE5D-53CC438C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11B-9B79-4C8E-9130-44D451D2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79A-6556-4D31-835C-83D3E3A0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257-4C7B-4778-8EFB-14E8F300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CEE-A511-44C7-A461-ADA67EF8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AC4-316E-4B69-85D9-1E01D758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A11-91C5-42C4-8E60-A15A6DA1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34E-E9A1-4363-938C-728B1DD0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7B8-4618-4996-9DDF-C3D78102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483-FD29-40CE-A077-1DD3CF44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181-39FE-42EC-846E-E63807E2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63E-5745-4305-87B8-096213E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A886A-2AE2-4744-AF26-EE9A2CC3B5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те, братья, во Христе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с вами мы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те и вы, сёстры доро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больше вам не видеть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ремя здесь мы провод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ясь на ниве в этот сла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 горе мы вместе дел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настал час разлуки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щайте,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е наши, все друзья, про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мы будем многие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, и вы нас добром вспомин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мять навеки да будет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вам прощальная теперь проп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е всё, что сказали мы в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сех да будет любовью согр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 хранит нас милость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и недругам нашим: Прощ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м вредили много, много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е вам прощаем, это твёрдо зн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нам свидетель в этот слав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27Z</dcterms:modified>
  <cp:revision>12</cp:revision>
  <dc:subject>Slavic hymnal Гимны веры христиан, hymn 747</dc:subject>
  <dc:title>Прощайте, братья, во Христе родные</dc:title>
</cp:coreProperties>
</file>