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6CF-2FC3-49A2-BD4F-7469DA6C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DDD-D2B0-4735-B9E2-4155FA4A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30A-7488-4DCD-B7F9-2A914636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A95-6459-4B15-A70C-CF3CE784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384-2343-4C89-8ABA-33C8A8CE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3D7-7219-48CA-9F90-A4950BE2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0FF-C0DB-4CC3-A8E6-44828244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7A9-A766-490D-8328-E8235580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DD2-B8EC-43B9-88DE-A7641F1D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2B0-90C8-4A8D-864B-5200562D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B7E-E01B-4EBE-B03F-4BD084EA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D93-F92F-4A9B-993A-5944E5B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FE76-DBBF-41CD-AE39-6F0ABA66B9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You so much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I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from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not mad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devot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67   You Know That I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Majesty, I have one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ver and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give my praise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You so much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I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from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not mad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devot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Majesty, I have one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ver and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give my praise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21:46Z</dcterms:modified>
  <cp:revision>13</cp:revision>
  <dc:subject>The Source 3, song number 1667</dc:subject>
  <dc:title>You Know That I Love You (King of Majesty)</dc:title>
</cp:coreProperties>
</file>