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4AF-2415-4416-99A7-39DBF407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156-40B3-4399-8934-37389011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B4C-C557-4E86-8540-F4055D05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0EF-F878-4C40-B4D0-5A6496C3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86D-9A3F-4EE4-BC58-A2D199E3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A15-C6A6-49C8-9554-4B09467D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295-E8C1-44AD-BF61-A357709B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6CF-923E-4BD4-B587-BD7D89DB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9D8-1CD4-462C-9E20-DD266CF4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060-2BB4-43F2-B5B6-F74B2229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D10-6374-4800-8152-CBFF4AB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984-154D-456A-8E0A-B66E7324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935DE-0BA3-4B6B-8251-35B61D09AB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with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to the 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because He’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His Son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Тебе, наш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Бог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а Тво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let the weak say, “I am strong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, “I am rich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of what the Lord has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я тому, что Бог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3:58Z</dcterms:modified>
  <cp:revision>11</cp:revision>
  <dc:subject>The Source, song number 118 in Russian</dc:subject>
  <dc:title>Хвала Тебе, наш Господь / Give Thanks With a Grateful Heart</dc:title>
</cp:coreProperties>
</file>