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6DD0-C1CC-49E0-9C07-0DC1138A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98C7-6DE3-41EB-9E7E-1C850F17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2BA8-2D89-4DE9-A538-6B8D77112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A5A6-A2F8-4508-9527-66F5770A3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C8D9-E6A7-4B5A-84B9-01F97FB3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5BAD-F5F0-4369-B82C-E94BCD66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B1B8-A187-4657-8551-B86F3D31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81AE-8C06-48F3-BCA8-77B24B44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1395-1584-4308-BA3E-A4E47DA8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2BA1-E400-4E84-810A-46BEF134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360E-BFDB-4141-9A8D-F11894D4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F964-7D27-4B2B-B0A0-C14CEE6A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2F32D-B2A3-4CC1-9CB4-BAA9D180616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id not wait fo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draw near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You clothed Your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frail huma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id not wait fo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ry out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You let me hear Your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lling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69   You Did Not Wait For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forever grateful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forever grateful fo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forever grateful to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ek and save the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5:19Z</dcterms:modified>
  <cp:revision>12</cp:revision>
  <dc:subject>The Source 4, song number 2169</dc:subject>
  <dc:title>You Did Not Wait For Me (I’m Forever Grateful)</dc:title>
</cp:coreProperties>
</file>