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7BE-B258-4444-91ED-4AC1561A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B7-D670-446D-B3A6-D1DFD89B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EE8-D82E-4FF3-9079-AD648275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CA9-070A-400A-9E2A-5489642D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2D6-5324-40AB-83FD-E0E28C5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63B-8EB1-4706-80E2-32130A66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C4E-65BF-4458-A456-EEA18EC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008-A008-485F-A993-DA17DEB0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FF1-9222-4C74-B53B-410DD49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D4D-4842-4D0C-8A21-5D68A60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261-002F-4AD3-BED7-A099BCD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744-FD6F-413A-95DC-CE0A17D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A119B-635A-49E8-8B06-3A9D09A293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reached the land of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its beauty 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shines undimmed one blissful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my night has pass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zephyrs seem to floa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s of heaven’s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ngels, with the white-robed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sweet redemptio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comes and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weet communion here have 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ently leads me with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is heaven’s bord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 perfume upon the bree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e from ever vernal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low’rs that never fading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treams of life fore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8Z</dcterms:modified>
  <cp:revision>13</cp:revision>
  <dc:subject>Slavic hymnal Гимны веры христиан, hymn 592</dc:subject>
  <dc:title>Beulah Land / Страны богатства я достиг</dc:title>
</cp:coreProperties>
</file>