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AEC-6578-4A45-B6CA-C3572FAA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4B3-6D40-4229-AA04-459C0258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080-A2BB-49EE-ACB3-CBABD7B0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7CA-6BBA-4710-AC2E-2AC9F77B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875-B48F-45AA-9909-44061212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C4E-00C5-470E-836F-79A19F6F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6A6-18F9-451E-82E1-124A80A7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94C-FD70-4F5A-9F45-C9FF1324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2E1-49B7-4F3B-9895-B3023171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27B-48A4-49C6-A9A8-F891FE6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FB0-7495-4F9B-BF23-16538003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5D9-3BD7-4A64-AA26-AD471035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94EEC-CF34-437A-A9DD-832572137C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ранней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полдневной ж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как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уж кончен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ется семя на ранней з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торн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гол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колючих к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паханных бороз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страданий и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мучительных гр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позора,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обид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ердце бо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лёзы блес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вере до славной п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бирать уж начнут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4:36Z</dcterms:modified>
  <cp:revision>12</cp:revision>
  <dc:subject>Slavic hymnal Гимны веры христиан, hymn 539</dc:subject>
  <dc:title>Сеется семя на ранней заре</dc:title>
</cp:coreProperties>
</file>