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1EE-11B9-4707-AAE8-C32898CE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745-8B4C-4264-B78F-11AEA910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7FE-26E3-4EEC-BA5E-EBCE13BB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5AD-2DF2-4EC4-80D8-90B600FA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6C5-7627-4F72-8E75-A055C31C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079-156E-48A8-A5F5-1ADD3207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D1E-2A68-4991-8F12-E9AB71D9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7F8-A0E9-4FE0-9A07-C8EFE768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6D6-2BD1-4616-A73A-0553BC6A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B9F-7A2C-40E0-A710-E8828A16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A56-D43C-44A0-BE88-9A5FE209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A21-4B65-409E-9281-E8EA066F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AA8E8-2C50-49AF-83A8-4D4BE7F7F7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here in unity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ong of Your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in this generation fo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ong of Your forgiv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 is with grace that river flow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19   Take Us to the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throne r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us ears to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y of hea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at cry i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to the fallen sons of m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ercy it has triump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iumphed over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thron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us in the shadow of Your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is Your mighty ang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tands astride the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n his hand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ers on a dry and barren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29Z</dcterms:modified>
  <cp:revision>12</cp:revision>
  <dc:subject>The Source 3, song number 1519</dc:subject>
  <dc:title>Take Us to the River</dc:title>
</cp:coreProperties>
</file>