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4043-A81A-48D4-B0BD-6C3E027C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FC26-0DBE-4859-8E4E-6DDD135B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0532-CBD2-41EE-B059-836F5F6F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6BAB-FC82-43EA-8092-F43FB206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D1F0-30DC-4FF9-9D39-038F8106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A095-B5BB-4073-B3E5-F254417B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851C-AF27-4082-A500-5B5825B6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7B29-AB79-48A2-85AD-BD8C4703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ECA5-F3C6-4FED-987C-79530DBD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F5D9-F433-4DAA-BBF5-D1E279A9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1DA8-81A2-40CA-B2E6-B2908205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105E-0158-48AC-A927-94E2A133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32BC3-09EC-425C-A0A1-696F23C864C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зовёт Спаситель С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у двери и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ём Я сердце жить хоч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огу ль войти к тебе в твой хр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огу ль войти к тебе в твой хр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прощенье Он грех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очет мир в тебя из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сит дверь лишь отвор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огу ль войти к тебе в твой хр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огу ль войти к тебе в твой хр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тебе зовёт Спаситель с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ечно будет умол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к себе Его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май же, друг, Его слов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огу ль войти к тебе в твой хр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огу ль войти к тебе в твой хр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, кто всей душой г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Спасителя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то внимателен к слов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огу ль войти к тебе в твой хр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огу ль войти к тебе в твой хр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удет чувствовать в с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ждя в земной своей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молять он будет с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оставляй мой тесный хра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оставляй мой тесный хра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2:40Z</dcterms:modified>
  <cp:revision>13</cp:revision>
  <dc:subject>Slavic hymnal Гимны веры христиан, hymn 361</dc:subject>
  <dc:title>К тебе зовёт Спаситель сам</dc:title>
</cp:coreProperties>
</file>