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F95-8DEA-47A6-827A-8A060C68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93A-0DAA-4B31-897F-F11A3D1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2FE-322E-413A-9C62-1D0394C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DD8-46C7-4486-A2A4-BE88D04E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457-C352-40A8-9B20-05854706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68A-C479-4EA5-9AAD-22FF1850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2A7-D9B3-45F0-B1C6-A305DEF3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CC5-C1F8-4017-90B1-C1D8C2E8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8E5-69A6-4A93-948E-7C64FC9F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287-0C34-4705-BF40-502B30D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041-3433-4C35-90CB-B1029A7A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AC8-02CD-48F8-8B8D-53DC4AB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07069-A360-43FC-8F4F-9FA04C4605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1   In Christ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39Z</dcterms:modified>
  <cp:revision>12</cp:revision>
  <dc:subject>The Source 3, song number 1311</dc:subject>
  <dc:title>In Christ Alone</dc:title>
</cp:coreProperties>
</file>