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2CF-8035-4379-A58C-9708CC3D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BC5-5501-4819-A1B7-DF41DBCA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BFA-F991-4C89-BE11-EFBCE8B1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1CD-C093-4716-A952-D4E9C51A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C6B8-4BF7-4C37-969E-4C48ABAC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D0B-65DF-4F8F-AFC9-177C7181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FEA-25BA-45AE-B68A-EA3D9BF0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7D0-1240-4E54-816E-A3D9533C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785-8126-4B30-B7A3-42B93672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C53-E1B0-4D2E-9F60-378ADE5E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166-419D-4DE6-B28C-E816A7F0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925-89F1-4587-BAE1-957615E2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7D272-374D-4985-A350-FB9FA5FA51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y kingdom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use of Thine abo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urch our blest Redeemer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own preciou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, Господь, Твой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Господь, Твой д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тог любви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церковь и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х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y Church, O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walls before The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as the apple of Thine ey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aven on Th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пред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церковь — Твой алм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как зрачок лучистых гл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шь её пор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r my tears sha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r my prayers asc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my cares and toils be 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oils and cares shal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еркви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и душ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ываю сердцем и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 мольба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my highest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ize her heavenly w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sweet communion, solemn v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hymns of love and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 имет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ье духа с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ти все тяжести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ест её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ou Friend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aviour and our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and from every snare and f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great deliverance b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и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Церковь Сам 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ы всё здесь побор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вой покой в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as Thy truth shall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Zion shall b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rightest glories earth can y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ghter bliss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разд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славу я Тв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буду петь перед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ою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6T21:33:50Z</dcterms:modified>
  <cp:revision>14</cp:revision>
  <dc:subject>Slavic hymnal Гимны веры христиан, hymn 561</dc:subject>
  <dc:title>I Love Thy Kingdom, Lord / Люблю, Господь, Твой дом</dc:title>
</cp:coreProperties>
</file>