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9501-58A8-4A85-BA2E-29DCD6DB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40F-3BC0-4148-9844-060629D6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D527-BA05-4E4C-831A-926D6DB2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AB2B-14D2-4E88-9C90-2127BC82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A13-BF30-439A-9C3A-21ABAB4F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BF4A-5EF6-4C58-91CB-52A711F4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141-1947-4C03-8407-DF7C9521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149-9790-4863-B54C-7619E9A9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0CA-0354-4939-B186-9CE5C99C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3C82-CABE-44F3-A855-EAF74A44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130-B43B-4C7A-AE29-9BD3E4FC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5F1C-FDFC-4855-8C5A-73E456E1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3B532-E87B-4E1A-BB7E-B8A45997F9E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, You a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uch more worthy than I’ve kn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ima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how glorious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begin to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deep a love You b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my ears have heard of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now my eyes have 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37   Worthy, You Are Wor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praised, for ever and a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praised, for ever and a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I giv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One who saved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found me and You free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shame that was my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begin to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erciful You’ve be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my ears have heard of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now my eyes have 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praised, for ever and a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praised, for ever and a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,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, Your glory reaches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igh above the heav’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,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, Your glory reaches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igh above the heav’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2:45Z</dcterms:modified>
  <cp:revision>12</cp:revision>
  <dc:subject>The Source 3, song number 1637</dc:subject>
  <dc:title>Worthy, You Are Worthy</dc:title>
</cp:coreProperties>
</file>