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F19-1797-4BD0-BBD6-9426B0EF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2BD-DDE5-4A7E-9371-53E71A8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909-2D9B-4841-A83D-1053DE66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61E-5072-428C-9B81-77C597FB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A44-D6A1-4F88-8DF2-2D86751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46D-0D44-46CD-9289-C20FB705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A3D-3AE3-46A4-A070-CF13C83E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98E-F98D-4E59-B8F8-32FBD1AA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6B3-4545-4009-9C84-BB773E8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6A2-A5CC-4C16-87A1-CD0210C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69D-A971-4CEC-B472-CA98408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CC6-5EE0-4E3F-AE78-777215AC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15484-DB0C-4F15-B3FB-17F9CE4BD5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31Z</dcterms:modified>
  <cp:revision>12</cp:revision>
  <dc:subject>Slavic hymnal Гимны веры христиан, hymn 677</dc:subject>
  <dc:title>Стою у Иордана я</dc:title>
</cp:coreProperties>
</file>