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05AF-DB51-46E8-B37C-CB0638E76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0708-13D2-4DCA-9F8F-9BCA74330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DACF-6232-4A08-9E13-7A02A19AD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BD46-6032-4F67-A090-F0425B312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A84A-442B-4D18-B37B-AD54D5990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5A57-4E60-4C7E-963C-5ECBA4807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0A94-5D00-4C2E-87CD-43113C599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598B-2F20-49FC-A610-64E32B81B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70F4-EFB0-4493-AD46-8B6D983E5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85EE-FC7A-4FD9-9C63-B1AC0527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AE3B-8B2B-4AD2-957A-6DC77BCD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3103-251C-437E-B20A-13A223F6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84A3F2-EF35-4E52-BA19-30C3AA08ADE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Он в яслях… чтоб соглас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и шли со всех стор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ыну Божью. Кто сей ноч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ифлееме нам рождё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, Кто Богом был от ве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ял образ челове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избавить род людс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3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т, Он в яслях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ходите и пойм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на землю к нам пришё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, кто в небе всех сильне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имеет Свой престо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Ним падём в смире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сольёмся в дружном пень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сть и слава Богу с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Боже, из нас кто ж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оценит и поймё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решился и явил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традать за весь нар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любовь Твоя сверши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 грешникам откры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ый Бог нам стал Отц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6T23:10:39Z</dcterms:modified>
  <cp:revision>15</cp:revision>
  <dc:subject>Slavic hymnal Гимны веры христиан, hymn 230</dc:subject>
  <dc:title>Вот, Он в яслях…</dc:title>
</cp:coreProperties>
</file>