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478-36E6-4F66-B883-35FD984C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A580-BBE7-463C-A448-AAA5EFBA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3F96-BA6C-4596-ADC1-2437116A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678-CAB2-4F56-95D9-AF5AD6EF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B5C9-3CEE-47FC-B8F4-BAD46EB7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3438-F052-4204-8B8F-EF4C6A08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9D5D-E901-45A0-93A9-8D27A199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8D49-6581-489E-9BAA-DFD86B6B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1559-72D9-49E4-90BB-2D09B6BA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9B5-BF6A-4C6F-8E1E-F8E33121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7EE-29A0-4DE0-A5C1-894CC265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DA6-AD10-4C65-9384-5A524BFA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EB6D0-D52B-4C0B-AC9C-AF3B0B55E86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 in heaven, how we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ft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kingdom be esta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our pr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r people declare Your mighty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Lord God Al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and is and is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Lord God Al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reigns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6   Father in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2:37Z</dcterms:modified>
  <cp:revision>11</cp:revision>
  <dc:subject>The Source, song number 96</dc:subject>
  <dc:title>Father in Heaven, How We Love You (Blessed Be the Lord God Almighty)</dc:title>
</cp:coreProperties>
</file>