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0848-7D0D-4A80-A285-37A71279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54AD-58BD-42E1-A4CF-65D2F362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E3E0-8892-4132-9992-03461F400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6BCB-27CA-4A83-9F58-15A6B025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BE2F-8D30-4E45-A543-C9ECE285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F7E3-BB63-46AD-9168-ACBBD8BF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6F67-8C4F-4CB9-9B8E-BE6350A0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0A3A-099F-45E8-BF78-B8659C7E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2960-5005-4739-AC3C-12329AB2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2BEF-F4F2-45F3-95F1-88EE5A30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33C5-2C3C-4745-B6DE-5013C531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C2AB-BE70-449A-8463-F6E2A3E5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E5557-E0C1-4B8F-8390-A9A75145442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we pray and while we pl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you see your soul’s deep ne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our Father calls you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you not, my brother, c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час молит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молитвы, в час про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твоей нужды боль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приятный, в час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ли, брат, дом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have wandered far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risk another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turn from God your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day accept His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еко ты заблуд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Христа в путях зем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 Он примир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, мой друг, вн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world you’ve failed to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ught of peace for troubled mi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Christ, on Him belie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 and joy you shall rece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найдёшь ты утеш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решном мире сём, брат м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Иисусе в день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обретёшь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Christ, confession mak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Christ, and pardon tak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in Him from day to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keep you all th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прийти к Нему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зыщи прощ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с небес об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твой искуп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11-28T02:21:04Z</dcterms:modified>
  <cp:revision>13</cp:revision>
  <dc:subject>Slavic hymnal Гимны веры христиан, hymn 335</dc:subject>
  <dc:title>Why Not Now? / В час молитвы, в час прощенья</dc:title>
</cp:coreProperties>
</file>