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5E6-4403-46FE-A282-DDD2199B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35D-11DD-4487-AEFE-C3505175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303-A3D6-4E8F-9B98-84140130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6B6-AE29-4756-A84E-4146324C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C67-5322-4AD2-8C18-FDBA39CF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0FE-0AF6-4BA1-A833-5920545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901-16C3-4B06-8578-0D9F21B0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A48-4087-473C-9342-E69DFC9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46C-B617-4D75-9F69-1DAD2F5C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414-4D7F-47B9-8AD1-85A776A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C6D-5CB2-424D-97FE-0BC3E4A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F7C-3271-4A1E-B9EA-B635624F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60586-F305-40DF-9F32-F2127DABB1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closer walk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lm and heavenly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ght to shine upo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blessedness I 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rst I saw the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soul-refreshi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turn, O holy Dove,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messenger of 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te the sins that made Thee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rove Thee from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est idol I ha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that ido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tear it from Thy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onl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my walk be close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erene my fr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urer light shall mark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36Z</dcterms:modified>
  <cp:revision>12</cp:revision>
  <dc:subject>Slavic hymnal Гимны веры христиан, hymn 885</dc:subject>
  <dc:title>O for a Closer Walk with God / В общеньи с Богом жить хочу</dc:title>
</cp:coreProperties>
</file>