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F80-166D-40C7-A016-C5C91944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707-29C9-4B6F-9996-5BCA2D7B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FB9-A036-4FB5-B4FC-E628668F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1BB-EF84-4636-80E3-0B3E464C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3C7-5225-4675-A8C3-288BEE7F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FA8-593F-4107-B4C8-65E512AF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52D-F4C5-4F78-9739-7CA8867A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3FB-C0C7-4796-86D7-C6380F5D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FEA-0BE9-4718-9E61-29BDAC40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B5E-0E14-4E97-91FB-AAA0CBDB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E64-DA01-4BF2-AA60-A2B9C11B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5B2-D095-4939-B082-B5C49574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26798-FBEE-49E1-A219-44334E3CAB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 of God goes forth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kingly crown to 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-red banner streams af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llows in His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аведных по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рез преграды и вра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стремится всл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est can drink his cup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umphant ove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patient bears his cross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ollows in His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ашу горя тихо п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невозму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ерпеливо крест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rtyr first, whose eagl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pierce beyond the gr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aw his Master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led on Him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фан с решимостью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пере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увидел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him, with pardon on his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idst of mortal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 for them that did the wr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llows in his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я тягостны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л врагам сво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осит Бога за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lorious band, the chosen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whom the Spirit 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elve valiant saints, their hope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ocked the cross and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надцать избранны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любви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наш мир спасат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ши всякий стр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climbed the steep ascent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peril, toil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od, to us may grace be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ollow in their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их славны и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ух непобе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мужества 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едовать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2Z</dcterms:modified>
  <cp:revision>13</cp:revision>
  <dc:subject>Slavic hymnal Гимны веры христиан, hymn 499</dc:subject>
  <dc:title>The Son of God Goes Forth To War / Сын Божий вышел на войну</dc:title>
</cp:coreProperties>
</file>