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9BC-C26C-4832-ABBC-BE2C8BD8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B11-95C1-4A3D-8A44-64314DB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362-4A73-4668-968C-95633949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5E5-F4C7-4C1F-9D88-1C963256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716-E1CE-4503-8B0A-5CB14867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B997-0089-4CAC-BFC6-1AA2E83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3B6-97E3-46F7-9576-86512DA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AAF-6B99-4613-BA2D-6E849A7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775-A039-45CE-A4E7-B7146A79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752-C206-4438-B592-F3A6D49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029-BCF8-4B47-96A5-DF4B371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8CD-AF74-4BA2-8F3B-2F147048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1DFDD-DD2A-402E-81A3-A7CFCA410A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</a:t>
            </a:r>
            <a:r>
              <a:rPr b="0" lang="en-A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исус,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т подобных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жизнь, я вос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чьи Твоей дивн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риют, мой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и сил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, всё, что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удет слав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и, земля, Господу тв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о, сила и слава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растают, моря зашум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иц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о делах Твои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люблю, буду в вере сто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Твоя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0:41Z</dcterms:modified>
  <cp:revision>17</cp:revision>
  <dc:subject>The Source, song number 367б in Russian</dc:subject>
  <dc:title>Мой Иисус, Спаситель / My Jesus, My Saviour (Shout to the Lord)</dc:title>
</cp:coreProperties>
</file>