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63B-426F-4D95-9171-0029505A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A0C-3E5F-4D7C-8355-23139661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003-D6F1-4393-8B04-5228D893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F51-9218-4E35-A710-1A1EA0D5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EF9-BB08-4DFE-9AC9-1F623E28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563-61CC-40C9-BA3B-588FC429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126-BE3F-4D48-ADC7-B890E48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138-0858-4F47-B7FE-08C77CAA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2A6-0B11-43E4-B478-BAE9A80E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EDD-7770-48E9-A1BF-FC47EE24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D09-2DBE-4E49-8C2D-385C9594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C36-20EA-45D8-93DF-D35D0F7A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421D2-A077-4D18-88E1-2C9819968B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very thought of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weetness fills my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eter far Thy fac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y presenc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т мир сердц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ж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ребыть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voice can sing, no heart can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can the mem’ry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er sound than Thy bles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 of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ет сердце ни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слав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име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pe of every contrite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of all the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fall, how kind Thou 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ood to those wh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всем прос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ждого к Себе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мирённым близок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ur only joy be Th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our prize wi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Thou our glor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’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, кого принял в Свой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 не пере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любовью дышат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ю дал и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58Z</dcterms:modified>
  <cp:revision>12</cp:revision>
  <dc:subject>Slavic hymnal Гимны веры христиан, hymn 893</dc:subject>
  <dc:title>Jesus, the Very Thought of Thee / Христос, здесь мысли о Тебе</dc:title>
</cp:coreProperties>
</file>