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2EE-BB99-4F9E-B732-5FA2F9D5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F41-BCE9-41F4-9CA1-2DDC534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C88-08DF-486A-9106-090699C1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8B2-A0EC-467F-BEE3-E29BDD35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5D7-13AF-4421-9931-0E0A8991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13E-B988-4C38-A428-ECCD8986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52C-0533-44F0-8EBF-DA7B62CE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CF5-DC81-4DBF-86A0-95E77BA3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9C8-6ED2-40EE-9127-790AA517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403-9DB7-4DC5-8C5F-DE80574E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04A-4071-4437-9A5C-81200B8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3EB-A981-4E43-91A4-1F4E51B3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F503F-A0C5-4D89-BC05-9344FCD8EC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а там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ём значение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венное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потерянную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чим начатое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йны сможем у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емное там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мнело всё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еха не было ни в ч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я обрывалась вдруг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небесной мы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нает всё, Он держит клю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ноя нет, ни грозных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и мир, там всё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8:55Z</dcterms:modified>
  <cp:revision>13</cp:revision>
  <dc:subject>Slavic hymnal Гимны веры христиан, hymn 667</dc:subject>
  <dc:title>Когда-то в свете без теней</dc:title>
</cp:coreProperties>
</file>