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93B1-CAA3-4D84-AFD9-E10C040E5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C9EF-D422-441F-8F35-96A5B5EED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1E11-52BF-482D-A60E-271C3E66B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7878-4C4D-400A-996D-224FC4519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18D3-EB8B-411E-BDD1-D5CBC2F69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E17E-AC1F-48E0-BA79-BA41A6699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D6F0-F8BB-4F0D-942E-773F974A9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35AF-B4FA-4921-AAFD-C15E7E081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58F5-1F93-4FD1-93F2-80320F6F0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FBFC-4C6F-4F17-BC3B-E72F81908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FE19-9898-44F4-B6CC-6B4BDB38A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E20C-E658-4937-8C3B-C7E3ACDAA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121F1A-5FA2-4622-B469-FEACCA390B2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шует житейское мо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овною страстью кипи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круг — слёзы, вопли и го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а изнывает, бол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боремся, силы теря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ерим: поможет нам Бо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тихую пристань узна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 пристань — небесный черт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1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ушует житейское мор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шует житейское мор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мно, непроглядно вок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отрю я со скорбью во взо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наю: кто враг мой, кто д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боремся, силы теря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ерим: поможет нам Бо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тихую пристань узна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 пристань — небесный черт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шует житейское мор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як… а на нём огонё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адья наша с бурею спо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гонь маяка нас привлё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боремся, силы теря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ерим: поможет нам Бо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тихую пристань узна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 пристань — небесный черт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шует житейское мо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ирепо и грозно шум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мраком не видно простор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асностью море гроз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боремся, силы теря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ерим: поможет нам Бо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тихую пристань узна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 пристань — небесный черт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55:58Z</dcterms:modified>
  <cp:revision>12</cp:revision>
  <dc:subject>Slavic hymnal Гимны веры христиан, hymn 512</dc:subject>
  <dc:title>Бушует житейское море</dc:title>
</cp:coreProperties>
</file>