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BA3-5482-43D1-B3A8-FEF085A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433-E174-4EAC-8477-32C9B3F7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24D-47A9-40C2-B905-68D5AA5F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676-BE35-4D7B-9417-9554A030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E27-7A3A-4A3E-8BB8-076A0D62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847-E450-4A25-B101-2B705B6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568-CAA3-464D-BA5D-2D07959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75D-6CB2-4D94-BEF4-A41E93F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400-D4C6-4F15-A737-3DB2A907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98A-4481-4C4A-BB4B-F135F80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AF4-FDE3-4320-81EB-214912B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918-84E6-419D-8555-BCEFEF8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92C8B-133E-46C5-A365-62A96693E4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have strength to 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problems on life’s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pleasur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ill of God each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d’s grea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better under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eceive ab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ings at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learn God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us to know and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xpec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wait His coming,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6Z</dcterms:modified>
  <cp:revision>14</cp:revision>
  <dc:subject>Slavic hymnal Гимны веры христиан, hymn 453</dc:subject>
  <dc:title>If We Trust Implicitly in Jesus / Мы бодрей на жизненном пути пойдём</dc:title>
</cp:coreProperties>
</file>