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6C77-D831-4F74-9A5C-0675B2A03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7BD3-8D52-4F87-88D6-55BA0B972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E47C-5792-4ABB-B0EF-780F9CB1D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2388-33BB-4384-B1E2-4815321A2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5FC9-AD17-415A-ABF3-E60E3DE22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8D3D-E9C4-4367-99A5-9B583CC54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4D2D-D162-40A3-9517-66A23DBE2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D914-CCA4-400B-B43D-F9686D9F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C038-E9AD-4273-9CB0-419810E57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D842-F95E-4A1A-9196-289987AC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0125-4949-4B01-9C22-DB8A92425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81B6-DDE1-4B24-9EA7-3E0064E5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8E9566-AB49-4616-A009-E8FC4C27A89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still and know that I am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still and know that I am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still and know that I am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am the Lord that healeth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am the Lord that healeth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am the Lord that healeth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48   Be Still and Kn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e, O Lord, do I put my tru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e, O Lord, do I put my tru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e, O Lord, do I put my tru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6:09Z</dcterms:modified>
  <cp:revision>10</cp:revision>
  <dc:subject>The Source, song number 48</dc:subject>
  <dc:title>Be Still and Know</dc:title>
</cp:coreProperties>
</file>