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534-5245-4AF3-B9C5-B8A2F4CF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B43-873B-4395-AB23-11300EC3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16D-715E-40CB-B55E-582C08C4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7D8-9697-4741-A2E6-4D5E9850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83A-4C6A-4D25-AE32-BF077FDB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D90-7F25-4B3C-9383-211738DD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FF1-8263-4D75-9403-BCCDCB62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C76-A067-4091-8010-159BD967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0AF-3D61-4F7E-9F20-85D7670F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A75-238E-4289-91FD-75E70B45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7AE-A777-414E-BC9F-ABF519A6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5FD-A24B-4A81-8651-2D0A40D3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A7752-F1FD-4BFF-AC8A-B9F62544A2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y God’s wond’rou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hath made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hy, unworthy, Christ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ed me for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8   Не знаю, чому Бог ме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чому Бог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рив Свою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бо чому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is saving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did im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how believing in Hi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ought peace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як Бог дав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іння дар прий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ила Його Слова 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є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e Spirit m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vincing men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vealing Jesus through the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ing faith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, як Дух Св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ть в вір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криває нам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жественних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en my Lord ma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night or noonday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if I’ll walk the vale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meet Him in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 часу, ні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прийд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через смерть, чи Сам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день Він заб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4:15Z</dcterms:modified>
  <cp:revision>12</cp:revision>
  <dc:subject>Slavic hymnal Гимны веры христиан, Ukrainian hymn 48</dc:subject>
  <dc:title>I Know Whom I Have Believed / Не знаю, чому Бог мені</dc:title>
</cp:coreProperties>
</file>