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D44-4463-4E71-B9D1-8770152F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F94-D19A-44FC-9204-3627265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BCE-60C7-4718-94AE-16CBCE81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DC0-F3B6-4BDF-B735-7292E858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976-600E-4D98-A643-138F459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1A7-50ED-4D01-A3C1-B51B9E37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892-DA64-4E83-8A39-0E8B5BB4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90E-3355-42C3-98B3-6EDEEB1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720-E290-4868-BE9B-09E141B6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973-3DBA-48FF-BF15-45E539E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C6F-4529-4C9F-93B6-D6D67D4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7C2-E511-4B7A-BC40-6AA1D58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BA214-A0C1-4965-B603-AD1F7F4D63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06Z</dcterms:modified>
  <cp:revision>10</cp:revision>
  <dc:subject>The Source, song number 463</dc:subject>
  <dc:title>Spirit of the Living God</dc:title>
</cp:coreProperties>
</file>