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7</a:t>
            </a:r>
            <a:r>
              <a:rPr b="1" lang="ru-RU" sz="3600" spc="-1" strike="noStrike">
                <a:solidFill>
                  <a:srgbClr val="ffffff"/>
                </a:solidFill>
                <a:latin typeface="Verdana"/>
              </a:rPr>
              <a:t>	</a:t>
            </a:r>
            <a:r>
              <a:rPr b="1" lang="ru-RU" sz="3600" spc="-1" strike="noStrike">
                <a:solidFill>
                  <a:srgbClr val="ffffff"/>
                </a:solidFill>
                <a:latin typeface="Verdana"/>
              </a:rPr>
              <a:t>Молитвы час</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Молитвы час, молитвы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мира направляе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престолу вечного От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крыть доверчиво серд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инуты горя и трев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утешает Вечны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бы луч света не пог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людям дал молитвы час.</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Молитвы час, молитвы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крыл, чтоб не сводили гла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ого, Кто в верности С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ти желает всех люд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искать Его ли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и верить до кон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ня Он милостиво с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люблю молитвы час.</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Молитвы час, молитвы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ёт нам новых сил за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ткрывает чудный ви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уда, где вечный день цар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же тленное спа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вечный дом откроют вх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скажем, уходя от в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щай, прощай, молитвы час!»</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4T11:02:51Z</dcterms:modified>
  <cp:revision>3</cp:revision>
  <dc:subject>Slavic hymnal Гимны веры христиан, hymn 7</dc:subject>
  <dc:title>Молитвы час</dc:title>
</cp:coreProperties>
</file>