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DAB-2A10-4BA6-9738-F936BC88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3CD-FE48-4E14-8F46-C79C67F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D16-FB76-4306-BDAC-AB86D2CB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A1D-E14A-4B2D-9DE9-6E7D8DA4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883-5A81-4A7D-9A95-DAFD4E73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8DA-BC13-4BCF-84A6-C5173431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2B3-19BB-4560-9314-07974945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3DF-A446-4FBD-954C-C6AC7F32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E7A-F153-4D21-98F5-077DACA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B69-CF0B-4E41-9DC0-6B64720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781-3F40-4786-A3BA-D08CE4AC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D01-E91D-45C0-AF88-7749DAC8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0A245-8175-4841-88BF-6791365399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астырям ночью голос прозвуч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таньте, не бойтесь, Бог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ть не страш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ад Давидов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Христос рожд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пастырям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ях Младенец в пеленах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м Господень ангел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пали на кол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я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паситель от греха 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обещан от начала л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цари, пр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ждали, а убо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ся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говеньем станем перед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пасенья Он даёт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чистую все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13Z</dcterms:modified>
  <cp:revision>13</cp:revision>
  <dc:subject>Slavic hymnal Гимны веры христиан, hymn 233</dc:subject>
  <dc:title>К пастырям ночью голос прозвучал</dc:title>
</cp:coreProperties>
</file>