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DC5-184C-4407-A4FF-777EE8FF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4D5-4ECA-4D8B-97C4-02C92542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21C-3D7D-4931-BCDA-23E21E66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95C-6CED-46F6-B608-B322936E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816-33B0-4140-BC6B-59634FE9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3EA-57C1-4A67-BD9C-E3639451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56C-CDF6-4CFA-89DD-DF730D9B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401-D803-411A-A4A7-E9CC9C23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F68-BD0F-4A35-AA3C-DA048EE8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F94-C071-4A64-882A-61CF4A2C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EAE-FF67-4BE3-8A60-D314B94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33F-DFC0-4215-A4BA-BEF1313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45997-CABF-4616-9CCA-6BFF7910F8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uiding lap of the oce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hand on my rudder’s he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love behind the bill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ind within my s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08   Glory to Thee, O God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prayer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sanctif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loving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deed 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satisf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wish on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holy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26Z</dcterms:modified>
  <cp:revision>13</cp:revision>
  <dc:subject>The Source 4, song number 1808</dc:subject>
  <dc:title>Glory to Thee, O God of Life</dc:title>
</cp:coreProperties>
</file>