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42</a:t>
            </a:r>
            <a:r>
              <a:rPr b="1" lang="ru-RU" sz="3600" spc="-1" strike="noStrike">
                <a:solidFill>
                  <a:srgbClr val="ffffff"/>
                </a:solidFill>
                <a:latin typeface="Verdana"/>
              </a:rPr>
              <a:t>	</a:t>
            </a:r>
            <a:r>
              <a:rPr b="1" lang="ru-RU" sz="3600" spc="-1" strike="noStrike">
                <a:solidFill>
                  <a:srgbClr val="ffffff"/>
                </a:solidFill>
                <a:latin typeface="Verdana"/>
              </a:rPr>
              <a:t>Дорогие минуты нам Бог</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Precious moments we shar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ts rejoicing, as w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ngregate in the name of our Lor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орогие минут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Бог даров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увидели братьев, сестёр,</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the pathway of lif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by Him will be l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Knowing God all our need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will supply.</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бронёю Ег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покровом щи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дём по Господним следам.</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promised that H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esent with us would b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our hearts beat with His in accor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Иисус дорог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ми бы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дим Богу в сердце простор!</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h, how pleasant it i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His presence to mee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utting out the world’s tumul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and din;</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приятно нам встретить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ами пред Н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ение мира забы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rewarding it i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ust to sit at His fee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receive untold blessing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from Him.</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радно, исполнившис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Святы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щение душ раздели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ravel-weary, we co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is haven of res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relax where God’s waters still flow;</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ы, Сионские путни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отдохн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источников Божьей воды;</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n, renewed and restor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His Spirit refresh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our way with rejoicing we’ll go.</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Фаворе побуде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нова пой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Господом мимо вражды.</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In a fellowship bless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hearts have been boun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by manna from heaven been fed;</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Здесь в общении сладк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ыли мы стра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уровые камни пути.</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God’s wonderful book</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aily bread we have foun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new strength for th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pathway ahead.</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одренье нашли м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сподних слова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 силою новой идти.</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In a close-knit communio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Christ as our Hea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endued with God’s powe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from high,</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Потеснее окруж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а Хрис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зирая к предвечным горам,</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0:17:25Z</dcterms:modified>
  <cp:revision>4</cp:revision>
  <dc:subject>Slavic hymnal Гимны веры христиан, hymn 742</dc:subject>
  <dc:title>Precious Moments We Share / Дорогие минуты нам Бог даровал</dc:title>
</cp:coreProperties>
</file>