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CBC-10C0-41D4-A142-285E2FA3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0C3-9D09-45D6-9D17-9701DC7E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DCA-4FA4-45C3-9076-A5BA4EA1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586-20A0-443B-9374-377F28A1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F72-C445-4D98-BC83-7E05AD35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826-D8CA-42B0-A63F-27092B45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D34-7EA6-4A7C-A584-FDFFFEF1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BEE-8BFA-4074-8D85-1A969ABD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F96-7BED-4527-886E-59E1FE4F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110-947D-4125-9A73-EC7FDFE0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35A-4CF9-48CB-B55D-B93F744E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5A8-630F-44CF-BC50-F095CFA2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253E2-467A-4D64-8A5E-0CBB77AD54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ра, стойкая в борь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ждая враж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боишься ни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горя, ни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ачешь и не ропще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крест нес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ибольшей тес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ободе нас ве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вера, стойкая в борь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шь ярче и пол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ревог и см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чных дней в сердца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аешь славный тр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веру нам по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вято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ще видеть из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5:16Z</dcterms:modified>
  <cp:revision>12</cp:revision>
  <dc:subject>Slavic hymnal Гимны веры христиан, hymn 851</dc:subject>
  <dc:title>О вера, стойкая в борьбе</dc:title>
</cp:coreProperties>
</file>