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C84-BFCC-457B-8516-6F6F8F57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91E-367F-445F-B02C-95F2744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2B6-A4B7-4A3F-8216-FAD26C08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7A6-0041-4741-9944-BE457376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557-49B2-4AD9-9B67-1395D270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318-5924-432F-A0E8-5630D04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F3B-3459-428C-B9FE-E166CA29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899-5804-4AAD-A466-8A2A52B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A63-9E71-412A-90E1-A25447E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4CD-8C73-4CF5-8921-6BA7423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689-5228-4B0D-911B-71E71A0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A2E-1FB5-462A-8ABD-4D7373BC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5D299-4303-4F98-A5DA-C80A9869CD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02Z</dcterms:modified>
  <cp:revision>12</cp:revision>
  <dc:subject>Slavic hymnal Гимны веры христиан, hymn 501</dc:subject>
  <dc:title>Укрепляйся Христом</dc:title>
</cp:coreProperties>
</file>