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548-FC47-496A-898C-60A8144C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F4A-807D-4537-ADAD-A6195CA2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F03-337D-48C4-A42A-3A50C293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548-B3B2-45BE-9FA6-FFF6C572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EB0-86D9-4062-AB11-61C81129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C74-A9AF-4099-AC7C-F96352EA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292-B1B7-484F-AB41-FF5A1695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D0D-2F35-43A0-8A41-676D9A1D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B19-2ADE-4A11-9E82-D586AE3A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57B-7C1E-4356-988A-A8A95BE9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998-CFE7-4E56-8095-CB918857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AED-212A-45C2-AF82-BEDF5352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AA66C-FA33-4FE2-ACF9-7C05F51C6F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He rescued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blood has cover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ame He’s taken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ain is healed in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aise a bann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ha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6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Know He Rescued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He rescued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blood has cover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ame He’s taken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ain is healed in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aise a bann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ha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my bu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ise with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dancing on this mountain-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r kingdom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13Z</dcterms:modified>
  <cp:revision>11</cp:revision>
  <dc:subject>The Source 2, song number 768</dc:subject>
  <dc:title>I Know He Rescued My Soul (My Redeemer Lives)</dc:title>
</cp:coreProperties>
</file>