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219-42A3-4A71-82ED-FE2FD5D8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F3F-6C65-4FE6-83F3-B865ECF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220-EEE5-4BF0-8C1F-837C515D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799-5270-4C08-AE7C-394AD07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907-94FE-4F8D-8531-E78B8F9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147-E17A-4C47-A718-965EB930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47A-436A-4987-967E-2710BD9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149-3426-4C40-BA31-0F7BE042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F77-E20A-487C-860B-2F44101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3B5-BD07-4CA0-B563-7FDCC0C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52B-8B3A-460A-AC0F-D26C069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99A-0255-40C1-81A0-2D90BC89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38E67-A98D-4394-894F-8D5F0F9D73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Saviour that He di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ondemnation He hath ma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said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iquities on Him were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debtedness by Him was pa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on Him, the Lord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poor and needy, I can trust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ak and sinful I believ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lad message! Every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unworthy, yet I will not doub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that cometh He will not cas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,” oh, the goo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9Z</dcterms:modified>
  <cp:revision>14</cp:revision>
  <dc:subject>Slavic hymnal Гимны веры христиан, hymn 635</dc:subject>
  <dc:title>Verily I Say Unto You (Oh, What a Saviour, That He Died For Me!) / Спаситель за меня в могиле был</dc:title>
</cp:coreProperties>
</file>