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C32B-4262-458F-9512-2F621F50D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A0CD-7ADA-4DEB-AE62-FD5CCC06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D44D-E33E-43FE-A4E8-2A6DF3DCC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5B86-A32D-4081-B3CE-36E6BAE73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9B59-448C-4D0F-98E2-3D504D48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0FF2-F1F3-4538-A3A2-BA34878D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C585-E595-47EC-A721-83260058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81E8-108A-4C49-B7DF-28A9FCCF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727A-9C84-4832-AE59-DFC62530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79CC-3509-4F3D-8168-2C50A0F9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E5B1-A774-4C01-A46F-2AC2662A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BA6C-AE73-4D4A-A655-5205779E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D4D8A-8ED1-4239-836D-1EA81D0C5F1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 Его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покой мне дал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ей ко мне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 есть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что я спасё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ждёт меня Отец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даст мне место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руках я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 Его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покой мне дал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ей ко мне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всех забо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ны искуш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в сердце не в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меня не мож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оспода отня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для Него готов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иться и стра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 Его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покой мне дал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ей ко мне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умер за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Него лишь толь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а вся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коро избав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 зла пройдёт, как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сле этой но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нет вечный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 Его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покой мне дал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ей ко мне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0:55Z</dcterms:modified>
  <cp:revision>12</cp:revision>
  <dc:subject>Slavic hymnal Гимны веры христиан, hymn 643</dc:subject>
  <dc:title>В руках я Иисуса</dc:title>
</cp:coreProperties>
</file>