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2DD-4790-46D9-A76B-8FCD6502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416-69FB-44EF-81AC-4DCDB097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3FE-D950-421D-A30A-FC70BBB4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E50-B58A-4798-9048-D9C9559F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A3B-B1D2-4C50-A3A8-150EBFB3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282-89B9-42A8-B36D-F727C773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764-0A5A-44C9-8E2A-74E50154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76E-0B2B-483A-B8AE-CD54C201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963-45F4-4776-A46C-C491F5C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E79-F47F-4DD2-A9F9-E7DC380B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332-2BB1-4627-9DAF-6E22D512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954-A78D-48D1-BE94-E8D27A65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BB18C-F3ED-4EB1-AF20-5958A13C40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hild is this, who laid to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Mary’s lap is slee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angels greet with anthems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shepherds watch are kee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итя в хлеву чуж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итя в хлеву чуж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охра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поёт о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астухи вним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, this is Christ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shepherds guard and angels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haste to bring Him lau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lies He in such mean est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ox and ass are fee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 Christian, fear; for sinner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Word is p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яслях Он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вцам корм да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ий мог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ить свои печ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ils, spear, shall pierce Him thro’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be borne, for me,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, hail the Word made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bring Him incense, gold and myrr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peasant, king, to ow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kings, salvation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ing hearts enthron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 дар золото, ла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у принес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пред Ним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сердца отв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, raise the song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irgin sings her lulla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, joy for Christ is b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3:13Z</dcterms:modified>
  <cp:revision>16</cp:revision>
  <dc:subject>Slavic hymnal Гимны веры христиан, hymn 800</dc:subject>
  <dc:title>What Child Is This? / Что за Дитя в хлеву чужом?</dc:title>
</cp:coreProperties>
</file>