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1C5-D771-44F2-A207-A9E538D1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CD6-147B-48D8-B656-706E2B3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B2E-8ECA-43E0-B572-9724A21B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BF0-833B-430F-888B-150A4A41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8E5-568B-48DB-855A-BCBD02D0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A72-9D72-4B4A-A57F-2C2F827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05F-AA2A-46DF-AB61-3A33CE68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22A-49A2-434F-870B-BAE3AE3E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2F7-CC67-4357-B19F-64E8EDD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529-699B-4181-8FEA-0DD64A1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56B-9515-4C09-B96C-7E2872E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DBB-B18A-47F8-9C6A-9F6E26E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76184-CD10-46C4-9A67-393C2964A0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e i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4   He is the 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19Z</dcterms:modified>
  <cp:revision>11</cp:revision>
  <dc:subject>The Source 3, song number 1244</dc:subject>
  <dc:title>He is the King of Kings</dc:title>
</cp:coreProperties>
</file>