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6BE-DC34-4191-AD64-9CACE8E6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8E4-354B-4BA2-BFE3-3299475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0F0-FD9D-4F91-B52E-4AEAC5A6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E51-7424-40DC-BDE8-BA65E13C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060-5136-4116-A4F1-1DE8EAD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ED1-D483-476A-8226-61B93FD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B70-E563-4071-9D60-89516A2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B66-3F47-42BF-B279-84E12958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880-4228-4F7D-96B5-34BF94FE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6C9-1FAC-4D9A-976F-875850BC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9F6-F250-4D7A-8F36-3EB7D7EB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D70-8500-4A49-BB80-4FE9F8C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53A86-10D6-4108-BD84-29CE57D6A4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down, thou weary one, lay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d upon My brea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 as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and worn and s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und in Him a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I freely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ving water; thirs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op down, and drink, and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, and I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life-giving st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hirst was quenched, my soul rev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live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this dark world’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nto Me, thy morn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y day be br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ed to Jesus, and I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my Star, my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light of life I’ll wal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ravelling days ar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4Z</dcterms:modified>
  <cp:revision>13</cp:revision>
  <dc:subject>Slavic hymnal Гимны веры христиан, hymn 469</dc:subject>
  <dc:title>I Heard the Voice of Jesus Say / Иисуса глас я услыхал</dc:title>
</cp:coreProperties>
</file>