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98</a:t>
            </a:r>
            <a:r>
              <a:rPr b="1" lang="ru-RU" sz="3600" spc="-1" strike="noStrike">
                <a:solidFill>
                  <a:srgbClr val="ffffff"/>
                </a:solidFill>
                <a:latin typeface="Verdana"/>
              </a:rPr>
              <a:t>	</a:t>
            </a:r>
            <a:r>
              <a:rPr b="1" lang="ru-RU" sz="3600" spc="-1" strike="noStrike">
                <a:solidFill>
                  <a:srgbClr val="ffffff"/>
                </a:solidFill>
                <a:latin typeface="Verdana"/>
              </a:rPr>
              <a:t>Начни, язык мой</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Начни, язык мой, прославл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вышнего де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езмерна Божья благод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Щедротам нет чис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елик и верен Он во вс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правды и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Божьей милостью жив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д всеми объяв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Погибших грешников спас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тов Он каждый ми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кто спешит Его призв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Его пости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Господне слово не прей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м движутся мир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вездам Назначивший черё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м шлёт Свои дары.</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Я больше всех даров любл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слова: «Ты —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том восторженно п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сделал Он со мной.</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0T10:29:14Z</dcterms:modified>
  <cp:revision>3</cp:revision>
  <dc:subject>Slavic hymnal Гимны веры христиан, hymn 98</dc:subject>
  <dc:title>Начни, язык мой, прославлять</dc:title>
</cp:coreProperties>
</file>