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3</a:t>
            </a:r>
            <a:r>
              <a:rPr b="1" lang="ru-RU" sz="3600" spc="-1" strike="noStrike">
                <a:solidFill>
                  <a:srgbClr val="ffffff"/>
                </a:solidFill>
                <a:latin typeface="Verdana"/>
              </a:rPr>
              <a:t>	</a:t>
            </a:r>
            <a:r>
              <a:rPr b="1" lang="ru-RU" sz="3600" spc="-1" strike="noStrike">
                <a:solidFill>
                  <a:srgbClr val="ffffff"/>
                </a:solidFill>
                <a:latin typeface="Verdana"/>
              </a:rPr>
              <a:t>Славьте Бога</a:t>
            </a:r>
            <a:endParaRPr b="0" lang="en-US" sz="3600" spc="-1" strike="noStrike">
              <a:solidFill>
                <a:srgbClr val="000000"/>
              </a:solidFill>
              <a:latin typeface="Verdana"/>
            </a:endParaRPr>
          </a:p>
        </p:txBody>
      </p:sp>
      <p:sp>
        <p:nvSpPr>
          <p:cNvPr id="39" name=""/>
          <p:cNvSpPr/>
          <p:nvPr/>
        </p:nvSpPr>
        <p:spPr>
          <a:xfrm>
            <a:off x="539640" y="468360"/>
            <a:ext cx="9360000" cy="6983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1600" spc="-1" strike="noStrike">
                <a:solidFill>
                  <a:srgbClr val="ffffff"/>
                </a:solidFill>
                <a:latin typeface="Verdana"/>
              </a:rPr>
              <a:t> </a:t>
            </a:r>
            <a:endParaRPr b="0" lang="en-US" sz="16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лавьте Бога, славьте в песнопенья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славьте жизнью всей сво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громких песнях, в радостны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хваленья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ь мучений и среди скорб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16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ы Бог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сей душ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нас Он спас Соб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ы Бог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а вечная Ем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лавьте Бога каждое мгновень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чувствах ваших, мыслях и дела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Его — Творца долготерпень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миру, гибнущему во греха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ы Бог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сей душ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нас Он спас Соб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ы Бог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а вечная Ем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лавьте Бога, славьте всей душо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Его великую любов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от смерти спас Он нас Собо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кресте пролил святую кров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ы Бог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сей душ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нас Он спас Соб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ы Бог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а вечная Ему.</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лавьте Бога, славьте бесконечно,</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о Сам во славе Он придё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оей любовию чудесн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ом Отца нас всех Он приведё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ы Бог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сей душ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нас Он спас Соб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ы Бог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а вечная Ему.</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1:13:10Z</dcterms:modified>
  <cp:revision>4</cp:revision>
  <dc:subject>Slavic hymnal Гимны веры христиан, hymn 113</dc:subject>
  <dc:title>Славьте Бога, славьте в песнопеньях</dc:title>
</cp:coreProperties>
</file>