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A92-BB39-4EBE-8AFF-C967FBB0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E8B-495E-40DA-9229-EA14889A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430-05C9-4362-A3E4-797FC0EE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462-4C19-4FE4-AD6F-A5B3C3C3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5A5-6352-4253-98B5-EA5CBB4F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F13-5462-4AC8-8C7A-FFEAB87C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445-FBFB-467D-9DBD-9B9D4018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876-C20E-4813-995F-0FF3CABC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253-8BA3-4744-8791-1D2A3E6A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1CF-6A52-4BE0-9F07-2B6F2E1B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092-82FA-443A-A2BA-E10C0409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07B-00B6-43AC-B91D-C1635380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B2621-1973-480A-B503-CD39075186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близи креста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егда пре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 Скалы высокой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дых от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утнику надёж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а от невз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 страданий отдох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земных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близи креста Христ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лабым обод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наннику при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лость Божья в мир со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менила с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Иакова в ну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м чудным обод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мертью Агнца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 в небо нам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Христ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ел я в свет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, Верного От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умер з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прильнувши ко кре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лубже позн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Господней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от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ни креста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у до конц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до мне иных луч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вет Е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покидаю, не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сё здесь нипоч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 лишь самого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юсь Его кре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1:55Z</dcterms:modified>
  <cp:revision>12</cp:revision>
  <dc:subject>Slavic hymnal Гимны веры христиан, hymn 415</dc:subject>
  <dc:title>Вблизи креста Христова</dc:title>
</cp:coreProperties>
</file>