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414-2D47-481E-B4E8-C785254C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C9B-D60E-4447-BFF5-B4996295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2D1-6AA9-4C55-9C53-E408D7B4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711-BC3A-46F9-AB61-385A8AE6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952-D2DB-4860-A3F1-D8C6546D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98F-2D4C-45E6-A226-D89F62B0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468-24F6-4CF4-9FF1-45060E8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E1E-0FB6-4BAC-8184-F1BF640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D83-136F-4DFB-8425-9C24A819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5EF-B926-48C9-871E-9F6431C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E26-A7CD-46DF-B4FC-98C893F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446-A8FD-40D3-ACB0-29C8269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E004-527D-43C7-8974-DBD3860B2A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ёл я пустыней грехов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а терзал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готы жизни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и страшнее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стном мире огро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тейски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я калекой бездо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ой ничьей не сог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ёл я пустыней грехов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, когда гибель гроз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оззвал я к Творц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семогущая 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суждает к конц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ял Он мольбе сокр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из бездны из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за это свер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рогой огонё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гасимой лампа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оём сердце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вывел из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под кладбищенск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любов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Зиждитель —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незабвен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, неж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48Z</dcterms:modified>
  <cp:revision>12</cp:revision>
  <dc:subject>Slavic hymnal Гимны веры христиан, hymn 771</dc:subject>
  <dc:title>Брёл я пустыней греховной</dc:title>
</cp:coreProperties>
</file>