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2B34-4CA9-4DB8-85A2-3BC113C7D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C557-8B75-4270-9D0C-0E0A5DEB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C3EC-84F9-4323-B9D5-DF256C32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C967-1446-4EF8-B51C-2480CB678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07F4-CB0C-4E36-8140-0132CF98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BF45-5DF8-4056-B463-8536A318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7A73-0464-40EB-8399-C54D1D2D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E7DB-2371-42E9-A604-5CF67C61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DF73-4CDD-4FAC-A4BC-85C55A91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79D9-EB15-49DC-875D-B0B18295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5AAB-B135-46C7-9EB1-C2AA54B4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4D7A-5E16-4804-975E-D09AB3AC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2CF19-49F1-418D-8350-9C7A90F0443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God is an awesome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reigns from heaven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wisdom, pow’r and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God is an awesome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repeat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ш Бог — всемогущ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— всемогущий царств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лаве С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чудный, любя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— всемогущи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(повторить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28:40Z</dcterms:modified>
  <cp:revision>11</cp:revision>
  <dc:subject>The Source, song number 418 in Russian</dc:subject>
  <dc:title>Наш Бог — всемогущий / Our God is an Awesome God (Awesome God)</dc:title>
</cp:coreProperties>
</file>