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0ABE-59FA-42B0-820D-7ACF72D96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AEBC-5BFC-415B-B29C-80EA75BF0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5913-C73A-44D5-888F-F09ECD0A1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112B-09FC-4900-8338-ADCF67D75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527C-1AF5-4E6B-93AD-084F4096C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F9C1-D42E-4E22-9C2A-3836C787B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E7DB-E15D-4290-B098-927747482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876B-B22A-41A1-B624-7E4405E11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7C66-6EA2-47D9-9E38-AA453887C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71DB-8BCF-4933-8251-053915B31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EAFB-B56F-42E0-B9E3-D363539B7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D260-5138-4A47-ADA0-1297F27A2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B178D1-8C08-4958-869B-39E2AB0BB72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 стоим ещё у бре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краю большой рек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жидаем перевоз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на Родину вой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туманы над рек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ужасен гул вал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и ангельское пе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родных слышно берег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9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Здесь стоим ещё у брег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ерусалим прекрас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дали уж виден н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ивен свет его прелест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влекущий к небес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ж отозваны и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, на пристани, тепер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и нас возьмёт Спас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с ними, будем — вер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возь холодные тума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этой жизни мы пройдё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 вечное блажен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редь искупленных найд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02:41Z</dcterms:modified>
  <cp:revision>12</cp:revision>
  <dc:subject>Slavic hymnal Гимны веры христиан, hymn 695</dc:subject>
  <dc:title>Здесь стоим ещё у брега</dc:title>
</cp:coreProperties>
</file>