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8E2-FB42-466D-A596-ED4499DC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8B4-E221-4D7A-AE41-DA8B5B93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FD6-5D43-42C2-AC8D-AF728E0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1E0-A6A7-4A3D-9A53-828153E6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2B9-9282-40E2-BF9B-53BD6D17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FDA-AA79-4506-B9DC-414211D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B00-0BD0-4921-9475-4B97DE3A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6A0-12EB-4599-8378-14E04355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54D-4FCA-4A02-AB48-7C2FC929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72B-9FF8-458F-811D-0EF19AC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9A8-28CA-4026-8679-8B2557CC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F11-6DB8-4FE0-8D5B-A0F44F9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AA3BE-166F-45B8-84DB-771B67D376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1:33Z</dcterms:modified>
  <cp:revision>13</cp:revision>
  <dc:subject>Slavic hymnal Гимны веры христиан, hymn 592</dc:subject>
  <dc:title>Страны богатства я достиг</dc:title>
</cp:coreProperties>
</file>