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FA5-9F77-4012-855C-B047B3FE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15B-8308-41ED-809A-9D0E22E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581-B84A-4253-94E3-FF2F0C1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6E7-6BD3-4906-A8AC-DE7D5917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B94-604F-4CC9-86D0-EFA6374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89F-F528-47B5-83A4-34AB31CB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722-5ACF-4380-98AB-D5B9DB8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FFE-FB1A-4F47-8575-9636767F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3FC-10D6-4947-ACE0-9C34224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D26-B877-4319-ADB9-0EFECC5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1F5-D5C1-4BEF-8297-E5D5C55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A17-F465-469C-8D39-166BE7D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8A826-C7C8-4031-8282-E74E8309F3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53Z</dcterms:modified>
  <cp:revision>12</cp:revision>
  <dc:subject>Slavic hymnal Гимны веры христиан, hymn 288</dc:subject>
  <dc:title>Во гробе Он лежал</dc:title>
</cp:coreProperties>
</file>