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B31B-685D-4562-9D65-A7A1C2991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2E0E-56E3-4454-80AF-7FF04CB10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4D25-D7BB-452A-91D4-2399BA1E2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91F4-8DFD-484E-AE60-D57C9BC1B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25CA-9909-4A26-98F0-CE11536B7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9D39-AA5C-492C-9551-E29C06F9A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E843-2428-42AA-A65E-EFC64CAA2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2DAF-9597-4387-A66B-6B3FBEBE2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AA61-F463-47B0-86AE-2E19EA334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E4B7-850B-4B47-BD27-2D473A49D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96B8-561D-41FA-B9F3-59E467C99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02FB-2E20-42C7-8A75-23D172E72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8BF795-AB93-482F-BE7C-5E851129D95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372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You have longed for sweet peac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for faith to increas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have earnestly, fervently prayed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ut you cannot have res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r be perfectly bles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Until all on the altar is lai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9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 покое вздыха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 покое вздыхал, больше веры жел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 сердечно, усердно просил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о забыл, что лишь тот мир и радость найдё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то здесь всё на алтарь возложи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s your all on the altar of sacrifice lai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Your heart does the Spirit contro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You can only be bles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have peace and sweet res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s you yield Him your body and sou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озложил ли ты всё на Господень алтар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ух ли Божий владеет тобо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Тот в блаженство вошёл, мир и радость нашёл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то отдался Христу всей душ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ould you walk with the Lor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n the light of His Wor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have peace and contentment alway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You must do His sweet will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o be free from all ill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n the altar your all you must l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Чтобы с Господом жить, в свете слова ходит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сердце Духа иметь вечный дар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ужно волю Его ставить выше все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 себя возложить на алтар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s your all on the altar of sacrifice lai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Your heart does the Spirit contro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You can only be bles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have peace and sweet res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s you yield Him your body and sou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озложил ли ты всё на Господень алтар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ух ли Божий владеет тобо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Тот в блаженство вошёл, мир и радость нашёл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то отдался Христу всей душ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 we never can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at the Lord will best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f the blessings for which we have praye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ill our body and so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 doth fully control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our all on the altar is lai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Божьих тайн не поймём, в Божий ми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е войдё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За ударом постигнет удар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Если зренье и слух, если тело и ду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е возложим на Божий алтар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s your all on the altar of sacrifice lai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Your heart does the Spirit contro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You can only be bles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have peace and sweet res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s you yield Him your body and sou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озложил ли ты всё на Господень алтар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ух ли Божий владеет тобо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Тот в блаженство вошёл, мир и радость нашёл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то отдался Христу всей душ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o can tell all the l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 will send from abov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how happy our hearts will be mad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f the fellowship swe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e shall share at His fee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en our all on the altar is lai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то опишет любовь, кто оценит покров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то измерит источники сил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Что даёт Бог тому, кто послушен Ему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то себя на алтарь возложил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s your all on the altar of sacrifice lai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Your heart does the Spirit contro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You can only be bles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have peace and sweet res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s you yield Him your body and sou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озложил ли ты всё на Господень алтар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ух ли Божий владеет тобо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Тот в блаженство вошёл, мир и радость нашёл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то отдался Христу всей душ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6:00Z</dcterms:modified>
  <cp:revision>14</cp:revision>
  <dc:subject>Slavic hymnal Гимны веры христиан, hymn 497</dc:subject>
  <dc:title>Is Your All on the Altar? / О покое вздыхал</dc:title>
</cp:coreProperties>
</file>