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3307-777A-4719-9794-2D57270C9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86C3-7E99-4B95-8732-789191C3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21D4-28C7-4618-A614-72D8A2A9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B6C7-AFD9-4457-93F2-C903059C3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246F-CE70-4D37-8743-9874B87F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2C2D-4787-491F-B558-14D80AE9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4013-CCFC-401C-B676-02909F0F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059F-10BE-44FC-906E-8742B3FB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DF65-0837-40ED-B651-709621B6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F3F2-9C0A-4EC7-A2B8-6F1FCC24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971B-CA0F-4684-8D48-4B215872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F9C7-DCFA-49A7-BC31-884833F5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0BB310-7E65-4B34-B649-171C70C99F4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тьмы земных с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край, где Божи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ет в радостных луч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лещет всё в цве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край, в тот к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всем сердцем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больше счастья для ме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вечно в царств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дали от тьмы земных су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ечная любовь ца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рных весел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жизни вечная вес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м озар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край, в тот к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всем сердцем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больше счастья для ме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вечно в царств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туч на своде неба н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ря не гроз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ыто зло житейских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льёт слеза с л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край, в тот к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всем сердцем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больше счастья для ме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вечно в царств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8:24Z</dcterms:modified>
  <cp:revision>12</cp:revision>
  <dc:subject>Slavic hymnal Гимны веры христиан, hymn 662</dc:subject>
  <dc:title>Вдали от тьмы земных сует</dc:title>
</cp:coreProperties>
</file>