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26E-DC93-42D0-BD69-EFAD6924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888-3DCF-40E6-9302-3D864CDD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B27-0ECA-4A1F-8627-0593462D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346-9662-408B-A35E-43A55C37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9C3B-7C29-4324-B741-6CB6B716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17C-0B10-433C-AB50-A0F1B7E4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42A-EA2B-497B-880A-3BD95ABE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745-C266-4C07-AD39-0616C5D4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2D5-C68C-413B-B24C-756879CB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0D9-FB1B-4B53-8A09-6012354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D3F-1A2C-4201-B09C-FFA1398D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88D-86CE-41EB-8EF1-1D1F7AEC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A7485-F5C8-4712-B9DD-73466C9D77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енном море с волнами боро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я тяжко, смертельно у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розный вал мне навстречу нес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 подводный я камень по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рянет буря… гроза разрази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плет мой чёлн, словно щепку по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о штормами должен срази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ёлн мой не раз заливает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жизненном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устал я, а берег жел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ещё кажется так далек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, чтоб достигнуть при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жд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переплыть нелегко, не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в борьбе со стихиею гро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 не хватает, немеет рук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еденит под струёю моро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зов не идёт с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мой брат и пловец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ешь духом ты? Верь, ободр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ю силой в пути окры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ре житейском ты смело держ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 ты плыл, много с бурями б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лько преград на пути побед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вань близка уж, а ты уто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в тяжёлой борьбе опу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но тебе! О, я верю, что труд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абудь, Отчий глаз над то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денно и нощно, Он ч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рит каждый миг твоей жизни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обедителем! Брат, не сдавай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ты сможешь свободно вздох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ёлн твой у цели… мужайся ж, мужай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т немного и кончен твой п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39Z</dcterms:modified>
  <cp:revision>15</cp:revision>
  <dc:subject>Slavic hymnal Гимны веры христиан, hymn 705</dc:subject>
  <dc:title>В жизненном море с волнами бороться</dc:title>
</cp:coreProperties>
</file>