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7E3D-BAEF-47CF-A223-B8FF4EF38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C228-8B3D-47EF-93CE-E9C1A2DDF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2EE1-85C8-4FF3-AF3F-78EF9B59A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ADBF-E563-4DBC-9D56-0DB2D437C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EFC4-1AF8-4085-AF66-65E430BFB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1EAA-A092-4A30-9C72-264EDD47B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9D81-B233-4BB4-AECE-20F5460CF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5B7C-EFA8-471C-B024-D0C0D5A7B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BDB6-45E7-4B66-9763-C47E5AB9C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4645-9B4D-4968-B83F-649508A6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20C8-1D48-4AF3-99DD-F639A530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5926-A90B-4FEC-A9EA-6DCEDD9F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976FDA-7C7C-4665-ADDE-5386CC31345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creation is a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aiting to be su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of nature like a pr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aiting for a tong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who will give it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make its anthem r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r rise to lead a cho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all created thing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hear Your people 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703   All Creation Is a S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ing, honour, glory,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Creation’s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ngs of earth and songs of he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oin as one to b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ing, honour, glory,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Creation’s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the nations are a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aiting to be su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instrument and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reated for the 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Maker of all th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majesty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bought us back from dea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such a costly lo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praise could be enoug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ing, honour, glory,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Creation’s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ngs of earth and songs of he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oin as one to b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ing, honour, glory,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Creation’s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16T01:09:42Z</dcterms:modified>
  <cp:revision>12</cp:revision>
  <dc:subject>The Source 4, song number 1703</dc:subject>
  <dc:title>All Creation Is a Song (Creation’s King)</dc:title>
</cp:coreProperties>
</file>