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2F9-8BA2-4D91-AB01-F01A496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9A6-4E32-4B77-9262-1F121659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9AD-3773-4431-A78C-D15A936C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04F-63F0-423E-99D2-111F301F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030-F300-4BC3-933D-58A7CA3E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149-D316-4273-AFBA-F494AF7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AF3-E016-43B6-B8C8-52B78EF6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7B5-EAFF-4DDD-B4C7-3718FA7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0CC-067C-4CC6-B8FA-E49DFAE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2F5-AAAA-4F3A-B268-DF64137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426-64F3-45D7-9AA4-14FC621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548-A5E2-4222-965E-B78D4CD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7B909-76DF-43EC-AA20-53F932C3D0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оё сердце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ся с мирско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вдали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несчастно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юность ― весна молод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шь ты, смеёшься, шу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Божий идёт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идит Спасител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своё сердце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ты к отчизне небес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мирис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 тебе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Его ты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в белоснежной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ет в хваленьи одн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не разделишь ли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пребыт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46Z</dcterms:modified>
  <cp:revision>12</cp:revision>
  <dc:subject>Slavic hymnal Гимны веры христиан, hymn 409</dc:subject>
  <dc:title>Открой своё сердце Иисусу</dc:title>
</cp:coreProperties>
</file>