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C03-12EA-4DCE-8C50-AB21B0D0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411-AAF2-4526-A26F-C21ED9A7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1A8-F0BB-49BC-AD7C-905761DA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9DBE-5D35-4337-8ACB-449F3E90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B2F-AC3B-4954-88EC-38B7B9D1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907-E820-4ED3-80A1-1338FE86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40F-28BA-452B-AF4C-DE0332B0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7FD-C4A6-4D8D-9F9C-4D21D384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4ED-51D9-41F7-AAAE-26E72EAA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A85-FA7C-48A7-BD7B-EBABDF77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FFF-B2C3-41FC-8B6B-A0B0A271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472-DABC-4193-8EAE-3247C347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77EA2-CAB4-4BF4-AED1-38623763C3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дружнее, брат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туда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т слави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скоро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сердцам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 Христа не 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ой тот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перёд дружнее, брат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, в небе ждё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есть наш светильник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переди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ть наш на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кою средь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споду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ится впол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будет с Ним прослав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ещан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, в небе ждё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наших брат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ится уж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у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ан покой сердц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там же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орже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в мире плак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нам уны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, в небе ждё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29Z</dcterms:modified>
  <cp:revision>12</cp:revision>
  <dc:subject>Slavic hymnal Гимны веры христиан, hymn 687</dc:subject>
  <dc:title>Вперёд дружнее, братья!</dc:title>
</cp:coreProperties>
</file>