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DCB8-156C-44F4-A081-6061F0DE2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953A-69D3-4385-A774-84ECF1A29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FA41-F586-4848-8A20-02EF99999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9B27-3A4C-4F0D-BA22-57D174881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1479-5674-4AB7-90B5-D8ECE8F91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7CAA-CCDC-4FA7-8E55-C6905470C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C14C-E32D-434C-AD09-222217BEC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B403-BC33-48AD-8F78-03E8D9800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1907-3778-4E5E-8ED1-0B7B4B567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9163-D8D5-4DB9-ADEF-D41A7EE53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C824-1343-468F-97CA-4791CA102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F7A4-CABB-48A6-8777-46D9A7F0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0F7906-0EBB-465B-A131-11A98DF7C95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лос Духа Святого зов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ых Он к Иисусу влеч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руг, Он зовёт и теб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(приди, Он зовёт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(приди, Он зовёт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к Нему, в Нём счастье найдёш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4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олос Духа Святого зовё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хоть мира жалеешь ли 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к Иисусу ты медлишь при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чем от любви ты бежиш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(приди, Он зовёт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(приди, Он зовёт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к Нему, в Нём счастье найдёш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тебя умер Он и стра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 спасенья тебе обещ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ьми дар Иисуса тепе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(приди, Он зовёт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(приди, Он зовёт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к Нему, в Нём счастье найдёш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0:22Z</dcterms:modified>
  <cp:revision>16</cp:revision>
  <dc:subject>Slavic hymnal Гимны веры христиан, hymn 340</dc:subject>
  <dc:title>Голос Духа Святого зовёт</dc:title>
</cp:coreProperties>
</file>