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51F1-A7DD-4C28-BAC4-83D3D22A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6DC1-6144-41D0-91E1-439C9C04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1AFF-D029-417F-8900-535FDC88E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DABC-FD38-42E2-970A-78856213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4998-58FB-46CE-BFF1-CACBA676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6E97-FCCF-42F7-B8BC-4BEB2CD1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EF73-1ABC-4D5E-B563-44F6E14B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9126-0E38-45AF-99AE-5D13FA05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C2F8-3796-4ECD-9DAA-20E287D6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0B0A-2334-4A7B-9B69-07880853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E607-361B-40A0-8587-C32E61D6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C167-A6C0-4B8A-B028-72F55D9C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62C76-E89E-4A76-8ED4-00E8F528A74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ізнавсь я про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ій радість для серця зна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куди вже більш не пі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нявши Христову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йди в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і мир там зна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, і віддайся І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е блаженство вві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6   Дізнавсь я про Церкв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наєте Церкву жив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, браття і сестри мої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діть на дорогу свят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Церкви живої ус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йди в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і мир там зна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, і віддайся І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е блаженство вві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ільки в ній душ без спо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найшли собі мир і спок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ллються молитви рі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ве в ній Христос дорог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йди в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і мир там зна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, і віддайся І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е блаженство вві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 Церква могутня, Господ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рай нею іде чолові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Євангелію всі сьог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те ― спасетесь на ві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йди в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і мир там зна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, і віддайся І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е блаженство вві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див я усюди по сві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щастя ніде не зна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кінчився шлях безпросвіт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я у Церкву вві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йди в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і мир там зна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, і віддайся І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е блаженство вві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8:56Z</dcterms:modified>
  <cp:revision>12</cp:revision>
  <dc:subject>Slavic hymnal Гимны веры христиан, Ukrainian hymn 46</dc:subject>
  <dc:title>Дізнавсь я про Церкву живую</dc:title>
</cp:coreProperties>
</file>