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A1A-2DDA-4CB3-918D-FA1061A3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E9DF-85DD-4BB1-9AF8-4854A706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3494-DE96-496B-B509-29027030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49E9-BFBA-455C-9D56-ABC9F741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BDD4-39BF-4E9D-9AFD-B29830EE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B9F8-44EA-4FAB-8E65-356EE05D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508-DC67-448C-AE9E-89246C03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7CDB-9B9A-4DD0-9BF3-6B56C7F3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C09E-B1C3-49D4-8F9D-257A6662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35E7-9544-4296-935B-C5A67E68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CDFD-5BED-4FE4-8ED8-ADFA6DFC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7BB-FA34-489C-9D29-B081AAB5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25C23-A44F-4044-8342-6503E3717AE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we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bright angel feet have tr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crystal tide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ing by the throne of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третимся ли мы с тоб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мся ли мы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ятые все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покойною ре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ы чистые тек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margin of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ing up its silver s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walk and worship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happy golden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прозрачною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й, светлой, как кристал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оскликнем мы с Тоб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ень теперь наст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we reach the shining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y we every burden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our spirits will del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ovide a robe and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жду нами и ре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непроходимый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коль тяжкою це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м его откр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smiling of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rror of the Saviour’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, whom death will never s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their songs of saving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жаясь над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 Христа мы будем 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 землю за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сходил, чтоб умер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we’ll reach the shining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our pilgrimage will c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our happy hearts will qu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melody of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будем над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уть придёт к кон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встретимся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ося хвалу Отц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01Z</dcterms:modified>
  <cp:revision>13</cp:revision>
  <dc:subject>Slavic hymnal Гимны веры христиан, hymn 689</dc:subject>
  <dc:title>Shall We Gather at the River? / Встретимся ли мы с тобою</dc:title>
</cp:coreProperties>
</file>