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48</a:t>
            </a:r>
            <a:r>
              <a:rPr b="1" lang="ru-RU" sz="3600" spc="-1" strike="noStrike">
                <a:solidFill>
                  <a:srgbClr val="ffffff"/>
                </a:solidFill>
                <a:latin typeface="Verdana"/>
              </a:rPr>
              <a:t>	</a:t>
            </a:r>
            <a:r>
              <a:rPr b="1" lang="ru-RU" sz="3600" spc="-1" strike="noStrike">
                <a:solidFill>
                  <a:srgbClr val="ffffff"/>
                </a:solidFill>
                <a:latin typeface="Verdana"/>
              </a:rPr>
              <a:t>Весть об Иисусе скажи мне</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Tell me the story of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rite on my heart every w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me the story most precio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that ever was heard.</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есть об Иисусе скажи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расскажи про Н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 повесть благ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у дороже всего.</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how the angels in chor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ang as they welcomed His birt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Glory to God in the highe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eace and good tidings to earth.”</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нгелов песнь повтори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ь о Его рождеств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у хваленье на н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и любовь на земл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me the story of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rite on my heart every w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me the story most precio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that ever was heard.</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ть об Иисусе скажи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расскажи про Н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 повесть благ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у дороже всего.</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Fasting alone in the deser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of the days that are p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ow for our sins He was tempt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et was triumphant at last.</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ак Он в пустыне постил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искушаем там б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претерпел, расскажи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ак за нас победил;</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of the years of His lab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of the sorrow He bo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as despised and afflict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omeless, rejected and poor.</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н без крова скитал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помогал в их нуж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н людьми был отверж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бедности жил и в труде.</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me the story of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rite on my heart every w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me the story most precio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that ever was heard.</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ть об Иисусе скажи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расскажи про Н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 повесть благ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у дороже всего.</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918072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Tell of the cross where they nailed Hi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rithing in anguish and p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of the grave where they laid Hi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how He liveth again.</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ак ко кресту пригвозди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на кресте умир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гроб как Его положи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ак из гроба восстал;</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ve in that story so tend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learer than ever I s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tay, let me weep while you whisp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ve paid the ransom for m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ую повесть скажи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н людей возлюб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а вовеки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и мой грех искупил!</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me the story of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rite on my heart every w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me the story most precio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weetest that ever was heard.</a:t>
            </a:r>
            <a:endParaRPr b="0" lang="en-US" sz="3200" spc="-1" strike="noStrike">
              <a:solidFill>
                <a:srgbClr val="000000"/>
              </a:solidFill>
              <a:latin typeface="Verdana"/>
            </a:endParaRPr>
          </a:p>
        </p:txBody>
      </p:sp>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ть об Иисусе скажи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расскажи про Н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 повесть благ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у дороже всего.</a:t>
            </a:r>
            <a:endParaRPr b="0" lang="en-US" sz="3200" spc="-1" strike="noStrike">
              <a:solidFill>
                <a:srgbClr val="000000"/>
              </a:solidFill>
              <a:latin typeface="Verdana"/>
            </a:endParaRPr>
          </a:p>
        </p:txBody>
      </p:sp>
      <p:sp>
        <p:nvSpPr>
          <p:cNvPr id="5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9-08T20:50:22Z</dcterms:modified>
  <cp:revision>3</cp:revision>
  <dc:subject>Slavic hymnal Гимны веры христиан, hymn 248</dc:subject>
  <dc:title>Tell Me the Story of Jesus / Весть об Иисусе скажи мне</dc:title>
</cp:coreProperties>
</file>