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74B4-31F8-4467-B97D-80CD04EF5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C59F-00EF-44F8-AF73-6365EC46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2BE0-9440-4ED4-ABEA-919961E7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995F-6370-4BF3-8458-F317BD374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AEBA-4016-4A99-ABD0-F317BFD1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B476-6D42-467A-A5E8-E7C6056F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55AB-ECC0-4DAD-917B-A482AB5D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5467-2B2C-4CB7-A470-F2388CEC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C118-2E4A-4DE3-AFB6-C62068E8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539C-00C4-4686-8926-EC54E390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548F-6E17-4EF9-B7BA-24B504FF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82F5-337E-4CC0-AF02-9CF0753F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56C64-2982-4011-BE47-04A7F33DAA9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happy day! (O happy day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happy day! (O happy day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Jesus washed (when Jesus washed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Jesus washed (when Jesus washed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Jesus washed (when Jesus washed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ashed my sins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O happy day! O happy day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90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 Happy Da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taught me how to watc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tch and pray, watch and pr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ive rejoicing ev’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day, ev’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happy day! (O happy day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happy day! (O happy day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Jesus washed (when Jesus washed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Jesus washed (when Jesus washed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Jesus washed (when Jesus washed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ashed my sins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O happy day! O happy day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happy day! (O happy day!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happy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5:26Z</dcterms:modified>
  <cp:revision>11</cp:revision>
  <dc:subject>The Source 2, song number 908</dc:subject>
  <dc:title>O Happy Day!</dc:title>
</cp:coreProperties>
</file>