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9</a:t>
            </a:r>
            <a:r>
              <a:rPr b="1" lang="ru-RU" sz="3600" spc="-1" strike="noStrike">
                <a:solidFill>
                  <a:srgbClr val="ffffff"/>
                </a:solidFill>
                <a:latin typeface="Verdana"/>
              </a:rPr>
              <a:t>	</a:t>
            </a:r>
            <a:r>
              <a:rPr b="1" lang="ru-RU" sz="3600" spc="-1" strike="noStrike">
                <a:solidFill>
                  <a:srgbClr val="ffffff"/>
                </a:solidFill>
                <a:latin typeface="Verdana"/>
              </a:rPr>
              <a:t>Роскошною листв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оскошною листвой покры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вёл сад среди живых дол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устроил имени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ластный в мире госп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ждый год он неизме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й сад прекрасный пос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растёт он постепе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любовью нежной наблюд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реди других произраст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аду смоковница од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а года сряду не да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одов хозяину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своему обыкновен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третий год приходит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находит, к удивлен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пять в её ветвях плод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огда, душевно огорч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иноградарю сказ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деждой, в сердце зата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до сих пор всё ожи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плод живой для господи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оковница произ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что же это за причи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плодов мне не да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ныне взор мой не встреч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ей ни смокв и ни цве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чем тут землю заним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Сруби её для д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довник, полный сожа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ал господина умо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ин! В долготерп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ь её на год опя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это дерево обр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чьём бегущим обве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етом под её лис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может, смоквы я на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если будет всё напрас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не станет смокв раст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я десница будет власт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ё для пламени срубит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9:03Z</dcterms:modified>
  <cp:revision>3</cp:revision>
  <dc:subject>Slavic hymnal Гимны веры христиан, hymn 69</dc:subject>
  <dc:title>Роскошною листвой покрытый</dc:title>
</cp:coreProperties>
</file>