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798-CE07-4531-993B-1D2093A5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9F6-2CF6-4F9E-BEF3-BF6766F2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976-2F2E-430B-9383-74A28FB3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E75-A63F-4BF9-A501-46FB3835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BF8-C273-4252-B5AA-BF1CA85D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34E-3FC7-4678-A059-64594B42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65B-84C4-4C38-91BA-C67F0FF8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237-F62F-44FE-BF89-8496ECEC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C81-15B3-4BF6-A385-720BA185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ECE-6707-4B0E-9EFE-9736AEB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87B-9417-4D90-9636-0C19C74A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078-A088-47D3-ADC7-4DD765A0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397E2-9997-46BA-9E71-DE996947A3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saved from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peace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alk with Jesus day by 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is hand so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ds me all day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Him I will not go ast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 греха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греха я спасё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Божий мир водворё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покой мне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с души всякий гн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ny passed me b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eding not my c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 Saviour heard and rescu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as lost and bl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was so k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He touched my eyes and now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принял то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еизменной люб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хранитель душ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romise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 shall end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I will be with thee all the way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ough foes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sti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know He helps me watch and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как радостн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о мною вез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ажду вечно хвал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у служ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0Z</dcterms:modified>
  <cp:revision>14</cp:revision>
  <dc:subject>Slavic hymnal Гимны веры христиан, hymn 612</dc:subject>
  <dc:title>His Mighty Hand (I Am Saved From My Sin) / От греха я спасён</dc:title>
</cp:coreProperties>
</file>