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2174-D862-44C8-86BD-A2CFB7C2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7AF6-9819-4AD4-9AFC-886E4234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7FB2-BE26-4950-BAED-7E12FFC7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3241-1EDE-4A5A-A46A-944C3188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A1F6-702A-4EDF-A4D2-2F92BA7E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B766-E992-461E-9A07-CF318DEC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D7B2-95F0-4A4C-93E3-C68CBDE8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1945-2AD4-42DC-862B-F0B5DF6B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2223-463F-44C1-A996-57C72893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BD1E-9D1A-402A-A735-2BFFE4CA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ECF0-CB4A-4D18-B79F-630DBF2F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FC19-16BA-43F3-9130-02AA43DF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B725E-9A44-4CDA-9263-C171EA29EA5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, когда труба Госп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землёю про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танет вечно светлая за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ена Он всех спасё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ерекличке повт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по милости Господней,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час, когда труба Господ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о милости Господней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 блаженный воскре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умерших в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воренья их в обители Ц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святых, омытых кров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литой на кр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овёт Он, и на зов отвеч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о милости Господней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трудиться для Тебя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всем сл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утра раннего и до заката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велишь работу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ую Ты сло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ый клич тогда предстан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о милости Господней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3:50Z</dcterms:modified>
  <cp:revision>12</cp:revision>
  <dc:subject>Slavic hymnal Гимны веры христиан, hymn 690</dc:subject>
  <dc:title>В час, когда труба Господня</dc:title>
</cp:coreProperties>
</file>