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6</a:t>
            </a:r>
            <a:r>
              <a:rPr b="1" lang="ru-RU" sz="3600" spc="-1" strike="noStrike">
                <a:solidFill>
                  <a:srgbClr val="ffffff"/>
                </a:solidFill>
                <a:latin typeface="Verdana"/>
              </a:rPr>
              <a:t>	</a:t>
            </a:r>
            <a:r>
              <a:rPr b="1" lang="ru-RU" sz="3600" spc="-1" strike="noStrike">
                <a:solidFill>
                  <a:srgbClr val="ffffff"/>
                </a:solidFill>
                <a:latin typeface="Verdana"/>
              </a:rPr>
              <a:t>Честь Тебе, Иисус распятый</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Hail, Thou once despise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il, Thou Galilean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didst suffer to releas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didst free salvation bring.</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есть Тебе, Иисус расп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анный народом Ца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традал за тьмой объ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аёшь спасенья дар.</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il, Thou universal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hast borne our sin and sh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Thy merits we find fav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fe is given through Thy Nam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Господь Всеси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явший грех наш и по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огибающим Ты ди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у милости простёр.</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Paschal Lamb, by God appoin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our sins on Thee were lai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almighty love anoin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hast full atonement mad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Агнец, посланный от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грехи взять на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терпел от мира зл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знь и смерть, нас возлюб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ry sin may be forgi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the virtue of Thy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pened is the gate of Hea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conciled are we with Go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ям Ты даёшь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Адамов Ты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источник очищ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лю с небом примир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Jesus, hail! enthroned in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forever to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the heavenly hosts adore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ated at Thy Father’s sid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есть Тебе, вошедший в с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бывающий с От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нмы ангельские сн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ят мощь Твою во всё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for sinners Thou art plead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Thou dost our place prep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for saints art interced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in glory they appear.</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ах Ты наш Ходат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отовишь место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одряешь нас всегда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аёшь не по дела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Worship, honour, power and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rist is worthy to rece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udest praises, without cea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ight it is for us to giv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ава, честь и покло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гнцу, Господу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звучит Ему хва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ари все Его да чту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ye bright angelic spirit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ng your sweetest, noblest la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to sing of Jesus’ merit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to chant Emmanuel’s prais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ры ангельские, с неб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те к нам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евать чудесный жреб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а Божья прославлять.</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42:31Z</dcterms:modified>
  <cp:revision>3</cp:revision>
  <dc:subject>Slavic hymnal Гимны веры христиан, hymn 126</dc:subject>
  <dc:title>Hail, Thou Once Despised Jesus / Честь Тебе, Иисус распятый</dc:title>
</cp:coreProperties>
</file>