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388-8DBB-4BDB-AC69-358D3BE5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E2D-632B-4E63-BC81-34392E03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A64-46AA-48C9-B8DE-BE27EF63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150-75ED-4337-A214-BBA93EF8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5CC-E5D9-43CA-8805-097EE9E2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6D6-70C2-465E-A8FA-D83E7EF9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2B6-331E-4B69-8842-C3723BB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55F-A4AC-456C-A929-EE31183B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AB5-DDEC-4749-BC93-E96F97FF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8F7-00C7-41A4-A010-C1A81E10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1AE-052F-45E7-9043-C4A26E06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8B2-C3B1-43B7-8B98-802984C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72C60-FD92-4C75-939D-153628290B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eav’nly armour we’ll enter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weapon that’s fashi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gainst us will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2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n Heavenly Arm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power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s like a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ll raise up a stand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enemy p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ard, do not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courage, my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redemption is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2:04Z</dcterms:modified>
  <cp:revision>10</cp:revision>
  <dc:subject>The Source, song number 228</dc:subject>
  <dc:title>In Heavenly Armour (The Battle Belongs to the Lord)</dc:title>
</cp:coreProperties>
</file>