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6</a:t>
            </a:r>
            <a:r>
              <a:rPr b="1" lang="ru-RU" sz="3600" spc="-1" strike="noStrike">
                <a:solidFill>
                  <a:srgbClr val="ffffff"/>
                </a:solidFill>
                <a:latin typeface="Verdana"/>
              </a:rPr>
              <a:t>	</a:t>
            </a:r>
            <a:r>
              <a:rPr b="1" lang="ru-RU" sz="3600" spc="-1" strike="noStrike">
                <a:solidFill>
                  <a:srgbClr val="ffffff"/>
                </a:solidFill>
                <a:latin typeface="Verdana"/>
              </a:rPr>
              <a:t>Библия много света</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иблия много света нам откры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научила всех людей люб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сколько тысяч лет она прожи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о конца нам будет говор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даруй нам вникнуть в Твоё Сло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звестить во всех краях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уж грядёт пришествие Христо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й Божьей вести весь народ внемл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8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ного пророчеств в Библии открыт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говорят, что будет впер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лько в ней мудрости для нас сокрыт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наш слабый разум утвер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даруй нам вникнуть в Твоё Сло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звестить во всех краях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уж грядёт пришествие Христо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й Божьей вести весь народ внемл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иблия взоры к небу направля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учает, как туда ид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же её надолго оставля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ослабеет скоро на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даруй нам вникнуть в Твоё Сло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звестить во всех краях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уж грядёт пришествие Христо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й Божьей вести весь народ внемл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 христиане, Библию читай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побеждая, двигайтесь вперё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аших близких Слову научайт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за труды нас всех вознаград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даруй нам вникнуть в Твоё Сло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звестить во всех краях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уж грядёт пришествие Христо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й Божьей вести весь народ внемли!</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10:44:19Z</dcterms:modified>
  <cp:revision>3</cp:revision>
  <dc:subject>Slavic hymnal Гимны веры христиан, hymn 76</dc:subject>
  <dc:title>Библия много света нам открыла</dc:title>
</cp:coreProperties>
</file>