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631-E556-4CD7-9170-6E6C8488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735-6CE5-49CA-9B12-BE679C23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1C2-C98E-48E9-906C-A09C2B91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A1E-B7A5-4025-895F-705086E7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E64-EAB6-45F2-8BA8-971446C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486-0EBA-4109-8A57-A31A675B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7EA-4372-4350-9B9B-C80733E3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A1F-7B89-4DD5-B242-63647B5F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0BA-CF45-4DA4-B4F2-9DA4C6EB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0AA-619C-457E-8C53-8743336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9F2-EBB1-4E3F-86E8-D70B592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732-490E-4700-B1CA-7DB03CD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4984-E7D2-40B5-B569-20705E20F6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he day is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ight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of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eal across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ive the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weet rep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tenderest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ine eyelid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bright of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 the sailors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deep, blu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long night w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ne angel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hite wings 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round my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morning wa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may I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and fresh, and s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y hol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34Z</dcterms:modified>
  <cp:revision>12</cp:revision>
  <dc:subject>Slavic hymnal Гимны веры христиан, hymn 825</dc:subject>
  <dc:title>Now the Day is Over / День прошёл</dc:title>
</cp:coreProperties>
</file>