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FA62-7031-4037-8EE1-FA1A2A80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0092-1E15-4BD7-9D4A-ECD0EB9B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01DC-F018-4C62-8D19-147DC275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8E2E-DFAB-4B72-9755-BD6E691A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51A5-A5A7-49BC-B284-57F79B90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4474-F10C-49BE-931F-A8848EAE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0CB8-2BB8-4B3E-81BE-E48CD90C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1D8F-A281-4A26-9C37-6E73C8B0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2E64-BDEA-465D-A43E-7BB3BB0E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EF8E-57D1-4E06-A3E8-C7AF9971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91A0-8307-463E-8F19-FAB43B48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FDDC-90C1-439E-8E01-9CF0BD4A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D7F86-EB83-479F-9692-174864BB547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уждаюсь в Тебе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елаю всегда быть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Господь мой, любимый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нье моё и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ду Тебя, люблю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трудно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Пастыря, Хран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могу до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нуждаюсь в Те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ищенья душа моя жажд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ть желает противного 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борьба и борьба, о, когда 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остигну небесных двер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ду Тебя, люблю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трудно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Пастыря, Хран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могу до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огда в этой жизни уны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орьбы утомится душ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ойди ко мне ближе, мой Пасты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с Тобою так жить хорош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ду Тебя, люблю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трудно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Пастыря, Хран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могу до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елись Ты во мне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руй чувствованья Т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верным я был Твой служ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же ко мне и жи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ду Тебя, люблю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трудно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Пастыря, Хран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могу до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1:56Z</dcterms:modified>
  <cp:revision>13</cp:revision>
  <dc:subject>Slavic hymnal Гимны веры христиан, hymn 797</dc:subject>
  <dc:title>Я нуждаюсь в Тебе, мой Спаситель</dc:title>
</cp:coreProperties>
</file>