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096-27CE-4130-94C3-AE1D8DB9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634-F6B6-4913-A9C5-CD2D128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2BE-B492-47A0-A7C2-787540ED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4FC-50D7-464F-AF5E-6841BD03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A86-8B38-4662-A6DC-110C5758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5B3-97A7-48AF-8964-95086AC6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4EC-2F9D-4573-BC9A-6DCEFEAA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C1C-2D9A-4A87-A6CB-88D8AC95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013-22D9-4B08-912F-2BF41825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18D-6F8D-4BC6-9BFB-AB31191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204-51E5-44F9-B0A9-AE31F56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FD4-CDE8-4421-8701-9A78F9F2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B7AE-D107-437D-B907-935417CEEB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го есть Христос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богатства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моё есть сокрыто в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же всего ест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грешник великий и был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не сиял мне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шёл, — меня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наследье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а одна была в силе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Богом меня прими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был Искупитель, отдавший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Он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л и наставил, и путь у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мне в сердце в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Он учит и в свете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в сердце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ать и отец мой оставя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теряю я здес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ул я к Иисусу,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я сокры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18Z</dcterms:modified>
  <cp:revision>12</cp:revision>
  <dc:subject>Slavic hymnal Гимны веры христиан, hymn 417</dc:subject>
  <dc:title>Дороже всего есть Христос для меня</dc:title>
</cp:coreProperties>
</file>