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A2DF-C304-4DC7-9703-1747BC505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E53C-9134-4EF9-8190-A82B6F0E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ECCA-2C92-421D-83B9-E9AAD2B2E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D58F-96A5-4C2E-A0DA-89E53DC1B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A878-C136-42CB-BB6D-62B6AEE0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A3E8-912E-4A77-8A6B-157ADDB5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3F4E-8997-4A1B-A623-EE664723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FFE9-0006-4A4E-904C-E71F57D1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7EFF-F315-4D17-B24A-9ABE07C4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324E-4FD4-408F-B19F-592F3D64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C68C-6ED2-4487-9F80-03B36B1E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7081-03C6-4458-A506-E86FA59B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2644C-E294-421F-B4A2-B28411A4200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boundless salvation, deep ocean of lov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fullness of mercy, Christ brought from ab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whole world redeeming, so rich and so fre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w flowing for all men,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(×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me, roll over 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6   О, світу спасі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О, світу спасіння, любове свя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За наші провини лилась кров Хри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есь світ відкупив Він, і дав спокій Сві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Хай світ весь радіє,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(×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любові святі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sins they are many, their stains are so deep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bitter the tears of remorse that I wee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useless is weeping; thou great crimson se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y waters can cleanse me,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(×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me, roll over 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Багато провин в мене й темний мій ду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Та Божого слова торкнувся мій слу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серце скорилось, і сльози я лл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Господь мій Спаситель,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(×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Спас душу м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tempers are fitful, my passions are str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y bind my poor soul and they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e to wro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eneath thy blest billows deliverance I se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come, mighty ocean,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(×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roll over 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Я хочу молитесь і вірить Йом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Бо міць перемоги в Христі одно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ін світлом небесним весь світ освіти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Осанна, осанна, осанна, осан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Осанна Спасителю Господу сил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tide is now flowing, I’m touching the wa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hear the loud call of the Mighty, to sa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faith’s growing bolder, delivered I’ll b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plunge ’neath the waters,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(×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y roll over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Син Божий розп’ятий вмирав на хресті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Розп’ятий для світу і я у Христ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світ вже для мене розп’ятий є з Ни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Я з Ним умираю,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(×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З Ісусом мої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now, Hallelujah, the rest of my da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hall gladly be spent in promoting His prais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o opened His bosom to pour out this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f boundless salvation,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(×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you and for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Немеркнучу славу, безсмертя вінец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Мені дасть у небі Всесильний Творец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Зіллються там хори землі та небе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Для вічної слави,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(×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Христі я воскрес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53:30Z</dcterms:modified>
  <cp:revision>12</cp:revision>
  <dc:subject>Slavic hymnal Гимны веры христиан, Ukrainian hymn 76</dc:subject>
  <dc:title>O Boundless Salvation / О, світу спасіння, любове свята!</dc:title>
</cp:coreProperties>
</file>