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94F-65FA-4DEC-A1DE-5757BB26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37A-764A-41D4-BC41-A373E6A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134-35FD-419D-8FAA-D6B9FB8F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E3F-1E95-4022-A760-AFDF9591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5C8-29A8-4775-80E9-C61FE4E2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1E3-26A2-4193-86AC-BE2475FF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39B-B624-4B9C-8880-BA95EE6E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B9E-68DF-4B31-A500-C549F12E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393-B609-43A6-B957-03D672A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3BA-0728-41D9-BF5F-457A9264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D22-5203-4BA1-877E-BA90FC53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384-18BF-4710-9C87-2189DB4F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E8D91-5C77-4E29-8424-F4C6C94347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с нами Бог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с нами Бог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Апостол Павел нам сказ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ами Бог, кто будет про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аждый д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аждый д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осподь Спаситель наш 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сякий гре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сякий гре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Апостол Иоанн 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бещ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бещ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оиль пророк так пред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4:48Z</dcterms:modified>
  <cp:revision>12</cp:revision>
  <dc:subject>Slavic hymnal Гимны веры христиан, hymn 590</dc:subject>
  <dc:title>С нами Бог, кто будет против нас</dc:title>
</cp:coreProperties>
</file>