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7521-0C36-4B07-938C-7BA83205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A5AA-CD9F-426C-AA77-7ACEE9EF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B82F-060F-4AF5-B4DD-4B2392B3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7264-6E92-4A71-B28F-BEA46FCD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0CB-3A31-4D1B-849B-F2AC4C2A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74EE-EEBC-42A8-AF45-25DB3BC6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6DC5-C183-46DF-8C12-63730FC8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93B6-C599-4EAF-84E2-2B858839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A313-8AE2-42DD-B618-D69B4C84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68B7-FA77-4C04-9FFB-15955A75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C62B-3716-4414-89AF-73AF2187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ABCD-D777-4F39-9FC1-E41AA6FD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726E4-DC2B-4F31-9F69-764D68EEB2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may be at morn, when the day is awa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sunlight through dar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hadow is bre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Jesus will come in the fullness of gl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receive from the world “His ow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ть может зарё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ть может зарёй, когда утро начнё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солнечный луч сквозь туманы пробьё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дёт Иисус в полноте Своей сл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брать от земли Сво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Lord Jesus, how l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long ere we shout the glad s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returneth! Halleluja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may be at midday, it may be at twil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may be, perchan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the blackness of mid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ll burst into light in the blaze of His glo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Jesus receives “His ow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ть может и в полдень, иль в час полуно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незапно увидят Его наши о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будет идти к нам с источником све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 взять от земли Сво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Lord Jesus, how l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long ere we shout the glad s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returneth! Halleluja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le its hosts cry Hosann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om heaven desce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glorified saints and the angels atte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grace on His brow, like a halo of glo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ll Jesus receive “His ow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оинства Божии, с неба спуская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души спасённых, с Грядущим сливая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вместе Ему воспоют песнь хвален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 взял Он с земли Сво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Lord Jesus, how l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long ere we shout the glad s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returneth! Halleluja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joy! oh, delight! should we go without dy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sickness, no sadness, no dread and no cry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aught up through the clo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our Lord into glo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Jesus receives “His ow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радость туда перейти без страдан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з боли недуга, без мук умиран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ть с Господом в славу Его восхищённ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уда Он возьмёт Сво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Lord Jesus, how l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long ere we shout the glad s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returneth! Halleluja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35Z</dcterms:modified>
  <cp:revision>13</cp:revision>
  <dc:subject>Slavic hymnal Гимны веры христиан, hymn 315</dc:subject>
  <dc:title>Christ Returneth (It May Be At Morn) / Быть может зарёй</dc:title>
</cp:coreProperties>
</file>