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1440000"/>
                <a:tab algn="l" pos="21607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59</a:t>
            </a:r>
            <a:r>
              <a:rPr b="1" lang="ru-RU" sz="3600" spc="-1" strike="noStrike">
                <a:solidFill>
                  <a:srgbClr val="ffffff"/>
                </a:solidFill>
                <a:latin typeface="Verdana"/>
              </a:rPr>
              <a:t>	</a:t>
            </a:r>
            <a:r>
              <a:rPr b="1" lang="ru-RU" sz="3600" spc="-1" strike="noStrike">
                <a:solidFill>
                  <a:srgbClr val="ffffff"/>
                </a:solidFill>
                <a:latin typeface="Verdana"/>
              </a:rPr>
              <a:t>Иисус, души Спасител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Иисус, души Спасител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прильнуть к Твоей груд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реди волн будь мой Хранител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оставь меня в пут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Тебе лишь доверяюс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Тебе лишь отдаюс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чно зреть Тебя жела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ть Твоим, мой Иисус.</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 храни средь бури жизн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 конца свершая пут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я мог достичь отчизны</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ней мирно отдохнут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прибежища иного,</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меня — лишь только Ты.</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оставь меня больного</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редь житейской суеты.</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лагодать и примирень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в Тебе, Спаситель м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к Тебе моё стремлень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прими меня, Благ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 источник вечной жизн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ажду можешь утолит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ручьём святой отчизны</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моём сердце можешь быть.</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4-11-14T21:58:53Z</dcterms:modified>
  <cp:revision>4</cp:revision>
  <dc:subject>Slavic hymnal Гимны веры христиан, hymn 159</dc:subject>
  <dc:title>Иисус, души Спаситель</dc:title>
</cp:coreProperties>
</file>