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459-AAAE-4218-A523-1D9C1891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E02-CFCB-4B1D-AFEB-46A460C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CD8-69F3-49C7-9F42-6E5C5D8E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623-A54D-4C9D-8133-103B24F1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A5F-0E57-42D4-9629-D0B138D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3F1-A7F9-4E47-9F5D-36665C07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000-AB37-4FF5-931B-B2EAF7F5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989-C6E1-42A1-844F-97F60E0F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2CF-C6F9-436E-A34B-0CD6A2D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8C3-109B-4565-8560-FE78ADC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2A4-3201-4EAA-A5D8-C4C5AB3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C2A-C429-4D36-8DA0-1CC9BBF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3D37F-8F81-4122-9145-CED1AEA883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рата с ликованьем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: сотворил Господь се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 будем радостны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01Z</dcterms:modified>
  <cp:revision>12</cp:revision>
  <dc:subject>The Source, song number 262 in Russian</dc:subject>
  <dc:title>Мы войдём во дворы / I Will Enter His Gates (He Has Made Me Glad)</dc:title>
</cp:coreProperties>
</file>