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B341-E8AC-488C-8C7D-A1774840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847-7AC0-46B5-859C-91E1F48D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63A-25B6-4FEE-B028-C2035DD3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109E-A253-4762-8582-7F6CC520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EF04-73DC-4D45-A30D-54E0DE02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BD89-2D2B-49FA-A0FA-8722E34E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EE0E-3FBF-4EFC-A498-6E24DA71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7396-4654-4B98-A3BC-2D2E6636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B9DF-B672-47BF-9D9A-200CEBA1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333-28D5-41D4-9896-DE594CA2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9E5-AEBD-454A-A06C-25601D4E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78DD-AA30-411E-B970-F916E619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3CFA7-203D-4B33-9E98-F0BD3424AD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к Младе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е, с весель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скорее к Нему в Вифле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го творе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те к Младен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е хоры, пойте с ликовань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е силы, звучите хвал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о веки, слава в вышних Бог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е, с моли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Тебе прихо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честь и славу от сердца 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е Слово явилось во пл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1:41Z</dcterms:modified>
  <cp:revision>13</cp:revision>
  <dc:subject>Slavic hymnal Гимны веры христиан, hymn 242</dc:subject>
  <dc:title>Придите к Младенцу, верные с весельем</dc:title>
</cp:coreProperties>
</file>