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E65-B131-4F12-8720-F777F492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F68-A845-4A0D-8C27-DDBAC6D2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8EC-931E-484B-A73A-7F15BBFC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000-179D-4F42-9FF4-BC66436C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4C6-E444-4C82-8AC5-88ED6039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EEC-6591-41E1-A0F0-A35CE21B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2E5-7E7F-4F25-9763-15113610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CA2-0FCD-4515-9CAF-ABD2B075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D4F-67DD-46CD-AD81-0465E68B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7F7-112E-44A5-BC97-928BFDCA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B43-877A-4F23-A48D-2D2DF194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8FD-88CE-4436-BEDB-3228576A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12E51-AA28-48B9-80EB-5779F8A93D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дал нам вечный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ын дан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свято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менах 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ог крепкий и Твор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елый на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ник, вечности О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ый в род и ро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ладенца дал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Он укре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а мира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Он правдой у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Свой и завет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09:26Z</dcterms:modified>
  <cp:revision>14</cp:revision>
  <dc:subject>Slavic hymnal Гимны веры христиан, hymn 235</dc:subject>
  <dc:title>Младенца дал нам вечный Бог</dc:title>
</cp:coreProperties>
</file>