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988-8670-4C18-8033-7AD653BD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1DB-3C84-486A-B992-9C0C722B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DFF-10BB-42A2-940D-D955148E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F09-525A-4053-9D48-2F7785D3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CF1-33E1-4E2F-994D-31A5FE32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CB6-12D0-4907-AD52-B42D2B3C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FD5-6267-4235-82A7-939C8A5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48E-2D9C-4CD5-88BA-9006BAA7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B4F-09A4-400E-9B96-D2B5984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09E-5F7D-43D9-B113-E044BA0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54B-8718-46CB-AC37-2BE34E98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5A5-FB98-4024-BCC0-3881ECA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777D3-B6E2-47ED-85D7-11B74CDA62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p unto my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treasure that I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finest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amp Unto My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y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 to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ing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57Z</dcterms:modified>
  <cp:revision>11</cp:revision>
  <dc:subject>The Source 2, song number 851</dc:subject>
  <dc:title>Lamp Unto My Feet (It Is You)</dc:title>
</cp:coreProperties>
</file>