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EF95-8636-4046-8584-9952EDCA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E15F-C2C6-4FEC-9967-D3EF4414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E6CD-487F-404F-A405-A820A500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51DD-713E-4DC6-BFC2-D4443914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A0EA-4C6A-477E-88A5-CB2647DC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ACB8-712A-4C01-A57D-69EB12FD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154E-49B9-4E1F-99F7-B5BBF6AF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D339-D36E-4B3F-A3D9-D2CC1702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48A9-0541-45DC-9D51-0FB341F1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86F0-217C-47BD-AD8E-2A2D535E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E18-E390-4B4A-8059-A4170F7D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3E4-FABC-4DC1-B9E2-F9033B71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9A440-B797-4877-9D5C-2E046B47E7D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o the Lord, the Almigh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 of cre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my soul, prais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 is thy health and salv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а славь ты, мой д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славь ты, мой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хваляй Всеблаго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песнопеньем Ц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огущего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ye who h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to His temple draw n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in me in glad ador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ты Твор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ты Его без кон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дарует так м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o the Lord, Who o’er all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wondrously reigne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lters thee under His w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so gently sustaine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славь ты! Он муд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итель все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целям Своим нас вед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зёй сокров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 Thou not s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all thy longing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nted in what He ordaine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ёл по пути, где скор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ёл ты, тревогой смущё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o the Lord! O let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s in me adore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at hath life and br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now with praises before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славь ты! Кто ди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так устрои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до сих пор всё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ранил, и покои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und from His people ag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adly for aye we adore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ам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мерти спас, воз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благой удосто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o the Lord, Who d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sper thy work and defend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ly His goodness and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daily attend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славь ты, мой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олкни хвал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е тебя уто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я струё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nder a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 Almighty can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with His love He befriend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ге лишь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без Него в мире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ия, мира, пок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4:30Z</dcterms:modified>
  <cp:revision>13</cp:revision>
  <dc:subject>Slavic hymnal Гимны веры христиан, hymn 807</dc:subject>
  <dc:title>Praise Ye the Lord, the Almighty / Господа славь ты, мой дух</dc:title>
</cp:coreProperties>
</file>