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275-C344-4235-9BB4-589A8710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8BD-3B36-459A-B022-BE0F6051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FBF-AA41-4300-87A1-98A4071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727-6105-4BF4-91FD-D02DD245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E4A-155D-48F8-94CE-637FEAD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83F-DEFC-4EA6-8276-D5438A0C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2C0-9E6F-422D-BFA5-F800D55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6C4-A1AC-4A81-8491-7B8C10CB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3E9-EAD5-4EB3-89EE-855E40B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046-C008-49AF-83DB-260421A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302-5A8A-4C78-814C-B1A489A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21D-53AF-464C-BECF-543887B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6C64C-9008-43B4-8CA1-03FD35A96E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л я на новую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ьмы тернистый путь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дали небесного черт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итель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тот чудный и прия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им живительны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меня в дороге тру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йти мне в Отч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ышел я на новую дор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еной, как волны у примо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страшно стонет и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от, не знающий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назад мен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азад я не верн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й путь и труден,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аких препятстви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еди лишь был бы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чил я всё своё им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им, как есть, иду к От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верю, верю без сомн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заблудшую ов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9Z</dcterms:modified>
  <cp:revision>12</cp:revision>
  <dc:subject>Slavic hymnal Гимны веры христиан, hymn 440</dc:subject>
  <dc:title>Вышел я на новую дорогу</dc:title>
</cp:coreProperties>
</file>