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793-932E-4B47-BF8C-F21B4E66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D15-70EA-41F5-889D-89535DE7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403-3B61-43C7-B5AC-92491EC0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98E-02EA-4BAD-8B79-E65352E8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584-4977-409A-8248-297E69C9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1B3-4726-4152-80CC-BBCF86F7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146-5EF9-45CF-927E-83C290D6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075-A3CD-4E51-9D8B-59704E12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4DB-043A-44A9-945A-FF2177EF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049-63F8-4777-BE38-06A90062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D80-3533-47E9-B03F-2A2E9E8A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CF6-4F46-47D5-9E90-0E72A31E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84819-192D-47C4-B9ED-DDCAEA7EE7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Слово Боже р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заході сонця, і вдень, і вноч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о чекати урожаю з л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1   Будем розсів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 в пору добру, чи в час непо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ть у час бурі, спеки чи дощ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 занедбаєм славної на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правду Божу вс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і перешкоди різні навкру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час настане, жниво все достиг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6:58Z</dcterms:modified>
  <cp:revision>12</cp:revision>
  <dc:subject>Slavic hymnal Гимны веры христиан, Ukrainian hymn 41</dc:subject>
  <dc:title>Будем розсівати</dc:title>
</cp:coreProperties>
</file>