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D22-2428-40C3-A369-D981062C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8591-D542-4073-941D-22D3BA33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489E-EAF0-40E4-9B85-CD3055D0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2379-A406-49B9-8A9F-BE0F8576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84C-0BA9-4ABE-A78B-B6D16C09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36B6-E0D4-4E55-9F84-E42766A5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DC2-061D-4E38-BAC1-6603DBED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7C7B-7C8E-4C0B-B39F-FF90E2A3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97D9-43F0-42AF-8ADC-D4472DCE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96E8-F386-4803-BF15-50B80826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0F4C-2CE8-4C3A-8F99-1F511BC0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BC4B-7209-426D-AD5E-BBD06108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33BD2-B98E-464C-93F6-AA44010F9B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way my Saviour lead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ve I to ask be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I doubt His tender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hro’ life has been my gu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Господь всегда со мн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большего ж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ваться не дерз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ёт мне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ly peace, divinest comfo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by faith in Him to dw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know, whate’er befall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doeth all thing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вятой наполнил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свет рассеял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ось, я слы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сё ко благу твоем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way my Saviour lead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eers each winding path I t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s me grace for ev’ry tri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eds me with the living b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яет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 небесных удосто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ает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my weary steps may fa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ul athirst may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shing from the Rock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! a spring of joy I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ога порой споткн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ываю оди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калы Высокой л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радости по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way my Saviour lead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the fullness of His lo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rest to me is prom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Father’s hous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та блаженства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Он успок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в небес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y spirit, clothed immort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ngs its flight to realms of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my song thro’ endless 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ed me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живой из царства т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сётся в край 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т Христу хва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был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2:35Z</dcterms:modified>
  <cp:revision>13</cp:revision>
  <dc:subject>Slavic hymnal Гимны веры христиан, hymn 865</dc:subject>
  <dc:title>All the Way My Saviour Leads Me / Мой Господь всегда со мною</dc:title>
</cp:coreProperties>
</file>