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D84-DE99-4C21-AC43-D24C9AC1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8AC-3E89-4AF1-9A9D-D40423DE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429-8842-44AE-ADEB-13561B17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044-9C02-4D46-A31D-4A1E2627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BA0-ACD4-415E-A00E-CDCFAAB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4A9-CD0D-48A3-8118-82B9236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9A0-5084-402F-B572-37F8DE42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024-B48B-4A96-BE1F-A36C5BF6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E04-F88E-4ACF-95D7-4D0A292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A11-B652-44DB-95D9-2EA4C9C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23B-9C6F-498E-9F4C-C85DC8F4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9A5-704B-4A91-B60F-4DAA3C48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B341B-0441-4CE7-B938-8CB9354EFE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олнечным луч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ецы, народ счастли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каждый со сно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ой глядел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ома сво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аб, к труду не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ночи путник даль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дверя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кан с водой крист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нес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све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ник вдаль у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оп позоло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х дверях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огу со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он: «Сноп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я, но не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,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во имя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жему я 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тро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этот увида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он: «З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упок в нагр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ен сноп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кто,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жать в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скорбным пом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 свой сноп в дверя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3:29Z</dcterms:modified>
  <cp:revision>12</cp:revision>
  <dc:subject>Slavic hymnal Гимны веры христиан, hymn 523</dc:subject>
  <dc:title>Вдали склонялись нивы</dc:title>
</cp:coreProperties>
</file>