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AC99-9A27-459A-9CE6-AEB565C2C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6771-5A92-4FC4-B97E-4AD973B2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3432-79A0-4434-AF3B-B17B3FA57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B726-DB18-49AE-A5D1-3A1A245E4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EBC4-26CE-4B3F-993C-4EAAAF69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7C52-5358-469A-B3D0-AB631F79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9352-79E1-4D63-BE1D-519F059C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63F6-A13F-4ACE-A31E-621ED369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01E7-B0D8-4130-92F5-8DD56DB9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6E41-A88A-40E7-B2DF-E7437EB2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2433-D804-4614-A5A7-48369BF1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8DC3-625B-490B-96C9-72EE8B26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6F875-4CDA-4F63-B8A7-C0997D77486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trumpet of the Lord shall s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ime shall be no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morning breaks ete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 and f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час, когда труба Господ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, когда труба Госп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землёю прозв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танет вечно светлая за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aints on earth shall g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on the other sh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roll is called up yo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ена Он всех спасё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ерекличке повт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по милости Господней,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roll is called up yonder,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roll is called up yo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о милости Господней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at bright and cloudless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dead in Christ shall 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glory of His resurrection sh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 блаженный воскре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умерших в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воренья их в обители Ц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chosen ones shall g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ir home beyond the sk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roll is called up yo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святых, омытых кров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литой на кр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овёт Он, и на зов отвеч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roll is called up yonder,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roll is called up yo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о милости Господней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labour for th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dawn ’til setting su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talk of all His wondr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and c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трудиться для Тебя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всем слу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утра раннего и до заката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hen all of life is 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work on earth is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roll is called up yo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велишь работу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ную Ты сло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ый клич тогда предстан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roll is called up yonder,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roll is called up yo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о милости Господней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2:56Z</dcterms:modified>
  <cp:revision>13</cp:revision>
  <dc:subject>Slavic hymnal Гимны веры христиан, hymn 690</dc:subject>
  <dc:title>When the Roll Is Called Up Yonder / В час, когда труба Господня</dc:title>
</cp:coreProperties>
</file>