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A09-AA89-4044-A7CC-A4E5BF03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357-546B-415E-BCBF-3721531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1C7-F0FE-4B42-91A2-308B04BA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88C-EDC9-452E-8D8B-6444F80B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98F-C40C-4E7C-85D2-E5EBFE1E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F1E-6695-405B-A388-914394A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4D2-EA9B-4F59-9109-75ED457C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9D5-B34E-4665-8EAC-FA57B1B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4DB-57C4-4C93-9273-6F34EB2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C8E-09DD-4D83-8457-70F3726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B19-8B7D-4170-BD6E-C86186C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59C-1BE0-46B1-9BD9-74EB5DC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05E3D-4D5D-4120-BB27-2A6993D951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28Z</dcterms:modified>
  <cp:revision>12</cp:revision>
  <dc:subject>Slavic hymnal Гимны веры христиан, hymn 691</dc:subject>
  <dc:title>Издали нам сияет страна</dc:title>
</cp:coreProperties>
</file>