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C7E4-092E-42AC-9BD4-34C9CE1F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6C11-A42D-4F0B-B1D9-BBF35024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77F6-B8BC-46AC-A977-7F5A9B4A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D552-64AE-47C7-A501-4BED0E59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9B02-40EC-428E-8E2C-503028A6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D4F3-6D56-466B-AF69-EA344B4B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2B65-55A2-42F2-9209-896A5FC5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E6FF-DAFE-4DBF-A3AA-8548152A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3667-3669-4D2E-ABD7-1E2F32FF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91B1-182C-4568-98DD-46A29FA1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79C9-8E90-47BA-A92F-4EF01F6C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4610-6BF2-42D1-8CC3-607C601D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FB193-5496-4D34-ABFA-06CEC47398A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me a captiv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 I shall be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ce me to render up my s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conqueror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ени, Господь, мен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боду я вой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авь меня отдать мой меч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озмогу враж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лени, Господь,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k in life’s al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by myself I st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mprison me within Thine ar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trong shall be my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енье мне гроз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сам ст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и объятья заклю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илу дай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is weak and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its Master f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has no spring of action s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varies with the w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зяин нуже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ердцем упр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мужества ни сил в нём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 веры совер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cannot freely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Thou hast wrought its ch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slave it with Thy matchles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eathless it shall re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 делу поспе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него во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оковы налож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владеет др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power is faint and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I have learned to ser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nts the needed fire to g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nts the breeze to ner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могу беж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не в службе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ь Твой нужен, чтоб пыл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ря мне нуж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cannot drive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itself be dr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flag can only be unfur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ou shalt breathe from heav’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могу в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не вод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мною знамя распу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ществом Т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will is not my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Thou hast made it Th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it would reach a monarch’s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must its crown resig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ля не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делавшись Т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а царский трон взо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ечься нужно 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only stands unb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id the clashing str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on Thy bosom it has le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ound in Thee its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 ей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тоит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льнёт к Т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найдёт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8:16Z</dcterms:modified>
  <cp:revision>12</cp:revision>
  <dc:subject>Slavic hymnal Гимны веры христиан, hymn 899</dc:subject>
  <dc:title>Make Me a Captive, Lord / Плени, Господь, меня</dc:title>
</cp:coreProperties>
</file>