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249-9BF3-43BC-A693-0AEA0DE8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8BD-F8F7-44F7-817F-96313A5C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0F3-C288-40EE-B9D8-09AED895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304-0A25-44FA-BF1F-FFD44694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F90-5398-44EE-A861-1B79B191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3D4-7E56-457C-9374-50098042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186-3833-4275-83BE-CDA4C2D3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42A-F9B5-4034-8A2C-7C2C7125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744-E611-41B3-AC1B-908ACD66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B8D-179C-4375-926F-8A7A3263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6BD-B8BE-491E-8A43-CA1B975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E12-020E-4FFE-81FD-02109FAE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3289C-2EE0-485C-B016-5CA9436801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и место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ею кровью мир омы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 к тебе ст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и место Иису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ам, и вес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ты да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мершего за грех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оттолк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отдашь ли Иису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е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о день после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ьше Он не будет 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ердце всё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замолкнет благода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уж не будет 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04Z</dcterms:modified>
  <cp:revision>12</cp:revision>
  <dc:subject>Slavic hymnal Гимны веры христиан, hymn 350</dc:subject>
  <dc:title>Есть ли место Иисусу?</dc:title>
</cp:coreProperties>
</file>