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4DF-BF57-48A2-9A38-B186E08D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FF8-8544-4CFA-BBF9-D2FC299B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D18-4EFA-4BCB-8DD8-150943DE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081-77A4-4C0F-9EEF-F5A3F37E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7E9D-2801-419C-A4D1-028B5FE2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BFD-00F4-45D6-B3FF-7E5AD44D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F9B-1D26-4A00-B156-D0B4CBB7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DFCA-1BBA-47E5-9C8B-0A804BB8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68F-44C9-485D-8755-AA9C9DA7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01CD-1014-4FCB-AA8C-414AA600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035-4BDA-4200-A844-41B0C7F6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0EEC-DA73-49AB-93AF-7D42764F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E2663-2AEE-4F1B-B866-AC6815D33D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not skilled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od has w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od has plann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only know at His right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ands One who is my S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80   I Am Not Skill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ake Him at His word and d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died to save me, this I 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my heart I find a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Him to be my S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would leave His place o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ome for sinful man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unt it strange, so once di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I knew my S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 loves, my Saviou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’s always ther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He was, my God He 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He’s always gonna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living, dying, let me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trength, my so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is sp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who lives to be my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died to be my S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would leave His place o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ome for sinful man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unt it strange, so once di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I knew my S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 loves, my Saviou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’s always ther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He was, my God He 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He’s always gonna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 lives, my Saviour lo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 lives, my Saviour lo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24Z</dcterms:modified>
  <cp:revision>12</cp:revision>
  <dc:subject>The Source 4, song number 1880</dc:subject>
  <dc:title>I Am Not Skilled To Understand (My Saviour, My God)</dc:title>
</cp:coreProperties>
</file>