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7B2-FA6C-468D-B05A-C6CF5E4B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7BDF-8949-4ACB-92F9-51878550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125-1655-4460-B410-70C6EE49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63F-283D-4DA1-A3E9-CB3C591C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4949-6379-43AF-B79E-9EE71771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931-A99C-4BBD-A659-9B7DE1D7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FFBE-9D24-478D-99EB-E28BB407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3E9-350E-4BED-A9C3-5B459626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87F-CCF7-4E16-AE06-A35094AA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EEF-703C-4EAA-BF22-22E7A8DA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3EA-027A-4D41-9BE7-25DA76CB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DCA-1D59-4202-A5E0-36513353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5619C-93B0-4A69-B026-76FF185B971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юч к сердцу больных и мятеж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Иисус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ни любви, ни наде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ет проливает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, где вся жизнь ум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данно является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мир предлаг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ны — целебный бальз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люч к сердцу бо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любовью без 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чудо в душе совер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в обновленьи и в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поклониться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ое уходит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т желан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 вину, и по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пронзённо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54Z</dcterms:modified>
  <cp:revision>12</cp:revision>
  <dc:subject>Slavic hymnal Гимны веры христиан, hymn 646</dc:subject>
  <dc:title>Ключ к сердцу больных</dc:title>
</cp:coreProperties>
</file>