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E18-9861-461C-B748-23C20249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492-2113-4D06-9034-8CE7C29F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233-D9AE-454A-BD01-59E315DE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D12-FEB9-4F4D-8DA8-C5B2BA84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9E1-AB5F-42C8-A6B5-C2A3E55F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660-8747-408B-91F3-13A82B4B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891-F3F9-4D32-A9A3-C304D03B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147-192C-4FAA-BD1A-B6CDBEDA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516-CFC0-4EB0-9D3C-813FBC52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550-C8D7-4A8F-B308-2B28041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01A-C39C-4A70-A943-F6770C82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7A6-810A-4E16-8BDC-F89D3AC4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5F6AA-2EE4-41F3-B195-A0F92FF7B3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, радость непрест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leading, let us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cling to Him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tects from tribu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lead us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ам ведёт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на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анит от бед и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внемлет Он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пойдё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льнуть к рука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 бременем сур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пасть нам бе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footsteps we are w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in His mighty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otect from dangers st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liver us from h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e joy that faith can bring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our cups are overr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keep our joy in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ing in us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ры, жизнь даю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, как солнце, в нас г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грешных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благ Он н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2Z</dcterms:modified>
  <cp:revision>15</cp:revision>
  <dc:subject>Slavic hymnal Гимны веры христиан, hymn 567</dc:subject>
  <dc:title>Joyous, Joyous, Without Ceasing / Радость, радость непрестанно</dc:title>
</cp:coreProperties>
</file>