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98A-B76D-4B0A-9D10-A8699408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BC8-6E7E-413E-95B6-3EDB5514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4627-CB4F-49A2-9F1D-BFC41AB7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247-3C5E-48B6-B4A3-4A4A71B6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E1E-B24E-4B21-8628-9526CDF0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AB9-7846-4EB3-9AAC-35833E49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F91-C2F9-4246-AAAF-CD5FF314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6BB-81E8-40D9-922D-91590058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AA5-6805-40EE-8542-8FE1FCC4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F4F-43C9-44CD-9692-CF6223BC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AF0-74CD-4473-A705-0AF78816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EF46-3528-42A7-9D3A-3AC59BD1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F4429-8B72-4CE5-8CA2-AD72723BD5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слышу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ердцем весел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еваю в прост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а ров земного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гибнул, огля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звучит мо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я слышу 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дал душе (в уд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о том молюсь (Тебе молюс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целый мир Тебе восп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кой я бездне утоп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мысли я страш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меня и там взы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диноким был, н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л со мной в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ведёшь средь темн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дал душе (в уд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о том молюсь (Тебе молюс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целый мир Тебе восп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ед Тобою мёртвым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чуду я дивлю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ух мой к жизни воскре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ленник был, Ты не за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редь тяжких у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греха освоб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дал душе (в уд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о том молюсь (Тебе молюс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целый мир Тебе восп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02Z</dcterms:modified>
  <cp:revision>12</cp:revision>
  <dc:subject>Slavic hymnal Гимны веры христиан, hymn 608</dc:subject>
  <dc:title>Когда я слышу о Христе</dc:title>
</cp:coreProperties>
</file>