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9</a:t>
            </a:r>
            <a:r>
              <a:rPr b="1" lang="ru-RU" sz="3600" spc="-1" strike="noStrike">
                <a:solidFill>
                  <a:srgbClr val="ffffff"/>
                </a:solidFill>
                <a:latin typeface="Verdana"/>
              </a:rPr>
              <a:t>	</a:t>
            </a:r>
            <a:r>
              <a:rPr b="1" lang="ru-RU" sz="3600" spc="-1" strike="noStrike">
                <a:solidFill>
                  <a:srgbClr val="ffffff"/>
                </a:solidFill>
                <a:latin typeface="Verdana"/>
              </a:rPr>
              <a:t>Научи меня, Боже</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Teach me, Lord, how to pray in contriti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Your holy commands to fulfil;</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Free my heart from its pride and ambiti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May it always conform to Your will,</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May it always conform to Your will.</a:t>
            </a:r>
            <a:endParaRPr b="0" lang="en-US" sz="28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аучи меня, Боже, мол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священный закон соблю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учи гордым сердцем смир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ю волю во всём испол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ю волю во всём исполня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May You reign in my heart without measur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Your Spirit my spirit control;</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May in You I find all of my pleasur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Your Name in my heart thus extol,</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Your Name in my heart thus extol.</a:t>
            </a:r>
            <a:endParaRPr b="0" lang="en-US" sz="28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Чтобы жил Ты во мне безраздель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Святой чтоб во мне пребы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любил я Тебя беспредель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лишь имя Твоё прославля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лишь имя Твоё прославля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Cleansed within by the blood of my Saviou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May my heart be kept free from all s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May it find its delight and its favou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s it loves both my foes and my k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s it loves both my foes and my kin.</a:t>
            </a:r>
            <a:endParaRPr b="0" lang="en-US" sz="28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Чтоб омыт драгоценною кр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истым сердце своё я хран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ятой, бескорыстной люб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й душой своих ближних люб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й душой своих ближних любил.</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10:08Z</dcterms:modified>
  <cp:revision>3</cp:revision>
  <dc:subject>Slavic hymnal Гимны веры христиан, hymn 169</dc:subject>
  <dc:title>Teach Me, Lord, How to Pray / Научи меня, Боже, молиться</dc:title>
</cp:coreProperties>
</file>