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89C-A1E1-499E-AD4D-68C0BB84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1E0-DAE3-4048-AE78-0DF3350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26D-6455-4F09-B409-98588D4A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DE1-F676-446E-BC47-A812220E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C22-37B2-43B6-925C-5954A722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7C8-44CD-4FA1-972C-E3507435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677-F530-4417-BAE5-5C626B4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246-2515-45E8-9498-D8FFC98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033-200A-42B9-85CE-1297D8A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C27-9ADE-47D5-A8BE-FC842EF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26A-6482-43C1-A436-674BF76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139-A588-4E96-90F4-E203324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F77B-AC27-4335-8B68-C5A0DFE8D6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within my heart a mel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ispers sweet and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I am with thee; peace, be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of life’s ebb an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life was wrecked by sin and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cord filled my life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wept across the broken st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rred the slumb’ring chord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sting on the riche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’neath His shelt’ring 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 looking on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y I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He leads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s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als fall across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the path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footprint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e’s coming back to welcom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wing my flight to worlds un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ign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4Z</dcterms:modified>
  <cp:revision>13</cp:revision>
  <dc:subject>Slavic hymnal Гимны веры христиан, hymn 574</dc:subject>
  <dc:title>He Keeps Me Singing / В сердце песня новая звучит</dc:title>
</cp:coreProperties>
</file>