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F7CD-8F47-48F9-A250-7E423CA8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530B-344A-4003-99E8-B8255EBC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AC2-441D-43FF-AEE1-060B56FB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59A9-F02A-4C45-B430-2B750935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B9CF-7D32-46EA-B759-07FF168E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B6B5-C4C6-4855-B883-61A21517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4B8C-4AD5-40A5-916E-7E6E89F3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6928-FE4F-4895-97E8-2F1D9AA8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CB1D-5401-46C2-BCC7-EBFA3064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027F-DFE0-4B06-8BC6-A41E8F64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E7D1-DC50-4B17-A738-51224B15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EDCB-58A7-42C0-B9D1-D8941A13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39825-F459-4731-A9AE-E14B6D0F9F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ет, никто во всей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ы верных не ли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лоть боится цепи т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тюрьма её страш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ысли, тьмой порабощё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Бог любви свободу 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цепи ей, освобождё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ныне мир не отков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нет, никто во вс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ет, никто во всей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чести нашей не лиш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кай с враждою откров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а позором нас клейм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ем знамя правды в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злобу обовь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есть не в славе быстрот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торжестве любви на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ет, никто во всей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хитит богатств у н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 алтарь борьбы свящ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нас возьмут в жесто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ебро, и что имее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овесть чистой сохра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айной счастья овладе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ю мир обогат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3:09Z</dcterms:modified>
  <cp:revision>12</cp:revision>
  <dc:subject>Slavic hymnal Гимны веры христиан, hymn 551</dc:subject>
  <dc:title>О, нет, никто во всей вселенной</dc:title>
</cp:coreProperties>
</file>