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3FA-90EC-46C6-AE42-E3E383D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089-BD3F-46A4-B2A5-6A2DD70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D68-DCFE-4B76-A068-9569A3D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284-552A-4E3B-8694-E6B5713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22C-122E-4AAB-90D6-069A315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A76-D9C0-415B-A104-5BAD796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DD3-9EAE-453E-99A5-7198F52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F3F-D261-408F-BDDB-D3DD73C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657-C664-4A6B-9FEF-8533C4B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9A3-DFE1-4091-A15D-523E927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88C-176C-47BB-9448-5F4ABBA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B21-A1EA-46B6-ABBE-67649C7B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7E415-634B-43AC-BFA1-CE9A1F9385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і Його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25Z</dcterms:modified>
  <cp:revision>13</cp:revision>
  <dc:subject>Slavic hymnal Гимны веры христиан, Ukrainian hymn 24</dc:subject>
  <dc:title>’Tis So Sweet to Trust in Jesus / Любо вірити в Ісуса</dc:title>
</cp:coreProperties>
</file>