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0B7-00EE-480F-B477-018EFF3D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DB2-583D-498A-8446-82660374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48F-BB54-45D0-AF5F-AF452DD3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7F6-3D97-4128-A835-730B1580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86E-4C74-4B1B-88E1-97C6145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8D6-7FC8-4200-86ED-D9DEE3B4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82F-F60A-4B0E-B2B1-7A410478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28E-88A3-4357-89DA-7499D78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885-459A-4535-A9B5-004ED135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E0A-D676-47C4-98B6-CACC4C86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CA6-FA39-4AC0-A6A9-536116CF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B0D-3E01-46F3-BB53-348BBFC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3457A-E42C-4873-B990-96E770A240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55Z</dcterms:modified>
  <cp:revision>12</cp:revision>
  <dc:subject>Slavic hymnal Гимны веры христиан, hymn 706</dc:subject>
  <dc:title>Не падай духом, не страшись</dc:title>
</cp:coreProperties>
</file>