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EBB-D953-423A-8A6D-18222E20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402-EAA5-4D78-B2A2-C42DD79E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442-E6B1-4E1E-9A97-16B8B8D9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8A6-2994-4EAB-9FA5-CA1749B3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5C5-1952-4B48-BCD5-657588E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7DD-CABD-4C7C-99B1-24D574F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FE8-8735-4589-8D6D-327628E2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A3B-0B4C-438F-AB9E-1385084D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B3B-9737-4CDF-82CD-26DE9133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E8B-269B-454A-A9B1-0BB2FFE4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1BB-B03E-4A2D-810F-D0542F0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033-83BF-466F-A19E-7C39F8D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1344-13CB-4F0C-AC88-82ACA71FF6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lets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a   Just Let Me Say (revis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earth should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tremble and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thes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say: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have f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brok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depth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56Z</dcterms:modified>
  <cp:revision>13</cp:revision>
  <dc:subject>The Source 2, song number 850 (as amended)</dc:subject>
  <dc:title>Just Let Me Say (revised)</dc:title>
</cp:coreProperties>
</file>