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6CB-EAA9-44EF-BBD3-F530EC6E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B29-E815-4CA9-A27E-BC0A298D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000-6ACE-4497-B5D6-AC8C4E5C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0BC-3CDB-41BA-8476-EA53EF0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72E-CB71-427D-80DE-74413403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9FD-4CB1-4076-9365-9A7B93A9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26D-69B5-4480-96F9-9EA3EA3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C89-C73E-4556-9988-08246D3C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CB1-C4DB-4897-9470-2A25384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414-8777-4EC8-9DCC-2BC7660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6D2-076C-45EF-AB83-95ADFEA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32A-825C-4239-B3EA-D97E4625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2096-560C-4BF1-BC2F-93E0C5F44E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-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ways fi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ongs of deliv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am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I am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0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55Z</dcterms:modified>
  <cp:revision>11</cp:revision>
  <dc:subject>The Source 2, song number 1080</dc:subject>
  <dc:title>You Are My Hiding Place</dc:title>
</cp:coreProperties>
</file>