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BFE1-ADF3-48AF-888F-71C326D89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3F1D-6E29-447B-82B8-68BC00C27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FEEE-4EE6-42B3-AAB6-6C3649CFD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F783-2AAA-4586-94BF-F91E92776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8114-90CA-4E6B-B929-F1722F6C1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7EB3-B4B3-4819-8550-95A11F369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2842-53E9-400E-9AE6-B14197797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C9D8-7D10-4F21-AD29-103E93B65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0C32-5B35-4EFD-B93D-47EC964BA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D2FC-14D8-48A7-AF39-9E0CCA186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1DBD-36C3-4A98-9965-8742A2793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9EAC-6FE1-4254-9271-F8BE08305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42DA56-49AC-48FD-BB78-4E1F78E3945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те все сердц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любит труд Отц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йте, окруживши тр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 всеми, кто спасён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ём мы к Сион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радостный, чудный Си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ём мы прямо к Сион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украшенный город Твор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0944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8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ридите, все сердц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те лишь не пою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Господа не чту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дети Божьи пусть пою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быв печаль и труд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ём мы к Сион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радостный, чудный Си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ём мы прямо к Сион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украшенный город Твор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ж ныне нам Си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Шлёт радостей милли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 ещё мы не приш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полям святой земли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ём мы к Сион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радостный, чудный Си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ём мы прямо к Сион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украшенный город Твор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там, где нет оби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вечно песнь звучи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Эммануилом мы ид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ир лучший, в вечный дом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ём мы к Сион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радостный, чудный Си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ём мы прямо к Сион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украшенный город Твор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25:20Z</dcterms:modified>
  <cp:revision>13</cp:revision>
  <dc:subject>Slavic hymnal Гимны веры христиан, hymn 588</dc:subject>
  <dc:title>Придите, все сердца</dc:title>
</cp:coreProperties>
</file>