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358-D901-4337-AD99-27974583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E5C-0605-4A23-9110-9A2E83F5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3D9-9B5B-4D44-9CA9-E21BAC2C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555-F419-4776-BD77-CF28D7AE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047-7536-49ED-B9E0-F582BCB2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3D7-C9D7-42DB-90C4-92042D69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362-39DE-4308-AD90-45C16AE3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9B6-6C64-41A1-84EC-60B6B9FB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2D9-30E5-4A0A-BCF5-B051582C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C14-5FE3-4E8E-9232-A998815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B62-304C-4B87-95A0-AB6ED722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074-9F82-4D80-82D6-7C84B75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65AE1-5769-48F2-858A-A5610B2D5A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 would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grace to others sh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льше скажите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ол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 let me l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holy will discer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of God, my teacher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ing the things of Christ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ятости и чи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е истины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нас Христов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; in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ing communion with m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ing His voice in every l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ing each faithful saying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е жизни, что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бщенью с Господом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, и радость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; on His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es in glory all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kingdom’s sure incr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coming, Prince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царит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ит грешников спа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 наш мир придёт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0Z</dcterms:modified>
  <cp:revision>13</cp:revision>
  <dc:subject>Slavic hymnal Гимны веры христиан, hymn 557</dc:subject>
  <dc:title>More About Jesus Would I Know / Больше скажите о Христе</dc:title>
</cp:coreProperties>
</file>