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4D4-237E-4D5C-ADB0-ED24C5C5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100-4376-469E-AD21-882A340F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8EA-3C0A-45EE-9601-CAB3A502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3F8-7617-440B-9923-2A667B9D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42F-F199-4E4E-BD60-1708FFD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852-AF3E-4A60-AC35-332F821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39D-DDA2-4B8E-9FCE-E08C94A9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2C6-FE1C-4AAE-B8B0-840B5D50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61A-07EB-4C79-92E5-1563008F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210-E839-424C-88D7-87C04C6C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004-9077-4681-A271-27A23A0B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407-80D1-4CE2-866A-6112967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19050-751C-4C60-9BD2-7CF344FD23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чь Самарии не зн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, как бедн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ань Христа её и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ивесть к Твор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Тот, Кто полн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ь с неё греховный гн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збавить от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чь Самарии не з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пальмы наклон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сказал Спаситель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её лета промч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она спешит в с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роду весть нес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Мессия ль то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перь вода ж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ец людских теч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в ней разл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мир: с щедр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 свой Бог на нас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юбим мы Того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4:08Z</dcterms:modified>
  <cp:revision>12</cp:revision>
  <dc:subject>Slavic hymnal Гимны веры христиан, hymn 341</dc:subject>
  <dc:title>Дочь Самарии не знала</dc:title>
</cp:coreProperties>
</file>