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466-2353-45DB-A718-1FC2B908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ACB-6A87-4BD1-B9A1-AB7D6325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841-25D3-4762-AAED-295A03B9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A38-1B0C-4F43-8D1D-5D5E5BE7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E33-7780-4504-AA11-ECAE94B2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0AE-81C7-40F9-BD40-C8894550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8BB-2845-4723-BA5D-34DD6AC2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8C9-D8FB-4F78-A5CB-1BDA74F7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F2E-115B-4179-8FF9-36C4EA86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B80-9388-4950-A04C-33969CBA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A9C-1985-4297-B357-3D772927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065-CF43-49F7-A9DA-14D4CAB5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70D3E-E59C-4C99-94D2-DF3EA1707A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ю вечну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открыла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спас от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л Христа при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полнил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Божьим доро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юбви святой 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ю вечную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стало мне р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земля красот пол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жизнь кипит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ась во мне ве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тички радостно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ля, на лес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торгом дышет гру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чера внушало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сегодня не сму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 Христа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мой и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 страхов и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радости дрож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Себе меня прив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ов, навек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может разлуч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— надежда и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зде отрадн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е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одним лишь я с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знали там и 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6:02Z</dcterms:modified>
  <cp:revision>13</cp:revision>
  <dc:subject>Slavic hymnal Гимны веры христиан, hymn 856</dc:subject>
  <dc:title>Божью вечную любовь</dc:title>
</cp:coreProperties>
</file>