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6348-65BF-4B00-B5D3-5016E17A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817A-4B4E-4681-BEA5-587196A2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FC53-75B2-4EAE-831C-941AFF9F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B3DF-ED08-4323-B204-5589B577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1864-D38A-4422-B061-EBB55A53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56FA-9385-4C11-B061-08E91649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BCCF-1DD7-4208-9E83-A130D7D5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21B6-644B-4D54-A376-06E2D145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41B2-EE0A-40F2-879B-D3FA2112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5C11-5BB0-4E9B-B441-6ACADF7D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4DDD-567D-4C24-A93E-5891C7B4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2AE4-719B-4BD4-9B03-6C75F7E7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4C5E2-5BCD-4CCA-A72A-F27E20EA7A0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у небесную для серд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послал Отец, нам послал От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радости ясной собрал Он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Ему за этот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привет, всем при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м, сёстрам, всем при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извал в чуд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ваться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раду небесную для серд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браньи во имя Его Иис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Сам обещал, быть Сам обещ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очет, чтоб вечный наш с Ним сою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агодати возра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привет, всем при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м, сёстрам, всем при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извал в чуд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ваться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этот не знает отрады 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Господь нам дал, что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ься мы будем, чтоб Он, бла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с нами пребы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привет, всем при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м, сёстрам, всем при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извал в чуд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ваться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8:02Z</dcterms:modified>
  <cp:revision>12</cp:revision>
  <dc:subject>Slavic hymnal Гимны веры христиан, hymn 744</dc:subject>
  <dc:title>Отраду небесную для сердец</dc:title>
</cp:coreProperties>
</file>