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8E2-A0BE-4A99-A089-31139EF5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DDA-972F-42B3-9352-38D8A214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4FC-3299-4F62-A3C6-74B5035D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F48-852F-41F2-9C1A-BDBECE4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050-3EBB-4ABF-9E12-709C8D28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230-4867-4DD9-B747-9E8BC87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AD9-7F62-4FCA-B4E9-858C7FF2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95-081C-4B76-8396-769A64C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7D0-7E99-4CB9-8E72-29128AA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794-7967-4751-BBEA-C969489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8A4-1538-4474-A78B-531336E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87C-C69F-4F72-86C2-9F8FDBFC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F5252-EBC3-4322-A5BE-8D4E757295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the land with hearts on f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 step will be a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s rising, new day daw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of singing fills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o thousand years, and still the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urning bright across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ts are waiting, longing, a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wakening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’ll Walk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for truth, speak out for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Jesus’ name we shall be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the fallen, to save the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ll the nation with Your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53Z</dcterms:modified>
  <cp:revision>10</cp:revision>
  <dc:subject>The Source, song number 551</dc:subject>
  <dc:title>We’ll Walk the Land (Let the Flame Burn Brighter)</dc:title>
</cp:coreProperties>
</file>