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CB0-CB88-4780-989C-040D0C68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FFF-6339-4025-BB98-E923AF5F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B1D-C794-43D8-8605-C1F66BAB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449-BD03-4FC8-8658-296B9C15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768-AAD8-493F-A8F1-DADB9879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8C5-B32E-409D-983C-A737CD07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6CC-7667-4CBB-B327-938619EB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3CC-D7C7-4FB3-83DF-4C9D7134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589-94AC-4A7D-81F9-F8834334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311-B26F-4D21-B16A-10B1109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781-9967-46C5-B2C6-609C7EE7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7E4-9686-4C02-A7D4-9C65FFB4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D9A9C-CB3E-43ED-84D0-68A791B9AC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страждущий, зай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сё Христу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гони прочь страх люд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тебе Спасител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аздывай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на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 в твоей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Спасителю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е на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забот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ам дал в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гляните, как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ам поток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ой 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од сен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каждого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ршились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кнула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06Z</dcterms:modified>
  <cp:revision>12</cp:revision>
  <dc:subject>Slavic hymnal Гимны веры христиан, hymn 345</dc:subject>
  <dc:title>Есть для плачущих земли</dc:title>
</cp:coreProperties>
</file>