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C59-BAA5-411F-B472-9B637052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B10-2614-4B18-A785-2525FE3F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722-780F-4D1C-B063-0CE51418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BA4-243A-42BF-9D99-6AA8E19F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D27-64A4-4F5F-B66E-9B6D5B4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E56-BBEE-4A83-8EC8-B4AC79F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9BD-D2EA-4B9A-9E92-ABC41A39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510-B829-48CB-BA84-6C4A351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B1F-2A1C-4962-B920-A104B61E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EFF-A175-47B0-B9B3-ECD3964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8DB-B830-4AEC-860C-73F0E92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76C-6AA6-4A15-BA4E-DDB7671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0512A-769F-40BA-9986-40801103BF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бедный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слово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 был преступ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лощён весь во гре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тебе ещё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ь благодатны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 ты,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рвать не раз реш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ти в мире сует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беспе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ь так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рко за тобой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ет 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умом твоим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властно у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и ум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боты сам вну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чёт к делам мирс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друг мой, всё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мыслишь ты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всё сам устро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ак решать ты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никогда ты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цели не достигн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я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ещё тебе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благодатны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48Z</dcterms:modified>
  <cp:revision>12</cp:revision>
  <dc:subject>Slavic hymnal Гимны веры христиан, hymn 384</dc:subject>
  <dc:title>Сколько раз ты, бедный грешник</dc:title>
</cp:coreProperties>
</file>