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288C-BDDE-47B6-BA49-95F5645A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81CA-0E83-4042-831D-8E6E210C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2CD0-B92B-4D1C-A571-2F4D325A9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D493-2AD3-4376-8A3C-9D01D124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4C7D-E936-4726-A098-7D2337BF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CE12-31AD-47BC-86C0-E6A3D424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8AFA-F244-43BE-8C1B-4A3E5AD3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56D5-E109-4816-8B8C-F4D4ED83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216A-B7B9-433B-88DD-97224ED1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52B6-EC71-4DAC-BADD-2A12F026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E89F-01A9-4789-8E78-963A92D5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01C5-1F28-4AD6-8DF7-32FC5C5B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2CC54-C7C6-44C2-AC75-B2D9DDE186A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enter His g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thanksgiving i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enter His courts with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ay this is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the Lord has m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rejoice for He has made me gl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has made me gl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has made me gl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rejoice for He has made me gl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6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Will Enter His G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3:54Z</dcterms:modified>
  <cp:revision>13</cp:revision>
  <dc:subject>The Source, song number 262</dc:subject>
  <dc:title>I Will Enter His Gates (He Has Made Me Glad)</dc:title>
</cp:coreProperties>
</file>