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a:t>
            </a:r>
            <a:r>
              <a:rPr b="1" lang="ru-RU" sz="3600" spc="-1" strike="noStrike">
                <a:solidFill>
                  <a:srgbClr val="ffffff"/>
                </a:solidFill>
                <a:latin typeface="Verdana"/>
              </a:rPr>
              <a:t>	</a:t>
            </a:r>
            <a:r>
              <a:rPr b="1" lang="ru-RU" sz="3600" spc="-1" strike="noStrike">
                <a:solidFill>
                  <a:srgbClr val="ffffff"/>
                </a:solidFill>
                <a:latin typeface="Verdana"/>
              </a:rPr>
              <a:t>  Ныне есть тот день</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ыне есть тот день, ныне есть тот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Господь нам дал, что Господь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ем радостны, будем радост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счастливы в нём, и счастливы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ыне есть тот день, что Господь нам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ем радостны и счастливы в 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ыне есть тот день, ныне есть тот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Господь нам дал.</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3:29Z</dcterms:modified>
  <cp:revision>3</cp:revision>
  <dc:subject>Slavic hymnal Гимны веры христиан, chorus 4</dc:subject>
  <dc:title>Ныне есть тот день</dc:title>
</cp:coreProperties>
</file>