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EDD-82F4-4CB1-915E-76CD9997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28DF-5620-402D-B4F9-2790378F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9C08-36A0-4E5B-BF14-B082C9C8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6B7-FEA3-4C2F-99BC-62D9833E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A56-AA04-4A5A-9278-FE1DB803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AFA7-098D-4C20-9BC4-688B1C53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5B5-A515-4C79-AB99-0DFF0333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6E0-EC96-476F-8B17-A9C8B31A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5597-C33B-4E4D-9ABC-10E82AEA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8A8-2A17-4F26-87F9-E6040EEF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F396-C562-45F5-ADE1-2783A341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7D25-4059-44D2-8826-705720AE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2D23F-F75F-4571-A802-2ED28778DD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one needs compa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that’s never-fail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rcy fall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one needs forgiv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kindness of a Savi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pe of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85   Everyone Needs Compa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He can move the mount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is mighty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mighty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author of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ose and conquered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onquered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take me as You fi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my fears and failu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y lif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my life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believ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 surr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He can move the mount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is mighty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mighty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author of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ose and conquered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onquered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hole world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glory of the risen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hole world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glory of the risen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He can move the mount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is mighty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mighty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author of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ose and conquered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onquered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hole world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glory of the risen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hole world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glory of the risen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4:35Z</dcterms:modified>
  <cp:revision>12</cp:revision>
  <dc:subject>The Source 4, song number 1785</dc:subject>
  <dc:title>Everyone Needs Compassion (Mighty to Save)</dc:title>
</cp:coreProperties>
</file>