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0</a:t>
            </a:r>
            <a:r>
              <a:rPr b="1" lang="ru-RU" sz="3600" spc="-1" strike="noStrike">
                <a:solidFill>
                  <a:srgbClr val="ffffff"/>
                </a:solidFill>
                <a:latin typeface="Verdana"/>
              </a:rPr>
              <a:t>	</a:t>
            </a:r>
            <a:r>
              <a:rPr b="1" lang="ru-RU" sz="3600" spc="-1" strike="noStrike">
                <a:solidFill>
                  <a:srgbClr val="ffffff"/>
                </a:solidFill>
                <a:latin typeface="Verdana"/>
              </a:rPr>
              <a:t>Не в словах молитвенны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е в словах молитвенных реч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 песнях жизнь души мо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 она сокрыта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 в желаньях я ищу пок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 счастье, данном мне Т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одна всегда звучит во м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идишь Ты забот моих волн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ёшь мне в сердце тишин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желанья приношу Тебе,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явил Себя, любовь Св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ли отраднее в ра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трепещет всё во м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Разве мне от зноя Ты не сен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рячусь я в Тебе в палящий ден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ю ж в пустыне я Теб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Сила вражья мне кругом грози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душе Господне имя — щи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ую победу дал Он м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Ты — моя опора и пок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епость и покров, Спаситель м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е блаженство дал Ты м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мои источники в Теб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57:29Z</dcterms:modified>
  <cp:revision>4</cp:revision>
  <dc:subject>Slavic hymnal Гимны веры христиан, hymn 170</dc:subject>
  <dc:title>Не в словах молитвенных речей</dc:title>
</cp:coreProperties>
</file>