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FE8-4ED3-4F73-A8DA-A75AB9AE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96A-097F-4B3F-8FE5-0337BAF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583-702D-470A-9FA1-9B0FAA1F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DE5-A9F3-4D09-BDAE-78240057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E4D-94C0-4246-B152-18231A9F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9F9-1CDE-4250-AF95-1A0ECF7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B78-925A-472D-86E0-5CE2891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A0A-6701-43C4-AB46-CD51782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26E-3BFB-48A9-B6AB-8236021B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4A7-EB1C-41A2-82F7-AAC21C4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BA4-F252-42AD-A143-7E87117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632-E388-49F3-9106-0E6E4C0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27E93-4B19-4ED9-9BD8-D820482452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27Z</dcterms:modified>
  <cp:revision>12</cp:revision>
  <dc:subject>Slavic hymnal Гимны веры христиан, hymn 565</dc:subject>
  <dc:title>Эта весть звучит</dc:title>
</cp:coreProperties>
</file>