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C8D0-C35A-4FF7-8829-08B3AC98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69B8-0D35-49CF-A6DB-920ABDE5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4A97-62B3-4F5F-9516-AB5675BE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5FA9-5FEA-4C32-891E-F4C633F7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A83-482C-4B75-9C76-F84205FC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32D-6B01-494F-A780-FB3D7780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3CF0-0059-46F7-B61C-1F858F10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D89-6685-449E-A025-3292015B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ABC-9C8E-424B-A590-B08358F7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F374-88E2-48AD-95C2-1087B78F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F7C5-880F-46D2-9CC3-5A660473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0CE7-D7B0-409A-AF60-5CDEAF85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F910F-60B4-4BE4-8427-9F21F913B2E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 Spirit, faithful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near the Christian’s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ently lead us by the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ilgrims in a desert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ждь наш вер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ь наш верный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сегда Ты близок к н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ди Свое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 жизненным пут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ry souls fore’er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y hear that sweetest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spering softly, “Wanderer,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 Me, I’ll guide thee ho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м голос мы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истой радостью в гру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утник слабый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present, truest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near Thine aid to l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ve us not to doubt and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oping on in darkness dr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близкий, верный Д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егда готов помоч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ь Своих Ты 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скать на ощупь в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torms are raging s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grow faint and hopes give o’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spering softly, “Wanderer,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 Me, I’ll guide thee ho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ря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слабнет под нужд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ви: «Путник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our days of toil c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ing still for sweet rel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left but heaven and pray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ing if our names are the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ень пройдёт тру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лышим сладкий з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ебо, как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ерёмся мы с мол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ding deep the dismal f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eading naught but Jesus’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spering softly, “Wanderer,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 Me, I’ll guide thee ho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я в мощь крови свят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оток нас пров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ви: «Путник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49:30Z</dcterms:modified>
  <cp:revision>13</cp:revision>
  <dc:subject>Slavic hymnal Гимны веры христиан, hymn 302</dc:subject>
  <dc:title>Holy Spirit, Faithful Guide / Вождь наш верный, Дух Святой</dc:title>
</cp:coreProperties>
</file>