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B2E-862D-4CA2-B338-D22348A8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581-5F0E-4B81-B529-AB69358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2A0-3059-468A-9A4C-79C07E91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F5C-0919-46BD-8EA1-5D254497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AEA-92C9-4661-98B8-2E629DB9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DCC-99CC-42D5-A54F-B566756A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638-F47C-46A2-8FB9-4E2D0327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F11-F3A6-4670-9DD7-13EB948A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386-E774-4FB9-A12C-40897766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95B-5F55-4C51-AE5F-E609B17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542-061F-4C20-A769-DA2047C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1EE-9AFE-4CF5-9536-F55B1013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4B30F-305B-41BD-92AE-A12B6CCBF3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has lost its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rave has been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liv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allelujah! Jesus Is A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Alpha and Omeg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rst and last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urse of sin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have perfect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of God ha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has lost its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rave has been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liv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Alpha and Omeg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rst and last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urse of sin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have perfect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of God ha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03Z</dcterms:modified>
  <cp:revision>10</cp:revision>
  <dc:subject>The Source, song number 142</dc:subject>
  <dc:title>Hallelujah! Jesus Is Alive</dc:title>
</cp:coreProperties>
</file>