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0EDCD-50C6-47F9-8446-0A2AAD84E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BF0FE-A06E-48B6-873F-68A2DA128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B6D29-88E8-4E1C-B078-C7742F6CF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E6F7E-F4E8-4126-9CF3-0684869E1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5413F-B0F5-4EF7-AA38-865E39797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AECCC-0036-4F40-9699-AC9972BA9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51CE5-0E7A-4D7E-B1B3-6A103C182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88341-5A93-4C18-B246-465E72C66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D45F3-D15C-4587-BAB6-11069FAEE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0248E-3EAE-4998-9CAC-AA3455BA6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4C6D5-AA29-483F-9579-E0A2B5ED2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06BA4-09AB-4D09-9D74-A5ED02FA1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515C3D-A16D-4C20-AED8-2B0450A7C565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is standing in Pilate’s hal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riendless, forsaken, betrayed by all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arken! what meaneth the sudden cal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at will you do with Jesu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08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Перед Пилатом Иисус стои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ред Пилатом Иисус стоит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ми оставлен, презрён, избит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ушай! вопрос роковой звучи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Что сделаешь с Иисусом?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at will you do with Jesu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eutral you cannot b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me day your heart will be ask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at will He do with me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сделаешь с Иисусо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перь реши душ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коре станешь пред вопросо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сделает Он со мно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at will you do with Jesu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eutral you cannot b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me day your heart will be ask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at will He do with me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сделаешь с Иисусо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перь реши душ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коре станешь пред вопросо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сделает Он со мно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is standing on trial stil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 can be false to Him if you wil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 can be faithful through good or il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at will you do with Jesu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ред судом Он стоит ещё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руг, за Кого ты признал Ег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шь ли защищать горяч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сделаешь с Иисусо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at will you do with Jesu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eutral you cannot b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me day your heart will be ask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at will He do with me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сделаешь с Иисусо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перь реши душ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коре станешь пред вопросо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сделает Он со мно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ll you evade him as Pilate tri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r will you choose Him, whate’er betid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Vainly you struggle from Him to hi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at will you do with Jesu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шь ли руки мыть, как Пила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ль согласишься с Христом страда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рыться нельзя, Бог велит решат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сделаешь с Иисусо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at will you do with Jesu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eutral you cannot b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me day your heart will be ask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at will He do with me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сделаешь с Иисусо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перь реши душ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коре станешь пред вопросо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сделает Он со мно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ll you, like Peter, your Lord den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r will you scorn from His foes to fl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Daring for Jesus to live or di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at will you do with Jesu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28600" y="41148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отрекись же, как Пётр тогд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сть не пугает тебя враж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руг, согласись жить с Христом всег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сделаешь с Иисусо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at will you do with Jesu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eutral you cannot b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me day your heart will be ask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at will He do with me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сделаешь с Иисусо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перь реши душ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коре станешь пред вопросо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сделает Он со мно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5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Jesus, I give Thee my heart to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, I’ll follow Thee all the w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ladly obeying Thee!” will you sa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is I will do with Jesus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О мой Господь, отдаю себ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радости ль, в скорби любить Те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— моё счастье и жизнь мо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 сделаю с Иисусом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2:38Z</dcterms:modified>
  <cp:revision>14</cp:revision>
  <dc:subject>Slavic hymnal Гимны веры христиан, hymn 408</dc:subject>
  <dc:title>What Will You Do With Jesus? / Перед Пилатом Иисус стоит</dc:title>
</cp:coreProperties>
</file>