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5638-1ECD-48A5-9016-A6C78DD0F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94FC-4059-4E12-BF3E-03F61F51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0498-3DCF-4077-A44D-A2A6C7D02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1F85-9C75-4BC3-B823-37D692271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17B3-0872-427D-AD37-C06A0CB8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FA48-C82A-4B6F-B7F8-8BF2B6E6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EF36-0D57-4530-91F8-D2563B96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0F66-0FF2-494E-80E8-EB9F71F2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31E6-340D-4FD2-B1E2-7266BEAD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77B3-58BE-463B-A099-89E1E45C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5CE4-4106-4389-8B7B-9BBE01ED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BFAB-5634-468D-AB45-A0DC4232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1FA2F2-15BF-445F-8968-C078F241317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eye is on the spa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hand it comfort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ends of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depths of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mercy and strength be s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93   Your Eye Is On the Spar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all me to Your purpo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angels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glory may you draw all m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Your love and grace de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run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r words of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by might, not by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by the Spirit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I will run the 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il I see Your 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let me live in the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Your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all me to Your purpo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angels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glory may you draw all m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Your love and grace de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run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r words of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by might, not by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by the Spirit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I will run the 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il I see Your 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let me live in the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Your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32:49Z</dcterms:modified>
  <cp:revision>11</cp:revision>
  <dc:subject>The Source 2, song number 1093</dc:subject>
  <dc:title>Your Eye Is On the Sparrow (I Will Run to You)</dc:title>
</cp:coreProperties>
</file>