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05B6-952A-4831-B985-5FE4D26C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F00-9A4C-4FFC-8A2E-58B58B12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54E-6F61-415F-8119-ED2A6BD5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09A-18CD-49C2-878D-C43ED02C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D28C-3D69-418A-A19C-644A5252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6B1-26C0-404E-9A12-57CBF84B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FCBB-AB98-4E5B-96C4-C6DEC605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FC3-33B1-498C-B8AB-A65D5571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2AF-0779-4317-BE80-969758A0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1AA-C152-443B-ADA8-F33DCB9B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C7B2-CE94-4DB2-B409-C5E10889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A892-58A5-44C3-A937-DF063358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0763F-D4A4-4D5F-9A2D-4780947F29F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ошёл. Кон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вои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покр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ёмной ночи м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уст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ый сон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рикам и м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ы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прош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ждущим муч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гчи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ям дай ви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х райск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ы н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да не пр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да стерег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с зарё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озволишь вс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пред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5:03Z</dcterms:modified>
  <cp:revision>13</cp:revision>
  <dc:subject>Slavic hymnal Гимны веры христиан, hymn 825</dc:subject>
  <dc:title>День прошёл</dc:title>
</cp:coreProperties>
</file>