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774-5404-4832-BAE3-55798F0C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892-D49E-4BCD-BCA7-66B24C02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01-0A58-4287-8638-6788C4EC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B38-9FC2-4DA1-A313-D629785D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DB2-402F-44FD-8781-5DB69EEB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181-E45B-4CD6-8CA8-3D81CF6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0FC-ECDA-4A88-990C-EFF27E8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B71-E603-4BBB-8C93-6E05783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C56-6A66-4984-9BBC-C2F2F076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BDB-6C4E-46CF-BF26-8316A7B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268-8B75-432D-B5AB-96C9CAA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BF2-7843-4DFC-A158-18547E49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790AF-7174-4A7A-9A1C-5183AF43FD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 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, 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ебро и золо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утри меня зажги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my sin, 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меня с внутри и 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 мои грехи, все г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37Z</dcterms:modified>
  <cp:revision>12</cp:revision>
  <dc:subject>The Source, song number 436 in Russian</dc:subject>
  <dc:title>Сердце очищай / Purify My Heart (Refiner’s Fire)</dc:title>
</cp:coreProperties>
</file>