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E02-AA79-41BD-85C1-DC412CA8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872-A355-4AEE-9A0D-4D2EBF30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288-4758-4AC8-AD07-376C1F83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170-3901-4DAF-9220-A0BB234B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EE9-663A-4867-8CAD-2394FE10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05B-BAFB-4FBE-851E-BCB6112B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E08-7EB7-46C8-81B0-E40A9232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148-829F-4490-A5D6-77FF8A11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8DC-2A7D-47A7-AA6D-3CECCA0E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028-CEFB-4D7B-9BE9-B222B004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0CC-15FE-47C3-88F3-8EB61EE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27B-DFB4-4529-AB32-BE5F399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63BB0-9754-4841-9001-15EABCBBEF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I thin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ecame no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ed out to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y times I’ve wonder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in that plac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in that pla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 Christ, I Think 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You are exal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ighes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one day I’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for now I marve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saving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ull of prais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ull of prais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47Z</dcterms:modified>
  <cp:revision>10</cp:revision>
  <dc:subject>The Source, song number 274</dc:subject>
  <dc:title>Jesus Christ, I Think Upon (Once Again)</dc:title>
</cp:coreProperties>
</file>