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8C0F-80C0-491C-8DC0-1E7D466E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3E33-2E86-4C95-896B-34615EE0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6F5E-6D30-43E2-9591-C8963C92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6136-E206-4479-9AD0-8E9BE46E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4B86-B5D5-4F20-BC53-83D220AB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088D-E966-4DB7-9F1F-E63E7260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0CA3-FA75-4BFA-B651-DBFE5D98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212B-5D4C-4B03-BD6A-3342C548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A5E0-8A0C-42C3-A27D-E2BEA790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56A6-A226-4F9D-BA16-07F92E2B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2613-5169-435F-9997-08509C8C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71A3-D557-4DBF-94F0-2C8BCE7A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3430A-4806-4937-93BE-A52F522F41F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our homes be filled with dan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our streets be filled with j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injustice bow to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people turn to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mountain to the vall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praises ris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heavens to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singing fill the 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8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ay Our Homes Be Fil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a light shine in the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alk before the cro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Your glory fill the whol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water o’er the s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mountain to the vall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praises ris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heavens to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singing fill the air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mountain to the vall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praises ris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heavens to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singing fill the 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6:01Z</dcterms:modified>
  <cp:revision>11</cp:revision>
  <dc:subject>The Source 2, song number 886</dc:subject>
  <dc:title>May Our Homes Be Filled (Hear Our Praises)</dc:title>
</cp:coreProperties>
</file>