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184-34D6-46BD-90DF-DD61EF2A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2AE-F14B-48E7-976D-839F0F71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ED3-AEDD-4B37-B555-748983C0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87D-D464-4DB1-B7FA-0DE4C69C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721-4FCF-4F61-B785-6D4E808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F3A-FF2E-401E-9A67-CDB26394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A5B-AA5C-489D-84C3-5C734A39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F17-303B-46B6-9A4B-E15C182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B1C-055F-41AB-91CA-020B2116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E66-EAE9-4D0F-A80E-4DC185D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002-F10B-4558-B729-5F25B4D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B56-DF70-4107-A4A4-3D1A7217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31A7B-A2B2-4C6E-8962-E78CC14C55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годня ва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и блаженн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едших п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Иисус зовёт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ердца!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веры чист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юны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я дар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ю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Богу утр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оп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зов при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22Z</dcterms:modified>
  <cp:revision>12</cp:revision>
  <dc:subject>Slavic hymnal Гимны веры христиан, hymn 757</dc:subject>
  <dc:title>Вот Иисус зовёт детей</dc:title>
</cp:coreProperties>
</file>