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582-4EE3-4673-A563-385671BF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B31-5087-4029-A47E-1AC144CA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315-D0DF-4CAD-AFF6-2FA866BC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E4D-BE6C-4F7E-B3C5-07AA4F6B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FB1-FFAE-44B3-8BBE-9C95BFFF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5C8-8B64-4616-8273-6140F104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C9F-7554-4D5B-BF68-8A4CB169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5C1-075E-4CAB-B226-C727E15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0DC-E34D-4BE6-B2CE-A8FA4FFC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E6F-4DD3-454F-8798-37BA082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127-1399-41C6-A891-F7B9788B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E38-869E-4EDE-8B13-C32CB8B3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A9C83-3314-4B09-91C8-286559144E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единственный был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ый день изо всех в мире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ог умирал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погибавший во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ог умирал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погибавший во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 единственный б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ебом и грешной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, как преступник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томимый смертельной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скорбным взором гля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томимый смертельной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скорбным взором гля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ла вся внутренность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ерпимым, палящим ог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ажду…» вырвался вздох, но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уксус Ему под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ажду…» вырвался вздох, но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уксус Ему под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скликнул Иису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Его возвратился к Отц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открылся… Земля потряс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и ужас напал на тол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открылся… Земля потряс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и ужас напал на тол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помнить, что мы — это п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й жертвы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в Нём всякий грешник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и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в Нём всякий грешник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и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41Z</dcterms:modified>
  <cp:revision>12</cp:revision>
  <dc:subject>Slavic hymnal Гимны веры христиан, hymn 283</dc:subject>
  <dc:title>То единственный был на земле</dc:title>
</cp:coreProperties>
</file>