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2FC-82D3-48E6-A80F-672EED9D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8D8-4C42-4F8E-A3A6-CF63A2F9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B8F-1AB1-4C58-8209-5039F9FA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E73-235B-4C92-9D01-BD069603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CED-B1FA-40D3-A785-B5A33C8B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691-B784-45A8-A8E7-19B0BC5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990-1BE2-44B4-953D-6EA47488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829-627B-4810-B22F-15334094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C8E-CEDC-4ED6-8B0C-00094A0A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56A-313B-43B8-A732-A993926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935-2D2E-46F1-8C39-4E6550FC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1A5-73AB-461C-A3DE-71EC4F97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24D29-A7B9-4578-BACA-9413809EB8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4:25Z</dcterms:modified>
  <cp:revision>12</cp:revision>
  <dc:subject>Slavic hymnal Гимны веры христиан, hymn 854</dc:subject>
  <dc:title>Есть место сладкой тишины</dc:title>
</cp:coreProperties>
</file>