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1BF-4827-42D3-BC03-9EF42499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028-E067-481F-81E4-596C9322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48A-D65C-41B0-9227-A9C51E16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A16-D2AF-4F1A-9AA4-383E7462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2D1-227D-48B1-BD07-0A92D4D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DCE-D68E-4147-804B-1CC320B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080-385E-45E7-9EF1-97E9192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9D7-A523-4F46-9511-68DFC20F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AF7-6AD4-4998-8A63-AB2DFEB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79D-9F86-45FA-A4B4-F156B43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2E6-3486-4D56-8E25-8D7E80F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F7B-A558-49A6-95D1-283FBB2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11928-3605-4E79-AE13-8448AFA1F9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9T11:25:14Z</dcterms:modified>
  <cp:revision>10</cp:revision>
  <dc:subject>The Source, song number 280</dc:subject>
  <dc:title>Jesus! I Am Resting, Resting</dc:title>
</cp:coreProperties>
</file>