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3F00-9D0D-4227-BCFB-77BBAFF9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D231-FBBE-4525-9E00-5446C130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78AE-ECD6-43D7-B51A-46B101D9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9533-12B8-4A29-A669-790820A0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01AD-D991-4BEA-BDF2-B12ABAD7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0299-98AF-4478-9BEB-A0BF7F1E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3EBF-B406-4725-8A51-4E1625E2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3A19-CCA0-4810-BE57-0D6C1930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B80E-C749-4B91-B49E-040CAA6A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DF1C-0369-4E47-A7C0-AA963C3B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029A-B341-41E9-BD07-D76903C4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2734-E5C2-4639-AFE1-E3978F68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4921B-08C9-4858-AEC5-855AA89FFF2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лість Господня велика т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більша, як наші всі гріх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на Голгофі з’явила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Агнець кров Свою пр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м прощає вон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а є, як наші всі грі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1   Милість Госпо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 і вагання, як море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шують, щоби душу згу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 всі гріхи милість більша 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а навчає нас свято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м прощає вон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а є, як наші всі грі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провини ― не скриєм ї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ж може змити їх нам з душ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лянь, ось тече струмок на змит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им він зробить тебе, як сні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м прощає вон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а є, як наші всі грі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я милість дивна й безмежна 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криє тих, що вірні Йо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, що готові любить Й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лість в цю хвилю прийміть свя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м прощає вон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а є, як наші всі грі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2:43Z</dcterms:modified>
  <cp:revision>12</cp:revision>
  <dc:subject>Slavic hymnal Гимны веры христиан, Ukrainian hymn 101</dc:subject>
  <dc:title>Милість Господня велика так</dc:title>
</cp:coreProperties>
</file>