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AF84-CD35-40CE-89FD-488F08F17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A96F-FB6F-49AF-906C-AC2F9380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8CE8-879E-43BF-BEAF-B15306A95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181C-E116-42F8-9AA6-68AD1B15C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ADE0-C118-479F-9C19-7CC22F28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AD9D-2A0E-4A87-9189-711CE5C5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835E-AFA9-4592-B833-7822B3A9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51B3-7CB7-4040-9296-53613DA5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F327-98EC-4CA2-9FF7-528C39FC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373F-1906-4AAC-A0A4-5EFCC79B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7EE7-99D4-4260-9CC3-EBC2EC7C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CFA6-4BCE-4576-82BE-EF416825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F3C729-D689-43C6-A7CE-5397720D526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am a stranger here, within a foreign l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home is far away, upon a golden st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mbassador to be of realms beyond the se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here on business for my 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странник на зем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странник на земле, вокруг всё чуждо м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оя обитель там — в небесной сторо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лагую весть нести повсюду послан 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 повелению Цар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is is the message that I br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 message angels fain would 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h, be ye reconciled,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us saith my Lord and K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h, be ye reconciled to Go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немлите вести той благ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й вторят ангелы толп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О, примиритесь вы», 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зывает Бог и Цар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О, примиритесь с Богом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is is the King’s command: that all m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everywhe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pent and turn away from sin’s seductive sna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all who will obey, with Him shall reign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y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that’s my business for my 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ог ныне каяться всем людям повел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отвратиться сердцем от греховных д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Христу внемли и жизнь прими, молю теб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 повелению Цар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is is the message that I br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 message angels fain would 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h, be ye reconciled,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us saith my Lord and K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h, be ye reconciled to Go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немлите вести той благ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й вторят ангелы толп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О, примиритесь вы», 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зывает Бог и Цар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О, примиритесь с Богом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home is brighter far than Sharon’s rosy pla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Eternal life and joy throughout its vast domai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Sovereign bids me tell how mortals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ay dwe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that’s my business for my 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ияет чудный свет в моей стране родн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радость вечная у верных над гла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умолкая, звать туда всех должен 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 повелению Цар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is is the message that I br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 message angels fain would 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h, be ye reconciled,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us saith my Lord and K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h, be ye reconciled to Go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немлите вести той благ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й вторят ангелы толп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О, примиритесь вы», 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зывает Бог и Цар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О, примиритесь с Богом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1:40Z</dcterms:modified>
  <cp:revision>13</cp:revision>
  <dc:subject>Slavic hymnal Гимны веры христиан, hymn 660</dc:subject>
  <dc:title>The King’s Business / Я странник на земле</dc:title>
</cp:coreProperties>
</file>