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C7A7-B05B-42A9-87F3-5CB7FEA75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F19F-521F-4537-9701-AB7B8912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6051-4D84-4463-9073-628DC4B44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644F-F554-4BB6-8D4D-9601EFA75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9A6E-900F-4274-B8D2-08E8F181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E505-9CFF-43F2-AF4B-13A66629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A0A6-3420-49BC-9D6C-FEF9660A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FA8F-30EF-4491-B9C0-2E691F88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B4B7-5BEB-4C23-9915-FE8BDDAB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980F-0100-41D4-B866-245E5059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CDEE-B5F4-4456-A926-987A3B7E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39D0-6C5B-41DC-8FAD-0772EFD9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0A097-D41F-4434-91DA-B46A5C6C453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teadfast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Lord never ceas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mercies never come to an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y are new every mor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ew every morn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y faithfulness, O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y faithful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0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he Steadfast Love of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1:35Z</dcterms:modified>
  <cp:revision>11</cp:revision>
  <dc:subject>The Source, song number 505</dc:subject>
  <dc:title>The Steadfast Love of the Lord</dc:title>
</cp:coreProperties>
</file>