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EA9-62EB-4D6F-826C-73988B36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40C-2B83-47DF-B5A8-310507E5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8A6-7D77-479B-A3E8-E30EE1D1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5E1-8B2F-4DF0-AB37-F039E166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45C-D646-413D-849A-A507AFE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A41-B064-47EC-8DAF-FA26F65A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BA1-210D-485F-A63D-A04625C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187-CC00-4F43-B5C7-2FE0272F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3EF-D02F-4C1F-B65D-4A3AE01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2BF-CADE-4B0F-9CD8-AA5F6FE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3FC-0CD5-479B-806E-D8549CD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D19-7D0A-4A03-8371-98CC53B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E9D0D-EB3B-4DEB-BDE6-BBE54F9814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24  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go where the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overf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feet are on a roc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blazing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ur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flood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rea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overed 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the scheme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rkness cannot tou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firm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ust in You all day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Your child and Your serv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strength and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25Z</dcterms:modified>
  <cp:revision>12</cp:revision>
  <dc:subject>The Source 3, song number 1324</dc:subject>
  <dc:title>In Your Presence</dc:title>
</cp:coreProperties>
</file>