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9FD5-9881-4ED7-8835-B43B2D57A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B2FE-1E58-4589-B7C8-DC21CCDD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8D49-17A5-4C8E-8394-6D946FB7C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5B8D-99F1-4C48-9C03-F6CD2E964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35A3-BB27-44A2-A5E5-03FBFD58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3CB2-1A04-41CF-B445-3C7A8E30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96FD-F049-4197-B109-83D51465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FFE9-FDB8-468C-9E6E-83A4476B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23DE-B639-4918-AEC3-60766E4C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2D73-62DF-4057-9B96-4280CAF2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1E7C-9B57-4578-B65E-45B46944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1596-A15F-4BB9-913A-F4FE1E5B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163573-F7F3-4DA3-86C5-2696289F6F8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руга дивного поз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ть ли в мире равны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л меня, когда не з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юбви я слав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с Собой соедин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илостью держав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увство веры мне влож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Его вове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Друга дивного поз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руга дивного позн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, о люди, верь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и грехи с меня Он сня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 меня от смер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все к стопам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пытом измерь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елика любовь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, и вове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руга дивного позн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илой облад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если б мир мне угро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мощь обеща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вера от Него д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мой ободря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кругом борьба, войн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ем покой вове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руга дивного позн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юбящ бесконеч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им советником Он 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ждём к отчизне ве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ая сила разорв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юз мой с Ним сердечны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жизнь, иль смерть, иль чад забо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Его вовек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3:03Z</dcterms:modified>
  <cp:revision>12</cp:revision>
  <dc:subject>Slavic hymnal Гимны веры христиан, hymn 597</dc:subject>
  <dc:title>Я Друга дивного познал</dc:title>
</cp:coreProperties>
</file>