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80F-5EF7-4608-A9EE-63C2745E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4D1-3BDB-4893-A9EA-7FCA3CC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3ED-8505-44FF-A1F4-AA18343C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B08-3850-49EE-BB39-76B7794F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9D8-7A45-433C-A07B-447950A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AF7-F67B-4538-8316-637C3F38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A34-C55C-45D4-AE89-3B509A75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C69-9CF1-4943-B2E3-F223AC12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E76-6F36-4B2C-AA28-7446C4EF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381-EA1E-4F38-A42C-302A7E4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97C-5046-4FB7-9D03-ED93AFE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C0B-7E99-44B8-AA0A-6750DC6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C6ED9-C06A-4EB0-8979-9A096DFF6D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1   Where Would I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really, really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28Z</dcterms:modified>
  <cp:revision>12</cp:revision>
  <dc:subject>The Source 3, song number 1621</dc:subject>
  <dc:title>Where Would I Be? (Lord, You Are Good)</dc:title>
</cp:coreProperties>
</file>