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620C-0FC6-4B91-B34C-081779A2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B2F7-DBF1-4E4A-85D5-78B42F21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4AAC-EF2C-4DAE-8DF6-77FA5FC3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CD93-29B1-498C-9B60-477919B0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F7D0-D907-4C19-81FD-DEF9627D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FF10-311E-456E-AA79-EA719280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21E4-0F9F-476B-98F3-E92F0EA1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9C21-FCBC-4539-983E-8D678E48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29A6-84BD-4502-964E-D21350EC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3E02-8661-44B0-ADCF-98763EB4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6B90-2909-4644-9C1D-0CD3167C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45FB-2808-45D4-80C3-CAFEF90E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CC476-8DA8-49C4-9C8D-FA7C24A1B54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028880"/>
            <a:ext cx="92584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jesty, worship His majes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Jesus be glory, honour and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jesty, kingdom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s from His throne unto His 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anthem 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"/>
            <a:ext cx="948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еклонись перед Велич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лонись перед Величи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глашай честь и хвалу Царю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ие в Царстве мог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от трона, где коронов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exalt, lift up on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name of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gnify, come glor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Jesus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личь, превозно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лицай, провозглаша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Ца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jesty, worship His majes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ho died, now glor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all k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лонись перед Величи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л распят, Тому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ю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6-06-08T20:36:08Z</dcterms:modified>
  <cp:revision>11</cp:revision>
  <dc:subject>The Source, song number 346 in Russian</dc:subject>
  <dc:title>Преклонись перед Величием / Majesty, Worship His Majesty</dc:title>
</cp:coreProperties>
</file>