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003F-ED53-4A42-BD17-A54810E8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D8A-2531-43FC-9AEE-18B6E64C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2C9-8056-4500-8809-84D5532E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71E-3B23-4A03-A6B4-2150B5EE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F48-5DA0-461E-9867-19926A73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82B-EEEE-4561-BF58-6C071A77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A2A-C699-4D82-8BCD-3AFF9583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24E-E62F-428D-9A19-C4FA0FD9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4C2-0DCF-430F-8EF4-6A3B7D93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E8E-80EC-40E3-AF52-82F1765D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87C-7D2A-4574-9F51-7B2D9510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E9C-762D-4F2B-933F-0001EACD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FECD0-65AB-43BE-862A-80BED9C4D0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562   Чрез Христа мы побед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Христа мы победит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Он, который поразил в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, воскликни с торжеств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— наш Царь!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(Бог — наш Царь! 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обеду одер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ловом победил вра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ся земля воспой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овторить с нача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our God we shall do valia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He who will tread down our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Hi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is King! </a:t>
            </a:r>
            <a:r>
              <a:rPr b="0" i="1" lang="en-AU" sz="3200" spc="-1" strike="noStrike">
                <a:solidFill>
                  <a:srgbClr val="ffff00"/>
                </a:solidFill>
                <a:latin typeface="Verdana"/>
              </a:rPr>
              <a:t>(Christ is King! Christ is King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od has won the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et His people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rd has slain the ene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arth shall stand and see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repeat from start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3T09:33:37Z</dcterms:modified>
  <cp:revision>12</cp:revision>
  <dc:subject>The Source 3, song number 1562 in Russian</dc:subject>
  <dc:title>Чрез Христа мы победители / Through Our God (Victory Song)</dc:title>
</cp:coreProperties>
</file>