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1993-402B-48DD-B909-4B6936C4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937A-69B7-48F3-AD9D-BC3B8E72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260C-BE91-4DF1-8F0E-E3BF8A0E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CBC6-ABCA-4895-9033-9228B229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929A-A0E2-4975-AF73-B5B5BF20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6836-2543-4BE3-AC13-FD3B54DE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3A21-F781-4A20-83F6-38B111A8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E457-14F5-4F6B-B60B-0E9B39B5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6FFF-B490-4268-B0BF-E23FCEBC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67D9-4823-41C3-B407-3735DAAB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1E96-BBC0-4987-8F03-4D3D3647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D7A0-EBE7-439C-B6D0-DD81CA35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A1186-D7C3-45AD-9CA3-BF5DA1950A3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ear the Saviour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strength indeed is sm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ild of weakness,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nd in Me thine all in a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гово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гово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Ты слаб в земной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ужайся и мо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нужно, дам теб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aid i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Him I ow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 had left a crimson s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shed it white as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now indeed I f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power and Thin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change the leper’s sp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elt the heart of st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Твоя р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может соверш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ушить ярмо гр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раны исцел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aid i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Him I ow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 had left a crimson s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shed it white as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nothing good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by Thy grace to cla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wash my garments whi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lood of Calvary’s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годен я, чтоб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й на выс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ой грех с меня о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Агнца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aid i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Him I ow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 had left a crimson s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shed it white as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before the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tand in Him comple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died my soul to sav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ips shall still rep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в он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еред Ним яв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овторять вез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мер за меня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aid i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Him I ow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 had left a crimson s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shed it white as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07:41Z</dcterms:modified>
  <cp:revision>12</cp:revision>
  <dc:subject>Slavic hymnal Гимны веры христиан, hymn 857</dc:subject>
  <dc:title>Jesus Paid It All (I Hear the Saviour Say) / Спаситель говорит</dc:title>
</cp:coreProperties>
</file>