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238-46AA-47F3-94D8-B9CB5FF8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D39-C14F-4B50-BCA3-84BBA122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45B-D381-44CF-997B-EB992D54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BC0-9286-455D-8F5B-0AD5B5EF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724-BD7A-468E-A5F8-1B9469EF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65B-001F-49CE-9DE8-BBE89B40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23E-6BC3-42AD-BB6C-85C7022E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E95-D4A3-4BFF-B357-996AAECE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F24-DA39-43A9-B212-75476A25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749-28EF-46F6-AEE8-0B18F20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F57-2A8C-4078-9DC2-028D0F1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2EC-C0E1-40FB-AA6D-FE53D81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72542-9F0C-4CA4-9AD1-9A391F14B3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’s my shepherd, I’ll not wa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kes me down to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astures green; He leade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quiet water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мой Паст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й Пастырь, я ни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у знать нуж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лачных пажитях па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жив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He doth restor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 to walk doth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e paths of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for His own name’s s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ляет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 путь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мне любов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и до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though I walk in death’s dark v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ill I fear no 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 art with me, and Thy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aff me comfort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я з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ы; рук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able Thou hast fur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resence of my fo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d Thou dost with oil anoi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cup over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готовил пищ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ду моих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ил на голову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ness and mercy all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surely follow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God’s house foreve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welling-place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любовь и 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за мною в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ме Божьем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в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8:09Z</dcterms:modified>
  <cp:revision>12</cp:revision>
  <dc:subject>Slavic hymnal Гимны веры христиан, hymn 834</dc:subject>
  <dc:title>The Lord’s My Shepherd / Господь — мой Пастырь</dc:title>
</cp:coreProperties>
</file>