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5C7-EE27-4D9B-8288-67594DFB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15F-824C-4CE4-8A63-491D7C6D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D85-5CDE-40F5-BC65-8197AD08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467-DF91-4E95-9646-A02E670E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2B2-C42F-4538-9DC6-8F924FCE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91B-2104-4EAE-B12B-CE3D74BC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8D4-1BDF-43E7-BB55-79447BF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952-4E76-4AEF-8445-39835B9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569-4A33-43D1-99F7-D0CC4C9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952-CDE6-4423-835A-2CB7506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FBB-F2C2-4A1A-9F61-EF1AFB1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CB2-502E-47BD-81CA-596A4ED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1F09D-082D-48C5-86C7-1C4AA645B8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стекал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уках умира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явил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лпе, Его предав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врагов, за пал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носил мол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любви, крестом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вершил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на кресте стекала кр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грешники,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крестом с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исповедав нище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богат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, сердцем и 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ителю взыв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повани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а ожид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мневайтесь в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всего твор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истине, ни в полн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ова служ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кровь омыт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ту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ойдёт от вас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пад от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22Z</dcterms:modified>
  <cp:revision>12</cp:revision>
  <dc:subject>Slavic hymnal Гимны веры христиан, hymn 407</dc:subject>
  <dc:title>Там на кресте стекала кровь</dc:title>
</cp:coreProperties>
</file>