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AFB9-ABAF-495C-9090-EA73881C1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788A-C975-47BA-B1DA-9FC8AB344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4AD9-D249-4427-8494-CDDCE2015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A492-B783-4155-9280-E8CDB3310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2E63-58EB-4FDB-85EB-AA01A20F7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865A-5EC9-42FD-A1C5-AE2C10B80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E151-534B-4C92-B47B-AD5BECC8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00F1-0896-4987-AA17-0F135F5AA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F4A6-D708-43E8-83D0-1F91438E3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D5A4-22F2-404E-BB45-C375A426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A98E-D51F-47EE-A153-92EE4178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1962-2A4A-4E7A-942F-1D066275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5C0CFB-D6A2-4F88-8FAC-28146E9F96C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Христом бодрее в путь пой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с Ним я радостен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цели вечной я стремлюсь, лик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дёт лишь Он меня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дёт лишь Он меня до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реки, чрез моря и г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едёт меня Своей ру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бесам я поднимаю взор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тчий дом, где ждёт меня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тчий дом, где ждёт меня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1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о Христом бодрее в пу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хранит меня средь тёмной но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буждает при восходе д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корби Он мне отирает о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ешает и креп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ешает и крепит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для жизни Он мне посыл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ет Он всегда нужду м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обильем благ меня пит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арует мне любовь Св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арует мне любовь Св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конца пути со мной Он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зовёт меня в последний 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ля жизни вечной вновь пробуд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навек откроет рая с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навек откроет рая с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32:21Z</dcterms:modified>
  <cp:revision>13</cp:revision>
  <dc:subject>Slavic hymnal Гимны веры христиан, hymn 618</dc:subject>
  <dc:title>Со Христом бодрее в путь пойду я</dc:title>
</cp:coreProperties>
</file>