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Turned My Mour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ed my mourning into gladnes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ed my sorrows into jo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praise instead of sadnes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my grief the oil of jo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might b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ees of righteousnes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lanting of the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might be glorifie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5:19Z</dcterms:modified>
  <cp:revision>3</cp:revision>
  <dc:subject/>
  <dc:title>He Turned My Mourning</dc:title>
</cp:coreProperties>
</file>