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441-7352-41AD-9C0A-275545A6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3D2-F4F0-4BB2-A42A-98B58490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399-677F-4314-B37C-77DD50E0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72D-94B6-46E7-8D02-3C463454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76C-8769-445D-8C35-22D78923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81D-568D-4F14-A457-9D35212A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390-2E11-4976-9E99-FEAF4BE5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E1E-1A6B-40D5-866C-D1B4AD62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665-38CD-4141-806C-166D15A0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CB8-365B-48A7-B456-EA1514D9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B25-DC9B-4F99-B502-3ED9C54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616-13E3-418F-8587-CBE1B38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7EB0C-08D7-4545-BF8B-8688C0DFA2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лагай Христа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м часом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е будь байду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спі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3   О, благай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 пок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итя Його пр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Він тебе безм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загибелі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ерце утіш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 ім’я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лиш підкріп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е від зл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будуть зустріч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го Царя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 будуть прославл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ворця святих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8:47Z</dcterms:modified>
  <cp:revision>14</cp:revision>
  <dc:subject>Slavic hymnal Гимны веры христиан, Ukrainian hymn 13</dc:subject>
  <dc:title>О, благай Христа, мій друже</dc:title>
</cp:coreProperties>
</file>