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8C9-D26C-4056-A52C-C45D191C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589-3658-40DB-8C5D-E9C05B7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152-E659-47ED-8D04-C7134081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2CF-CED1-45B1-817A-D624B9C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A02-BA37-440B-BE5F-E286808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EE2-DADB-454C-8A52-03303AE4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F38-7C3C-421D-AED3-B0FDB49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052-DDCD-4EE1-8B61-9F7BF9BE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194-1F6F-4F69-A0EE-CC89DC0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406-C6D1-4A54-9AC9-DA26975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A3B-407C-48EF-BA26-F05E238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5B4-860B-4DB4-8C32-2F1005B0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AEE59-51F4-4CF1-9C4C-87750BC8FB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97   От небесных вы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бес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бездны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 твореньи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щий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ши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сенних л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цветенья ве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воренье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га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вет молнии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ил свер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ых хранилищ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сне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л Он нам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ему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ерней прохл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4:48Z</dcterms:modified>
  <cp:revision>11</cp:revision>
  <dc:subject>The Source 4, song number 1797 in Russian</dc:subject>
  <dc:title>От небесных высот (Ты изумительный Бог) / From the Highest of Heights (Indescribable)</dc:title>
</cp:coreProperties>
</file>