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BB1-6C5B-4610-A42C-ADDF67EC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037-A33D-4CC9-9597-2DCFD10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663-9693-4897-855E-06FF46CB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7C0-C434-4150-AFC7-61CAB61D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D62-23F8-4AD2-A141-C0621639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A05-6707-4797-8EA2-FDF9F84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1BA-29BB-4ABC-9AE5-1A58549F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F4E-75E8-4399-9F99-348BEE86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308-1AFD-405C-9691-6A0E599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EF4-CAD5-483E-A45D-703C7390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455-ABE7-45D2-956E-7E9BB65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81B-C4F6-4C90-8381-DC785013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DD2C4-8E7B-4269-B474-58AA022C8E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17Z</dcterms:modified>
  <cp:revision>12</cp:revision>
  <dc:subject>Slavic hymnal Гимны веры христиан, hymn 420</dc:subject>
  <dc:title>Я могу теперь петь</dc:title>
</cp:coreProperties>
</file>