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82D-6185-4635-ABCB-0D489121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394-D1EC-41D6-BD9F-9991AA4B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FB7-E19E-4060-AE5E-69B0C7F4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8DF-6CB2-4BA8-B95C-9572B9E8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CA8-0B7B-4442-A69A-839429E0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786-1250-4DCA-8460-84D1C8B5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9DC-A723-4771-AB21-C6C3521C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02D-E48B-42C1-AE08-6F5F68F4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279-F812-4643-8431-E7E56F52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628-D6BF-42F4-8149-A4482EE6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FE2-6826-4EF0-A12C-83E194FC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05B-FEFB-4A65-A7BB-B80308E8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FE567-B638-4766-8E0C-BB2856B0C5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67   Есть свят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вяты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анит мир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ога звуч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любви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life, words of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us strength, help us cop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where’er we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 will guide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жизни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адежду д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ют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к Отц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ат т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да и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ва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ы в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of our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nded down to this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me to us through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eed the faithful words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 жерт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мыт от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ерит в Госп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 святы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анит мир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ога звуч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любви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ат т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да и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ва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ы в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4-06-04T09:09:05Z</dcterms:modified>
  <cp:revision>11</cp:revision>
  <dc:subject>The Source 3, song number 1267 in Russian</dc:subject>
  <dc:title>Есть святые слова / Holy Words Long Preserved (Ancient Words)</dc:title>
</cp:coreProperties>
</file>