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27B-BD87-41C2-A56B-8FBF19DA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5F6-4EF9-4197-B21D-C9C88AC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0DE-CDC4-4FBE-951E-7092054D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8BF-63EF-4987-8CC6-D1212B7E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300-E86B-4463-BF74-4F6A78A8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5A7-2023-4425-B4CA-45EF9E8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359-2C0B-43EF-A9C6-152B35F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8F-A8B3-414E-A1CA-5928620C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8E6-4C8A-4DA1-B985-DD32C81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82E-EB22-406E-9573-D1ED58E9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121-7354-4FB2-8B80-223D487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E6E-4520-46F2-AFE8-CEE5C98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C2B27-6384-42FE-880D-7F9FD2F9CF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43Z</dcterms:modified>
  <cp:revision>12</cp:revision>
  <dc:subject>Slavic hymnal Гимны веры христиан, hymn 672</dc:subject>
  <dc:title>Не здесь мой дом родной</dc:title>
</cp:coreProperties>
</file>