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A72-0B23-44CD-846F-2402DC4F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1E5F-40ED-4F60-A809-A50A7851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AD6E-4BCF-4AAC-BE3E-656C288F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737B-F2F7-4CAF-A196-2A18FFE4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0384-B444-4592-A78E-668AF587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79A-EAA5-489A-9DED-A41BB053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4B3C-090D-4FAA-8E52-9E5226A7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FFFE-F403-4FF3-BD46-13A232A7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57C6-A220-4933-AD7F-611908EB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1890-DF74-4C78-B4EC-09D78AD5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0534-ECEE-4A21-AA9A-9086F159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A37C-DB00-4618-8586-4FCAD457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84DD1-0CB2-4021-A55A-D8F667AC1D4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все вер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лику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вс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торжеству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Царь вам рождён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ют в хвал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 земл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ыне все верные в ми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 земл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ам родился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род с войс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ей уби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же Млад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ипет вступ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 Млад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был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Он пос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 мир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 земл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ам родился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 земл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ам родился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,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рожд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п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ивое твор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нцом на чел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 земл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 земл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ам родился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был указ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га звезд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удре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лонились с мольб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д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ецы принес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ли, Младенец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неба,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 земл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ам родился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род услыш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Царском рожд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замыс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ить преступл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йно Младе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ить захот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рожд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ать повел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 земл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ам родился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 Иоси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ал веле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Ирод задум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ить уби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азу возьми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ладенца и м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гстве не мед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я искат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12:08Z</dcterms:modified>
  <cp:revision>14</cp:revision>
  <dc:subject>Slavic hymnal Гимны веры христиан, hymn 236</dc:subject>
  <dc:title>Ныне все верные в мире ликуют</dc:title>
</cp:coreProperties>
</file>