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F39-F476-437E-A52C-CDCFE36D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111-A69F-403B-AC35-A0B31387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B35-0BFF-4E10-A6BC-4178C406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745-3948-47AB-8C87-530628BE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787-74CB-47D1-8465-D632C9D3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D18-5535-4ADB-ADCB-F6B4D341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D2C-BEBA-4A7D-95E8-ACEE874C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71C-34D3-4622-8E30-22B13D36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49C-2DEA-436D-8BFE-1CF569AC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EF7-6084-48C7-A0E8-477CE6DE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DE5-4C41-469E-9AC5-A0963451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14E-563A-4863-9AD4-B3C17E3C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4ED3E-8249-4CB8-9A02-6AB8236FC1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овилось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ет наши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хий сад на молитву спе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сех подни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уп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ся под тенью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ановилось те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мира всего там легло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на коленях сто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чаша сия да минует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смиреньи и страхе вз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моя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ходившем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меня воз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осил Он за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принял мо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дин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1:11Z</dcterms:modified>
  <cp:revision>12</cp:revision>
  <dc:subject>Slavic hymnal Гимны веры христиан, hymn 281</dc:subject>
  <dc:title>Становилось темней, когда Свет наших дней</dc:title>
</cp:coreProperties>
</file>