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5BA9-4AAE-4CC5-8910-E52280C6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3593-FCF0-4FFE-813D-5334063E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8FB8-5350-478E-BDAE-BD643889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61D1-9B91-4C66-BC35-7C51BC88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8259-1811-4B08-878F-38D7308D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963F-3E54-41AC-9FC9-035635DF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66BF-1010-4468-AA9B-A327957E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AE77-72B0-4E21-B4FA-14AD0534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3CEC-9369-4B2D-9173-883D3C3E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A05-D211-42EE-80BB-18A17D53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DA38-658A-4725-B7A0-9F84BFB1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9300-DD9D-404C-AF41-6A63A071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DDCD0-1216-49A2-A26C-52E1F7AB9A4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Не покину Я вас, не забуду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Бог каже тобі і ме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ро вас турбуватися 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тражданнях тяжких на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 в праці Я вам помаг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 силу і міць пода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годину сердечної втр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 в душу бадьорість вли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   Не покину Я вас, не забу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покину Я вас, не заб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батько, і мати, й рі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речуться від вас, то Я 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ідним Батьком для вас з того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жно буду Я вас догля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як мати маленьке ди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усякого зла захищ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вадить у вічне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амотнєє серце розва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мні думи Я геть відже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озбите життя Я полад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засмучений в вас підкріп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покину Я вас, не заб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віт вас забуде, 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ругом вашим як був, так і 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незмінна є вірність Моя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6:34Z</dcterms:modified>
  <cp:revision>14</cp:revision>
  <dc:subject>Slavic hymnal Гимны веры христиан, Ukrainian hymn 4</dc:subject>
  <dc:title>Не покину Я вас, не забуду</dc:title>
</cp:coreProperties>
</file>