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C29-0D62-423C-93AE-1F3409CC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A90-8440-4D91-81D2-9E21A9A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F42-04A0-4740-9BC0-4C43E83D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5C8-3D04-4BAD-BCE2-408AB36B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FB8-13D1-44A6-BD14-92F9DC9A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CF8-9FBC-48D6-9374-FAE40CEA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CC0-34A6-42AD-A66B-DDFFCD13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65E-3009-4622-8A31-04AFE770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497-7CCC-4A4B-89F3-A916CB89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161-E3A2-4DAB-B5BE-BC15B582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E27-7EF4-4899-AF17-A38A4F2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00A-DD46-4DDB-B643-729EF11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F2AB6-9519-43C9-A354-67CA3970D5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ren of the heavenly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ly in His bosom ga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stling bird nor star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ch a refuge e’er w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м Его беспе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в небе, птицы в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еют лучшей д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own doth tend and nou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holy courts they flouris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ll evil things He spares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mighty arms He bears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род Свой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ляет и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ешает все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уках с любовью но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life nor death shall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Lord His children s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them His grace He show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ir sorrows all He know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ль смерть нас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юбви Христа могуч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нас терпел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в испытань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 in joyful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Protector never sl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will of your Def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foeman must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до малое, не бо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щитом Его укрой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 всём тебе по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отивников ни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 giveth or He tak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children ne’er forsak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he loving purpose sol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serve them pure and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иль отнимае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юбовь Свою я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ердце всюду п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5:03Z</dcterms:modified>
  <cp:revision>12</cp:revision>
  <dc:subject>Slavic hymnal Гимны веры христиан, hymn 876</dc:subject>
  <dc:title>Children of the Heavenly Father / Божьи дети днём и ночью</dc:title>
</cp:coreProperties>
</file>