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0BB5-5CB1-4727-92DF-3C2CF5F7A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DADF-D95E-4570-87E2-E23292A2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0C04-15FF-4D91-8BA7-AEC979C10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7F22-0384-4A80-ACDF-55EB7CFA6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C3CB-06A6-4ADC-B9A0-4CB82179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376B-5E20-44FA-B0F8-1F3CC227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06BE-DD55-42C1-AD9C-DBB251CE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668A-2B5A-4071-B7F1-2D36AE3E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4450-AC11-4F71-9A29-CB113F2B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1CFC-4AD8-4CE6-9C3D-DC5AD6EF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31A8-F0ED-4206-8EBE-B181163D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F26F-1F7D-437F-A3D0-C4079F69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662E7-DC76-4E4C-A379-E747EC954F0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вяносто девять овец приш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Пастырем в свой заг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дна блуждает от них вд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грозит ей со всех стор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гибнуть бедной придётся вд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могучих и нежных ру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могучих и нежных ру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евяносто девять ов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евяносто девять овечек зде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достаточно ль их Теб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у Пастыря сердце для каждой 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воих не покинет в б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Что б ни встретил Я на Своём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овечку Мою на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овечку Мою найти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пасённых никто не видал 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и где Он овцу иск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о тьме ходил, как Он звал е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ущельям и выступам ск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далека услышал Он слабый зву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бедной на помощь явился в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бедной на помощь явился в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ему, Господь, на Твоём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им мы свежей крови след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ролилась Моя кровь, чтоб овц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еликих страданий и бед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А раны зачем на руках Твоих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Знак верный, что Я возлюбил М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к верный, что Я возлюбил Моих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осподней любви вознесли хва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загоне был каждый р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вук пенья дошёл до небес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обрый Пастырь нашёл овц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ангелы радостный гимн по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Ликуйте, Господь отыскал Сво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, Господь отыскал Свою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4:50Z</dcterms:modified>
  <cp:revision>13</cp:revision>
  <dc:subject>Slavic hymnal Гимны веры христиан, hymn 841</dc:subject>
  <dc:title>Девяносто девять овец пришли</dc:title>
</cp:coreProperties>
</file>