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FDB-E857-4FE6-BC6A-1C6B91CD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23D-BB70-48CB-84B8-75A347B5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6BE-4ED9-4297-A466-1BDEB975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CB3-05C0-47C9-A28F-01E612C8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3D5-0F74-44FB-B354-A7463E48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9D8-4CDD-4488-B9DF-3985DFE1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F58-74AA-4F4E-A5C2-FB889AD5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825-3B64-444A-9D06-91EE09CD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4C3-F1FB-4E7F-8E2D-50C0BF75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A3C-2DC3-4064-A18F-6814E965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451-389A-4F00-8DF5-8FC4E52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408C-4797-43BA-917D-593B4F64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972D6-4EDE-4550-A1D7-BABC261F76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повнить твоє серце до розли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льки до Нього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оє серце відч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повнить твоє серце до розл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им Духом і вог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3   Він наповнить тво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40Z</dcterms:modified>
  <cp:revision>13</cp:revision>
  <dc:subject>Slavic hymnal Гимны веры христиан, Ukrainian hymn 113</dc:subject>
  <dc:title>Він наповнить твоє серце до розливу</dc:title>
</cp:coreProperties>
</file>