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6BA-0DBD-4AAC-937C-497E834C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5D4-2B27-48C2-9814-DE8C68CB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C11-B6EA-4A93-98B9-728FDCD2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820-7829-4C3F-9905-F7C44784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989-C2AD-43B0-AA57-8A3FAA01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90C-E793-4DB0-9F91-796AF0E0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033-7677-49A2-8D1D-925C3B10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A3C-9EC0-4E1B-AC4C-002DFBDE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120-01C4-423E-BDB7-AC65F693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C4A-A954-4892-8890-3B51A727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21D-32E5-4745-B62E-A6BEC834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600-C72D-4CE6-9026-49CC9EFC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2807B-53EC-416E-9CD7-103087656A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равнине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, друзья, плыв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облаком ту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оют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равнине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, друзья, плыв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облаком ту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оют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 равнине оке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лионы уж при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м заветным берег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йдётся в светлой 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сем земным плов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лионы уж при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м заветным берег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йдётся в светлой 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сем земным плов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рус правьте, пусть нес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Божий над с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орабля пусть песнь по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рус правьте, пусть нес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Божий над с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орабля пусть песнь по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ив якорь безоп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оём: конец скорб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мы войдём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мы вечно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ив якорь безоп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оём: конец скорб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мы войдём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мы вечно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14Z</dcterms:modified>
  <cp:revision>13</cp:revision>
  <dc:subject>Slavic hymnal Гимны веры христиан, hymn 654</dc:subject>
  <dc:title>По равнине океана</dc:title>
</cp:coreProperties>
</file>