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3B4-6565-43B6-9722-5717B265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067-68BB-4CF3-BD8C-A1255C3D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994-BF95-4FEE-B3C1-4843AF8D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612-331F-446A-A566-462C6665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2C5-C585-4A57-AAA9-0BD8581A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080-6133-42D0-8E99-9052C898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0E4-42B0-478B-BC20-D336C05E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F50-CAF7-4D1C-92E1-F5FFECAA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069-09C9-4404-A0E3-A50316F7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B53-1675-4F11-B524-D7AC728D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7C7-FE67-45FC-863A-DC869246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F08-E66D-41E9-9F61-79EABF83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7F914-FA6C-4EF9-94EA-315E1B4C04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ень желанный, день блаж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нам тот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торый дух наш освящ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вечный ко Христу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гу песнь, не умол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, там слышно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сем Своим блаженство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ит Божь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день жел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 — зреть Его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с Ним в любви 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здесь любим Он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ст блаженство там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лике душ, Им исцел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петь будем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ю огражд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и ввек не огорч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ши песни в плоти т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 земной нечист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Он, Творец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 сияньи кра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душою освя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оспоём мы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и песни вдохн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 Богом славы съедин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41Z</dcterms:modified>
  <cp:revision>13</cp:revision>
  <dc:subject>Slavic hymnal Гимны веры христиан, hymn 682</dc:subject>
  <dc:title>О, день желанный, день блаженный</dc:title>
</cp:coreProperties>
</file>