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E72-F473-40D2-B4A8-0ECEAFD8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F88-E1A0-403B-89A1-0797F319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E67-6320-4802-8D7E-638B710B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FF6-5209-41C3-9368-8A6AAD47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F8C-AEBC-4A28-858C-85A40647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792-4734-4680-9793-6FD73FF7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6CB-F21A-4C23-A571-D4704187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C4D-931A-4777-838F-11C90D17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093-7611-4FAF-89DF-CD3E9A8C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550-9074-4AED-B83C-14C3BA4B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29E-C113-414D-B9A5-56816920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E6E-C73B-40D4-8ED8-0A3AC83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36461-48FD-43AF-865B-F86E2E2273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ift Your name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ove to sing Y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 glad You’re in my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 glad You came to sav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I Lift You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me from heave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ow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arth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to p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cross to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grave to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ift Your na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0:32:33Z</dcterms:modified>
  <cp:revision>10</cp:revision>
  <dc:subject>The Source, song number 330</dc:subject>
  <dc:title>Lord, I Lift Your Name on High (You Came from Heaven to Earth)</dc:title>
</cp:coreProperties>
</file>