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D79-72A8-491A-919C-EA9AA25D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3DC-92EE-4AD0-9E37-62ED29D6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245-4022-4B72-AF11-E16747CC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FFF-35FA-4889-AB71-A5FE8F2A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1AA-9F5C-4C79-928A-A6CCCD04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0E5-A03B-4979-8837-E832AB9A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21B-AC7D-4F9B-9256-E211E84A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E6A-AA6E-4CBD-A66E-668B1DC2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EDF-4B08-4BE0-AA10-42D4921F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FA8-C7C7-42B4-9955-EF903612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1BF-D692-41DF-9072-A2C7ACA8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569-F088-419D-AAEB-057CB105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73DCA-6C65-4CA1-AA3F-6394AA399C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Saved! Saved! My sins are all forgiv’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is mine! I’m on my way to heav’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ce a guilty sinner lost, und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a child of God, saved thro’ His 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асё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грехи мне прощ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й Христос! я к небесам 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л рабом греха и суе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теперь я стал своим Хри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thro’ Christ, my all in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whatever may be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ied upon the cross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bore the awful penal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 I’m saved eternally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aved! Saved! Sa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9766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Saved! Saved! By grace and grace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what wondrous love to me was show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y stead Christ Jesus bled and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re my sins, for me was cruc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 любовью незем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Свою явил Он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меня Он плакал в тиш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меня был жертвою жи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thro’ Christ, my all in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whatever may be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ied upon the cross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bore the awful penal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 I’m saved eternally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aved! Saved! Sa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572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Saved! Saved! O joy beyond comp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my life, and I His constant c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ielding all and trusting Him al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 now each moment as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Покой в Нём нахо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моя сокрыта во Хри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мнит Он меня всегда, вез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Ним живу, Ему принадле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thro’ Christ, my all in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whatever may be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ied upon the cross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bore the awful penal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 I’m saved eternally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aved! Saved! Sa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6:25Z</dcterms:modified>
  <cp:revision>12</cp:revision>
  <dc:subject>Slavic hymnal Гимны веры христиан, hymn 855</dc:subject>
  <dc:title>Saved! / Я спасён!</dc:title>
</cp:coreProperties>
</file>