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3FE-C373-4945-911F-118C40AD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FE8-9A4E-4A30-B7B0-F73F92EF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53F-04DD-40DA-B0C0-F743274C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4C8-C0BB-4E08-8DF8-A14E5340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610-6BF6-45F7-9D92-57EB9DBE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38E-C793-4C56-8638-C08D594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4C7-4C3A-4C64-ACB1-8F080D0B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4E8-70F4-4002-9177-937F77A9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16F-5A6B-47B3-8F45-1321D9D7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340-0CED-419B-8DE4-588DEE0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37E-C7DF-4D6F-8BBB-472B5B5E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140-5F2F-4873-8858-9D469ABA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34982-27DD-4964-8E02-1BF7F27E7E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сть созн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сти жизн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сть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ных и 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ув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оровая ясность у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нас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твящая душу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кайся, пока есть созн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ая гостья с кос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закры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я дверь п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иначе прид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в ворота ст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твой стук пронес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никто отв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Господня тру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аче тебе угрож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в непрощённых суд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ведь время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олкнет небес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 приглашать пере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с к небу воз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щё ж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приглашенья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ь же на Божьи призы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 и вечно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01Z</dcterms:modified>
  <cp:revision>12</cp:revision>
  <dc:subject>Slavic hymnal Гимны веры христиан, hymn 375</dc:subject>
  <dc:title>Покайся, пока есть сознанье</dc:title>
</cp:coreProperties>
</file>