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71DB-CE68-4EDC-9708-DC9E58F62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6B61-E46D-4FBA-9E0A-D54C09690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A24B-060A-474A-84BF-C02CED2BE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7552-E6DB-42CD-B6F9-35D1D2F5E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80B4-175A-421B-A2EE-523C0F3A8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C164-792E-4D48-A25A-E55B4849B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8DFA-B4B0-46FE-8E1D-0868BEF7F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6C87-A324-44E6-B663-FFFA40059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0A61-6E34-4EAC-8031-372045304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85B8-9B33-4B18-9081-7FCA805C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CF04-3845-49F5-8EDA-15610E32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2904-4222-4CC6-925D-F8D807B5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D76455-CBEB-4913-BF79-46C8BA9B39A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ternal Father, strong to s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se arm hath bound the restless w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bid’st the mighty ocean de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s own appointed limits kee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7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тец Небесный, только 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ец Небесный, только 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держись промыслом святы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укрощаешь урага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послушен океан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hear us when we cry to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ose in peril on the se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 десницею Т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ывущих по морю люд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hrist! Whose voice the waters he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ushed their raging at Thy w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walkedst on the foaming dee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calm amidst its rage didst slee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, Ты ― Бог долин и го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которые бег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роги наши с давних п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блегчают всякий труд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hear us when we cry to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ose in peril on the se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 десницею Т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щих, едущих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st Holy Spirit! Who didst br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pon the chaos dark and ru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bid its angry tumult cea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give, for wild confusion, pea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ух Святой, Ты над землё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голубь, крылья простир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свет не гаснет в тьме ноч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мудрость избранным давал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hear us when we cry to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ose in peril on the se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 десницею Т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етящих в воздухе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rinity of love and pow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fam’ly shield in danger’s hou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rock and tempest, fire and fo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otect us wheresoev’r we g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Триединый, жизнь и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 людей от всяких бе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и им разума и 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каждый радостно спеш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us evermore shall rise to Th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ad hymns of praise from land and s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хваленье возн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море, в воздухе, в пу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1:14:30Z</dcterms:modified>
  <cp:revision>12</cp:revision>
  <dc:subject>Slavic hymnal Гимны веры христиан, hymn 875</dc:subject>
  <dc:title>Eternal Father, Strong to Save / Отец Небесный, только Ты</dc:title>
</cp:coreProperties>
</file>