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C66-FB1D-4175-BD89-528F2274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EB7-0258-4B9D-BC45-58CA2A01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C9D-CF72-4661-8F31-91A0218D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2A3-B273-4682-872F-B1F85E8E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CCD-ECDD-4D77-B0AB-787D3037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C12-9192-4314-8249-2EF2878D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994-2D5F-4D89-8B8F-60A5754A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4F6-D51A-426A-9898-B3BF86F7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2DD-664C-4668-B69A-16ABCCB2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6D0-DECE-4539-BDB3-71EE4D0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127-3824-4119-9EAE-E0FA32B7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F26-D05F-4071-AE56-A8C0E885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81F35-7149-42B9-857D-60C753D1E1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звучали нап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олнце взошло в тьме ноч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Сын Божий, родился от Д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л в этом мире Просвет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когда с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зяли Его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или к древу грешников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х мученьях Он умер за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традал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 гробе лежал Он, умерш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дан был Страдальц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 неба вдруг сошли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многих — Избав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тщетно стерегли мог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ень отвален сил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Распятый, попрал смерти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нёсся Искуп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небо озарится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трубный звук 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почивших я увижу сн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славен Добрый Пастыр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4:59Z</dcterms:modified>
  <cp:revision>13</cp:revision>
  <dc:subject>Slavic hymnal Гимны веры христиан, hymn 836</dc:subject>
  <dc:title>Некогда с неба</dc:title>
</cp:coreProperties>
</file>