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13E-D02F-459D-BE9C-1B73B077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823-F698-4F85-8203-87CFBE80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B42-100F-469A-A652-6977B102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6BE-3086-4F00-94E7-075299E6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64E-2030-473F-B54E-3CA9891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48A-9C22-4A7E-AF3F-634D104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D11-A0C7-4B70-9AFF-5D9EE620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6F2-363E-49CB-BC76-0CD60784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2F0-E3AC-4886-AE37-4394DCC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2D5-F976-4629-A77D-B5FA50B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E31-7958-4418-8B9B-872F629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FB0-B174-4318-B3B7-5B24B61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51ECB-3648-4792-8218-13F1A7249D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раздаётся ещ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 беспечный, что медл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к Иисусу спасенье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жидает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дний приз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собранье Дух Божий при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для души исцеленье наш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роповедь, пенье — зовё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Он тебя, но ты медлишь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окончено, стало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мерли звуки призыва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Спаситель стучится и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же Ему, или скоро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любишь ты жизнь, удаляйся от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со Христом заключи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сегодня принять поспе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у последнему чутко вн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24Z</dcterms:modified>
  <cp:revision>12</cp:revision>
  <dc:subject>Slavic hymnal Гимны веры христиан, hymn 373</dc:subject>
  <dc:title>Последний призыв</dc:title>
</cp:coreProperties>
</file>