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5</a:t>
            </a:r>
            <a:r>
              <a:rPr b="1" lang="ru-RU" sz="3600" spc="-1" strike="noStrike">
                <a:solidFill>
                  <a:srgbClr val="ffffff"/>
                </a:solidFill>
                <a:latin typeface="Verdana"/>
              </a:rPr>
              <a:t>	</a:t>
            </a:r>
            <a:r>
              <a:rPr b="1" lang="ru-RU" sz="3600" spc="-1" strike="noStrike">
                <a:solidFill>
                  <a:srgbClr val="ffffff"/>
                </a:solidFill>
                <a:latin typeface="Verdana"/>
              </a:rPr>
              <a:t>Сидел слепец</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Сидел слепец с протянутой рукою,</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и друг, ни брат не мог ему помоч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радал без света телом и душою,</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и тьма бежала проч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Нечистой силой день и ночь гонимы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скал в гробах убежище себ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камни бился… все бежали мимо…</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принёс конец борьб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53928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Нечист, нечист!» — давал зна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прокажённый,</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лухой, немой — безмолвно слёзы лил…</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Больных, калек — неслися в небо стоны…</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все язвы исцелил.</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В сердцах — печаль, а в будущем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страдань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бит на крест, Кто был их дум царём;</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густился мрак, стеснили грудь рыданья,</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и ночь сменилась днём.</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5.</a:t>
            </a:r>
            <a:r>
              <a:rPr b="0" lang="ru-RU" sz="3000" spc="-1" strike="noStrike">
                <a:solidFill>
                  <a:srgbClr val="ffffff"/>
                </a:solidFill>
                <a:latin typeface="Verdana"/>
              </a:rPr>
              <a:t>	</a:t>
            </a:r>
            <a:r>
              <a:rPr b="0" lang="ru-RU" sz="3000" spc="-1" strike="noStrike">
                <a:solidFill>
                  <a:srgbClr val="ffffff"/>
                </a:solidFill>
                <a:latin typeface="Verdana"/>
              </a:rPr>
              <a:t>И в наши дни так многие познал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ак страшен грех, как мучит он своих,</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огда ж в бессильи к Господу воззвали,</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ришёл Иисус — и поселился в них.</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Где Иисус — там радостью всё дыши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олкает плач, слабеет гнёт забо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ходит тьма, приходит сила свыш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Там жизнь, там мир, куда Иисус войдёт.</a:t>
            </a:r>
            <a:endParaRPr b="0" lang="en-US" sz="30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8T06:57:23Z</dcterms:modified>
  <cp:revision>3</cp:revision>
  <dc:subject>Slavic hymnal Гимны веры христиан, hymn 255</dc:subject>
  <dc:title>Сидел слепец с протянутой рукою</dc:title>
</cp:coreProperties>
</file>