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5</a:t>
            </a:r>
            <a:r>
              <a:rPr b="1" lang="ru-RU" sz="3600" spc="-1" strike="noStrike">
                <a:solidFill>
                  <a:srgbClr val="ffffff"/>
                </a:solidFill>
                <a:latin typeface="Verdana"/>
              </a:rPr>
              <a:t>	</a:t>
            </a:r>
            <a:r>
              <a:rPr b="1" lang="ru-RU" sz="3600" spc="-1" strike="noStrike">
                <a:solidFill>
                  <a:srgbClr val="ffffff"/>
                </a:solidFill>
                <a:latin typeface="Verdana"/>
              </a:rPr>
              <a:t>Там, где Один пострадал</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Там, где Один пострадал за вс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где распятый к Нему прибег,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Своей кровью Он смыл мой гр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Своей кровью Он смыл мой гр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ивно Христос дар любви простё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о с несчастного снял поз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о живёт Он во мне с тех п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о живёт Он во мне с тех п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Чудный свет Божий рассеял ть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о, что смог я прийти к Н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о Христос даёт жизнь всему,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о Христос даёт жизнь всему,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 жизни потоку направь свой п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спеши ко Христу приль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свой омой и счастливым б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свой омой и счастливым б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02:45Z</dcterms:modified>
  <cp:revision>3</cp:revision>
  <dc:subject>Slavic hymnal Гимны веры христиан, hymn 115</dc:subject>
  <dc:title>Там, где Один пострадал за всех</dc:title>
</cp:coreProperties>
</file>