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898-9757-4876-9D6C-70D8CE61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0F7-E230-4A74-9F3F-6B719FE9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D66-A016-4D18-AF19-EE88391C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CFA-5438-48ED-9893-C8BFA852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EB6-848C-49DD-A20A-0486E57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6B9-6A46-4E06-8F28-0A9D62C7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3F3-6AD5-402A-B688-052D444D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38D-C92C-4E8D-8E78-DA6B88C1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463-0DB2-4F61-BB47-8582F9C8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090-369B-4EDA-9618-44D50A9B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9A2-36B6-47B2-8A4C-73403320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88E-273A-451B-AC12-C3F5EAE6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7F2E0-CA36-4545-99E7-5B2469697D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called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phets to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the wor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itu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75  We Are Called to be Proph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’ll be th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alt should lose its fl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’ll be th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alt should lose its flav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oose the chains of oppres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et the captive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fill my life with Your compas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throug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oday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ake all my 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all of my gr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ose who are in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out Your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ll just good inten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out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ould find redem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oday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24Z</dcterms:modified>
  <cp:revision>12</cp:revision>
  <dc:subject>The Source 3, song number 1575</dc:subject>
  <dc:title>We Are Called to be Prophets (Miracle In My Heart)</dc:title>
</cp:coreProperties>
</file>