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8CA-68E1-4B4B-B86A-D812CE8C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2A2-7577-41EC-8539-93091AB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21B-EF78-468A-8763-62C42568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087-EB75-46C5-9C90-64C05DA3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D01-D8A9-4AA5-8E38-E36FB04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7EE-1B08-4304-ACA2-4B81E58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637-38CC-4182-8981-AC3EEAE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331-E324-4DCC-9A8F-71BDCEA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D8C-773B-4380-8780-458D758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91B-C5C5-4E08-B738-892A426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309-B9E3-4AAB-8AAD-F9F9A74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73D-A2EE-4A71-B7C4-C68DE220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8E01B-341D-4436-9745-2FC1A42EFB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56Z</dcterms:modified>
  <cp:revision>13</cp:revision>
  <dc:subject>Slavic hymnal Гимны веры христиан, Ukrainian hymn 30</dc:subject>
  <dc:title>I Gave My Life for Thee / За тебе Я вмирав</dc:title>
</cp:coreProperties>
</file>