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5F88-EF02-4A49-93AE-E23EB1D5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9AC2-3AFE-4B2B-863F-7EFE5373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7938-59A2-4608-A217-BE1ED652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9236-BF60-424E-97C9-50235DA2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CF65-9C87-4B2C-8474-E456B917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AF91-0493-4C8F-A4FF-2E6C238C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5837-322A-4E01-9257-6341A537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F1CA-2461-4E8C-A829-35927BA4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B18E-D588-4238-A164-0828F598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DEAA-D4CB-4DD1-9EC3-8F041A73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CAF3-7E6C-4E5C-A3F0-83F23BBF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E953-7122-467D-9552-3146DCD3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2894F-EA9B-43C8-A69D-DB5BA07F7B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ittle town of Bethle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till we see thee l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thy deep and dreamless sl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ilent stars go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малый город Вифле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алый город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ал спокойным с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рождался нов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змолвии ноч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in thy dark streets shin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everlasting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pes and fears of all the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met in thee to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езапно тьму рассе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, дивный с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лся Тот, Кого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л много, много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Christ is born of 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athered all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mortals sleep the angels k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watch of wondering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шёл Христос в долину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небо нас прив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царство зла с небес приш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вангельская в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morning star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claim the holy bi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aises sing to God the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eace to men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вёзды, весть о Чу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вдаль и в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е песнь Тому, Кто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сем дару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ilently, how silent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ndrous gift is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God imparts to human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lessings of His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ши ночной дар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устился к нам 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ским сердцам Господь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ы в тиши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ear may hear H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in this world of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eek souls will receive Him sti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r Christ enters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лышно и незри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шума, бурь и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ым ждать Его принят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ется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ly child of Bethle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scend to us, we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st out our sin and enter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born in u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ий Сын, нас не поки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в любви С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згони и в наши д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сь в сердца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hear the Christmas ange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reat glad tidings te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come to us, abide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Lord, Emmanu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ов небе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ёт о Боге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сейчас, вселися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Эмману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8:28Z</dcterms:modified>
  <cp:revision>13</cp:revision>
  <dc:subject>Slavic hymnal Гимны веры христиан, hymn 239</dc:subject>
  <dc:title>O Little Town of Bethlehem / О, малый город Вифлеем</dc:title>
</cp:coreProperties>
</file>