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131-385A-4CEA-8E31-CA32AD71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37C-ADB1-4768-A4D4-97FC1F0B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5D9-C783-48F8-8F85-AF19F18C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A51-0DC2-401D-839C-FADFBEF5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BEB-4B74-4FC2-BF6E-9A168A6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3FC-3926-4A9E-A91E-D544EA88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F50-AC39-43C1-B13F-071A932F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AA3-C7BD-4283-B277-96AB16E2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1C4-877E-4069-A4D8-42A7AA3A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89E-1995-470A-A5E7-948549E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B91-674A-45EC-AF60-1B93FE6B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417-8B4F-47B4-9699-75CE8E3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7F6F2-3DE8-4B04-9435-B176E7AAE7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is exalte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 for ever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praise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is Exal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His truth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is exalted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0:14Z</dcterms:modified>
  <cp:revision>11</cp:revision>
  <dc:subject>The Source, song number 156</dc:subject>
  <dc:title>He is Exalted</dc:title>
</cp:coreProperties>
</file>