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22D9-0E7C-4923-B06E-2CCE6022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0D06-E0C1-41F5-8B90-0F22D1CF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32D7-7D07-4451-BBF2-5F53F8B7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FFC6-F2B1-4A86-81A0-D039D8AB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B6D0-690B-4226-A069-E2B76AFF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BFDE-BEDC-44EA-B420-1A43483E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820C-1FCE-4DF2-9B91-7B62767B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BA15-529E-4EA4-84B0-C376663D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50F5-9330-463C-90B4-8B6092BB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789F-BF1E-42C8-98C6-9B030415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21D0-E190-4B91-84BC-7F6C6BC1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6031-5EB7-4E09-8CF3-26784FB5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22C8D-5DF7-4EEE-BC8B-8AEAD01F531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never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am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never retu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closed the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walk the p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run the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never be the sam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6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Will Never Be the S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 like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ak like 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w like mighty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gain and ag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weep away the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rn away the ch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a flame b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lorify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are higher heigh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are deeper s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ever You need to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do i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lory of God fills m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never be the sam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never be the sam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1:19Z</dcterms:modified>
  <cp:revision>10</cp:revision>
  <dc:subject>The Source, song number 264</dc:subject>
  <dc:title>I Will Never Be the Same Again</dc:title>
</cp:coreProperties>
</file>