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276-631C-4758-9225-7DBF969E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4C3-1E4B-436B-9EAF-A059DD26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DB4-088E-4296-AEDD-B0CDDED3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D04-6DF5-4EF0-9845-2D1B8A28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582-40C6-4EAD-A16C-DA0C5BA3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BF9-FA73-4C84-8739-FB75A55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3B1-EC7B-46B6-947F-89BCD465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A48-2809-4B03-BBA3-33138941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B6B-4D77-4560-959C-D9DBF270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972-1A6A-4737-A31A-1ED4192E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C4C-CB37-4640-A7D2-B4CEA534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F1B-345E-41A9-90F5-D15391D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542A4-F5C4-4ABF-9A4A-991B55537B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God from whom all blessings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, all creatures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above, ye heav’nl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Father, Son and Holy G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е и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8:34Z</dcterms:modified>
  <cp:revision>12</cp:revision>
  <dc:subject>Slavic hymnal Гимны веры христиан, hymn 818</dc:subject>
  <dc:title>Praise God From Whom All Blessings Flow / Хвала Даятелю всех благ</dc:title>
</cp:coreProperties>
</file>