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7</a:t>
            </a:r>
            <a:r>
              <a:rPr b="1" lang="ru-RU" sz="3600" spc="-1" strike="noStrike">
                <a:solidFill>
                  <a:srgbClr val="ffffff"/>
                </a:solidFill>
                <a:latin typeface="Verdana"/>
              </a:rPr>
              <a:t>	</a:t>
            </a:r>
            <a:r>
              <a:rPr b="1" lang="ru-RU" sz="3600" spc="-1" strike="noStrike">
                <a:solidFill>
                  <a:srgbClr val="ffffff"/>
                </a:solidFill>
                <a:latin typeface="Verdana"/>
              </a:rPr>
              <a:t>Взываю, Господи, к Тебе</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Jesus, my Lord, to Thee I c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nless Thou help me I must di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bring Thy free salvation nig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ake me as I am.</a:t>
            </a:r>
            <a:endParaRPr b="0" lang="en-US" sz="32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зываю, Господи,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я не пал в земной бор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ь меня, приблизь к С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ake me as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ake me as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only plea—Christ died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ake me as I am.</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имя жертвы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53928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Helpless I am, and full of guil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yet for me Thy blood was spil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hou canst make me what Thou wil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ake me as I am.</a:t>
            </a:r>
            <a:endParaRPr b="0" lang="en-US" sz="32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есчастен, слаб и грешен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о креста крови ст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ывает всё; очист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ake me as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ake me as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only plea—Christ died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ake me as I am.</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имя жертвы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No preparation can I mak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best resolves I only break,</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et save me for Thine own Name’s sak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ake me as I am.</a:t>
            </a:r>
            <a:endParaRPr b="0" lang="en-US" sz="3200" spc="-1" strike="noStrike">
              <a:solidFill>
                <a:srgbClr val="000000"/>
              </a:solidFill>
              <a:latin typeface="Verdana"/>
            </a:endParaRPr>
          </a:p>
        </p:txBody>
      </p:sp>
      <p:sp>
        <p:nvSpPr>
          <p:cNvPr id="4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еисправим я сам с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раз обет ломаю с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ай мне быть Твоим слуг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ake me as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ake me as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only plea—Christ died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ake me as I am.</a:t>
            </a:r>
            <a:endParaRPr b="0" lang="en-US" sz="3200" spc="-1" strike="noStrike">
              <a:solidFill>
                <a:srgbClr val="000000"/>
              </a:solidFill>
              <a:latin typeface="Verdana"/>
            </a:endParaRPr>
          </a:p>
        </p:txBody>
      </p:sp>
      <p:sp>
        <p:nvSpPr>
          <p:cNvPr id="5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имя жертвы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Behold me, Saviour, at Thy fee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eal with me as Thou seest mee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work begin, Thy work complet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ake me as I am.</a:t>
            </a:r>
            <a:endParaRPr b="0" lang="en-US" sz="3200" spc="-1" strike="noStrike">
              <a:solidFill>
                <a:srgbClr val="000000"/>
              </a:solidFill>
              <a:latin typeface="Verdana"/>
            </a:endParaRPr>
          </a:p>
        </p:txBody>
      </p:sp>
      <p:sp>
        <p:nvSpPr>
          <p:cNvPr id="5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У ног Твоих лежу в ти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снись израненной ду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чни Твой труд и совер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ake me as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ake me as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only plea—Christ died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ake me as I am.</a:t>
            </a:r>
            <a:endParaRPr b="0" lang="en-US" sz="3200" spc="-1" strike="noStrike">
              <a:solidFill>
                <a:srgbClr val="000000"/>
              </a:solidFill>
              <a:latin typeface="Verdana"/>
            </a:endParaRPr>
          </a:p>
        </p:txBody>
      </p:sp>
      <p:sp>
        <p:nvSpPr>
          <p:cNvPr id="5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имя жертвы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каким я есть.</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03:59Z</dcterms:modified>
  <cp:revision>4</cp:revision>
  <dc:subject>Slavic hymnal Гимны веры христиан, hymn 147</dc:subject>
  <dc:title>Jesus, My Lord, to Thee I Cry (Take Me As I Am) / Взываю, Господи, к Тебе</dc:title>
</cp:coreProperties>
</file>