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73A-87D0-4FD7-90EE-1EC51A76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54B-1021-4F36-A736-058A9BB2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1A9-AE3E-4846-8547-AB6E5ADE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F79-8070-4F5F-8A51-CCE837DE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DF4-B060-4FD4-BE49-EF8FC7D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F9B-F7BC-4898-833E-E407168E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554-A542-40CF-B416-8299AAC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1AB-EA31-45A5-B760-FDBD1170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891-AF95-451D-AB98-45C81032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DEE-28CD-429E-AA62-883681C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F93-10A8-4647-B816-616938E7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A2C-B8FC-4FE9-BB36-150479DF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23C43-CBAC-4F73-A96A-DAF13F450D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воины рат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на битву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данья и смерть мы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мира награды не 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сём избавленье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ёрдой вере — победы з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йдём чрез огонь и чрез в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с нами Господь наш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воины р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жаждем почёта ни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риятно в святой прост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ценою кров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на Голгофском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 Он готовит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верным за все их тру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приди, в небе каждому 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ойти в наши ря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38Z</dcterms:modified>
  <cp:revision>12</cp:revision>
  <dc:subject>Slavic hymnal Гимны веры христиан, hymn 485</dc:subject>
  <dc:title>Братья, воины рати Христовой</dc:title>
</cp:coreProperties>
</file>