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4E3-0D31-4645-A97F-D0A662F1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EB0-6B9A-4559-A715-A0663F9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530-70FB-4D41-9B07-634ABC3A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A33-42F3-49AD-AEE8-2BFAA76E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DCA-8BF0-40E5-969D-A63809E8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6F1-34F1-4405-9649-A815FA20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BC8-B58F-4E28-BB5E-433A6B7A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283-1C06-4EB8-B11F-AB2369AA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F1C-7C64-465B-876C-F45755A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3D3-CB0D-44FB-90B1-52FD1F7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F00-F59E-427D-B8D7-485EB72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816-EF81-404B-90D6-058217E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85BC6-09F3-417A-9122-C8DE736D3C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8Z</dcterms:modified>
  <cp:revision>13</cp:revision>
  <dc:subject>Slavic hymnal Гимны веры христиан, Ukrainian hymn 115</dc:subject>
  <dc:title>Вчора, нині і навіки</dc:title>
</cp:coreProperties>
</file>