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BD0-4961-448A-93E4-7B117A8C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629-77C3-4E7A-AF4F-CED5BD5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E91-43C3-4473-B023-8D875B20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90C-558A-46AC-B735-F6AA30D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038-B874-418A-9184-E8632C4C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C40-A728-40EF-B88B-CA79F95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5CD-880E-47C9-B791-3F6F354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B02-2E37-4346-9125-FC57256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C2B-7EA5-4AAD-AE2F-08B966E3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04D-C74A-47BC-82F3-6B47FA1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321-177A-4AFA-885C-555B3007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C32-963D-4FC5-B992-23FE4A4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28AF6-07C4-43B5-B888-659AD72BFE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28Z</dcterms:modified>
  <cp:revision>12</cp:revision>
  <dc:subject>Slavic hymnal Гимны веры христиан, hymn 348</dc:subject>
  <dc:title>В горнем ущельи укройся</dc:title>
</cp:coreProperties>
</file>