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B9DF-E6B3-4976-85E2-04F17BCA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C916-BB49-4691-AD61-DF0F5AFA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2F91-EAB9-4A78-A377-99F7F7FB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7988-9EEC-4578-9406-DE526AC0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FFF6-5024-4208-A82B-56785C0F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3523-32F2-40E6-95B6-32F1053F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6924-BBDB-40D9-AB9F-EA2CC61C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94C9-E3BC-4114-8215-7DBA7B82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CB47-FCC7-494E-A231-D5527DE0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A7E3-2597-4A75-8A75-7E5A4EEC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D7F3-DEFD-45AD-ADE0-D0D3C050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E6FA-DF37-401A-ADAA-452296DD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45AAB-2E2F-4445-AB27-D321B240094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se are the days of Eli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claring the Word of the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se are the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Your servant, Mo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ighteousness being rest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0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se Are the Days of Elij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ough these are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great tri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famine and darkness and s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 we are th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desert cr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epare ye the way of the Lor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hold, He 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iding on the clou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ing like the su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trumpet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the year of jubil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t of Zion’s hill salvation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se are the days of Ezeki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dry bones becoming as fles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se are the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Your servant, Dav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building a temple of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se are the days of the harv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ields are as white in th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are the labo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viney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claring the Word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hold, He 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iding on the clou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ing like the su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trumpet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the year of jubil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t of Zion’s hill salvation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7:31Z</dcterms:modified>
  <cp:revision>10</cp:revision>
  <dc:subject>The Source, song number 503</dc:subject>
  <dc:title>These Are the Days (Days of Elijah)</dc:title>
</cp:coreProperties>
</file>