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801-366A-488B-950D-55F0E0B5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44B-D87C-4E84-BD64-9E10BBA7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BA5-0E28-47F7-AC1D-175A9140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7BD-7780-4766-9BFB-6A47D4D9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1F4-4A61-4847-B66A-A42CAE1F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83F-2412-407A-A34A-EDC75E4C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68E-3A02-46A1-9D21-CBE7C2AF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FE0-9515-4DF4-B2F0-B3B34257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2FC-A2B9-4428-90CC-4C308CAA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8C4-7C19-429E-8688-EA82F055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E69-BA36-42EC-A128-43313204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C90-C24F-473F-97B5-7EEDAE00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8F751-15B9-45A1-A976-72A0D3E45E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битве ль сердце изнемог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ть тернистый душу устраш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лнце ль туча грозная скрыв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битве ль сердце изнемог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ли горестью душа теснит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 Христу тотчас пусть устремитс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 Его тогда в неё вселит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дрым будь: тем бремя облегчит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другого сердце укрепитс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обкий духом лишь борьбы страши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ен будь всегда, не отступ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 Христом иди, не уныв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 Него надежду возлаг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0:07Z</dcterms:modified>
  <cp:revision>13</cp:revision>
  <dc:subject>Slavic hymnal Гимны веры христиан, hymn 508</dc:subject>
  <dc:title>В битве ль сердце изнемогает</dc:title>
</cp:coreProperties>
</file>