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7</a:t>
            </a:r>
            <a:r>
              <a:rPr b="1" lang="ru-RU" sz="3600" spc="-1" strike="noStrike">
                <a:solidFill>
                  <a:srgbClr val="ffffff"/>
                </a:solidFill>
                <a:latin typeface="Verdana"/>
              </a:rPr>
              <a:t>	</a:t>
            </a:r>
            <a:r>
              <a:rPr b="1" lang="ru-RU" sz="3600" spc="-1" strike="noStrike">
                <a:solidFill>
                  <a:srgbClr val="ffffff"/>
                </a:solidFill>
                <a:latin typeface="Verdana"/>
              </a:rPr>
              <a:t>Поток с Голгофы льётс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ток с Голгофы ль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всех нас со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точник исце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чёт из ран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 — зовёт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грех хочу ом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Мою к погибш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тебе откры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льётся поток с Голгоф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поток с Голгоф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для всех поток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вет любви свят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греха ок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снят нас тяже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спомним: мы — Христ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будет нам лег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енье, изб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ла в Нём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рови Его — побе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миром и грех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льётся поток с Голгоф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поток с Голгоф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для всех поток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вет любви свят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иди! Он уврачу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 скорбь души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аст ей жизнь нав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ам вселится в 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Ему всем сердц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хочешь ты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ёких и заблудш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Иисусу приводит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льётся поток с Голгоф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поток с Голгоф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для всех поток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вет любви свято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8:32Z</dcterms:modified>
  <cp:revision>3</cp:revision>
  <dc:subject>Slavic hymnal Гимны веры христиан, hymn 277</dc:subject>
  <dc:title>Поток с Голгофы льётся</dc:title>
</cp:coreProperties>
</file>