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ECD-6174-45C2-8F0D-22B6825F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7D4-7540-4E41-BEDC-59E97443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40F-491B-44CB-A351-362BB672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481-BCB0-49D0-AA4F-365C982A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05B-39F8-4F18-BB4C-336DE8D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72A-8098-4B92-90CA-336AF15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DE7-263C-421D-8E5F-7F4A5941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279-8BEE-4551-B378-2DACFA68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E89-CE2B-41F9-A72B-C7B2B37E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AE7-F051-4B37-ACCC-C83993B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F75-045F-4B51-A99F-BF5065B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804-7BE3-415D-8C54-938037C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A1625-8A11-4052-8C92-51A90EA669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ver the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07Z</dcterms:modified>
  <cp:revision>9</cp:revision>
  <dc:subject>The Source, song number 421</dc:subject>
  <dc:title>Over the Mountains and the Sea (I Could Sing of Your Love For Ever)</dc:title>
</cp:coreProperties>
</file>