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4DC6-FA6B-4317-B3F9-A650109F0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9867-E23B-45BC-BD47-62C4C675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71C9-40F0-449B-8837-9336A9FD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74BA-BF77-4784-8F46-9FA64EE7C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4BD3-7C22-4A5A-8AC7-CB4AE145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7007-EE2C-40EA-8886-B8A7BC83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FA1E-3AB9-498D-93A5-EBE660B4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2FF8-DA1D-42AC-92A0-BB0575F6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E501-9494-44E9-88DA-A8ED6F50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9EA9-1C05-4447-92BF-9874FF08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261E-6335-488E-A842-A67FBF36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1E2C-659C-4A4C-9342-6972AFED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0BF6A-2B94-4CBC-B210-6E2149A4A98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ve Your way (have Your way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ve Your way (have Your way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Spirit, fill our he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ave Your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ait (we wait on You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pray (we pray to You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eak Your word into our he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ave Your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1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ave Your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6-25T11:28:57Z</dcterms:modified>
  <cp:revision>12</cp:revision>
  <dc:subject>The Source 2, song number 712</dc:subject>
  <dc:title>Have Your Way</dc:title>
</cp:coreProperties>
</file>