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B82-F084-4F59-8946-E158EF94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4AAE-96CF-4A1B-88C6-C290D794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2872-55DE-4E6A-87AE-AEF6E281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0B2-6809-4815-A859-7B7D6844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7A6-D616-4F20-8849-551BF2EA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653-C8D1-48FE-8FAE-75D46EB9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853-97D2-4D04-8137-DA080252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C4B-DBA8-4DDD-99FB-CA4385C4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03E-7900-41C6-9E77-461F6D23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11F-A02A-462C-94F0-A94365D4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4E5-482B-4AB3-9FD9-C633D0A1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2DA-F2FF-491E-9906-BBCC42C1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F9464-BCAA-4ED7-810E-54A6D625FD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ь постичь любовь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 Его крови свят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ль Он умер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был Ему чуж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― побед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а меня страдал Сам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― побед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а меня страдал Сам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гу ль постичь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айна, глубже всяких тай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винный злыми умерщ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согрешивших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ом Небесным утвер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да знаю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да знаю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л в небе Свой престо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к грешникам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ичижил, смирил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ёл на казнь, нас возлю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а нашл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а нашл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в темнице изны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цепями скован 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ебесный свет посл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вы крепкие раз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стал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лся, встал, иду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стал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лся, встал, иду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осужденья, не страш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за меня свершил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мой Спаситель и Г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жизнь дают Е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в пути, а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мне золотой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в пути, а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мне золотой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9:11Z</dcterms:modified>
  <cp:revision>13</cp:revision>
  <dc:subject>Slavic hymnal Гимны веры христиан, hymn 881</dc:subject>
  <dc:title>Могу ль постичь любовь Христа?</dc:title>
</cp:coreProperties>
</file>