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739-D065-49F8-9EEA-BB2B4526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100-E4B0-46AF-8E40-AA17DC3F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CF6-37E0-4C91-A850-54732744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BEC-02DA-40B4-BD9F-9F9B1AA3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536-A2D0-4DDE-9DD6-82DD9BE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098-DF71-4728-9DA3-68B4D961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851-DF62-4695-8CE6-55D1AA9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A06-D432-4544-9A4B-133D4BAF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D6A-9F07-40CE-B2A0-2F26C151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074-0075-4801-BFDB-5F9FD17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81B-220F-45E5-8070-9CB961C7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46A-DCF2-4C4E-9A31-EFB20F6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300B1-CFB0-4196-A9EB-DF707CE714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56Z</dcterms:modified>
  <cp:revision>12</cp:revision>
  <dc:subject>Slavic hymnal Гимны веры христиан, hymn 675</dc:subject>
  <dc:title>Пустыней греховной, земной</dc:title>
</cp:coreProperties>
</file>