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9D9-B6C9-4DAA-B655-748289A9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AAA-BBEF-402D-9338-5F26C039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64B-BD85-492E-A584-770FBBD0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B62-F095-470D-899F-777EA21F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EB7-E196-4912-AE38-6B8E97FC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8D8-E0BB-49B7-B358-4BC70A22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852-3E7E-4B85-8C90-6C6836B2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9B3-05F5-4495-86C6-1B2B0CF1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02A-3EE3-4E37-A20A-CCCFF41C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8DE-51FD-45B0-BA3B-42A974E4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C18-B232-4DC1-A2BF-D3BE9A50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EEC-037D-4816-B126-31AE1513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185E5-9514-4AD8-846A-81EC714C17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8   Коли дух Господн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35Z</dcterms:modified>
  <cp:revision>12</cp:revision>
  <dc:subject>Slavic hymnal Гимны веры христиан, Ukrainian hymn 108</dc:subject>
  <dc:title>Коли дух Господній наповняє мене</dc:title>
</cp:coreProperties>
</file>