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14C0-C38E-45EA-8BA7-FC348884C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D6B6-BA74-4FF0-887F-51B60235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C156-BC48-4216-9F95-DCA5CCDD9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882E-6092-4832-AA3E-31088BB0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4F43-1EB3-463A-B102-310204B7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B146-ECDA-4CFD-9B87-AC259E6F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A605-F655-467B-970F-29DCB0D5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EC89-07D2-453A-ACA3-FCF77B28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0BAF-15DD-4118-8172-1ABE61D4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46CA-0EF2-41D2-9AB8-F36E53E0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54D8-AAEC-40A4-9874-81290F02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6B0D-A4E1-45AD-842D-91AF49F3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F4326-EBD9-4200-BF75-844594E7269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seen the lightning flas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heard the thunder ro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felt sin’s breakers das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almost conquered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веркали молний стре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кали молний стре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м землю потряс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ылся тьмой мир це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ужасе дрожа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all around me is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ly joys all fl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aviour whispers His prom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to leave me al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радостей не 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ё покрыто ть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утешенье слыш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сегда везде с то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ll claim me for His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to leave me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ied on Calvary’s m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 they piercèd His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 He opened that f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imson, cleansing t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умер на Голгоф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ан Его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чёт источник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чёт для всех жив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 He waiteth in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ated upon His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to leave me al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сто нам гото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лаве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здесь мне сладко сло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сегда везде с то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ll claim me for His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to leave me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heard the voice of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dding me still to fight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to leave me al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тихий голос не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ал над соб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ся сил мятеж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егда везде с то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ll claim me for His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to leave me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rld’s fierce winds are blow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mptation sharp and k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a peace in kn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aviour stands between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гне ли испыта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учами у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: постоя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tands to shield me from d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my friends are all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to leave me al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яжко расстав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рузьями иль семь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дал обещ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сегда везде с тобой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ll claim me for His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to leave me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n affliction’s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tread the road of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aviour helps me ca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 so heavy to b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ли скорбь и г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откнусь ли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— моя опор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жет крест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31Z</dcterms:modified>
  <cp:revision>14</cp:revision>
  <dc:subject>Slavic hymnal Гимны веры христиан, hymn 633</dc:subject>
  <dc:title>Never Alone / Сверкали молний стрелы</dc:title>
</cp:coreProperties>
</file>