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D3B-D1AE-48D4-9515-CEF8B870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C26-8D2F-4BC4-84F4-145CEF8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B26-AE95-4A96-BDB5-B3BE958C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446-E3A5-40F5-8E1A-E6F9C91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AF7-3AB8-43AC-83B8-45229BDE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885-3228-4C00-A09C-2759139D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620-32B7-4760-84A2-FA87A3C8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CA4-4B5D-4018-AB3E-C54C15EF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038-622B-4AF7-A6E5-9731EB2B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94F-920C-47EF-99A9-4C61E414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393-81C0-4614-A986-24859D9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3B6-E3B0-4AEC-A313-7BA90D6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E6226-7626-408F-BCBA-0D4CB9B658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   Celebrat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22Z</dcterms:modified>
  <cp:revision>10</cp:revision>
  <dc:subject>The Source, song number 67</dc:subject>
  <dc:title>Celebrate Jesus</dc:title>
</cp:coreProperties>
</file>