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5EE4-1946-4B0E-8A2E-7EBCDAB01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4CD4-F241-4F77-AD1E-7E3266B18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E7BF-A3CB-48BC-A53F-8A4D69F63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FF6A-95EC-4E01-83D6-E0A01ACD2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0723-C5EE-4C8A-8978-06FF4E5D3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AD27-B9A7-4081-B132-96E0DB17B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F124-6A82-43CA-B1CF-96A49E461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300C-0FAE-4029-BFC1-5DEEAEC5D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08B8-DF4A-459E-A6F0-721F249E6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9C2E-809C-42D1-8F89-531840EF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7D60-3921-47A8-8909-78019DCA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2FCB-4DC5-4089-A93B-8436E922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55A8A5-836B-4FFC-8F8E-0A1FD5B5F96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, той день вже близь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нь великий, страш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всі наро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раз стануть перед Су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раття і сестри розлу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раття і сестри розлу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раття і сестри розлу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віки, раз на в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82   Так, той день вж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, той день вже близь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нь великий, страш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всі наро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раз стануть перед Су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ужі з жонами розлу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ужі з жонами розлу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ужі з жонами розлу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віки, раз на в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, той день вже близь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нь великий, страш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всі наро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раз стануть перед Су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іти з батьками розлу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іти з батьками розлу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іти з батьками розлу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віки, раз на в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, той день вже близь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нь великий, страш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всі наро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раз стануть перед Су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астирі з стадом розлу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астирі з стадом розлу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астирі з стадом розлу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віки, раз на в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, той день вже близь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нь великий, страш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всі наро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раз стануть перед Су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тут посіяв, то там пожне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тут посіяв, то там пожне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тут посіяв, то там пожне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віки, раз на в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6:56:31Z</dcterms:modified>
  <cp:revision>12</cp:revision>
  <dc:subject>Slavic hymnal Гимны веры христиан, Ukrainian hymn 82</dc:subject>
  <dc:title>Так, той день вже близький</dc:title>
</cp:coreProperties>
</file>