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C85-EA31-45C0-B687-7FCF9F75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2C7-3344-4F04-BE89-070D7EA0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A31-3864-48FC-94C3-18E0A01B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363-514A-40B1-9009-62A27C3E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02A-F689-4262-8C83-50162C3B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E72-F976-40A2-8419-D4308CB0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7B6-C7FB-4E50-BABE-54564152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33F-910C-47BE-ACD4-D1F94A65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19D-48C0-47C3-88AA-9DCB296C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D67-863B-4912-ADE8-3341E22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E54-1008-4AA2-BCE0-E2C4BC61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89E-7C97-4143-965B-5D3A4173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A5D84-9943-4C79-9C93-1004702C2C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Son, man’s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ngs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ойдё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сланный Богом Мессия рас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finished! My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mit I to The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from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ight ever be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ершилось: Я дух Мой Тебе преда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пожертвовал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Jesus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bears sin’s penal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м, как нашей греховности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for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nkind not be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He buy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what infinite c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иях горьких Христа исто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Он нам спасенье куп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He proclai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ed the sick and the 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d raised to lif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now i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святой проповедыв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л, а теперь Он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how He s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ruel ago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ждет и жаром ланиты гор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ter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oul that belie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ries out, “I thirst!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negar He rece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и уксус Тому по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и воды живые для мира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 them! They know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y do to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не знают, что худо творя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haste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names may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raised up His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. Взойдём же, дабы и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а Христова к Отцу вознес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onc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to heav’n raise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нова Он к небу подъемлет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Father, why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rsaken by The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rother, that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receive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 Мой! Зачем Ты оставил Мен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 мой! Чтоб принять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words of our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heard by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 Святого слова там зв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4:58Z</dcterms:modified>
  <cp:revision>15</cp:revision>
  <dc:subject>Slavic hymnal Гимны веры христиан, hymn 724</dc:subject>
  <dc:title>Come, Let’s Ascend Mount Calvary / Взойдём на Голгофу, мой брат</dc:title>
</cp:coreProperties>
</file>