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577-33F4-4230-9552-5DFB0352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259-1BBC-43A8-951B-8FCFB1D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119-7590-495D-AFF6-327DF21C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EF0-3EEE-4B5E-B3DA-0C1E6396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0BD-A7CF-49F5-B7E7-B0F9A86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291-FCB5-4E3B-AEA4-CC6F805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BBD-2046-42FC-9E97-7308B21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F63-ECD8-4C82-A46B-54565B1D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D70-4BF4-45B4-AC1F-FCA6936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03A-6DA4-47B1-85CF-361C190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4C4-756F-4B25-BBB3-3C440F8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F37-0F53-496E-B4BE-FEAEA78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D1FF8-C374-410F-BE0E-B6B9AABDBF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82   Вхожу во Святое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во Святое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 Ему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ы виде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9:40Z</dcterms:modified>
  <cp:revision>11</cp:revision>
  <dc:subject>The Source 3, song number 1282 in Russian</dc:subject>
  <dc:title>Вхожу во Святое Святых / I Enter the Holy of Holies (For Your Name is Holy)</dc:title>
</cp:coreProperties>
</file>