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8E45-3CE3-4D78-B160-9CED3446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80B1-765C-4024-BD27-9D98D3F0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F96B-42B0-4CE2-8B4D-EAEB7F56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BC69-E8D7-4D0F-8278-AA489D95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C47D-CA0A-4F5B-8BC2-87730155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2311-1F8E-4C45-9DB9-6DF1611D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E815-7610-4A2A-BED8-8D4BE570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51A9-2AA5-4BEF-8C94-3CA6EEA1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BC8B-A03E-4E55-9E0E-C75F23F6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398B-9B72-4757-A5FD-7B744895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1DB9-DEA0-43F8-ACF9-F695C85C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0F90-34CE-4E8F-99F7-40E3C7B1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78612-E38D-425F-A071-D96D8130E9A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, for the feast is spread, hark to the c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 to the living Bread, offered to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 to His house of wine, low on His br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cli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that He has is thine; come, sinner,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дите все на п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дите все на пир! Зовёт Сам Бо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ам вы найдёте мир, там нет трево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ам радость и покой, и блещет там струё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ток воды живой. Придите вс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 where the fountain flows, river of lif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aling for all thy woes, doubting, and str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illions have been supplied; no one was e’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eni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 to the crimson tide; come, sinner,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дите все к Христу, к Его стопа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ви всю полноту Он даст сердц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 Себе Он примет всех, с души омоет гр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убелит, как снег. Придите вс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 to the throne of grace, boldly draw ne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ho would win the race must tarry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e’er thy want may be, here is the 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th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 thine only plea; come, sinner,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дите вы скорей к Нему тепер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Он рукой Своей откроет две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обретёте в ней, как сладостный ел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бвение скорбей. Придите вс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дите все, друзья, в Отцовский д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ияют ярче дня святые в н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нец их там блестит, и песня там звуч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 славе Бог царит. Придите вс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39Z</dcterms:modified>
  <cp:revision>14</cp:revision>
  <dc:subject>Slavic hymnal Гимны веры христиан, hymn 352</dc:subject>
  <dc:title>Come, For the Feast Is Spread / Идите все на пир</dc:title>
</cp:coreProperties>
</file>