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6DA-732B-40D2-B6B7-D5539CAB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255-7D0D-4E2C-9055-417E0552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796-F4D9-4DA4-B0D5-A65C7F9F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052-EAB9-45C2-A2F0-DFFCA76A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42C-3792-4490-B745-44589999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E74-0FCC-48DB-8971-DF646AEE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57F-6972-4F94-8D2B-2C2AF701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B80-76EC-4806-B0A2-8C447D87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4A0-F0DE-47D4-A4C7-BBA9E324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E07-2B0B-4C7C-A8CC-F0FE8905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EE6-4515-497E-8419-07F3FFB2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5FA9-3D67-4266-8C1B-BFE71253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ED5AC-A297-4B97-B038-BBC509E1A2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сёстры, время приближ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наш Спаситель в мир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мрак ночи пред зарёй сгущ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, неверие вокруг рас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наш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ови сердца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Один наш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борьбы земной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, сёстры,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 нужны бури и ненаст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вы зла и мира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ладеем дивной тайной счаст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 Боге богатеть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наш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ови сердца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Один наш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борьбы земной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че пойте песни предрассвет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традальцы обрел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тесь, души беззавет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Христа найдёте вы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наш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ови сердца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Один наш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борьбы земной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3:25Z</dcterms:modified>
  <cp:revision>13</cp:revision>
  <dc:subject>Slavic hymnal Гимны веры христиан, hymn 329</dc:subject>
  <dc:title>Братья, сёстры, время приближается</dc:title>
</cp:coreProperties>
</file>