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04E-1EA3-4693-8272-102B7431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8CC-59FE-4787-8E84-103923E8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1A3-203C-489C-8850-ADEAD47F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74B-4D54-4E50-8FC6-BBD984DF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4D5-622C-47DD-A34A-62C179D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BAA-9748-47FF-AD1F-9DD02B6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33E-AE42-4C21-8EE5-4DC19BDC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C7B-1248-4886-8DB5-2902C433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CAB-5EA8-4C8C-8B94-7CBF8B8D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D48-3A07-477F-998E-B710AC6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F3B-93EC-4E0D-B502-2BC38017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404-7B85-4C2A-83AF-007EB7F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443DF-CBD8-45BC-93E2-7D1E3CEA58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49Z</dcterms:modified>
  <cp:revision>15</cp:revision>
  <dc:subject>Slavic hymnal Гимны веры христиан, Ukrainian hymn 13</dc:subject>
  <dc:title>Take the Name of Jesus With You (Precious Name) / О, благай Христа, мій друже</dc:title>
</cp:coreProperties>
</file>