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DFEE-EA28-4D88-8725-A0442EF7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093-626B-476A-A807-DE0874DB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F69E-6E03-4E3B-B7DB-EE2E4F8F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2A0-1E16-464B-8ED9-7C9B3EB6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21D-1DB7-4A92-94A0-2CEDC7D7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2CC-D967-495E-BDD9-E1E56E58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DF2-BE6C-4093-9F09-36822A3D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A01-44D1-415C-A527-54899E09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E50-960C-473C-A3E1-BFFE74E8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415-9FD4-40FF-95E9-BE19E380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185-62E7-4116-BDCA-7ED882EE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2A7-A6AA-47DE-A93D-185E503C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B1AA2-644F-4BAA-A3A6-984636BAA3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Church, arise, and put your armour 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 call of Christ our Cap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now the weak can say that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e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trength that God has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hield of faith and belt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tand against the devil’s l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 army bold, whose battle-cry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aching out to those in dar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03   O Church, A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call to war, to love the captive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o rage against the capto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ith the sword that m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unded wh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fight with faith and val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faced with trials on ev’ry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know the outcome is sec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hrist will have the p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hich He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 inheritance of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see the cross, where lov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rcy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Son of God is stric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n see His foes lie crushed ben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Conqueror has ris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the stone is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hrist emerges from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vict’ry march continues till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eye and heart shall se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Spirit, come, put strength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st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grace for ev’ry hur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e may run with faith to win the p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servant good and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saints of old still line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telling triumphs of Hi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ear their calls, and hunger for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with Christ we stand in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2-03-05T10:19:09Z</dcterms:modified>
  <cp:revision>12</cp:revision>
  <dc:subject>The Source 4, song number 2003</dc:subject>
  <dc:title>O Church, Arise</dc:title>
</cp:coreProperties>
</file>