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EC45-D18B-4E7E-B558-23961B48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F362-814E-4120-A381-C4AFAAF7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8381-7039-4D7A-9225-6EB9F683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41F2-547A-40FA-BE08-9BB8A6B0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BE67-CB57-4C35-8359-902C1C06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EF87-2F65-4CFE-8529-E6FC3EB7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E75D-B295-4AFA-B441-9E1223D9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5431-6CF2-4C7A-8AD6-AC32FE80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9929-2D93-433C-B227-CA8F6D34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C3D5-7BB9-4BF5-BB23-97F98685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C6B8-F1F7-476E-8AB4-2EC20F11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D576-2ED2-48C7-BB45-F2180405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9E05B-539A-451F-94A1-15F91C9DF95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plendour of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othed in majest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all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earth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raps Himself in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darkness tries to h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rembles at His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rembles at His 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073   The Splendour of the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will see how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ge to age He st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ime is in His hand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ginning and the 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ginning and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od-head, Three-in-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, Spirit,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ion and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ion and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will see how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ame above all na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of all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 will 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will see how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3T09:22:39Z</dcterms:modified>
  <cp:revision>15</cp:revision>
  <dc:subject>The Source 4, song number 2073</dc:subject>
  <dc:title>The Splendour of the King (How Great Is Our God)</dc:title>
</cp:coreProperties>
</file>