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7814-AE5D-4F77-851E-D60CEA593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4194-46BE-4CAE-9193-94D87D10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13D5-C70B-4A11-8881-263EA11D9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3836-9441-4D7D-9665-D8C8F56A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97C6-D474-4383-9F51-E0DE2326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AF34-D4AA-4514-8048-C93102DB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9CBF-C276-433D-89A5-89702FAA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DDC5-D40C-4C1A-B120-93252462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7BD0-475F-403A-AFDC-122BA13B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A58C-0DBF-4B55-A9FB-D2CC6DB1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D33A-2E2C-4EC4-8DEC-0C513B5A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266B-4172-4720-ACC5-032FB38C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D7796-69E5-4CA1-80A6-FD36D233608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my heart, into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into my heart, Lor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in today, come in to st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into my heart, Lord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9   В серце ввій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ерце ввійди, в серце ввій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війди, наш Господь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війди тепер, відкрив я дв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війди, наш Господь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8:25Z</dcterms:modified>
  <cp:revision>12</cp:revision>
  <dc:subject>Slavic hymnal Гимны веры христиан, Ukrainian hymn 109</dc:subject>
  <dc:title>Into My Heart / В серце ввійди</dc:title>
</cp:coreProperties>
</file>