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896-655F-4CC8-A15D-DD060610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6416-2A6D-495A-9607-84B8385B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654-2B49-4595-AD69-0654F63C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66F-8F6D-4D5D-BC32-0764ECBF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465-29E0-4F88-A575-26C9E6E4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A7D-564A-4FC8-8461-E8A30C96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A86F-3EE8-42F9-93AE-74DB1312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840-1BA0-4D3E-82AF-BFFA3FA2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456-E082-4ED1-8756-F43E17B4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C30-77F7-406A-B9AF-3796603B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4343-6823-4F69-9AD6-8792F7F6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145-D948-4C95-8FFD-1F9A5CA2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3E5B2-1685-4153-8CCA-0FEC3DC9CB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ghtest and best of the sons of the m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awn on our darkness and lend us Thine ai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r of the East, the horizon ad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uide where our infant Redeemer is l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рче и луч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рче и лучше, чем солнце Восто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жья звезда, нашу тьму разго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х нас к Младенцу веди издалё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етом небес озаряй наши д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ld on His cradle the dewdrops are shin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w lies His head with the beasts of the st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gels adore Him in slumber recli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ker and Monarch and Saviour of a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ихо на поле роса трепет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ирно Младенец на сене леж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истое небо в ту ночь ликова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и Создатель Спасителем ст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y, shall we yield Him, in costly devo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dours of Edom and offerings div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ems of the mountain and pearls of the oce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rrh from the forest, or gold from the m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чем нам явиться пред всеми Желан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ерлы морей, ароматы луг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олото гор, драгоценные кам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ирру деревьев, — Он примет ли внов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Vainly we offer each ample obl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Vainly with gifts would His favour secu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cher by far is the heart’s ador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arer to God are the prayers of the po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дны пред Ним богачей приношен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— обладатель сокровищ зем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ит Он видеть сердец сокруш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ит Он слышать молитвы прост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ghtest and best of the sons of the m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awn on our darkness and lend us Thine ai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r of the East, the horizon ad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uide where our infant Redeemer is l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рче всех звёзд, что горят на Восто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жья звезда, перед нами све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ерез долины, холмы и пот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с в Вифлеем к Иисусу ве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0:30Z</dcterms:modified>
  <cp:revision>13</cp:revision>
  <dc:subject>Slavic hymnal Гимны веры христиан, hymn 245</dc:subject>
  <dc:title>Brightest and Best of the Sons of the Morning / Ярче и лучше, чем солнце Востока</dc:title>
</cp:coreProperties>
</file>