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781C-F79B-41A2-BA20-39FE4B022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9F1F-23D4-4BB4-AA49-EBEBE130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16DC-FCE6-48EB-9135-BB4B8F32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731E-BC53-42D5-93ED-8E2385162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2EBA-B322-4CC2-BC98-1F0D7603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2D65-70A9-4AA9-95B1-A0A9F34F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EEA3-F3A5-40F7-A6EE-DAC940C3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EC7F-2E82-4473-9BDE-BAA030E3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AA7E-CC21-4EF2-8B4E-D17A60AE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D0CC-069D-4A28-96BD-F398F0A9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2460-EA99-4837-A807-D728872E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E9F2-ED4E-4EEA-B751-417F4A96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22AA2-100D-4433-9B54-2CEC761871C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I my cross have tak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leave and follow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stitute, despised, forsak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from hence my all shalt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Господь, мой крест беру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мой крест бер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обой хочу ид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чу я вражду людск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нев и злобу на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rish every fond ambi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I’ve sought, and hoped and kn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 how rich is my condi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and heav’n are still my ow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менил Ты жизни пл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любил, чего хот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 бореньи постоян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и небо — мой у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world despise and leav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have left my Saviour,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uman hearts and looks deceiv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art not, like man, un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врагом мне станет ны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верным он всегда та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друзья меня покин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 всегда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hile Thou shalt smile upo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of wisdom, love and m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es may hate and friends may shu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w Thy face and all is b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любви и благо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же к сердцу с каждым днё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лится враг, исчез прия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не радостно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n may trouble and distres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ut drive me to Thy bre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e with trials hard may press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en will bring me sweeter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нев и ненависть люд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нят нас к Христа ног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тяжёлая зем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ет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’tis not in grief to harm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y love is left to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’twere not in joy to charm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re that joy unmixed with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ь души не завою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с нами Бог жи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лесть дух не очар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 Боге наш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n on from grace to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med by faith and winged by pray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’s eternal days befor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own hand shall guide m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нас укрепл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видит чуд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молитва окрыл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открыл нам неб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shall close my earthly miss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ift shall pass my pilgrim d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shall change to glad fruit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to sight, and prayer to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кончатся том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вершится путь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место даст виден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ьбы сменятся хвал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5:02Z</dcterms:modified>
  <cp:revision>12</cp:revision>
  <dc:subject>Slavic hymnal Гимны веры христиан, hymn 846</dc:subject>
  <dc:title>Jesus, I My Cross Have Taken / О Господь, мой крест беру я</dc:title>
</cp:coreProperties>
</file>