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CF6-6CA1-40BE-90F7-F6D5EB57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9E5-C425-4601-9969-E01E21B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393-22C3-442D-90B5-F92BD547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822-5EF4-4D6A-ABD4-83A594EE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6A6-9EB9-4A25-B5ED-4F136695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0DC-ADA2-46CB-9354-80D41C2C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8B1-1E94-47BD-BB82-75D400B1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2F2-AB0C-4DAB-BAA3-B679CED9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C2A-A2BC-4EE6-91A8-7E886656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01F-2243-4DFA-8702-399BC94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255-4E60-407D-A13B-44165B4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FF7-5F14-458E-B603-6725E1A1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72FD2-0110-4D57-870A-2E5B42270F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creatures of our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 and with u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ренья Божьи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 Божь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и в глубин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, praise the Father, praise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 the Spirit, Three in 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Бог живо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ославлен! Будь прославл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urning sun with golden 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ilver moon with softer gle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е солнышка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на светящая в ноч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ushing wind that art so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clouds that sail in Heaven a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ветер, дух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а вблизи, вд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ising moon, in praise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lights of evening, find a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тра, вершины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койный вечер, звёздный хор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mother earth, who day b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foldest blessings on 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уг, кормилица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а, луга, сады, пол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lowers and fruits that in thee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m His glory also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прекра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щедрой осенью плоды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ye men of tende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ing others, take your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ing ye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 чутко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я всем, одной семьё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long pain and sorrow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God and on Him cast your c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ий,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Христу ярмо забо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ings their Creator b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ship Him in humbl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, пред своим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те ниц и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3:02Z</dcterms:modified>
  <cp:revision>12</cp:revision>
  <dc:subject>Slavic hymnal Гимны веры христиан, hymn 871</dc:subject>
  <dc:title>All Creatures of Our God and King / Творенья Божьи на земле</dc:title>
</cp:coreProperties>
</file>