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2F7-7C24-44A5-A4AA-EBEE26E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31-C37B-442D-992A-B1889553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D4B-7EFD-4607-98A2-8008A230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941-49E1-4F3F-816E-174ACD06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7CF-8C91-42AD-923B-E9CAB9D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C7A-D311-4FF1-9379-6972BFD2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F07-27E4-440C-9ABD-D947DC7F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1D7-622E-4B2B-8290-4C45C63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2F7-26A8-474F-90D6-4578966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505-DD56-49D4-8D61-E11CD86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FF2-0096-4D3C-959C-C5E126D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F9B-C749-4C1D-B3B3-863D256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EE8BD-328A-452C-82E1-35BA9DC8D2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57Z</dcterms:modified>
  <cp:revision>12</cp:revision>
  <dc:subject>Slavic hymnal Гимны веры христиан, hymn 572</dc:subject>
  <dc:title>Весть чудесная звучит</dc:title>
</cp:coreProperties>
</file>