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2C4-863A-4537-B75E-8AD02890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3E1-7E81-459A-9D3F-BBE0B630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454-43CD-4188-A763-024CFDC6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DED-3ED2-4658-81A7-F4E84F01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1C5-1974-4622-9E91-0CDD301D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779-C516-4924-8A44-947E8A7D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E72-4D3F-43BF-8D64-2A6809AA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A3F-C4F7-40B8-AFEC-DB46A42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DCF-38D8-457A-AE46-E0FDFA2A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582-07B8-4421-B3E5-5DDEAEBD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3C8-9EF5-416F-B69D-CF0DC388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8D3-15AF-4D47-83DF-CBF3DDE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BE852-17BC-49A5-AC22-7C0EF533F6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ost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ity of our God, the hol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joy of the who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om we have the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aids us against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bow down on our k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want to 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nam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ks You’ve done in ou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trus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God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out earth and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13Z</dcterms:modified>
  <cp:revision>10</cp:revision>
  <dc:subject>The Source, song number 137</dc:subject>
  <dc:title>Great is the Lord and Most Worthy of Praise</dc:title>
</cp:coreProperties>
</file>