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F257-55F6-4F82-8A11-B667202CD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B255-F2C2-40F6-849E-EBEFE923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4C47-2377-404A-8570-8FA517D71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D8EB-4F1F-4327-ABC1-56C4CA744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7708-5591-4871-B9AB-71EA44F6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CEF4-9219-47FF-8CDC-32F114D2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B8D6-9E19-4929-A5F6-2A7D901A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0610-148D-4D17-815F-E0C95B97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3055-9F63-4D6D-8DC7-6FF8F37C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6345-91F8-46C4-9BCF-EFD1066E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BB4C-9A08-400F-B741-61388797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E777-3A32-4057-8497-C360BE0E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CC655-B9E1-4BDF-87B5-EF62227BC26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ыщет здесь в ми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кров род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даст ей здесь ми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ют и по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жет сулить этот мир у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юта, где зло не коснётс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нет, нет, нет — он нам чуж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мире небес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полный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де сыщет здесь в ми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ущим с надеж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ога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троил Он г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ходящий в сияньи для нас, как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кров ли родной и обитель сердец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а, да, да, то — кров род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е со свят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ечный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ж и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Спаситель,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ечно зв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 Те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рвётся душа пред Тобой предсто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снью любви Т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просл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и, жди, скоро время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горнее место тебя Он возьм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йся, душа, близ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на к н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может, не дол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шь ты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рись до конца, будь верна и тер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римешь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трудной борьб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там у От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ждёт претерпев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здесь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7:25Z</dcterms:modified>
  <cp:revision>12</cp:revision>
  <dc:subject>Slavic hymnal Гимны веры христиан, hymn 664</dc:subject>
  <dc:title>Где сыщет здесь в мире</dc:title>
</cp:coreProperties>
</file>