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78D-625C-4A44-AD4F-66A4D8B3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8DD-6A11-4B01-BDDD-E1210D25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983-D51F-4AB9-9955-D53CDC7E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814-E9DB-4DE8-9A79-22EFE022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070-E241-48B7-A0F1-41034C62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55A-60C8-4978-98E6-A21D28E2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838-0366-428D-8145-634D8CF2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89B-1ECF-4C6E-BB88-361C65A9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A4D-91F0-4B76-98BD-0BC68854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F82-1522-4392-BD54-667BD50F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B49-26B0-45A1-94E4-254F7A0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AFD-1EDF-4A47-8788-DB52F4F2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971A7-DEF6-4AD6-8F16-C98032CF83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гріхи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, що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0   Він обм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48Z</dcterms:modified>
  <cp:revision>12</cp:revision>
  <dc:subject>Slavic hymnal Гимны веры христиан, Ukrainian hymn 100</dc:subject>
  <dc:title>Він обмив</dc:title>
</cp:coreProperties>
</file>