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7358-F101-43D6-AC7E-E05A17D1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D121-1FFB-4841-B4E2-3C5F868D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2F8A-29E9-4E6F-9DD6-FB005BF2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8AE-4C2B-4E4F-8BFD-763F9CC0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01AC-5C07-458B-9A71-E788B044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283-1985-4E0B-87E3-05F5EE6E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82B4-988A-4962-9A03-6E193B9E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2DF-8550-4E52-9CB0-0CA5558F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0731-8615-4385-B2CB-F48EADD1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64DA-6EF6-4B13-9153-F358BD6D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145A-A237-4784-AF98-BD49EE84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2B43-3B89-4070-AFA1-BBE01932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FAC92-B184-4579-B0DA-7F5D6E4DBCB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сно Свій маяк Отець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им світлом засвітив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же нам вогонь небес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берігати доруч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же світло наш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ласки ближнім лл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иху пристань направ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окою всіх в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0  Ясно Свій маяк Отець на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ті хвилі, гріх буш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е душу затоп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дорожній сам бід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му треба посві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же світло наш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ласки ближнім лл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иху пристань направ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окою всіх в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поправ, мій брате, ни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й сердечний каганец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лянь! на хвилях вітри буй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’ють друзів з кінця в к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же світло наш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ласки ближнім лл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иху пристань направ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окою всіх в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3:13Z</dcterms:modified>
  <cp:revision>12</cp:revision>
  <dc:subject>Slavic hymnal Гимны веры христиан, Ukrainian hymn 70</dc:subject>
  <dc:title>Ясно Свій маяк Отець наш</dc:title>
</cp:coreProperties>
</file>