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EF0-DF8D-4D44-8124-4C5D2E5A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ECD-31B4-48CF-AAD2-60E4E741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EA7-FA0D-4D53-9519-F549FBA6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8B9-A18E-4205-B7A7-7FEDF44E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159-BC95-41C1-8200-B5AAE5E9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CBB-BF92-4BC6-984D-311C277B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121-FAC6-495F-9D1A-421CA206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950-3624-45BD-88C2-04234C8C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919-3E67-42FF-8CCE-DA2E00D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053-7A4A-4B89-B90A-9D730A2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A1B-885C-48E9-8E7E-A0420F89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4EB-006E-4875-8670-B1A123F4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5D749-5422-45AB-9C66-164A6B5159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I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at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beats wit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ach day I w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hink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7   I Live For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sing, You are why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lace at 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love, You are why I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 belong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of me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it 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o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sing, You are why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lace at 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love, You are why I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 belong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of me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01Z</dcterms:modified>
  <cp:revision>12</cp:revision>
  <dc:subject>The Source 3, song number 1297</dc:subject>
  <dc:title>I Live For You (U.R.Y.)</dc:title>
</cp:coreProperties>
</file>