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D886-CF51-499D-9774-4FFFB283C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351C-E49C-4A59-BC65-7CC3CAA9D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D237-14D0-4377-90F7-D72BDAA03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03EA-EA60-442F-BCE5-968AD945C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4F5A-421B-4D0B-AE78-C0BF3E9CB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7B7D-F536-43F9-8684-228E4C721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3B69-0702-400E-855D-3DEE5BE1A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1C24-FEA1-48EA-8D45-C5E5D8F8C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EA70-E5F0-4D3A-9204-2F125B89A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6DF6-F77A-4188-BF0A-D9C6DE2BD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E4FB-BCDE-4230-BAB3-B67B46E9C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D953-6FC4-4D47-BA16-DF6C5DA6A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41BA2E-6D3A-416D-B6DC-7742BC0346D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Must I go, and empty handed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us my dear Redeemer me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 one day of service give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ay no trophy at His fe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3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 хотел бы я бесплодны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хотел бы я бесплод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рону Господа прий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одну хотел бы душу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оп один в руках н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ust I go, and empty hand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ust I meet my Saviour s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 one soul with which to greet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ust I empty handed g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хотел бы я бесплод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рону Господа при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одну хотел бы душ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у прин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 at death I shrink or fal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my Saviour saves me n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to meet Him empty hand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t of that now clouds my br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— мой Искуп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рти ночь мне не страш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пустым пред Ним яв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что так страшит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ust I go, and empty hand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ust I meet my Saviour s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 one soul with which to greet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ust I empty handed g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хотел бы я бесплод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рону Господа при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одну хотел бы душ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у прин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e years in sinning was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uld I but recall them 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ould give them to my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His will I’d gladly b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б мне года был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но было возврат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и радостью, и счасть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о б Господу служ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ust I go, and empty hand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ust I meet my Saviour s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 one soul with which to greet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ust I empty handed g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хотел бы я бесплод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рону Господа при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одну хотел бы душ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у прин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ye saints, arouse, be earn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p and work while yet ’tis d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re the night of death o’ertake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rive for souls while still you m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трудитесь, дети Божь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проходит, ночь близ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пока не поздно, душ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 вербуйте для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ust I go, and empty hand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ust I meet my Saviour s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 one soul with which to greet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ust I empty handed g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хотел бы я бесплод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рону Господа при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одну хотел бы душ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у прин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7:07Z</dcterms:modified>
  <cp:revision>13</cp:revision>
  <dc:subject>Slavic hymnal Гимны веры христиан, hymn 532</dc:subject>
  <dc:title>Must I Go, and Empty-Handed? / Не хотел бы я бесплодным</dc:title>
</cp:coreProperties>
</file>