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B4F-2EDB-457D-970F-CE28A95A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4C9-8A24-4469-88E5-D51F21A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C83-3F07-458B-B899-065EA75F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4C2-EE8D-4FA8-BBE5-0499F3F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5B0-F356-42F1-A9FD-9423D1FE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1FF-E796-4940-A147-9650814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61-6D1D-4ADD-B968-3591E41D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B7A-754D-4CCE-92EF-B4C47603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7E5-1B8A-47A5-8E04-9B9829A6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532-FE5B-450E-B06A-7B9D349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FF7-A213-40D5-840F-5AB25AE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614-C6FA-4446-B35C-921DFB2F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9F208-5C00-453B-B30F-9899C19CA5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 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 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 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 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 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 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 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 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 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11Z</dcterms:modified>
  <cp:revision>15</cp:revision>
  <dc:subject>Slavic hymnal Гимны веры христиан, hymn 521</dc:subject>
  <dc:title>Bringing in the Sheaves / Будем сеять утром</dc:title>
</cp:coreProperties>
</file>