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71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94</a:t>
            </a:r>
            <a:r>
              <a:rPr b="1" lang="ru-RU" sz="3600" spc="-1" strike="noStrike">
                <a:solidFill>
                  <a:srgbClr val="ffffff"/>
                </a:solidFill>
                <a:latin typeface="Verdana"/>
              </a:rPr>
              <a:t>	</a:t>
            </a:r>
            <a:r>
              <a:rPr b="1" lang="ru-RU" sz="3600" spc="-1" strike="noStrike">
                <a:solidFill>
                  <a:srgbClr val="ffffff"/>
                </a:solidFill>
                <a:latin typeface="Verdana"/>
              </a:rPr>
              <a:t>Иисусу Избавителю</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Иисусу Избавител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Царю царей Христ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беду, славу, честь, хвал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здайте, весь наро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усть каждый воспо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усть каждый воспо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у повесть вечно нов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 радость Божи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усть каждый воспоёт.</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Он силу ада побед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кровь за нас прол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вечной смерти искуп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жизнь вовек да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усть каждый воспо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усть каждый воспо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у повесть вечно нов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 радость Божи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усть каждый воспоёт.</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Придите, жаждущие, вс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живой воды рек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утоление душ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то верует, най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усть каждый воспо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усть каждый воспо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у повесть вечно нов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 радость Божи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усть каждый воспоёт.</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Измучен ли грехами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крест, на крест гля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иста распятого прос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сердце мир вой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усть каждый воспо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усть каждый воспо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у повесть вечно нов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 радость Божи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усть каждый воспоёт.</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0T10:28:22Z</dcterms:modified>
  <cp:revision>3</cp:revision>
  <dc:subject>Slavic hymnal Гимны веры христиан, hymn 94</dc:subject>
  <dc:title>Иисусу Избавителю, Царю царей, Христу</dc:title>
</cp:coreProperties>
</file>