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a:t>
            </a:r>
            <a:r>
              <a:rPr b="1" lang="ru-RU" sz="3600" spc="-1" strike="noStrike">
                <a:solidFill>
                  <a:srgbClr val="ffffff"/>
                </a:solidFill>
                <a:latin typeface="Verdana"/>
              </a:rPr>
              <a:t>	</a:t>
            </a:r>
            <a:r>
              <a:rPr b="1" lang="ru-RU" sz="3600" spc="-1" strike="noStrike">
                <a:solidFill>
                  <a:srgbClr val="ffffff"/>
                </a:solidFill>
                <a:latin typeface="Verdana"/>
              </a:rPr>
              <a:t>О Спаситель, благодат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Blessed Saviour! Let Thy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 sent richly from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Your words be underst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expression of Your l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Спаситель!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благую весть из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все слова по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слова любви Тво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we all are gathered he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ke our fellowship as 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urn Your face to us to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in all Your will be don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общен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в одно соеди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 лицо Ты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еседу в нас начн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hile we hear Thy words to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p our hearts be open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receive Your dew of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Your mercy and Your lov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открой всем нам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вои слова пос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на них падёт ро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и, любви Тво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we all are gathered he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ke our fellowship as 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urn Your face to us to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in all Your will be don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общен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в одно соеди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 лицо Ты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еседу в нас начн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May God’s Spirit help us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re attentive to His c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 His fruit eternal w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ow abundantly in all.</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 удобрит Божи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е сердце и наш сл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скорей произраст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ей жизни вечный плод!</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we all are gathered he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ke our fellowship as 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urn Your face to us to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in all Your will be don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общение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в одно соеди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 лицо Ты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еседу в нас начни.</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5:04Z</dcterms:modified>
  <cp:revision>3</cp:revision>
  <dc:subject>Slavic hymnal Гимны веры христиан, hymn 4</dc:subject>
  <dc:title>Blessed Saviour, Let Thy Grace / О Спаситель, благодать</dc:title>
</cp:coreProperties>
</file>