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3DD-083A-431B-9376-5685FF3C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2AC-C893-43DB-A4E7-DADFAF83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F508-E3FD-4D63-8149-8F3AB251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A09C-04D7-47F9-9CA8-C462A6EC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B34-13DB-419E-B47D-8241DEE3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19F8-8774-4640-8686-E8B574CB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976-C4DA-4D45-AE82-0D30D78C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D41F-6C37-4FD1-9240-1617D91A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CF2-49E2-4AE6-9C80-96058BAA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3B3E-0ABE-4EEA-A4FE-4AF7947A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71A-A198-4FDF-9395-AB80F756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299-CA18-4160-AE20-B2CD190C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48FB9-0A82-44B7-B5C6-149A8A83D2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new comma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unto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love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 have love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love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 have loved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3   A New Command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is shall all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My dis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 have love for one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is shall all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My dis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 have love for one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6:27Z</dcterms:modified>
  <cp:revision>10</cp:revision>
  <dc:subject>The Source, song number 23</dc:subject>
  <dc:title>A New Commandment</dc:title>
</cp:coreProperties>
</file>