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0D25-25CE-4C18-ABB9-FD27F2C45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5AA1-E71D-4314-995D-00DC3CA0E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87BC-D860-4792-B61D-7F08BE6C2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7F59-A21B-4C15-8D19-7D0F157E0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D652-212A-4AC6-8AB6-8D3301EB7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B284-E85B-4763-80C8-2AB6F30F4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B6EA-4C5B-466D-955C-1FBD23D49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2C34-EB03-4BF6-B314-E4CF152E6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BEE7-8A01-40A5-ACE4-93318D757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9E59-135B-4E1F-A481-22DFC1E5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4C72-25CE-4033-AD03-0001001C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6BDD-BE7C-4359-9534-96420DD5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CEFC64-CFD1-4427-B61A-32FD441546C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Твоего стола,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раться нам дан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хлеб — Твоя святая Пло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Кровь Твоя — ви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аши души напит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бес сходил Ты С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мира принял на С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дать спасенье н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3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У Твоего стола, Господ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ас Ты умер на кре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ас в могиле б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нас воскрес на трети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путь к Отцу откры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ой любви весь мир не зн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мерной и свят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ьми ж, Господь, Себе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буду вечно Тв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разум, волю, сердце, — вс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ьми и управля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хочешь Ты, чтоб мог с То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йти в небесный 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21:15Z</dcterms:modified>
  <cp:revision>12</cp:revision>
  <dc:subject>Slavic hymnal Гимны веры христиан, hymn 730</dc:subject>
  <dc:title>У Твоего стола, Господь</dc:title>
</cp:coreProperties>
</file>