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1A0-8B8B-4268-AE73-0EEA04D2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C00-DC48-454A-99C6-0792917C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B15-5155-4C36-99EE-1B3052AC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355-7AA1-4BBB-B0C0-3AFFA42D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E74-62BF-403B-8F35-0DF41CB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13B-0A0E-433F-8791-5FB759EC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11E-902A-43D8-9789-A7D41DD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9C5-110A-4417-9404-BD7BE9CD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DD9-0EF8-44B5-9C13-E7AD60B6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793-FA75-474E-A396-49FA2A1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CDC-9540-47D9-A9F9-C606F9B1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563-8DCA-4EFD-A5DE-06E3F61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35F58-C131-4DD3-B546-9B97C6ED68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7:22Z</dcterms:modified>
  <cp:revision>13</cp:revision>
  <dc:subject>Slavic hymnal Гимны веры христиан, hymn 683</dc:subject>
  <dc:title>После заката</dc:title>
</cp:coreProperties>
</file>