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77D-CAB0-455F-A4D7-607D7156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732-3465-4688-9206-16DE5343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9EB-DF81-4447-9C72-078F7108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BB7-F4B7-4B33-A460-67CEF554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701-5800-42B4-BEE8-EC454BE5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245-376C-47B6-80CC-C56B9277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58F-BDD5-4262-AF3B-37AD1476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EDB-FE57-4732-A802-B965CEBB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D3E-B227-4AAC-A6E1-F1AD5A3D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118-2236-4740-9ACE-0E42201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CFB-01BB-498C-BFBF-0A0AE57B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268-3726-418B-8FC8-A2744895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7D390-8D22-45F3-81DA-7FEA6CF598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упинно хай звучить Йому 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Богу в небі, вже зійшла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8   Вірю я в обітниці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Й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оюсь я буйних бур гріха і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і мною милість Божа лиш б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живу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знаю Його моїм усім є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правиці хочу бути я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бо в них кріп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тю Божою завжди хва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уде за радість, як я з Ним стрі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57Z</dcterms:modified>
  <cp:revision>14</cp:revision>
  <dc:subject>Slavic hymnal Гимны веры христиан, Ukrainian hymn 38</dc:subject>
  <dc:title>Вірю я в обітниці Христа Царя</dc:title>
</cp:coreProperties>
</file>