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85BF-3567-45D1-B7E5-81A29C70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9748-1A9B-49E8-8A82-DC401DB6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6AD-A1D0-45E5-A4F9-B70E2D4F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65B-B942-4082-AF02-EB14A368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5D6D-FF1F-445C-902C-120C84EE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BD3-095F-43D1-B43E-AA880E73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492-E0C7-4252-B60F-9D348C44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FC2-D006-436D-B561-01BD1595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A33-DA72-4DA9-8BA7-C43A9896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3191-5D93-4355-B1A6-CF379F4C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779A-8EE2-468A-8FD3-B99BD728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DE7-4148-4313-8522-6FFAF97A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B7C6C-68F7-4C98-8D46-736B083555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чудов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паситель в перший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 мною в заповіт вступ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оєм серце наді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5   О, дивний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айшов мене в долині сліз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Він Пастир добрий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Його, я вже не св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в любв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руку простягнув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іви серця розіг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валу я Господу від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пізн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ею я любо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серце Господа прий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ливий став на вс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9:18Z</dcterms:modified>
  <cp:revision>14</cp:revision>
  <dc:subject>Slavic hymnal Гимны веры христиан, Ukrainian hymn 15</dc:subject>
  <dc:title>О, дивний день, чудовий час</dc:title>
</cp:coreProperties>
</file>