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84</a:t>
            </a:r>
            <a:r>
              <a:rPr b="1" lang="ru-RU" sz="3600" spc="-1" strike="noStrike">
                <a:solidFill>
                  <a:srgbClr val="ffffff"/>
                </a:solidFill>
                <a:latin typeface="Verdana"/>
              </a:rPr>
              <a:t>	</a:t>
            </a:r>
            <a:r>
              <a:rPr b="1" lang="ru-RU" sz="3600" spc="-1" strike="noStrike">
                <a:solidFill>
                  <a:srgbClr val="ffffff"/>
                </a:solidFill>
                <a:latin typeface="Verdana"/>
              </a:rPr>
              <a:t>Пастырь добрый</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Saviour, like a Shepherd lead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uch we need Thy tender ca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Thy pleasant pastures feed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our use Thy folds prepar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астырь добрый, Сам храни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нуждаемся в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лугах Твоих паси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еди к живой вод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ssed Jesus, blessed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 hast bought us, Thine we a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ssed Jesus, blessed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 hast bought us, Thine we are.</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Христос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купил нас, мы Тво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Христос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купил нас, мы Тво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We are Thine; do Thou befriend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e the Guardian of our 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Keep Thy flock; from sin defend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eek us when we go astray.</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Мы Твои, дай за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годы ранние ид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таде всех Твоих овеч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греха Ты соблюди.</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ssed Jesus, blessed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ar, O hear us when we pr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ssed Jesus, blessed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ar, O hear us when we pray.</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Христос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купил нас, мы Тво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Христос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купил нас, мы Твои.</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Thou hast promised to receive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oor and sinful though we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 hast mercy to relieve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ce to cleanse, and power to free.</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сех принять Ты обещае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Ты говоришь: «При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грехи Ты все прощае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даёшь в Твоей любви!</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ssed Jesus, blessed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 will early turn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ssed Jesus, blessed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 will early turn to The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Христос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купил нас, мы Тво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Христос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купил нас, мы Твои.</a:t>
            </a:r>
            <a:endParaRPr b="0" lang="en-US" sz="32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8-02T00:09:09Z</dcterms:modified>
  <cp:revision>4</cp:revision>
  <dc:subject>Slavic hymnal Гимны веры христиан, hymn 184</dc:subject>
  <dc:title>Saviour, Like a Shepherd Lead Us / Пастырь добрый, Сам храни нас</dc:title>
</cp:coreProperties>
</file>