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1C4-0AD1-4C08-9CD1-957A04E4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EFF-50EF-4515-9EAA-DAB6A275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81B-8834-4CFF-AB82-AAE9A0CB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973-0C29-4206-B041-E6C3A2B5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2E2-1E67-4018-8295-40A7F1BC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2E8-234F-4B27-94CD-00FB76C3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808-2D00-4F7B-ADF5-4B25D865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285-792C-4A91-9846-A4E8116B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32B-E51E-4E31-AE89-8E8AA370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F1B-A445-42B1-9E4C-4BE71DC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B48-F46D-4E5C-A502-3A1942D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072-220A-47F1-9B6D-77A4A4A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F131E-BE08-49DD-A3C2-659FDE0A7A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40Z</dcterms:modified>
  <cp:revision>12</cp:revision>
  <dc:subject>Slavic hymnal Гимны веры христиан, hymn 394</dc:subject>
  <dc:title>У двери Я твоей стою</dc:title>
</cp:coreProperties>
</file>