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5C2-87B4-4618-8088-B50EAB96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2B9-88AB-41C5-B3AF-D7F81A39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B60-8486-448A-96D2-43D7CA4C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2AD-33D4-47ED-BD9F-71E1A2DC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66E-8C15-4799-A037-B4BD38E8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386-DB99-4609-B7C8-4F3D1715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039-9AEC-47F9-A868-34F9846D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70C-607E-44EC-84F7-1B383C4A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EC1-FAF3-4879-B611-16759003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003-BD04-4BE6-85D7-A6DB3ED6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420-0DDA-45D7-ACAA-FDBD2395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90F-2435-4402-BCB6-9683E2E2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4E6E8-864F-462C-915E-3192C0C1B9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ропинкою лес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учейку спешит ол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 я стремлюсь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лову жизни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печальный утеш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хожу я в книге кн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отрадный поу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ёт любим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тропинкою лесн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Бога побеж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грех, души нед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сердце услаж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елю усталый ду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смело отраж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ия вра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Иисуса воз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пасённый Им сл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путь я ос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он во тьме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ля сердца облегч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шу скорби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еня Господне слово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ник вечного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е слитка золо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е клада се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18Z</dcterms:modified>
  <cp:revision>12</cp:revision>
  <dc:subject>Slavic hymnal Гимны веры христиан, hymn 492</dc:subject>
  <dc:title>Как тропинкою лесною</dc:title>
</cp:coreProperties>
</file>