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648-4974-4D12-A0D4-35D7157C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8DE-CBB4-47B0-B396-4700C0D2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F5D-9141-477A-9CC5-15DF8FF4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456-E6DF-4738-AF27-19500A02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D71-1DBA-4419-AF3D-66B964DF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C57-A68B-44A1-A23D-B72A3BD3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F54-4C10-4677-AFD9-BAC93F4B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964-A598-4034-9C86-CAFC95C1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E41-0768-4C07-9D94-D41CA4BA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265-67E4-444B-8CA7-82111077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9A4-8E14-48AF-91EB-5AEC22B4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51E-306D-41FC-8DBA-B39BF53A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DC0B6-3219-4B14-B312-72374FA764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Дух!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любви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правды утвер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воих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правды утвер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вечный Дух! п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чувствовать, чт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нами вечно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Ты 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ру тесн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Ты 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ру тесн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глубже нам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ость слов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Твой голос разли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ов и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Твой голос разли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ов и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нас от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ы благ зе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 душ учи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лениях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 душ учи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лениях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частье ощу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ьях за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ву, крест Твой прини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ть Тебе, скор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ву, крест Твой прини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ть Тебе, скор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27Z</dcterms:modified>
  <cp:revision>12</cp:revision>
  <dc:subject>Slavic hymnal Гимны веры христиан, hymn 307</dc:subject>
  <dc:title>Предвечный Дух! приди</dc:title>
</cp:coreProperties>
</file>