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72</a:t>
            </a:r>
            <a:r>
              <a:rPr b="1" lang="ru-RU" sz="3600" spc="-1" strike="noStrike">
                <a:solidFill>
                  <a:srgbClr val="ffffff"/>
                </a:solidFill>
                <a:latin typeface="Verdana"/>
              </a:rPr>
              <a:t>	</a:t>
            </a:r>
            <a:r>
              <a:rPr b="1" lang="ru-RU" sz="3600" spc="-1" strike="noStrike">
                <a:solidFill>
                  <a:srgbClr val="ffffff"/>
                </a:solidFill>
                <a:latin typeface="Verdana"/>
              </a:rPr>
              <a:t>О Боже, Боже, дай мне силы</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Боже, Боже, дай мне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ближних душу полаг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ердце вечно до мог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рагам обиды все прощ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е дай мне с ложью примир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уровой жизненной бор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учи меня мол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иться пламенно Теб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усть камни в грудь мою броса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ризнавая чувств свят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ненавидят, проклинают,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душу положу за н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О Господи, в словах проклят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на земле клеймят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я открою им объят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ву заповедь хран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О, дай мне сил Твои заве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уше страдающей хран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моги врагов наве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ерпеньем, с кротостью сносить.</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7T21:32:46Z</dcterms:modified>
  <cp:revision>3</cp:revision>
  <dc:subject>Slavic hymnal Гимны веры христиан, hymn 172</dc:subject>
  <dc:title>О Боже, Боже, дай мне силы</dc:title>
</cp:coreProperties>
</file>