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A35-4B64-400E-B778-53D5E50B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AC2-412B-4EB9-B58F-88CA90D5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637-2B33-42DE-92B0-C51B0473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972-9C79-43EB-AE73-4D4E3641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4DB-F4B3-4FD8-8131-137375B4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5CE-2414-418C-AF52-D3D2E81D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388-0F4A-408A-9BF0-7CA4C3E1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D83-5357-49E7-A466-4760D5F7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87F-31CD-44EF-9E5C-2A58B235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A99-6D69-48C6-A464-4A8A0AAC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483-22FC-4306-9670-40B47587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466-7150-485D-93F0-DD50DA58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CF314-6497-41B2-A8BA-8CDCA3FC89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а   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страхи побор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жизни укр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: «Так сказал Господ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 мощь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ой прикос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ю душу обн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цепи все п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го потоком 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то познал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Бог, мо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к Не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танусь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24Z</dcterms:modified>
  <cp:revision>13</cp:revision>
  <dc:subject>Slavic hymnal Гимны веры христиан, hymn 622 (as amended)</dc:subject>
  <dc:title>’Tis So Sweet to Trust in Jesus / Сладко верить в Иисуса</dc:title>
</cp:coreProperties>
</file>