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741-E7F9-4169-834E-641FD277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0C8-66A8-43F7-A26F-5BEBF99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AF0-3F05-4D65-91C3-A3A64AC4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95E-6A88-4567-A132-BE34A7BF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F3E-6205-4961-83BE-FC17D01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80F-66C4-4673-A9D2-25A2CF5B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AD6-D451-4260-8B7C-15A1858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747-852D-413B-95AE-B82CAD14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D0E-C08C-403D-A05B-08D46CD4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1F4-E38D-4F5D-8183-8F72DFA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0C9-907B-413A-8BC4-574AF57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61A-A562-4BB3-A120-41D7CAA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C356B-9703-4C07-88C4-E377653D7C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please light th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nce burned bright and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place the lamp of my fir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burns with holy f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You’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na take You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hine it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irst help me just to live it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doing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never seek a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reward is giving glor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35Z</dcterms:modified>
  <cp:revision>10</cp:revision>
  <dc:subject>The Source, song number 401</dc:subject>
  <dc:title>O Lord, You’re Beautiful</dc:title>
</cp:coreProperties>
</file>