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0AB-FB60-4603-AC2F-08C7855E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3A5-B30F-4270-84DF-9E143DCF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421-514A-4779-AD30-74E1740F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303-348D-4059-BE9E-84949A06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8CD-CAFA-4D8A-B400-45FF8906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BF9-5B68-40CC-8658-AFA826CD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4DB-C43D-4AEE-AE74-6F4DC69E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C7E-BF52-4F44-9744-8E1A946B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AC2-0CB9-4708-8E2F-A79E9427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465-BBD5-4CD4-AFA9-AA1655DD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767-90E0-44FD-938C-4B0BE55C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E3A-739C-4BDA-B512-7A4AE6B4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FC07D-F53B-4F26-977C-91C1FAD764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ом да будет Божьим хра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открытым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 бывает постоян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изнь и счаст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скромный, тихий уго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вратит в свято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аш дом да будет Божь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там радость преб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нисходя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царствует любовь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ышны пенья гол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зобилье вечных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ти не смеет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ссветом нежно пробуж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литве пламенн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участье при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с сердца всякий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же, даже под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яжело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аждый день даёт Он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ивает мужество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яком месте нас Он ви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нас в вере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ть порой чрез скорбь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5:44Z</dcterms:modified>
  <cp:revision>12</cp:revision>
  <dc:subject>Slavic hymnal Гимны веры христиан, hymn 768</dc:subject>
  <dc:title>Ваш дом да будет Божьим храмом</dc:title>
</cp:coreProperties>
</file>