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2DAB-AC56-409D-A830-C08F900F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90FE-865C-4385-9B38-35D2FF0C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5A5F-3181-419B-9E83-EA148586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AABC-B955-4DBF-9C10-BF2FFCEB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9657-F9B6-4D7E-AA8E-24E4B53A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C9E-B2C0-41E0-9EF1-58054A47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4A72-5D95-4964-85AD-9BA53DEB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D0BE-17A3-4D49-91E4-253B4022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2D37-FBA8-4B97-B220-9BD06F8E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E2B-04E6-47E9-9F3A-CC5F91FC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61A2-3339-4731-AA44-DE56E0BB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67DC-6D7A-4240-B7A0-8823D1F8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CABBB-096D-4E31-A847-6AEEF9B7693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! Почему её не ви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х, кому навек она да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до горечи оби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уша так радостью бед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уша так радостью бед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корбим усталыми сердц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х ликований смолкла пес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ам не радоваться с в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ому же радоваться зд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ому же радоваться зде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ость! Почему её не вид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тесь! Чтоб радоваться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тесь в печалях и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мог увидеть каждый встр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радость в ласковых глаз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радость в ласковых глаз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тесь! Другим её дар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будьте к Господу,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ю, как звёздочкой, ве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ущих в небесные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ущих в небесные к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4:17Z</dcterms:modified>
  <cp:revision>13</cp:revision>
  <dc:subject>Slavic hymnal Гимны веры христиан, hymn 611</dc:subject>
  <dc:title>Радость! Почему её не видно?</dc:title>
</cp:coreProperties>
</file>