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0DF-BFCA-4B64-955A-352C545F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350-3CA6-403B-B780-4C26122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FCE-622C-4107-AB59-2DA727CD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DA9-2C52-41C5-A9A5-4BAD8C49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0EA-66B1-4B22-9827-3B23E8B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EE4-EFFC-4D18-9A16-C5B7260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306-E792-46B9-806D-B0E1906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367-D306-42DA-A913-8587C964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F9E-5E4A-41E4-AB82-33E946E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B07-B3BA-41C0-8651-74AB37B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D26-B6AC-49C0-9843-CDCBD6F5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5D9-F8A6-48B5-A168-554E5516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804B2-3924-48E0-9582-E0FF64118C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55Z</dcterms:modified>
  <cp:revision>12</cp:revision>
  <dc:subject>Slavic hymnal Гимны веры христиан, hymn 883</dc:subject>
  <dc:title>Иисус — Друг одиноких</dc:title>
</cp:coreProperties>
</file>