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EA9B-FB12-4806-BCE5-3C58BAF94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6834-D1C5-49E6-B841-20D0430C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CB2B-04C4-4C37-B520-F5762A8A0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76C1-A276-439F-B28D-2924818AC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FC5C-1310-4764-9F4D-9D7D7A04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D000-E6E9-46DA-A79E-6CEAFBC4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0B56-4A38-486B-8F05-6C8AF534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2D25-84D7-4E7A-8B57-B9A05D0A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E9A2-340E-48E9-8B40-D7B5F317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ABCF-4F85-4CC2-B437-B581CC36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6E1A-EC54-4EB7-AA05-C2664AE1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1B5B-894B-43F5-869A-223F14B4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A7048D-ED36-46C4-B7F0-FF1609D1601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 есть славить Госпо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имени Твоему, Всевыш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щать утром милость Тв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у Твою в но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9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лаго есть славить Госп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озвеселил душу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, Господь, Тебе хвалу п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ла Твои велики, мой От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ой Господь, Ты мой Твор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озвеселил душу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, Господь, Тебе хвалу п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ла Твои велики, мой От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ой Твор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и, Ты защита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мой Бог, Ты — твердыня жи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землёй небеса, выс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Твоя вовек ве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озвеселил душу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, Господь, Тебе хвалу п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ла Твои велики, мой От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ой Господь, Ты мой Твор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озвеселил душу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, Господь, Тебе хвалу п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ла Твои велики, мой От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ой Твор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ожу мои очи к гор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ношу мои руки к неб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знал, что Господь мой вел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илость Его над всей землё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озвеселил душу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, Господь, Тебе хвалу п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ла Твои велики, мой От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ой Господь, Ты мой Твор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озвеселил душу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, Господь, Тебе хвалу п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ла Твои велики, мой От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ой Твор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5:23Z</dcterms:modified>
  <cp:revision>12</cp:revision>
  <dc:subject>Slavic hymnal Гимны веры христиан, hymn 796</dc:subject>
  <dc:title>Благо есть славить Господа</dc:title>
</cp:coreProperties>
</file>