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EA4-D3EC-483F-AD49-ADBE9F96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530-FD11-4E87-9705-839D0A61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D24-0D32-4966-B598-3B80EB7A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5AA-6620-4CDB-A935-6C619EE3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612-A2F8-44C5-ACF3-1B10101F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193-B947-41E9-976B-0F5EDCE9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608-CC15-46BD-8E77-04B9B753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65A-C461-4756-9CF0-C20BCA25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F03-6475-4B36-BAB5-46872B5F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032-C50A-4BFB-9987-FE5D2303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D96-C18E-414C-B0E2-876803BE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113-0224-44D2-A522-02BD5244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918FE-31C0-4EBB-8850-31D878CC7B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ит! Стучит! Отво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ам? Кто там? По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ей стоит прох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ён, и велич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Царь, это Сын Бож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, тихо постуч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учит! Стучит! Отвор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ит! Стучит!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! Пойди! Всё Он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круг замка обв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ющ неправды, словно с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углу сердечном впил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но двери отп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Стучит! Христо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! Скорей! Иль у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ронзённою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паситель всё ст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любовью за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взор Его сле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06Z</dcterms:modified>
  <cp:revision>12</cp:revision>
  <dc:subject>Slavic hymnal Гимны веры христиан, hymn 388</dc:subject>
  <dc:title>Стучит! Стучит! Отвори!</dc:title>
</cp:coreProperties>
</file>