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F33-BA18-4F79-987A-FAE88F55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2E78-8FBF-43CA-99C7-57E5D0CB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24E-9070-4D0A-A481-9C737ECA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C6E-1A98-4040-AA1C-FC3DEF9B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825-D995-45C2-B0BE-28F35141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AEE-3826-4A44-9EF6-9A2BAF07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918-28EB-4AFF-854C-AFF5FB97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AB0-F8A2-4E09-B699-DFD10DF4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76DD-D485-4B42-A579-575CA67B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7DC-D132-4DFD-B040-7D31C5B1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D82-CACA-41B4-B254-E5D73E6F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BD5-4BFB-4CBE-9184-D709CCBF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369CC-1F69-4FD2-A383-97ADB687CF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seek You firs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hear our voi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ly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ate in the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sing Your prai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You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fering our live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holy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02   We Will Seek You 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our praise a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ncense, O Lord,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our worship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fragrance, O Lord,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seek You firs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hear our voi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ly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ate in the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sing Your prai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You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fering our live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holy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3:37Z</dcterms:modified>
  <cp:revision>12</cp:revision>
  <dc:subject>The Source 3, song number 1602</dc:subject>
  <dc:title>We Will Seek You First, Lord (O Lord, To You)</dc:title>
</cp:coreProperties>
</file>