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2210-08F0-4E37-8CAC-731BAD19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A011-5C35-4D0A-8F1C-FBF57631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D884-D797-4EDE-86AF-3D2C9B98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106E-5138-47D4-BD2D-E52F7973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B2A9-4BC3-41E0-819C-BCB7B75C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6E71-E649-425A-A9CD-9456850F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E3CC-0644-4794-8851-CE094838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201E-73DC-4745-991A-F4CEC093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FC8-B83A-4F2B-A4E2-0F26AFDD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2C74-2FA7-43E3-B225-E20A5E0E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3DE2-A50E-4E4E-BD6D-F716A795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45CB-A2F7-418D-A276-0F3BFB49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97D6A-216A-4E76-A6F7-5C6D6428DDE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unseen thing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   Люблю розповід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ту пречисту 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й Його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I know ’tis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satisfies my long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nothing else can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знаю правда ц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а є найдоро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мене, понад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theme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уду повтор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всім каз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wonderful it se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 all the golden fa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all our golden dre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дивні чуд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прекрас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всі Його ді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did so much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is just the 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ell it now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те, що Він зроб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мене, і том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зповідаю вс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theme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уду повтор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всім каз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pleasant to rep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seems, each time I tell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wonderfully sw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овторяти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м більше розпові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о солодше 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ome have never he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essage of sal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God’s own hol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м, що не чули 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добру вість спас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тру Бог всім д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theme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уду повтор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всім каз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37:07Z</dcterms:modified>
  <cp:revision>13</cp:revision>
  <dc:subject>Slavic hymnal Гимны веры христиан, Ukrainian hymn 1</dc:subject>
  <dc:title>I Love to Tell the Story / Люблю розповідати</dc:title>
</cp:coreProperties>
</file>