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CA7-A94F-4516-BBA1-85392161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CF3-41FD-444F-A785-AC22764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6B8-EA4D-48D4-8DBD-6C018576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DE2-5E3B-4761-880E-C4612E0C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D44-B0ED-4339-B768-450E71DD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74A-4EF3-46F9-A71F-E9ABA1F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97A-58FA-4820-B68A-41B1DC54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6F9-8927-4FDA-8249-60B2229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480-1D93-4397-BF87-6FCFF25C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DB1-8562-4B2D-AF74-8C9B5FCF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EDB-0862-4691-9915-98DD8B7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9A4-F402-4548-B7B9-FEB39B51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FD0B6-B087-448C-9A0D-3AED13D759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работа в нём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х в нём мало, 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о копать и полоть, расч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ой поливать и плоды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рные травы совсем из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каждый по силам труд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добно лозы от хищных стер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олода, ветра и бурь у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 в виногра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! Ценой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ой Моей крови ты куплен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, и мысли, и сил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ум твой, все чувства отнын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арство Своё променял н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херувимов на муки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ашу позора и скорби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нью Своей твою жизнь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пока ещё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оработать, уж близитс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умраком вечера ночь на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 работы навек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й с зари до зари, и Я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ожу в тебя силы и средства все 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блажен, кто себя посвя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ло Моё в этой жизни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34Z</dcterms:modified>
  <cp:revision>15</cp:revision>
  <dc:subject>Slavic hymnal Гимны веры христиан, hymn 520</dc:subject>
  <dc:title>Иди в виноградник</dc:title>
</cp:coreProperties>
</file>