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D11C-7DD2-4B07-83F9-9104FEFAC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5899-D6A1-4478-8DC8-97355862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16EE-6247-4AC9-BE9C-7AF69154B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06F2-FC3D-4A83-A2B4-EC3EAAD84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F36E-5DA8-4F5A-B25C-E2F73647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A341-64B3-4334-BAC1-3A1F068B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AF94-00EE-4DAA-8AB8-5E434AA5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0A37-16FE-4DFB-A5EC-C1F8DFCC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EE57-03EA-43B9-8C4A-AE3CA36B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B0D8-64B6-497C-97BC-244344B2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A284-FDDF-49F6-A49B-82503AF2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24CD-2160-4761-999E-C7D05828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1A162-6AAE-4ACF-BE58-1F90B652450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en of faith, rise up and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great and glorious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strong when you feel we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brokenness comp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out to the north and the so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to the east and the w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is Saviour to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of heaven and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5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en of Fa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ise up, women of the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and and sing to broken he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can know the healing pow’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our awesome King of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out to the north and the so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to the east and the w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is Saviour to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of heaven and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ve been through f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ve been through r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ve been r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e pow’r of His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ve fallen deeper in love with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ve burned the truth on our li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out to the north and the so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to the east and the w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is Saviour to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of heaven and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ise up, church with broken w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this place with songs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our God who reigns on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His grace again we’ll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out to the north and the so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to the east and the w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is Saviour to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of heaven and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of heaven and earth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3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4:32Z</dcterms:modified>
  <cp:revision>10</cp:revision>
  <dc:subject>The Source, song number 354</dc:subject>
  <dc:title>Men of Faith (Shout to the North)</dc:title>
</cp:coreProperties>
</file>