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14FD-F231-47AD-AA8C-3CC60835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6138-C443-4B82-8669-2A6D4B3E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7BB7-ACC1-49D6-BA15-EE1061F4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A44A-54B6-415C-9B06-4ED8DBA4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C0EB-5233-4D6D-B69F-94037CA2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3051-FAA9-4D7D-A7CC-FF04D7AA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CD3A-C435-4EAA-8879-222F6CE6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FF86-0AED-4B26-80E5-F82015EB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A4F7-5059-4911-ADF5-DF4E34EE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C4E1-F31E-42A7-8E66-D691F35A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E868-4F9D-479B-9565-88DF7F0D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7BBA-41E5-469C-B6D1-A75A99AD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2F833-397C-459D-A0D9-603CBA30F18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, де один раз Спаситель м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ертву приніс на вівтар свят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лодкий спок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ь вс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крові свят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   Там, де один р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 я дивно спасен від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приносив я за гріх коз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кров Ісуса мене спа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р прине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ь вс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крові свят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, джерело живої в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и всі мої труд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мною насаджені с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лідними бу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ь вс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крові свят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ийте усі з джерела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о ходите шляхом Й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раз заспівайте хвалу Й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 любові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ь вс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крові свят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6:07Z</dcterms:modified>
  <cp:revision>13</cp:revision>
  <dc:subject>Slavic hymnal Гимны веры христиан, Ukrainian hymn 11</dc:subject>
  <dc:title>Там, де один раз Спаситель мій</dc:title>
</cp:coreProperties>
</file>