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6B5E-A9C4-41A5-B07D-89B066314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2AEC-45EC-4E92-811B-B994A0BB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7028-A6C1-486F-ABE5-6B7EBE9D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CC86-C74D-49F7-B4FA-3E3D00C23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F141-08B1-4C8E-9BEA-2BB0E357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7CEF-F4F4-47DE-9717-98CEFDF3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FC31-2AF3-48DD-AC4D-9505581A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C0DF-34CB-45B7-95ED-47235F59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D42E-3F53-4102-937F-10A1B078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352C-1D47-4976-9174-5966F33B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3B56-03D3-46B6-A868-7D0C3D51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C231-C8B6-447D-BF38-639861BE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EBD180-35BC-494A-BABC-C010C2CF5FB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hall reign wherev’r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es its successive journeys ru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kingdom spread from shore to sh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moons shall wax and wane no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уда доходит солнца лу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доходит солнца лу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ет царствовать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ступит вся земля в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еки будет Он могу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 the islands with their k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urope her best tribute br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north to south the princes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pay their homage at His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сех народов и плем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Его ногам снесут да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удет знатными почт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б зайдёт в Его дв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im shall endless prayer be m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ndless praises crown His 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name like sweet perfume shall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every morning sacri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молиться будут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ой главу Его венч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ой славе и кра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ними будет Он си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ople and realms of every to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well on His love with sweetest s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nfant voices shall procla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early blessings on His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анет бурь, уйдёт гроз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роды мирно зажив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малолетних гол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«Осанна» вос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He displays His healing p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th and the curse are known no m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m the tribes of Adam bo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blessings than their father 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целительных лу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гаснет смерть, исчезнет стр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ольше даст людским сы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потерял тогда А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ings abound where’er He reig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risoner leaps to loose his chai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eary find eternal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the sons of want are bl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ловений полн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ё живущее прол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цепи рабства разор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гонит ложь и су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7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every creature rise and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grateful honours to our K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descend with songs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arth repeat the loud “Amen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— хвала от всех жив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отдалений, из пустын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енье ангелов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земли услышится: «Аминь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7:46Z</dcterms:modified>
  <cp:revision>12</cp:revision>
  <dc:subject>Slavic hymnal Гимны веры христиан, hymn 833</dc:subject>
  <dc:title>Jesus Shall Reign / Куда доходит солнца луч</dc:title>
</cp:coreProperties>
</file>