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B0E1-951C-4AF4-ABB7-A4EBF206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FFC-6031-4AD8-B24D-45B39D2D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5A2F-5E7E-4F09-A899-90A0E1B1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427-03EE-450C-92B2-99A44041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45F7-8F22-4655-B371-EAF2610F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1C0-5409-4F47-B6F3-6E02E313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035-EE23-41E6-A27C-D196506C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0AAE-0D9B-41AD-BF9D-9AC3EC40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B4F9-801C-472B-8D6B-BDB56B1E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972-CDA8-4500-A8A5-13FCC2EF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A7D-D249-4E8B-BA66-DC4C622F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BA7-C074-4260-91D1-79D89251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B4A16-732B-4D15-B86F-5FA80A0F3EE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ди почести и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, Боже, к небе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руден путь борьбы крова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ю я Твоим сло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вой я воин, Боже пра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Тебя иду я в 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, нет больше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до почести и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ради почести и сла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ди вечного пок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, я, Боже, к небе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среди дневного зн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яжело моим ру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руд Твой — духу наслаж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приносит мне с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е сердцу утеш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Твой раб нашёл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ди благ обетов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, Боже,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ал мне радость раская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ал забвение грех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ызвал к жизни обновл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, любовью ос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ли думать дерз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овых благах для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ди вечного блаже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, Боже,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чтобы песнью соверше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ть любовь к Твоим раб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чиста песнь моя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рывается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ам польётся в сени 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достойною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2:38Z</dcterms:modified>
  <cp:revision>12</cp:revision>
  <dc:subject>Slavic hymnal Гимны веры христиан, hymn 454</dc:subject>
  <dc:title>Не ради почести и славы</dc:title>
</cp:coreProperties>
</file>