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615-2E6B-47F7-B613-AA685991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FFA-44E6-4B2B-A262-6BAB73A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C6A-066D-409F-AB52-A6DA82B3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C77-CCFB-422B-B94D-A118C0FA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FF5-3C64-490B-9AB0-433A679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7BE-B416-41B1-A94C-5895239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CB9-A694-45EF-9EA2-2B2C8861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BD4-1B6C-481E-8784-7A4FE6D6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B74-AA8F-4870-A371-71C797E5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D7A-FBB1-4500-A5AD-0A47717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98A-21E1-4F27-8AA4-0B6CD6E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CF0-7B12-4E99-918A-849C758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595F-2E09-4133-9620-C58048B3F7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soul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wi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! the Father meet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ing His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and’re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reconc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a soul is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sinful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s born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feas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swell th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st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joyful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it far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precious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2Z</dcterms:modified>
  <cp:revision>14</cp:revision>
  <dc:subject>Slavic hymnal Гимны веры христиан, hymn 589</dc:subject>
  <dc:title>Ring the Bells of Heaven / Радостную песнь воспойте</dc:title>
</cp:coreProperties>
</file>