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6145-B16D-45FD-AF67-56D9D7527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EE1F-67B7-4B3A-8CCC-40A68DA2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DBFE-3045-4F9D-8A00-7C4F54E0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9D5A-2064-4BCD-94FC-59C8CBA5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EA33-C80D-4301-B896-C91CC468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CFF4-5550-4903-84E3-3DD1BE01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3DA3-14E2-49E2-9DB5-533A7CA5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B2B6-9908-4471-96E8-0F162F7D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88D5-C796-44E9-9648-960EC7E1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3340-F542-4A6C-87E5-C55AA5C1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6152-9ED3-4251-B92D-BDF4F905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E85D-4B2B-49F1-9209-EA8D87B0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68590-1EB8-4389-8C7F-0D35680F914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tand amazed in the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the Nazare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onder how He could l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inner, condemned, uncl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9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егда удивляться я долж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удивляться я долж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, что нас возлюб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я был неправды исполн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ы кровь за нас про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 it was in the g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ayed: “Not My will, but Thin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ad no tears for His own grief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sweat drops of blood for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т за нас в Гефсимань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ец, воля пусть Тво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претерпел Он стра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ранах жизн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ook my sins and my sorr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made them His very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bore the burden to Calv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uffered, and died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ангел от Бога нисх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, чтобы подкреп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рьбе Гефсиманской сур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должен был я стра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ith the ransomed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face I at last shall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my joy through the 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ing of His love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на небо преб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Христа уз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что Он грешников люб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 я гимн с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6-11-06T11:21:42Z</dcterms:modified>
  <cp:revision>12</cp:revision>
  <dc:subject>Slavic hymnal Гимны веры христиан, hymn 904</dc:subject>
  <dc:title>I Stand Amazed in the Presence (My Saviour’s Love) / Всегда удивляться я должен</dc:title>
</cp:coreProperties>
</file>