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7C7-612F-46D4-AD37-3E189829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658-421C-4F94-A87C-D376AECB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9D1-FDE2-4E06-8418-50BBFB2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DA6-3BBE-49C4-9B4F-9FD12BEA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AE3-7641-44A7-BC19-3AB1F811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3A2-627A-4F1C-9A44-38C6117C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B72-D7A2-4C48-BE99-3BC5E8F3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01C-108F-4C50-AFF1-41A07508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B7A-2410-44C8-A6A6-5047A5C3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786-0CAF-4D0D-AAE3-5EF119CF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1AF-3684-4B76-B001-7F37DCC0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745-BB66-4693-B287-6EB6475F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22B14-B893-4178-BA4F-5D7967B204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58Z</dcterms:modified>
  <cp:revision>12</cp:revision>
  <dc:subject>Slavic hymnal Гимны веры христиан, hymn 863</dc:subject>
  <dc:title>День за днём</dc:title>
</cp:coreProperties>
</file>