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80C-4445-4C8C-BCCA-5ED56F2F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CD6-98E0-4DDC-A796-C52C0FB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E35-4F8A-45F7-A6CB-8845181C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E06-AE81-4BCD-8FE9-336EE032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481-3955-41A9-8686-1791FEA1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4C6-FB5D-42B5-BEC6-3B1FE15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933-B1F5-4E0B-B5F7-02F4E1F9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9CF-0CFC-43ED-831D-083541E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9DF-4BF8-4CCA-9157-99234F08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103-8CF4-4E58-8823-0048554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45B-31B2-480B-9220-1D2D4AE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714-690A-458A-8E15-945B5B9B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5ECC2-4528-4A93-A32E-2D81862CCC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ros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bought our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pa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ling river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0   Through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ind up wounds within our h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e husbands and w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the fathers’ hearts to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down walls of iso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 those who live in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lonely find love in Your fam’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church rise up as on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the streams in one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ng and old will stand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our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4:57Z</dcterms:modified>
  <cp:revision>11</cp:revision>
  <dc:subject>The Source 2, song number 1020</dc:subject>
  <dc:title>Through the Cross (Healing River)</dc:title>
</cp:coreProperties>
</file>