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25B0-E16B-4450-9589-1A0B7307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BBAF-5964-4B99-AE51-C0A71FE1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BBFF-57D6-4C15-9F67-AA9D9B51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AA70-23AF-4AD5-9053-56A56792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E9EB-BCDA-4AC4-A094-0C5017C4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92EC-C510-4BD2-A832-CF2F3152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85D8-C120-490C-A393-802A21D5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212E-9CAE-4911-988D-3E57894D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DBE0-1582-4648-AEA3-F29561BD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7CFA-1C87-4452-9912-736B7F95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7A6-2DE9-45E8-B4DB-BF6DC64B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3178-98EB-4A90-A602-F7A8AC1F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F2764-4269-496E-B253-156A8B98246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, ye saints! The sight is glorio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the Man of Sorrows 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fight returned victori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knee to Him shall b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мотрите с ликовань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те с ликовань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ж скорбей непобед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щается в сия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клоняется пред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, crown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, crown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s become the victor’s b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s become the victor’s b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the Saviour, angels, crown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ch the trophies Jesus br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eat of power enthron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vault of heaven r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, венец несит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ршив спасенья тр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рестол вступил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а хвалу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, crown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, crown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the Saviour King of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the Saviour King of k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ners in derision scorne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cking thus the Saviour’s cla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 and angels crowd aroun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read abroad the victor’s f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нчали люди з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нием Христа г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и все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ют честь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, crown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, crown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read abroad the victor’s f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read abroad the victor’s f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, those bursts of acclam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, those loud triumphant cho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takes the highest sta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at joy the sight aff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гимны ликова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хор небесных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Царь мироз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Ему всё поко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, crown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, crown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kings, and Lord of lo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kings, and Lord of lo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51Z</dcterms:modified>
  <cp:revision>13</cp:revision>
  <dc:subject>Slavic hymnal Гимны веры христиан, hymn 297</dc:subject>
  <dc:title>Look, Ye Saints, the Sight Is Glorious / Посмотрите с ликованьем</dc:title>
</cp:coreProperties>
</file>