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974-6AB2-4CFC-AF3A-48B33E08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871-F9C8-4C26-B272-BB84E34D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7B8-7D9B-41EE-B0C1-BD8F20B0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A4A-921A-4389-9BF5-4172F6FB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FCB-0237-46FD-9EC3-747B3090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84C-2406-4E3D-87AF-D28AF310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AF7-8DBF-4240-93B2-325595D4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BF80-547B-4822-90D1-A3FF2815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36D-0CAA-4F6F-B591-30CB03CD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363-C36C-4239-ADFE-6C5654A0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35D-ACC4-4DFA-91B6-F8AECDB7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F43-53F0-46BC-9BE0-7C4C25F7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30381-2CC6-47B3-83C1-2827F0C052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,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freely g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ver love and trus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presence daily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Иисусу отд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Ему принадлеж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пованьи и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Его хо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umbly at His feet I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ldly pleasures all forsa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e, Jesus, take me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ладу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у отверг зем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сь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,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me, Saviour, wholly Th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feel the Holy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ly know that Thou art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хочу Христовым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Предвечный да на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Христа, Христа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,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give myself to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me with Thy love and pow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y blessing fall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храм во мне соз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ю и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 и сердце наполн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 feel the sacred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joy of full salv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,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 Он во мне сверш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дал святу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 Бог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52Z</dcterms:modified>
  <cp:revision>12</cp:revision>
  <dc:subject>Slavic hymnal Гимны веры христиан, hymn 547</dc:subject>
  <dc:title>All to Jesus I Surrender / Всё Иисусу отдаю я</dc:title>
</cp:coreProperties>
</file>