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8DF-9946-41C2-AE87-72425FD7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3DD-4D47-4E4D-999F-DA0E18E4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A81-CC4D-469C-B37B-2817B155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A24-1A1C-4EDE-9C91-3D6B0E16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240-276D-47D6-AF95-A9DB756A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404-F527-4879-97BE-7C5077A8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CDF-CC85-4A5E-BDEF-664D52FA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3CC-E052-4576-828B-38B6FF9D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BDC-2EB3-4A47-9397-BFDBD3E1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1DA-2DD2-49DC-AD35-E8E6F357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CAC-1EFD-46AA-A039-BD6AC03A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CB7-2304-49ED-9258-331853F2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745AC-ADDB-4022-8BBD-B549B62EFC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ди, друг, жизнь бесп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, как пар, она пр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мира скорот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мерть к теб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у минуту вдруг исчез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 мира, и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сть смерти в ужас вверг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м ты найдёш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веди, 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кажутся ничто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твои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ешь, к цели лож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знь твоя те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не будь же, друг, беспе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стигнутым враспло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Его тогда уж ве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верен в слове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зовёт тебя, поверь 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в любв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ты открой теперь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уверен ты в прощ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верь Христа слов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обрёл тебе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н смертью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лёт тебе от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ре — счастье и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затем наг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рай введёт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9:59Z</dcterms:modified>
  <cp:revision>12</cp:revision>
  <dc:subject>Slavic hymnal Гимны веры христиан, hymn 366</dc:subject>
  <dc:title>Не веди, друг, жизнь беспечно</dc:title>
</cp:coreProperties>
</file>