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6B8-721B-4DEA-A65C-A1E66CCB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FB1-E8E9-40FE-948C-0F878E94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AA3-43FC-4DBE-BD7C-52E1FED0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2D6-FC31-4CAF-AA91-62A91D57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1C6-3CC9-436F-9E75-ECDB424D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537-D46C-4D0C-A285-63311EE0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18AE-6BB3-4C45-AF52-BC1124B0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D40-8FD6-45F7-837A-9897FAF4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4A8-826D-4253-8C8B-93D8F78D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848-A8D3-44B0-B45D-CD6D09F7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61A-3A6C-47FE-8799-30A4027A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23F-9D8A-4780-B0C3-BE64F21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1AD45-B0AF-48DC-97E1-8615D64B2D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ake up thy cross and follow M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d my Master s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 My life to ransom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render your all to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Возьми свой крес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свой крест, иди за 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за тебя перед тол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ко кресту приб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ollow my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closer to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ought His will to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that will I now ab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приблизил Он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и снял тяжкий гн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послушным бы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ти, куда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ollow my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y be through the shadows d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o’er the storm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ake my cross and follow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яд скорбей иль смерти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урные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крест за Ним я вслед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ни вё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ollow my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, my life, my all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my Master, Lord and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ердце, волю, жизнь мою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я от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Спаситель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х и пл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ollow my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8Z</dcterms:modified>
  <cp:revision>13</cp:revision>
  <dc:subject>Slavic hymnal Гимны веры христиан, hymn 433</dc:subject>
  <dc:title>Wherever He Leads, I’ll Go / «Возьми свой крест, иди за Мной»</dc:title>
</cp:coreProperties>
</file>