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8</a:t>
            </a:r>
            <a:r>
              <a:rPr b="1" lang="ru-RU" sz="3600" spc="-1" strike="noStrike">
                <a:solidFill>
                  <a:srgbClr val="ffffff"/>
                </a:solidFill>
                <a:latin typeface="Verdana"/>
              </a:rPr>
              <a:t>	</a:t>
            </a:r>
            <a:r>
              <a:rPr b="1" lang="ru-RU" sz="3600" spc="-1" strike="noStrike">
                <a:solidFill>
                  <a:srgbClr val="ffffff"/>
                </a:solidFill>
                <a:latin typeface="Verdana"/>
              </a:rPr>
              <a:t>Восхвалим мы Творц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схвалим мы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цем, и уст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ит Он чуде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ас, и перед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чала наши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аступивш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Щедротой Он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огащает на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 будет Он для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ительной отра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правит нами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астырь среди ст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не остав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илостию впре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 утеш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начнём скорбе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вала и чест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ава благост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Отец и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 всегда и 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ильный Бог,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ут сердца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них — в Тебе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 отрада их.</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6:47Z</dcterms:modified>
  <cp:revision>3</cp:revision>
  <dc:subject>Slavic hymnal Гимны веры христиан, hymn 88</dc:subject>
  <dc:title>Восхвалим мы Творца</dc:title>
</cp:coreProperties>
</file>