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235-AB50-43D6-B166-70C59530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D5C-704A-48C9-B2D7-5E42627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3A8-26BB-466B-912F-5A986579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5EC-D2C7-45AD-899E-59C57D8A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1C5-C49D-47DE-8A38-CC19354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1BE-566B-422A-812D-94BCD66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0E4-0C20-42E2-BD2A-8EE0AFD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E84-9DFC-43B1-A3A4-AAD928D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2DD-C80D-4CE8-9CF7-F05098BF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CF5-0122-4513-B70C-1BE27879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3C5-BFE5-4B4C-9DFD-A8FFEE6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AE9-D695-4830-B75F-0C4B7B74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7823-024F-4376-BCDB-868466A9E7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38Z</dcterms:modified>
  <cp:revision>14</cp:revision>
  <dc:subject>Slavic hymnal Гимны веры христиан, hymn 902</dc:subject>
  <dc:title>Велики и чудны дела Твои</dc:title>
</cp:coreProperties>
</file>