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160-6469-4786-A1AB-3DCBB700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2A1-F39C-4233-ACF8-8A172FE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B83-9D96-40D5-B19E-B54A1724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6E6-CC36-48D7-9714-9134DE2C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29C-6577-4177-BB26-281F0E0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F08-6506-4584-82D1-1D57905F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C25-0137-49AA-BB2B-A9B8C864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B11-D615-4D66-9B78-852C208C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232-B5CA-4987-A718-B8A0280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16D-F79D-4306-8CCC-9E50C25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CF5-A319-41C2-9FB6-35DFA5A5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CC6-EE69-4546-BC8F-AE98C47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1927B-DF0F-4966-8517-D294A26265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угроз, не муч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звёзд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й дом и мир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спасённы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нет угроз, не мучит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земной ликует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река живой в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чистотой сияет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а ждёт за все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ший день взойдёт свет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ит Бог хвалой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родных,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айдём у но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08Z</dcterms:modified>
  <cp:revision>12</cp:revision>
  <dc:subject>Slavic hymnal Гимны веры христиан, hymn 812</dc:subject>
  <dc:title>Где нет угроз, не мучит страх</dc:title>
</cp:coreProperties>
</file>