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0F2-2063-4A80-A3A0-F2984CBD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FF1-C415-4F78-B755-61F96706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374-C909-4C17-9FC3-9D8DB6EE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B29-7506-4ACE-B524-5BA45DB7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8BA-37E5-456F-B7E6-4E5F9082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EE9-B57D-461A-B224-D4C084E0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8BA-09C2-4667-A0AF-FA12F4E6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1EC-F70E-4341-8F70-0A9EB9EF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678-6456-427C-9F2A-928F58D7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269-1C02-46F2-8CF9-7A89D1CE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EAF-C01D-4469-8129-0864250B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682-7ED1-44E0-BC5F-D4DE8AD0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223E9-65D6-4B9E-A9DF-55D00A2940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as! and did my Saviour bl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id my Sovereign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He devote that sacred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inners such as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ше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еленья защи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щь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body slain, sweet Jesus, T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athed in its own bloo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firm mark of wrath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oul in anguish st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ь провозгла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Бога Сам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 меня, дал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might the sun in darkness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ut his glorie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Christ, the mighty Maker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an the creature’s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не стыжусь н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честье з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 незнающих прос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кресту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might I hide my blushing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His dear cross app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solve my heart in thankful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lt my eyes to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ст Он постыдить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оставит на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drops of grief can ne’er rep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bt of love I o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, Lord, I give my self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all that I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, что мне Он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ёрже, чем крем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бережёт по сла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Ему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3:46Z</dcterms:modified>
  <cp:revision>13</cp:revision>
  <dc:subject>Slavic hymnal Гимны веры христиан, hymn 628</dc:subject>
  <dc:title>Alas! and Did My Saviour Bleed? (At the Cross) / Я не стыжуся возвещать</dc:title>
</cp:coreProperties>
</file>