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115F-CC59-4AE1-BA21-E70D8D27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9C03-478C-426C-B05F-8503DFB9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14E-972C-4E9B-A43B-8DE7EB95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B69-2F79-4BB6-A29F-D87C4E6A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0B6-EE6D-41CC-9195-6AE5F39B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C17-7291-466B-B3DA-95B359DF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017-FB46-4BEC-AE99-CBB033F4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1D1D-DDD6-4823-B706-46715AC6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F3EB-CD64-4B9F-BA81-C24F19FD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125-AB3B-493E-A80F-E8075559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27D-F099-404B-B005-73850615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9AA-BD19-4414-B11D-2873EFB7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DE1D7-71A0-42B0-BC5B-E37C0F20081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ово дорого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жизни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то в нём свят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о благ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ю иль стра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мненья ли вп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зов: «Прийди!» услы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у я ко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слово дорого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отд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иг не удаля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ник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ы! Я один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ен усто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ухожу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льну к Нему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ки к Себе Ты мощ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изко дай приль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й и в час полн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мне усну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й чрез все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стречу я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 земные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радостно ид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7:16Z</dcterms:modified>
  <cp:revision>13</cp:revision>
  <dc:subject>Slavic hymnal Гимны веры христиан, hymn 370</dc:subject>
  <dc:title>О слово дорогое!</dc:title>
</cp:coreProperties>
</file>