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8B8-1D0E-440E-B9F5-E15B538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AC1-4673-486C-AFD9-7F427F3A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F8C-6AAB-4434-846C-BAF6DDD7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721-A47E-4893-BBCB-53775240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5A4-DD10-4DF5-9178-1A1641C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0A6-8360-41D9-9D57-2F9D41BC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203-5313-45D8-A11A-652BAD2C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6EC-AC69-41E3-B531-ECF81E4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C3E-E384-4920-86BF-67A27A7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A31-295F-42F0-821C-AE64E327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978-5C68-4C74-98A2-3047E7A8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345-4703-4C9A-81C6-C425DAD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AC523-BFE6-4BD3-BC5A-8BAA3D274B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23Z</dcterms:modified>
  <cp:revision>12</cp:revision>
  <dc:subject>Slavic hymnal Гимны веры христиан, hymn 877</dc:subject>
  <dc:title>Кто из вас Господень?</dc:title>
</cp:coreProperties>
</file>