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FA1-09B5-492A-94F0-63E55578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BCA-13E0-48A2-9783-7BF1E747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BF54-09D5-4A34-8C8C-EFA187E2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87AF-B212-4C8D-A486-EA3F7AB2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EF5-F968-4B62-919C-9ABE8600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BDC-ADD0-4C9B-8D10-150152E7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197-F154-4A18-A5D8-5406C0AB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A58-82CE-4836-A5C8-F884D60E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561-A25E-420D-A134-8D6F041F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56E-DC77-4777-9A23-5196F8A6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79F-2FE5-4347-A8B3-1025D6AD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E80A-7B91-4A3D-AB05-D92D8863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7F876-8CF8-4DC9-B22F-3B7EFA80F3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e-hearted, whole-hearted, faithful and loy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King of our lives, by Thy grace we will b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nder the standard exalted and roy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rong in Thy strength we will battle for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ными сердц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покорными сл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Твоими нам хочется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у Твою сделать жизни ос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Твоею врагов побе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Silence it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 of our spirits, rejoicing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Loyal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our lives, by Thy grace we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e-hearted, whole-hearted! Fullest alleg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ielding henceforth to our glorious K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Valiant endeavour and loving obe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ely and joyously now would we b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отдавшими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имеем, Владыке влады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м трудиться, творить Твоё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чтоб славить мог всякий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Silence it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 of our spirits, rejoicing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Loyal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our lives, by Thy grace we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e-hearted, whole-hearted, S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-glorio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ake Thy great power and reign there al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our wills and affections victorio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ely surrendered and wholly Thine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смиренными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станем, когда Ты во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воцаришься, излечишь неду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удалишь, самолюбье и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Silence it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 of our spirits, rejoicing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Loyal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our lives, by Thy grace we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3:43Z</dcterms:modified>
  <cp:revision>12</cp:revision>
  <dc:subject>Slavic hymnal Гимны веры христиан, hymn 874</dc:subject>
  <dc:title>True-hearted, Whole-hearted / Верными сердцем, покорными слову</dc:title>
</cp:coreProperties>
</file>