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F88-D236-448D-9E8B-4E65987E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90D-8D5D-4317-A792-364F5683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07B-9CD9-44CB-8EB2-8BC922DC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36F-D556-4C30-81B1-73DBA788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F4B-10A6-4CE0-B3AA-878D1AD2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545-94B2-4E69-A020-FAEBA3EA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672-82DD-4537-8157-8E9652EB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432-1486-4EDD-A994-2D95CD14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1D9-9A3F-4B26-948E-10BEA948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08D-DF8F-43A9-B1A4-A0CD4316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63D-5476-4E30-93DD-BF3B9D4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675-D424-452E-B58F-FB1FDAB9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B867A-11F2-4AD7-B239-6EF26E03EE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onsuming fire is in Your ga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want You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follow You all my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no one else in history is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tory itself belong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pha and Omega, You have lov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hare eternity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3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ll about You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is is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glory and Your f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 abou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f You should do things 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urrender to Your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10Z</dcterms:modified>
  <cp:revision>11</cp:revision>
  <dc:subject>The Source 2, song number 837</dc:subject>
  <dc:title>Jesus, Lover of My Soul (It’s All About You)</dc:title>
</cp:coreProperties>
</file>