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968-8463-4C48-AA9E-F9A50611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616-0697-47D0-B353-777A5DCE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C78-C622-4C49-A2D8-CAEB00D2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83C-4351-4659-B30C-0C8EEB6C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70C-37B0-4BE5-97C0-B956581C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4F5-3F9D-4D1C-8139-C0B3DF5A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E10-2AF6-4BB8-8AF1-84C9EA98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357-4039-420B-8A55-DC1F9DBE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541-959A-475B-B2BE-DB39AB6D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3D2-69EA-48D9-9BED-6904650F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BE2-B0DA-4E1E-88E6-DEA024D2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5D4-DD0E-485E-B9D9-D0DCAFA7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E3642-052A-49ED-982F-9106C2E9C2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престанно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мудрость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лишь об од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удрости учить и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жизнь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всяк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музыки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усталым тиш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от о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всякую в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ая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хой, внимай! Немой, хва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тесь все у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пой, прозри и сла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у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15:22Z</dcterms:modified>
  <cp:revision>12</cp:revision>
  <dc:subject>Slavic hymnal Гимны веры христиан, hymn 872</dc:subject>
  <dc:title>О, если б сотни уст иметь</dc:title>
</cp:coreProperties>
</file>