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019-A8FA-4134-A456-4C379CEC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36D-B906-4FCC-A3AE-7848B3CC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A74-24ED-46B3-B554-2F1FA781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0A5-9E16-40EA-9966-EC429A71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1C8-59C7-46EE-837E-C6AC2EA9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612-5530-415F-8595-B81054B6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2D6-6CF2-4BF8-B787-09676642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821-0D98-4F72-BEA4-D04F9038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3D3-5756-41E5-87BC-DF930EB5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11B-22DA-48F7-862D-BCBC0B8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3F8-89B8-4F6D-A3B1-0F92EA32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8D3-A01E-44AB-B293-8F334EEE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A3493-963C-46AB-9453-E064F410BE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ко люблю я, Иисус,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припал я к груди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 нашёл я, там мо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пко люблю я, Иис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ко люблю я, Иисус,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че же дружбы нет, как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состраданья, миром све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Твоё я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простишь мне, если споткну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тешенье; гимн мой —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— Друг не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Тебе Сам сделай дух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люблю я сердцем, ум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смирился: будь мне Цар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люблю я, вечно Ты —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иль смерти духом я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48Z</dcterms:modified>
  <cp:revision>12</cp:revision>
  <dc:subject>Slavic hymnal Гимны веры христиан, hymn 785</dc:subject>
  <dc:title>Крепко люблю я, Иисус, Тебя</dc:title>
</cp:coreProperties>
</file>