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71E7-F14E-4B28-A387-4A6627B29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CF07-8295-4895-8E70-4774AA52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0216-DEB7-4E70-8F67-6B11A6AC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0DA1-7DFA-4533-B512-7FA60B665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EF56-B773-4368-8630-3B52A7B8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E9F8-4874-4389-8DD6-67319D5E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D3E4-A8C1-4EEF-9A34-74D6D385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E369-B3B3-4B13-B599-586C7636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3805-5C30-473A-9BFD-DCDCF63C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9219-EFE9-4C24-9B4D-2BFCEF29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3483-4968-4D57-A492-175FDF6D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FF6B-B6E8-46A1-82C3-BDC7AC48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B3DE8-FCF6-451E-8028-9E69932C07A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for the Lord our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Almighty reig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for the Lord our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Almighty reig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us rejoice and be g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ive the glory un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for the Lord our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Almighty reig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32   Hallelujah, For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5:49Z</dcterms:modified>
  <cp:revision>12</cp:revision>
  <dc:subject>The Source 3, song number 1232</dc:subject>
  <dc:title>Hallelujah, For the Lord Our God (Hallelujah, Our God Reigns)</dc:title>
</cp:coreProperties>
</file>