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2F3-8892-470D-8421-05891F68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F88-9C4D-4AD1-AE5C-223D1F3E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96B-3E84-480C-9C85-ACD8F48B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A27-63BE-4849-84F6-3D792CA4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3CC-757E-4D76-8943-DB08435D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4A9-7B1F-4BF7-BE9C-C53D6CF2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5B9-264C-4334-BE5C-BEBA0377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156-10A6-4518-803A-0BF55697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092-9FCF-478B-ACFE-5714D82B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476-C498-4127-97A6-96C0040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86A-992F-4119-B83A-809693E4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FD4-0196-4AE8-8FE9-2C0FED69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29581-4B3A-4CD0-B236-BC25F07C6C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, о гре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счаст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к тебе поспе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мир пошлёт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а   Призови Христа, о греш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отца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свят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им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сердцу м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зла лишь им креп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земную т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ри имени Христ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желанный мы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бе славном, н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сим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10Z</dcterms:modified>
  <cp:revision>12</cp:revision>
  <dc:subject>Slavic hymnal Гимны веры христиан, hymn 713 (as amended)</dc:subject>
  <dc:title>Призови Христа, о грешный</dc:title>
</cp:coreProperties>
</file>