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47C-335F-42E7-B7AB-94F9D994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CAA-120D-414E-9F7E-52DC32DC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B43-C753-4956-91CE-FF991067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3B5-856D-4741-9983-D0194CE9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1B7-AC05-487C-BFCC-385FDF4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F20-0751-4536-BDBB-FBB3563D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3DC-3290-4A1F-AB30-45E9BDD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783-7803-49F0-89C2-6DA9F03E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70F-23E3-4421-AAAF-83E783A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30C-A816-4ACD-A054-4885211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CB3-452E-4B16-AEAA-6436C37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861-BDB5-49D8-9627-9C2B44B9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FCAA6-7270-4F3F-A04C-BBD8B1831D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робиться на сер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глянеш ти навкр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их людей, що спокус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ши про Бож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не підеш ― всюди бач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н на батька повс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мати гірко, гірко пла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робиш ти, дитя мо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0   Як тяжко роб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іж братами нема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діти батьк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любові ― скрізь розд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правди ні в 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залиш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вий запові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призаб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илась кров Його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ди, люди, схамені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йтесь, до Христа прийд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ього сили набер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віт гріховний пр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58Z</dcterms:modified>
  <cp:revision>12</cp:revision>
  <dc:subject>Slavic hymnal Гимны веры христиан, Ukrainian hymn 60</dc:subject>
  <dc:title>Як тяжко робиться на серці</dc:title>
</cp:coreProperties>
</file>