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742-BB42-41D0-8749-EEC09BC7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5B1-40E1-4C62-B13A-23101619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FEA-85A4-4723-A524-C2BB9457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1A8-1E63-47DB-A69C-1F04CCAD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2FC-873B-4F10-A268-D8AA63A2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28B9-4A84-44D3-98BA-A77F750B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CA3-E083-48FF-ACAE-B2E52D93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E32-6745-4CA7-957F-94D5661C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C5A-D9B5-40A5-882A-59F1879B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443-56CE-48A0-943E-C6741CEF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CFF-3845-4EC6-ABDD-92ED9DD9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FA8-32C4-4740-A6BC-AAE8F2FB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E8946-BC97-4E32-B374-D9179F3248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лишь песня о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дости льётся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, как живая вол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сердце лишь песня од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л мир страданьем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лг мой Себя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 миру лекарство от слё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Иисуса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р в изобильи мне д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ре любви ощу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пребыва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рибегает ду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ир я вкуша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45Z</dcterms:modified>
  <cp:revision>12</cp:revision>
  <dc:subject>Slavic hymnal Гимны веры христиан, hymn 582</dc:subject>
  <dc:title>На сердце лишь песня одна</dc:title>
</cp:coreProperties>
</file>