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22B-29FC-4401-8AB2-6BCA35FC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93B-1A4E-44DF-AB03-D7A9E0C9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9C9-A2EE-482E-988C-E27D89B6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DC5-CC42-4191-BFF4-FCF21B9E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BA7-CD77-4238-B5ED-52D4C52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BB6-9072-4622-B5D8-0ACE061C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608-F746-41BD-A312-5C0F3F0D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072-51A5-4CC2-89E4-E9F215FF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C8D-EF0C-4F94-BEBB-4BEFDB6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7A5-68C0-44BF-95BE-C4D6D5C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76A-79B2-44AD-B71F-6D8C6A87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74C-351C-4F7A-ABFC-795E365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5EB02-6400-439A-9EAC-EFA358292B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has garments so wondrous f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rrh their texture fil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ragrance reached to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my being thr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fe had also its sorrows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oes had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 think of the cros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yes with tear-drop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arments too were in cassia d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a to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ime my feet in some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sl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e from its clu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arments glorious He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pen wide the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my heav’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well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53Z</dcterms:modified>
  <cp:revision>12</cp:revision>
  <dc:subject>Slavic hymnal Гимны веры христиан, hymn 837</dc:subject>
  <dc:title>Ivory Palaces / Хитон бесшовный</dc:title>
</cp:coreProperties>
</file>