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AF6A-6426-418B-840B-166419B35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B0BC-3843-45C4-9727-201C6F76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7F90-EC62-4608-B0FB-BD7DF239B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D5FD-1599-4E00-99BF-2A34CA7CC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607E-C8DD-471B-B506-AD89276F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C415-02E2-457D-BEF7-19BBA5EA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A9DB-1BDD-407A-AC20-50CB5E97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279F-AC55-44A7-A55C-182C930D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6550-5250-40A7-9247-D0ECCB30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1F2E-A540-430F-A4FC-2EF005E7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84B8-1F99-4E00-958E-2D2B2E59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F961-4ADD-4032-8675-986DD596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45B46-6B94-4950-8579-3C0216E00AD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se up, O men of G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ve done with lesser thi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heart and soul and mind and str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erve the King of k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2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спрянь, Христов народ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, Христов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 смелей гля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 разум, волю, сердце,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посвя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se up, O men of G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kingdom tarries lo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ng in the day of brother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nd the night of w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, Христов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ря уже вз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братства смело возвещ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йся силы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se up. O men of G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hurch for you doth wa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 strength unequal to her task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se up, and make her grea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, Христов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церковь мир гляд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й труд ей предсто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место в ней займ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 high the cross of Chri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ead where His feet have tr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brothers of the Son of M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se up, O men of G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 подвиги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иди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озни, хитрости вра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Христом мы побе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18Z</dcterms:modified>
  <cp:revision>13</cp:revision>
  <dc:subject>Slavic hymnal Гимны веры христиан, hymn 524</dc:subject>
  <dc:title>Rise Up, O Men of God / Воспрянь, Христов народ!</dc:title>
</cp:coreProperties>
</file>