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068-8C98-4FC6-911C-635AA45E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263-ABBB-4D62-835F-22AC6A3A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61E-9FBA-4EE1-B1D7-30904AFA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A85-479C-45B8-B50D-40B66E06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EC3-3B6D-4B25-B26A-F14B6850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FD4-0A41-4D0A-9514-65B9D875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7D2-0095-42AA-B46C-15408D3F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0A0-5828-4E4E-94EE-1517B5B4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783-74F5-479B-8CE8-328B3564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3BF-64D8-4A98-AC9D-E0BA72C2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0BD-68D4-404B-8677-80A546EA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E3D-1AF8-4185-A126-92719876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D290F-CADC-4446-908F-D3C61D6F2D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lt me, moul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, us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Spirit of the Living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16Z</dcterms:modified>
  <cp:revision>10</cp:revision>
  <dc:subject>The Source, song number 462</dc:subject>
  <dc:title>Spirit of the Living God</dc:title>
</cp:coreProperties>
</file>