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EA2-475B-464A-8563-BD2E4A74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876-5412-48EA-BF35-FD4DFDD6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3CE-9C1C-4D7A-BF85-B88D1641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A3F-1F3F-476D-B83A-94867F99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D4B-F629-4D8C-94B9-FCA66A28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223-5F77-4D12-95EA-986E6C7C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C55-F82B-4CFD-947B-E5FF563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62E-982C-4E63-8BB3-68511D0B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092-DB95-4802-9EAB-07B02D14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A26-EFF1-4A93-BD23-5921D033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FDD-F22E-47A2-A402-ED26502A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738-6009-4BA9-8BD7-354F560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46469-977F-4EFA-8D3C-99CB9DB78E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нас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всегда с Ним в союз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ю купил нас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 мне, скажи об Иису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н даст над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олько Ему покор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арствует в сердце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оро вернётся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быть послушным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царстве Ег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47Z</dcterms:modified>
  <cp:revision>12</cp:revision>
  <dc:subject>Slavic hymnal Гимны веры христиан, hymn 422</dc:subject>
  <dc:title>Скажи мне, скажи об Иисусе</dc:title>
</cp:coreProperties>
</file>