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A1025-4977-4590-9D10-76FB2B4E2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55169-14BD-492E-A189-4213AD192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E25AF-ABE1-477B-A4D4-4D60531F8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A5E22-0834-471F-9A50-55F55A533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9514E-2431-41AA-98C3-B8976A85D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252D6-821A-4C36-96B9-DB5ED4732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C2B54-C110-4A82-9309-F8D991C6A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B8E24-B20A-48F9-9249-24BF65C47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ACD72-569E-4F03-AFFC-2C08669C3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CE94F-81B1-44A4-BDEC-F03B692D3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9AC4A-38E6-44A8-A0CD-1190697EF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1A146-1697-484E-A67C-A767052F3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B516F6-6B6A-4FDA-B35D-B3B07B43AE6D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re in this house of the great K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’ve come together now to worship H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is house is built on Christ our Rock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annot be shaken, cannot be shak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726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Here in This Hou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od is awesome in this pla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 sense His pres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s we sing His prai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re is power here for miracl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set the captives fr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make the broken who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od is aweso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’s so aweso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od is awesome in this pla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re in this house of the great K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’ve come together now to worship H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is house is built on Christ our Rock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annot be shaken, cannot be shak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od is awesome in this pla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 sense His pres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s we sing His prai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re is power here for miracl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set the captives fr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make the broken who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od is aweso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’s so aweso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od is awesome in this pla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Brid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’ve found where I belo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’m a living st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in this house I will gr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’ve found where we belo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 are living ston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in this house we will gr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re is power here for miracl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set the captives fr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make the broken who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od is aweso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’s so aweso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od is awesome in this pla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 2, Kevin Mayhew: Buxhall, Suffolk, England, 2001.  ISBN 9781840037241.
</dc:description>
  <cp:keywords>lyrics words praise worship songs</cp:keywords>
  <dc:language>en-US</dc:language>
  <cp:lastModifiedBy>John Zaitseff</cp:lastModifiedBy>
  <dcterms:modified xsi:type="dcterms:W3CDTF">2011-02-09T08:22:51Z</dcterms:modified>
  <cp:revision>11</cp:revision>
  <dc:subject>The Source 2, song number 726</dc:subject>
  <dc:title>Here in This House (Awesome in This Place)</dc:title>
</cp:coreProperties>
</file>