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181-A6A4-4BF2-BFE3-C06287C0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0F3-E63B-4743-ABD2-DF27C377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2AA-8106-47B8-80BA-98A0696C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215-A7A9-41DD-A279-56E4DC5B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378-13B4-4932-8ED6-73B6A9BE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B83-3F72-4997-B5F1-CFABF9A5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A20-0531-4084-B67F-8E0BEFF0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587-16B7-4D02-BBF6-543E39B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CBE-CCF5-4520-ACB6-FE4C1F2C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FD7-3141-4D7F-ABB2-F658F7F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1D0-FB6F-46F3-B8D5-9CB8035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AA0-351C-4587-8D4B-E22395FE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5C8C1-A026-4D51-B71E-C76CBCB2D7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41   My Saviour,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42Z</dcterms:modified>
  <cp:revision>12</cp:revision>
  <dc:subject>The Source 3, song number 1441</dc:subject>
  <dc:title>My Saviour, Redeemer (For All You’ve Done)</dc:title>
</cp:coreProperties>
</file>