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ADC-B9A2-40E8-BB90-25396C10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300-01EC-474C-B125-A6F9C38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461-F4EA-42A9-8F3B-5D8C9132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CF3-B690-4516-AF57-2D48DE59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8B7-EBEE-4603-AE6B-879E00A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A48-1AFC-47AA-95C9-5C9C42CE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29F-115D-44AC-B9E5-A4A0C339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D1D-2110-4354-8E70-5DFD986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34E-A814-4E2B-ABD8-D68DA126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B12-D14A-4517-B6A2-493D8884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574-A557-4D92-BC42-5381AC44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9EB-7E7A-4D84-A083-4AE2324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AAB64-59C9-447D-B69F-6D9FE459E4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им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ноги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урь и нена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 мире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изнь их при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но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благод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да проль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й, Боже, им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ь им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жизн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 всех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ить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освя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аимн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у стрем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свящ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веры бесц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их соблю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идеть им я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ними Тв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 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ить их, как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28Z</dcterms:modified>
  <cp:revision>12</cp:revision>
  <dc:subject>Slavic hymnal Гимны веры христиан, hymn 739</dc:subject>
  <dc:title>Дай, Боже, им счастье</dc:title>
</cp:coreProperties>
</file>