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9DC-705E-4511-A0F9-FBD5A346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3DC-C27D-4294-B632-BCFA2C34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D49-2955-46BA-B397-59824EF6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D78-CFE3-48A9-97B5-9C7910EE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447-EAD3-450E-8D51-A5B9324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A07-5284-4DB1-B468-2A079EE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B7F-1FD4-4140-ACE1-6176592B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2DA-7C77-468F-9E7E-DF13D9E1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F0E-13DC-4ACE-B85E-C0D83C0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85A-950D-40C8-B3B0-6EC80E0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F41-2150-425C-A250-A3DDEBA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3F8-21F4-40AE-8F4D-3D477C0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9966-0842-4128-B91B-FA626219CF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ловах щоденних мол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лаженство для душі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найкраще, що є тут в житт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покої щастя я за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кутка я тихого баж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олоду маю в бороть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5   Не в сло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ш Ти, як завжди, в кожну м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ебе любов в мені бри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шукав нічого я соб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дкрив мені любов С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я з Тобою у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ів тремтить душа в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ля мене захист, Ти ― мі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Христа ― порожній цілий сві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ез Тебе вмер би у журб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вколо хижий ворог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чить проти мене лютий б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могу Ти даєш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ля довгих, нещасливих д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одне я зрозум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вічне лиш в Твоїй кра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зі є джерела мої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45Z</dcterms:modified>
  <cp:revision>13</cp:revision>
  <dc:subject>Slavic hymnal Гимны веры христиан, Ukrainian hymn 35</dc:subject>
  <dc:title>Не в словах щоденних молитов</dc:title>
</cp:coreProperties>
</file>