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DDD-131E-4A6E-B82E-EE1FAD67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EEE-6BA3-4080-9D7F-DEA5A20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256-0C08-4C0D-9220-49108619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7B4-7110-4B39-968B-77DA5EFA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2E2-9EDE-4E8F-8C3F-39E13D26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6F7-7CAA-41E5-A142-3185519E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0D7-E6F8-4AFA-A5EB-9580FC0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B5F-8659-486F-961E-A80F662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B04-BFC3-481A-B179-31DF1AC8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77B-B296-4687-BA8B-E86929F3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E4F-064A-442B-B3B7-DD50065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CC8-EDD7-40F1-B59A-E56D7A6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D146-53BF-4051-A42C-C0539775F2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у и к яслям спешите жив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кую святую и дивную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Сын Божий, чтоб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в яслях Спаситель 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свет Его чуд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Младенец прекрасен и 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ей и приятнее ангельск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Он, ах, детки, в соломе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Иосиф с любовью гля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пастухи поклониться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лаву воспели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4:31Z</dcterms:modified>
  <cp:revision>14</cp:revision>
  <dc:subject>Slavic hymnal Гимны веры христиан, hymn 754</dc:subject>
  <dc:title>О детки, идите, идите скорей</dc:title>
</cp:coreProperties>
</file>