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B05-AB6C-4FC4-B604-00132FFB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045-6B02-42FE-9B7B-2308763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909-9F94-47EC-A1D8-07A33E6C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FC3-07AF-4212-98FB-3EFF8748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946-7EF7-4996-9416-BD50530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70B-4F37-425F-A1CB-9C8FD835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4B9-1761-4ADE-B231-193D6C38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DA1-7B7C-4828-96E3-C6A752F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733-8433-47F9-B073-4C5577F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4F5-E209-4A13-A9A5-5A9338C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BFB-7790-4CBB-8F0F-820DE06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70D-5DA7-4F2E-B9B1-B14F2DD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59449-98A0-4FD5-B468-B35FCF3BF6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я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лой сторо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о ней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все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то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ал я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о жизни цв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небесны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вая река там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арфы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не мол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сную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битель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ая радост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сна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туда не в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46Z</dcterms:modified>
  <cp:revision>12</cp:revision>
  <dc:subject>Slavic hymnal Гимны веры христиан, hymn 676</dc:subject>
  <dc:title>Слышал я о стране</dc:title>
</cp:coreProperties>
</file>