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20C-CC5B-4692-BCBB-D0E9F40F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D13-E2AA-4C7C-B034-5C59CE27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E60-4B25-48DA-B433-3E42827B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D19-9951-45E0-9266-8275BBCE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E89-BC25-4D99-83BF-917F8AAB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FDE-D099-4DEE-8E38-AE848887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1D4-2411-4EFD-B666-36C887DE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F5D-BA93-4DDC-B807-EAE775AA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EC4-CB3A-4916-8784-118C5F0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D88-0853-4055-9FA8-CBA1F50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ECD-59D9-4E7F-95E1-C8B92D8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C01-6A2C-473E-9F5A-E79C1FD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A9C03-195F-427E-A62F-BDE31CDB64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cleans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gives me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took m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edeeming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shes me 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God’s precious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0Z</dcterms:modified>
  <cp:revision>10</cp:revision>
  <dc:subject>The Source, song number 250</dc:subject>
  <dc:title>It’s Your Blood</dc:title>
</cp:coreProperties>
</file>