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D86-5FE1-4080-98F2-92852F9C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A0C-EB36-4797-8EB0-E8BFC316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B12-E1A8-4B0F-84F3-1B48E951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394-4E55-4E8C-9F92-BBA6DCEE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E15-32A8-4895-B0FE-497A6F2A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1CB-0E9D-40BD-8D17-71335A36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18D-803C-47BA-8878-0AD1D082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5C8-2E14-4A53-BAE3-5E5E3D02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936-08C4-40B8-A5D6-8FBF3218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252-E66F-4A36-8FE5-1ADAB8D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951-21C1-420B-A44C-3BE2098C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25D-71E6-42AA-9ECF-7FC15D0D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2AFAF-B2F9-44A0-A34C-B54C8CF646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о славе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, средь земного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а полна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а полна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ойте о славе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ись в Христов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 только зова т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частливы в Божье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частливы в Божье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изваны к Агнцу на б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в восторге т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же нас холод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же нас холод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ественном слове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ьётся живая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люч средь пустыни сух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люч средь пустыни сух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нас Бог окру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очет от нас Он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ере полученных си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ере полученных си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о от мысли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коре минует ну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увиди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увиди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40Z</dcterms:modified>
  <cp:revision>12</cp:revision>
  <dc:subject>Slavic hymnal Гимны веры христиан, hymn 663</dc:subject>
  <dc:title>Воспойте о славе небес</dc:title>
</cp:coreProperties>
</file>