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ABC-48E8-4659-A9A7-AB822048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44E-EF24-4FAD-AA90-B813ECE4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DB9-7625-4869-9A8E-611D4A28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3D2-57CF-44FD-8953-D227785F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371-3460-440D-B3B1-B43AFAEF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B42-54C5-42D3-9996-529CC14B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27E-889E-409B-BB7E-8964A0A5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B06-85CB-491B-8799-27E0E832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FB3-6D63-4B6E-8DA3-57713A24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0FF-7B13-4851-99CE-73546036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100-AC46-49CB-B13C-5EB93CBA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F1C-23DD-47FD-8437-A2450601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723C2-61F5-4B87-A339-442E6512BA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Тебе я отда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Творец и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царства тьмы Спаситель мой Иис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к Себе прив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ой дар любви серд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вяти любовью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прим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ми меня! Тебе я отдаю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К Тебе моя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лаб и греш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отринь ничтожного ра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вся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 я телом и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 грехом, покрыт вино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я, бессил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О Боже, снизо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жалься над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знемог. Огонь горит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трашен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жить, детски упов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лечёт любовь свята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юсь я, надеюсь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Хочу я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ься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 за грешного р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Твоих течёт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, мир и исце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увер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1:50Z</dcterms:modified>
  <cp:revision>12</cp:revision>
  <dc:subject>Slavic hymnal Гимны веры христиан, hymn 458</dc:subject>
  <dc:title>Прими меня! Тебе я отдаюсь</dc:title>
</cp:coreProperties>
</file>