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7D6-03ED-4EE6-BD3A-D1116FB2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27E-A74B-4FF9-A225-1EFF0398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862-6DC9-42FD-A8BE-06D824EC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545-5EA7-443D-9252-EA3FC2A2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62B-3585-418C-A471-AA20D6F9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CDC-F3D7-4BBE-94B2-F69037EF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218-95F7-480D-9D15-0C262123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DCE-98E4-4DD3-B242-D426F142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608-4148-49CB-AA70-18C961D5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AE0-CEB9-4444-A3FC-AA3941D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BF1-F084-4406-8B05-CAEFD6ED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3FF-9974-4D34-B590-EE679F9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91A21-B4DF-4AE8-BA67-7C6E168689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вжди разом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є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хвалюся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4   Кожний день з І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50Z</dcterms:modified>
  <cp:revision>12</cp:revision>
  <dc:subject>Slavic hymnal Гимны веры христиан, Ukrainian hymn 114</dc:subject>
  <dc:title>Кожний день з Ісусом</dc:title>
</cp:coreProperties>
</file>