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EBAB-AB37-4852-B389-0BC378C0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418-26EE-49A6-B8BA-9E55F763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1E87-7145-4542-93DA-085EE8F6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C62-CDE3-46A2-BCDE-8588767C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F72D-64D7-40AE-8ED7-48D72941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C32-A98D-4D46-BA4D-5CCE2167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DA5-4D94-4F5B-9A01-6E3F477F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0C92-B5C3-4A86-B82E-FBFEF096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F32-2CE0-4D59-BF6B-8DC7EC84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2FF-4792-4EB2-983C-6B2044DB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AFAF-2B83-4947-B0FD-9B13ABE6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DCDE-1C16-4554-9185-F6CBA420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C332A-D09D-4E27-9C1B-360826BCAA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a river glorious is God’s perfect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all victorious in its bright incr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, yet it floweth fuller ever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, yet it groweth deeper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вною рек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ою рекою льётся Божий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евозмогая, разливаясь вши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уже он полон, всё ж течёт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бже проникает и живи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yed upon Jehov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are fully b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nding, as He prom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peace and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den in the hollow of His blessed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foe can follow, never traitor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surge of worry, not a shade of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blast of hurry touch the spiri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, сокрытых в мощных Божиих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ельстит лукавый, не настигнет вр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оснутся сердца ни печаль, ни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облазн неправды и ни тень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yed upon Jehov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are fully b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nding, as He prom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peace and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joy or trial falleth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aced upon our dial by the Sun of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may trust Him fully all for us to d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ho trust Him wholly find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lly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ли горе свыше сужд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ому по силам Господом да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огу верим, то войдём в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ен Бог для тех, кто верует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yed upon Jehov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are fully b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nding, as He prom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peace and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57Z</dcterms:modified>
  <cp:revision>14</cp:revision>
  <dc:subject>Slavic hymnal Гимны веры христиан, hymn 600</dc:subject>
  <dc:title>Like a River Glorious / Славною рекою</dc:title>
</cp:coreProperties>
</file>