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B7A-F7A8-47CA-81DD-6C24D422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126-6C6E-498F-ABFE-3577A2B7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249-A5BE-46CC-8270-0A01BC3F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A96-D979-4A92-AC9E-6EF21945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F33-9A2B-4E1A-A32E-9CE21B36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2423-81E3-41C3-9CA4-27C57BFC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910-5761-4D9E-93DF-D327AF80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5E2-010F-42CF-8D1E-2742197B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1F3-CB97-4AF6-A409-2C6868A4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6B5-8110-4149-8229-9E269991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1E9-E72D-4897-92A0-FC61EE83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D33-5A8F-4BDE-BEFD-1769D6C9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2C020-489B-41E5-A704-65B59A79E9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ve a story to tell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hall turn their hearts to the 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tory of truth and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tory of peace and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tory of peac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у нас Божье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Божье слово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сплавить мож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е Его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е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darkness shall turn to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wning to noonda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’s great kingdom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dom of lov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ve a song to be sung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hall lift their hearts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ong that shall conquer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tter the spear and s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tter the spear and s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песня веры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х может к Богу привл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им дать над зл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мать и копьё, и ме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мать и копьё, и ме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darkness shall turn to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wning to noonda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’s great kingdom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dom of lov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ve a message to give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who reigns up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 sent us His Son to sa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ow us that God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ow us that God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весть живая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оздатель дивных ми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слал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ь нам Отц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ь нам Отца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darkness shall turn to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wning to noonda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’s great kingdom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dom of lov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ve a Saviour to show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e path of sorrow has tr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all of the world’s great peo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 come to the tru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 come to the truth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известен Спаситель народо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шёл страданья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ать спасенье мно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вернуть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вернуть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darkness shall turn to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wning to noonda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’s great kingdom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dom of lov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1Z</dcterms:modified>
  <cp:revision>14</cp:revision>
  <dc:subject>Slavic hymnal Гимны веры христиан, hymn 530</dc:subject>
  <dc:title>We’ve a Story to Tell / Есть у нас Божье слово</dc:title>
</cp:coreProperties>
</file>