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B69-AB5C-487A-B616-6A8EEC9A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FF0-612D-44D5-B1CF-B8C4B0D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925-DADB-4720-908A-2EB5BDAA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33C-BD92-42C1-80F2-21DF22DB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0DC-7946-4062-BDAC-C135AC5E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BDB-4218-47F0-856B-A4564A4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DED-EFD8-46B8-BA5E-C47B725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C4E-D12D-4D99-951F-B770132F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6D5-90A9-4F81-8878-0E63AF43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258-9DEE-4C9C-8A53-1663ECF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9A-8665-49E7-9AA3-8410626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B7B-B5F8-48E7-8762-8EDEF74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61724-C811-4202-8514-387B7788A2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pe is built on nothing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Jesus’ blood and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trust the sweetest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olly lean on Jesus’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rkness seems to hid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on His unchang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high and stormy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anchor holds within the ve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oath, His covenant,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 me in the whelming f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around my soul gives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n is all my Hope and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shall come with trump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y I then in Him be f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ssed in His righteousne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ultless to stand before the thr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4:32Z</dcterms:modified>
  <cp:revision>13</cp:revision>
  <dc:subject>Slavic hymnal Гимны веры христиан, hymn 634</dc:subject>
  <dc:title>The Solid Rock / Построил на крови Христа</dc:title>
</cp:coreProperties>
</file>