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B89-827C-47AF-9270-069BCED6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3E8-CE5C-4758-BEFC-515D640A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C2F-1972-46A0-94DC-E30C619F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75F-6D7D-40A9-917C-C185FE39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152-9B7A-40F3-BDFE-DCACD802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4C8-A94E-4786-A42D-60A2F0E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D2E-CD6A-4E6F-9932-13531CD3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4A9-2CE4-48E5-A206-4B45A0C8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D5B-6425-45EE-BDBB-BC8BF25E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813-35C5-4BCC-894C-1BBC4142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3A9-818E-47B4-993F-75542036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F85-492F-4D09-86D7-A6A8081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18300-3BA5-4EF3-A602-5865546958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48Z</dcterms:modified>
  <cp:revision>13</cp:revision>
  <dc:subject>Slavic hymnal Гимны веры христиан, hymn 239</dc:subject>
  <dc:title>О, малый город Вифлеем</dc:title>
</cp:coreProperties>
</file>