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8943-E77F-4214-9E3C-8C6BEDAC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011E-1A3D-4642-AE91-37A01AF5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F2A0-2DE4-4185-AC20-9E040A591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9A21-3D5E-40E1-BBD0-79461D89D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AC5C-C0C2-4826-970B-FD362B99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4D7A-1DD2-442B-BC31-74C42300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1A4A-621B-450B-ACFC-BB26943D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1E4E-E5EB-438E-8EE5-7ABC06A0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E6E1-C392-4AC7-AFD2-3D21B261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666C-4BE0-429C-8F15-4E33922B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28FE-52ED-44CB-88BE-530194C9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1EE9-8E6E-4504-A090-37542840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8A4FB-D7D1-4725-B314-0A8236290D9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, my comrades! see the sig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ving in the sk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inforcements now appea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ictory is n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жьи воины, смотр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 воины, смотр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дан сигн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ые полки, гляд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Господь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the fort, for I am coming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ignals sti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ve the answer back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grace we wil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репость Мою не сдав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Я при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 небо отвеч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сдадим вра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the fort, for I am coming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ignals sti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ve the answer back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grace we wil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репость Мою не сдав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Я при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 небо отвеч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сдадим вра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 the mighty host advan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tan leading 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ghty ones around us f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rage almost g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идут полки чужие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тана ве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 падают род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х уж всех бер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the fort, for I am coming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ignals sti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ve the answer back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grace we wil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репость Мою не сдав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Я при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 небо отвеч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сдадим вра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 the glorious banner wav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the trumpet bl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our Leader’s Name we trium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ev’ry fo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мя выше подым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те труб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, дружно все бег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жию войн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the fort, for I am coming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ignals sti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ve the answer back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grace we wil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репость Мою не сдав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Я при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 небо отвеч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сдадим вра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erce and long the battle rag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our help is n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ward comes our great Comma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eer, my comrades, che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ится бой, полки реде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щь уж близ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даются, не робе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ины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the fort, for I am coming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ignals sti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ve the answer back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grace we wil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репость Мою не сдав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Я при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 небо отвеч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сдадим вра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идёт Господь наш с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гионы с Н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и радость, и побед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возда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6-06-08T20:36:54Z</dcterms:modified>
  <cp:revision>13</cp:revision>
  <dc:subject>Slavic hymnal Гимны веры христиан, hymn 484</dc:subject>
  <dc:title>Hold the Fort / Божьи воины, смотрите</dc:title>
</cp:coreProperties>
</file>