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29C-1887-417C-A4EE-5264545E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A37-BB1A-4721-8E09-EC18B168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41F-DED4-4483-B3F6-F0CF6018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0F2-2EFA-45E7-837E-BF279290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958-595B-459E-AF8F-4CDB12A7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0FA-DD4D-40ED-8698-FB9AC109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C78-9943-4E6A-A371-BEBF9941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E76-4899-4B21-AB39-FDC1B86B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AD4-AF57-402F-8B74-857EEA1C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4AF-CB8F-4D89-BF61-CFDA089C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88E-0700-4FD1-9815-A40E91ED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E4D-8E54-4DB0-AF70-749CFB19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E4735-248C-49C9-92FB-676C9F5FEE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в небе Господа слав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достойную Богу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гелы в н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ся с ангельским пением сл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оре искупленных, спас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Господу, Богу Един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Спасителю слав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 земле людей Церковь том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стремится,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ениху в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ряди, Господи, вид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а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Единому славу поёт, славу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, прославленный, Цар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Христос Господь в небе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, в небе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Господу, Богу Един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Спасителю, слав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8:09Z</dcterms:modified>
  <cp:revision>12</cp:revision>
  <dc:subject>Slavic hymnal Гимны веры христиан, hymn 805</dc:subject>
  <dc:title>Ангелы в небе Господа славят</dc:title>
</cp:coreProperties>
</file>