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31E-B606-4280-89BF-C7960AC4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0B2-B5D8-44D3-9840-EC96C284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D28-E986-4D27-B537-3970F22B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C7C-7FCC-456D-80A6-DC1F84E2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883-F350-486F-AD50-183A2999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B81-2EE0-4830-B575-840C7C65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834-AA1B-4DDD-9B2A-49CEA57A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28E-90DB-4F32-9337-ABD827C7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5E1D-51C9-4BB4-8134-9A6263C5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584-7082-4339-A5F1-F74B1E85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88F3-9E11-4CB1-9F11-E5D53480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B3C-2FDD-40EA-9415-1ABDF2F0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6265B-30AF-49F2-9ACE-F50D78ED4F7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мене повій, на мене по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Дух Святий, молю по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мене повій, на мене по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Дух Святий, молю по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4   На мене пові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0:23Z</dcterms:modified>
  <cp:revision>12</cp:revision>
  <dc:subject>Slavic hymnal Гимны веры христиан, Ukrainian hymn 64</dc:subject>
  <dc:title>На мене повій</dc:title>
</cp:coreProperties>
</file>