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 день тот придё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coming a d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no heartaches shall co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clouds in the sk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ears to dim the ey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день тот придёт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будет ни забот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печали и невзгод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ужды и ни трево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take me by the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d me throug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d La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даст Он мне Свою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 Ним туда войд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s peace forevermo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at happy golden sho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арит в стране свято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ы не будет никак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that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Jesus I shall se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upon His fac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ne who saved me by His gr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 будет т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тречу я Христ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меня с Соб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небесный, неземн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take me by the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d me throug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d La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даст Он мне Свою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 Ним туда войд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sorrow the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burdens to bea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sickness, no more pai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parting over the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 будет забот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е пройдё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олезни, ни слёз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без конц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ever I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One who died for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вечно я то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Царя Хрис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that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Jesus I shall se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upon His fac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ne who saved me by His gr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 будет т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тречу я Христ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меня с Соб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небесный, неземн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take me by the h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d me throug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d La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, glorious day that will b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даст Он мне Свою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 Ним туда войд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день будет там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that will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Jesus I shall se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upon His fac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ne who saved me by His gr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ень будет т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тречу я Христа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меня с Соб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небесный, неземн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7:29:31Z</dcterms:created>
  <dc:creator>John Zaitseff</dc:creator>
  <dc:description/>
  <dc:language>en-US</dc:language>
  <cp:lastModifiedBy>John Zaitseff</cp:lastModifiedBy>
  <cp:lastPrinted>2024-08-03T10:00:56Z</cp:lastPrinted>
  <dcterms:modified xsi:type="dcterms:W3CDTF">2024-08-03T10:00:45Z</dcterms:modified>
  <cp:revision>5</cp:revision>
  <dc:subject/>
  <dc:title>Скоро день тот придёт / What a Day That Will Be</dc:title>
</cp:coreProperties>
</file>