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5E6C-25F7-43AA-AD8B-8DDDC019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C52A-563C-4151-9138-D51561D3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353B-BD6F-4731-9AF2-2772119C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2E11-48CE-451A-9B97-4D8AFFC3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69B7-73A2-400A-B1DF-3BE355DF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171D-8DC4-46A0-B1E3-06D7AC96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8884-5434-4097-9209-EBA3ED39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AB77-4515-4432-818A-16C46D5B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E849-A4C4-46C0-9027-74157008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B311-82EF-4C7A-B17D-32509674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F4D4-CFBC-497A-969E-F9278EAA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2B50-ED2D-4644-B3BE-1FE77A6C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2AEC7-6EAC-4322-A0EC-C91AEEB8FA3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 могут изме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ёрный день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Один завет хран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про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ья могут измен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сё покрыто ть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сбивает с н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верой успок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про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ёмный, горький жизни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х дней за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твёрдая, что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про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5:23Z</dcterms:modified>
  <cp:revision>12</cp:revision>
  <dc:subject>Slavic hymnal Гимны веры христиан, hymn 898</dc:subject>
  <dc:title>Братья могут изменить</dc:title>
</cp:coreProperties>
</file>