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F00-F29D-4CC8-A116-ED9A8C26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24A-9FF9-4FAC-8D85-5D861E37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32B-FF50-40C6-B0F5-5FA51EEA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057-EB0C-4F2B-962F-2FB0A684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0D5-F07B-473C-9151-D6D8B953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048-373A-489D-A792-C24E7827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787-2149-46EE-8EDE-009C370B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B8C-1BCF-494F-A950-E8FE055C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A0E-6282-4BAA-927B-FCF03C61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86F-F22E-4C59-8D5F-B435DF9E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349-4494-4397-B5F3-FA4121DA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AEA-9332-4B6A-B4B1-3579822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20D32-402F-4D16-83F5-0ADEDE397E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sent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called Him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me to love, heal and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d and died to buy my pard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empty grave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ove 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Sent His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weet to hold a newborn ba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eel the pride and joy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greater still the calm assu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child can face uncertain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n one day I’ll cross the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fight life’s final war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n, as death gives way to vict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ee the light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know He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2-09-22T21:51:19Z</dcterms:modified>
  <cp:revision>11</cp:revision>
  <dc:subject>The Source 2, song number 701</dc:subject>
  <dc:title>God Sent His Son (Because He Lives)</dc:title>
</cp:coreProperties>
</file>