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CC2-BB92-4B13-A460-CAA73446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38E-5D11-49EC-B735-F5CDB05F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C42-D7C1-4581-96DC-0AF2B45D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E7B-8F5F-4F0F-90CE-94707B99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842-49B6-4EED-A002-D4B7B1E2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6B1-0C8D-462C-9607-B863DB3B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415-F9C5-453B-9373-66641485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F7F-6192-471C-9EFB-12EE4A9C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8DF-043B-4084-B7F5-A2E768EF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D1D-24E2-4FA4-BFDD-21E8311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2A3-5351-415A-BB9F-4CDBAE19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083-F433-47ED-B1C2-9EF57542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A6F26-465D-48AA-A392-DEE84BB7CE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crowned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ule all things in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crowned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holding all things by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ule in power and reign in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heaven and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9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Are Cr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35Z</dcterms:modified>
  <cp:revision>10</cp:revision>
  <dc:subject>The Source, song number 590</dc:subject>
  <dc:title>You Are Crowned With Many Crowns</dc:title>
</cp:coreProperties>
</file>