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F26-C9B0-4798-B436-ECFA003A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7F9-0A99-4BDC-9DEA-336FB425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625-1463-4047-B8AA-C03DFEEB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62A-1ED5-4439-A79F-BBD05590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CD0-9671-46FD-A239-789EA34A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E02-A54A-445A-8B43-59BF7A2C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8E6-E917-4140-9F83-333E13C3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3CF-980E-4EFE-A9AE-72D7CE0C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9D7-262B-4E3E-9987-00F543F3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493-179F-41B0-A488-5A02B3D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3BA-112B-4289-B1B1-AF537D5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92A-7FA5-43B5-A315-355D87B5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4C906-DC6B-4F90-8523-61C1D9EC26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is my de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is eyes are fire, His face is 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First and Last, the Living 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is name is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from His mouth there comes a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at shakes the earth and splits the gr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yet this voice is life to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voic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8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King of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y Lover’s breath is sweetest w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am His prize, and He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ow can a sinner know such j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caus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wounds of love are in His ha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price is paid for sinful ma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ccepted child, forgiven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caus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my desire is to have You n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Lord, You know that You are welcome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fore such love, before such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will let the walls come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4:40Z</dcterms:modified>
  <cp:revision>11</cp:revision>
  <dc:subject>The Source 2, song number 983</dc:subject>
  <dc:title>The King of Love (The King Has Come)</dc:title>
</cp:coreProperties>
</file>