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7F0-5EC4-497D-8F65-801F076D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AF4-2532-4BB6-B022-09CF0BA1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EDB-D479-41CD-A606-CC5488B1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488-80F8-410E-8C06-DF83757E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A0C-4B96-4F47-A947-0CC70FBA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336-1638-47E0-9604-ED843002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400-9A02-4A1B-B459-1AFA87D0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E018-572E-4B99-9924-D581AA7D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FA3-79A2-4291-A5DA-D7EF36E0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BE9-5BEB-4949-B727-34606062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1FC-1374-462B-873C-85B6532F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C52-116B-4ED4-985C-5C913AF2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60FA7-D063-4933-8B08-F5A74684EA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ою рекою льётся Божи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евозмогая, разливаясь вши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уже он полон, всё ж течёт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бже проникает и живи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вною ре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, сокрытых в мощных Божиих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ельстит лукавый, не настигнет вр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оснутся сердца ни печаль, ни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облазн неправды и ни тень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ли горе свыше сужд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му по силам Господом д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огу верим, то войдём в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Бог для тех, кто верует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6:57Z</dcterms:modified>
  <cp:revision>12</cp:revision>
  <dc:subject>Slavic hymnal Гимны веры христиан, hymn 600</dc:subject>
  <dc:title>Славною рекою</dc:title>
</cp:coreProperties>
</file>