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76E-EE01-4109-A92C-B4592170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8ED-E7F7-4D8A-A11C-8BA6138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61E-42C4-4A48-A437-1B7873A6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AA3-50C5-4273-B006-20970FBA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81E-E06E-4FDF-8321-5E1AF50B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8DA-F625-448B-8991-F06BC08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7C2-2333-40E3-85A7-F40212B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92D-E2D2-4A63-98DE-A57AA16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9B5-C1BA-4194-920D-E53E13D8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020-4D7C-41CF-8276-5748AA70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B7D-2C47-4195-807A-AFBA7BC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4E0-0A81-42A6-8838-14632C8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57C2-63CD-4FA8-8B31-CCB38041E7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тебе Странник и в дверь стуч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е твоей Гость святой тверд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чах Его свет, речь дарит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ивет Он душе боль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ёт к тебе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йдёт, где приют най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мир и любовь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Гость дорогой Сам Спаситель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смыл тяжкий грех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хочешь идти по Е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за Христом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ь — значит милость Его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один может всех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53Z</dcterms:modified>
  <cp:revision>12</cp:revision>
  <dc:subject>Slavic hymnal Гимны веры христиан, hymn 355</dc:subject>
  <dc:title>Идёт к тебе Странник</dc:title>
</cp:coreProperties>
</file>