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577-77E3-44DE-8272-EA6F52EA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51F-B289-4093-802A-DDDBC61F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CD8-271B-4832-8ECE-7B3F44EA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A8E-43E4-4D86-8D43-0E02DA6E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641-FFEA-46DB-B513-3E88E21C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6BE-FEF3-4A27-B455-7C922A1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094-0E6C-4A64-9FAE-C5E3AFD3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DA0-3375-413C-9351-9578F0E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12D-262B-45C3-AA9A-DAF5EBFD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496-C47C-428B-B8BE-8B876369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D38-639F-4123-9887-110A5C77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AC6-99E7-4A0F-8BB1-08DAB09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0D6AF-6ECE-43A8-8E8C-6CAD9B7BBC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entle voice: oh, heart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ore the cruel thorns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ed long and patient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not plead with thee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all My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ied to ransom thee from s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joy from Heav’n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pardon, peace, and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7Z</dcterms:modified>
  <cp:revision>13</cp:revision>
  <dc:subject>Slavic hymnal Гимны веры христиан, hymn 394</dc:subject>
  <dc:title>Behold Me Standing at the Door / У двери Я твоей стою</dc:title>
</cp:coreProperties>
</file>