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овь Твоя, о, Господ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teadfast lo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ord never cease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mercies never come to an e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Твоя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бесконечна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лостям Твоим нет конц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are new every morning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w every morning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is Thy faithfulness, O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is Thy faithfulnes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приходят с каждым утро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ят с каждым утром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Господь во всём, во всё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Господь во всём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7:27:26Z</dcterms:created>
  <dc:creator>John Zaitseff</dc:creator>
  <dc:description>Graham Kendrick (compiler), The Source, Kevin Mayhew: Buxhall, Suffolk, England, 1998.  ISBN 9781840031201.
</dc:description>
  <dc:language>en-US</dc:language>
  <cp:lastModifiedBy>John Zaitseff</cp:lastModifiedBy>
  <dcterms:modified xsi:type="dcterms:W3CDTF">2021-05-08T04:14:19Z</dcterms:modified>
  <cp:revision>4</cp:revision>
  <dc:subject>The Source, song number 505 in Russian</dc:subject>
  <dc:title>Любовь Твоя, о, Господь, бесконечна / The Steadfast Love of the Lord</dc:title>
</cp:coreProperties>
</file>