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5</a:t>
            </a:r>
            <a:r>
              <a:rPr b="1" lang="ru-RU" sz="3600" spc="-1" strike="noStrike">
                <a:solidFill>
                  <a:srgbClr val="ffffff"/>
                </a:solidFill>
                <a:latin typeface="Verdana"/>
              </a:rPr>
              <a:t>	</a:t>
            </a:r>
            <a:r>
              <a:rPr b="1" lang="ru-RU" sz="3600" spc="-1" strike="noStrike">
                <a:solidFill>
                  <a:srgbClr val="ffffff"/>
                </a:solidFill>
                <a:latin typeface="Verdana"/>
              </a:rPr>
              <a:t>Миру зла, греха и забот</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Blessed be the fountain of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a world of sinners revea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be the dear Son of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ly by His stripes we are heale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иру зла, греха и заб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н источник жизн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мерти Божья Сына н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немогший грешник пок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 I’ve wandered far from His fo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inging to my heart pain and wo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in the blood of the La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shall be whiter than snow.</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заветной верой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моё сердце сог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the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the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in the blood of the La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shall be whiter than snow.</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orny was the crown that He w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e cross His body o’erc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ievous were the sorrows He b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He suffered thus not in vain.</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мерти и страданий це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Христос от зла искуп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н след и терновый ве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челе Распятый носи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I to that fountain be 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de to cleanse my sins here bel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in the blood that He sh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shall be whiter than snow.</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ертвою Христа, Боже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во мне очисти ск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the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the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in the blood of the La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shall be whiter than snow.</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Father, I have wandered from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ten has my heart gone ast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rimson do my sins seem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ter cannot wash them away.</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же! Я всю бездну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ины своей созн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меня нет добрых труд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ишь Ты Сам немощь мою.</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to the fountain of Th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ning on Thy promise, I g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leanse me by Thy washing div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shall be whiter than snow.</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и источник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средь житейских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the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ter than the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h me in the blood of the La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shall be whiter than snow.</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9:40Z</dcterms:modified>
  <cp:revision>3</cp:revision>
  <dc:subject>Slavic hymnal Гимны веры христиан, hymn 165</dc:subject>
  <dc:title>Whiter Than Snow (Blessed Be the Fountain of Blood) / Миру зла, греха и забот</dc:title>
</cp:coreProperties>
</file>