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164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436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164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436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280" y="395280"/>
            <a:ext cx="8998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260360" y="395280"/>
            <a:ext cx="828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1440000"/>
                <a:tab algn="l" pos="2158920"/>
                <a:tab algn="l" pos="287964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Something Beautifu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1260360" y="828720"/>
            <a:ext cx="828036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mething beautiful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mething goo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my confu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understoo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had to offer Hi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s brokenness and strif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He made someth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f my lif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"/>
          <p:cNvSpPr/>
          <p:nvPr/>
        </p:nvSpPr>
        <p:spPr>
          <a:xfrm>
            <a:off x="9144000" y="6624720"/>
            <a:ext cx="53964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6T12:30:00Z</dcterms:created>
  <dc:creator>John Zaitseff</dc:creator>
  <dc:description/>
  <dc:language>en-US</dc:language>
  <cp:lastModifiedBy>John Zaitseff</cp:lastModifiedBy>
  <dcterms:modified xsi:type="dcterms:W3CDTF">2018-07-13T06:25:38Z</dcterms:modified>
  <cp:revision>3</cp:revision>
  <dc:subject/>
  <dc:title>Something Beautiful</dc:title>
</cp:coreProperties>
</file>