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253-E4E9-4CB8-B5B0-0B120F6F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085-E0A9-4E92-A2A8-370CF557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EE7-83FF-42DE-B7EA-FE15AC29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C57-DAD2-45C8-B641-253E5785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D03-4621-4157-9836-150DA291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75C-9FDE-4CEA-BF38-FBA1A22F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0D8-C2CD-494C-A3A4-C80C6A70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63F-13E1-4060-82C8-4340D10C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FE3-6E63-443C-B065-011C7156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EA5-51BB-4B09-979C-431B59CA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98C-1FC9-4914-830A-21AE5AB4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C6D-0790-4620-8F19-695B65B7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FAA12-2251-4E5A-85EE-8E824AD462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бедился я в Божьих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решился прийти ко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ух неотвязно мне в сердце твер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м мою бедную душу му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егодня не время, ведь ты не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равься, очистись, себя приготов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чти убеди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решился я верить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решился отдаться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ово Его приглашает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, о грешник, приму Я теб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ныне открыта спасения д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же, заблудший, иди же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решился, но поздно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закрыта мне райская д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приговор уж готов рок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открылася бездна пред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же, друг бедный, иди же сей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близок конец и последний тво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11Z</dcterms:modified>
  <cp:revision>12</cp:revision>
  <dc:subject>Slavic hymnal Гимны веры христиан, hymn 374</dc:subject>
  <dc:title>Почти убедился</dc:title>
</cp:coreProperties>
</file>