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F42-ED1D-43EF-B49D-6EE44B70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5CD-4A9D-4F5D-9A0C-FD9AB04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AD0-9693-4709-9913-FEF67FEC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B26-193D-4EB4-A57F-FB487894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CFF-5D11-4DD6-A5E1-2FD689F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68-0D83-442F-9724-4B25ADE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008-B03C-4502-BA6B-A56E8A3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B7F-A0BD-43EA-A4C3-8D308C79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1C0-5122-4D98-859D-3007E10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431-3BAF-4585-A48A-31E8C27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86E-6ADF-417A-AC4F-3E38C27D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D29-7843-4135-9921-DD4E663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93DDD-7ADD-4213-985F-2F5AF05F4F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hole world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unshine at no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sho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darkness have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Jesus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follow our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 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wellers in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in-blinded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wash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ght will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 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eed of th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, we’re 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is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ity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1Z</dcterms:modified>
  <cp:revision>14</cp:revision>
  <dc:subject>Slavic hymnal Гимны веры христиан, hymn 386</dc:subject>
  <dc:title>The Light of the World Is Jesus / Во тьме и грехе погибает народ</dc:title>
</cp:coreProperties>
</file>