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74C-0E72-4AFA-81EC-A7DC6732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1CB-4B6A-407C-991B-82B38B38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265-7D26-48EA-8360-C2F92D85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8FA-1DEC-4958-984A-F4438C9E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F60-630A-457B-91D4-335DA63A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D39-46C1-4B6A-A727-77D48ADC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0CC-BA15-4FAD-9125-993B9A8E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6B8-853B-4FEB-91A3-ADE63D9B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722-B036-4050-9E1C-30BBD515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ABE-7F90-490D-97D9-67AD34D3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D13-FCFA-4924-A6E9-1C05A626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597-8DBE-4063-8A15-BC1F94B9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D28EE-FFDC-4C7A-8027-ED48721D30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223   Добрый наш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ый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ый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ый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добр к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добр к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добр к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добр к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6-06-08T20:35:32Z</dcterms:modified>
  <cp:revision>13</cp:revision>
  <dc:subject>The Source 3, song number 1223 in Russian</dc:subject>
  <dc:title>Добрый наш Бог / God Is So Good</dc:title>
</cp:coreProperties>
</file>