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3B2B-9BF4-4D76-93BE-152A7C59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36B1-F7CA-4B80-B96A-447BF05C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D48D-200D-48D8-87E9-2C2C3D42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6CA5-4931-474B-A297-1CE73683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4F31-1B96-4081-B133-A1081EED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45E9-A577-4C07-BEF2-383B20E0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C601-B77B-4271-9445-11586442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6738-73F2-4582-B65E-386C6C19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1B3-DCD4-46B2-BDF6-DD7A53FC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F629-0C0A-4347-B684-B30E2D6C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42B4-81B7-403E-9CC8-267C6297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F614-9321-4FE1-8C72-32B155B6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B8277-C6CA-4354-A707-9FE37B626B5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ит малых воробьё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ибели хра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пташек любит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любит Он! Да, любит 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любит 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маленьких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г любит малых воробьё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ит лилию в пол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тихого руч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любит Он цв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любит Он! Да, любит 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любит 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маленьких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творил цветы и пти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светом ос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е забудет и де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любит Он! Да, любит 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любит 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маленьких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1:39Z</dcterms:modified>
  <cp:revision>12</cp:revision>
  <dc:subject>Slavic hymnal Гимны веры христиан, hymn 750</dc:subject>
  <dc:title>Бог любит малых воробьёв</dc:title>
</cp:coreProperties>
</file>