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51C-752C-4207-9E30-FCB52CEC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7F5-06A7-4C37-B872-D9B22B74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BF4-565B-428A-96DF-2B212ADE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374-9AA9-4789-AB77-E9272F31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8C2-2E86-4554-B1BC-823BAF61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B37-84D9-4E8B-93A5-1CA65146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055-4F67-4F02-BAAB-9402CF0F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2C1-C701-4458-B530-1AE50C70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76F-803D-48F4-8360-0C8B3B07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760-3427-4110-AE95-1C2BCADD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F97-B282-4B7B-B02E-CD2DE0D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5F9-6818-473B-8A61-54EB41A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569DD-47C0-4332-B821-19A71572E3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и, Господь,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боду я вой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ь меня отдать мой меч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могу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енье мне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ам ст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объятья заклю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илу дай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лени, Господь,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зяин нуже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ердцем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жества ни сил в нём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еры со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делу по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го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ковы налож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владеет д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е в службе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нужен, чтоб пы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я мне ну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од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ною знамя распу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щество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я не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елавшись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а царский трон вз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ься нужн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 ей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тоит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льнёт к Т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йдё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40Z</dcterms:modified>
  <cp:revision>12</cp:revision>
  <dc:subject>Slavic hymnal Гимны веры христиан, hymn 899</dc:subject>
  <dc:title>Плени, Господь, меня</dc:title>
</cp:coreProperties>
</file>