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6</a:t>
            </a:r>
            <a:r>
              <a:rPr b="1" lang="ru-RU" sz="3600" spc="-1" strike="noStrike">
                <a:solidFill>
                  <a:srgbClr val="ffffff"/>
                </a:solidFill>
                <a:latin typeface="Verdana"/>
              </a:rPr>
              <a:t>	</a:t>
            </a:r>
            <a:r>
              <a:rPr b="1" lang="ru-RU" sz="3600" spc="-1" strike="noStrike">
                <a:solidFill>
                  <a:srgbClr val="ffffff"/>
                </a:solidFill>
                <a:latin typeface="Verdana"/>
              </a:rPr>
              <a:t>Оживляет весть Господн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живляет вест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щих и кал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 грешных и спас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гоняет ть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и жизни усмиряет,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руг отверженных и греш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ет и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к Нему поспеш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рехах скор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сказал: «Не осуж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не гре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ворит теперь: «Про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твоей душ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сцелял Он прокажё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давал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заменит наши сто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ю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рипал к Его одежд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получ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ришёл к Нему с надеждо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ой тварью ста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с печальными друзья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Шёл Он в Емма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дёт незримо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Господь Иис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ридёт — Его увид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был и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ерпенье, за оби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ст нам жизнь и чест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6:01Z</dcterms:modified>
  <cp:revision>3</cp:revision>
  <dc:subject>Slavic hymnal Гимны веры христиан, hymn 106</dc:subject>
  <dc:title>Оживляет весть Господня</dc:title>
</cp:coreProperties>
</file>