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84E-708D-4D01-BA8A-64F43DBB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A6C-7E27-4170-B58A-A30B4FAF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8D8-3F5D-4FC2-84B9-0AD4F924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494-A018-4B7C-BDE0-9D81F17A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2A5-4F69-45A2-8899-19598F1A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728-DD46-4175-8AEF-AAB8F007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5E1-EB96-4EAF-9A46-A7519545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BAC-9D36-4597-9EE6-125AF257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89D-A35F-4624-8587-F261ECB2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9E5-AC99-4793-8CCD-A90FA91A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911-A9D2-426B-B3AE-8622B5D9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C30-B6CC-4E82-AA3B-8ED61118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4A7FE-8ABB-416D-87D4-75A19BFEC9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 про Бога завж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же мій, не забу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м, словом і ді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в світі прославл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обі все так говори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одий, то весе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коли вже постарі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кайся і молись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3  Пам’ятай про Бога завж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ещасний, ти не зн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ку пору ти помр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е, завтра вже не вста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и більше не бу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е, завтра побудую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б сосновий вже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емля навік покри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є тіло в глиб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уша? Душа заг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агине назавж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зно каятися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й друже, вже тод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еба всі гріхи лиши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ку, це пам’ят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піши Христа прийн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життя Йому від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 о тім, мі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лодих твоїх літ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й Христа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имеш з Ним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0:45Z</dcterms:modified>
  <cp:revision>12</cp:revision>
  <dc:subject>Slavic hymnal Гимны веры христиан, Ukrainian hymn 63</dc:subject>
  <dc:title>Пам’ятай про Бога завжди</dc:title>
</cp:coreProperties>
</file>