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11D-DEE8-439B-9E80-2421094A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0AD-FA76-4EBC-91ED-91B809B7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771-3AB5-4A5E-B628-060DBE22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271-4270-4DCC-B9C9-1339712C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8EE-8552-4CC8-9A58-25255DB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036-2499-4A3E-B787-1468A80C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13C-E2D3-438C-B53B-A9CDE08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56A-FD1B-43CB-BE4B-7E07907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237-DCDC-4487-A861-952CF7B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931-6336-4970-8651-D64123A8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38C-61CB-45BB-944C-DFDBC58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B9B-BDA1-4D6A-9F77-D16CB23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A49CD-677E-478B-84B5-6B9916DE9A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5:26Z</dcterms:modified>
  <cp:revision>12</cp:revision>
  <dc:subject>Slavic hymnal Гимны веры христиан, Ukrainian hymn 81</dc:subject>
  <dc:title>Christ Arose! / У гробі Він лежав</dc:title>
</cp:coreProperties>
</file>