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A1C-6405-40AB-B0CD-7BFDAE50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E9D-C803-41D3-94E4-E7A60246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2A0-0C3E-4CC4-BE77-11CFB367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DB7-0B3F-4B37-B96A-CAB72665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BC7-20BB-4CD6-B14D-27D2528D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746-B033-42B2-B139-B7BDCDDF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85F-57D5-4C29-877B-8FFE6359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D8E-9896-454A-B735-D2440917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212-DE75-47C5-8E6F-804B0FD7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444-9C4D-409E-A629-617A74DC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558-F9BA-47C3-9586-F2EDA8B9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37C-7E03-45DA-BC3B-A49786D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AF3F9-2E8F-425E-B407-E19888AE5C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ше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еленья защи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щь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ь провозгла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Бог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 меня, дал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не стыжусь 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честье з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 незнающих прос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кресту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ст Он постыдить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ставит на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, что мне Он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ёрже, чем крем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бережёт по сла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Ему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5:56Z</dcterms:modified>
  <cp:revision>14</cp:revision>
  <dc:subject>Slavic hymnal Гимны веры христиан, hymn 628</dc:subject>
  <dc:title>Я не стыжуся возвещать</dc:title>
</cp:coreProperties>
</file>