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08</a:t>
            </a:r>
            <a:r>
              <a:rPr b="1" lang="ru-RU" sz="3600" spc="-1" strike="noStrike">
                <a:solidFill>
                  <a:srgbClr val="ffffff"/>
                </a:solidFill>
                <a:latin typeface="Verdana"/>
              </a:rPr>
              <a:t>	</a:t>
            </a:r>
            <a:r>
              <a:rPr b="1" lang="ru-RU" sz="3600" spc="-1" strike="noStrike">
                <a:solidFill>
                  <a:srgbClr val="ffffff"/>
                </a:solidFill>
                <a:latin typeface="Verdana"/>
              </a:rPr>
              <a:t>Я прихожу к Тебе в грехах</a:t>
            </a:r>
            <a:endParaRPr b="0" lang="en-US" sz="3600" spc="-1" strike="noStrike">
              <a:solidFill>
                <a:srgbClr val="000000"/>
              </a:solidFill>
              <a:latin typeface="Verdana"/>
            </a:endParaRPr>
          </a:p>
        </p:txBody>
      </p:sp>
      <p:sp>
        <p:nvSpPr>
          <p:cNvPr id="3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According to Thy loving kindness, Fathe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ave mercy on my sinful, wretched soul.</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Make me to know once more Thy joy an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gladnes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lot out my sin, oh cleanse and make me whole.</a:t>
            </a:r>
            <a:endParaRPr b="0" lang="en-US" sz="28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1.</a:t>
            </a:r>
            <a:r>
              <a:rPr b="0" lang="ru-RU" sz="3000" spc="-1" strike="noStrike">
                <a:solidFill>
                  <a:srgbClr val="ffffff"/>
                </a:solidFill>
                <a:latin typeface="Verdana"/>
              </a:rPr>
              <a:t>	</a:t>
            </a:r>
            <a:r>
              <a:rPr b="0" lang="ru-RU" sz="3000" spc="-1" strike="noStrike">
                <a:solidFill>
                  <a:srgbClr val="ffffff"/>
                </a:solidFill>
                <a:latin typeface="Verdana"/>
              </a:rPr>
              <a:t>Я прихожу к Тебе в грехах, Спасител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много сделал зла за жизнь мою.</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ути не зная Твоего, Кормител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 грехах, во тьме, бродил, прости, молю!</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 humbly now acknowledge my transgression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gainst Thee only, Father, is my s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Restore to me the joy of my salvatio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h, purify my life, without, within.</a:t>
            </a:r>
            <a:endParaRPr b="0" lang="en-US" sz="28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слышь, Господь, мою молитву нын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ости, прости грехи, омой мен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сознаю греха и зла пучин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 смилуйся в любви, прими раба!</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A contrite heart I offer Thee, dear Fathe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h, hide Thy face from all my sin, I pray.</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ccording to Thy tender love and mercy,</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h, pardon, Lord, this soul that went astray.</a:t>
            </a:r>
            <a:endParaRPr b="0" lang="en-US" sz="2800" spc="-1" strike="noStrike">
              <a:solidFill>
                <a:srgbClr val="000000"/>
              </a:solidFill>
              <a:latin typeface="Verdana"/>
            </a:endParaRPr>
          </a:p>
        </p:txBody>
      </p:sp>
      <p:sp>
        <p:nvSpPr>
          <p:cNvPr id="4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2.</a:t>
            </a:r>
            <a:r>
              <a:rPr b="0" lang="ru-RU" sz="3000" spc="-1" strike="noStrike">
                <a:solidFill>
                  <a:srgbClr val="ffffff"/>
                </a:solidFill>
                <a:latin typeface="Verdana"/>
              </a:rPr>
              <a:t>	</a:t>
            </a:r>
            <a:r>
              <a:rPr b="0" lang="ru-RU" sz="3000" spc="-1" strike="noStrike">
                <a:solidFill>
                  <a:srgbClr val="ffffff"/>
                </a:solidFill>
                <a:latin typeface="Verdana"/>
              </a:rPr>
              <a:t>Хоть недостойно возношу молитв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о ради смерти крестной и крови,</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ошу, прими, покрой греха пучин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жажду мира, святости, любви.</a:t>
            </a:r>
            <a:endParaRPr b="0" lang="en-US" sz="3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 humbly now acknowledge my transgression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gainst Thee only, Father, is my s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Restore to me the joy of my salvatio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h, purify my life, without, within.</a:t>
            </a:r>
            <a:endParaRPr b="0" lang="en-US" sz="2800" spc="-1" strike="noStrike">
              <a:solidFill>
                <a:srgbClr val="000000"/>
              </a:solidFill>
              <a:latin typeface="Verdana"/>
            </a:endParaRPr>
          </a:p>
        </p:txBody>
      </p:sp>
      <p:sp>
        <p:nvSpPr>
          <p:cNvPr id="4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слышь, Господь, мою молитву нын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ости, прости грехи, омой мен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сознаю греха и зла пучин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 смилуйся в любви, прими раба!</a:t>
            </a:r>
            <a:endParaRPr b="0" lang="en-US" sz="3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3.</a:t>
            </a:r>
            <a:r>
              <a:rPr b="0" lang="ru-RU" sz="3000" spc="-1" strike="noStrike">
                <a:solidFill>
                  <a:srgbClr val="ffffff"/>
                </a:solidFill>
                <a:latin typeface="Verdana"/>
              </a:rPr>
              <a:t>	</a:t>
            </a:r>
            <a:r>
              <a:rPr b="0" lang="ru-RU" sz="3000" spc="-1" strike="noStrike">
                <a:solidFill>
                  <a:srgbClr val="ffffff"/>
                </a:solidFill>
                <a:latin typeface="Verdana"/>
              </a:rPr>
              <a:t>Не отклони моей молитвы, Бож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верю в силу Сына Твоего,</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верю в Кровь пролитую и Слово,</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ерю, прощаешь мне ради Него.</a:t>
            </a:r>
            <a:endParaRPr b="0" lang="en-US" sz="3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 humbly now acknowledge my transgression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gainst Thee only, Father, is my s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Restore to me the joy of my salvatio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h, purify my life, without, within.</a:t>
            </a:r>
            <a:endParaRPr b="0" lang="en-US" sz="2800" spc="-1" strike="noStrike">
              <a:solidFill>
                <a:srgbClr val="000000"/>
              </a:solidFill>
              <a:latin typeface="Verdana"/>
            </a:endParaRPr>
          </a:p>
        </p:txBody>
      </p:sp>
      <p:sp>
        <p:nvSpPr>
          <p:cNvPr id="49"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слышь, Господь, мою молитву нын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ости, прости грехи, омой мен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сознаю греха и зла пучин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 смилуйся в любви, прими раба!</a:t>
            </a:r>
            <a:endParaRPr b="0" lang="en-US" sz="3000" spc="-1" strike="noStrike">
              <a:solidFill>
                <a:srgbClr val="000000"/>
              </a:solidFill>
              <a:latin typeface="Verdana"/>
            </a:endParaRPr>
          </a:p>
        </p:txBody>
      </p:sp>
      <p:sp>
        <p:nvSpPr>
          <p:cNvPr id="5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20:56:20Z</dcterms:modified>
  <cp:revision>3</cp:revision>
  <dc:subject>Slavic hymnal Гимны веры христиан, hymn 208</dc:subject>
  <dc:title>According to Thy Loving Kindness / Я прихожу к Тебе в грехах</dc:title>
</cp:coreProperties>
</file>