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5</a:t>
            </a:r>
            <a:r>
              <a:rPr b="1" lang="ru-RU" sz="3600" spc="-1" strike="noStrike">
                <a:solidFill>
                  <a:srgbClr val="ffffff"/>
                </a:solidFill>
                <a:latin typeface="Verdana"/>
              </a:rPr>
              <a:t>	</a:t>
            </a:r>
            <a:r>
              <a:rPr b="1" lang="ru-RU" sz="3600" spc="-1" strike="noStrike">
                <a:solidFill>
                  <a:srgbClr val="ffffff"/>
                </a:solidFill>
                <a:latin typeface="Verdana"/>
              </a:rPr>
              <a:t>Почему об одном я по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чему об одном я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гда об одном гово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 Иисусе Христе доро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купителе вечном м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ому что Он кровь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ужасный с души моей с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бровольно Он отдал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о смерти меня возлюби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чему я всем сердцем,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рестанно стремлюся к т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сегда, будь то ночью иль д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осить Ему в жертву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ому что Он к жизн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ил слабый, мёртвый дух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разбитое сердце м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целительный, сладкий 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Это имя святое —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дороже на свете им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ругого нигде не найд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 вверху, ни внизу, под земл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зачем я об этом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б имени этом тверж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другого такого, как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одобного не нахожу.</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4:04Z</dcterms:modified>
  <cp:revision>3</cp:revision>
  <dc:subject>Slavic hymnal Гимны веры христиан, hymn 75</dc:subject>
  <dc:title>Почему об одном я пою</dc:title>
</cp:coreProperties>
</file>