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6BD-DDE8-466F-8309-01EDE364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4E6-17A5-4286-9515-63A69A54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E69-41C3-4B01-955E-35E34692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16A-0775-4D43-8018-EC3672DE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12A-76D1-4F5A-8CFE-EF82FE7B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231-2450-4CC0-AA1C-948013A6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77E-7F0E-4A31-9489-CD8DD914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E73-91FC-4737-9BD4-8414B0D8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F90-97D9-4B97-877C-A8EFAB53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04C-356D-44ED-ADD2-5BDD963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A6A-B10B-4A10-B8E6-F0756B2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617-C175-4402-B4E0-FB7FE5F0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A2FB9-5B59-459A-9ADD-AD6C1DFCE0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!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!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 ца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ей и Господь госп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аллилуйя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князь Ты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аллилуйя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7:15Z</dcterms:modified>
  <cp:revision>11</cp:revision>
  <dc:subject>The Source, song number 307 in Russian</dc:subject>
  <dc:title>Царь царей / King of Kings</dc:title>
</cp:coreProperties>
</file>