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F2F-678C-4F24-938E-51BB8966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E3A-6414-490B-B486-9B5D3033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53E-35EA-421E-99D5-ACC93E2E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37D-2605-40F0-AABF-D3D6D8C4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25B-C930-4FE3-BE69-3CDAD2C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2C2-4DAC-4A53-9B81-BAEB16E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A34-6684-4B98-8EB6-32CE54AF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434-31CD-48D9-B3A3-FCF5A78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8D3-0657-40F0-9B10-20832EC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73A-66E7-4281-A87A-60D87CB7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989-B09A-49FE-95FB-6066138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3E4-1A72-498C-BED1-7F17039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87238-44F8-45B6-A8CC-ECF5ECB2FD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56Z</dcterms:modified>
  <cp:revision>12</cp:revision>
  <dc:subject>Slavic hymnal Гимны веры христиан, hymn 401</dc:subject>
  <dc:title>Чудный Спаситель зовёт нас домой</dc:title>
</cp:coreProperties>
</file>