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4CB-D024-49BF-8B01-2961D4DD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29E-E864-4171-9351-7DF8982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B22-64CA-4733-994C-6399A93A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A8C-91FF-40AA-B44C-EC914C45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44-C198-4D54-9800-09CBA35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0B2-97CB-4303-B472-DC61BDE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DEE-FAD6-422B-8074-FC2204C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9E7-52A8-4A92-A482-9E09756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23D-F6CE-4A31-B22E-3CCB1477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D57-B883-4ABD-9122-DBF22FC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396-6E1C-4955-B3D6-E696716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521-C0F5-4801-A12B-6886C03C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CA14C-EE03-4DFE-B24D-315FE8D03B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life down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urn to You, and You are alway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roubled times it’s You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ut You first, that’s all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mble all I am, al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5   I Lay My Life Dow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lways, alway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how and ev’ry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so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never ever chan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terday, today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till for ever meet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uth and th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 by sight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living all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18Z</dcterms:modified>
  <cp:revision>12</cp:revision>
  <dc:subject>The Source 3, song number 1295</dc:subject>
  <dc:title>I Lay My Life Down At Your Feet (One Way)</dc:title>
</cp:coreProperties>
</file>