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A8C-A723-4760-8C50-F94E8919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073-7FE9-46ED-8892-B2488C7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F81-A18B-4189-B91C-8731EA20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C65-39B6-446D-92CF-626BE931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E70-DAEA-4A3A-B811-653860C2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5F7-951D-43EC-B2E3-93EE8B50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0FB-F313-4C6E-B04A-11473BC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AA9-3FFE-4F2F-BC76-60A42084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DD3-A016-458D-A312-463A493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C0D-752D-436D-8857-BBB2014A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3F7-121F-4964-8BA5-D87A920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240-FA1E-462E-8519-CE97027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2B283-3F89-4752-893C-5208E52655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всё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ждым днём ясней пред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является с гро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ведёт в борьбу со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утом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укре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о вс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в сердце яд о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лить наш враг лука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, когда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яют вдруг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нений ря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дут за Божь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42Z</dcterms:modified>
  <cp:revision>12</cp:revision>
  <dc:subject>Slavic hymnal Гимны веры христиан, hymn 733</dc:subject>
  <dc:title>Время, как река, течёт</dc:title>
</cp:coreProperties>
</file>