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23A-2570-4814-BC61-F74B3945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2D8-B480-4C15-81D6-F662417B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078-8E3C-4A20-8E9E-765408F5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2F2-3CA6-4C34-AB07-DDFA8E59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463-55C9-4207-962C-406CDF7C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B13-A40C-4898-9DB9-302D667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A4B-DA9B-4202-A47B-7FAEA91F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0CC-81CF-46DD-8B48-523F02E1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B0-1779-4736-8CA3-5DB9EE0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DAB-964D-4221-9FA2-7B1BFD1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B16-2525-4CF7-9748-C76CD08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936-E251-4841-805A-C9A55C9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073EF-8E1B-484C-939A-E64C4CC8A9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пасінням укр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з великим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’ю Христовою вм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стісняє спок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 ти на поміч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 Нім знайдеш ти притул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8  Вічним спасінням укри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оронити Сам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твій тягар поне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Він не поза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ть твої Він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ін усуне зітх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ач відбере та ри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4:40Z</dcterms:modified>
  <cp:revision>12</cp:revision>
  <dc:subject>Slavic hymnal Гимны веры христиан, Ukrainian hymn 28</dc:subject>
  <dc:title>Вічним спасінням укрийся</dc:title>
</cp:coreProperties>
</file>