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437E-AAEF-48DF-BF78-9779E696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CC30-5D40-4C47-A341-0413BB7A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22D9-AFDE-4075-A509-D8240140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CE8D-3667-4C83-A164-7D0F7D4D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CB68-C431-4964-9B84-74A2D60E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EF2E-9B83-4C5B-A399-58FA6DB2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C8AE-1184-4160-B9CF-4533C812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13D1-2A70-4171-802B-A8BA9371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1D79-7141-4935-8001-6A71CA1D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460B-487F-441D-9E80-7B3D6673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B257-C91F-4D5E-BDB2-034793C0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D2F5-AD35-47F1-9F9A-4D28E7F4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ACFA4-31DA-4B72-9145-973037D6871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тит безжалостное врем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мчались тысячи го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ёт и нынешнее пл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лед исчезнувших р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ёт и нынешнее пл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лед исчезнувших р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етит безжалостное 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в вечность день за днём стрем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ляя нам сле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на крыльях ветра мчитс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и наша чер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на крыльях ветра мчитс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и наша чер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ши громкие дея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ы, заботы, су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знут в пучине мироз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еприметная мечт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знут в пучине мироз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еприметная мечт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вот, зачем ты в свет род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олько выдержал скорб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ому ль твой жадный ум стрем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тать добычею черв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ому ль твой жадный ум стрем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тать добычею черв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жизни счастья призрак ло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кружил тебя во мгл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ываешь, прах ничтож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— прохожий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ываешь, прах ничтож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— прохожий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есть за гробом жизнь и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ая, без счёта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там участь ждёт ка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этом думал ты иль 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там участь ждёт ка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этом думал ты иль 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0:05Z</dcterms:modified>
  <cp:revision>12</cp:revision>
  <dc:subject>Slavic hymnal Гимны веры христиан, hymn 736</dc:subject>
  <dc:title>Летит безжалостное время</dc:title>
</cp:coreProperties>
</file>