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C3F7-61F3-4B38-BD58-312D6D96A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73FD-1E66-4537-8F13-1B319ACE5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C254-B3F3-42B4-9115-648C6FFF8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2181-9345-440F-A4E1-F888CC16A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22FA-2E43-4BB6-9DC9-06F94107D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500F-3472-4D0B-ACA8-A28AF7FF5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85D8-DD3D-47F5-B868-1E50B3F6B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D536-69BF-4E45-853E-7A7C8525E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FE81-6C08-43D5-8BF8-CB669283A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3890-8EF4-4642-8B63-B55C083AF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B091-EAD0-4F1A-ABB0-3FDFECD64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DDCC-E179-4E84-8906-3345C6AE3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B93BC0-A5F9-4C51-B37F-C49E5D89271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то, хто радість дас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в журбі благ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Радість, щастя у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иш я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мене від з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вжди захист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ез Нього не можу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світі ж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61   Хто, хто радість даст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очу жити з Н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Господом мої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стражданням відкупи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ене Свої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личе Спас усі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скорше прийш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велику раді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ерце прийня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мій друже, вста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 Христа прий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Радість, щастя й спокі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Ньому й ти знай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0T06:41:16Z</dcterms:modified>
  <cp:revision>12</cp:revision>
  <dc:subject>Slavic hymnal Гимны веры христиан, Ukrainian hymn 61</dc:subject>
  <dc:title>Хто, хто радість дасть?</dc:title>
</cp:coreProperties>
</file>