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390-A7C8-47FC-86AA-74B2A7F2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668-C042-488F-A7FB-F697FD4F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688B-7761-4417-9C23-938C692F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888-462C-4617-B38B-59255B07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16B-FB33-4C2D-B462-7AAFD28A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6DA-DB93-4B55-B8EE-B395C240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EFD-B8D2-44FF-8B96-8DAEF74A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027-74C0-42FE-9EB6-F0FE0A07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8377-0939-4252-93BD-16682367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115-9FA7-47E6-A7FE-1862A5CB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49B-C6E3-4750-B44D-95098FF7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272-3DD8-44CD-9345-47709FFC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1C3BE-6E02-434E-8DBF-7D5B8848FD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gate that stands aj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its portals gl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adiance from the cross a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viour’s love revea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верста дверь для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верь для нас од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возь неё си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Спасителя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рай всех приглаш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pth of mercy!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was left ajar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! (For me!) For me! (For m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left ajar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ajar stands free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seek through it salv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ich and poor, the great and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every tribe and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проходят дверью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рай войти жел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ый, знатный и про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приз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pth of mercy!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was left ajar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! (For me!) For me! (For m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left ajar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s onward, then, though foe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mercy’s gate is op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ccept the cross, and win the cr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’s everlasting to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чрез эту дверь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Спаситель прим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мир душе своей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Отец обним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pth of mercy!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was left ajar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! (For me!) For me! (For m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left ajar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river’s brink we’ll 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that here is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ear the crown of lif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ove Him more in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рат святых отчизны 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земной он сл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небесный зол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Господь возл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pth of mercy!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was left ajar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! (For me!) For me! (For m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left ajar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51Z</dcterms:modified>
  <cp:revision>13</cp:revision>
  <dc:subject>Slavic hymnal Гимны веры христиан, hymn 371</dc:subject>
  <dc:title>The Gate Ajar For Me / Отверста дверь для нас одна</dc:title>
</cp:coreProperties>
</file>