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703-81B2-4F57-95FB-94FED73A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395-34F1-436E-A02F-0DD70DE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9D4-BAF3-4ECC-9FC7-C34EBFE7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F7A-D151-4E43-A8F5-EFEA58F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D7E-86DB-4359-BF80-07A9C6B7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3C3-244E-4224-88C2-D6D4E99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92E-4A99-40D8-9143-CB789498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5DC-2470-427E-A946-B3EE3F03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C4D-61EC-4FC2-8DF9-26E1DAC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60E-EDDB-419B-AAE7-F2D97A7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9F3-0370-4311-A3F7-215F773A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B50-4577-4FDC-BAA9-0AB03B0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8EFA5-4BE0-46BA-8FF6-6DEAFAC2F5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of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consum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glory, rose of Sha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re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now my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83   Joy of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will never be a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dear to m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46Z</dcterms:modified>
  <cp:revision>12</cp:revision>
  <dc:subject>The Source 3, song number 1383</dc:subject>
  <dc:title>Joy of My Desire</dc:title>
</cp:coreProperties>
</file>