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02-2855-4B01-8538-2C3FC3AD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5A7-7BDB-4929-A0F8-9DE47F6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5E4-E422-4718-BFAE-94E673B6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881-CDC1-4D80-AAC7-DF1399EB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33D-972A-4E20-93E5-A4C16EC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960-BF61-47F1-8CAA-43CE5DB1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912-261D-4292-BE93-10A8EC1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275-F3B4-4043-9B2B-EB449DA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598-3AEC-45B6-97D5-3AA4E95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A2D-93A7-414E-B1C0-9482080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F7F-5D84-478D-91DD-F420A80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0DF-3A96-4858-AD82-37D8109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6205F-F7F8-4927-853B-6472E6C7B4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26Z</dcterms:modified>
  <cp:revision>12</cp:revision>
  <dc:subject>Slavic hymnal Гимны веры христиан, hymn 599</dc:subject>
  <dc:title>Я спою вам песню веры</dc:title>
</cp:coreProperties>
</file>