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DD4-FCDA-412C-9E28-D40A591C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260-8250-4F5A-BF0A-140D1EAF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48D-57E5-42CF-B4AF-9D8A7A5E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670-1D65-4295-83EE-E412B88B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573-08D1-46CB-9AC0-371FF8C9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A19-E12A-43AB-9946-81C534FA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F6B-676E-4B2D-ADC3-E356BD13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F71-AE51-4F11-81C9-36AB0567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AFB-0425-496B-85DC-7064E31A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2CA-46DC-4722-88AB-09082BCC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903-B2EA-4B00-8741-50332396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633-C4FC-4F5B-BA54-56F3DF5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20AF5-FF57-4F6C-9385-ED40D112B1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my life, I crown The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shall the glory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thorn crowned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чальник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ьник жизни, Пастыр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во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я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me the tomb where Thou wast l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mourned and wep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in robes of light arr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arded Thee whilst Thou sl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мне новый гроб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ученный,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нгела, что с вы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сторо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, like Mary, through the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a gift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to me now the empty to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, как жёны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ть дары мо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ы луч во мне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be willing, Lord, to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my cross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y cup of grief to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borne all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я подра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у скорби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ш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4:18Z</dcterms:modified>
  <cp:revision>13</cp:revision>
  <dc:subject>Slavic hymnal Гимны веры христиан, hymn 430</dc:subject>
  <dc:title>Lead Me to Calvary / Начальник жизни, Пастырь мой</dc:title>
</cp:coreProperties>
</file>