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9036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71</a:t>
            </a:r>
            <a:r>
              <a:rPr b="1" lang="ru-RU" sz="3600" spc="-1" strike="noStrike">
                <a:solidFill>
                  <a:srgbClr val="ffffff"/>
                </a:solidFill>
                <a:latin typeface="Verdana"/>
              </a:rPr>
              <a:t>	</a:t>
            </a:r>
            <a:r>
              <a:rPr b="1" lang="ru-RU" sz="3600" spc="-1" strike="noStrike">
                <a:solidFill>
                  <a:srgbClr val="ffffff"/>
                </a:solidFill>
                <a:latin typeface="Verdana"/>
              </a:rPr>
              <a:t>В вышине под небесам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 вышине под небесам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вонко льётся пень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у хвалень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нгелы поют хорам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оржествующей хвал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Богу сла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клицайте дружно Господу земл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Богу сла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Господу земл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илосердье возвещайт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с возлюбивши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шников погибши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зор с Голгофы устремляе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ер там за нас Христо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Богу сла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клицайте дружно Господу земл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Богу сла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Господу земл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Муж скорбей за нас страдае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 венце тернов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концом суровы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ртью грех Он покоряе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традальцам мир даё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Богу сла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клицайте дружно Господу земл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Богу сла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Господу земл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Он разрушил узы тл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скрес в день трети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но на рассвет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воспойте песнь хвал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арил нам жизнь Христо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Богу сла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клицайте дружно Господу земл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Богу сла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Господу земли!</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1:54:14Z</dcterms:modified>
  <cp:revision>4</cp:revision>
  <dc:subject>Slavic hymnal Гимны веры христиан, hymn 571</dc:subject>
  <dc:title>В вышине под небесами</dc:title>
</cp:coreProperties>
</file>