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BE03-6100-4864-BE7A-E569B8B0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0754-1309-426E-85D6-E33CB1E1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C015-1C11-492B-BC27-65153009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7FBD-7FE2-4407-9E96-A5201FF3D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A059-2BE9-4825-88A8-753A4594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7EFE-A67E-4FAC-ADDA-3C2FF666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01B6-CFD8-4148-B143-777CDE10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4EB0-D30C-4962-B2FA-1C3E3329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1A6-36EB-4AF2-A4C0-B49AB847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5955-41FE-42B7-B634-48FDF637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61D6-F933-40B8-B5A5-CDFD58D0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EC43-BBCC-4D02-B73F-DBBAF8B6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D102B-258E-463F-92A8-7AD8489C2AE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рогий Завіт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Він вірним обіця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шляху з землі до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шляху з землі до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2   Дорогий Завіт І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орог тебе звод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 шляху, що ти прийн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ам’ятай, що Він говор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шляху з землі до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ерце перест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повати на Христа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 чуй з вірою слова ц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шляху з землі до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ні життя кін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остання хвиля й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 й тоді звучать слова ц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шляху з землі до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7:18Z</dcterms:modified>
  <cp:revision>12</cp:revision>
  <dc:subject>Slavic hymnal Гимны веры христиан, Ukrainian hymn 42</dc:subject>
  <dc:title>Дорогий Завіт Ісуса</dc:title>
</cp:coreProperties>
</file>