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B2F-EEEB-457A-9B09-2EEC6C85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803-9EC4-480F-96FF-4E64F44F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BA7-7566-4DEE-9EF2-37BD6B59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2C6-57F9-4C9B-B8B8-1E119EEA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37D-DA4B-4CC8-9640-AA949FA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F55-4125-45B7-84B1-F234A14C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514-3B6B-48D7-BCED-6A6C94B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740-C9E0-423D-BF20-16941BCA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824-9129-4962-A812-EE965590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8CF-8C71-4112-9033-197DF20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5AF-1922-4B20-9F36-F98C044D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6A0-C160-4228-A324-00D2B8E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F9FE1-E0E9-4212-8691-6621094845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это глуп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хочется пля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же, как и мы,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увидев свет, будет танце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09Z</dcterms:modified>
  <cp:revision>11</cp:revision>
  <dc:subject>The Source, song number 421 in Russian</dc:subject>
  <dc:title>Через вершины и моря / Over the Mountains and the Sea (I Could Sing of Your Love For Ever)</dc:title>
</cp:coreProperties>
</file>