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137-B8B9-44D2-A4C1-C1F1797C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3D0-29BB-4984-AEAE-AE45053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517-E77D-4C4B-B566-293AE87F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3B3-ED15-487A-9774-8FBE44FF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C67-AA03-4078-A59E-397CB44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218-766A-4E49-BA97-BAAD0A14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35A-890B-4E97-BA88-630B3A2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96C-1417-46D9-85AB-E9128EE9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7AC-0FDB-474B-B74A-E5E39593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391-3C47-4116-8B6D-819C7F1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AB3-C0ED-4815-9DC8-290D8BB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0D3-BBC6-458E-AB15-10FFA2A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E0ACC-9FDD-46B9-90B7-D6A4511475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32Z</dcterms:modified>
  <cp:revision>12</cp:revision>
  <dc:subject>Slavic hymnal Гимны веры христиан, Ukrainian hymn 51</dc:subject>
  <dc:title>О, Божих слів не забувай</dc:title>
</cp:coreProperties>
</file>