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2EC8-51DE-48CD-BDD4-0FDA10F9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4B4D-E6C2-4E03-B05A-93A6FFC7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1C7B-DE11-46BB-A761-67B6E7023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94F0-307F-4664-B3F2-67A684A85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6550-C216-4218-B2F3-B4131DBF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4323-5389-43FD-BF83-0FE0B939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69AB-4313-4354-8709-78BF1951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535A-D355-4CD7-B933-B8A93F52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950B-7FD4-467A-B303-A3C72240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CB6B-2FD3-4F6D-9511-F19573AC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D322-B52C-4909-A92D-FABBEE4E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61FF-9A45-46CC-87C4-FBCFBD22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2B7E2-E6AE-4282-B7FD-142FE4DE40D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, к нам весть до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вучала над земл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чь Христова Рожде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олняя мир хва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Ангелы, к нам весть дош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ухи, что тешит в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олняет торжеств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торите нам расск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ладенце незем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в Вифле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лониться Богу си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ителе Хри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небесный возвес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дных яслях Он ле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ладыка всей зем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людям руки простир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все к Нему при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48:12Z</dcterms:modified>
  <cp:revision>13</cp:revision>
  <dc:subject>Slavic hymnal Гимны веры христиан, hymn 879</dc:subject>
  <dc:title>Ангелы, к нам весть дошла</dc:title>
</cp:coreProperties>
</file>