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F2A-BF36-4777-8999-AA9E581B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883-2699-4766-A5A3-19C30AF2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A63-B77E-46F1-9C81-BB15611A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20F-C2FF-4C4D-A295-CEC0A9CE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783-465A-4C5C-BCE9-F86DB7BA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73F-8927-4622-9083-6BA208C7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9DB-D1BA-4077-BBDB-33C81240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18B-81BE-4C34-B9D9-7E71CA5D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D80-82A6-45FE-9601-D5E4BA52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E11-D1BF-478C-A12C-7D620AD9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FA7-9F9E-4529-B672-A1FCAAD4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E06-7142-4050-8168-0E88FBF7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0D61C-590E-4A19-8AE8-978FEEEB3D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отрите,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льшим удивлень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то мы сделали с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едный страдал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омой от ро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оровым стоит перед 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смотрите, лю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отрите? раз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не та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мало различных болез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 верой в молит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вас для жизни поле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отрите,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ас, как на ди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ело идём на муч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мы спок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ны, счастл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жизнь, благодать и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славный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енья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ите ль гордые в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друг завоп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спуге смертель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кройте нас, камни и горы!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, гля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на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ьбой, с покаяньем сердеч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вам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жет в служ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будете в радости веч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5:14Z</dcterms:modified>
  <cp:revision>13</cp:revision>
  <dc:subject>Slavic hymnal Гимны веры христиан, hymn 770</dc:subject>
  <dc:title>Что смотрите, люди</dc:title>
</cp:coreProperties>
</file>