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90</a:t>
            </a:r>
            <a:r>
              <a:rPr b="1" lang="ru-RU" sz="3600" spc="-1" strike="noStrike">
                <a:solidFill>
                  <a:srgbClr val="ffffff"/>
                </a:solidFill>
                <a:latin typeface="Verdana"/>
              </a:rPr>
              <a:t>	</a:t>
            </a:r>
            <a:r>
              <a:rPr b="1" lang="ru-RU" sz="3600" spc="-1" strike="noStrike">
                <a:solidFill>
                  <a:srgbClr val="ffffff"/>
                </a:solidFill>
                <a:latin typeface="Verdana"/>
              </a:rPr>
              <a:t>Всевышнему слава!</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севышнему сла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нас оправ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мир возлюбил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Сына нам 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ь нас кров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ею омы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оступ к небесно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частью открыл.</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 Христа! Славь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оржеством славь, земл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 Христа! Славь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все племе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дите, о лю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к престолу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лавьте всесиль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жертву креста.</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рощенье грех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дарует то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в полном смире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ёт пред Христ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злейший преступн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шедший к Н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щён в согреше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ликом своём.</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 Христа! Славь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оржеством славь, земл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 Христа! Славь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все племе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дите, о лю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к престолу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лавьте всесиль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жертву креста.</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Спаситель — наставн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ённым во вс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ила Христа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зла оград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зде под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тным крыл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йдём мы от бур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олнения щит.</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 Христа! Славь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оржеством славь, земл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 Христа! Славь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все племе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дите, о лю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к престолу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лавьте всесиль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жертву креста.</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0T10:27:20Z</dcterms:modified>
  <cp:revision>3</cp:revision>
  <dc:subject>Slavic hymnal Гимны веры христиан, hymn 90</dc:subject>
  <dc:title>Всевышнему слава! Он нас оправдал</dc:title>
</cp:coreProperties>
</file>