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8</a:t>
            </a:r>
            <a:r>
              <a:rPr b="1" lang="ru-RU" sz="3600" spc="-1" strike="noStrike">
                <a:solidFill>
                  <a:srgbClr val="ffffff"/>
                </a:solidFill>
                <a:latin typeface="Verdana"/>
              </a:rPr>
              <a:t>	</a:t>
            </a:r>
            <a:r>
              <a:rPr b="1" lang="ru-RU" sz="3600" spc="-1" strike="noStrike">
                <a:solidFill>
                  <a:srgbClr val="ffffff"/>
                </a:solidFill>
                <a:latin typeface="Verdana"/>
              </a:rPr>
              <a:t>Единый Врач явился на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диный Врач явился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диный Исцел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сокрушённым дал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спятый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все грехи тво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юбящи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ом Отца тебе откр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у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бя я вечно восхва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ш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мя так Твоё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й Царь,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страх, и грех пред Ним беж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ильны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ердцу сладостно звуч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Он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ридите, братья,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имя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ёстры, пеньем воз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и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И дети все, велик и м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им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вас трудиться Он приз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ть для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Когда с хвалением од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явимся с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ем мы венцы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ашим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ий Ты мне дал у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ять я его не см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валу Твою я 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Спаситель.</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5:39Z</dcterms:modified>
  <cp:revision>4</cp:revision>
  <dc:subject>Slavic hymnal Гимны веры христиан, hymn 118</dc:subject>
  <dc:title>Единый Врач явился нам</dc:title>
</cp:coreProperties>
</file>