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05F-9B59-4933-A754-3CB4F672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152-CC63-4BAB-A3C2-460F0AE5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58A-857F-468F-A369-AD81D62F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E1A-5C13-40D0-B9A2-6F29D2CE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ADAE-C6F4-485C-AA5B-226D12FD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650-2C47-44D5-A494-3545C251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F13-FC81-49C0-8365-FBC1432F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E5D-E692-4D6F-AEC9-DE7C2DA5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FED-5828-4299-923D-FE63FFC3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71E-E16B-46AE-82D4-2831DA9C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7CB-D610-4807-9BA8-AF1E2F30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375-C589-49F4-9348-054FA64C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75F24-3E04-426D-BC87-CD60334205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греховн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авда, гон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, неволя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ире грехов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злослов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да, раз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волье в де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любв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сраж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успешности — к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стно, коль в на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х затемн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, коль ближний нам — вр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етерпевши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спас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ая радость в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54Z</dcterms:modified>
  <cp:revision>12</cp:revision>
  <dc:subject>Slavic hymnal Гимны веры христиан, hymn 775</dc:subject>
  <dc:title>В мире греховном</dc:title>
</cp:coreProperties>
</file>