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8BF9-8C43-4FF4-9ADB-3B349EE53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E374-156B-494F-B4EF-72C725D83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78F8-23A8-4756-AC88-4C6C3FEFC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8E5D-EE0D-45AA-A79D-393FDCB97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E082-0B0F-44B9-B2CD-790512266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9442-879C-4E4D-9AB6-4223ECD17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D4FD-4978-4F02-BCA3-17E1BD47D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DF65-1AF4-4DFC-BBF9-D16E6DF04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2994-AC6A-4C32-8BFB-1F410E4D3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4600-BA19-44A6-BF3E-5ED6D5BD8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0967-2851-4AD5-89E0-F477094F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BEC6-194E-4AE6-8A8E-34263904D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9B26CD-F69C-415E-88A3-3D805BCFC15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ьи воины, смотр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ба дан сигн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вые полки, гляд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Господь посл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Крепость Мою не сдавай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Я прид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 на небо отвечай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Не сдадим враг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8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ожьи воины, смотри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идут полки чужие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тана вед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ья падают родны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х уж всех бер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Крепость Мою не сдавай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Я прид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 на небо отвечай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Не сдадим враг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мя выше подым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те труб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ло, дружно все бег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ожию войн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Крепость Мою не сдавай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Я прид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 на небо отвечай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Не сдадим враг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ится бой, полки реде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щь уж близ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даются, не робе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ины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Крепость Мою не сдавай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Я прид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 на небо отвечай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Не сдадим враг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идёт Господь наш с неб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егионы с Ни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и радость, и победа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воздад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Крепость Мою не сдавай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Я прид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 на небо отвечай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Не сдадим враг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6-06-08T20:38:01Z</dcterms:modified>
  <cp:revision>13</cp:revision>
  <dc:subject>Slavic hymnal Гимны веры христиан, hymn 484</dc:subject>
  <dc:title>Божьи воины, смотрите</dc:title>
</cp:coreProperties>
</file>