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E3A6-B5E3-469D-80BE-F6C7D0A69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4230-32E4-4B86-AD62-8E40575A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35CB-22FA-49D3-BBF1-DABD173C8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26E7-9CCA-4E39-BE73-CD96BAE7F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7E28-B05E-42E3-898C-C394BE4D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D6D4-C1C9-40C8-AA22-D2580884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3D36-7C16-4A1A-9C27-76C3ECE2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A418-2751-46E4-BB6A-A8E0A209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1C66-9351-4080-8C44-CCF31E15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67FC-5EA7-4EEC-A2BA-12479F9D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C795-0A0B-4710-B049-D885378F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1D62-EAAE-4DE5-86C2-2885E823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31D8E9-7725-4170-B233-2249AA85CC6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возь тьму сияет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изок уж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за волнами ма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рега т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конец пу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би, друг, ско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ерегу в ладье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сь ск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0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квозь тьму сияет с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ерегу, к бере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сь ско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йся бу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реби вес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адье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опасно плы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жалей корабль разбит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ладью надей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па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ря вздымае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тер ре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йся мрака, гу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н не страш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ая звезда вз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ерег держ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ерегу, к бере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сь ско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йся бу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реби вес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адье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опасно плы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жалей корабль разбит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рассветает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ву воскло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чи рассея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слава вблиз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адье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 восп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ждёт тебя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пристани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ерегу, к бере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сь ско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йся бу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реби вес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адье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опасно плы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жалей корабль разбит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4:28Z</dcterms:modified>
  <cp:revision>12</cp:revision>
  <dc:subject>Slavic hymnal Гимны веры христиан, hymn 704</dc:subject>
  <dc:title>Сквозь тьму сияет свет</dc:title>
</cp:coreProperties>
</file>