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FB2-49B5-4477-B5AE-49839C68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CCF-D777-4AF7-961B-3A5E1F2A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C81-7284-4F0E-88EA-F52ACA94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9F0-84FD-44AC-9D1C-9B8E87EA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BFD-DF93-4991-9CD5-51DDE2A2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CA8-9CF2-404C-8CFC-3EA73709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8E0-048B-4438-BD96-1BB91EB9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589-C978-4793-9312-D522A878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9BF-68B0-432E-A515-C57F3AA3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4ED-31FE-4CB2-AA8E-78A08AE4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4F9-49B0-42B1-8B20-E490C6FE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BCF-0B6A-41D8-BDC0-8BFA6E6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356C6-2A53-40FD-B224-6859DDD16C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land that is fairer than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faith we can see it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Father waits over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pare us a dwelling p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8   Там далеко вже ви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далеко вже видно то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го вірні лиш люди ввійд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Спаситель веде у Свій 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відкуплений і вірний лю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sing on that beautiful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lodious songs of th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pirits shall sorrow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igh for the blessing of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у славі, в небесній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чудова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Творця там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дкуплені кров’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bountiful Fath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ffer our tribute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ious gift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essings that hallow our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є зібрання спасенних в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Духом обняті в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 співають піс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роном Його пре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7:56Z</dcterms:modified>
  <cp:revision>12</cp:revision>
  <dc:subject>Slavic hymnal Гимны веры христиан, Ukrainian hymn 68</dc:subject>
  <dc:title>Sweet By and By / Там далеко вже видно той край</dc:title>
</cp:coreProperties>
</file>