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9F6-6551-4978-9DA2-811AA260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324-0CC9-4F6D-BA67-1C7D1998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6C0-324D-49EF-A820-62C7D54B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2A7-2F2A-42CD-AD75-F288E180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4E5-C6FA-4192-99EC-1C92B12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3AB-F7FE-43A1-BBD7-D5ABC4C8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702-BF39-49DE-9A71-DBC9647F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3C0-F919-440A-ADEE-C9FE6F0F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F18-5825-453A-9475-EF8C9F8A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3E9-AA57-47A9-87E4-60FC161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D0F-0D0D-4A4F-AB1E-1D3CDEFA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D75-B031-4C73-ABC1-83D1074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362A7-CFBC-4049-A9C9-440E83480C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salms to Jesus v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ur joy full s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   Браття, всі раді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сі раді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ний день на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,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радість д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n sin benigh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rs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s blood u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been made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ли чуж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епер друз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’єди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ят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by Sinai’s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face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he thunder frigh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s to u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кон Синайськ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та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прийняв Ізраї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ятій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grace from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from wrath are w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лова ми чу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спасла від гні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ь свят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love 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we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heav’n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живем в на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і і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усі обм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я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uth ’t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Word, that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Господній 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ить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мо, браття-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до кін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2:26Z</dcterms:modified>
  <cp:revision>13</cp:revision>
  <dc:subject>Slavic hymnal Гимны веры христиан, Ukrainian hymn 10</dc:subject>
  <dc:title>Let Us With Rejoicing / Браття, всі радійте</dc:title>
</cp:coreProperties>
</file>