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D85-7170-4051-9487-40BA7DA4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CD0-B83B-4878-90DC-B06057C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0A8-E94B-443B-8F73-03217799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944-89C8-474E-9499-D7513608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4CB-455E-4BB8-B03A-15F48FD5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E71-94B5-4E7C-85E8-3D0B86B3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D5E-76E5-4CB8-BCFB-CDD36DED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3C8-1012-42C1-AB31-C06D4D7E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FFD-72D4-49EF-BB5E-3106E44A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67A-8482-4C7C-ABD4-2462DCC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B8A-A306-4C3F-A880-73E0A3C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865-7AC6-4607-BA6B-E33FE38B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F4E7E-9C35-42D9-9DD1-CF8BDD9811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ne Lik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ercy flows like a river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ing comes from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ing children ar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36Z</dcterms:modified>
  <cp:revision>11</cp:revision>
  <dc:subject>The Source, song number 493</dc:subject>
  <dc:title>There is None Like You</dc:title>
</cp:coreProperties>
</file>