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4BEE-C790-4598-9FA8-6282A54A4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4BCC-B538-4896-A494-0E08EF3E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973E-A2D8-424B-A3A6-E26688872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C2DA-7E3B-4C32-821C-7B76B9F9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E722-E30A-48C4-880E-D00A97D7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7259-EDF1-4FFF-B441-713AAA6A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0FBA-E54B-4A3F-8E2A-D2B24190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EE91-4BF1-4A73-ACBC-4C5B7554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CF4D-3BA4-4377-A770-D3477D23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ABAA-6AF4-4F8F-8639-ABB08BC3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972D-44F8-4E6B-9A6A-7C66133A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FFD8-61C6-4EB5-BE6E-F136AB19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33DCE-DB6F-4087-AB00-9457E9B53E6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glory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thirsty,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us as we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us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glory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glory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glory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6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Let Your Glory F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tongue and tri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athered ’round Your thr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one voice we c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Lor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tongue and tri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tongue and tri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tongue and tri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amb upon the thr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saints procla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reig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6:19Z</dcterms:modified>
  <cp:revision>11</cp:revision>
  <dc:subject>The Source 2, song number 863</dc:subject>
  <dc:title>Let Your Glory Fall</dc:title>
</cp:coreProperties>
</file>