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8</a:t>
            </a:r>
            <a:r>
              <a:rPr b="1" lang="ru-RU" sz="3600" spc="-1" strike="noStrike">
                <a:solidFill>
                  <a:srgbClr val="ffffff"/>
                </a:solidFill>
                <a:latin typeface="Verdana"/>
              </a:rPr>
              <a:t>	</a:t>
            </a:r>
            <a:r>
              <a:rPr b="1" lang="ru-RU" sz="3600" spc="-1" strike="noStrike">
                <a:solidFill>
                  <a:srgbClr val="ffffff"/>
                </a:solidFill>
                <a:latin typeface="Verdana"/>
              </a:rPr>
              <a:t>Ты был юношей на свет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Ты был юношей на све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вал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ходил всегда в сове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его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учи и нас смирен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ни земные провод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уклонно, неизмен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путям Отца ходи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ать Свою любил Ты не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огорч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Иосифу приле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лом помог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учи и нас труд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зким, дальним помог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любить, к добру стрем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авду в мире насажда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ы любил душой, гото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подвигам свят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вещать Господне сло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дрым и прост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учи и нас, Уч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 жизни возвещ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чтоб каждый мира ж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г Твой голос услыхат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8:55:09Z</dcterms:modified>
  <cp:revision>3</cp:revision>
  <dc:subject>Slavic hymnal Гимны веры христиан, hymn 258</dc:subject>
  <dc:title>Ты был юношей на свете</dc:title>
</cp:coreProperties>
</file>