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F99-9482-4026-A4D6-D7E8A84B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08D-E63A-4A33-9875-6E86D0C6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861-F898-44D9-BE98-93AEBB1E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CA9-83A1-43EA-961A-EA4AC488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C29-725E-4DF3-A830-B500606A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852-16FD-4371-896E-BF0E4D91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C78-481E-41EE-894C-92FA3B3A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F06-A9E6-44D9-8694-FD6250FC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C2F-8E51-47AB-9D00-5305E674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033-AE3B-42A7-9F89-EB0981A9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034-741E-4F6C-8DB1-540A7006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743-0EA5-4613-BA83-BAD5364A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CB1FA-02B0-4373-8984-98F7E50F32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day that fixed my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, my Saviour and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ay this glowing heart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its raptures all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5   О, дивни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чудов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аситель в перши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 мною в заповіт вст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оєм серце наді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rest, my long divided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xed on this blissful centre,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ave I found a nobler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eavenly pleasures fill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пізн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ею я люб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ерце Господа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ливий став на вс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bond that seals my v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who merits all my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heerful anthems fill His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o that sacred shrine I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ов мене в долині слі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Він Пастир добрий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Його, я вже не св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done, the great transaction’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my Lord’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and I followed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rmed to confess the voic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в люб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уку простягну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ви серця розіг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алу я Господу від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7:20Z</dcterms:modified>
  <cp:revision>14</cp:revision>
  <dc:subject>Slavic hymnal Гимны веры христиан, Ukrainian hymn 15</dc:subject>
  <dc:title>O Happy Day, That Fixed My Choice / О, дивний день, чудовий час</dc:title>
</cp:coreProperties>
</file>