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789-EDE9-4ED1-A21A-3BC30443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551-764E-46D2-9BDC-6EC270A2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F0F-F4AF-4EDE-8A63-A136B982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0AC-1C3C-453E-BB54-2EDABD76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A0B-8A8A-4329-9E60-ACB6D620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51F-C84A-4794-9804-D8CC027A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834-F1C7-4CC4-9130-1A077758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CC6-FC66-4FCC-844B-AD3B5323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5DD-9820-440F-8410-000E5224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014-B919-439B-9B64-21595DD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614-E81F-4A6A-ADD3-FA853CFD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772-AAC3-4351-A65B-0A9EC462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FEAD2-D41D-4834-91C0-72613F3F48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heard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the tidings all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ь чудесная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чудесная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Церковь повт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 the news to ev’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mb the steeps and cross the w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! ’tis our Lord’s comm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радостной —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 мир скорбей и слё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весь нар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ft it on the rolling t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o sinners far and w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ускайте по вол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свет земли сы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ye islands of the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 back, ye ocean c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shall keep her jubil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жител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Божий юби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above the battle str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death and endless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 шуме битвы зл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й чистой 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brightly through the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heart for mercy cr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n triumph o’er the tom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если в сердце с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ред лицом угро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еснь в день похор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e winds a mighty v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nations now rej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ите вдаль и вши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икует целый ми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est hills and deepest c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song of vic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 царстве слё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вечный наш пса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7Z</dcterms:modified>
  <cp:revision>13</cp:revision>
  <dc:subject>Slavic hymnal Гимны веры христиан, hymn 572</dc:subject>
  <dc:title>Jesus Saves / Весть чудесная звучит</dc:title>
</cp:coreProperties>
</file>