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19D-39AB-495F-8D88-2E7B7CCF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37F-BA8A-482C-A42C-4793A690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ADC-D2F0-4DE3-B0B1-68E27034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6FA-F80E-4ED6-B4FF-B82D5246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D71-E216-470D-B69D-71F8E44E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AF0-866D-4CA3-9816-007EA62C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40C-538B-4096-AA70-D8439AA5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6ED-88B5-4470-93E1-369BD8D1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1C1-92BC-458A-8D8B-CF2F751A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F22-2105-4029-8683-11932B4B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3E0-49FD-4A99-9BE0-A4516982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493-BF05-4892-917F-0A41E93B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CFC47-5486-40CD-B29A-9DAEEE261A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руга мы име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к жизни пробу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ы счастием владе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точник веч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как часто мы стра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 терпя напрасно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осить мы забы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дин помог О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руга мы и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ье ль нас трев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ки ль тяжки для ког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пусть из нас во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свою всю на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дин среди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свет средь тьмы про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Христос Один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горе облег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м мы под зн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й жизни сует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лишь Ему откр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с друзья заб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ос проявит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ерный Друг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46Z</dcterms:modified>
  <cp:revision>12</cp:revision>
  <dc:subject>Slavic hymnal Гимны веры христиан, hymn 594</dc:subject>
  <dc:title>Что за Друга мы имеем</dc:title>
</cp:coreProperties>
</file>