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A8A-C853-4BF4-BF87-57473253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C9F-7389-48E9-B5F7-69FF71A8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D0F-280F-4DA2-AA15-60DC5300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9D2-8662-4A6D-B3FE-295CD2B3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BDD3-EC24-4663-A175-73B0AAF1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3FF-FCF0-4998-AD9F-0D469365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4FA-2E6D-419A-9AC8-272DFFDA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08A-93FD-49AA-8838-9D6B18C5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1BF-FDFB-4A15-BE9A-971C1C14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923-C5F8-499C-B179-2EFCD27A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D30-17F7-40D8-ACEE-97042A18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4FF5-028D-43D8-8CC5-3ECDFB10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0CBEB-0E69-4AAA-9A75-BCC1C94D20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он, спеши исполнить долг свящ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расскажи, что в Боге жизнь и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Устроитель и Господ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 Он к творенью Сво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он, спеш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и, гляди! народы погиб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раг пленил и заключил в тюрь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о Христе никто не возв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ши из пучины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сти народам и племё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даёт нам жизнь и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ходил спасти порабощ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традал, чтоб грешников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ынов нести в мир весть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дары содействовать в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сь всегда за призв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лужень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ё награда ждёт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5:38Z</dcterms:modified>
  <cp:revision>12</cp:revision>
  <dc:subject>Slavic hymnal Гимны веры христиан, hymn 852</dc:subject>
  <dc:title>Сион, спеши…</dc:title>
</cp:coreProperties>
</file>