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84D-95D1-4FA0-AF96-0D920F80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9FF-FE79-4663-8079-23FE82C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449-7CC5-433A-B165-62EF2A63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A6D-6F11-41B7-8796-F32107FF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D12-1245-4907-81DF-8FE1117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556-368B-4647-A858-C7B0A7A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F0F-1D80-4FB4-AEEA-930FE7C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8AB-9331-4B40-A271-3B8401B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6C9-ADEA-4680-A362-04EB6BB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153-CAA1-4996-ABCA-5D555141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4EF-7985-40B4-A981-3261719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381-57C3-4996-8992-DDDD683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92253-1365-45D5-ABE8-7E507FD9B7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ым орлом я хотел бы ле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подняться, Христа уви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тревожно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ознестись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хотел бы я быть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ольщений греховных да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не знаю: зачем же п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бессильному сердцу по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стрым орлом я хотел 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Твоим я хотел бы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на земле для людей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могу лишь м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й лучиной, бегущим луч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зачем я не столько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хотел бы, чтоб кротким я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гордился средь Божи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ближе к Предвечному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06Z</dcterms:modified>
  <cp:revision>12</cp:revision>
  <dc:subject>Slavic hymnal Гимны веры христиан, hymn 465</dc:subject>
  <dc:title>Быстрым орлом я хотел бы летать</dc:title>
</cp:coreProperties>
</file>