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2DC-7CF8-4D26-B28E-128CEF6E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F13-BCE6-4008-8AC9-91D8C491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CBE-5660-441B-A5C4-26FE9C87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2C7-D0DF-4690-AD03-30458805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03C-DE46-412C-8980-6DFAAC4B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6C7-8F4B-41BB-B3C4-7726AA37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8C8-8069-458B-A26F-DCCA645D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2B4-4B3E-4637-9FC0-9EF7390E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3A0-FC39-4C11-A233-5BBAD11B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F6F-52B6-40E5-9D2B-323252BC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EE7-3AEB-4EFE-8570-C3462442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0FB-0504-4BD2-8E96-84A0D6BE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F0966-69A0-4607-A92B-404E4A145E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агодати полн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льше скажите 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ятости и чи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е истины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яет в нас Христов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ове жизни, что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бщенью с Господом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, и радость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царит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юбит грешников спа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в наш мир придёт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1:06Z</dcterms:modified>
  <cp:revision>12</cp:revision>
  <dc:subject>Slavic hymnal Гимны веры христиан, hymn 557</dc:subject>
  <dc:title>Больше скажите о Христе</dc:title>
</cp:coreProperties>
</file>