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94C-992D-4B8F-AE07-D12293F8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DD0-A80D-4A3A-BD1C-70AB4365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1759-6B8B-454D-A6D2-6F46600E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CC8-792B-4DF5-85AB-36139326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E39-8BC5-4F16-BEED-F0843583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428-5B97-45EB-83EA-98AA6E33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15F8-A84A-4285-8CA2-A0532229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350-3377-49AA-AD83-37C152B2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443-1A45-4D1A-A36A-687F3D4B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AE3-8A86-43AD-9490-26FBCF44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5B6-D64C-480E-A85D-94B90C9A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174-26B0-4781-A951-6F910E0C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6496C-A71F-4F60-BA92-D05490AC5B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me close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ver let me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it all down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ear You say that I’m Your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7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Draw Me Close To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one else will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no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ld take Your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eel the warmth of Your emb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find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me back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all I w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all I’ve ever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all I w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know You are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9:45Z</dcterms:modified>
  <cp:revision>11</cp:revision>
  <dc:subject>The Source 2, song number 674</dc:subject>
  <dc:title>Draw Me Close To You</dc:title>
</cp:coreProperties>
</file>