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EBE-8E6D-4209-89FC-9262E47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AFE-F4D8-4C1D-B78B-B371075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E1E-A38A-440E-A37D-583D27E7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738-46BE-4BF4-BF08-EB6056C2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0EF-1B33-448F-8145-867BE1C7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655-29EB-4520-AC4F-D75AA08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8FC-90C4-46BD-BF98-4DD5F227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CB0-CEBA-4980-BCD4-30D73B51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C31-B2A1-4D28-A1E8-F6B5EF0E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883-2795-416C-9310-2138BA4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D84-2B87-4326-925F-D793973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9EB-C8A7-4D00-9229-8B3269B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5BF5A-A456-41C2-A5A4-66B966B345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01Z</dcterms:modified>
  <cp:revision>13</cp:revision>
  <dc:subject>Slavic hymnal Гимны веры христиан, Ukrainian hymn 17</dc:subject>
  <dc:title>His Mighty Hand (I Am Saved From My Sin) / Від гріха я спасен</dc:title>
</cp:coreProperties>
</file>