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B79-6AF7-4E0A-A35D-D100C793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B61-FE7D-4E76-B497-578BAF37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9CF-34ED-4854-B77D-1A19325D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901-471D-4AA4-924D-5371468E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DB0-BD4E-4952-92CC-DD7FE08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C3E-3947-4422-96A5-004A99D7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998-D0ED-4ED8-A170-477FED0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57E-88C0-4C06-8BA0-8A73435D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978-79EB-4D33-9CFE-D4ECF3F4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363-D14C-4FFA-A35C-C28CC956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0F1-787B-46BD-9708-4585C74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A13-A92A-4758-AE76-FC8D7E9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22103-92FD-40B3-AB44-5A67880593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moment, You ar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the ages, God befor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vapour, You ar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verlasting, reigning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6   We Are a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e broken, You are the heal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emer,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ove-song we’ll sing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ing before You, blessing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12Z</dcterms:modified>
  <cp:revision>11</cp:revision>
  <dc:subject>The Source 2, song number 1026</dc:subject>
  <dc:title>We Are a Moment (Be Unto Your Name)</dc:title>
</cp:coreProperties>
</file>