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CF0-923E-4AD5-93AB-05EF6A9C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813-0A62-4621-A638-268BCC0A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73F-C339-418D-8B39-B2BBE3F2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04A-0DBA-4A78-9BC5-E54FED32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0F7-9EB5-4D8E-9CC5-E75F4582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247-4C76-482E-ABE6-64F3FFD7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D89-C824-4943-8478-F00D272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4C2-4BB1-4FA8-92E5-A55B35E4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68D-808F-49BC-A7F5-247B56F7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3A9-2BEF-4737-A620-FF285517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26B-C600-4B04-BF37-EF0C6BDB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301-9999-4DEA-AC58-696E847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8838A-E60D-4EAE-A2E6-3AB30C87EB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е Антио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асит о том расс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ианами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лися в первы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оде Антиох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ратстве общности им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ервых христи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для покол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ной жизни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и, верой озар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гня тяжёлых 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видел изум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зематах и пеще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такомбах разны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явлена в прим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 дни, дни иску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путь Тобой нам 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илу вдохнов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ердце, одну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имеет Божий ст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асим моря и с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нас откро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у первых христиа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любви неизреч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ликий оке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41Z</dcterms:modified>
  <cp:revision>13</cp:revision>
  <dc:subject>Slavic hymnal Гимны веры христиан, hymn 769</dc:subject>
  <dc:title>В городе Антиохии</dc:title>
</cp:coreProperties>
</file>