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80</a:t>
            </a:r>
            <a:r>
              <a:rPr b="1" lang="ru-RU" sz="3600" spc="-1" strike="noStrike">
                <a:solidFill>
                  <a:srgbClr val="ffffff"/>
                </a:solidFill>
                <a:latin typeface="Verdana"/>
              </a:rPr>
              <a:t>	</a:t>
            </a:r>
            <a:r>
              <a:rPr b="1" lang="ru-RU" sz="3600" spc="-1" strike="noStrike">
                <a:solidFill>
                  <a:srgbClr val="ffffff"/>
                </a:solidFill>
                <a:latin typeface="Verdana"/>
              </a:rPr>
              <a:t>Отец, Тобою утешаясь</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Отец, Тобою утешаяс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на Тебя лишь опираяс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очу покоен быть всегд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очу покоен быть всегд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отя б друзья мои бежал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раги толпою наступал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розила страшная бед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розила страшная беда.</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Прочь все сомненья, колеба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очу я славить и в страдань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траданье тоже от Теб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траданье тоже от Теб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ама любовь, ведь, по невол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наказуешь нас до бол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нас заботясь и люб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нас заботясь и любя.</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И в пору горького лише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 Тебе я возношу моле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мой Отец, всегда со мн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мой Отец, всегда со мн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 Тебе и в радости, и в гор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оей единственной опор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ьну немощной всегда душ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ьну немощной всегда душой!</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Не видя выхода за мгл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 Тебе взываю я с мольб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 верить мне и в темнот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 верить мне и в темнот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я пойду, хоть путь неясе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Тобой он будет безопасе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знаю, станет видно мн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знаю, станет видно мне!</a:t>
            </a:r>
            <a:endParaRPr b="0" lang="en-US" sz="3200" spc="-1" strike="noStrike">
              <a:solidFill>
                <a:srgbClr val="000000"/>
              </a:solidFill>
              <a:latin typeface="Verdana"/>
            </a:endParaRPr>
          </a:p>
        </p:txBody>
      </p:sp>
      <p:sp>
        <p:nvSpPr>
          <p:cNvPr id="43"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21T23:01:57Z</dcterms:modified>
  <cp:revision>3</cp:revision>
  <dc:subject>Slavic hymnal Гимны веры христиан, hymn 180</dc:subject>
  <dc:title>Отец, Тобою утешаясь</dc:title>
</cp:coreProperties>
</file>