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FFB3-0523-4DAF-8E3A-6810CB81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699D-A111-4BEA-91EB-29A8201D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24DC-A3D8-4888-992A-11CA7F2D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93B6-E625-4442-AE8C-DF9E20BC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6B52-2089-443D-8888-8F427690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9D1F-0ED0-4434-AE12-3C778ED5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1C11-668D-432D-B6E5-16A34320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C14B-3585-4856-A4CE-CDA79C44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B999-50D9-4E19-A375-3CA0AC4D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1E6-0571-49A5-977F-7DAE7557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E260-2DDB-462A-9EBD-2158C388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8FF0-9390-4095-8B0C-608A5DA9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3D781-F7AC-4F4A-AE72-08B9D256FDF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5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н —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Господь, Он —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 из мёртвых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ним склон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свой возвы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Христос —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Lord, He is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risen from the d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is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knee shall b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tongue conf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Jesus Christ is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12:22:11Z</dcterms:modified>
  <cp:revision>14</cp:revision>
  <dc:subject>The Source, song number 158 in Russian</dc:subject>
  <dc:title>Он — Господь / He is Lord</dc:title>
</cp:coreProperties>
</file>