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571-B866-49CA-A06F-201C187A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9E22-FCED-41C8-ABF0-230A5024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679-F799-43B6-9269-DB9DB661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305-DB0D-4221-8B1A-16CE4A2B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A7A4-235E-4D7D-98D1-9AE3C717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33D-86C0-40EA-8CB9-D994A888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FD3-B561-438E-9F9A-778FAFC7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AB4-1105-4E86-81AC-605051F5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321-A9A9-437E-B294-9EA8A7AA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1AE-E9D3-4E6A-8164-794123AD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EC0-F2FE-4430-AFE9-9D663EB0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5D6-A53B-437E-9EB2-4C28E9ED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B6FB7-82B3-4B33-9C58-47808569C45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пи, милы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елей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продаётся — ку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ху наполни сосуд твой е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тречу Христу выхо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пи, милый друг, тот 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аполн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правь твой светиль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в Твоём сердце заж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тв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ливо скаж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 покой мой блаженный войд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милый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ы не ответ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ов Иисус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вскоре услы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ьное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вяжите и бросьте во ть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пи, милы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елей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продаётся — ку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ху наполни сосуд твой е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тречу Христу выхо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51Z</dcterms:modified>
  <cp:revision>12</cp:revision>
  <dc:subject>Slavic hymnal Гимны веры христиан, hymn 346</dc:subject>
  <dc:title>Купи, милый друг, тот елей благодати</dc:title>
</cp:coreProperties>
</file>