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699-B9D6-4E54-9E14-275F8FBA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BB1-4573-49E4-BDD6-BFD17751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B1D-DB78-446F-8431-4D845B7D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C6F-1395-45A3-BDB3-F0DAC8F1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340-2CA8-4DF5-A5E5-99BEEA6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C62-1F83-421A-9352-EC57DED3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762-4BAA-49E4-A469-CF2D218B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9E9-9453-4D2E-9695-EE924CA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9BF-BD2B-46B2-B3C3-FA447C4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CB6-3709-4A5D-9EC7-BF8CC50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8F7-607D-4BF8-AEC6-31E65D0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3A2-349B-451C-8C88-7F3E61E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676C7-F887-4AA5-877C-8CAC9B4AE2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05Z</dcterms:modified>
  <cp:revision>12</cp:revision>
  <dc:subject>Slavic hymnal Гимны веры христиан, hymn 708</dc:subject>
  <dc:title>Не оставлю Я вас</dc:title>
</cp:coreProperties>
</file>