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1EA4-C86D-4415-ADBB-2718C1BC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12D-C7DB-4C3C-B8E9-9E53241F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35ED-9090-4B16-A007-56D02C68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99E-FE7E-4BE3-9CBD-4A6B3F55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7BF-9B75-41BE-982E-C799BC53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959-FA3F-4A67-9D4C-FD87195C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964-5FAF-4801-81AB-8EDC1FB9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13A9-C5F0-4D3D-8E0F-F351F6FF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A7C-DBBF-4514-A9EE-DFBB8136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251-77F8-467F-9A2D-B39C2056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CE6F-8B2D-4477-BCD8-BC4A324C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9D7-6DA2-469D-AF56-EBB2ECA2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6BD3B-7F53-4C7B-B26E-7CB8FAAB7D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rieved my Lord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corned His love so full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ough I wandered far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mother’s prayers have follow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попирал любовь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пирал любовь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чадом тьмы, рабом стра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до мной была звез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coming home, I’m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ve my wasted life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other’s prayers have follow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followed me, the whole world thro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desert wild, o’er mountai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anderer I chose to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retched soul condemned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mother’s prayers have follow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родной, в чужом к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разных бед, от зл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ерегали жизн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coming home, I’m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ve my wasted life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other’s prayers have follow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followed me, the whole world thro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urned my darkness into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blessèd Christ of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praise His Name both day and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other’s prayers have follow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згнал из сердца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стал всего ми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влекли меня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coming home, I’m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ve my wasted life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other’s prayers have follow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followed me, the whole world thro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59Z</dcterms:modified>
  <cp:revision>13</cp:revision>
  <dc:subject>Slavic hymnal Гимны веры христиан, hymn 777</dc:subject>
  <dc:title>Mother’s Prayers Have Followed Me / Я попирал любовь Христа</dc:title>
</cp:coreProperties>
</file>