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277-F8A2-4686-B686-B17919C9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2C7-FD5C-482D-BF80-BC2E9AA9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390-51DD-462A-BC3D-1B6939B2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C5F-4C12-4755-9EE9-C159E987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C60-FB41-4279-8775-64707133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95D-EB59-4988-B312-8E2ACC20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577-9C6C-4002-BF19-80A02DF1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9FC-6FDF-44ED-9F3B-7F947FA1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5FA-DD65-42A5-971D-AC23F9A9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32D-7EFB-4375-9FCE-1D6EBE83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6E8-630C-43EB-8468-1DE0FBEF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DB3-CDBA-4C30-B76B-4C567924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50DA4-B2BE-437F-AF26-D66637EC53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it tru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hen people 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udless skies will br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s and queens will sh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t’s true and I belie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iv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s It True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t’s tru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hen people 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dead men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blind se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t’s true and I belie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iv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history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speaker of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run into Your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, into Your arms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t’s tru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hen peopl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fire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truth in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broke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ing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 it’s true and I belie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iv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history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speaker of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run into Your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, into Your arms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59Z</dcterms:modified>
  <cp:revision>10</cp:revision>
  <dc:subject>The Source, song number 241</dc:subject>
  <dc:title>Is It True Today (History Maker)</dc:title>
</cp:coreProperties>
</file>