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8F1-D278-45C0-A3DA-4B965E82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273-9B4C-4544-99A1-5B640468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653-AAD1-4576-AF83-B534317A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DE0-B716-42CA-8D61-08765E62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40B-A77F-49C8-B78D-E4D2FB86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C5C-1E59-4AFF-8EF4-919F0B58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78F-8DEA-44C1-965F-578181C0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FC6-3F66-4C87-94F5-AB5A331D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815-34AE-430A-AF7B-15936EBC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830-3F65-40EE-AC58-D95E6755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83A-75C4-4106-B3F4-C39CDA6D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3B7-B2F4-496A-A07F-B42A132E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7299E-E095-4E11-9295-A581B72287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ittle town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till we see thee 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thy deep and dreamless sl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lent star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алый город Вифл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алый город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л спокойным с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ождался нов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змолвии ноч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in thy dark streets shin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verlasting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s and fears of all th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met in thee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тьму рассе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дивный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Тот, Кого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 много,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morning stars,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holy bi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ises sing to God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 up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небо нас прив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царство зла с небес при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ангельская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is born of Ma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gathered all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mortals sleep, the angels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atch of wond’r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ёзды, весть о Ч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вдаль и в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песнь Тому, Кто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м дар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ilently, how sile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rous gift is giv’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od imparts to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essings of His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дар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устился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им сердцам Господ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ы в тиши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ear may hear His com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n this world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eek souls will receive Him,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r Christ enter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 и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шума,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ым ждать Его приня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ly Child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scend to us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out our sin, and enter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born in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ий Сын, нас не поки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в любв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згони и в наш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сь в сердц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ear the Christmas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glad tidings t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us, abide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Lord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о Боге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ейчас, вселися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Э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8:21Z</dcterms:modified>
  <cp:revision>11</cp:revision>
  <dc:subject>The Source, song number 393 in Russian</dc:subject>
  <dc:title>О, малый город Вифлеем / O Little Town of Bethlehem</dc:title>
</cp:coreProperties>
</file>