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D40-E15E-43D1-B2ED-BBBE21F2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77C-CD7F-4EC0-A8B7-49AEF656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9C2-8A15-46A4-AA8A-D69668C1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77F-2B04-4471-9451-574869D1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BCD-A9B3-4795-BC3F-81238792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6AE-B1AF-4D2C-8476-61431785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378-9200-4658-BFD5-DCD5ACF6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893-6E47-4EC7-9240-45043860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664-BAAF-405C-8958-0E3550C4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445-889D-42E5-8745-90C3E7B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4AC-AA81-41CB-8C8D-4235BAC1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2E7-BCC1-4D24-BFD8-975364C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66FB5-B31D-4BA1-BD1B-B9DB32BE13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 hear they’re singing in the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creation shouts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surely we can all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ybody here can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ll, I Hear They’re Si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ive for all m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aise a banner of truth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about my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est thing that happen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the day I m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I’ve found)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 feel like dancing in the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join with all who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joy of God is in this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ybody’s seen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ive for all m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aise a banner of truth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about my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est thing that happen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the day I m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I’ve found)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You lifted me from where I w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y feet upon a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ed that You even know ’bou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have chosen to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lieving that You’ve chose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lost but now I’ve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08Z</dcterms:modified>
  <cp:revision>10</cp:revision>
  <dc:subject>The Source, song number 550</dc:subject>
  <dc:title>Well, I Hear They’re Singing In the Streets (I’ve Found Jesus)</dc:title>
</cp:coreProperties>
</file>