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00A-169C-440D-82B9-0B189E11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DE0-7160-418D-A33C-61E16E9C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F79E-AB55-4467-B930-703F7A96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74B4-7BCA-4626-B28D-21E85D29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5D0A-2D24-4338-84E5-7A2DB4E8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1FC6-CE4D-4882-A301-C19E94BF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E72-AA3D-48C0-A904-63902EF1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FB9D-1FA3-4F87-9FF8-72977DB6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AAD-F33A-42AB-9B8A-7B335E7F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7477-5615-47C2-8DD9-C54A3B4F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6F0-CD26-4938-B4E1-FC779EE0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AEA-827B-4282-B311-D6C3D4ED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94039-C88D-4262-8538-EB56CE4B0CE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silver n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obtained my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riches of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have saved my poor so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я от 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а мне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е мог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ood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only found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th of my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maketh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дала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жертва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silver n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obtained my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uilt on my con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o heavy had gr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олг был уплачен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этот дол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объятна вина!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ood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only found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th of my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only a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ыкуп от сме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ной д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silver n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obtained my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comma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bade me draw n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 д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частье, надежд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нье и 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удел мой земн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ood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only found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th of my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oveth my f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стал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ила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silver n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obtained my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into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not thus be bou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 тл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пи разбило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ятся на э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е богач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ood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only found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th of my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mption hath wr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 непоро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мне откр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чертогу д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нья клю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46Z</dcterms:modified>
  <cp:revision>13</cp:revision>
  <dc:subject>Slavic hymnal Гимны веры христиан, hymn 421</dc:subject>
  <dc:title>Nor Silver Nor Gold / Не золотом тленным</dc:title>
</cp:coreProperties>
</file>