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A04-B626-4F0B-851D-2E00142A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100-FD5C-46EE-91EE-BFCAA745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4FD-7A25-481A-97D6-BD81E9A4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6ED-130E-47B1-9AD2-E19D32C9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558-47FA-474E-8971-259A3803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93D-910D-47CC-B4E6-B4E809B6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C8B-3FAE-4EA1-BCCF-7A56D8ED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D2C-0751-4A09-B507-3A10441E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89A-88CE-4B70-BB39-B30E7E48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68B-B622-4683-8F66-E78F2B02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0A6-7F65-4504-BF19-6486B277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458-E3A5-4037-99BC-BAB0AEF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C3C26-C7AA-4457-AE04-24C7E6E5C2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spend no idle d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is calling thee on the harvest w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ing with a willing hand, sing a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prai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жизни для Христа радостно сверш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ижних люби всегда, слабых подкрепл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learn where duty l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sp ev’ry passing day as a precious pri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ad to help to sorrowing, glad to sympathi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ни все учись считать, праздно не гуля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ань ближним помогать, падших подни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do thy honest p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’ in discouragements, bear a cheerful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sting Jesus as thy friend, ne’er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p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руде не отходи взором о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Господа проси силы для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4Z</dcterms:modified>
  <cp:revision>15</cp:revision>
  <dc:subject>Slavic hymnal Гимны веры христиан, hymn 544</dc:subject>
  <dc:title>Lifetime Is Working Time / Труд в жизни для Христа</dc:title>
</cp:coreProperties>
</file>