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915-5B4E-4B81-9967-21B13A87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941-1725-4CA6-81FA-8C71CF42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AB5-054D-4EC2-A490-CE876BB7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F72-E5F2-46C9-9DBA-9335630C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984-CD29-4FA2-B6D7-6DDFE74B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4D9-02E4-45F6-90CF-2E4C8D40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723-0BAB-4D17-9E0D-77C2A13D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D6D-76D7-4C27-B892-9C27D4CB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384-2BD8-411B-B72A-366A248A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F0EC-066B-4B05-9093-DBD8C4E0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EED-DEBB-4F67-A4FD-A84FAFCC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D1D-432F-4D7F-8876-BA0A6BE5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5C430-F4D1-4591-83F0-0FF00B1008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been said and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just one thing that matt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I do my best to live for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I live my life for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been said and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y treasures will mean no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what I’ve done for love’s re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tand the test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13   When It’s All Been Sai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mercy is so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look beyond our weak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nd purest gold in miry c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ing sinners into sa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sing Your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on earth and ever af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’ve shown me heaven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tru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been said and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life when life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3:28Z</dcterms:modified>
  <cp:revision>12</cp:revision>
  <dc:subject>The Source 3, song number 1613</dc:subject>
  <dc:title>When It’s All Been Said and Done</dc:title>
</cp:coreProperties>
</file>