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4304-FBBF-4BB4-9AA5-6C946611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0E4-C263-483E-AEF2-D38B88A2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601-859D-4193-9EB8-D242FB05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2E4-D502-491B-B672-51D7E1B1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D8B-B246-479F-A5E5-93CBCC12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964-984C-45C1-86A6-D7B4FF72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9D1-98C5-4378-977F-A39BDDEC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A9C-2735-4862-B886-2A359A39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AA4-F676-4DE8-90E2-540DA30A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E3D-0758-4DEB-BE90-0194E8FC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8E8-F568-450A-8C4B-F7B7A6EE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B7EF-8863-48F0-8A45-57AA34BB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8AB84-09D1-4704-9416-9B8DF09393E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те, воспойте, лику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е кровью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овую песню воспо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вас спас от гр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ряньте, воспо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им Того, Кто на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ёл, чтобы нас оправ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с ценой Своей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 навеки н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илу нам даст и побе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итву с грехом укре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Своею поддер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ом Своим утвер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со всеми свят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ебную песню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искупил Своей к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ава вовеки 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8:46Z</dcterms:modified>
  <cp:revision>12</cp:revision>
  <dc:subject>Slavic hymnal Гимны веры христиан, hymn 573</dc:subject>
  <dc:title>Воспряньте, воспойте, ликуйте</dc:title>
</cp:coreProperties>
</file>