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1C8-CEED-4B65-AD80-E1A3075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E43-D3EB-4328-ABAB-2F17122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2F3-6E3B-443E-A350-0D35D59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8D8-0FFE-4B3A-86F2-74E1D18D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B69-37F2-4B4E-B085-811075D8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81E-9BAA-409B-9D3C-31F76AA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DF2-E6A5-4E26-997D-D8C1025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604-7795-4CF6-9FB1-C6409DD0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C27-B8EA-4E8D-B9E2-99BE021C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E0E-3F3A-4128-8174-21F021B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5EA-6BA6-4BD8-97C0-4E25D6AF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75A-3B89-4014-93E8-1474CC2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32A16-E97E-498D-AB6B-68DE4B4E16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04Z</dcterms:modified>
  <cp:revision>12</cp:revision>
  <dc:subject>Slavic hymnal Гимны веры христиан, hymn 693</dc:subject>
  <dc:title>Когда порвётся жизни нить</dc:title>
</cp:coreProperties>
</file>