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72A6-A4F2-4FE0-8C13-88D2944B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CE17-A525-4FAD-98A8-71C4F3C2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49A-8CB6-4FE4-BB0E-5DDAD548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377F-05A3-480E-95B3-9D9977A9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757-5E02-4D98-8BE0-E0731C91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C697-4DCC-4BDD-9AD6-22253809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1789-A1B9-43ED-B93E-C7CF7510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C65D-74B3-4770-AA30-F2F01A14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2487-B4CE-446F-9A54-41152203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89B6-B490-48E5-B31E-8532904C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E4D-6283-4A94-8DA4-53F0638E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82E-2BBD-4791-B6ED-127B116C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92B5D-F440-440D-A621-288DF25E7C1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одрей на жизненном пути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Божию в работе мы на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тлеет путь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будет на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враг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бодрей на жизнен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ья Божьи станут нам яс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наполнит сердце всё пол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тлеет путь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будет на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враг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ю Божию научимся тв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 взоры к небу вознос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тлеет путь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будет на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враг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2:49Z</dcterms:modified>
  <cp:revision>12</cp:revision>
  <dc:subject>Slavic hymnal Гимны веры христиан, hymn 453</dc:subject>
  <dc:title>Мы бодрей на жизненном пути пойдём</dc:title>
</cp:coreProperties>
</file>