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458-E6E7-4BF9-A896-D231AD52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9FD-AE86-4F73-9032-75C9C58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7D6-035A-4BC0-BFF2-B75DF3C1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032-1210-493A-BE0E-80FDC42B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6E9-4860-490D-A2AF-BE598A2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955-EFE7-4356-9486-187C452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63C-8555-4AAF-B9D1-CF8E97B6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B64-DA0D-432D-8F51-990BD01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421-290E-48D7-86D3-8F77F62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A36-33EF-46C6-8200-65A8F3B2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ABE-E369-454B-8E0E-62572F9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432-1ED5-41A8-914C-5946FB9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6A83-2B63-4DD2-A751-CAC1315EEE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день тот уж бли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13Z</dcterms:modified>
  <cp:revision>12</cp:revision>
  <dc:subject>Slavic hymnal Гимны веры христиан, hymn 317</dc:subject>
  <dc:title>Да, день тот уж близок</dc:title>
</cp:coreProperties>
</file>