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720-A701-402F-BC8F-1FC9040F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D2B-A378-4EA7-9A3B-D4FCB52E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74E-0AD1-4ED3-9FE7-E3FCEA80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471-578F-42AF-9550-8318F824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7DD-081C-4B95-8F37-A888A240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232-0D85-4EBF-B7E6-DC511211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CC9-AC4B-49BC-B0AC-16DF4557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87D-9248-484E-97F1-CB5FA26E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EE5-1545-453B-8429-4F2953FA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E48-7CDD-4845-8D6D-D7964C24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57A-D1E4-40B8-9C36-783C2521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DF4-E2BD-49AF-ACC3-E75C0975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ED1A3-DD47-4A5A-B736-EE975C5A7A1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тся мне пятна кровавые тё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тся мне: крест на Голгофе сто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тся мне очи, как небо лазур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тся Христос ― на кресте Он вис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подвиг великий,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жертву от ран всю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я призыв и нежный, и власт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ердце своё целиком подар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нятся мне пят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, как волны всю жизнь залив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, как море в ненастье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людей, за Христа что стра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 дела, что лукавый 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но подумать ― насилье и м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, куда я не кину свой вз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Христа пригвождённые р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в очах Его горький ук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как больно страдать Ему сн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ие раны опять нане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а поспела, давно уж гот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идёт Он ― Хозяин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идёт Он, уж близится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тяжело отчего так и ж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ведь не дремлет, и сеется с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о времени жатву сгу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придёшь Ты, Христос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м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царство наступит Твоё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ы миром от всюду гон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дь не знает, что в нём всё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0:44Z</dcterms:modified>
  <cp:revision>12</cp:revision>
  <dc:subject>Slavic hymnal Гимны веры христиан, hymn 423</dc:subject>
  <dc:title>Снятся мне пятна</dc:title>
</cp:coreProperties>
</file>