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492-8249-4635-9F06-C8D9319A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EFE-8593-44BF-A413-45F308B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517-D230-4F55-96DB-73C8AFC6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3DE-80C1-4927-ACA1-4AB614F1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621-3F20-45FD-A0B8-D41EC97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75E-DB7F-4675-96C9-8892222C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D3B-F80E-4363-8E80-4833E63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93C-3DC3-4A8E-A3C1-3BBA7900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706-49EF-4740-8EDB-88F0933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8C6-4CAC-407C-9007-19782B2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858-A755-4203-B100-9B40272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A5B-0B6D-4256-8142-1F194DC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55B34-E388-4AC3-8F72-6ED07075B6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ol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ilk and honey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y contemp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k heart and voice op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is all thy splend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ucified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aud and ben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ansomed peopl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, O I know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s await u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adianc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liss beyond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tand, those halls of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ubilant wit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 with many an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martyr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is ever in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light is se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stures of the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decked in glorious sh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life is here our por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sorrow, short live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that knows no 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arless life, i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retrib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toil, eternal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tals and for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ansion with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lo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of the el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 and futu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eager hearts exp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now by faith I se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here thy walls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my thoughts are 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ive, and pant, and y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one, O only man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aradise of 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ears are ever ba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miles have no al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7Z</dcterms:modified>
  <cp:revision>13</cp:revision>
  <dc:subject>Slavic hymnal Гимны веры христиан, hymn 666</dc:subject>
  <dc:title>Jerusalem the Golden / Иерусалим прекрасный</dc:title>
</cp:coreProperties>
</file>