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96F-2F42-4416-8E19-FDFE016A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D1E-EB1A-4B29-9C36-AAC6414C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0D8-E938-4729-B169-D80EEDDF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032-B97F-4A64-BEB6-3C160215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856-4818-44D7-B105-2385CE4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36B-2BB0-4793-89FB-4BA93EC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79F-CBDF-466A-98A5-4D2B612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706-6674-4D60-B4D3-B2CCEB53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F6E-AB3A-4C87-B1AA-5058EE8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A91-709E-4BCD-A932-20B09CD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35C-66B1-4F4C-8814-67AED64B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FA5-F3D7-4992-A10B-247A412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D444-D497-4559-821F-E75684E6B5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16Z</dcterms:modified>
  <cp:revision>13</cp:revision>
  <dc:subject>Slavic hymnal Гимны веры христиан, hymn 399</dc:subject>
  <dc:title>Что же ты медлишь, мой брат?</dc:title>
</cp:coreProperties>
</file>