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C76-96EB-4B34-8E3E-359BD26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12A-7819-4D46-BA8C-52A9DE9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FA0-C4E0-4965-8CAC-45509BA4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D13-B98F-40A3-BB65-891FDECC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2BF-81F0-42E8-A6AB-6835F40A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3AD-C07A-4758-9996-7BE1E4B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066-683F-40FF-A165-53B988C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E50-DE3A-49A0-908A-6722A73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AE3-C29C-4CC3-98AC-0CF3133C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239-5089-4275-8BC7-AD78582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DD5-BC7F-4406-B088-7232CCD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488-C420-404F-964D-BBC7B1AB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3784-68EF-4186-88D8-625D810516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28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любв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юбви Твоей свет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огнём среди тьмы и мр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свет мира, сияет на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м словом Он освобо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85800"/>
            <a:ext cx="98488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 присутствие при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перь светом весь заль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ровь я Твою заси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ытай меня, тьму уда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ияньи, Господь, преб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м открытым Тебя отраж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лавы Твоей меняемся в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Тобою сиять мы ж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24Z</dcterms:modified>
  <cp:revision>13</cp:revision>
  <dc:subject>The Source, song number 335 in Russian</dc:subject>
  <dc:title>Господь, любви Твоей свет сияет / Lord, the Light of Your Love (Shine, Jesus, Shine)</dc:title>
</cp:coreProperties>
</file>