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140-F1C6-43F4-B2DF-EC4DDC25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974-3BF0-46DD-A883-E4B2D61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7BB-6E61-40C4-9376-9C1E3891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EE8-7275-46CB-9927-B6E4CAEA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873-07C3-4561-A806-6B744550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7E9-3892-4956-BF8C-38B933C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685-8629-43DC-98B1-B6301828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E4F-3350-48C4-BF7B-3A70B277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DBA-1DA9-47DA-8D53-6754F5E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9A2-06AF-4D8F-8D40-B15160C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462-90BB-42AF-A80F-86CF18A7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048-5389-4F20-8BDC-F36FBA3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D2754-57ED-4D1B-A59A-F9845420CE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путь мой свер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через хо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ю, Им утеш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слову больше, ч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вете небес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ятся тени, чёрные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рыть не могут веч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яет свет не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ет сердце, ведё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дух мой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вечной жажду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стречаю скорб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жу во свете, свет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29Z</dcterms:modified>
  <cp:revision>12</cp:revision>
  <dc:subject>Slavic hymnal Гимны веры христиан, hymn 439</dc:subject>
  <dc:title>В свете небесном</dc:title>
</cp:coreProperties>
</file>