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9050-E092-4465-8C7B-0C2EC74F5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0D8D-133E-4A1D-A76A-FDDA16CB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E124-6884-4DD7-B4C5-FCB732D17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B1D0-67CC-4B8B-9550-95821D5D5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74E0-8F74-4063-BEF9-9BEC74D7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906C-13B3-4CC3-B1BB-2B88B222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5C48-ECA0-4B53-ABB6-E593D83C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04FA-2218-4DAC-B713-18632D36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A7BF-88BF-4DA1-9CCE-9F27AD43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D41D-B063-43E5-B534-5B0FC7A5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6752-85B0-48BF-81B5-87C443B5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883A-FFE6-4369-AF61-6B9B7B61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9C5C1-F55A-4A40-B130-C5E0104A7CB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our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ajestic is 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our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ajestic is 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we praise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we magnify Your 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ince of Peace, Might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 God Almigh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91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 Lord, Our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4:52Z</dcterms:modified>
  <cp:revision>11</cp:revision>
  <dc:subject>The Source 2, song number 916</dc:subject>
  <dc:title>O Lord, Our Lord (How Majestic Is Your Name)</dc:title>
</cp:coreProperties>
</file>