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0F7-3B84-42FA-8547-CA4A153B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2BC-47C9-4BC1-9F2A-4505AB0E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EC0-1C74-4E51-9282-3BEB61F9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AF1-D98D-4A72-BB75-DFFBB1CD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2D0-318E-4498-94F1-21DFC047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E90-2C92-4CD4-AAD0-2D318180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FD4-8D1A-4262-A2D9-738AC746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E6A-DB56-4724-AC5B-B30430D3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64C-7DBC-4538-8F85-17130D71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293-A304-4A08-99AE-A831B9B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396-4D14-4A31-A5AF-A18BEC0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420-CC68-4810-9793-51E67441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75437-6276-4910-A67E-0D2F8F0364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обитель сияньем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же место готово и 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и при жизни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ящённым открыта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обитель сияньем по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печалей земных, ни трев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бители нет и сле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полон чер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, кто приходит т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же мы благость От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жизни недолгой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рует нам жизнь без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о, и веч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14Z</dcterms:modified>
  <cp:revision>13</cp:revision>
  <dc:subject>Slavic hymnal Гимны веры христиан, hymn 697</dc:subject>
  <dc:title>Есть обитель сияньем полна</dc:title>
</cp:coreProperties>
</file>