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ECE-50DB-4FEC-BEC0-36C3A853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5E0-3347-4486-922D-1853B7AF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931-A015-4B2F-B708-8FF344F1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4C6-D524-4102-AE9A-AAFA7B5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5BC-A4D2-4CAE-BA6F-DC6552AB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45F-16FA-449F-8F2A-90501B39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07E-6C6C-4335-AD0B-D341D37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E25-1BE8-4C96-9B0D-1B3C83A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50B-43FA-49DB-98B2-E6201B2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B73-118C-4495-BF01-6912987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FF8-DED9-40FA-8555-C7CA50B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BAD-1E53-4489-AEB4-0EE33341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FA18B-6047-4713-BB4E-207852C25C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urify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18Z</dcterms:modified>
  <cp:revision>9</cp:revision>
  <dc:subject>The Source, song number 436</dc:subject>
  <dc:title>Purify My Heart (Refiner’s Fire)</dc:title>
</cp:coreProperties>
</file>