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C20-97A8-46A4-BCCE-0DDB3C64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069-99BC-431A-ACB8-FA9B5A06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F19-0CD8-4D51-95CB-06B2733A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F3E-A2F8-4DF8-9F95-B0298D26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D60-3869-485C-A242-678DF8D4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05C-F2C5-43E2-8FA6-8B77CF98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CDA-256D-4255-AA8E-B100B28A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C3B-C270-488B-A21D-5F7102B9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DF6-9BD0-4804-A8FD-8B7ADFAD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A52-A6A3-4705-A7FC-25D020AC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67F-5BF6-45B2-8C48-C6FCC98B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01D-9F75-498D-A537-B43759BD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74559-72E0-4D20-A122-447B32289A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as we come to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o receive the food of Your holy Wo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ake Your truth, plant it deep in u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hape and fashion us in Your likenes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hat the light of Christ might be seen to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In our acts of love and our deeds of fai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and fulfil in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ll Your purposes, for Your gl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48   Speak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each us, Lord, full obedienc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Holy reverence, true hum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est our thoughts and our att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In the radiance of Your pur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Cause our faith to ri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cause our eyes to s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Your majestic love and author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Words of pow’r that can never fai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Let their truth prevail over unbelie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and renew our mind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Help us grasp the he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of Your plans for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ruths unchanged from the dawn of tim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hat will echo down through etern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nd by grace we’ll stand on Your promis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nd by faith we’ll walk as You walk with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till Your Church is bui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nd the earth is filled with Your gl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4-06-04T06:24:27Z</dcterms:modified>
  <cp:revision>13</cp:revision>
  <dc:subject>The Source 4, song number 2048</dc:subject>
  <dc:title>Speak, O Lord</dc:title>
</cp:coreProperties>
</file>