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263-CF33-42A1-B753-3FD0F844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DE4-8237-4316-93DA-6F6923C0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CA0-878F-4AF9-A23B-ACC8F8AB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BF9-D89E-40CA-BBFB-9620E881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304-B349-483A-A3B2-678C3765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827-BE33-46FA-BF38-50B66DBF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283-C9CC-4B03-96C0-CA138F16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BED-D309-4DC1-A969-9831CF5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E21-A67B-4BC2-96CA-A8F7F3F0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04B-E4A2-411A-A621-DF6C3C4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1A2-B0D1-45F7-9721-58E5A77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C0B-D3BE-418C-A8EE-2B5A563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34350-FF25-406E-B80E-F12398ACB0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aid aside Your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ve up everything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ffered at the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ose You had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all my guilt and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died and rose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oday You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eav’n and earth exa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Laid Aside Your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eally want to worship You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won my heart and I am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ov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ly one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ve Your life to set m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lift my voice to You in ad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24Z</dcterms:modified>
  <cp:revision>10</cp:revision>
  <dc:subject>The Source, song number 601</dc:subject>
  <dc:title>You Laid Aside Your Majesty (I Really Want to Worship You, My Lord)</dc:title>
</cp:coreProperties>
</file>