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62F-E0D7-43DC-BF64-F9C02C84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E49-51D0-4D95-824B-DBD1F17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8D4-8F22-4770-8797-684939E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81C-26A8-43CE-A4FA-DFEE867B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E01-D321-4094-9EC8-9DE0E8D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233-1D6E-4AA4-86E4-9C032B9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DE3-87FF-4506-86B1-4263279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878-F9E6-4747-88D0-3D8281E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C1C-3A57-4248-A186-F2F1A78F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116-A8E1-4679-8FE0-2DFC486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A34-B988-4E47-8C7F-CD81154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3E3-73CC-47AD-A7E3-2A7866D8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4F3E-C8B0-4925-971C-5D356E6122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builders rej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rock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pride i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ur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and is sin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e are buil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4   You Are the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rom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depths de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st of hell consp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You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ev’ry chain of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eath You’ve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triumphed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mighty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ace You’ve set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uff’ring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ize for which You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heights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 are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Your Father’s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p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ouls You’ve capt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06Z</dcterms:modified>
  <cp:revision>12</cp:revision>
  <dc:subject>The Source 3, song number 1654</dc:subject>
  <dc:title>You Are the Stone (No One Like You, Lord)</dc:title>
</cp:coreProperties>
</file>