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9F1-E706-4E0E-A3EA-2DD09F21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261-912A-4320-81AB-F38B38EF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B37-F46B-471F-B442-B1B16772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02B-A2AA-444E-B12F-E65D6B32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461-D03A-4191-9E3E-9B87AC3D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520-78DA-4795-B898-7088522A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9A6-B39D-4638-8DED-216D68C0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028-6590-4F51-9892-6C4AEA4D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AB5-F3C4-48DE-81C6-D9812996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E32-2989-4CBF-99EF-A6555D7B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82A-B4F3-47D0-A4E1-B558518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989-7719-46FD-8AC5-F87F4164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3A97-E286-4FC2-A571-7C3C268D54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, спасён я от блуж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ливого и гордого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сердца тягостных стр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ошею житейского я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страха смерти, осу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давно лелеемых страс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бездны вечного заб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среди томящихся те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Спасён я не дел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удростью людскою, не у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ертвою тельцов и не дар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ленным золотом, не сере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безграничною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ою живительной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невинною и чистой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ю с Голгофско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Пусть лев вблизи ры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шепчет смертный приговор зак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ьма неверья пытки соб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рашусь! Я знаю: я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чем спасён! Насыщен хле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ен я живительной во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гащён дарами, принят н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ветлён негаснущей зар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Не гордости то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есня славы Спасшему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лич о пристани, спасти го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гибнет так, как гибну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, поставлен на тверд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 под крыльями люб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рервётся песнь моя отны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, хвала Тебе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22Z</dcterms:modified>
  <cp:revision>12</cp:revision>
  <dc:subject>Slavic hymnal Гимны веры христиан, hymn 575</dc:subject>
  <dc:title>Да, я спасён</dc:title>
</cp:coreProperties>
</file>