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601-CA65-418B-B1C1-B1503B97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22D-D128-4598-979F-301171ED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791-84E9-4755-B8A3-3FA71069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F3E-1FA9-4B91-8BD0-1FFE5A0F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25D-43B5-4B1D-9D48-8F7A442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F33-0408-4E7D-A08A-B6AC978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16E-5E29-4CFB-97F0-3D88F91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B02-E483-471C-892F-133AF5E4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01B-3F80-4BEA-9F36-88694A0E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CE5-BB17-4E8B-8B71-A82C217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831-ED08-4507-AE8F-2692BA1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DE5-8ADC-4676-AEFA-57A05A8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79F95-ED36-4541-87C7-5D5551B1C2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’s Not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38Z</dcterms:modified>
  <cp:revision>10</cp:revision>
  <dc:subject>The Source, song number 133</dc:subject>
  <dc:title>God’s Not Dead</dc:title>
</cp:coreProperties>
</file>