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0B8-76B6-4B69-A971-E342D070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A08-9B39-4992-ABBF-1ADF1165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BE9-B50D-44C4-80C4-ED8CE72D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403-13C4-4CBB-A91D-8B83BCE3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20A-4BA2-45E8-9D01-28B81B0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AB2-209C-4135-B43F-2806D196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64E-5E2A-42D5-946A-B8AFA68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A29-682C-4DC2-9CA3-8EE8126A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B54-8EA8-4E39-BF83-4D1B26C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749-0020-43A4-BE55-99688B1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121-7F55-4216-AD4B-F209239E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64D-B713-4FE0-8ACF-BF2C023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BC9F-6B47-4D6B-A94A-A3EAAFC5B9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заблудший, к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дали от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ын заблу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еши в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верных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в доме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всерадост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исусо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 благ тв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нежный,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36Z</dcterms:modified>
  <cp:revision>12</cp:revision>
  <dc:subject>Slavic hymnal Гимны веры христиан, hymn 377</dc:subject>
  <dc:title>Приди! Приди, сын заблудший</dc:title>
</cp:coreProperties>
</file>