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F8D-2B67-41E6-B0E0-DF0177A5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E1B-B02D-4D83-A810-D92C079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81D-647B-4411-88B9-05F25CBB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4A5-BFF2-4380-95C7-D2444D73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B53-2ADC-4972-9D0F-42D6DDAE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576-48EF-4FFF-92CD-CA9C41D9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F4B-8C4C-40B5-83D9-BA030DF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D0A-96A5-42F1-98D3-9EA5A8BF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B2F-07BA-411F-A7D3-9A42961E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6E7-5FCB-4D2B-830E-7897819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45A-302A-4CBC-8C90-0EC3D55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5A8-A73A-4FA6-AA6B-D1763FF1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A87B-A1EF-4BE7-B9B9-35E4A9D17E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ты за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езнача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озлюб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, Он расс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ом для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ски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хе 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ил Он о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и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е дать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т влечень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дар при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ешают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не верь, смущ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ным гол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, муж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лым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расс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со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теп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11Z</dcterms:modified>
  <cp:revision>12</cp:revision>
  <dc:subject>Slavic hymnal Гимны веры христиан, hymn 806</dc:subject>
  <dc:title>Что ты так печален?</dc:title>
</cp:coreProperties>
</file>