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20D-30AD-49AE-82EA-F648F095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414-6B95-4090-8B94-30226E07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F79-0E29-4BB2-88D7-60CF4B5E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EBF-0883-46B1-8F0B-C7FFA2DB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608-6F40-4C88-9861-E41B93B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637-AE65-4A24-8BDF-47CB80F3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F22-1BAF-4435-8615-EC161EB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8F1-73B4-4E7F-A01F-CF853E9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9C5-78FD-4ACF-9E6D-4C157655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2A9-6434-44AE-9F66-197C3E7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33D-92E5-460C-AEEC-947501D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786-1966-4E09-A10A-9C898C6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76580-28C2-4A51-A8D7-7B0B2C6C10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t Thy table, Lord,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eed on food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is the bread we 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cious blood the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Who prepares this rich re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self comes down and d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nvites us thus to f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peace and pardon sweetly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hat delightful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eat the bread—and drink the w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k on nobler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was the suff’ring He end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accursed t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—each welcome guest ma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ll endur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there was never love so f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Saviour—so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Thou mayest claim that he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wes so much to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4Z</dcterms:modified>
  <cp:revision>14</cp:revision>
  <dc:subject>Slavic hymnal Гимны веры христиан, hymn 730</dc:subject>
  <dc:title>Here at Thy Table, Lord / У Твоего стола, Господь</dc:title>
</cp:coreProperties>
</file>