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D8D-2378-41C8-9768-6FBDD114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94C-EC7B-4915-A17C-AB495DDE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EB4-331B-4EEF-B9F4-916D3424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B31-E325-4CA2-BFF2-E014D8B4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7AE-A9F7-48EE-BD6A-04A98CFB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A13-8F48-4CE0-A856-F050C05D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49A-AFA2-4A56-97F5-A0DF8AC1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D8B-244A-4E4D-9150-E54260CA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5FF-309D-4BC7-84AE-FB962166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790-A64C-4367-A2FD-ABEC848E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5A5-A060-4B8D-9EE8-6C4A9E6B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674-BD4B-430A-973A-7C0B8A8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15B28-F257-4B0A-AD81-1E07BA342D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Спаситель,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ю смертью жизнь на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кровью смоет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ме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ты ни был — смело при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есчастных приме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о Христовой прильнёт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недалёко, все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там награда верная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мог укрыться в ранах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ая жертва! Дар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! Масса щед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чуждался кро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9-08-17T21:36:46Z</dcterms:modified>
  <cp:revision>14</cp:revision>
  <dc:subject>Slavic hymnal Гимны веры христиан, hymn 282</dc:subject>
  <dc:title>Умер Спаситель, умер за всех</dc:title>
</cp:coreProperties>
</file>