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80а   На далёком холме</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На далёком холме старый крест виден мн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нак позора, страданий и мук.</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кресте мы поём потому, что на нём</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Был распят Лучший грешников Друг.</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арый крест осудил суе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ал покой для усталых серд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душою прильнул ко кре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рез него обрету я венец.</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Старый крест позабыт. Мир в погибел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спеши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рест Христов — наша сила и чес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ечный с неба сходил, на земле в теле жил,</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тоб его на Голгофу отнес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арый крест осудил суе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ал покой для усталых серд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душою прильнул ко кре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рез него обрету я венец.</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Старый крест обагрён, но не страшен</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мне он,</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нём открылась нам Божья любов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ровь Иисуса Христа пролилась со кре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тоб меня искупить от грехо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арый крест осудил суе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ал покой для усталых серд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душою прильнул ко кре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рез него обрету я венец.</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4.</a:t>
            </a:r>
            <a:r>
              <a:rPr b="0" lang="ru-RU" sz="3000" spc="-1" strike="noStrike">
                <a:solidFill>
                  <a:srgbClr val="ffffff"/>
                </a:solidFill>
                <a:latin typeface="Verdana"/>
              </a:rPr>
              <a:t>	</a:t>
            </a:r>
            <a:r>
              <a:rPr b="0" lang="ru-RU" sz="3000" spc="-1" strike="noStrike">
                <a:solidFill>
                  <a:srgbClr val="ffffff"/>
                </a:solidFill>
                <a:latin typeface="Verdana"/>
              </a:rPr>
              <a:t>Старый крест возвещать и к Хри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призыва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от на что я себя отдаю.</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о скитаньи земном перейду в вечный дом,</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н меня примет в славу Свою.</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арый крест осудил суе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ал покой для усталых серд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душою прильнул ко кре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рез него обрету я венец.</a:t>
            </a:r>
            <a:endParaRPr b="0" lang="en-US" sz="30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9-28T23:19:36Z</dcterms:modified>
  <cp:revision>3</cp:revision>
  <dc:subject>Slavic hymnal Гимны веры христиан, hymn 280а</dc:subject>
  <dc:title>На далёком холме</dc:title>
</cp:coreProperties>
</file>