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646-A7BA-4A04-9503-E722576D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F89-6F3A-4B5E-B8C6-3C9D8980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60D-D935-4D65-AF15-A2D1D7C8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766-E53E-4B9F-B5DE-6EE4BEED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653-48B5-42C4-ADC4-A81F84E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ABF-948E-475D-8A6A-8231234C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5D2-69D0-42C4-A293-F5066E9B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1C2-38AA-49D0-8484-73217BC5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5A0-6EAB-43B2-9EF2-CB6DF0B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119-2C49-42A3-BB47-2D5E60D7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0E7-2761-4B16-84D1-DA60EA0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C9E-73CB-4DAC-BF78-9314BD3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03643-527E-4DA9-B717-256B056FB5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re going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v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at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all that has carried me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thank You, 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or All That You’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l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ting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fe just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tefully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25Z</dcterms:modified>
  <cp:revision>10</cp:revision>
  <dc:subject>The Source, song number 108</dc:subject>
  <dc:title>For All That You’ve Done (Thank You, Lord)</dc:title>
</cp:coreProperties>
</file>