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1FA-EACA-4C04-B833-5057059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7C1-A6C4-437B-A6B6-71C23F4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E7B-E7B1-49A8-A729-851BB1D8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1C5-A2BF-4825-B881-F133DB7D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C10-EAB8-4E2D-9982-00522DF2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A8A-F72E-4EF2-8629-0D8956E4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6A1-674C-4F4E-94EA-629A58D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0BB-CEC4-43C0-A454-2D9022F1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676-C2A6-48E4-8A7E-07ABEE67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55E-F3C7-4783-9281-327DCEC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BB5-931A-43B0-A3FC-9808B00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9B6-21FD-44CE-86CA-BB18D31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EA70-5E90-4552-8839-A87A2B3989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2:57Z</dcterms:modified>
  <cp:revision>9</cp:revision>
  <dc:subject>The Source, song number 329</dc:subject>
  <dc:title>Lord, I Come To You (Power of Your Love)</dc:title>
</cp:coreProperties>
</file>