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6469-7CDB-4F5E-992E-0B806E53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C619-9BC1-4B82-9E82-3048F8EA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BBAC-018E-43C2-9CF9-722CFEB1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A3C5-CC89-40AA-A7A8-60D7B5BF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3D82-A14B-4D4D-AED5-B442E396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3C10-1EDC-4E56-8B72-20E27CD1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9ECF-AA5C-4F0A-B795-FC82CFEC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7BF4-ED4F-421A-B620-B38FCE09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AFE8-35D7-407A-811B-8A8282CD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5DD9-CBBD-4B92-9B22-32EA5264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A7F-756E-4544-A460-49F20EDD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8860-3D0A-461F-B3A9-30EDAEA6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66764-BFA8-42B0-AC77-1081EB7352B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ём сердце покой не от мира 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 сей не может от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еда за бедой здесь лишают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ий мир мне даёт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Он со мною, мо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Он со мною, я не страш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не оставит, Он слово да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с тобою, Я — твой Господ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моём сердце по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песню везде об Иисусе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моём сердц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ушла со сты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сменилася днё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! как отрадно с Тоб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Он со мною, мо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Он со мною, я не страш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не оставит, Он слово да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с тобою, Я — твой Господ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аню этот клад в слабом сердце м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уждая по стезям зем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ридёт Он оп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ьмёт меня в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света, в отчизну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Он со мною, мо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Он со мною, я не страш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не оставит, Он слово да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с тобою, Я — твой Господ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1:17Z</dcterms:modified>
  <cp:revision>13</cp:revision>
  <dc:subject>Slavic hymnal Гимны веры христиан, hymn 642</dc:subject>
  <dc:title>В моём сердце покой</dc:title>
</cp:coreProperties>
</file>