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4C2-7312-4AB8-A4E5-508C3EEF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136-49BE-4425-9DEE-635ED61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25F-781D-49C9-B186-E5E1604C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71F-4232-4F4F-A984-D6157049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3F1-5506-4D4C-997E-5E51720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E20-9FEF-4943-A0B1-99B3F96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947-EF2A-45BC-92F3-D4907C4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B37-3B4C-4609-8121-7119FD9A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29C-ADD5-43FC-B8CC-43CDC17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412-D457-4CA8-89B5-65714E0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A9C-AE30-420B-9FF5-88211515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8A7-063B-4A16-BCF1-FD8A120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2144D-D35A-4ED2-93E0-7A664FE76B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6Z</dcterms:modified>
  <cp:revision>12</cp:revision>
  <dc:subject>Slavic hymnal Гимны веры христиан, hymn 312</dc:subject>
  <dc:title>Повей, Дух Божий, вновь</dc:title>
</cp:coreProperties>
</file>