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51EC-6676-4108-BE30-B6EADCCE8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1CA7-3D40-46AE-A01E-CCE67F918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A1AA-424B-4D22-A066-4BCC65D6A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92FF-4E54-4E2C-9AF1-6ADA98260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70D3-768E-4076-A708-C3ABEA876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CB51-7F72-4080-80CD-4A8E834A1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2E0B-C296-4E2B-B4B3-3AF313EE4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1B79-35D5-4509-9549-BADD4CD3E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6FCC-4C5A-414E-9755-E56F9B6D0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0BC7-AFA7-47EB-88FB-AAE826708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ACB7-F222-49E2-89C8-B08095CEA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52CE-587B-4519-B62F-204C2C25F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CBAB72-128F-4F31-9CE1-EA66CAB8C42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кните к Иисус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воины кре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днимите знам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кресшего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беду за побед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рует Бог войск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рагов Христа низлож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сех к Его ног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9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римкните к Иисус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кните к Иисус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ас на бой зов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всеоружье ве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ам вас облеч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не страшит вас битв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ружий гул и гр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за нас срази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бесчисленным враг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кните к Иисус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ите вслед за Ни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— крепость и защи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— Верный Вождь сво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ч Слова обнажи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м побеждайте стр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, бодрствуя в молитв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 стойте на час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кните к Иисус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нь битвы пролет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коро день побе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а все озар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венец готов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му, кто верен бы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хочет, чтоб наве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 Ним во славе ж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41:55Z</dcterms:modified>
  <cp:revision>12</cp:revision>
  <dc:subject>Slavic hymnal Гимны веры христиан, hymn 498</dc:subject>
  <dc:title>Примкните к Иисусу</dc:title>
</cp:coreProperties>
</file>