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8</a:t>
            </a:r>
            <a:r>
              <a:rPr b="1" lang="ru-RU" sz="3600" spc="-1" strike="noStrike">
                <a:solidFill>
                  <a:srgbClr val="ffffff"/>
                </a:solidFill>
                <a:latin typeface="Verdana"/>
              </a:rPr>
              <a:t>	</a:t>
            </a:r>
            <a:r>
              <a:rPr b="1" lang="ru-RU" sz="3600" spc="-1" strike="noStrike">
                <a:solidFill>
                  <a:srgbClr val="ffffff"/>
                </a:solidFill>
                <a:latin typeface="Verdana"/>
              </a:rPr>
              <a:t>Я жажду петь во всякий ч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жажду петь во всякий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и слёзы, проч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мой Друг, меня Он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Он день и ноч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плакал в день, как уви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 вину м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 страданьи умир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я п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тяжёл греха иску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я: «Мой Иису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ёзы близки ино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пою все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буду всем повествов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е мо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е станет воспев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грешный мир о Н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2:35:30Z</dcterms:modified>
  <cp:revision>4</cp:revision>
  <dc:subject>Slavic hymnal Гимны веры христиан, hymn 128</dc:subject>
  <dc:title>Я жажду петь во всякий час</dc:title>
</cp:coreProperties>
</file>