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а</a:t>
            </a:r>
            <a:r>
              <a:rPr b="1" lang="ru-RU" sz="3600" spc="-1" strike="noStrike">
                <a:solidFill>
                  <a:srgbClr val="ffffff"/>
                </a:solidFill>
                <a:latin typeface="Verdana"/>
              </a:rPr>
              <a:t>	</a:t>
            </a:r>
            <a:r>
              <a:rPr b="1" lang="ru-RU" sz="3600" spc="-1" strike="noStrike">
                <a:solidFill>
                  <a:srgbClr val="ffffff"/>
                </a:solidFill>
                <a:latin typeface="Verdana"/>
              </a:rPr>
              <a:t>Благословений потоки</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s is the promise of lov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shall be seasons refresh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nt from the Saviour abov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обещал ниспосла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ним, чужим и далёк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небесную дать.</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5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
        <p:nvSpPr>
          <p:cNvPr id="5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ecious, reviving ag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ver the hills and the valley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ound of abundance of rain.</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освежат, оживя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вы, холмы и дорог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ью опять закипя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nd them upon us, O Lor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nt to us now a refresh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and now honour Thy Word.</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свыше пошл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ом Твой веди одиноки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м больных исцели.</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that today they might fall,</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as to God we’re conf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as on Jesus we call!</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наполняют весь д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вствуем наши пор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ем ниц пред Христом.</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f we but trust and obe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shall be seasons refresh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f we let God have His way.</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в Своё время пошл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во свете мы ход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Он с нами живёт.</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2:13:34Z</dcterms:modified>
  <cp:revision>4</cp:revision>
  <dc:subject>Slavic hymnal Гимны веры христиан, hymn 11 (as amended)</dc:subject>
  <dc:title>There Shall Be Showers of Blessing / Благословений потоки</dc:title>
</cp:coreProperties>
</file>