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1</a:t>
            </a:r>
            <a:r>
              <a:rPr b="1" lang="ru-RU" sz="3600" spc="-1" strike="noStrike">
                <a:solidFill>
                  <a:srgbClr val="ffffff"/>
                </a:solidFill>
                <a:latin typeface="Verdana"/>
              </a:rPr>
              <a:t>	</a:t>
            </a:r>
            <a:r>
              <a:rPr b="1" lang="ru-RU" sz="3600" spc="-1" strike="noStrike">
                <a:solidFill>
                  <a:srgbClr val="ffffff"/>
                </a:solidFill>
                <a:latin typeface="Verdana"/>
              </a:rPr>
              <a:t>Отче, я смиряюс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Father, I ador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ay my life down befor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I love You.</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че, я смиря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Тебе посвя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Теб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Jesus, I ador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ay my life down befor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I love You.</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исус, я смиря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Тебе посвя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Теб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pirit, I ador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ay my life down befor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I love You.</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ух Святой, смиря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Тебе посвя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Тебя.</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6:47Z</dcterms:modified>
  <cp:revision>3</cp:revision>
  <dc:subject>Slavic hymnal Гимны веры христиан, chorus 61</dc:subject>
  <dc:title>Father, I Adore You / Отче, я смиряюсь</dc:title>
</cp:coreProperties>
</file>