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387-C7A9-46D0-9CF2-441FDA04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B187-FD0D-4C60-8982-04E77EA5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ACF-D917-4F22-AC6A-77CB5510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50A-A7EA-4893-9CA2-E6E0824E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552-493C-4D04-A559-45B3CA72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5A9-EF9C-485D-A546-DBC3386D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8E4-CD9C-4CB3-9BD8-0C9A4C63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F92-CB35-4335-B516-8F6FB6D7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0A8-B8CC-48FE-ACF8-A7B3F81C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486-64A3-452D-B393-E5E0F3A9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FAC-D7CA-4081-BBDB-4858BE30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DD1-0712-43BE-84F4-CACD2FDC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596D9-2885-4DD0-AEC3-EBF1431225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Friend we have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ins and griefs to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privilege to car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thing to God in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за Друга мы им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руга мы име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к жизни пробу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ы счастием владе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источник веч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peace we often forfe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needless pain we b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because we do not c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thing to God in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как часто мы стра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 терпя напрасно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росить мы забыв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дин помог Он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we trials and temp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ere trouble any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ould never be discourag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o the Lord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шенье ль нас трев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тки ль тяжки для кого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пусть из нас возл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свою всю на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we find a friend so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all our sorrows sh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knows our every weak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o the Lord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дин среди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свет средь тьмы про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Христос Один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горе облег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e weak and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umbered with a load of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Saviour, still our refu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o the Lord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ываем мы под зно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й жизни сует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лишь Ему откро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thy friends despise, forsake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o the Lord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arms He’ll take and shield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ilt find a solac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ас друзья забы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м Господу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истос проявит в си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верный Друг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5Z</dcterms:modified>
  <cp:revision>13</cp:revision>
  <dc:subject>Slavic hymnal Гимны веры христиан, hymn 594</dc:subject>
  <dc:title>What a Friend We Have in Jesus / Что за Друга мы имеем</dc:title>
</cp:coreProperties>
</file>