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4C6-C611-4135-A0DA-DB4AEC9D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35F-15D6-427A-83C7-C8482490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BB9-D8B1-4DAA-96B0-AC6F021F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78E-5CF2-45C3-83B6-BD5D5B09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689-2A41-4E86-B9C1-5D763ADA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02A-3D02-40FA-B6A8-8CFA3B1C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439-F5C8-4761-9035-AE13F788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67E-7B34-483A-9C0E-74C5C1D9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84F-02EE-4519-9493-1433A1F5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0F5-B176-4215-BA24-6F8E2732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02D-3D32-4BE8-9CBF-9C386BC0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0B1-ADA2-4CF9-9FB5-AC87F710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B13FE-6632-4667-A000-45C6A9DD9F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й, куди піду щ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мені шука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знайде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для свого сумлі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різь по світі я сход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радості шука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 не пода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ю ще сумніше ст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3   Ой, куди піду ще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людей більш не пі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и, щастя в них шука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 мій, до Тебе 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 Тобою пробув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у Тебе Од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утомленим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 горя я с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ду ще звільн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ийми, прийми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 правди і любов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гріховне все м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життя почати н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15Z</dcterms:modified>
  <cp:revision>14</cp:revision>
  <dc:subject>Slavic hymnal Гимны веры христиан, Ukrainian hymn 53</dc:subject>
  <dc:title>Ой, куди піду ще я</dc:title>
</cp:coreProperties>
</file>