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2D1-1C63-47DF-BBDF-F6B66C9E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29B-A75C-4A46-93AE-29FCB908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770-C2BD-41F6-A7E7-EAFBA44D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889-5131-4E47-86F3-9F18EBCE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EC5-6257-4378-9BAF-7FDE64D0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6F7-724B-420E-AC1E-A95EAF61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EFA-747B-498D-9F81-73E00B86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DC5-872E-4AE9-BB05-F647850D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BA5-F5DE-4098-BC72-E139056E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B0A-1228-40E0-A5B7-918C6767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C82-50F6-4F1E-983C-1E31683C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AED-D877-4DAC-9CD9-F0DFAF46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33F4F-28DB-4BA8-8ED6-352EDD90A5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ye first the kingdom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se things shall be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7   Ищите прежде Ц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те прежде Царства Бож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ы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стальное приложится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not live by bread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by ev’ry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proceeds from the mou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ие Божье не пища и пить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о Святом Ду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and it shall be given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and you shall f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ck and it shall be opened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те и дано буде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те и найд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ите и отворя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e Son sha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be free ind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know the truth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th wi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приблизилось Царства Бож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те и ждит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ывает, всех хочет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1:05:48Z</dcterms:modified>
  <cp:revision>13</cp:revision>
  <dc:subject>The Source, song number 447 in Russian</dc:subject>
  <dc:title>Ищите прежде Царства Божия / Seek Ye First</dc:title>
</cp:coreProperties>
</file>