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B06-ADF1-44A6-BF74-D7191F46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AD5-418B-4F16-BB3B-477D3CFC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57C-C42F-443F-B7AC-775A1A24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273-16EF-4CFA-84FE-A2027E0D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F45-10AF-4E28-BBA4-6BBC3B07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006-7F5B-4EA6-AB8B-1AB1F9AB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C5F-641D-4394-933F-B6112247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A34-41E0-4B41-B12B-056398C5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B83-A178-4896-9C92-B3A67F95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147-FCD6-4680-AF69-A0FAB676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76D-4C0F-4915-A85E-172E575A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059-1715-4732-97C0-15FDE67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A2D40-22FB-4FD8-8A88-6D574F8FC2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on of Jud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that was s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scended to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more will reig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end of th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earth You re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gather the nations bef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’re the Lion of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yes of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fixed on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 wisdom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ustice He re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ather’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ngels will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il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slain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ule in pow’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King of all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of all lor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a shield in 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sword at 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a fire in 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annot be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Father has told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se You hav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nations that gather bef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s of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ed to hear of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descended to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was raised up to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ather’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ngels will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il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slain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ule in pow’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King of all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of all lor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33Z</dcterms:modified>
  <cp:revision>12</cp:revision>
  <dc:subject>The Source, song number 606</dc:subject>
  <dc:title>You’re the Lion of Judah (Lion of Judah)</dc:title>
</cp:coreProperties>
</file>