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33B-F332-42AD-8319-0105AFF4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442-1A32-4302-8221-3A06C379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521-6B28-4B1E-A1D6-A2E9ECB6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87A-502B-44DF-806D-C65E5D5B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03D-8794-4D39-AA23-44C57826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83E-0634-4038-AC88-BE5C2F13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5E2-3B7D-46D5-AD39-4DFDB830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CE4-50C6-4FE7-AC2B-C2C7C507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0D5-A51C-4217-BC64-3DF3F007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5D6-83B3-46EE-AD9E-4410C317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262-7308-4D8F-9842-6D4FFB0C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B84-DFF7-48E2-8443-1CD83B9F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105D1-9E0C-4D45-A99D-E5133AD70F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у пісню співаю я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колись не зн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мої гріхи з мене з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0   Солодку пісню спів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удну і дивну любов не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, що є су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тоді в душі співаю в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у спільність ми має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зик не роз’яс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е щастя нам є з Ни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, прийди до Нього теп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учений та сум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ш співати в Його любв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47Z</dcterms:modified>
  <cp:revision>12</cp:revision>
  <dc:subject>Slavic hymnal Гимны веры христиан, Ukrainian hymn 90</dc:subject>
  <dc:title>Солодку пісню співаю я</dc:title>
</cp:coreProperties>
</file>