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9C6-390C-4629-B844-7BC14E38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E4B-06D1-4DAD-B4E2-677B68BD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783-DD21-45BA-97FE-C92F4201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E95-D501-4F9B-A4E8-62990C2D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2E4-A589-4B2A-A7B1-C84142BD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13C-7596-43B1-82BC-C6D364E4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18E-3039-46B9-9F12-DF3377F9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973-E09D-445C-8BD1-E311E222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DE6-6CBF-4B96-A7EC-4EF3C00C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7C6-40D9-4C41-948D-4C5A79BF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4B5-2B0F-4D07-88C8-5F4FD51F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C43-3678-44E0-9CA1-565F6FBA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06B27-7257-4758-8834-8A1330BB75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, сколько я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 сияет в небе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облаков прекр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ь несётся на ве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Господь число их зн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й не потер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мадного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мадного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наешь ли ты, сколько яс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 сколько быст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бок плещется в вол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мотыльков пуш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етает на пол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звал их име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ли вместе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вал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вали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 сколько раз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живёт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грешников несчас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в праздности с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взор на всех вз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грешник погиб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к нему в любви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к нему в любви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0:18Z</dcterms:modified>
  <cp:revision>13</cp:revision>
  <dc:subject>Slavic hymnal Гимны веры христиан, hymn 753</dc:subject>
  <dc:title>Знаешь ли ты, сколько ясных?</dc:title>
</cp:coreProperties>
</file>