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39640" y="395280"/>
            <a:ext cx="899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1440000"/>
                <a:tab algn="l" pos="21589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 Great Southlan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our nation, this is our lan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our future, this is our hop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land of reaping, a land of harvest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our land, this is our ho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great Southl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Holy Spirit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land of red dust plai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ummer rain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is sunburnt l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see a floo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this great Southl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Spirit com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our nation, this is our lan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and of plenty, this land of hop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ichest harvest is in her peo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ee revival, His Spirit com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great Southl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Holy Spirit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land of red dust plai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ummer rain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is sunburnt l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see a floo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this great Southl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Spirit com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our nation, this is our lan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ucky country of dreams gone dry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these peoples we see a harvest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this land revival com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great Southl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Holy Spirit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land of red dust plai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ummer rain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is sunburnt l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see a floo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this great Southl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Spirit com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12:30:00Z</dcterms:created>
  <dc:creator>John Zaitseff</dc:creator>
  <dc:description/>
  <dc:language>en-US</dc:language>
  <cp:lastModifiedBy>John Zaitseff</cp:lastModifiedBy>
  <dcterms:modified xsi:type="dcterms:W3CDTF">2018-07-13T06:25:00Z</dcterms:modified>
  <cp:revision>4</cp:revision>
  <dc:subject/>
  <dc:title>The Great Southland (This Is Our Nation)</dc:title>
</cp:coreProperties>
</file>