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FF5-7B19-4B85-A3CF-E09A0CCF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410-4376-4A15-919F-D632784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EC7-D133-4605-8112-863417B3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9D1-9781-4C9C-AED4-06F508DA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5AD-76F4-453C-839D-4FFDF0C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AEF-F3C6-46D4-92A0-09F9875A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163-B53B-4EF5-A47F-5C5478F6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65A-02D3-49F2-89D6-E3985F84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40B-1D16-4D1D-BC55-C5B03834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203-CCC5-4048-86D8-CBC8FBF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273-8A53-428C-BEF3-1A89058D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ECC-E627-46E0-8E31-C81454E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24A62-145B-4FD3-AEF1-9633DF9CC0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ет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т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пас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ведать ут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емим взоры в вы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, милы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стра,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кнет солн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«д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е скажем «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рдишься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м будь, не гор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будет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ердцем смир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яжет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ён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ст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й друг, не гр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раждует, смир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любит, лю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брат, берег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не сгу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ждаться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рпи,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 сердцем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иг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07Z</dcterms:modified>
  <cp:revision>12</cp:revision>
  <dc:subject>Slavic hymnal Гимны веры христиан, hymn 435</dc:subject>
  <dc:title>Сердцу всюду беда</dc:title>
</cp:coreProperties>
</file>