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380-E71B-4EB3-B1FE-23A73A71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C12-B16F-4D2D-B712-6830EF29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E6E-6D1F-4770-BC9E-CD236EE1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4E5-098E-4EEE-91FF-B36E6660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47E-DC37-493C-9217-2A61A0CE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B32-6F4B-4151-87B4-299060F7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F46-B72D-4A89-AA17-432B4FE8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AB9-6C75-4AE8-89A0-D3CB2AA6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5E0-312D-4036-A8FD-FF790D65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A9D-ABB4-427F-A972-663BF4D2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233-005A-4E36-B13E-F3EADB81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18A-3723-4038-9AA0-19D397E2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88A33-F428-401B-A784-7FE427A573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учно на сердце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ижу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пустеет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ркнет, и меркнет, и мерк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ркнет её крас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ясно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е всё мёртво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ем пустыня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, когда я, когда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союзе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учно на сердце по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— сокровище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с Ним — дороже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ы со мною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ыло б, мне было б, мне было 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ыло б на сердце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л бы Он близок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с Ним ничего не жел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й любовь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ё бы, я всё бы, я всё 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ё бы за сор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06Z</dcterms:modified>
  <cp:revision>13</cp:revision>
  <dc:subject>Slavic hymnal Гимны веры христиан, hymn 504</dc:subject>
  <dc:title>Как скучно на сердце порой</dc:title>
</cp:coreProperties>
</file>