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8C55-F6F4-4E43-BF27-B676012EC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07C4-F882-4DC3-A558-FADE1467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024E-4622-47BF-812E-CDCA5F78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C615-5E21-4E69-A635-FBFA9F53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7B15-9C8B-451A-8978-F3427AFB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BBD5-19CE-40DB-9928-81FED9C9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8BBF-DD6C-4688-9AD5-47A1B23B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BE86-00BC-4823-B23F-A0216263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D297-6754-4DF0-AF17-64AE3643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A0E0-3063-4803-B29D-B98F08F3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4FD7-B7C1-4DE0-84AC-D301EFFB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8B61-7C7A-47ED-BBD8-FC743FAC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FC287-E5CE-4EAE-8427-0106FA43AA9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десь лишь странник, странству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родину я свою спеш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расстанусь я с этим ми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край небесный к Отцу вой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лых одеждах ангелы встре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месте с ними пребудем 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екшись силой Его свят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дем славить и петь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5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здесь лишь стран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пройду я всю тень развра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которой тяжко бороться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веду я к блаженству бра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торый гибнет ещё во ть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лых одеждах ангелы встре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месте с ними пребудем 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екшись силой Его свят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дем славить и петь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етер веет, несутся ту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грожают мне здесь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 то лишь, что Бог могуч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пребудет, как верны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лых одеждах ангелы встре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месте с ними пребудем 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екшись силой Его свят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дем славить и петь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т я слышу вокруг стен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роды стонут во дни трев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м я больше ищу позн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коро я отдохнуть см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лых одеждах ангелы встре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месте с ними пребудем 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екшись силой Его свят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дем славить и петь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ёт и горе, минуют бе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новый Иерусал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пою я в нём песнь побе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о буду с Христом м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лых одеждах ангелы встре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месте с ними пребудем 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екшись силой Его свят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дем славить и петь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1:42Z</dcterms:modified>
  <cp:revision>14</cp:revision>
  <dc:subject>Slavic hymnal Гимны веры христиан, hymn 659</dc:subject>
  <dc:title>Я здесь лишь странник</dc:title>
</cp:coreProperties>
</file>