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4251-9B90-4470-B796-479BB4B2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044-1776-4282-9A76-2979708A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3A1A-601E-49D1-A2F1-BAF0B51D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4F5-620D-49C1-AE39-255FFC5C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B2A-8316-493C-A2C0-8DE07DBA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413-1A77-4C1F-A556-976BBB25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7C4-9A5F-4052-AD08-3A6C2D18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FB7-C64E-4829-86E3-855B4948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702-8534-4FC9-9DAF-03C5D968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874-DBAC-4156-A503-DAA8AFAA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F94D-939C-4AC4-BAD8-F6B4D7A0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44FF-D122-4A96-A048-AA004341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A134D-1346-422A-8ADC-9C9D6748E27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our Redeemer died o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ed for the sinner, paid all his d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ho receive Him need never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He will pass,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мер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Спаситель, умер за все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ою смертью жизнь нам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го кровью смоет сво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ass, I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efest of sinners, Jesus will sa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has promised, so He will 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sinner, hear Him, trust in Hi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He will pass,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ты ни был — смело при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х, несчастных примет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ко Христовой прильнёт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ass, I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dgement is coming, all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have rejected, who have ref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sinner, hasten, let Jesus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e will pass,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д недалёко, все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там награда верная ж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мог укрыться в ранах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ass, I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reat compassion! O boundless l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hath power, Jesus is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ho believe are safe from the stor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e will pass,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ая жертва! Дар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Господня! Масса щед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чуждался крови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ass, I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9-08-17T21:38:27Z</dcterms:modified>
  <cp:revision>13</cp:revision>
  <dc:subject>Slavic hymnal Гимны веры христиан, hymn 282</dc:subject>
  <dc:title>When I See the Blood / Умер Спаситель, умер за всех</dc:title>
</cp:coreProperties>
</file>