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9</a:t>
            </a:r>
            <a:r>
              <a:rPr b="1" lang="ru-RU" sz="3600" spc="-1" strike="noStrike">
                <a:solidFill>
                  <a:srgbClr val="ffffff"/>
                </a:solidFill>
                <a:latin typeface="Verdana"/>
              </a:rPr>
              <a:t>	</a:t>
            </a:r>
            <a:r>
              <a:rPr b="1" lang="ru-RU" sz="3600" spc="-1" strike="noStrike">
                <a:solidFill>
                  <a:srgbClr val="ffffff"/>
                </a:solidFill>
                <a:latin typeface="Verdana"/>
              </a:rPr>
              <a:t>От сна восставш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 сна восставши,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ец мой, предст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говейною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Господь м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мирно ночью почи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крыт, храним от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день новый не нас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заря взошл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рани меня от зла и д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мирно мне пр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спасительным пут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ротко крест 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ошли мне Духа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дить всегда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 захочешь жизнь прер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дух слабый м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9:37Z</dcterms:modified>
  <cp:revision>3</cp:revision>
  <dc:subject>Slavic hymnal Гимны веры христиан, hymn 219</dc:subject>
  <dc:title>От сна восставши пред Тобой</dc:title>
</cp:coreProperties>
</file>