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DFE-20AB-457C-B1A1-F1C0D9E8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FB0-093C-4938-93F9-D1AAED1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D41-0E84-4970-9F18-B144C34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BAB-E0ED-4F06-B746-36DF37DA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4D3-400A-4E15-9790-1C4C177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FE1-F57E-4832-BB02-792E13CC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478-FC29-4A3C-AB53-DCE7E7E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042-9258-4867-A8D3-ECFD53F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367-9CFB-47E9-BDB4-B7EFAEB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721-5F2B-4488-89EC-B695E62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3B0-0C4C-4394-900C-06E18AD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FFC-09D1-4C74-9236-58CDD92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C19AD-1E38-4491-B2CD-782A399328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6:19Z</dcterms:modified>
  <cp:revision>14</cp:revision>
  <dc:subject>Slavic hymnal Гимны веры христиан, hymn 555</dc:subject>
  <dc:title>Ярко свой маяк Отец наш</dc:title>
</cp:coreProperties>
</file>