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16A4-5652-4A7B-A27C-D501F9E2E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97AF-28E5-4F8E-AE51-9F95F50A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1FB1-CE8A-46D9-AD2D-3A561F91B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8DC7-1659-41AF-9166-B86978347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0F4A-EA7F-49D0-9BB2-CFAF2E75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F1BF-2974-4FD7-A5DA-763AB8D5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2811-E7CA-457B-B3C0-E91C0DC1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7717-B87C-4974-B46B-3F46C41D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3821-5CED-4462-A4F4-460C357F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7C80-B6A7-42FB-8ABD-2035576A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FFA2-AEC2-49D8-94A3-C4FEE472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CCA4-D8F4-486A-830C-17F8DA4F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A3C8F-3571-4EAF-A79B-AC6EBE55B8A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rship You, Almight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none lik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rship You, O Prince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s what I love to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7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еред Тобой склоняюсь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Тобой склоня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огущи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ут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шёл у Твоих н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ive You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are my righteous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rship You, Almight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none lik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вел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Тебе подобно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Тобой склоня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любовь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11-26T21:35:18Z</dcterms:modified>
  <cp:revision>11</cp:revision>
  <dc:subject>The Source, song number 271 in Russian</dc:subject>
  <dc:title>Перед Тобой склоняюсь я / I Worship You, Almighty God</dc:title>
</cp:coreProperties>
</file>