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666-8B86-48BE-9B50-F27F788C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B37-9878-418F-9383-97E3493F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492-1E6E-4891-A232-22846232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E05-9071-4966-94F9-D040CC74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5D0-2091-42E6-A26B-6C3B74F7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B62-E2EA-4CFF-A4B3-C908B60F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2BA-47EE-4BE4-9983-3ADF079B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F03-8E2E-4CDC-829C-BAAC9896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31F-04AC-45FA-BD8C-208F4030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A75-4949-49C1-81C7-0BC90321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575-3A77-40DE-BF7D-44653834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194-D463-45C5-A265-B3A9BDA7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FE794-78B8-40E6-B4F7-6CDA2F709A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lvation belongs to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its on the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and glory, wisdom and than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and power and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4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Salvation Belongs to Our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, the redeemed, shall be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purpose and u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claring alou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and glory, wisdom and than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and power and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8:16Z</dcterms:modified>
  <cp:revision>11</cp:revision>
  <dc:subject>The Source, song number 443</dc:subject>
  <dc:title>Salvation Belongs to Our God</dc:title>
</cp:coreProperties>
</file>