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069-274E-432F-A573-2EAA50F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87C-F045-47B1-B3BE-D1F2D9E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4EC-7264-4D28-BEEC-074AD062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180-C9D2-44A0-8207-59959F7C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837-5736-4606-BA87-723349B2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EEE-F8BA-49F5-9456-AC90337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BC9-0E84-4908-8F61-DFC3F76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575-6A54-4A9B-B9CB-FE7BDAC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147-8998-499F-94FA-A72E548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1AE-2EF5-492E-AF53-44F7D77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724-B608-4BC6-BF82-FA9DDBF5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48B-844F-4E12-A01E-8423609E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3F28-B527-41AE-A910-120D42A053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 вам, Христово цветущее пл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ждённое в бурях великих суд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грозно встречает последнее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на последний решитель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ною стальною, полки бое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ье идёт к вам на лютую бр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книтесь теснее, ряды молод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ешительной битве никто не отст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вет вам, Христ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ите победу, священн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ярче горит над руин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вперёд христианско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бескорыстной, Христова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ердца молодые пусть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еньи одном на груди 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, быть может, кого и подн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й разъярённой на древ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не робея, на смену 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борцам, не страшитесь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те, цветите, плоды прино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е в мире наследь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48Z</dcterms:modified>
  <cp:revision>12</cp:revision>
  <dc:subject>Slavic hymnal Гимны веры христиан, hymn 794</dc:subject>
  <dc:title>Привет вам, Христово цветущее племя</dc:title>
</cp:coreProperties>
</file>