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C9C-BF6C-42EA-BE07-DD881D6D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2B3-C0C5-4441-8720-E08842B5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481-B8CF-41B4-924D-D27338B3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E57-2B61-42B5-9D0B-15775C44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F53D-8D85-4B86-9603-AA9ED8AA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40E-60B5-46EE-92DC-FB4B4103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C9E-3952-4323-82AD-FC4ADC9C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A98-9163-42BB-9DBD-F9F48846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4C8-8401-4AF1-88E5-E472864B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BB7C-6B68-47FF-8B94-721C8CC5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67C-C83F-4676-9A38-AA501FDE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1B3F-8FB1-468D-9500-0D62775E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D3F4D-1F1C-462C-B2D6-3DB7627DF3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вы налил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ю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шлёт жнецов к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ли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еперь их м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е жатвы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е ли, брат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ивы налил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истое з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жать серп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гибнущих иск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их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ому ты бр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у протя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 к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здному вдох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рабо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вы не уй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шь: «Раб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ь ты войд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истое з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жать серп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гибнущих иск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их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солнце св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сай народ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ы день не до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он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без снопов жи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Христу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тарайся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ольше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истое з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жать серп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гибнущих иск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их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03Z</dcterms:modified>
  <cp:revision>12</cp:revision>
  <dc:subject>Slavic hymnal Гимны веры христиан, hymn 533</dc:subject>
  <dc:title>Нивы налилися, ожидают нас</dc:title>
</cp:coreProperties>
</file>