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D1A2-89BB-4A00-A009-9A3B3AF65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4B12-B1DC-4479-AF36-3D21A23CC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57C6-51E6-4EC0-97C7-2E9219924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EFB9-9087-4CBE-BE63-BA282DC0D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6A18-F30C-49BB-822B-6999DE45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04E2-F03F-40DB-BAFC-F99DD009B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AD3D-0A78-41A2-A4D9-FAF2176C1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0358-0065-4D0F-B53A-804E180CA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511F-BD14-4CEC-B86E-156254A1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4FF2-9699-4A82-9FD0-2B6DC1E6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C850-0BCE-4A38-9090-37883FFA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7C46-3DD1-4AFB-A079-1EE51068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729730-CB60-4E5E-996C-6A9B825CFCE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beauty of holiness we se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n of Righteous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we bring all that we poss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lay at Your fee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place where Your glory shin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lover of all manki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have drawn us with love div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make us comple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317   In the Beauty of Holi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 pause at Your gates once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my heart and my spirit so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sh I could love You m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God and my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there tribute that I could br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as there ever a song to 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could ever express, my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rk that You’ve do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uld I ever conceive of thi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the depths and the h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brea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e riches I now poss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ause of Your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 pause at Your gates once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my heart and my spirit so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sh I could love You m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God and my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repea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9T11:34:37Z</dcterms:modified>
  <cp:revision>12</cp:revision>
  <dc:subject>The Source 3, song number 1317</dc:subject>
  <dc:title>In the Beauty of Holiness</dc:title>
</cp:coreProperties>
</file>