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728-8579-4EB8-B28D-0D543791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612-A9E9-49A4-8944-60FE3AE6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4CD-BC8D-4729-9421-ED8D1E77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BCEA-E333-410E-9A0C-1DAE1687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9652-AAD4-4BB1-A5F4-D0DB56B5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A10-5CEE-4315-869E-9F970023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E34-9722-4FA7-8728-5E9EEFAC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66B-D04B-4B15-8F38-28F3A256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D1A-1850-42F8-BED8-BA228B25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D5F-AE6F-4C3A-80AC-3A120EEA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06DF-7477-434C-BEB1-75C352B7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738-B8D2-4265-9FB0-03E0CEFE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3B12E-1FEF-4723-887C-B5069CA282B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first Noël, the angel did s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s to certain poor shepher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fields as they l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fields where they lay keeping their shee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a cold winter’s night that was so de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Рождестве благую в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ждестве благую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ал Бог ангела прин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гачам, не мудре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бедным в поле пастух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ël, Noël, Noël, Noë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is the King of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ël, Noël, Noël, Noë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is the King of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lookèd up and saw a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ing in the east, beyond them f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the earth it gave great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 it continued both day and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свет их оси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ангел им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тесь! вам рождён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людям радость Он принё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ël, Noël, Noël, Noë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is the King of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y the light of that same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ee Wise Men came from country f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ek for a King was their int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follow the star, wherever it w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е небес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лась чудесная 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стила мудре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Царь сошёл к Своим раб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ël, Noël, Noël, Noë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is the King of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did they know assure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in that house the King did l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entered it them for to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und the Babe in pove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луч звезды для уха 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ёл он мудрых в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, что ярче всех све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огий домик оза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ël, Noël, Noël, Noë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is the King of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entered in those Wise Men th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reverently upon the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ffered there, in His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gold and myrrh and frankinc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шли смиренно в мал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али ниц пе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ладенцу поднесли да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шли с хвалой в свои дв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6:39Z</dcterms:modified>
  <cp:revision>12</cp:revision>
  <dc:subject>Slavic hymnal Гимны веры христиан, hymn 814</dc:subject>
  <dc:title>The First Noël / О Рождестве благую весть</dc:title>
</cp:coreProperties>
</file>