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7CBB-D146-4B5A-9874-C17DC3E3F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872D-2540-4651-8600-261A779E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0F32-2D62-41A0-9144-E9B2921DB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0950-BDAC-4B6F-B737-DCD3219E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BFAB-470E-4416-AFE8-647921AF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348A-564E-4C90-8A51-11FB0B59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94E9-D576-4598-A9A5-F6CB8F36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80F6-F4B6-4A1E-85D3-9E87366F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3F64-F8D0-4285-A49D-86EA1466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EF57-CDA9-412F-A0EF-D11F3869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4D5B-F6B6-4C8E-AE8E-9C38D814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9964-64B8-496E-94FF-C4B27D2E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1C09D-906E-4A65-8298-F87BC8B9857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удивляться я долж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, что нас возлюб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я был неправды исполн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ы кровь за нас про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9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егда удивляться я долж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лит за нас в Гефсимань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ец, воля пусть Тво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претерпел Он стра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ранах жизн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ангел от Бога нисх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, чтобы подкрепл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рьбе Гефсиманской сур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должен был я стра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на небо преб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Христа уз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что Он грешников люб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 я гимн сп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6-11-06T11:20:26Z</dcterms:modified>
  <cp:revision>12</cp:revision>
  <dc:subject>Slavic hymnal Гимны веры христиан, hymn 904</dc:subject>
  <dc:title>Всегда удивляться я должен</dc:title>
</cp:coreProperties>
</file>