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C55-D624-4BBF-A40E-D64C109D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9738-0A60-4EFF-8F74-4EDDD227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F0FE-498B-4D0E-BE08-F86C2674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42D-16DA-4727-B236-7B8E69C9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8E2-6D20-47B5-9843-4F61C0A8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94BA-CD5F-48C5-83B4-2CB0980E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810C-5146-41AE-B4B9-8E466189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F1A-0A41-4090-A68B-CCA44FE6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300F-2ACB-4D31-BD4D-38794785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DA1F-DB4B-47E4-8D55-CB1D1F57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684D-1B34-47BF-BF94-8A1A05CC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431-E40C-4DAF-9C24-9A3D43D6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63771-4980-4357-BAFE-A862FA897D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ь наш верный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сегда Ты близок к н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ди Сво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 жизненным пу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м голос мы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истой радостью в гру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утник слабый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ждь наш вер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близкий, верный Д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гда готов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ь Своих Ты 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скать на ощупь в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ря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слабнет под нуж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: «Путник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ень пройдёт тру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ышим сладкий з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ебо, как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ерёмся мы с мол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я в мощь крови свят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оток нас пров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: «Путник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18:39Z</dcterms:modified>
  <cp:revision>13</cp:revision>
  <dc:subject>Slavic hymnal Гимны веры христиан, hymn 302</dc:subject>
  <dc:title>Вождь наш верный, Дух Святой</dc:title>
</cp:coreProperties>
</file>