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9C3-C1B3-4E61-AD1F-2A1550FC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424-92E6-489B-B135-4CD69FC6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F05-8E47-4442-BC4F-C729CA05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473-1E00-4C66-B2FB-C07EBCCF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7F8-3CC4-49D6-916F-95642556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141-E0AC-4E27-92C4-A25CA120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2E3-3B1C-4C18-AA89-BAB12A00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5F7-04D8-4B79-BBA8-4D77CDCB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791-D6C9-410F-A5DE-F9F9CE9F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847-2DBB-4B7F-9ADC-498A4D23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D2F-A928-47B8-81EC-4FEC5289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03C-5F26-4D14-A8AE-DE51E83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A84F7-DDAE-40E4-9A15-1830BC8E4E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Твоей полна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Твоей полна жиз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Свою Ты превознёс над су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л меня и ввёл в Сво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с меня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л от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с меня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л от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Тебя, благодарю Те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илости Т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8:06Z</dcterms:modified>
  <cp:revision>13</cp:revision>
  <dc:subject>Slavic hymnal Гимны веры христиан, hymn 901</dc:subject>
  <dc:title>Милости Твоей полна вся земля</dc:title>
</cp:coreProperties>
</file>