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69</a:t>
            </a:r>
            <a:r>
              <a:rPr b="1" lang="ru-RU" sz="3600" spc="-1" strike="noStrike">
                <a:solidFill>
                  <a:srgbClr val="ffffff"/>
                </a:solidFill>
                <a:latin typeface="Verdana"/>
              </a:rPr>
              <a:t>	</a:t>
            </a:r>
            <a:r>
              <a:rPr b="1" lang="ru-RU" sz="3600" spc="-1" strike="noStrike">
                <a:solidFill>
                  <a:srgbClr val="ffffff"/>
                </a:solidFill>
                <a:latin typeface="Verdana"/>
              </a:rPr>
              <a:t>Братья, все ликуйт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Let us with rejoic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ngregate toda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salms to Jesus voic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ve our joy full sway;</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ратья, все ликуй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ный день наст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ёстры, торжествуй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радость да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ce in sin benight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rangers, you and I,</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ough His blood unit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have been made nigh.</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когда чужи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теперь друз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зкими мы ста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Христ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 His praises, Hallelujah!</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His blood redeemed are w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God’s Book our names are writte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ritten for eternity.</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мко пойте: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спас и оправ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имена наве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нигу жизни запис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Not by Sinai’s lightn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re we faced toda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r the thunder frighten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ings to us disma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ыне приступи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к Синаю м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уж не пугаю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мы, молни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rds of grace from Calv’r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to you and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the blood of Jesu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ed from wrath are w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благодат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им со крес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спаслись от гнев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Христа.</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 His praises, Hallelujah!</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His blood redeemed are w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God’s Book our names are writte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ritten for eternity.</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мко пойте: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спас и оправ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имена наве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нигу жизни записал.</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By His love direct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ve we day by da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the blood protect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our heav’nly way;</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рой и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теперь жив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мыты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ебесам идё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ssed truth ’tis writte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God’s Word, that w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ough the blood of Jesu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ve eternally.</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лая надежд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елит серд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м жить вове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ию Христа.</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 His praises, Hallelujah!</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His blood redeemed are w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God’s Book our names are writte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ritten for eternity.</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мко пойте: аллилуй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с спас и оправ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имена наве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книгу жизни записал.</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1:06:10Z</dcterms:modified>
  <cp:revision>4</cp:revision>
  <dc:subject>Slavic hymnal Гимны веры христиан, hymn 569</dc:subject>
  <dc:title>Let Us With Rejoicing / Братья, все ликуйте</dc:title>
</cp:coreProperties>
</file>