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37A9-237C-48A4-B00F-974520A7A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D50B-A214-4915-8D37-06B35C66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6BB4-5122-40E4-8C26-46D01A8A2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1909-9410-4480-B5B5-8934CB5F6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D5DC-DBE4-405C-BAC9-BFFF7C2B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C7AA-CE02-479E-A4EF-58894FCB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C6E1-10D6-44C6-AD11-47A0CE0D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17AA-8639-4EEC-AFCD-7033DD8B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EA1F-3933-49BF-ADF1-D16B6EC0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2155-AD2B-43D9-91F3-34FF7CCB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BE09-8473-457E-B8C8-627AFBE3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105A-FCBF-4E9D-A73B-DED75770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B2D94-B1C6-42F1-8216-C52FF19BFD0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, Боже, їм щаст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многі лі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бур і нещаст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Їх все захищ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тя їх хай завж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ою м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вітло Господ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вкруг них сі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8   Дай, Боже, їм щаст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 їм мудрість Бо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життю цім земн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тра й важні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д все в світі ці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28:25Z</dcterms:modified>
  <cp:revision>13</cp:revision>
  <dc:subject>Slavic hymnal Гимны веры христиан, Ukrainian hymn 18</dc:subject>
  <dc:title>Дай, Боже, їм щастя</dc:title>
</cp:coreProperties>
</file>