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891-C9EB-45C0-A65B-341B1CDC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C4A-59D0-4BAD-85D7-55B11CE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D85-68E3-4FF4-B442-43BFADC8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13E-9D55-449C-A11A-5F39D9C9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2AE-4D33-4AAB-AA49-60E6FDE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3BD-7F5F-4F08-97AF-B83CFDE3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065-A9E1-453E-A12F-BC1AB456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F2F-1D35-4CAF-8B75-FF630EA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C4D-5D6E-47A6-8D1B-70D29D38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1A2-9CBB-4DD7-B5FF-5868EB9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EB8-9B65-434B-BC89-11E5F1A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3DE-F65F-47EC-B521-FFE15BD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49C62-6A97-442E-8A5A-6BB47E4DF1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54Z</dcterms:modified>
  <cp:revision>12</cp:revision>
  <dc:subject>Slavic hymnal Гимны веры христиан, Ukrainian hymn 70</dc:subject>
  <dc:title>Let the Lower Lights Be Burning / Ясно Свій маяк Отець наш</dc:title>
</cp:coreProperties>
</file>