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41F-7FBB-443E-B4DF-8428FFD7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454-4C5B-4F62-9EC4-AB44426C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9EF-8D4B-4451-B876-8643606E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FFE-0F76-4CDD-BD80-8EF87F6A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C95-1916-4E5B-A2A9-CA001694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C5C-DE47-403F-BA3C-81211EA7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35D-1BAE-4363-8673-9E0EAFB1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842-117B-4079-8CEF-298D57F5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D51-5C91-4E1A-915F-27C32656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085-7935-4039-A90C-25027FEF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D35-B80D-44A6-A176-3AE22E8A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5F7-07EE-46EE-BFD0-213D5AA3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B0D05-F775-4FCB-97B8-7CAC133CFC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without one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at Thy blood was sh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Thou bidst me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ков, как есмь, о Боже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о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еп, и наг, и слаб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ровь лилась и за гре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and waiting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id my soul of one dark b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whose blood can cle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sp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я не мед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у скорей Спас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моих Цел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though tossed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any a conflict, many a doub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ghtings and fears within, with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в чужой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пронят внутри и в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раскаяться в в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9Z</dcterms:modified>
  <cp:revision>14</cp:revision>
  <dc:subject>Slavic hymnal Гимны веры христиан, hymn 479</dc:subject>
  <dc:title>Just As I Am / Таков, как есмь, о Боже мой</dc:title>
</cp:coreProperties>
</file>