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71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3</a:t>
            </a:r>
            <a:r>
              <a:rPr b="1" lang="ru-RU" sz="3600" spc="-1" strike="noStrike">
                <a:solidFill>
                  <a:srgbClr val="ffffff"/>
                </a:solidFill>
                <a:latin typeface="Verdana"/>
              </a:rPr>
              <a:t>	</a:t>
            </a:r>
            <a:r>
              <a:rPr b="1" lang="ru-RU" sz="3600" spc="-1" strike="noStrike">
                <a:solidFill>
                  <a:srgbClr val="ffffff"/>
                </a:solidFill>
                <a:latin typeface="Verdana"/>
              </a:rPr>
              <a:t>Христу хвала</a:t>
            </a:r>
            <a:endParaRPr b="0" lang="en-US" sz="3600" spc="-1" strike="noStrike">
              <a:solidFill>
                <a:srgbClr val="000000"/>
              </a:solidFill>
              <a:latin typeface="Verdana"/>
            </a:endParaRPr>
          </a:p>
        </p:txBody>
      </p:sp>
      <p:sp>
        <p:nvSpPr>
          <p:cNvPr id="39"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у хвала за то, что день пр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 грехах к погибели я 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а напрасно мир в краю чуж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мой спас меня, сокрыт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я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Христом я бу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твями дивных пальм в рук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золотым на голове вен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ечно буду петь: «Спасён Христо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омненье и боязнь Он уда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жало смерти смертью уга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ятой крови меня Он убе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в грехах погибшего, Он воз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Христом я бу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твями дивных пальм в рук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золотым на голове вен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ечно буду петь: «Спасён Христо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вала Спасителю, теперь Он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мне Он храм создал Себе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страшусь: Господь всегда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бед спасёт меня Он сильною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Христом я бу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твями дивных пальм в рук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золотым на голове вен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ечно буду петь: «Спасён Христ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еперь всегда, навеки я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щит мой и охрана от вс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мой — и крепкая ск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от всех да будет слава и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Христом я бу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твями дивных пальм в рук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золотым на голове вен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ечно буду петь: «Спасён Христо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7:17Z</dcterms:modified>
  <cp:revision>3</cp:revision>
  <dc:subject>Slavic hymnal Гимны веры христиан, hymn 123</dc:subject>
  <dc:title>Христу хвала за то, что день прошёл</dc:title>
</cp:coreProperties>
</file>