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F58-AFA3-4B98-8ABA-883FAE73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1A4-A37B-4355-A3DB-553F220A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25F-B72E-42E8-90F2-D793815D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87D-6BA1-46C6-9CE0-EB02C48D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20F-8405-46A4-8448-19D5C4DC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7DE-F355-4B54-89BE-0EC8EA95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3CA-2CC9-4E8F-84B8-160F583D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CA4-4F92-483D-BBFB-7C5E5DDB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B44-EB29-4431-AB57-4CA25228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45A-C0CC-495A-8694-F891F80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A84-7572-4BBC-8D68-C5D0BB96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3DE-4005-4F1B-A049-69C34B7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B1492-817E-4EE7-BF35-D3D0A51C75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 once held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ilt my life u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is world reve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ars to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1   Всё, что я цен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я ц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л жизнь на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чтает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 once thou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counted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t and worthless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pared t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терей сч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той,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л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nown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ебя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ть в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ести Тв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ossess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 could not 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-surpassing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раве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бесценный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o know the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Your risen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suffe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ья 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рад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com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death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th You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ever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елить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, и смерть, и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и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12:22:16Z</dcterms:modified>
  <cp:revision>11</cp:revision>
  <dc:subject>The Source, song number 11 in Russian</dc:subject>
  <dc:title>Всё, что я ценил / All I Once Held Dear (Knowing You)</dc:title>
</cp:coreProperties>
</file>