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AD8-1847-42BD-A87F-5AC8B7C0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402-91AE-403A-8176-46EF2202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908-320A-4D22-A861-D724A4B1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B5A-0DD5-4A04-AB44-22C91BBC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9AC-059B-4876-AC09-06EBD5C7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0CF-41FD-4216-83B1-135AE76B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D46-B318-4472-B2D9-39148128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212-D336-4EB4-8039-2639CAC9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329-9E27-45A0-8853-D78FEFF4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571-FD3C-4160-831C-E02EB8C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B25-DBB1-47BC-B64E-49D3B634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516-9ACC-48DA-A5C6-46621484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50995-62C3-485A-983C-C3F9107B9C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ожьих детей уж здесь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веры, какое Бог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щё большее нас счастье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Божьих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ажда томит в полдневны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руден тернистый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иветливо манит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устально-прозрачной глади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видим венец Христа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дубим труды и тьму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03Z</dcterms:modified>
  <cp:revision>14</cp:revision>
  <dc:subject>Slavic hymnal Гимны веры христиан, hymn 655</dc:subject>
  <dc:title>Сердце Божьих детей</dc:title>
</cp:coreProperties>
</file>