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7B8-CF3D-4630-A64C-0EFE2432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FE7-F4E2-4DC8-81BD-BF0A4C8C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7F1-9D10-4582-A2E9-BFEE2B2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5A6-BB39-4EEF-9F6E-B442FA7A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4AF-0BD5-4A7B-8137-E4E378D0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BCD-28AA-429E-971E-B792514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7FB-171B-44B1-916D-CA099228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84E-BBD1-483A-A046-B72A55DA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80B-FAD0-4412-9946-9308468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993-4C2D-446A-973F-9A23C95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212-ED4D-4999-8FE0-048F78B8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13D-042C-4A4D-B476-FD9E5C2B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4AA97-2A61-41A3-BA4E-E9731F20A4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31Z</dcterms:modified>
  <cp:revision>12</cp:revision>
  <dc:subject>Slavic hymnal Гимны веры христиан, hymn 807</dc:subject>
  <dc:title>Господа славь ты, мой дух</dc:title>
</cp:coreProperties>
</file>