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3B0-FA3D-486B-A9DC-56F4BB44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5A9-752E-4192-856B-71A38088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954-FBF1-4158-BEAF-3C1FD241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779-F9A6-4FD1-B09D-1E53EA92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C94-FEAF-4D74-8C30-0A54AFCB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AE1-E30A-4548-8810-BD769E0F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119-93AE-4A83-849B-8DDED14B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2E3-1FB8-4801-8094-055670B6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FA0-CD45-48C3-9987-1289C108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A88-5F6A-45A7-9C8B-2D020B40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958-0ACE-410E-93ED-13016E5B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CB9-7134-4218-A647-30EFA61A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C130F-DB03-4775-8296-78A7909FE9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скала, сокрыт в Нё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ой Свой ввёл Господ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Бог —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враг меня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паситель защи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ют ли горы пред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» — слышу: «Я —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Отец, покров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ажду жить Одним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8:11Z</dcterms:modified>
  <cp:revision>12</cp:revision>
  <dc:subject>Slavic hymnal Гимны веры христиан, hymn 650</dc:subject>
  <dc:title>Мой Бог — скала</dc:title>
</cp:coreProperties>
</file>