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33E9-8491-470F-8CB0-D397394C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091-CDCC-4CD1-82DE-854B4741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1F4-3474-4D2C-8509-006929C5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F13-5B7F-45CB-B6C5-8110F9AC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637-B82D-4128-AED4-536CE929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DCC9-202B-4CE8-9C1A-F6E034F1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D4C-0F42-42CC-BC0F-C356EAD0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B47-8398-4CC3-8026-49F354AD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1B6-94D4-4ABA-A108-94626B7E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ADD-BBEA-47F6-824F-E8C6100F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3649-8367-4466-9726-8F8CC51E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849-9D77-45E5-8FFB-CD0DCEBE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2EEA9-4EC3-4C3F-9BCB-83422322A6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Боже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Утішитель, Дух правди 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ди присутній і Всевидюч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 тут між нами, нас просві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скарбе ласк многих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, Своїх діток, не забув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, вселися в серцях уб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и нас, щастя нам 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2   Отче небес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збав нас від сквер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чистотою душу вкрас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Твоя ласка радість нам вер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із неволі, Боже, спас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8-08-02T00:58:04Z</dcterms:modified>
  <cp:revision>14</cp:revision>
  <dc:subject>Slavic hymnal Гимны веры христиан, Ukrainian hymn 32</dc:subject>
  <dc:title>Отче небесний, Боже могутній</dc:title>
</cp:coreProperties>
</file>