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AF6-1907-4F61-9BCF-30EA4B2B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633-4EF6-49B4-BBC5-99F57C5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0FD-42F8-4AB5-9FD9-B94DFF51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DF3-F7A1-4162-ACE5-3192867E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185-6302-4A1A-984D-B0B88578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B14-3633-4D5F-8DF1-FCEA75FF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97C-8BD4-4929-8DF5-1E5CB591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15F-D68F-4421-B193-1C8FFE1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E2B-48C8-4675-AA84-9DBABA51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0B6-05BD-46B5-A8F0-1504017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3E9-32B2-4749-B3FB-9F73365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EDA-598E-494E-9343-2F0B213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E138D-5D13-4636-9E1C-9AF44515E0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love and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2   He Is High and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21Z</dcterms:modified>
  <cp:revision>12</cp:revision>
  <dc:subject>The Source 3, song number 1242</dc:subject>
  <dc:title>He Is High and Exalted (High and Exalted)</dc:title>
</cp:coreProperties>
</file>