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597-95DA-4FFD-B04E-5C846A4A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448-B118-43E8-96B7-E2CA2A2F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B42-40B2-47A2-B95B-CDF37661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153-062A-4F82-85FD-4F2B85EC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BEA-C765-4BBB-836A-F53C3B53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DC2-CD6D-4FC3-8695-8768F7A1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C9D-B2DB-435C-904D-4A46F9BE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99E-2383-4653-92D1-CA760359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50D-899D-4C4A-8B7D-8D586715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704-5D6E-447A-AC55-DCBDAA92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D03-A754-4992-B180-02C4120B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DBD-33FD-4049-B33C-6A8ACA5F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79D9B-F958-403B-8DE4-2063D9838F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trength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, it’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6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y Life Is In You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raise You with all of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raise You 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hope i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trength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, it’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4:20Z</dcterms:modified>
  <cp:revision>10</cp:revision>
  <dc:subject>The Source, song number 368</dc:subject>
  <dc:title>My Life Is In You, Lord</dc:title>
</cp:coreProperties>
</file>