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A0BE-1FC0-4415-AB2C-82340364E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D98B-DEEB-46F7-A968-A0EE0E127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C477-6B1B-4DC5-B73F-E203AC6BC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695A-66AF-4FC3-9A99-ECBD7B8AC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CBEB-8ECF-48AF-A784-62038C119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C725-58F5-45C0-93B6-77B7E28D5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7BF0-B536-47CB-8530-48318970F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6A08-0BBF-4B4C-99F8-E9F297BED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AD1A-F456-4D65-8EEE-94B12915A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0A3A-72F4-49E9-AC53-75F6A0CB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50B0-E032-46FE-A610-F6D4393F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D564-E5FF-4969-92E4-C656E4F0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2ED325-E1B4-4E0A-94BE-640EF406FDE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віту спасіння, любове свя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наші провини лилась кров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есь світ відкупив Він, і дав спокій Св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світ весь раді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світ весь раді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світ весь раді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любові святі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76   О, світу спасін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агато провин в мене й темний мій ду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 Божого слова торкнувся мій слу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серце скорилось, і сльози я лл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ь мій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ь мій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ь мій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 душу м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хочу молитесь і вірить Й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 міць перемоги в Христі одн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світлом небесним весь світ освіт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санна, осан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санна, осан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санна Спасителю Господу с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ин Божий розп’ятий вмирав на хрес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озп’ятий для світу і я у Христі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світ вже для мене розп’ятий є з Н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 Ним умир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 Ним умир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 Ним умир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Ісусом мої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меркнучу славу, безсмертя вінец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ені дасть у небі Всесильний Творец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іллються там хори землі та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ля вічної сла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ля вічної сла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ля вічної сла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Христі я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46:38Z</dcterms:modified>
  <cp:revision>12</cp:revision>
  <dc:subject>Slavic hymnal Гимны веры христиан, Ukrainian hymn 76</dc:subject>
  <dc:title>О, світу спасіння, любове свята!</dc:title>
</cp:coreProperties>
</file>