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39640" y="395280"/>
            <a:ext cx="899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1440000"/>
                <a:tab algn="l" pos="21589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onderful, Merciful Savi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nderful, merciful Saviour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cious Redeemer and Friend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ould have thought that a Lam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ld rescue the souls of me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You rescue the souls of me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One that we prais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One we ador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ive the healing and gr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hearts always hunger for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our hearts always hunger fo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nsellor, Comforter, Keeper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we long to embrac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offer hope when our hearts ha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pelessly lost the way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we hopelessly lost the wa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One that we prais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One we ador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ive the healing and gr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hearts always hunger for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our hearts always hunger fo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mighty, infinite Father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ithfully loving Your own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our weakness You find 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ing before Your thron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we’re falling before Your thron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One that we prais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One we ador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ive the healing and gr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hearts always hunger for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our hearts always hunger fo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12:30:00Z</dcterms:created>
  <dc:creator>John Zaitseff</dc:creator>
  <dc:description/>
  <dc:language>en-US</dc:language>
  <cp:lastModifiedBy>John Zaitseff</cp:lastModifiedBy>
  <dcterms:modified xsi:type="dcterms:W3CDTF">2018-07-13T06:25:46Z</dcterms:modified>
  <cp:revision>3</cp:revision>
  <dc:subject/>
  <dc:title>Wonderful, Merciful Saviour</dc:title>
</cp:coreProperties>
</file>