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C32-582C-4CE4-87E7-E26216C5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A5E-7429-4A1F-87CE-4A129B5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0BD-829A-4AF0-B561-0B26C312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696-6D13-4182-8201-FDA9F644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B16-1033-41F3-BDB7-5AC5149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F80-56B5-4479-AE5F-6788A0D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CF3-BB33-4EA5-B7FA-F7DE5F0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EE4-E2C5-493E-9AB3-BD3F079A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26B-F694-4C27-81CC-706A90F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7DD-142E-4111-A01A-94008F1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512-26B5-43BA-B968-6579CD2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4C7-90A2-4B83-B1E0-D6A35C0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F5477-2626-4D80-A586-988998B0A3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Is Good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’re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are shadows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keep you safe a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He ha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never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r fors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word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ere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for us He chose to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ed u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can stand and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mer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never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not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plans You ha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eyes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clearly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51Z</dcterms:modified>
  <cp:revision>10</cp:revision>
  <dc:subject>The Source, song number 125</dc:subject>
  <dc:title>God Is Good All the Time</dc:title>
</cp:coreProperties>
</file>