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5E6-0BCF-4619-863B-35FB018E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7CB-51F4-474F-9C68-D1A9F092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34C-8D58-4B31-AD6D-4733E361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484-C456-485D-AFF7-80C8097E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580-E6E5-4311-9C28-F4407936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C3E-48D5-45B2-A4B5-1154A4A4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85D-CAD2-4EEA-A089-25B7D4F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2E9-637F-4BC7-ABBF-4D88F6B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711-FCFE-4B3B-A5DC-4F0DEC9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5F4-98A2-45A7-A89C-89CDB0E3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8DC-92EB-467E-824C-BC2807B0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5B7-D5CA-4E52-AC2A-6E835D02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FF3EA-F297-42D6-9B43-03D3F38EDF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14Z</dcterms:modified>
  <cp:revision>12</cp:revision>
  <dc:subject>Slavic hymnal Гимны веры христиан, Ukrainian hymn 25</dc:subject>
  <dc:title>Is My Name Written There? / Я не хочу багатства</dc:title>
</cp:coreProperties>
</file>