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AE7-1EBE-4474-9CD9-6759414D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28D-7940-4224-B83E-0563D0F0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0AB-601A-476E-9578-98E6FCB5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F07-83E3-4021-8752-923597A7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4B2-4F80-4A33-9B08-2338D1A9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BCF-A3A9-4182-9271-0FE9B7ED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659-F0CB-43F6-A709-814ED8A1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C94-8F88-4607-9391-2D076223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0F2-156B-46FE-806B-61BD4EAE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82F-57E8-412F-9A9D-EA74F423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C05-446B-48FB-9BD7-BDBAE360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02E-37AA-469B-B063-8CCEE5E6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BBD55-7DBC-4FF8-8D20-1D5B8BBF54C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, O Lord, is like the ocea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eper than endless 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ithfulness is like the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Word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, let ev’ry heart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, let ev’ry heart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85   Your Love, O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adore, wonderful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own Him forever 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adore, wonderful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own Him forever 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, let ev’ry heart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, let ev’ry heart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1:38Z</dcterms:modified>
  <cp:revision>12</cp:revision>
  <dc:subject>The Source 3, song number 1685</dc:subject>
  <dc:title>Your Love, O Lord (Highest)</dc:title>
</cp:coreProperties>
</file>