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99B-AFF2-4711-9D25-67185527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4EF-5CF3-43EA-B259-1050023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E38-95B8-4D47-867C-755538E3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9F6-EAA0-470A-BB16-7E586D24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F9B-80A0-4699-B9E6-47B04FC9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630-7DEA-4946-97E0-5B5BFBD4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0FD-1805-4BF1-8456-C4266054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491-A129-4CD6-B69F-277E8B53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81A-3998-41B8-B342-02749F0D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F7C-5DAD-447A-87F2-43FD6D9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C56-9F3A-4454-BC2C-A25B976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4E5-8958-47DD-ABD1-04730D8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94B19-E024-4EFD-9E90-74ADF29366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with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dor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is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give You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m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breath that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moment I’m a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24Z</dcterms:modified>
  <cp:revision>10</cp:revision>
  <dc:subject>The Source, song number 515</dc:subject>
  <dc:title>This is My Desire (I Give You My Heart)</dc:title>
</cp:coreProperties>
</file>