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3DB-1BBD-4DEE-899A-DC6F3F3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0BD-FB69-464A-B8DF-77B3E9A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1D1-ABA9-49DE-A168-6BC34F50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9C1-E372-4E8F-A49A-ECDCC00D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39B-0184-406C-B7B3-CFF038FC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5F6-5327-4793-BDC3-F9407B4F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4AD-7DE0-495A-BF1E-329B85B7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CF6-BAF3-4729-9ECD-0D4BA91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779-204F-4437-BF65-D45A569F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FEE-8709-4967-964A-7923431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C6F-7637-46EF-A1F1-8DC38B3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5F5-5B58-41F9-913E-C044D67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BA8CE-A039-4E53-BA3B-0B10250363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царствуй глуб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и мне будь 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ятую волю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вят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 меня луч разу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 во мне неверья т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лишь может вдох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вечной правды свет 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мне и утеше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Дух Утешитель, Од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душе успоко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Тобою Божи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делай милостью Тво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исто и дух п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ей всегда моей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у воле, кротость в н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12Z</dcterms:modified>
  <cp:revision>12</cp:revision>
  <dc:subject>Slavic hymnal Гимны веры христиан, hymn 308</dc:subject>
  <dc:title>Приди, Святой Дух Утешитель</dc:title>
</cp:coreProperties>
</file>