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A54-A19D-4381-A17F-60C5D00D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F45-2792-4A0B-A22A-32B22A70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9D9-93E8-40D4-9CD7-5E41461D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EED-9488-4F45-A978-CF3473D5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D89-A9BF-44BD-A083-309003E9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607-F231-407E-9307-8D886AF7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959-552E-4193-ADB7-6AF797F2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9B6-DDED-4779-B941-F59E3406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7CC-D2FC-4ED7-A0C9-67A7D6ED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E40-4B9B-4966-AA01-02EE08C4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EAD-BD1D-4BFB-BA1E-E2557F61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F5F-C199-42B2-911B-CE16C02B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3BBCD-5C99-4708-BB8F-53D4139783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вангельскую в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мы пост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Его прим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, вперёд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Евангельскую ве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рок бой и страшно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леблются м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ымите выш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и равнодуш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пренебреж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им единоду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го святой зак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веры, дщерь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ружно защи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ружьем Геде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ью силу отра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правды, труд су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мело совер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шатры любви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 мире расши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53Z</dcterms:modified>
  <cp:revision>12</cp:revision>
  <dc:subject>Slavic hymnal Гимны веры христиан, hymn 490</dc:subject>
  <dc:title>За Евангельскую веру</dc:title>
</cp:coreProperties>
</file>