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1D5-B4DD-423D-ADBF-6723278A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F76-387E-4F53-BE31-8F56478C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3C1-2EB2-4A11-8A1F-8A5D90C7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C05-1D0C-4D8B-8B4B-58CFBBBD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5AC-FC08-4DE1-BB73-E79BCCCC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017-7835-4D8C-BE09-90485AA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EC-EED0-48E6-9E93-8D08392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22F-4D64-4DF0-BFD4-E3DD1C4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765-E25C-4F78-AD80-0356618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2E6-6483-454E-836A-5A18837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4C5-6E09-4B92-B142-8E2552D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AF1-50D1-4602-98C1-6C8E888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474FA-70B4-4BA5-9D45-683F31288E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52Z</dcterms:modified>
  <cp:revision>12</cp:revision>
  <dc:subject>Slavic hymnal Гимны веры христиан, hymn 876</dc:subject>
  <dc:title>Божьи дети днём и ночью</dc:title>
</cp:coreProperties>
</file>