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B1B-AA6F-495F-9F33-705FF892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898-9E39-4DCD-B9B9-FD81714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6AD-B2B1-498F-BBA9-70870101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043-E774-4E6C-9B81-19153F0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39A-0A11-4FB9-95E0-28CDA60B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27D-C587-4467-9148-28A3404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DC3-5275-41B6-8E37-4E3F2D8E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1DE-F0DC-4C6E-BFD9-4CA691F9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F15-9EB2-44BC-870E-74A30E2C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0B6-2BA3-4628-84D2-C184935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F6E-85D4-4265-BDBE-E502B2D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4AA-109D-4B1F-B9B8-54E6DCA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4492E-C454-4E2B-B7B2-AD77BCCDF5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30Z</dcterms:modified>
  <cp:revision>12</cp:revision>
  <dc:subject>Slavic hymnal Гимны веры христиан, hymn 835</dc:subject>
  <dc:title>Иисус прекрасный</dc:title>
</cp:coreProperties>
</file>