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A21-A822-4418-B68D-0D4CA628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5D9-1710-43EF-8978-33913FDC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589-F362-4619-8518-5C0A6B28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B1B-D61F-43CA-8DB3-A3AFB0C5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CFF-9349-4833-9BD4-81666891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B5B-FF99-4B56-81F9-D1DDF58B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BCD-455B-4201-9C6E-15AAFDA8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343-717B-4423-977E-0C575461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0A5-9D18-463A-A2F2-BDEA4CB2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507-4847-4D8A-B28E-83F5854C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059-813B-48CD-8333-49076193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413-8253-44F3-B38F-2763CB97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867D9-12AB-49AD-9FC3-6A25221518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so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strong and so 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thing that He cannot do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ivers are 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mountains are 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ars are His handiwork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so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strong and so 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thing that He cannot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2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ur God Is So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38Z</dcterms:modified>
  <cp:revision>10</cp:revision>
  <dc:subject>The Source, song number 420</dc:subject>
  <dc:title>Our God Is So Great</dc:title>
</cp:coreProperties>
</file>