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F18-F72A-4E78-BE2B-B87089A0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328-8E3F-4D67-94F3-38E5410A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447-0AE5-4DD8-956F-267DB015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4CA-BA45-4494-AB94-73D15C76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39B-7E6F-4585-AE20-5683C4F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715-51BB-47FA-8ABD-52D6B90B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030-66B5-461F-93C3-4603AA5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A16-2E40-48CA-BE5B-56E741A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49F-2EB8-487F-B010-82D5FFC5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747-F000-4031-AE4B-F82E951F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CD3-B2A0-4986-85F1-5DF11E7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A3A-EA86-4D6A-A6F2-C2D9700F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C400B-D545-437E-85FD-37808B620E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into Your courts I will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emble in Your holy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 in Your sanctu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lendour and majest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 all life ador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98   Father, Into Your Cou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into Your courts I will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emble in Your holy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 in Your sanctu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lendour and majest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 all life ador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22Z</dcterms:modified>
  <cp:revision>12</cp:revision>
  <dc:subject>The Source 3, song number 1198</dc:subject>
  <dc:title>Father, Into Your Courts I Will Enter (All the Earth)</dc:title>
</cp:coreProperties>
</file>