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381-3078-4483-95BD-39A14FA1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D31-49E2-444C-B32B-D8D052A5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1D6-F8F2-4BB3-A001-FEAB65FA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E69-D10F-47B5-A3D4-EFA01D5F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EB9-399C-4B40-9E64-42EBAEDC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063-CF6A-4ECE-9AF3-B3C49F2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B58-D398-41F2-BA28-BEDCA67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E3F-5BBC-4750-BEF3-BAF7C46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55D-6DF4-4226-B0FB-88CA759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1DB-0990-4F04-8387-A55C37C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692-F4A8-4627-A972-92EDC16D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EAA-4637-455C-A071-55867AB4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F938D-1CE8-4DF6-B2CF-6B8C804B3E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— Двер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отверз, как брату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безмерно я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ощеньем облад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мире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ит сердце мне тос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ю я, что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в чертогах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блаженной за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Он со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на всех путях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вогах, горестях зем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неправдой и нужд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счастье, так и в тяжкой д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ердят мои у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оля Господ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ю вечно будет вол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18Z</dcterms:modified>
  <cp:revision>12</cp:revision>
  <dc:subject>Slavic hymnal Гимны веры христиан, hymn 596</dc:subject>
  <dc:title>Я в мире с Богом</dc:title>
</cp:coreProperties>
</file>