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371B-1277-4661-96FB-17D88CF8D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F34F-07F5-4EDF-AD80-99B87240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393D-6805-4C5F-86F9-9790ED88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0638-24E7-4AF1-BCD2-137E088C4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4B29-F510-46BE-9989-FA0E2989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8E70-B2C6-4842-B425-4220BA2D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E371-2969-427A-8EBE-C0AAA5F7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B8EB-2ABA-49AC-83DC-DF5DB817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2A7B-A72D-41FC-8A7C-E753E8FE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239F-278D-4282-8204-F7F4F481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35D8-B522-4486-8D48-4A8B6D23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9815-3909-4E84-AA22-3A49B425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4C8FF-9E1F-4147-BFFA-B641512ACAD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Man of sorrows!” what a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Son of God who c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uined sinners to recla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«Муж скорбей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уж скорбей!» так назван Т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 заоблачных выс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ходил спасти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наш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ring shame and scoffing ru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y place condemned He st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aled my pardon with His blo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и боль изведа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поруган, осужд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древу смерти пригво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наш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ilty, vile and helpless w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otless Lamb of God was H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ull atonement! Can it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греха и зла пол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Божий, только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нас от в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наш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ed up was He to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is finished!” was His c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n heaven exalted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овершилось!» возгла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иновных смерть вку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о с радостью вст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наш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comes, our glorious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His ransomed home to b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anew this song we’ll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ть искупленный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верный воспо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наш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0:27Z</dcterms:modified>
  <cp:revision>12</cp:revision>
  <dc:subject>Slavic hymnal Гимны веры христиан, hymn 838</dc:subject>
  <dc:title>Hallelujah, What a Saviour! / «Муж скорбей!» так назван Тот</dc:title>
</cp:coreProperties>
</file>