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F84-153D-4222-A4EB-9F6C9224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DE9-B10A-448A-95C6-A0391EE6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5677-23FB-4C04-AF0E-1CE24F29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E36-C96F-43E5-98D3-54AD2267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503-2F8D-4D8F-892C-C9C20278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331-DF05-4E03-B0C3-C914EA72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1EE-0555-4BC1-AAFE-247D1D48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1EE-1471-472A-8086-32E36D45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44F-EC8C-4839-BB0D-69780804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2AA7-7717-478E-A054-21EF7BDD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F0D-DE5F-4D07-89D0-3C4BC3AA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B56-3016-417F-B3B7-C8082565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0908A-7BDC-4114-9D53-742D86CD6F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, друг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чен долг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можно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отдох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твой Спас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Он Хран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ро, друг уста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во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т, видит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ерпи не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исце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твой Спас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Он Хран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ую мину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ерял ли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в силу Бож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ко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твой Спас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Он Хран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веч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змен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твоя защ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емных трев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твой Спас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Он Хран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2:52Z</dcterms:modified>
  <cp:revision>13</cp:revision>
  <dc:subject>Slavic hymnal Гимны веры христиан, hymn 714</dc:subject>
  <dc:title>Скоро, друг усталый</dc:title>
</cp:coreProperties>
</file>