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9C91-A1DA-42FA-A41D-644389D1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A01B-FDA3-4311-B75E-D0B75409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0830-5CE5-4629-BBCA-754B9A90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7155-A6B6-4ABA-A65E-CB1647F4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3D08-95BE-4C05-A0C6-9F68FC86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6A0E-781E-43EC-A088-7E77B633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0D2A-EFBA-401E-BB67-EEF1A8D8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182-0053-4178-B5CA-243B9B8E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BCC7-3610-433B-8CB7-8857B859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1716-E130-4306-B1CC-581CCB9B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47EA-A473-41DC-B6C6-DD445EDD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5766-BB4C-47AC-8A7D-7D6CB45B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A074E-7371-4094-AC5C-DCF931062BC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горченье ты встретишь в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дях утешенья тебе не на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езах умиленья и в тайне ду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сокрушенье излей ты в ти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ящий знает о гор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ожидает на лоне С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наешь, как властно спасень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ём ежечасно петь будут 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огорч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ьцев так много под гнё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утехой от Бога спеши к ним ск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им с любовью о дивном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ем их кровью на скорб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1:41Z</dcterms:modified>
  <cp:revision>12</cp:revision>
  <dc:subject>Slavic hymnal Гимны веры христиан, hymn 450</dc:subject>
  <dc:title>Когда огорченье ты встретишь в пути</dc:title>
</cp:coreProperties>
</file>