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D94-6D70-4144-B05C-F2CC6348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317-4F25-4E92-9DDF-9E8ADD0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BE1-003F-4869-B66C-B95D61D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7D4-CC9B-44A3-A5D5-BFE006CF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C64-412B-4669-9B78-421BBF26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577-C46F-4BD2-AF75-6DFAFB6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279-E3B1-45AD-8F1B-CCBC6BB3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C72-565C-443D-9DBC-CE0A7689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151-81BA-4D37-A6CB-DFA081C8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5E5-4534-4D04-99B1-ECCA672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DC5-F6B5-457C-AB35-4ADD554C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A96-0E0D-46FE-8E33-F13A76D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5CC59-1406-4AAA-A4FA-50AB577FF2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   Прославляй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ёт во веки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празднуй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е воскресени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22Z</dcterms:modified>
  <cp:revision>11</cp:revision>
  <dc:subject>The Source, song number 67 in Russian</dc:subject>
  <dc:title>Прославляй Иисуса / Celebrate Jesus</dc:title>
</cp:coreProperties>
</file>