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922-8D83-41F8-9B3E-EE6C167B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6C7-3367-435E-B3B9-7F24FD1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536-6884-4BA5-AD73-A8AF1A4E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505-FEB5-4FC2-BCE8-4D3E0875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F34-CCD9-4660-BC1B-5AC72D51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E7E-768C-4239-8EB7-9B72556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4BB-1378-4A75-99AE-C34CD2DD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81A-F793-471E-AA96-6F0285A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D40-3C1B-4071-B6E2-95841CEA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086-A8DB-4E9A-B4EF-AE10C88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7C0-4AC3-4764-B6AB-95FF5DE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733-8BD2-4DB6-91EA-3B7C30C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9807-90C2-4FF2-A47D-7CA694CE25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ly By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49Z</dcterms:modified>
  <cp:revision>10</cp:revision>
  <dc:subject>The Source, song number 408</dc:subject>
  <dc:title>Only By Grace</dc:title>
</cp:coreProperties>
</file>