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194-CA35-4313-B9C9-BE4CC6D6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2A6-5AA4-40DB-AEB4-A5898F7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E8B-1A52-44F4-A5C3-EBD077A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326-8209-43AB-BA53-5DCE0A11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5B3-A744-4CB0-ADCB-371477C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74F-13BE-4BCE-822E-C31450C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388-4466-4633-85FA-C8B85EF8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3A2-22D6-4B4B-B572-122DBC02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93A-BD0C-475B-9C28-B36332D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8F2-7DFA-45B3-AB48-ACB846D1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948-2E67-4B1C-923D-4FE9DF0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3F9-546B-4AC9-B4E3-355A5C2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0134-AE0B-4939-ABBF-C24EB0072E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олг спасать несчастн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51Z</dcterms:modified>
  <cp:revision>13</cp:revision>
  <dc:subject>Slavic hymnal Гимны веры христиан, hymn 802</dc:subject>
  <dc:title>Святая ночь</dc:title>
</cp:coreProperties>
</file>