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D3B-9F93-49A4-9050-F4637866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C7B-40EB-44C0-988B-B40708C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F68-5E98-4151-9599-67BEEC3C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A56-D38D-428F-AED6-FC50BAA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44A-10A9-4E46-84D3-3B8DFA5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E66-2EF8-4108-8EBA-5BD14D14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720-5D27-4AC5-97A7-1493A018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787-4655-480B-BE78-A2E3890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641-9618-4CCC-A353-AE53515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6E0-DEAA-436B-ADDC-5C31F2E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DD2-F340-464A-A635-5B26EFC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CB0-5D40-4629-8D0F-28CDA76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57BA8-1920-4691-8A31-285AB239F4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Твою взираю святост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святост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will becomes enthrall’d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я в Тебе нашёл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воля стала волей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7:54Z</dcterms:modified>
  <cp:revision>11</cp:revision>
  <dc:subject>The Source, song number 571 in Russian</dc:subject>
  <dc:title>На Твою взираю святость я / When I Look Into Your Holiness</dc:title>
</cp:coreProperties>
</file>