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867-63A0-4088-B012-80C93691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445-48D2-4AA6-9B0A-A0E58C72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0385-DBC3-458A-AF40-76410C21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1C2-E8EB-4B07-852C-F081583F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1AD7-AF07-494A-97E7-FF61473E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88F3-C523-441B-B58B-DD28C519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9865-61A2-4169-ABC7-D4C8DA3E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4C03-EC33-48EB-AD6E-B6D65CFD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673-FB21-442F-AB14-53B7DC7F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BE5-54F9-48B8-BF6F-3B8F2E0A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ED8-9720-4AAC-B1FA-F38B73D1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981-14F3-42D1-9F44-4C8EB0BA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C67FB-85F3-4AD2-B1DF-7FCD45CDEBB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паситель страд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внодушно гляд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кровь проли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ль тебе всё рав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шь ты на страдаль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ертельной тос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чело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рновом вен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ронзённые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бь на л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Господь уми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ой грех на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овольно Он вз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знал ли в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легла на Н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ощеньи м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 у ног ты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обитель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Отца Сво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ак время беж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ж скоро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жизнь прол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жается вечн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суда встрети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омытым гре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дстанешь пред Бо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ытый сты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тель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ответ, не молч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длить страшно, вед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пасно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пеши ко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 цепи пор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гласу вн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ов Он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любовию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щень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1:15Z</dcterms:modified>
  <cp:revision>12</cp:revision>
  <dc:subject>Slavic hymnal Гимны веры христиан, hymn 354</dc:subject>
  <dc:title>Иль тебе всё равно?</dc:title>
</cp:coreProperties>
</file>