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25FC-B1D4-42B5-82EA-4F8AA8228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0334-FBD4-456D-9193-E1E3810DB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204C-4B48-458D-8F92-35FEE9462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23E7-D6CF-46EE-96B4-1C88E582C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1CF9-3278-4273-AD3A-2E43ED21B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32DB-1B55-47C0-B572-ADF4CC8F3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76FB-46D0-4301-A16D-6B2A885B4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3112-8DE8-4112-BFF4-223F046CF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CE38-D0E4-4A4F-878D-510DD4C01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B008-439A-4AF6-BA23-3D1AE266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3BA3-4D75-4F8C-8411-325C063A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ED88-4907-425F-9A9D-59434793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263152-2D3D-4D56-AABC-A2397556CA3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заблудший греш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Иисус тебя зо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как всяких благ споспешн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в душу Он проль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, что жаждешь очищ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ь, молись, и р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ушу Он прол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, тебя Он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69  О, приди заблудший греш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хоть, грех, сложи всё б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подножия кре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дёт благое 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тебя, друг, от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, что жаждешь очищ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ь, молись, и р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ушу Он прол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, тебя Он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сияет уж для мног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креста, кто грех сложи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богатых и убог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пасенье соверш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, что жаждешь очищ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ь, молись, и р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ушу Он прол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, тебя Он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9:18Z</dcterms:modified>
  <cp:revision>12</cp:revision>
  <dc:subject>Slavic hymnal Гимны веры христиан, hymn 369</dc:subject>
  <dc:title>О, приди заблудший грешник</dc:title>
</cp:coreProperties>
</file>