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EB9-ABBF-4467-BD9E-644333DA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D8F-426E-41BC-A14D-2314373F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19D-D884-4E48-8D0D-5F211126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0CF-FE0F-49FD-88BB-36CBA0C1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AE1-C2E4-46CE-9FE5-8F07F99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652-D607-4672-9C0C-BDDF30C4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4AE-27C3-4483-B651-176DCCA4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304-E932-4B06-B01F-CF186F5C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B16-11AA-45E9-BD6B-6D4D6AFC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63C-D2EC-4C93-974E-900E4D6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179-E473-4187-B06E-6AEDC10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112-210F-4EC7-BC57-D427DA3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69A0-8742-4CB9-8B02-BACFD71AFF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7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ing Your prais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lose to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13Z</dcterms:modified>
  <cp:revision>11</cp:revision>
  <dc:subject>The Source 2, song number 1077</dc:subject>
  <dc:title>You Are Holy</dc:title>
</cp:coreProperties>
</file>