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9A21-21D3-4550-B01E-F43BB329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BFE-C247-42D6-A1D6-CD19E336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7F6-88E6-47D0-9A10-30CE6158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0FF-927D-41E3-91A8-4A2AE1AB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6ECA-8865-4F13-B32B-87626C10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AD27-EDC9-4B3A-A4DB-CE66FCBE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1006-EB04-4531-A8C6-32F5454F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A81-4988-4977-BCA1-F015A217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15C0-8372-49BE-A332-D95AF0A1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A71B-4F7E-476A-81E7-F419F903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735A-7544-4BE8-A675-C93EC37D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B62-EEFF-464A-BFC4-5304C2CC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E0C29-1B84-4ABC-9180-92CC964206A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а меня в могиле бы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суда меня освобод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за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Себя грех мира воз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олг души греховной заплат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ищ, но полагаюсь на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б, но верю слову я 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дети Божии имею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достоин, но сомненья н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иходящих ждёт Его при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1:15Z</dcterms:modified>
  <cp:revision>12</cp:revision>
  <dc:subject>Slavic hymnal Гимны веры христиан, hymn 635</dc:subject>
  <dc:title>Спаситель за меня в могиле был</dc:title>
</cp:coreProperties>
</file>