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C34-5F8E-4B1E-944B-2B1ADB87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6A10-7BE5-401E-9AA3-6A8E8C8C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E5D-A4B1-4FD8-8C45-FA7FD2F9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9A9-D021-40F5-8C22-4EE9E00F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FD7C-37BE-494B-8B46-E24B1EBB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D296-ACDE-4AEE-9E61-B08816D3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5EEB-5AAC-449D-97A9-0336D067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20C-5FF8-416F-9581-016B2370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396-83B3-402A-805D-68A83FE2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686-5EA1-405B-A695-EED05B8D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796-5665-4AC6-92D1-EC5AF01E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D46B-9B63-4E06-B28D-1C7C7C3E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12A26-930A-46FB-9E4C-F3F49E538F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day with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sweeter than the day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passing mo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Him more and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4   Кожний день з І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 з І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ший, як день перед 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 з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авжди разом з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 and keep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’s the one I’m waiting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day with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sweeter than the day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є мі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тепер хвалюся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 з І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ший, як день перед 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8:50Z</dcterms:modified>
  <cp:revision>12</cp:revision>
  <dc:subject>Slavic hymnal Гимны веры христиан, Ukrainian hymn 114</dc:subject>
  <dc:title>Every Day With Jesus / Кожний день з Ісусом</dc:title>
</cp:coreProperties>
</file>