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20E-00E2-4F3D-B806-EC58B00B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72D-1FF3-4284-8145-EE20505E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D5A-2549-4FE1-8210-6ADFABDA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52F-6278-4052-81DD-98203982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C6B-29E0-484E-B585-A9C35E71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F0A-DE08-4210-8624-E372D6EE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9C1-0138-4E47-B578-CE65AF5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EAB-1D7A-4171-811A-A57F394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402-53D8-47A7-A772-14DDEBD5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91D-F684-4088-B0D7-1D7A64C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F74-97CB-4791-9CF9-30DBACA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A30-A14C-4A87-A85E-080A3AB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E5CEC-44EF-467E-AAAE-9F31FCC724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54   Strength Wi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33Z</dcterms:modified>
  <cp:revision>12</cp:revision>
  <dc:subject>The Source 4, song number 2054</dc:subject>
  <dc:title>Strength Will Rise As We Wait (Everlasting God)</dc:title>
</cp:coreProperties>
</file>