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052-0B79-482E-AC61-FB6D68CD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A17-6A2A-4B8D-8E6B-2E47F951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CAC-30E4-42FC-95E4-08CB8BB5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328-5BDF-44F8-AEA5-423EB338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0EE-9D3F-4687-BC18-672D6383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035-78D1-4A0C-9707-68AE7EC0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82C-3781-4B5A-A2F4-EBAC894C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F73-4ACD-4B0A-90B3-A7C0301E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1E5-C9F8-428A-B8F9-319F7A23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F2E-D0E0-45ED-9B76-745BD3E3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DD0-9C7B-4E3E-957B-661E1494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685-6B5B-4B50-85AC-641867A3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783E7-8A72-4736-A328-D4B59CEFF1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rom sin are longing to b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 redeem you died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аждешь ли жизни чис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жизни чистой, без грех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умер за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atan tempts and doubt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s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His strength shall over all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ли смущает страхом и сты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жешь в этом мире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aweary? Does the way s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ove will cheer and fill your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 ли в бессильи, мрачен ли тво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м весельем Бог наполнит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 when shadows on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thwa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oy or sorrow Christ is all in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вскоре ты придёш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, в горе Он всегда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7Z</dcterms:modified>
  <cp:revision>14</cp:revision>
  <dc:subject>Slavic hymnal Гимны веры христиан, hymn 715</dc:subject>
  <dc:title>Look to the Lamb of God / Жаждешь ли жизни чистой?</dc:title>
</cp:coreProperties>
</file>