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B13-4FBD-41C6-89A2-BD069A79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02B-ED2E-4E69-AB63-13C97172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8F4-9872-414A-A111-9089D300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4B2-5BA1-4B0D-A175-733F8198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795-2B06-43AB-9A70-16ADC24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1D3-1625-4CA9-B67A-12721E61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95A-1609-4907-BD14-73965649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3A6-5B1F-4AA2-912E-A186F59E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40B-FF62-4D7B-BD8C-4DDA3354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CBA-6776-406F-9668-BC0FD46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4F0-13C2-4AF5-B9FF-4253E01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631-7EA1-41C0-9579-8E7ACE1A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E61C0-D807-4925-B7CC-6D9B51F1F5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6  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we as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that we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come and change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, we lift You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 on 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59Z</dcterms:modified>
  <cp:revision>12</cp:revision>
  <dc:subject>The Source 4, song number 1726</dc:subject>
  <dc:title>Arise</dc:title>
</cp:coreProperties>
</file>