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2616-F0D8-4D28-9973-21B1DB81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220A-06BA-4060-89E1-736CA978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6928-4D86-48F9-838E-AD3BDAD93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EA1F-80FC-4995-86B8-998FE884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D49B-D4B3-4E46-9505-6AFAEF79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2673-1BB0-4A3D-914F-7F55DC73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0AFA-8F81-4971-AE3C-04553E39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E28C-8F7D-471F-9D40-36DC90D5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A0FB-B685-48A0-9ADF-E3C48F52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5EA1-D18F-44B8-9135-DAB738E7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2EB9-5930-471F-9787-2643DB2F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BCAE-3BF4-4DC1-8877-C85F9CC9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4CFC4-1B04-4B7B-8641-376093019C4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нее небо меня так ма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что там мой Спаситель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 этом мире бесследно к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не будет скорби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это небо, как ты прек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отраженье Божьей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ы взять крылья, чтобы подня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ебывать у Христовой гру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инее небо меня так ман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дано небо Божьей рук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яц и звёзды, и наша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ражаюсь всей красот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лестью неба, прелестью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это небо, как ты прек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отраженье Божьей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ы взять крылья, чтобы подня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ебывать у Христовой гру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влекаюсь неба творе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бываю здесь скорбные д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как бы манишь, друг, не печал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ты Богом дальше хра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это небо, как ты прек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отраженье Божьей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ы взять крылья, чтобы подня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ебывать у Христовой гру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2:51Z</dcterms:modified>
  <cp:revision>12</cp:revision>
  <dc:subject>Slavic hymnal Гимны веры христиан, hymn 694</dc:subject>
  <dc:title>Синее небо меня так манит</dc:title>
</cp:coreProperties>
</file>