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3EC-9D49-4CBE-A38E-2885382B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FDD-8F62-4C0D-9860-4688F012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853-5F81-4BC2-A7B8-3C27A953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CDA-11C0-41B5-A365-310358C2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076-5ECC-4278-9DAA-D244BB6C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DAA-06E6-4B03-A6B8-6E02C0F4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25B-1E64-40E7-8A36-243E472C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5C9-8EEE-42EC-8779-139BEEAC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ADC-86A0-4B24-A527-A969F6CD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094-8442-4E17-9280-E5379CDA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9FC-41D8-4CCD-AB09-94D2FE2F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88B-11C7-44D4-893F-3B14F5B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5C25A-D465-43DA-BF65-36092830FF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quie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sin cannot mo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корбь, ни смерть нам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comfort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we our Saviour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утешень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прощенье, мир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full rel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all is joy and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жденье от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осторженно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4:44Z</dcterms:modified>
  <cp:revision>12</cp:revision>
  <dc:subject>Slavic hymnal Гимны веры христиан, hymn 854</dc:subject>
  <dc:title>Near to the Heart of God / Есть место сладкой тишины</dc:title>
</cp:coreProperties>
</file>