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6C9-8BFB-4AAD-9CED-DC09591C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A188-44A1-47B9-80A1-823D3D03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5674-31BE-4753-9744-72FAB650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3873-D963-4435-9CB1-2A8B6DF0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3883-9842-43F1-A62C-BB3547C3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AD86-A586-47F8-B7CD-73A997A6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C796-61BC-49EC-B453-0013B647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ADC-3E15-4879-8E8F-A830A3E0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E5BB-84FD-49CB-9792-1F6C643B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1AA5-B546-40D4-AFD8-6E3CF6E1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4E88-AE16-48D0-9EFA-A4693094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9AEC-C387-4DD2-B088-38714C21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04E17-0386-40D6-A527-7B82A522BD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camped along the hill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Christian soldiers,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ess the battle ere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veil the glowing sk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 свете жизни будь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вете жизни будь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с неправдо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юй, пока ночной пок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роет мир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that overcomes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 raiment shall b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the angels he shall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name confessed in hea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обедит, того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м обл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ангелами воз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ит в род и 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onward from the hill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hearts with love afl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vanquish all the hosts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Jesus’ conqu’ring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так, вперёд путём прям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 цель и ч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иг разбегутся силы ть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имен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glorious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vercomes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gainst the foe in vales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ll our strength be hur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, we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vercomes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сни врага, займи хол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ей греха ку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а — вера, знаем 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glorious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vercomes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anner over us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word the Word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tread the road the saints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houts of triumph tr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под знаменем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лово Божье — ме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ь подвижников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м сердца привл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faith they like a whirlwind’s b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pt on o’er ev’ry fie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ith by which they conquer’d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still our shining sh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вера, словно ураг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шла по всей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олизей не запуг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в их чис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glorious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vercomes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very hand the foe we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awn up in dread ar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ents of ease be left beh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nward to the f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х сторон идут вра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ят грозны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ой уют не бере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олько в правде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’s helmet on each h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ruth all girt abou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arth shall tremble ’neath our t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cho with our sh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нёю правды доро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шлем 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от битвы задро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велики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glorious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vercomes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19Z</dcterms:modified>
  <cp:revision>13</cp:revision>
  <dc:subject>Slavic hymnal Гимны веры христиан, hymn 552</dc:subject>
  <dc:title>Faith Is the Victory / Во свете жизни будь готов</dc:title>
</cp:coreProperties>
</file>