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2C5-FD71-40C2-B9CF-2DD9536D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8AA-665D-4E23-83F5-EFA2A4C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F9B-B824-4112-A9B7-2E49A544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581-BDF1-4EF6-8660-72EB5630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B3E-77C8-420C-BE57-0B0730CF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4D7-5288-449F-8EFC-90774D15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33D-09FC-473C-9E08-8C4E239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7F0-5B30-409A-9C7A-BC3FF1F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844-26CD-4922-B4D3-1C8B1F24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025-04D7-48A3-8AD2-C8A00EC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FB8-F0C4-4854-8C44-F38A87B9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E0B-E0C7-4E69-930C-67D1D2A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834EB-6E1E-4B55-B291-DF3674FDA9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8:12Z</dcterms:modified>
  <cp:revision>13</cp:revision>
  <dc:subject>Slavic hymnal Гимны веры христиан, Ukrainian hymn 3</dc:subject>
  <dc:title>Спасе мій, тримай мене</dc:title>
</cp:coreProperties>
</file>