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8F0-781D-4774-8637-B937797B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C2B-5B9D-4B5E-AFCB-F884E5A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9FF-C7D3-46CD-BD90-6704F1B1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479-7E87-4ABA-B3C8-CE041DA1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407-F0FD-485D-B677-732242D5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AA7-19F5-44A3-A6FE-70ADD63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516-4AE1-47EF-94D4-29A006C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41A-B53E-4F51-891C-4799B94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86A-4A87-469B-9355-3FAA8F2D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34B-AC73-4DA5-92F0-3495319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1B2-97FB-4769-AD56-996EDFDE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3C4-5E8A-46A4-8AFB-1EF7AD7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95BF-269A-47E0-962D-6D6B61EF88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36   Therefore the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shall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ness and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rrow and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e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54Z</dcterms:modified>
  <cp:revision>12</cp:revision>
  <dc:subject>The Source 3, song number 1536</dc:subject>
  <dc:title>Therefore the Redeemed</dc:title>
</cp:coreProperties>
</file>