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6DB-4D0F-452C-85AF-7FF32ABD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8AC-E6D7-4907-AA59-B6F41672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A35-2D9B-4109-8890-8F527768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E37-4E3C-4702-A4D8-A84FA4A3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EB0-754B-495D-9FEB-A402DC80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E60-2BA7-4E92-8CB8-09CDB524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CAA-5B9A-4A9F-8489-6CB6B49E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E0D-313E-469B-9552-0DE2AA18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24F-A9CD-4E50-AE47-6D5B57D2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C1D-39A2-43D7-B45B-9296933B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C18-7A2E-43D1-811E-9875F052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984-C728-4F5B-9E69-34C84EAE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4CE76-411E-407B-B6BE-E9856379FD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янь восторг земно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вись союз плотско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стыне тьма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нету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мир скорбе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влекусь земны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с Ни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ые блага т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ха нет в них ц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у чужд их пле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вянь восторг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мечтаний со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екших дней уро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сё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аяньи сто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довольно дал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мертное, пройди!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ое, гряди!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сойдет и к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ленным друзь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Спаситель, к на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58Z</dcterms:modified>
  <cp:revision>13</cp:revision>
  <dc:subject>Slavic hymnal Гимны веры христиан, hymn 463</dc:subject>
  <dc:title>Увянь восторг земной, мой Иисус!</dc:title>
</cp:coreProperties>
</file>