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202B-3C5E-48A4-9C83-FAD472738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7028-E92E-4762-BC99-545E44BFC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F88C-7DF2-4366-8AA0-F5A677DAF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99A8-09CE-43CA-8205-7F6C98955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773F-98A1-4D61-84D1-621CD00C8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BF46-06DB-4C4A-B93D-C75D144CA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CD51-50F3-415F-B7FA-090B07704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967E-B252-48EB-B1EB-796C7CF08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BF68-A0B7-464A-A38D-9C605EEB7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DAA3-13D6-45FA-9783-DB398C0CF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DF5B-B564-4DFA-A01F-B6ABD8D24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43D5-E2C3-4012-9759-2799F3D82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07EC41-3F35-46A1-9059-74448993DD4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tanding on the promises of Christ my K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ro’ eternal ages let His praises r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Glory in the highest I will shout and s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tanding on the promises of G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40а   Доверяю слов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оверяю слову Вечного Цар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Божью мудрость славят горы и мор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«Слава в вышних Богу!» повторяю 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оверяя слову Бога си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tanding, stand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tanding on the promises of God my Saviou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tanding, stand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’m standing on the promises of G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оверяю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оверяю слову, что Господь возвести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оверяю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Я доверяю слову Бога си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tanding on the promises that cannot fail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en the howling storms of doubt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ear assail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y the living Word of God I shall prevail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tanding on the promises of G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оверяю слову, что не потрясё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Ураган сомнений, страхов и невзго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Через бури жизни я иду вперёд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оверяя слову Бога си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tanding, stand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tanding on the promises of God my Saviou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tanding, stand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’m standing on the promises of G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оверяю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оверяю слову, что Господь возвести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оверяю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Я доверяю слову Бога си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tanding on the promises of Christ the Lor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ound to Him eternally by love’s strong cor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vercoming daily with the Spirit’s Swor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tanding on the promises of G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оверяю слову Господа Христ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Узами любви с Ним связан навсег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аже в искушеньях не боюсь вред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оверяя слову Бога си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tanding, stand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tanding on the promises of God my Saviou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tanding, stand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’m standing on the promises of G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оверяю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оверяю слову, что Господь возвести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оверяю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Я доверяю слову Бога си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tanding on the promises I cannot fall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List’ning every moment to the Spirit’s call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Resting in my Saviour, as my all in all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tanding on the promises of G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оверяя слову, я не упаду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ух Святой восполнит всякую нужд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о Христе имею всё, чего я жду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оверяя слову Бога си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tanding, stand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tanding on the promises of God my Saviou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tanding, stand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’m standing on the promises of G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оверяю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оверяю слову, что Господь возвести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оверяю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Я доверяю слову Бога си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50:25Z</dcterms:modified>
  <cp:revision>13</cp:revision>
  <dc:subject>Slavic hymnal Гимны веры христиан, hymn 640 (as amended)</dc:subject>
  <dc:title>Standing on the Promises / Доверяю слову Вечного Царя</dc:title>
</cp:coreProperties>
</file>