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AC4-B08D-46ED-AB66-B1FC1080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238-9DC6-4EAA-8EB0-BC87E288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731-E5DC-4A9C-98F1-08813C1D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D33-82BA-4A0D-B042-D51DFEBB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6FA-E6FF-43BD-83CF-8AE3D0F7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96E-96D8-4334-8E73-6F89E9DE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574-E718-4391-8F37-56E87063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7850-BAFE-4891-B002-5E504606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9FC-F970-489F-9A35-D9A01C23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A1D-65D8-4A91-B421-1810BE50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3EB-C64C-4585-A115-1F26EC44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B92-8B30-4470-B574-E4DC4A8D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27182-67E5-48C3-B347-2A100F0368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peace in my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the world never g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peace it cannot take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he trials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y surround like a clou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ve a peace that has come here to st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оём сердце по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моём сердце покой не от мира с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мир сей не может от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оть беда за бедой здесь лишают вс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адкий мир мне даёт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Jesus is m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rapture div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never leaves me lon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spers, O so k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never leave thee,” Jesus is 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the world seemed to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a Saviour and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peace sweetly came 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oubles all fled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y night turned to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Jesus, how glorious Thou 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ышу песню везде об Иисусе Хрис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моём сердце по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корбь ушла со стыд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чь сменилася днё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Господь! как отрадно с Тоб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Jesus is m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rapture div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never leaves me lon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spers, O so k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never leave thee,” Jesus is 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treasure I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a temple of cl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here on His footstool I ro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He’s coming to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 some glorious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there to my heavenly ho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храню этот клад в слабом сердце мо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уждая по стезям земн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придёт Он опять и возьмёт меня в д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царство света, в отчизну свят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Jesus is m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rapture div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never leaves me lon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spers, O so k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never leave thee,” Jesus is 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0Z</dcterms:modified>
  <cp:revision>13</cp:revision>
  <dc:subject>Slavic hymnal Гимны веры христиан, hymn 642</dc:subject>
  <dc:title>Constantly Abiding / В моём сердце покой</dc:title>
</cp:coreProperties>
</file>