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773-19AD-4C84-991F-FCDC61D0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B2A-5D36-47D9-AE1B-93AA953D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DB0-2176-4892-B099-4CAA0B0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DF2-3EC7-456D-A558-5439FD03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7ED-1227-4582-83CD-F7D57F35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040-7D98-47CF-9AF8-59D0D91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044-DFD1-4406-B25B-7C2C93D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AEE-12E2-4D92-BFA3-527DF33E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CBF-114C-40C7-AA94-D035DFD7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640-F4CE-414D-A52E-C136A73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D92-FBCB-40D3-BD1A-864CDDD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FC9-892D-4DBC-8FEF-38BB307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1336D-51D5-4CF2-8829-4E92DB1998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 ныне в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 не выразит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согрешень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ёк моё сердц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частлив 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ринош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лался друг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ньше блуждал в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ыне Им в правде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, Иисус —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из Его я 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— м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брат мой грешный,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мли Его гласу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и тебе Он дать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 верой взор обр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09Z</dcterms:modified>
  <cp:revision>12</cp:revision>
  <dc:subject>Slavic hymnal Гимны веры христиан, hymn 576</dc:subject>
  <dc:title>Как счастлив я ныне в Иисусе</dc:title>
</cp:coreProperties>
</file>