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965-5FE0-4829-9CDA-86DB543B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A35-132D-43E8-A60F-F521E313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38A-1329-4CF9-8484-CEFA84DD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63F-D266-4C42-9587-ECF65392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968-F6A3-4A68-94D4-A711AF11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E4C-6114-4977-843D-7BC54DE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035-DF0C-4DBF-97A2-976FBE3F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BD5-E173-4C51-BC70-F39FA93D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BAC-0AFF-45DF-AD98-250F8731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78D-DBF6-4C72-8E56-67342E4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652-3203-4403-BBAA-4F8A95A8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A7E-4D15-4765-8A11-CDCB2C5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D0FD6-A1DF-42B6-B308-374773F9AB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страдающ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 Ты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рабов греха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ровь и слёзы 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ы ли плакал п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лимовых сы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 высок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оне их 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страдающ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ни, сёла,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ия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 подвиг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го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то бы мне источник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, горя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нь и ночь за сво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кал б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18Z</dcterms:modified>
  <cp:revision>12</cp:revision>
  <dc:subject>Slavic hymnal Гимны веры христиан, hymn 789</dc:subject>
  <dc:title>Христос, страдающих людей</dc:title>
</cp:coreProperties>
</file>