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B2D-EE44-47EB-B8F0-300F55F2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269-640C-4B86-91E6-568BF10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04D-E829-473D-A082-740D69E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CE9-BE2F-44FE-9DD6-EB98FB30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409-9C5D-4E61-BFEA-41222738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8ED-0935-4B18-86E0-F8FDF99D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9AF-C07E-414C-BCC4-2DD1915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8CC-C661-447E-822F-72B95F64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678-CBD9-468E-A5C4-487BA3CE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A00-DC18-4B54-8D41-F59E19D3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B6D-DDBA-418A-B218-A5F71C33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6C2-CD39-44C6-83F9-2211403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C429-5E47-449E-B525-446D972F29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ых идите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осподу их приве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м спеша у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те вы радость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 пути вы стрем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ыси, вперёд, в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за правду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тьме со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небесных кра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егодня з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их, о Боге забыв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на уносит со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лебом спешите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насыщены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36Z</dcterms:modified>
  <cp:revision>12</cp:revision>
  <dc:subject>Slavic hymnal Гимны веры христиан, hymn 546</dc:subject>
  <dc:title>Юные слуги Господни!</dc:title>
</cp:coreProperties>
</file>