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1260-0F50-4AAF-89E8-9D5B2C2D9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C749-FD2F-47B9-B6D8-1BEADD770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E280-E977-4464-B610-63204875B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A707-6340-45BB-B7EA-41A0DCD2F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C5C4-5A6D-4D4D-B9EC-503CC97F3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3334-48EE-4BCD-BF07-BD8EC6C1F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F727-DAE4-4251-A89C-BCA457EC6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B34D-EE4B-4E16-8C1B-D5889962A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667F-8FF0-42DC-95AF-E9AB49073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947A-4194-4FF6-A6D1-26D2E64D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51A4-C551-4BCB-94BC-C97F1832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19E2-6BA8-470D-97D1-1E26605F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A5C834-2741-4AA5-8796-057DC8F7665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ду живую Иисус да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ом! Даром! Дар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ду живую Иисус да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ам даром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 к Нему да придёт и пь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ом! Даром! Дар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 к Нему да придёт и пь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ьётся источник для все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0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ду живую Иисус даё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вут Дух и Невеста вс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ом! Даром! Дар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який, кто жаждет, пусть при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ду живую пусть пь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чник живой вот льё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ьётся, даром льёт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чник живой вот льё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льётся для вас, для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м обещал Он на небе 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ом! Даром! Дар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м обещал Он на небе 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ом любящим Ег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а нетленные даст Он 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ом! Даром! Дар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а нетленные даст Он 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ом любящим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вут Дух и Невеста вс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ом! Даром! Дар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який, кто жаждет, пусть при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ду живую пусть пь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чник живой вот льё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ьётся, даром льёт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чник живой вот льё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льётся для вас, для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лые ризы Иисус прип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ом! Даром! Дар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лые ризы Иисус прип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ом любящим Ег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ство, венцы приготовил 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ом! Даром! Дар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ство, венцы приготовил 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ом любящим Ег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вут Дух и Невеста вс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ом! Даром! Дар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який, кто жаждет, пусть при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ду живую пусть пь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чник живой вот льё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ьётся, даром льёт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чник живой вот льё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льётся для вас, для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ечный и славный день Он вве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ом! Даром! Дар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ечный и славный день Он вве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ом любящих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Иисус даст, что не про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ом! Даром! Дар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Иисус даст, что не про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ом любящим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вут Дух и Невеста вс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ом! Даром! Дар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який, кто жаждет, пусть при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ду живую пусть пь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чник живой вот льё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ьётся, даром льёт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чник живой вот льё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льётся для вас, для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48:22Z</dcterms:modified>
  <cp:revision>12</cp:revision>
  <dc:subject>Slavic hymnal Гимны веры христиан, hymn 301</dc:subject>
  <dc:title>Воду живую Иисус даёт</dc:title>
</cp:coreProperties>
</file>