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0C1F-CEB6-43FC-A2E1-08E6F444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A648-4B5B-42D7-96E4-898F2F26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AB5-CD05-4DCA-8090-4AFDFBA3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A4C-897E-48C6-8C7D-29C65593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C018-F099-4BE3-A891-0FD10141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54F-9441-4F12-99BF-5F789D7D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AEE-40CB-4886-8243-22BB0920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DAEB-0FEF-480C-8F48-36DD1756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D57-B4CA-4CA5-886A-07E5E870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EE22-2FB7-4E52-9335-41D65759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63A-D9B5-43E7-9947-B6547990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872-FC7C-4371-85BB-ACF01ED4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E87DB-67D5-4833-8372-FFFCFD875D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зачем ушёл вда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! Господь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ы не слыши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! Спаситель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, и мольб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ын мой, зачем ушёл вда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, заблудший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ждающий душ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нешь ты наве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 скорей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, и мольб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любовь за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много, много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дёт Господь от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дёт ― тебя всё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, и мольб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чно будет гол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Его зву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ожет зов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замол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, и мольб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2:18Z</dcterms:modified>
  <cp:revision>13</cp:revision>
  <dc:subject>Slavic hymnal Гимны веры христиан, hymn 413</dc:subject>
  <dc:title>Сын мой, зачем ушёл вдаль?</dc:title>
</cp:coreProperties>
</file>