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12E-952B-481D-9244-6F5EE948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6C2-D332-4B6D-BFF3-99707B63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69E-5147-42E7-BC27-F2BD3ADE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CDB-175A-4EFD-9F35-4AB69B4A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A02-2E7D-4B8F-AEEC-537078CE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C4B-00C7-4603-9699-25F55F5F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53E-4258-4ADA-8CE6-7C8402AF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468-2B30-4359-AAD0-296B2C92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325-E0D0-41BB-B810-C184A7ED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497-64D5-403F-BFB8-AEF7DDF6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03F-3C7E-43F4-867B-71DAF13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4A0-67AB-47F7-BE68-1014566D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990B7-5ECC-4256-AFF8-C772B45BA0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вс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в земных скитань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зла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я в битву см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о мною 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клонюсь от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со мн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близок мир к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стивой мишу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действует у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ружи 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оей защи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ветом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дал Ты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лицом вра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де Я в грядущ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слуг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ладая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мой дух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мой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6:44Z</dcterms:modified>
  <cp:revision>12</cp:revision>
  <dc:subject>Slavic hymnal Гимны веры христиан, hymn 478</dc:subject>
  <dc:title>Спаситель, обещал я</dc:title>
</cp:coreProperties>
</file>