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9BE-843D-4949-B8E6-87AF309E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733-3C2F-4FA2-ABBE-A2069477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030-A6DE-4603-B6E8-AE01244C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3BD-7BA7-4217-8522-B001B99E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F2F-75B6-4812-A3B5-03884447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A77-C4A4-40D6-8BD0-99A96B4D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A57-10B8-4D00-9199-20E07713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CC4-E061-44ED-A43E-E302DDA8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F5C-54F4-4969-AFA2-3D72F711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0B4-BCBB-4781-ABBA-310D03F7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9A6-F9C2-4772-B620-01410F99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110-CD95-4C35-981D-9EE272D7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376D5-2CD8-4D4A-9133-3923473E10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рещают люди ст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нам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ум толпы, кругом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товят звон цеп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прещают люди стр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собранья, у п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стражу сторож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: «Речь ваша у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олчите поскор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ходит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евангельских ве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1:34Z</dcterms:modified>
  <cp:revision>12</cp:revision>
  <dc:subject>Slavic hymnal Гимны веры христиан, hymn 560</dc:subject>
  <dc:title>Запрещают люди строго</dc:title>
</cp:coreProperties>
</file>