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43F-EFCD-4D0D-A579-004AC7E2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54C-DA5F-4E50-8F95-E46C6394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742-D4AB-4366-A563-1EE02ADC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8C9-081D-462F-ACB6-C4DB92EE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375-FCD9-426B-AE02-2714A308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A53-572A-41DC-A0A7-D601C755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BB3-1ADE-4A60-8555-1786CDBB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0D8-26B7-4786-A0EB-A858B83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0DD-3DAB-4983-8B5B-CB5E4A4A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673-3B5D-409D-8EFB-B2824C2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8E8-3456-48C0-9765-C6B7FB8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E9E-1841-4CA2-8510-00FD775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3AD71-32CC-4163-8C94-145450D1F2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enthron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proclaim You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here in the midst of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raise You up with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ord Jesus, and take You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e Enthron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37Z</dcterms:modified>
  <cp:revision>10</cp:revision>
  <dc:subject>The Source, song number 300</dc:subject>
  <dc:title>Jesus, We Enthrone You</dc:title>
</cp:coreProperties>
</file>