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FC41-D9EC-4D44-9E4E-CD959992D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6831-41DE-40EC-8054-46B8266A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6036-C8EB-47DC-90CF-82D925AA4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C5B4-83BB-4778-B942-6C9120D6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8F11-4439-4380-AE7E-F469D8B5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07C3-3C07-4F5A-90FE-CCE9B8F3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5454-8A94-4324-94F1-88EB3F58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F07F-9831-452C-9389-2DB325B2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3FF5-7C8C-4AF0-9ABC-C5C9F73B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9EBD-47B2-411C-81E7-ABBC6640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C52A-7B0E-450B-B54F-D8910252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B2E9-7CA5-4FC9-A4FA-FD7961AF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704D7-0FB7-4426-AAE9-3FC86D7C3A2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do you wait, dear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y do you tarry so l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Saviour is waiting to giv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place in His sanctified th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же ты медлиш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ты медлишь, мой бр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Иисусу ск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и хочет тебя Он при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исло Своих верных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Him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Him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do you hope, dear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gain by a further del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no one to save you but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no other way but His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 ты думаешь, бр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радость на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Один за людей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ого нет в жизни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Him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Him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you not feel, dear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Spirit now striving with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y not accept His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row off your burden of s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не чувствуешь, бр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ух обличает во всё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спасенья прими и будь 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расстанься с гре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Him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Him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do your wait, dear br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arvest is passing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Saviour is longing to bless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re danger and death in de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ты медлишь, мой бр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жатвы нежданн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Господню семью не прин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асность и смерть того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Him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Him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4:46Z</dcterms:modified>
  <cp:revision>13</cp:revision>
  <dc:subject>Slavic hymnal Гимны веры христиан, hymn 399</dc:subject>
  <dc:title>Why Do You Wait? / Что же ты медлишь, мой брат?</dc:title>
</cp:coreProperties>
</file>