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E17-D819-4C73-86DB-F2FA2498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ECD-6068-4570-AB5F-F168B74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8B0-C8F0-4682-B3C8-735B6F46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0F7-7146-40E8-93D4-59652F8A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EFB-F7CE-4DA4-B0C2-29D819A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073-765A-4617-BC6D-F75C4DEA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D99-B302-4230-88F8-CDAB52F9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769-D3C2-4A1C-9272-181CAC0B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02F-97E6-4BE8-AB4F-08472EDD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9C1-6E6A-4947-B114-7D4AE36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B8A-33EA-4638-9970-FB0C3680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978-4E8E-48AC-91D8-05B6708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79421-63B4-403C-A8E8-0E41DF681D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the angels in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g as they welcomed Hi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good tidings to eart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ing alone in the dese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days that ar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for our sins He was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as triumphan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years of His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sorrow He b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 despised and affli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less, rejected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cross where they nail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hing in anguish and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grave where they lai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He livet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in that story so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er than ever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, let me weep while you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paid the ransom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3:30Z</dcterms:modified>
  <cp:revision>14</cp:revision>
  <dc:subject>Slavic hymnal Гимны веры христиан, Ukrainian hymn 2</dc:subject>
  <dc:title>Tell Me the Story of Jesus / Повість скажи про Ісуса</dc:title>
</cp:coreProperties>
</file>