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63A-BA07-4FA5-9BEA-B3D12AB7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685-8B1D-4D4B-BD91-EA9D3F68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153-4932-4D98-B8E9-3693E80D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517-10CC-4664-9535-BD025C75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BF5-3738-48EF-9D19-12C567D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773-37BD-4F96-AE85-B12DC01B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87F-C3DC-4AB6-AF99-43B1600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2C8-0D02-4D77-9658-736488EE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0BF-E8D5-4042-BDA3-4562AEB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179-4444-4EE8-93D6-A588EF3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CDF-4226-4520-B8C4-1EA2575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B77-CF92-4E2B-A090-6F2D8A1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FCBB3-6005-44A8-B693-D85668B5E2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51Z</dcterms:modified>
  <cp:revision>12</cp:revision>
  <dc:subject>Slavic hymnal Гимны веры христиан, Ukrainian hymn 79</dc:subject>
  <dc:title>As News of Your Impending Death / Коли Господь ученикам</dc:title>
</cp:coreProperties>
</file>