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089-9842-42B5-B358-CA95714E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85B-0AB3-451B-A18E-4C7D6FC0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8E4-AC35-4D10-A93C-081E9FB8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BB8-3448-480A-B0B5-918EA6F8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50D-D16E-49C1-A4FB-0A0DEDA2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C98-6AA8-480B-96B4-DF40D434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F86-90E9-4325-AE55-A1809D95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9CF-AC2A-45D5-B9E0-08DF4391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6F0-0F85-4B2C-8DCA-DE0078B6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5E2-A696-4081-87BD-86D5D9E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416-5F9C-4C27-BB6D-FF5797F6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E2D-1804-4E7B-852E-9D0732DC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7763B-EF5A-430F-8ED4-8026D030C0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fear my faith will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tempter would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n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3   Коли страх мене обгор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трах мене обго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оли ослабне ві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never keep my 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love is often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ust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можу сам трим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 Тебе покла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precious in His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He saves are His de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сний час, чи в час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ні недолі, чи у ща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not let my soul be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ught by Him at such a c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и Сам мою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купив мене ці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0:31Z</dcterms:modified>
  <cp:revision>13</cp:revision>
  <dc:subject>Slavic hymnal Гимны веры христиан, Ukrainian hymn 33</dc:subject>
  <dc:title>He Will Hold Me Fast / Коли страх мене обгорне</dc:title>
</cp:coreProperties>
</file>