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8A30-B73A-41CD-BAA7-0856EA139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39C9-6495-4FC1-A0EA-768111F99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324B-59DE-4672-9A8A-A9D4D2456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0938-3571-465F-B5A9-8D58F2F0E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20A0-BB74-4D48-A76D-D741E3851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16FC-CDE6-4978-9A53-0D296DE7D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DE25-3EAE-4EB6-A198-FB9124913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6382-D6F1-41FD-8473-1AC1E6AB6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D82F-0DB0-4280-9D0F-F667A387D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37B2-FBC4-402F-AC7C-373A30F5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AB62-CA28-417C-8837-45B2EE28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05C3-6E13-485F-BA86-D37BECA0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5CCE5E-F5F2-4D10-AEBE-FA527CB9FB1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’Tis the grandest theme through the ages ru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is the grandest theme for a mortal tongu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is the grandest theme that the world e’er su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ur God is able to deliver the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6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Эта весть звуч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а весть звучит длинный ряд век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а весть стоит выше всяких сл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у весть нам петь ангел бы гот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Бог велик — и Он спасё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is able to deliver the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is able to deliver the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ough by sin oppressed, go to Him for res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ur God is able to deliver the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велик — и сохрани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велик — и укреп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ль беда кругом, вспомни лишь о т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Бог велик — и Он спасё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’Tis the grandest theme in the earth or mai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is the grandest theme for a mortal strai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is the grandest theme, tell the world agai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ur God is able to deliver the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а весть важней всех других ве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а весть нужна для живых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у весть неси для твоих друз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Бог велик — и Он спасё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is able to deliver the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is able to deliver the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ough by sin oppressed, go to Him for res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ur God is able to deliver the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велик — и сохрани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велик — и укреп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ль беда кругом, вспомни лишь о т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Бог велик — и Он спасё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’Tis the grandest theme, let the tidings ro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o the guilty heart, to the sinful sou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ook to God in faith, He will make thee whol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ur God is able to deliver the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у жизни весть передать спе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опавших в грех, для больной душ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одряй сердца, наставляй в тиш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Бог велик — и Он спасё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is able to deliver the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is able to deliver the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ough by sin oppressed, go to Him for res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ur God is able to deliver the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велик — и сохрани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велик — и укреп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ль беда кругом, вспомни лишь о т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Бог велик — и Он спасё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7:54Z</dcterms:modified>
  <cp:revision>14</cp:revision>
  <dc:subject>Slavic hymnal Гимны веры христиан, hymn 565</dc:subject>
  <dc:title>He Is Able to Deliver Thee / Эта весть звучит</dc:title>
</cp:coreProperties>
</file>