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9E9-73B3-4A16-A4FD-086DBEFC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8A9-9351-4EA9-AC55-F7335992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CD5-3BD7-4F59-A08B-087FB502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444-3931-45D7-8568-27948A61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977-0363-46C5-A0F5-B7510891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252-5011-4732-909D-E4E0705F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EC0-CC5A-4F6A-BB56-969823E9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251-6226-4394-A565-9E79103E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576-5CE2-4946-A283-CA32ED36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EFA-3D4C-4EE4-B7B8-E1C107EE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A8B-5750-4A5D-81B0-7C48CEC0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315-3FA4-4C33-8509-D572AD1A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8C929-0F3D-4557-9727-8AF17E01D6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I have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e to the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forever nea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вс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в земных скитан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зла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not fear the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ou art by my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ander from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ou wilt be my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я в битву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о мною 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клонюсь от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me feel Thee nea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is ever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the sights that dazz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mpting sounds I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со мн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близок мир к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стивой мишу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oes are ever nea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ound me and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, draw Thou n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ield my soul from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действует у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ружи 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оей защи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ветом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Thou hast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follow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re Thou art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Thy servan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дал Ты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лицом вра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де Я в грядущ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слуг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esus, I have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e to the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ive me grace to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ладая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мой дух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мой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49Z</dcterms:modified>
  <cp:revision>13</cp:revision>
  <dc:subject>Slavic hymnal Гимны веры христиан, hymn 478</dc:subject>
  <dc:title>O Jesus, I Have Promised / Спаситель, обещал я</dc:title>
</cp:coreProperties>
</file>