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C67-DFC5-4FD4-B2D8-BDF89485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668-0E58-4611-BE8A-2F2EBE85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19B-18F0-4ED8-8F8D-D354506C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AE7-E800-44E9-B65B-27DE89AF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714-E21A-4B21-B41A-FE209567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6F5-4860-459D-B675-710B4BD8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226-63E1-454C-909A-61707E73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BFC-3522-4AF4-AD9A-74F0BCEC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D63-C915-4065-8F9F-5307237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96C-4BD0-4826-83D9-A1B7302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352-E361-42E4-9B11-D093408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15F-62CF-49CD-ACDD-900865E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D8A94-2315-4015-88E4-72ABB0CF4C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во мне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м пламенем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ного сердцу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одвиг жертвы 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 моя во мне г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ы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л во веки 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ю обитель я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кину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в вечности, 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рославить я см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достойной, не в слез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ам отрёшь слез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3:02Z</dcterms:modified>
  <cp:revision>13</cp:revision>
  <dc:subject>Slavic hymnal Гимны веры христиан, hymn 810</dc:subject>
  <dc:title>Душа моя во мне горит</dc:title>
</cp:coreProperties>
</file>