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199-AF67-4CCE-BC67-6B3AAF82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E73-5B93-48E1-A7AF-D80859C5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60A-98A2-4685-8709-0FD02075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5DD-6F25-48B1-9B2A-0FF79794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0C2-8B87-4314-BBCB-F348BEB6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61F-7A17-4660-BCBA-718B761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D61-1226-45B2-9A4B-B788924F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D31-25DC-4DCD-9987-D2D0FC8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138-1B5D-4C22-A940-AEC0CCE3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88C-8478-4963-8A17-883285E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D6F-9449-4262-BBBD-AD630AC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E46-638E-4242-AD08-2F3781EE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8F6F7-B327-4A07-BC71-A80C41C7CC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веты не 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и в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, 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за Ним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пойду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, утеш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и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30Z</dcterms:modified>
  <cp:revision>13</cp:revision>
  <dc:subject>Slavic hymnal Гимны веры христиан, hymn 842</dc:subject>
  <dc:title>Вслед за Христом хочу идти</dc:title>
</cp:coreProperties>
</file>