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EB8-EF0F-49D2-A506-FB449C00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EBA-0F31-4625-A396-70B31A10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18A-8909-4F39-BCAC-A5A23523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055-3D82-4258-86D6-764B1E57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3C3-D5BE-4CD7-AE72-4AEDF6E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E10-883E-4DFC-9EB2-574D4CA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47A-DD34-4924-8AD8-CBE0ECA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1CB-E4D6-4D94-A8E5-941E7F0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FF5-40E4-457D-8BC5-44417C56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53F-717B-4B67-93AC-A37C6B5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A51-BBD5-48BF-A8D8-CEF2A5A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F07-8001-4D4A-BF4E-5CD9506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C8505-3109-473E-BAFE-941BBF779D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земного бы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х мой там в вечности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т ли петь мне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рю: собранья из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и здесь в мире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вечных ут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ать меня выйдут с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пред мной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ивных небесных ка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я город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свете Господни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мень охватит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восхищень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искупленных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Творца и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50Z</dcterms:modified>
  <cp:revision>12</cp:revision>
  <dc:subject>Slavic hymnal Гимны веры христиан, hymn 656</dc:subject>
  <dc:title>В тот час, как навеки спадёт</dc:title>
</cp:coreProperties>
</file>