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6AF-1721-4892-A478-FCB7B598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ABC-8270-41F5-9E10-A218E303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8BB8-2797-4C2B-9CFD-6BE02314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0E4-3957-4ADF-9622-31A14174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DF7-FE34-4721-9698-C300E8A0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ADC-CB7F-4E7A-B0FC-D021554B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20C-D912-462F-A582-1B4E31D1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B13-D87F-475E-A9F2-5E433262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033-BC5A-46A7-A59C-CBC3A489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F97-CA40-42A6-A252-07413A7B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E02-994E-4AC3-BFA2-C8C97F74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DBD-7D30-47AF-B008-4EE220A2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79042-2255-4CFB-B013-8BA7199B8A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победить, о желаешь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сила в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 свободу Христову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х побед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шь ли гор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сть умерт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Христос весь твой грех уд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шь ли снега белее ты б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Иисуса всё может ом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очешь ли верно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сила в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, устами Иисуса хва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1:40Z</dcterms:modified>
  <cp:revision>12</cp:revision>
  <dc:subject>Slavic hymnal Гимны веры христиан, hymn 416</dc:subject>
  <dc:title>Грех победить, о, желаешь ли ты?</dc:title>
</cp:coreProperties>
</file>