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A8F-1665-4DAD-A858-DC3F8EB0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A35-702C-4753-9D29-7B1ED3E9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8DE-64B2-42BB-AE67-EC710ACD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4F4-5A74-40DF-92ED-8500B0AB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D81-9F10-45F0-996B-6D65E54C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2D9-85F9-4253-90DB-88A0F33C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56B-D4FA-482E-BEE7-64CD5432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7F9-F0A7-4234-95B2-11376472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3F6-12E4-4CEC-BF5C-B97FF9C3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2B1-B4B7-4EB2-A0EF-5BE5B58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651-72A0-4D80-9F80-481B5049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11A-6D6D-4575-8E87-43CD4CF5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4E5F3-AEF2-4A56-9BCA-2F8D6AE0ED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Jesus, My Savi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6:01Z</dcterms:modified>
  <cp:revision>9</cp:revision>
  <dc:subject>The Source, song number 367</dc:subject>
  <dc:title>My Jesus, My Saviour (Shout to the Lord)</dc:title>
</cp:coreProperties>
</file>