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A80-5E43-44A0-9CE8-0F2352AF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C5B-CE52-4B2A-9374-3B7F53EC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90A-24BD-4102-8A0F-283D9DEE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EC4-C19C-4693-9030-DAD19A1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3EC-FF74-4C4E-BEE6-68CD263A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2B7-9324-4D62-8C77-2F709556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D1F-BCA6-4865-AD8C-110AEEC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273-EDAC-4C79-9F80-991304F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32D-040B-4A85-99D6-36281A57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A3F-8BCE-4640-BA32-855D272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865-E1BF-4A7C-831F-4DBA987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BD1-A108-4751-BF39-409D467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6C96D-FAA9-4B0B-ABB1-DBB4E4016E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, полно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коленье моло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т жертвенно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епко спит оно дос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едко кто на труд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й плетётся еле-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и в жертву не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ужно нашей молодё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ться Богу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тогда глаго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ут её святы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народ тогда воспря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гому Пастырю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Божие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мира вкусят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меня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, горящим с алт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пойду благовест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, любовию г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ртвы кровно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― отрад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ть хочу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мой, пошли ог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я, огня Святого Д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й помощ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чуткого дай сл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ышать глас Твои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пойду без колеб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у Тебя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нужно, на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 радостно от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04Z</dcterms:modified>
  <cp:revision>12</cp:revision>
  <dc:subject>Slavic hymnal Гимны веры христиан, hymn 464</dc:subject>
  <dc:title>Я слышу слово огневое</dc:title>
</cp:coreProperties>
</file>