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F72C-2689-45FB-B561-EA3C7087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451A-2F91-4457-AECF-9B1CC3D9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5A9A-69CE-4EA3-A6F1-C36FDED5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56D-3D5A-4C6F-BAF3-06879EBD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4A11-3759-46A9-8F0D-1D3F6EAA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0D92-9F40-4891-A2E1-13B7B2E6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D01B-D190-40C6-A07B-AE641DC7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CA43-2ADC-44EA-A13C-82B7FA19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8CEF-3185-4CA6-BA23-78111594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E233-6D8E-465E-8E8D-A6B7485F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9D7C-FA34-4F53-9A82-F1DDC05B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9692-EDC9-491D-BEE4-DB928D89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06A26-334A-417D-91BC-80AB8B1D935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Есть чертог наслажденья для малых детей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ам Спаситель туда их принял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небесною радостью их осия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леко от греха и скорб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готовлен для малых дет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ам уста их полны непрестанной хвал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 для дет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чертог наслажде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ети ангелам вторят спасённой душ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лавя жертвенный подвиг Христ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гнец Божий, избавивший их от грехов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л им видеть Свой образ жив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готовлен для малых дет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ам уста их полны непрестанной хвал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 для дет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их в доме Отца Своего водвори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лебом жизни питает их Са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т уж голода их искуплённым сердца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навеки его утоли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готовлен для малых дет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ам уста их полны непрестанной хвал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 для дет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поит их спасительной, чистой вод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их водит по дивным луга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кружает дарами, любовью свят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внимает их детским уста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готовлен для малых дет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ам уста их полны непрестанной хвал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 для дет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9:31Z</dcterms:modified>
  <cp:revision>13</cp:revision>
  <dc:subject>Slavic hymnal Гимны веры христиан, hymn 767</dc:subject>
  <dc:title>Есть чертог наслажденья</dc:title>
</cp:coreProperties>
</file>