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ECF-2B19-4879-B9BF-23EF2FD2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A3D-4AAB-44E7-977F-5F76F87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809-12E3-4F8D-AC5B-C1DCA89E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899-98A2-40F9-A07A-31ACD5F3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588-93E2-4979-B590-2D56399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F1A-729A-44F1-A038-405B04C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F8E-3FE1-4C85-BD4C-94821EB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D04-189E-4483-9FF4-5D43E2B4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9E1-6A1F-40D3-90E5-675A28D7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A3F-3607-412E-919B-F95A060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89E-2A9E-43E1-A98C-E2CA98B0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791-8731-4D5D-A45B-C19B77D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91DC3-467C-4581-AC4F-5979D4B30A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Богом мне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ой жизни среди би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ла ты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ью я не с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ях я сто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ю с Богом 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ч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я выбился и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ол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частья не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пусть будет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ругих я жить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го прошу лиш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чувствовал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я любима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их плечах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реди житейских би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репляла ласкою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во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частье,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бурю падал я бе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где слышал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слась среди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олитве радость пол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54Z</dcterms:modified>
  <cp:revision>13</cp:revision>
  <dc:subject>Slavic hymnal Гимны веры христиан, hymn 895</dc:subject>
  <dc:title>О, молитва</dc:title>
</cp:coreProperties>
</file>