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7D5-AA66-4BBF-9DB2-8DE25947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917-3FB1-471A-9A8B-E5684DB5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8FE-8C29-4194-9CAE-EB50FED0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E90-F6EA-46BE-ACA3-48A5E4BD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8A5-9F66-4A0C-9B28-1E35333B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002-9C08-4975-A711-6D59823D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369-1CEF-40BB-84C7-A2B6B10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894-F3CE-4199-9088-5590229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BB3-60EF-4F50-BECF-51CDC443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0BC-15BA-4541-BFD2-EE3B972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2A0-7201-437E-A6FF-A698DC0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413-B5C9-44CB-8E23-37370FD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7EDED-4E9D-48DA-823C-73188D66F0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11   В Христе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 надежд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моя жизнь и сил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амень мой, скала и пес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ёжный спутник в страшный шт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ысока любовь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ир глубок, как с Ним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Утешитель — Всё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, принявшем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р любви, что дал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 народ, избрав по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Себя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гнев Отца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на плечи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Его я смертью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, как все, Он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т был тьмою свет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третий день Он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мрачног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Бог и победитель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не правит больше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Он хозя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крови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раха смерти, нет в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олько сило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ервых дней,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, в Нём моя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и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ырвет из рук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едёт меня в Сво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1:35Z</dcterms:modified>
  <cp:revision>12</cp:revision>
  <dc:subject>The Source 3, song number 1311 in Russian</dc:subject>
  <dc:title>В Христе одном надежда есть / In Christ Alone</dc:title>
</cp:coreProperties>
</file>