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131-6660-4A92-9E4C-A08A05F1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71A-14D7-40D5-B8B8-F9A93D4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721-3C49-4F2C-9F0D-4A87646F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E65-5800-471C-901C-891758AA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933-3D77-4113-959D-24B2C54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F07-C121-40B2-BC8A-A8E324C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D9A-4AA8-433D-A0D6-50090909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C74-2950-4CC4-A483-8BB222F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095-B5F4-4A18-A271-A4F8085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F8E-30E4-48FA-88DF-C08406A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3E1-8CD7-42D7-BC53-635C67B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F99-4A0B-44D4-9A66-5A7D1DB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A31BD-BE39-40F3-9281-7DEA6AE450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ee the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unset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art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evening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the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distant gala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awes and humbl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loved by a God 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38   When I See the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hear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God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hared hum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 by 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cross they nailed You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not 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’re making all things 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rise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58Z</dcterms:modified>
  <cp:revision>12</cp:revision>
  <dc:subject>The Source 4, song number 2138</dc:subject>
  <dc:title>When I See the Beauty (What Can I Do)</dc:title>
</cp:coreProperties>
</file>