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0C6-862A-4B29-83DD-8D2BF89F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411-8577-42DA-BAE4-22950D87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A98-B5B1-48BB-8BED-61BAE08D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EB7-A703-4418-9AF3-E4A39EA3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082-D236-47F5-B3AA-EC17B880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5AD-5F11-438F-A5BE-9AAE18A3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F8A-80C7-4342-BBF3-250002C5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363-E82A-4402-A0BC-08549C5B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6B2-3152-405B-8BE1-61D8BDE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397-F4B8-4FD6-BD31-CF8F7C47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0E7-DD25-4EEA-8941-632C0EFF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C83-A5C6-4709-A57B-5A1E5118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94DF6-0163-4CA9-87AC-FBCAD699D3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thousand tongue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eat Redeemer’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lories of my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iumphs of His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жаждет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жаждет петь м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за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петь, мольбу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сил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cious Maste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sist me to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rough all the earth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nours of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оги мне возве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Твою распрост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The name that charms ou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bids our sorrows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usic in the sinner’s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life, and health,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гон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из плач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звуч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нам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reaks the pow’r of cancelled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ts the prisone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can make the foulest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avail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крушаешь власть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шь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Твоя, Господь,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грех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0Z</dcterms:modified>
  <cp:revision>13</cp:revision>
  <dc:subject>Slavic hymnal Гимны веры христиан, hymn 591</dc:subject>
  <dc:title>O for a Thousand Tongues to Sing / Спаситель! жаждет петь мой дух</dc:title>
</cp:coreProperties>
</file>