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C526-2CB4-474B-9F4A-5A08D94CA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4945-CC55-452D-A916-28DD8EE33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ADDD-D364-4895-B392-3C392877E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6FA6-2576-4BFA-BD83-452404982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8DDA-49CC-4352-A436-4F4B76A8E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919D-D64A-4913-9DD0-F145DB6DF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8F51-BE3C-4D97-A282-C5ECFDA8B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7E36-9724-4DA6-ACB5-26EFBCC6D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D9DD-9CB9-48C9-A166-EF1D19D78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120B-5471-4F46-B262-C87721A3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C1D3-24C5-4CE4-8E20-4963F14D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88A2-991B-4965-827F-3EDA2CEFF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A2301C-D6BD-4F14-8B80-1B9C39BB677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ет: Божьи дети встан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 придут к лицу Хри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как тогда хвалой воспрян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рдечной радости у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юноши, и старцы, дети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облечённые в висс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твями пальмы в чудном све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да стекутся на Си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8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И будет: Божьи дети встану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обрадует и прим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их возлюбленных дет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х поношение Он сним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ёзы их отрёт с оч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плача никогда не буд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ой дивной родине свя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аждый скорби поза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словляя жребий с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и призрака страда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мерть вовеки не придё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вет Господнего сия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омрачится, не за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и не будут уж том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оразит их больше з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будут вечно весел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ад, упитанный вод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и, как камни, воссия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енце Владыки сво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ак светила, заблиста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веки на земле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05:52Z</dcterms:modified>
  <cp:revision>13</cp:revision>
  <dc:subject>Slavic hymnal Гимны веры христиан, hymn 681</dc:subject>
  <dc:title>И будет: Божьи дети встанут</dc:title>
</cp:coreProperties>
</file>