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597-22AE-4BF4-BF36-0BDDC9F3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7D1-4B67-4CD5-9FA2-94F8C9E5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8E4-AE53-40A2-AD55-09893BF7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E6D-CD9E-4FA3-9E94-603D44CC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A01-D7A4-4F4C-BCB9-06E98F49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C76-CD42-491A-84F2-AF41966B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BC6-D6C5-40D8-B771-B3599AA2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AAA-E553-4495-897D-54CAC3F9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CB6-5904-4EB4-9D55-8B5D7FC5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483-2171-4D45-9DAA-9B3B7BA6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FFC-A748-4631-8F5E-BCD8FC4A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1C5-9D43-45C7-8613-AD6606B2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5AD57-17CC-411F-B855-1842ADE3BC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righteous, You love just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se who honou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ee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rise and lift my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r majesty, Your ho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I am will bles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48   You Are Righte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ope is in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my help comes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strength, my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trust is in 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faith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17Z</dcterms:modified>
  <cp:revision>12</cp:revision>
  <dc:subject>The Source 3, song number 1648</dc:subject>
  <dc:title>You Are Righteous (My Hope)</dc:title>
</cp:coreProperties>
</file>