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9B5-2AC5-4450-A230-2D00BC17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E8F-7615-4C33-A176-32B8C5D9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808-F6E8-46DA-810C-A49CE143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0A9-5464-4F4C-8F7A-B7DA39C6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04E-B45F-4856-BBA4-DC388F65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6CE-92F5-456E-9B10-B54871E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0DA-4F66-4FCF-B15A-9638055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1F5-76FF-4C15-B071-6064BDEB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4AB-08FC-4B04-B1F7-C5A1185B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004-F3CA-40D8-A4D1-E63EC58B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78E-1C1E-4EB3-9C9C-BEE3D7F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0E0-6FB7-4135-9390-EF6238A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3A4EE-C15C-4B35-92B6-797D6D2C2D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ording to Thy graciou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ek humil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I do, my dy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, broken for my s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read from Heaven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stamental cu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thsemane can I for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ere Thy conflic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gony, and bloody sw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remembe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o the cross I turn mine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my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remembe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se failing lips grow 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ind and memory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in Thy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rememb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8Z</dcterms:modified>
  <cp:revision>13</cp:revision>
  <dc:subject>Slavic hymnal Гимны веры христиан, hymn 729</dc:subject>
  <dc:title>According to Thy Gracious Word / По слову Твоему, Господь</dc:title>
</cp:coreProperties>
</file>