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8FC-E7C4-4500-8640-1BDAB164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1F3-69DD-4A4A-86AE-63FE8AFA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6B0-D904-4E18-B069-9D63AF74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144-1320-4836-A012-C669238E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18F-4532-4B23-812E-397FFB56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83A-9B49-41FA-8807-CC826C99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D34-85C9-4E07-9740-41763923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D8A-F55A-4B0C-9842-616CA5DB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E47-EF25-466A-B7ED-C720E6E2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F26-A8D1-4701-A542-BA17E5CA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11C-A15D-4E57-B7E7-2CF9F35C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F03-8B41-4073-858F-75F8830D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653FF-F504-489B-8BDA-670B0A159C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! внемли отрадной в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за тебя Христ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рехи и наказ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Сам по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наших сог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Его на смерть обр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, мёртвых в преступл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овьями Он нар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! внемли отра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, чтоб нас изб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ства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 и нам своб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ты давно оста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по собственным пут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 вечности не ду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аваяся страс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ь от сна и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скорей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рит тебя Он с Б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, текшей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, чтоб нас изб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ства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 и нам своб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бя спасти ж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рабства су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, как раб Христа,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шь быть свободен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дай Ему жел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душу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что ты спасён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Его святую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, чтоб нас изб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ства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 и нам своб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54Z</dcterms:modified>
  <cp:revision>12</cp:revision>
  <dc:subject>Slavic hymnal Гимны веры христиан, hymn 342</dc:subject>
  <dc:title>Друг! внемли отрадной вести</dc:title>
</cp:coreProperties>
</file>