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C2F-D76F-4DE2-9639-CD47F138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356-72DA-4896-91FB-3DF338EB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052-E589-4512-AEE1-CAD134FE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217-6399-4205-8B74-F1F54042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C29-FD4C-4EF6-A871-0ADF946E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546-9D1D-4714-9EAF-F0718142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457-1E9A-441F-9CF5-3CCC35C4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FFA-36CF-4337-A55D-A749CFF7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A80-0423-434B-98EA-A1A24AA9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F1DE-67EF-4727-9C1C-2012DE6B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A54-7229-4CA5-ACC4-C99FDD77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E0E-4751-4634-8CAC-6060937B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93C47-3F7F-4C9D-8A5E-44F439BC0B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now, but in the coming y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y be in the better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read the meaning of our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, some time,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-то в свете без те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-то в свете без те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, а там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чтём значение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кровенное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rust in God through all the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for He doth hold th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thy way, still sing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, some time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catch the broken thread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inish what we here beg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will the mysteries exp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, ah then,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м потерянную 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ончим начатое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айны сможем уяс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земное там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rust in God through all the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for He doth hold th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thy way, still sing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, some time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know why clouds instead of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over many a cherished pl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ong has ceased when scarce beg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there, some time,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емнело всё во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пеха не было ни в ч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есня обрывалась вдруг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небесной мы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rust in God through all the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for He doth hold th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thy way, still sing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, some time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knows the way, He holds the k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guides us with unerring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 with tearless eyes we’ll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here, up there,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нает всё, Он держит клю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в небесный д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ноя нет, ни грозных т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т и мир, там всё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rust in God through all the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for He doth hold th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thy way, still sing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, some time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1:37Z</dcterms:modified>
  <cp:revision>13</cp:revision>
  <dc:subject>Slavic hymnal Гимны веры христиан, hymn 667</dc:subject>
  <dc:title>Some Time We’ll Understand / Когда-то в свете без теней</dc:title>
</cp:coreProperties>
</file>