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0BA-B79C-43B1-B3C0-A7EE771B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4BC-FA62-43DC-89DC-2AAD26C3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826-A3A5-469F-87CA-C8F80E02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E3A-9305-4117-89FD-798EA0BA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89D-3FF3-412E-A5D1-CB767793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580-41B0-4F0D-8948-415A78BC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488-D859-44AE-8B66-03FE6FA8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FB6-DE1D-4038-8A8E-FE312437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447-4D72-42FA-A7DF-28960F9C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657-BEDD-4214-8794-BBC719E7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48B-9D2E-4916-90A3-CAF7ABBB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B9B-69D4-4BB0-9C0D-BA1D2035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5C574-32D0-4514-BDC0-1D70DCD2CB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хочу багат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ні скарбів сріб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небесного ц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асіння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торінках вогня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5   Я не хочу бага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ску є у м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провин є в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пасителя 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ила їх нараз в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слова правди да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вячують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, як кармаз багря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побілить, як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род вічний, предив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і Бог збудув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селі для вір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ин Сам придб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гріха вже нем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икла темрява 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нце правди сі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ебесна кр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3:15Z</dcterms:modified>
  <cp:revision>12</cp:revision>
  <dc:subject>Slavic hymnal Гимны веры христиан, Ukrainian hymn 25</dc:subject>
  <dc:title>Я не хочу багатства</dc:title>
</cp:coreProperties>
</file>