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EAC-5C14-40F7-8EC0-4E526F90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F8B-1CC6-43A2-8097-7869082C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12B-40BE-45AA-950D-1BE81199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ACD-2C1A-4B04-96BD-2283E1CC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023-1DE2-46AD-BC85-6E3C05E4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575-00A2-4BC2-B58E-0D63E812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547-81BC-4C71-870C-8134456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78B-63F5-4235-9FB8-67CDFFF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76F-C288-4CD5-8827-4892218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C0C-E458-417E-8752-AB4AC5D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E32-18E4-4D1D-988F-CF280594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31D-7383-4D79-B487-23FCF74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54F10-E2C9-4406-81C0-FC5E40E963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бя, о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раньше я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блаженства в жизн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и бесплодно я тер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сомненьях и печ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рачно протек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ебя, о Ц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л в обмане, в заблу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чего-то, сам не 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безумном ослеп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ари, не Творца иск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с любовью бескон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л и вот, я Твой уж ве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небесах моя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 престоле Бог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Христос, мой Бог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десную восс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 духом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с хвалой к Его черт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32Z</dcterms:modified>
  <cp:revision>13</cp:revision>
  <dc:subject>Slavic hymnal Гимны веры христиан, hymn 444</dc:subject>
  <dc:title>Зачем Тебя, о Царь вселенной</dc:title>
</cp:coreProperties>
</file>