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028-C233-40D4-BBA1-96CB8B2B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642-0EC1-4227-8941-25DC4FB2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B01-4993-4420-B6AF-45D6261B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AC1-048C-4576-9428-230D62DB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06D-6F7E-4BBB-98EF-BFBBEDE2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C5C-767D-4FE5-9FF9-799B6467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1F9-2538-4CF4-8156-D9BA8569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E8C-24D1-40BE-9ABB-2E80E6F3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82D-1EE3-4458-A715-BE8605AF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58C-2714-4843-BE0F-74426DB8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83D-292E-4E6D-B4DB-1F23C45E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4DE-08DB-463A-9464-8DA433A0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D4730-FC91-4D21-A749-03CED477D0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Ask and you will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ever you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Pray, and I’ll hear from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heal your la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Your glory will fi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water the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Lift up your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arvest is here, the kingdom is he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9   You 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, “Ask and I’ll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tions to yo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at’s the cry of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stant shores and the island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ght as it rises o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I ask for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I ask for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08:40:27Z</dcterms:modified>
  <cp:revision>11</cp:revision>
  <dc:subject>The Source 2, song number 1099</dc:subject>
  <dc:title>You Said</dc:title>
</cp:coreProperties>
</file>