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629-CFA4-4892-8EC8-24CFEECD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F9F-1C5B-4B68-AFB5-A20C375E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3B3-1F44-42F7-8F11-748EC500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B9C-C1D9-400F-81BD-2685CD13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723-527D-43A3-B3E6-971E8EE3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BE9-97D4-4E76-8153-CB2840A2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0CB-CD57-4745-B183-EDBBE6B0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162-433D-44D4-9ADA-50B3A9C5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F47-A8E3-4270-8044-5CAE09EA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B72-53F6-403F-8059-088242BB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0B1-EFDE-44EC-9F47-37CFAC1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D8E-DD98-4632-8AA4-4B1926A9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AB653-7EB8-4E3E-935C-0F64971834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we, like sheep, have gone ast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of us turning our own sep’rat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all si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allen short of Your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r glory is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desir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presence is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ong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14   All We, Like Sh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show us Your mercy and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Your holy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 our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ong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ing our sickness, taking our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he sacrifice Lamb, has been s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 desp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ected by men, He took our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us near to You,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Jesus,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worship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d by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show us Your mercy and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Your holy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 our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ong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46Z</dcterms:modified>
  <cp:revision>12</cp:revision>
  <dc:subject>The Source 3, song number 1114</dc:subject>
  <dc:title>All We, Like Sheep</dc:title>
</cp:coreProperties>
</file>