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1F14-FE18-45B5-8C94-F0D5F6B5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124A-4231-4927-8BDF-93BC435A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4FA7-3534-4768-BEFB-1E64923B8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DEE5-D1A8-4F58-997B-25BB11D4E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8B4A-9B99-4F81-9C6A-63D58CD7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49FE-E1C9-4079-BFF2-2A11F1A7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ED9D-034E-47E1-90A3-EBD07288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BE1D-FCA1-404E-B67B-B679D82C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9AB7-7962-4592-BCB8-A8B440E0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AE3D-5643-45B1-A2D3-44862606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77BB-5B0C-449C-B4FD-C8A3785E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65CC-8518-4121-9CE4-3AA33320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7B13E-DAFB-4DB8-B9F5-14B57F8FFF0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Христов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и пой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во знамя подни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подвластны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ликуй (лику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и пой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икуй, Христов народ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ангельский вверх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ые на земле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восторженно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иваются в хва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ликуй (лику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и пой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росток и стар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вица и силач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те как наш Бог вел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утешает пл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ликуй (лику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и пой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енья рожде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петь и везд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юности до седи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остатке и в нуж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ликуй (лику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и пой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Христов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светом меж людь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во знамя подни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стремись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ликуй (лику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и пой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1:48Z</dcterms:modified>
  <cp:revision>12</cp:revision>
  <dc:subject>Slavic hymnal Гимны веры христиан, hymn 888</dc:subject>
  <dc:title>Ликуй, Христов народ!</dc:title>
</cp:coreProperties>
</file>