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A0E-8BFB-4D05-9240-CA7F73E2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08BF-330D-4C87-A030-9771C0D4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BB08-AD62-42E0-AF1B-26A41252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FA7-F4FC-43A9-B26B-E35F1E92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CE2-542A-4B78-ACA6-23ED4EB3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C11-4785-4529-9938-057A4391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DE3C-5CA4-4A07-B415-97630836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324C-ACED-4FA8-BF7A-FC65FEC7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CECC-E147-4679-85CA-A1EE3A17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610-83ED-47CE-9E97-2C94F756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CBE-0142-40BA-8529-E1378B67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5F84-C3EA-4B00-A721-80B78CAA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A9AED-805F-4E98-8A98-0B5F58830D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news of Your impending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r disciples bro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ovingly You took the b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ords of blessing sp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когда ученик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Когда уче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мерть Свою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с любовью, как к друзь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 хлеб, благосл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read You broke, and with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tributed to 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body—take and e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take of it, all of you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ломив, им всем ра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м слова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рузья, примите, ешьте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тело есть Моё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, O Lord, You took the c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ayed, and then You sa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blood—by it, for s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onement will be ma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 с вином Ты чашу вз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ал, о ней м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ия есть кровь Моя», — сказ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се пейте из не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his is the covenant of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can there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e’er you do it, do i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membrance, friends, of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т новый Мой завет в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ам, друзья, 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е всегда творите 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вспомните Мою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blood we would remember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us shed on the t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mutilated body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et us ever s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й же кровь Твою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тую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истерзанную пл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спомнить в этот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ssess our thoughts, that ever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seek the reason why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You on Calv’ry’s rugged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ose such a death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, Господь, всегда во в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мыслить лиш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ного Ты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яжко уми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1:01:08Z</dcterms:modified>
  <cp:revision>13</cp:revision>
  <dc:subject>Slavic hymnal Гимны веры христиан, hymn 727</dc:subject>
  <dc:title>As News of Your Impending Death / Господь, когда ученикам</dc:title>
</cp:coreProperties>
</file>