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FB8-05FB-40C2-90DF-858BEEAE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C8D-787B-4380-84E6-537DDAF7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6AA-DE26-4BF6-A160-6544B157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552-374C-4C54-ACCF-57D0C20C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34D-8FED-4753-957E-2DFB825F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DBB-4BCF-4280-B0BB-E335CB13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5D7-8FC1-483D-A575-FD69112C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4731-65AC-471D-B959-4322C47B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FA9-EA8A-4C34-A4CA-091F0677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AEB-C76E-4920-9DE2-96D55DE0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91B-C18E-4AEF-BFF1-A56A0F50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E37-6302-4CF3-A7D0-01782842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3C67A-6A91-471E-A5C1-63075C98CB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mighty fortress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bulwark never fai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helper He amid the f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mortal ills prevai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ердыня наша — вечны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ердыня наша —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ила и защ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бед Он выйти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ша жизнь сокры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till our ancient f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th seek to work us wo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craft and power are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armed with cruel h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is not His eq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евний враг не с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ибелью гроз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земле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лишь для вр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мире всех страш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 we in our own strength conf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triving would be lo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not the right man on 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n of God’s own choo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ка грозного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долеем 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шь может,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вать его цеп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st ask who that may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, it is H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Sabaoth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ge to age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must win the ba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н? звучит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, есть и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от же в род и род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побе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ugh this world with devils f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ld threaten to undo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not fear, for God hath w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uth to triumph throug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раги голодным ль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кинут на съе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будет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ст нам избав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ince of darkness gr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remble not for him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age we can end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lo, his doom is 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little word shall fell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ь тьмы рычит, как л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ен его гн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рать нас хоче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ам он обре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чную погиб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ord above all earthly pow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hanks to them, abide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pirit and the gifts are 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Him who with us sid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 слово у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ебудет с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поддержит, укре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вными да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goods and kindre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ortal life also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ody they may k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truth abideth st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с лишат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ы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на кривых пу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беды, смерть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м Господь даст ц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6:26Z</dcterms:modified>
  <cp:revision>12</cp:revision>
  <dc:subject>Slavic hymnal Гимны веры христиан, hymn 849</dc:subject>
  <dc:title>A Mighty Fortress is Our God / Твердыня наша — вечный Бог</dc:title>
</cp:coreProperties>
</file>