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28-78B8-4D7D-81D2-9FC808FE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C9C-DC00-4D7D-AC3F-17440692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A90-3615-4ED8-B968-A3A7CCA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104-F662-4164-9D78-68CC385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CC2-842C-4902-8CCF-3160A33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DA1-8955-49E3-8676-E28EDC0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9F9-2BFC-4CBB-BE7C-895916E4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7B1-A304-47EE-9429-1554546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087-C710-48AD-81FF-8BD5835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834-F146-40C2-AC07-7AD841E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B5E-0F57-40A2-BEB3-5ADCEE8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9F9-8230-4C32-84FB-CA4E54BC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DC5A-611C-4171-A9B2-A5B9558982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08Z</dcterms:modified>
  <cp:revision>12</cp:revision>
  <dc:subject>Slavic hymnal Гимны веры христиан, Ukrainian hymn 50</dc:subject>
  <dc:title>Must I Go, and Empty-Handed? / Не хотів би я без плоду</dc:title>
</cp:coreProperties>
</file>