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7BF-41ED-4A0F-9AD8-3D95830F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CCF-FCE6-4DAB-88A4-CD0F0D21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F40-8D79-49B8-87CE-B02D5AA6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B8F-825F-4BFB-ADD3-0DF1A1E4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7F3-B5B3-4CF8-8FB4-4B096912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37A-00A4-4EC9-9462-A0E0DE55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A07-A832-43FB-8EB1-009B1212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DCE-8D8C-4A1D-9EFC-46CE557C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C72-2181-44DB-8541-03279773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DD7-1004-4E02-9E8C-5993470C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F9F-DBA7-41DC-8991-35573603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2AE-178B-4CD1-87F5-F00CBC61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7ECE0-300B-4181-9062-CDBE79AFA9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lonely hearts to ch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weary souls who p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тешайте малодуш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йте малоду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сите в мир послу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a smile we can re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ur journey we purs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дость мы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стлали путь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time for idle sc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your face be like the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а да не плени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ом светят наши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world is full of sig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sad and weeping ey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your fallen brother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слёз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оты пропал и сл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ратский дай со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loving links that bin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by one we leave behin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орви мирские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рабо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seeds of good we s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th in shade and shine will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ll keep our hearts a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сеем каждый 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 время возраст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ильный даст нам пл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9Z</dcterms:modified>
  <cp:revision>13</cp:revision>
  <dc:subject>Slavic hymnal Гимны веры христиан, hymn 480</dc:subject>
  <dc:title>While the Days Are Going By / Утешайте малодушных</dc:title>
</cp:coreProperties>
</file>