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93C-BDDD-4789-B11E-F44D09C5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A2F-D549-4228-B9E8-CE6DC54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E36-EB0C-40A2-AF92-9C93C95E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F18-79FD-45A1-A10D-3F1C5CD8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4F3-BCB4-4C0D-8852-D243E27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B07-20EC-4F9B-B2D6-D7B5A80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5DF-3E8A-4BE5-B22C-F4B8828E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98F-D796-4326-8BCE-4C8B202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AA3-225B-4F9F-9879-9177A9C9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6F0-84B4-437D-8285-6B69836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708-642C-49E6-91A8-96A62A05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365-21DD-472D-8990-9FE04B3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F63DC-EB61-4422-BCFE-50B668D22A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2   And I’m For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11Z</dcterms:modified>
  <cp:revision>12</cp:revision>
  <dc:subject>The Source 4, song number 1722</dc:subject>
  <dc:title>And I’m Forgiven (You Are My King)</dc:title>
</cp:coreProperties>
</file>