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1CC0F-7458-4B0D-BC62-726B4350C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1FD7C-81DF-4C27-A5C3-433A63786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DB905-317F-49CF-8262-80323360F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F29A6-581B-4391-B294-421E8D0AD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D34D6-B34A-4403-B994-E883BAEAC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93F97-548E-42A8-BF52-602804239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4FF86-1712-486A-BDAE-15287FABE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FE36E-FC03-4904-AC15-EFD5DE393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1ADF4-4508-4583-B6BA-0726BE4BF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D31BB-5CCB-4FBE-BE4E-74146ADC7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30AF9-B74B-4675-8AFD-0E4F4E1A2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8BA82-52B2-4E7D-A545-F78AF27A2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45F569-E171-4A5B-82D5-3F817544B81A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ve found a Friend, O such a frien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loved me ere I knew Him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drew me with the cords of lo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hus He bound me to Him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83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Нашёл я Друга одног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шёл я Друга одног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роже всех на све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шёл освободить ме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из греховной се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round my heart still closely tw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ose ties which naught can sev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I am His, and He is mi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ever and fore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сердце привязал к Себ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оей ко мне любовью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мой теперь и я Ег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ятою куплен кровь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ve found a Friend, O such a frien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bled, He died to save 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not alone the gift of lif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ut His own Self He gave 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шёл я Друга одног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шёл Он на мучень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дать нам вечной жизни дар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нам купить спасень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aught that I have mine own I cal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ll hold it for the Giv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y heart, my strength, my life, my 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re His, and His fore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, что имею, кем я е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оим я не считаю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и таланты, жизнь и че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му я посвяща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ve found a Friend, O such a frien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pow’r to Him is give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guard me on my onward cours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bring me safe to heav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шёл я Друга одног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еня хранить Он буд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оведёт Своей рук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веки не забудет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’ eternal glories gleam afa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nerve my faint endeavou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 now to watch, to work, to wa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hen to rest fore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иянье славы вперед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уда стремлюсь душ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рез скорбь и труд мой путь леж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небесному поко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ve found a Friend, O such a frien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 kind and true and tend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 wise a Counsellor and Guid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 mighty a Defender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шёл я Друга одног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чудный мой Спасител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близок, верен Он всегд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сильный Утешител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rom Him who loves me now so 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at power my soul can sev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hall life or death, shall earth or hel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! I am His fore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ая сила разлуч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Тем Другом несравненны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навсегда соединё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Ним вечным, неизменны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9:00Z</dcterms:modified>
  <cp:revision>14</cp:revision>
  <dc:subject>Slavic hymnal Гимны веры христиан, hymn 583</dc:subject>
  <dc:title>I’ve Found a Friend / Нашёл я Друга одного</dc:title>
</cp:coreProperties>
</file>