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B05-9E3E-46F1-9CD0-872B8AA0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EB9-2ABF-4154-8BDE-E7BA2FB2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A2E-C3BD-4B25-8E2E-48876717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E46-7062-471B-B19E-5DAC6D57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B08-7AB2-468E-8A0D-5CE902A2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423-E4B0-416F-A192-9DC51BF6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5AF-80C1-48F0-9C07-8ABA484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C95-E01C-431C-97AD-C632CAA3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744-B217-475C-97BF-F4CCCA51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121-B6F9-4F38-B8BC-A6C8F6C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910-02D9-4E10-95AB-2C2C130A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B96-C5A4-4B15-9183-D2AE4E8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1300C-8CBC-41C6-B7D9-6108E47A22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to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rivers of pleasure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— Христос мой Госпо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taketh my burden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oldeth me up, and I shall not be mov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iveth me strength as m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umberless blessings each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row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, filled with His goodness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ing in my rapture, O glory to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such a Redeemer a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lothed in His brightness trans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eet Him in clouds of the s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erfect salvation, His wonderful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hout with the millions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3Z</dcterms:modified>
  <cp:revision>13</cp:revision>
  <dc:subject>Slavic hymnal Гимны веры христиан, hymn 595</dc:subject>
  <dc:title>He Hideth My Soul / Чудесный Спаситель, Христос мой Господь</dc:title>
</cp:coreProperties>
</file>