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CC9-457B-4CF5-BCCD-6DD020FE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1F4-61D7-4042-8EA3-3B8E39E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1BC-C878-4B54-B59A-90D2AE01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1B9-339B-4903-B0D4-BC9D54B4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EF7-E157-4E72-8C83-2E207D11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9AB-EB83-40B1-9768-E639481F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84E-081A-476C-96A4-9C9BF58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768-1F94-4597-9C2F-AB31746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46F-1322-44A9-8BC7-601C0D2B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0F5-3615-47B3-A74C-FE4306A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289-0705-4E02-8A8C-A427D80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702-86B9-4C8F-A6BF-DE0CC81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AF734-D962-499B-BC36-DCB26CA836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 Спаситель: с неб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, оставив тр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дитя, как мы, был 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 раба 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ас Он слёзы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, верный Друг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доб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к нам Он и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к нам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мко, то слегка, как в дв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входит, в нас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у исполнить Он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шлёт привет нам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небесный клад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ост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видеть глаз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 мире зде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е лик Его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в сияньи в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ит кротко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ует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ворит: за гробом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благо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учший, вер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йди, дай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, кто здесь, могли в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торжеств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ших уст Ты пригот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ели мы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помощ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23Z</dcterms:modified>
  <cp:revision>12</cp:revision>
  <dc:subject>Slavic hymnal Гимны веры христиан, hymn 751</dc:subject>
  <dc:title>Как добр Спаситель</dc:title>
</cp:coreProperties>
</file>