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144-C337-4746-84B5-76010B03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A42-E78E-4ECB-BB57-8537DF59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755-32F7-42B2-8FB6-5E47F6E9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D8B-72DF-4666-A421-E5244C81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3C7-2440-4C6B-B85E-CEB8C58E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D08-8888-4480-B009-4CFFBBEB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6C9-892D-4E86-B388-EDDB1B9B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910-105B-49B0-811F-6424CA48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0FB-BBFF-4592-AE92-CBF75D22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B54-0ED2-4373-8B8D-77AD0D3F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B8E-750D-4506-8EF9-C7A85D79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772-2852-46A1-AD39-E597CD75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13FAC-51D3-4516-98D9-CA54C3D82C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rising of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going down of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’s name is to be pra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ye the Lord, prais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ye servants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is time forth and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15   From the Rising of the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03Z</dcterms:modified>
  <cp:revision>12</cp:revision>
  <dc:subject>The Source 3, song number 1215</dc:subject>
  <dc:title>From the Rising of the Sun</dc:title>
</cp:coreProperties>
</file>