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83D-2009-4F36-AE68-E1DF4884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028-9B08-41A5-A842-1F5FA679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802-AC42-470E-B40A-CCFFB6A9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29D-A0AF-40CE-961A-E9F31CF5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104-57B3-4F42-BBA6-1A849830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3CB-CD84-47DA-B5A2-4FE9C4EE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3F1-3DB4-48E3-9BD0-DD75A33A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9D0-E558-43EC-A296-623D2B5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044-D6A5-47C2-B5AF-251FD582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3D0-1F0E-4B5E-A366-14BBF746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D84-609E-4907-9D17-2F9B13E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E76-BF7A-4D9D-93D8-B58162A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71942-7713-4272-BEFF-52A5FB020B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тесь дружными ряд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рните ряд знам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данны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в Божий лег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ойтесь дружными ря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я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том, как Он,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пасает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брань и крик вражде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граду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ю радостной, хвалеб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злобу загл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шествуя, мо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раждебную тол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а могла смир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ть на Божию тро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очувственных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собранье призо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вангельем, моль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привлеч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шествуя, усер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рошюры раз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бовью милосер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к жизни проб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17Z</dcterms:modified>
  <cp:revision>12</cp:revision>
  <dc:subject>Slavic hymnal Гимны веры христиан, hymn 543</dc:subject>
  <dc:title>Стройтесь дружными рядами</dc:title>
</cp:coreProperties>
</file>