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23E-9B58-4965-91E7-5B7B5B00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7A4-5A0F-4317-A160-B65B147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12B-B8C6-4129-9EAA-5A5C683A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9D5-3791-4F74-861C-30F165A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29E-C7EC-4DAC-AF17-62227D1B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047-5615-4AB0-B237-94E4378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591-BAFF-4A97-AC93-ABCA316C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236-BEC0-496F-A24C-0DFE7425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C41-9CD8-4ADA-8936-406A9F3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CDF-58B7-4B2E-A889-A6C51A3E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7E0-80A4-4C8E-A0FB-CEC9607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050-D331-4223-B59A-168916D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1E1E8-E41B-4326-9AAD-BF116505FC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3   Слово, Слово Бо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испуг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бился я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ежде Ты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х уходит пр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рядом Ты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за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вят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воем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4:06Z</dcterms:modified>
  <cp:revision>11</cp:revision>
  <dc:subject>The Source 3, song number 1563 in Russian</dc:subject>
  <dc:title>Слово, Слово Божие / Thy Word is a Lamp Unto My Feet</dc:title>
</cp:coreProperties>
</file>