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7812-5E41-40D8-BF6D-8F9BEEDBF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FD3B-F5CF-4A9A-A1CD-4EA6E4C1F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B1F7-3BFA-4D4B-965B-3820EFFFE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C958-3509-4735-9CF0-1CCE86085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F9C5-1F22-45B6-B231-F7C846741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15D5-D35F-4E51-8C85-775E95399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960A-DA6C-4BAC-AB9B-52E0CAE56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BDED-E0A0-484B-AF20-D2E4FB349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7C22-20B5-4279-B6A7-C7420F3E0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DE0D-24AD-4AEA-AC8B-AA162CE2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320C-0971-40B2-B2C7-9FCD1FF0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6045-AF9D-498A-AB76-AF1152E0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38F64D-E2C1-417A-9FCF-6EE820950CA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я поднимаю вз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ест, где Божий Сын 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ознаю греха позо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ыжусь того, что почи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! храни меня, чтоб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в мире славы не иск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подвиг Твой, чтоб смерть Тв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а венцом моих пох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6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огда я поднимаю вз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я любовью, Ты, Христо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ас страдал и пролил кров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и вражды, среди угро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елика Твоя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б я целый мир от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дар мой был бы слишком м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ж за любовь Твою я д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что! Я Твой всёцело 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3:52:56Z</dcterms:modified>
  <cp:revision>12</cp:revision>
  <dc:subject>Slavic hymnal Гимны веры христиан, hymn 868</dc:subject>
  <dc:title>Когда я поднимаю взор</dc:title>
</cp:coreProperties>
</file>