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C4C7-5B5F-4D7C-8FE8-0A178C410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D04C-FADC-46DE-9AD6-69BCA5985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B00D-7977-4086-8042-AB98D235D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F31F-C5A7-4A66-A719-029F06DEB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2B47-710D-4559-9678-8C881DE1B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10AE-9EEF-4E0C-A1E6-62E9EE17E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46FA-1271-43E3-8E28-D23C8800B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B46D-5CF3-4F74-89B1-53F569B9A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120E-6EBD-453D-82A5-4E692BAF7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2647-2231-413B-8E22-A222E741C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C911-FADC-49C4-A98E-ACB2C3C61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AF7C-8201-4AA4-9A0C-F067806B4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F6FA9F-C6C2-45DD-9112-B563385BB02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all we gather at the ri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 bright angel feet have tro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its crystal tide for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lowing by the throne of Go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66   Чи зустрінемось з тобо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Чи зустрінемось з тоб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е святі усі живу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е спокійною рік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оди чистії течу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s, we’ll gather at the ri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beautiful, the beautiful riv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ather with the saints at the r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flows by the throne of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к, зустрінемось з тоб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е світла і прекрасна є рік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Й достойно там ми хвал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ити будем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 the margin of the ri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ashing up its silver spr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 will walk and worship 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the happy golden 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д прозорою рік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онце вічне там сі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співаєм там з тоб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проміністім світлі д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s, we’ll gather at the ri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beautiful, the beautiful riv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ather with the saints at the r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flows by the throne of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к, зустрінемось з тоб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е світла і прекрасна є рік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Й достойно там ми хвал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ити будем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re we reach the shining ri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ay we every burden dow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race our spirits will deli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provide a robe and cr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між нами і рік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ув смертельний темний рі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жий Син крови цін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Шлях спасіння нам відкри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s, we’ll gather at the ri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beautiful, the beautiful riv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ather with the saints at the r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flows by the throne of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к, зустрінемось з тоб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е світла і прекрасна є рік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Й достойно там ми хвал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ити будем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on we’ll reach the shining ri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on our pilgrimage will cea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on our happy hearts will qu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the melody of pe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коро будем над рік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коро шлях наш ми пройде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коро стрінемось з тоб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 Творця ми рай знайд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s, we’ll gather at the ri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beautiful, the beautiful riv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ather with the saints at the r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flows by the throne of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к, зустрінемось з тоб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е світла і прекрасна є рік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Й достойно там ми хвал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ити будем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0T06:48:59Z</dcterms:modified>
  <cp:revision>12</cp:revision>
  <dc:subject>Slavic hymnal Гимны веры христиан, Ukrainian hymn 66</dc:subject>
  <dc:title>Shall We Gather at the River? / Чи зустрінемось з тобою</dc:title>
</cp:coreProperties>
</file>