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523-6B27-4D4E-9970-9828E93D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1D7-1E01-488A-8E2A-083D19B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1DF-5BD6-4831-958C-89234DCA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C20-132D-4D93-82D8-562F01AC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840-3C4F-48FE-A962-EECA116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738-BE19-4475-BDF5-568B1909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AFD-186D-4851-8811-828598C4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177-BD37-4125-A623-4F9F4E9D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84-53D2-479D-9101-D9F399C0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456-AF5B-4E02-91BF-C225359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9D2-7294-41EB-9967-F82E653E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75A-9C8F-442E-88BD-92A5B5E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7D47-0D6C-4BFA-9446-873A9A85F3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urvey the wondrous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ich the Prince of glory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ichest gain I count but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id it, Lord, that I should bo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in the death of Christ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vain things that charm me m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acrifice them to Hi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from His head, His hands,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love flow mingled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e’er such love and sorrow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e whole realm of natu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re a present far too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so amazing, so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07Z</dcterms:modified>
  <cp:revision>12</cp:revision>
  <dc:subject>Slavic hymnal Гимны веры христиан, hymn 868</dc:subject>
  <dc:title>When I Survey the Wondrous Cross / Когда я поднимаю взор</dc:title>
</cp:coreProperties>
</file>