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6</a:t>
            </a:r>
            <a:r>
              <a:rPr b="1" lang="ru-RU" sz="3600" spc="-1" strike="noStrike">
                <a:solidFill>
                  <a:srgbClr val="ffffff"/>
                </a:solidFill>
                <a:latin typeface="Verdana"/>
              </a:rPr>
              <a:t>	</a:t>
            </a:r>
            <a:r>
              <a:rPr b="1" lang="ru-RU" sz="3600" spc="-1" strike="noStrike">
                <a:solidFill>
                  <a:srgbClr val="ffffff"/>
                </a:solidFill>
                <a:latin typeface="Verdana"/>
              </a:rPr>
              <a:t>Он — Спаситель</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s the Saviour of m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My Jesus, my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s the Saviour of m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s the Saviour of my soul.</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для моей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й Иисус, мой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для моей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моей душ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Jesu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Jesus,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s the Saviour of m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s the Saviour of my soul.</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для моей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Спаситель моей душ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9:30Z</dcterms:modified>
  <cp:revision>3</cp:revision>
  <dc:subject>Slavic hymnal Гимны веры христиан, chorus 46</dc:subject>
  <dc:title>He’s the Saviour of My Soul / Он — Спаситель для моей души</dc:title>
</cp:coreProperties>
</file>