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BCC3-950F-4FB0-B749-0DCA0F653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34BF-4818-4B16-8F0C-FFEA0FD6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DBDD-A4F1-4D50-9F1A-BA336CB18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8AC5-C01C-459E-B3F0-62141650B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C839-13B2-4C1A-95D8-5D829FBD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95BE-88E7-4330-AF33-505E44CD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4581-D2EC-465F-B7AD-ADC1F3F5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FD11-884C-4302-9BCC-324380DF6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D1F8-502B-4401-B26E-999043D6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5799-66AB-448A-8D80-619763A2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8E82-C37A-4C40-B527-869A850F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CD59-C2AC-4962-B0A0-05B597E2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5F1F67-3CC4-425C-9C6A-979E14E78BA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the music fad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is stripped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simply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nging just to b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mething that’s of w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will bless Your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576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When the Music Fa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bring You more than a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 song in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not what You hav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earch much deeper with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the way things app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looking into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coming back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eart of worshi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t’s all about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about You,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sorry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thing I’ve made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it’s all about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about You,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 of endless wo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one could exp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much You deser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I’m weak and po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I have is You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single bre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bring You more than a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 song in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not what You hav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earch much deeper with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the way things app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looking into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coming back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eart of worshi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t’s all about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about You,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sorry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thing I’ve made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it’s all about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about You,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4T05:59:12Z</dcterms:modified>
  <cp:revision>10</cp:revision>
  <dc:subject>The Source, song number 576</dc:subject>
  <dc:title>When the Music Fades (The Heart of Worship)</dc:title>
</cp:coreProperties>
</file>