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7A26-EF50-465B-A178-AA7C2EB3C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EA42-95DC-4A57-9A4E-8893E7C8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ECD5-1BFB-4AE7-AD4A-9424DAEF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20D0-86D0-491F-8359-725A7D7B1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7E83-4B12-4A4F-B4D6-DB83DB06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1E05-3689-4491-AB63-9A8F1382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1357-26B2-49A5-92FF-02047F09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717E-7DB7-409F-BAE4-B114E9CB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C35B-E823-4D86-AE3E-A5E7CDDB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78F9-F8FE-4D5B-A082-0971AFF4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95D2-350B-445F-9203-F697CDC9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4AB8-CD7E-4FCB-BE36-6F3512C2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7528B-FA40-43AA-9168-444DA54C236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 бурях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твой удруч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чами уны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твой омрач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сколько мил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иться буд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ли в бурях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Господни вспомин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их, до единой, повтор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как Он щедро надел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иться будешь, что Он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емя ли, з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уше ле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яжкое ли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тяготи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как вспомн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есёшь г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росишь все сомн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ёшь хвал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Господни вспомин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их, до единой, повтор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как Он щедро надел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иться будешь, что Он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ишь ли бога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ами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есть сокровищ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ую нужду воспол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а доро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, что Бог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Господни вспомин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их, до единой, повтор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как Он щедро надел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иться будешь, что Он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ись же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ю Его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и побежд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амяти все мил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хра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йдёшь отр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ном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Господни вспомин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их, до единой, повтор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как Он щедро надел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иться будешь, что Он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1:41Z</dcterms:modified>
  <cp:revision>13</cp:revision>
  <dc:subject>Slavic hymnal Гимны веры христиан, hymn 718</dc:subject>
  <dc:title>Если в бурях жизни</dc:title>
</cp:coreProperties>
</file>