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52F-C12E-4348-BDBE-69CF82EA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84A-5719-465F-8251-1BD0E3E1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A9EF-842A-4E8A-87C8-23545BA4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F7B-3602-478B-A516-D747847E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D2A-8F24-4F8C-88B0-50C43752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8DB-8595-44AF-9D6E-9DF186B4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27D-EB39-4477-A000-57E0BE88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DD85-36A3-4848-9F25-7ED668B2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5307-ECAE-4F77-9C0B-5F94A07A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798-552B-4ED9-88B4-372527FB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154B-AD46-4CD4-B3BB-B0CD935C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D8EB-6DE9-4F3E-A2C9-2813E185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D52AF-75BE-4F7C-BEC4-097ED05A32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the herald angel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the newborn K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on earth and mercy mi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and sinners reconcil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сти ангельской вн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, мир Он всем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с Богом прими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, all ye nations,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the triumph of the sk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ngelic hosts procl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is born in Bethlehe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ароды вознес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ангелами съеди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ясли ради нас со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Чей небо и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the herald angel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the newborn King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, by highest heav’n ado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, the everlasting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te in time behold Him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fspring of a virgin’s wo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Христа — наш дол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Христос — Предвечн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 концу веков рожд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речистой Девы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iled in flesh the Godhead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il th’ incarnate De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eased as man with men to d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our Emmanu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плоти Сам Бог яв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 взяв раба, смир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людьми благово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Эмману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the herald angel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the newborn King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il the heav’n born Prince of Pe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il the Sun of Righteousne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ght and life to all He br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’n with healing in His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язю мира всех при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правды Ты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ля нас принёс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целенью всех воскр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ld He lays His glory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that man no more may d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to raise the sons of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to give them second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, оставил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и упразднил держав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, чтоб нас под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рожденье свыше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the herald angel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the newborn King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6:23Z</dcterms:modified>
  <cp:revision>18</cp:revision>
  <dc:subject>Slavic hymnal Гимны веры христиан, hymn 227</dc:subject>
  <dc:title>Hark! The Herald Angels Sing / Вести ангельской внемли</dc:title>
</cp:coreProperties>
</file>