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DFA-04B9-4508-8351-7CD7F4A2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4BE-8507-4C77-A1E7-A3E10B7A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E13-E0C1-4DD6-990D-FF27380F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3DD-DD65-4515-9D6A-BB8CF807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403-91EC-4696-9C63-58B2685F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170-C647-41E8-A40A-80AA012A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2F79-41FE-4379-9911-C389E4FB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A0F-466D-4562-A5EE-0D787947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7CC-736C-44BD-B7FF-FED5355D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476-45B8-4F07-B85D-316A8479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346-0622-4317-8A28-96395EEE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876-6BF3-46D6-9C00-A2FC95B1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9DB17-2D7E-41EE-9AE4-DD6A67289B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ангелы лет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огда-то в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одился нам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людям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ангелы, лет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, оставьте стад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тесь тьмы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те: Бог пришёл к нар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блестит неб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ецы, довольно зн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ли не без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пришёл давно Жел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видна Его звез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е, несли вы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тарались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конец настало врем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пришёл Христос —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4:54Z</dcterms:modified>
  <cp:revision>14</cp:revision>
  <dc:subject>Slavic hymnal Гимны веры христиан, hymn 228</dc:subject>
  <dc:title>Божьи ангелы, летите</dc:title>
</cp:coreProperties>
</file>