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8F6-2263-41B8-95D5-29235CA0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E48-1A7D-4204-A6AA-A3FB7634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CDD-3F3E-488E-A150-B6B9A7CA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9B4-C0C8-475A-8D22-917011C0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C6D-1D28-4CA8-9947-074EE5AD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F52-35DC-47C0-A299-FB45331F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F4C-2770-4627-9C58-7B0129BD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96C-BE65-4786-A7D4-6A9A8FAD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774-4F38-4069-9F17-4790CD5D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E97-A886-4473-A86D-8E5E80A5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973-5222-4178-8257-C4557F5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627-E3D1-489F-912C-F58DD6B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7D112-6025-4FEF-9AC1-BA128C71B9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ved me, clean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ed my life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y feet upon the solid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55   Can You Beli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53Z</dcterms:modified>
  <cp:revision>12</cp:revision>
  <dc:subject>The Source 4, song number 1755</dc:subject>
  <dc:title>Can You Believe</dc:title>
</cp:coreProperties>
</file>