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5BE-9272-459C-BCE3-73A3FE4C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38B-AE93-41FA-A27C-97E70921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72E-0139-4496-A111-E45F3222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597-9722-42D3-8B95-18F49FA8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701-1AF6-4ED3-A4F4-61F64327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7A9-598C-4245-AA34-CE344DD8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3D4-F25E-429F-8F3F-8A067D99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5EB-687D-46AA-AA71-EF792520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C70-5E3C-44C8-AE53-2F950E34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A5E-61CA-4AEF-B317-CD1B31FB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FB1-FE08-4433-9146-15F01522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37D-1ADB-4127-AEA5-D5F90F1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C970B-2761-4543-8FB8-E48E1CB49B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санна, честь и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didst accept their prai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ept the praise we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all good deligh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good and graciou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песни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теперь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мир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the King of Isra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David’s royal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the Lord’s name com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and Blesse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иля на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а Царь и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имя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рны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pany of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praising The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ortal men and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d make re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ит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eople of the Hebr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alms before Thee w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praise and prayer and anth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e w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с ветвями, с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тречу шла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мс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before Thy 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ang their hymns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now high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melody we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еред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ла дар при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небес си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валу и 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15Z</dcterms:modified>
  <cp:revision>12</cp:revision>
  <dc:subject>Slavic hymnal Гимны веры христиан, hymn 891</dc:subject>
  <dc:title>All Glory, Laud, and Honour / Осанна, честь и слава</dc:title>
</cp:coreProperties>
</file>