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45D-F358-43FD-8572-B8F204F1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D80-6815-4092-935C-27929155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BB0-94F4-4B5C-B577-08D78320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467-EFD3-422A-A78B-FB5258B0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0EC-4D45-4320-9FE9-DD04B63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DFD-63B0-40A9-82C2-819E7E9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27B-51F5-4D5B-8F18-7FB3FCA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105-6367-442C-A279-8476FF5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0D1-B52E-47CD-B2BF-0E26DAE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07A-01BF-43A5-9E0F-BD60CC0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205-F34C-4C80-A747-8AAAF3B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E4D-3AD1-44F9-8A46-A422F1B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5BDCB-8B3D-4EF1-9FE2-FCF2D989E9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Мне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одной покинул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траждет и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уныло и тем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сердце Мне от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 ты, тёмен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де сердцу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и любв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греют горд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, радостно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ст Мне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тяжко од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жизненном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юбил того, кто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ца ты не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рчал Его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не своё от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раздельно, цел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й верой ты призн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Господу от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не ожи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годня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изыв протекши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15Z</dcterms:modified>
  <cp:revision>12</cp:revision>
  <dc:subject>Slavic hymnal Гимны веры христиан, hymn 392</dc:subject>
  <dc:title>Сын Мой, сердце Мне отдай</dc:title>
</cp:coreProperties>
</file>