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A3B5-8438-466A-9886-41C402A39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1782-E056-4E8E-861D-A43C5DB1C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AE8A-ED12-4B6F-B224-8B46441AF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5F0F-FC58-4C6B-B757-4D48C09C6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11B0-9CBF-4ADD-81EC-046D4A807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8A42-F49E-4035-BEB2-BB1999EA4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B572-DFB8-4D5F-8F1C-7EDE7BDBA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2E16-1712-409B-8888-0AF942872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8CFE-83DA-442C-A566-FF4CDDF06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40BD-923B-4898-B439-09D91D4D9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A03C-F266-4D22-9D1D-73F2074CB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9EDF-68AB-4202-A71E-811305B9B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979376-EAA7-46BD-AD11-9A5725A1C3E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3726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вое сердце из тканей жив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милосердный во мне сотвори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тхие мехи желаний плотск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щной десницею Он устран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вое вс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л мне Господ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вое серд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овую жизнь Он мне 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0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овое сердце из ткан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3726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вые мысли — Христовы цвет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вые чувства Его полнот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вая радость и новый псал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вая жизнь с милосердным Христ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вое вс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л мне Господ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вое серд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овую жизнь Он мне 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10172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1013472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шумных домах иль безмолвных поля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1013472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раке полночном иль в звёзд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1013472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ч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1013472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жу ль дворцы я, вхожу ль в шалаши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1013472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ду всё ново для новой душ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101347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1013472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1013472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вое вс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1013472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л мне Господ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1013472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вое серд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1013472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овую жизнь Он мне 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914400"/>
            <a:ext cx="93726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тхое тело осталось одн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уж недолго: сотлеет он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вое тело, бессмертную пло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ст мне навеки Спаситель Госпо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вое вс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л мне Господ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вое серд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овую жизнь Он мне 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914400"/>
            <a:ext cx="93726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вая весть услаждает мой слу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вую землю с сияньем вокру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вое небо без туч грозов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приготовил для верных Сво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вое вс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л мне Господ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вое серд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овую жизнь Он мне 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36:24Z</dcterms:modified>
  <cp:revision>12</cp:revision>
  <dc:subject>Slavic hymnal Гимны веры христиан, hymn 602</dc:subject>
  <dc:title>Новое сердце из тканей живых</dc:title>
</cp:coreProperties>
</file>