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D46-E893-47FE-AB5E-90087E78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8E0-8027-48E5-AEB4-2645B40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B56-7FFC-4523-B1EF-9323576F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507-DFDF-4CC5-9345-9A65AA0C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C4C-C410-45B1-B881-AF217445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55C-08DA-4DFA-AF26-F5A57CD0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5A5-27E5-48DC-B88D-CA23BEE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D1E-B128-45F4-8A7F-615C660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E39-E280-46F5-8FB9-D5AF4125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5C2-E827-4735-8557-735C58E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E3B-1508-4C5D-9C1A-1937523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980-4E71-40D2-86A0-E555758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A7DD-CF67-4019-BCA5-116846746B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ountain’s top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e sacred herald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news to Zion 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, long in hostile l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Thy night been long and mourn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riends unfaithful 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oes been proud and scorn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sighs and tears unm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, thy God, will now rest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appears th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foes shall flee bef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their boasts and triumphs 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shall now att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arfare now is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thy Saviour will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thine at l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8Z</dcterms:modified>
  <cp:revision>13</cp:revision>
  <dc:subject>Slavic hymnal Гимны веры христиан, hymn 511</dc:subject>
  <dc:title>On the Mountain’s Top Appearing / Силой мира облечённый</dc:title>
</cp:coreProperties>
</file>