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A9F-3F00-4452-9A36-98115A22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EFE-DFFE-4E4D-B262-113DFE45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5AC-A866-4E9C-AD8F-53FBADE6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123-CEA9-4F46-8D12-64006FC1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4A1-6A66-48E3-B068-D40D16CE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442-B335-437B-8A50-6FA770EA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7AE-67A2-40D5-B5CA-39B63D39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79D-3DB2-46F3-9B4C-6C33CF67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3BE-05A9-4365-83CC-60FB7FAF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50D-FC89-4015-9859-EC4AF4FA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251-BB5F-43CF-9A91-A23ECD1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AEA-B038-4081-A7FB-89C6E4CC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CD93A-BCD6-4045-949D-55D82B36C6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время: я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Божие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л я: «Всё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о мной падёт ска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ился, рвенья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дом, пахал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дом размыл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а плодов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ло время: я, лику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душой сму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дей на помощь 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работе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овет не помог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ый и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пал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еден я, во мне нет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я не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достигл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к тебе так близок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илой, к помощ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 Мне ты поза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возьми Меня за ру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, много силы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труд, рассеяв м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ершу рукой Свое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я зов 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ся за рук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пошёл на то же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сплод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, чудо! Зреет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ос дом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л мой громкий гол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я с Господом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17Z</dcterms:modified>
  <cp:revision>12</cp:revision>
  <dc:subject>Slavic hymnal Гимны веры христиан, hymn 434</dc:subject>
  <dc:title>Было время: я, ликуя</dc:title>
</cp:coreProperties>
</file>