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82EF-92E3-472B-A567-8A2DBD2A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EFA7-6331-443F-96AC-EC3E0E80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ECF5-1773-4E79-887B-F7DDFF98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3390-DF57-4F83-9320-C08591B12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C34B-BD1C-47B8-8802-DC149184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6497-20D7-4728-88D9-F0BF7F58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B9DF-89DB-4735-8BBC-CB3A0D6A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D02C-4353-45EE-812B-DCE6AE05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E2BE-D5BD-4860-9FF3-FC1A2EB9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7D2B-DE64-47B2-8081-7795ADD7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A92C-4728-4154-8224-F42635A1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10DD-93B6-48E5-AEA1-EBB95DC7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13FE6-BF58-47AC-BBA0-37AE197F31C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is greater by 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any love that I have ever kn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love has captured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 sing with You and I si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91   Your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reaches to the heav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never e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love reaches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surrounded by Your goo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minded of Your mercy da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reach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will never let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re’s no safer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close 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love will never grow c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sing with You and I si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reaches to the heav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never e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love reaches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surrounded by Your goo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minded of Your mercy da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reach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has never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greater love than th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greater sacrifice, no greater gi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just keep loving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who could ask for m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that seeks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es and keeps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no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can’t reach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greater, no hig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All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no place Your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’t reach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greater, no hig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All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no place Your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’t reach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reaches to the heav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never e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love reaches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surrounded by Your goo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minded of Your mercy da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reach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reach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4:54Z</dcterms:modified>
  <cp:revision>12</cp:revision>
  <dc:subject>The Source 4, song number 2191</dc:subject>
  <dc:title>Your Love</dc:title>
</cp:coreProperties>
</file>