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864-2434-4B14-BAE4-7072B687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E33-655E-452B-9B32-C4AD8CE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ADD-B300-47B8-B836-119D19F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3AE-81A8-4210-B9E0-163C5B8E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3FF-84A8-49D7-B4B1-4442751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3B2-0A60-4659-A24F-1D50F846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02B-A44B-4244-B2D7-D54E395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33C-7FA7-40D4-AF72-4B6845CB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548-6ADB-43E6-9390-ABECD6E0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AF9-91A2-468D-845A-6A6443F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BCB-3A2E-481F-8B4E-5F399E3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221-9F68-4889-99EA-2DDB6A5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A9C05-40D6-4E07-8DBE-76DBFF7211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32Z</dcterms:modified>
  <cp:revision>12</cp:revision>
  <dc:subject>Slavic hymnal Гимны веры христиан, hymn 353</dc:subject>
  <dc:title>Из чужого края</dc:title>
</cp:coreProperties>
</file>