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776-BF74-4C22-876E-7C11E0BF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B4A-FA44-426D-BBC9-E3DC1C8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E4A-5F2A-4C94-BAB2-4A9EB453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15D-BB07-4AAF-9611-95859B24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B0C-39BC-49EC-8656-4CF5507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004-ACB1-4B44-884F-C180458C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D8D-7AD0-4A4F-9503-7834F80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F09-3D5C-4A9A-945F-6ADAD92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7C5-A89A-45A1-A774-61A33F6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4FB-D79F-40D1-8DE2-9ABEAA5C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C07-2E2D-4B04-9947-A70558F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FED-556E-45DA-BD39-F26EAD82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B0C5C-2DAF-4F0D-9B19-EB4D9FA821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 наш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 как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ждём, когда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 воспоё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27Z</dcterms:modified>
  <cp:revision>13</cp:revision>
  <dc:subject>Slavic hymnal Гимны веры христиан, hymn 316</dc:subject>
  <dc:title>Мы ждём, когда Спаситель наш придёт</dc:title>
</cp:coreProperties>
</file>