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06E4-4186-49AD-B437-85B7F305C1A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39473-7835-4783-B4E0-9FE938BB30A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007F4-795D-43C4-8CFF-CA968648785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06951-035D-4E24-B7A2-7CD9EA21B54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8307-8C2F-42BB-9A14-00C94283C47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05B1A-D44C-45E9-AA52-16CE5C4E923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CA2F3-BBE2-43D7-B9F8-54D404F285E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A1B78-F15F-4001-B789-D27BB4E09D1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62737-2FF6-45C1-BB3E-6BC8E15FE9F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7AC-E535-4441-B924-DB28AB7C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F2C-CD1E-46BC-8F06-46B66B7D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E79-CF84-400D-A150-E25BE9C5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EA0-6E34-4A4E-AF45-3BEF0041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226-77C8-40FE-848B-5B26B412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883-25EF-480A-A112-E74BF8DE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138-F2FA-4C32-8998-BBBB0671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557-EF83-4109-8C42-942D1C5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D38-6B15-4D5A-A4AF-8113382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A68-3A2E-43B0-B0A3-C3770F9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D5C-DD87-4C56-9C4C-D844E61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2D5-27B1-468D-AEB3-82D5696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8C1EC-E2F4-44C6-AB2B-6901D196BA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, no 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sin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wear the brow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eary feet awaits 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ondrous pave and gol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rts that ache, the angels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ory, sweet and ol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sleep, and those who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e portals n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sions rise beyond the ski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oyful song! Oh, ransomed th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in no more shall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King to see, and, oh,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m at hom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2:34Z</dcterms:modified>
  <cp:revision>13</cp:revision>
  <dc:subject>Slavic hymnal Гимны веры христиан, hymn 668</dc:subject>
  <dc:title>We’re Going Home Tomorrow / Мы все войдём в Отцовский дом</dc:title>
</cp:coreProperties>
</file>