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31E-04A0-4A34-B299-4320D13C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E05-D58E-4042-B7A7-83FC27D6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981-9DB8-462A-9497-E35F6330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416-6AA0-466B-A0BB-905941F4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F06-71AB-48C8-8B3B-5021C838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0CF-5CF3-45E4-91B0-1249852D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831-E989-460D-8DD4-E946679C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9B0-ED28-47E1-AC18-7D8CC9AB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BB5-FBFA-4B12-B0D0-D4510DA6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0B1-18AC-4C32-871F-73C996E1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041-03BD-4F02-BE76-31E8D464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482-0530-4935-8112-B5C8C92D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EA9E3-13BD-49F6-8BD7-AA129B4619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ds of life, words of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us strength, help us cop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world where’er we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cient words will guide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67   Holy Words Long Preser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words of our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nded down to this 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me to us through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eed the faithful words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08Z</dcterms:modified>
  <cp:revision>11</cp:revision>
  <dc:subject>The Source 3, song number 1267</dc:subject>
  <dc:title>Holy Words Long Preserved (Ancient Words)</dc:title>
</cp:coreProperties>
</file>