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53C-4FA0-41A7-94F0-4F927B02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EBE-8B63-49FE-A347-FFCC7358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14E-A736-4D8C-BBC7-6AA1D88F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39A-34DB-4EDB-9A76-C6560797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7B5-D37B-4F18-BA82-4EB308F9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E2E-45CF-46A3-AAB6-7813EF9C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01A-CD37-4A5C-BFEF-B7D7A54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059-E677-4134-AB88-439F0F81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BE0-E7F0-4B63-A617-0F252ABF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72C-B36A-41E3-BCF3-30C41E3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66A-3773-4555-85F0-38AD43B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D91-8B1B-465C-80BF-ADFBF289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925BC-8AAA-4DD9-A0D7-D46805925F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ecious blood I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might’st ransome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ened from the d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Свою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-circled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for earthl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and’rings sad and 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пров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чность ты об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частья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ffered much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thy tongue can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bitt’rest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cue thee from h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род золо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дужны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,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Я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ave brought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from My hom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ardon and M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х муках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зае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же жизн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оды посв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Ему слу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0Z</dcterms:modified>
  <cp:revision>13</cp:revision>
  <dc:subject>Slavic hymnal Гимны веры христиан, hymn 427</dc:subject>
  <dc:title>I Gave My Life for Thee / Я умер за тебя</dc:title>
</cp:coreProperties>
</file>