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6F8-81DD-44A6-B19A-913AC8B1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B5C-FCBE-4D67-B933-5B4997D5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A95-54F6-4BDA-BACF-112313DB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FDF-443A-4D83-AFFC-7304CF7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073-34F9-4653-A740-76EB9C2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4BF-3B79-4A74-970F-25DC3F6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1AA-AFCD-42B6-BB04-AA1035FE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46E-901C-4CD3-A284-0A719356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1E1-0F51-43B8-80CF-F6062F6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2CF-BC7F-4A15-B6CB-7848ACF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D04-A5E2-4325-B6AC-5803313F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E64-8E72-4A46-A7A2-35364AB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5FF49-676C-4818-9BE0-45D11C9340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name I love t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sing its wo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ounds like music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est Nam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a Saviou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His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nner’s perfect p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what my Father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tore for ev’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I tread a darksom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s sunshin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of One whose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eel my deepest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each sorrow bear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one can bear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0Z</dcterms:modified>
  <cp:revision>13</cp:revision>
  <dc:subject>Slavic hymnal Гимны веры христиан, hymn 605</dc:subject>
  <dc:title>O How I Love Jesus / Люблю я слушать об Одном</dc:title>
</cp:coreProperties>
</file>