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787A-843B-4C86-81EA-A12B28D8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32BF-CA7F-4DE6-AD6A-F9FE4F5D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2EC1-B04B-4E03-82A5-A07ED8DF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4F2-6540-46B8-9C19-9782F8CA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0737-DA1A-4D19-8879-C41F953C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80C-0278-4AC0-A735-0C5A6990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9E3-7D98-4142-9A98-4BA02CEA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B200-2241-4587-A5E2-CAFCEB88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6E5C-9EC3-4B44-BF77-2A09F3A2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0342-63DD-4810-A36D-A57B7542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645E-857D-4B72-B7CB-7CF4C747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017-F88C-4B6D-AC09-45687EBD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56A0E-C336-4059-9B3D-E339CE726C5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еять ут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ять слово Бож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день и к зак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а над землё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дать и жат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ора урож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дем сеять ут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ясную ль по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о дни нен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ли то во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и и дожд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е устраш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ерём мы жа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о слез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ять дл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и грудь пор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ышит тяжел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час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а вся созр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4:04Z</dcterms:modified>
  <cp:revision>13</cp:revision>
  <dc:subject>Slavic hymnal Гимны веры христиан, hymn 521</dc:subject>
  <dc:title>Будем сеять утром</dc:title>
</cp:coreProperties>
</file>