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877E-6A86-48DA-B8F6-B800A47F5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C320-C970-42F1-AF87-C29CCDEE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8D40-16D2-455A-9E19-1962A21C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A5C0-984E-4BA1-BE0C-4B17E4BD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6D4C-FC44-4DD0-A119-9F67F015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F89F-95A1-4A1B-A225-5790FD60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EBB4-A437-4FE0-98A0-C1992AD6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FF94-DEAB-4027-9B7B-7F8DAD82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0A30-80A7-4CCD-9CBC-8245C8DB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B052-6394-4BB3-A5D1-727326CF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E3BE-3B8A-4D6F-A6E3-7242DFA0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D69A-794A-44E1-A83B-8F839E0B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ECE6A-607C-4CDF-A658-CD43DD168A6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iftly all our days go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vanish without t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soon as one day runs its cour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takes it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скоро дни летят вперё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коро дни летят вперё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лышной черед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день один к концу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настаёт дру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all who knew and trusted Chri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iding in H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promised vict’ry o’er the gr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lessed peac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л, уповал, люб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бывал с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Христос чрез мрак мог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ёт в Свой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inal hour of life will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must leave this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enter my eternal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which I’ve yearned since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обьёт и для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ий час жи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у после обитат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ано Богом зн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no doubts, for I bel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at the final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not fear nor be dismaye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Christ has made me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ердца верю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от Господний 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ет страшен для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ввек Хрис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at awaited moment 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must leave this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member, Lord, among You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servant, saved by gra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настанет жданный ми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таться мне с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помни между слуг Т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ого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40Z</dcterms:modified>
  <cp:revision>13</cp:revision>
  <dc:subject>Slavic hymnal Гимны веры христиан, hymn 735</dc:subject>
  <dc:title>How Swiftly All Our Days Go By / Как скоро дни летят вперёд</dc:title>
</cp:coreProperties>
</file>