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69</a:t>
            </a:r>
            <a:r>
              <a:rPr b="1" lang="ru-RU" sz="3600" spc="-1" strike="noStrike">
                <a:solidFill>
                  <a:srgbClr val="ffffff"/>
                </a:solidFill>
                <a:latin typeface="Verdana"/>
              </a:rPr>
              <a:t>	</a:t>
            </a:r>
            <a:r>
              <a:rPr b="1" lang="ru-RU" sz="3600" spc="-1" strike="noStrike">
                <a:solidFill>
                  <a:srgbClr val="ffffff"/>
                </a:solidFill>
                <a:latin typeface="Verdana"/>
              </a:rPr>
              <a:t>Братья, все ликуйт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ратья, все ликуй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ный день наст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ёстры, торжествуй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радость 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когда чужи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еперь друз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зкими мы ста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ыне приступи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к Синаю м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уж не пугаю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ы, молни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благодат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м со кре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паслись от гне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рой и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еперь жив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мыты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есам и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лая надеж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елит серд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м жить во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01:13Z</dcterms:modified>
  <cp:revision>4</cp:revision>
  <dc:subject>Slavic hymnal Гимны веры христиан, hymn 569</dc:subject>
  <dc:title>Братья, все ликуйте</dc:title>
</cp:coreProperties>
</file>