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AD4-21C0-4EFD-BB52-B9562D21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467-8ED0-4E31-9924-FCC083AF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901-8325-46EE-B75D-937A86C5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C8C-9D6C-4D89-8945-7E1A4799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A79-74C4-4700-8105-C5A7DB8A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7FE-6F3D-47A7-B638-C3E5A95A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CFE-A0C7-42FB-A152-C25FD10A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76B-784E-4612-9C6F-F0DE0968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E49-F9C6-4580-88A1-84ACC323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556-1BC3-4129-B404-F9E14B4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FDF-988F-4C9E-8C0C-92C5CDEE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3EC-458E-4EAF-9BDC-12859A1C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5ACFF-52E1-4438-9D04-AEC7EE7BE9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music fad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s stripp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simply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ing just to b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mething that’s of 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ill bless Your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смолкнет вс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молкнет вс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иши утонет зву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к Тебе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ести хо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сердца мо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жную хва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bring You more than a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song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ot what You hav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search much deeper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the way things app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’re looking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е я песню п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е просто, чтоб с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дь Ты не этого жд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знаешь мысли м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мне не скр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видишь сердце мо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coming back to the heart of wor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orry, Lord, for the thing I’ve made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озвращаюсь сердцем в покло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лоненье Тебе, только Тебе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ти, что я допустил сом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теперь для Тебя, всё для Тебя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ing of endless wo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one could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much You de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I’m weak and p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 have is You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 single br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агоценный Ца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ыразить т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го достоин 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ден я и сла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сё, что есть — Тво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же просто вздо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bring You more than a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song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ot what You hav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search much deeper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the way things app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’re looking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е я песню п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е просто, чтоб с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дь Ты не этого жд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знаешь мысли м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мне не скр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видишь сердце мо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coming back to the heart of wor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orry, Lord, for the thing I’ve made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озвращаюсь сердцем в покло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лоненье Тебе, только Тебе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ти, что я допустил сом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теперь для Тебя, всё для Тебя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26T20:47:59Z</dcterms:modified>
  <cp:revision>12</cp:revision>
  <dc:subject>The Source, song number 576 in Russian</dc:subject>
  <dc:title>Когда смолкнет всё / When the Music Fades (The Heart of Worship)</dc:title>
</cp:coreProperties>
</file>