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BD0-32FB-4530-AFD0-B03A7406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A15-B89B-483B-A123-260E2466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CF8-0213-408F-9F64-5DCBAFC8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D08-8F10-4E37-B85A-4658A2F1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BC3-3983-4DA5-961B-7FF2FE8E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4FF-0B57-443C-AF8F-ADB6AD5D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6FB-9588-457A-9C1F-1EA6B3A6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FBF0-2687-478E-90CC-4FEDBF8D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A6F-9AE0-45B6-BDCF-61E2ACA2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E3A2-25CA-46E2-A0CD-AF26F069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E0C-668B-4A7F-8834-BD7692D0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08A0-9264-4A9E-94B2-D1FE1760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FA38F-05EF-42FA-9F4F-C8769572E6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shore of Jordan’s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xpectation we a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faith we see the sh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our new and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у берега зем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 берега зе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бурною ре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 берег жизни 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he sun in radiant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ws the new Jerusal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s of praises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precious, priceless 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еске солнца виден пыш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ятой Иерусал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радости там слыш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язык неизъяс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saints their race have fin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ssed the Jordan with a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, too, shall cross that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y soon we’ll a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уж многие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шли к тем бере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ядут часы благ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мы все 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es of death engul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beyond its deathly th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the kingdom of the bl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end of all our w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мрак смерти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а далью непо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вечного пок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ства свет на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7Z</dcterms:modified>
  <cp:revision>14</cp:revision>
  <dc:subject>Slavic hymnal Гимны веры христиан, hymn 685</dc:subject>
  <dc:title>On the Shores of Jordan’s River / Мы у берега земного</dc:title>
</cp:coreProperties>
</file>