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8E08-43E7-4099-A21C-6FCAC6A7A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A545-68FA-4933-AC07-87E0597B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D1CF-9393-494D-AEE2-0C985482B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4AEA-04E9-41C4-B6BC-612DB0C9D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D74A-DAF8-4FDA-8153-38D51FB5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05D1-A402-49FA-B9FF-65D65696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1E0D-18EF-4C72-AA26-E2F35B00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703E-6451-451F-967D-6D498563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92F0-74CE-4569-A9E2-67F7641A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6A54-2B94-4EF1-82C0-EC6D943E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755D-A9A5-45DB-ABDB-56DDA7B5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ACA6-C55D-4BAC-996C-5568A109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6B1B47-8639-4E6E-AA71-D8A1C912D06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 скиталец, вдали на чужби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ько тебе, ты один, как в пусты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одины голос Иисуса зовёт т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и при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и при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0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едный скитал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твой усталый, как отдыха жаж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истомился, и стонет, и стражд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шь ли голос с небес: «У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и при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и при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больное утешить Он мож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ы твои исцелить все Он хоч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е противься, Он громче зовёт т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и при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и при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ье и горе земное мину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Он в жизни и смерти дару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вечный манит тебя, о, спе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и при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и при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4:27Z</dcterms:modified>
  <cp:revision>12</cp:revision>
  <dc:subject>Slavic hymnal Гимны веры христиан, hymn 403</dc:subject>
  <dc:title>Бедный скиталец</dc:title>
</cp:coreProperties>
</file>