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7216-172B-44C5-9D00-81D908E1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68B-AB9E-4F7C-9C6B-A6F96153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11D-EFCE-4A45-9589-19D3C0A1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E51-59CF-4BAF-AD10-0680E64C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A36-79E2-48D3-A74A-972434F0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B05-92F2-4BA6-80F0-403B7B88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B79A-E63E-4131-B9F3-9A962248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3A6-9E2A-423E-8803-479DBFD5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4AA-C4DE-4AF8-AA01-05849CD6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682F-27AD-48D8-BE77-B165F260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819-2905-4769-A749-A71F0F20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BD9E-E5E4-430F-A73F-26551C2C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895DF-B967-442C-81D4-205085FD41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the Lord is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Lord and King ad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tals, give thanks and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iumph ever 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те во Хри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побе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ечной прост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agai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e Saviour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od of truth and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had purged our st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ok His seat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, слава, 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адлежат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победивши смер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ёл на выс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agai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kingdom cannot f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rules o’er earth and hea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eys of death and 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to our Jesus giv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ёл, Владыкой с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небом и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мерть и ад попр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аёт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agai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in glorious hop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e judge shall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ake His servant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ir eternal h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, ждит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бранных с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возьм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agai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0:03Z</dcterms:modified>
  <cp:revision>12</cp:revision>
  <dc:subject>Slavic hymnal Гимны веры христиан, hymn 882</dc:subject>
  <dc:title>Rejoice, the Lord is King / Ликуйте во Христе</dc:title>
</cp:coreProperties>
</file>