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6</a:t>
            </a:r>
            <a:r>
              <a:rPr b="1" lang="ru-RU" sz="3600" spc="-1" strike="noStrike">
                <a:solidFill>
                  <a:srgbClr val="ffffff"/>
                </a:solidFill>
                <a:latin typeface="Verdana"/>
              </a:rPr>
              <a:t>	</a:t>
            </a:r>
            <a:r>
              <a:rPr b="1" lang="ru-RU" sz="3600" spc="-1" strike="noStrike">
                <a:solidFill>
                  <a:srgbClr val="ffffff"/>
                </a:solidFill>
                <a:latin typeface="Verdana"/>
              </a:rPr>
              <a:t>Боже славы и спасень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God of grace and God of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y people pour Thy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rown Thine ancient church’s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 her bud to glorious flower.</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славы и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арод пролей Твой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и, церкви и служен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пасительный расцвет.</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us wisdom, grant us cour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rving Thee Whom we ad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rving Thee Whom we adore.</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послушными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послушными во всём.</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us wisdom, grant us cour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facing of this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facing of this hour.</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блюдать лишь Твой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блюдать лишь Твой заве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Lo! the hosts of evil ’roun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corn Thy Christ, assail His w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fears that long have bound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ee our hearts to faith and prais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ражьи силы выступ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тив Господ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ужество свят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валенья и труд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us wisdom, grant us cour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living of these d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living of these days.</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нести во все м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нести во все мест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ure Thy children’s warring m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nd our pride to Thy contro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me our wanton selfish gl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ich in things and poor in soul.</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вой народ храни от расп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у гордость обуз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ыди исканье вла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овершенству направля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us wisdom, grant us cour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st we miss Thy kingdom’s goa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st we miss Thy kingdom’s goal.</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сердцем новый 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сердцем новый ра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Set our feet on lofty plac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rd our lives that they may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moured with all Christ-like grac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e fight to set men fr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озведи нас на выс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другим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нам в сердце б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 любовью победи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us wisdom, grant us cour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we fail not man nor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we fail not man nor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му не повре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му не повредить!</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Save us from weak resign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evils we depl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the search for Thy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our glory evermor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Сохрани от согла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беззаконьем и гре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идти путём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 небесный, вечный дом.</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8:56Z</dcterms:modified>
  <cp:revision>3</cp:revision>
  <dc:subject>Slavic hymnal Гимны веры христиан, hymn 136</dc:subject>
  <dc:title>God of Grace and God of Glory / Боже славы и спасенья</dc:title>
</cp:coreProperties>
</file>