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7FA-5089-40F2-88CA-06B37CEE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24C-069D-4B54-B9B8-64F6D274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FDE-DBF1-4367-9136-5A7DFFF7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ECD-468B-49E4-AE89-45752CDD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035-756F-4FE4-8644-B1E6726E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DC5-BD64-4556-8C70-85167883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052-15B5-489F-9EA8-3D7CCBAF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FF4-4B0C-475E-922D-555BF3F8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B44-D737-46C7-A1CC-17F64269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623-519A-41F7-8488-28686B6C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55C0-6721-4767-9569-8FF73C31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4BB-46FD-4630-B67F-CB5DF4B8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C1892-32E6-427C-95D4-756F0AA9C3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сгущается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ым становится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корби души и у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амень, ложатся на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вает, сгущается т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так тянется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и кости бол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дует душу и взгл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лы благодатная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к небесной Ск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адость и скорби м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хожу ль на высоты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ду ль одиноко во мг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9:49Z</dcterms:modified>
  <cp:revision>13</cp:revision>
  <dc:subject>Slavic hymnal Гимны веры христиан, hymn 844</dc:subject>
  <dc:title>Бывает, сгущается тьма</dc:title>
</cp:coreProperties>
</file>