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8B4-2688-4BE8-ACBE-A3FF6910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4B6-ED2B-4EAC-BFDA-FF92942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BA2-EF51-4571-A4E9-45321867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51B-27BC-47CE-A061-C3F4A527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48A-AAC8-463C-A3C4-99CD7A2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009-A707-4180-A98F-0CC59B1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349-2275-493C-BA89-8DF4599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05A-4C9F-443F-B529-B86C144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672-622B-41BC-B764-C9B792A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D1F-620B-44AB-A39C-FE9FD51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72F-D9AC-40BE-BF71-FE02E16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264-84BF-4D9E-B6B8-5A2C83F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4846-1034-4E0C-8A4C-11955CC913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, Lord,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Thee! None but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through life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rpest pains my frame perv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s of nature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will I sing through death’s cold sh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for me the wine-pres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redeemed me “by His bl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onciled my soul to G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I envy not the rich their j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vet not earth’s glittering t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can no lasting bliss best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ing” is stamped on all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a joy no end can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the poor be cast my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knoweth best,”—I murmur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“vine” and “fig-tree” blight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labour of the olive fail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o’er flock and her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now on hostil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 beset me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arth her fiercest battles w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gainst my soul eng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in His strength, I scorn their 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life draws to its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His arms I shall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6Z</dcterms:modified>
  <cp:revision>13</cp:revision>
  <dc:subject>Slavic hymnal Гимны веры христиан, hymn 578</dc:subject>
  <dc:title>Whom Have I, Lord, in Heaven? / Кто есть на небе у меня?</dc:title>
</cp:coreProperties>
</file>