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958-2537-48E9-8FA1-3D023F2C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284-8947-49B7-B66F-B116EDF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911-8FB4-49AC-8F19-A27D07D4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4DA-8235-413D-AA13-9E2D3960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767-A92D-48D8-88FE-815B6A44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74F-DF4A-452B-8A67-147AAA0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078-732A-4BB1-BB98-0546F10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F47-27DC-42B0-B02E-7D9BE86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146-891C-4392-AF09-58283D7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E53-1064-4582-85C3-61ACBD4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F68-85D7-45D5-A988-33C7225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337-2FD2-417E-846F-494C2AB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68AC-0BB5-4B77-862D-0C94314A89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fountain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 world of sinners revea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dear Son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by His stripes we are h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’ve wandered far from His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o my heart pain and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rny was the crown that He w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cross His body o’er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ievous were the sorrow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suffered thus not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to that fountain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to cleanse my sin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that H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I have wandered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ten has my heart gone ast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mson do my sins seem to m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 cannot wash them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o the fountain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y promise, I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by Thy washing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1Z</dcterms:modified>
  <cp:revision>13</cp:revision>
  <dc:subject>Slavic hymnal Гимны веры христиан, hymn 431</dc:subject>
  <dc:title>Whiter Than Snow (Blessèd Be the Fountain of Blood) / Кровь Свою Сын Божий пролил</dc:title>
</cp:coreProperties>
</file>