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324-FE72-4402-B377-D03933D0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F254-E345-4110-AAF8-BF8BE9A6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38D-84B4-4E91-A1A9-80C0DBCA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FE91-4137-4712-82A5-EE927D1C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876-2D16-4977-A381-0411A05B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84FF-3735-40A6-B63B-8BE88814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0681-BAE2-4C48-86B8-C57C2A0A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9E3-09BE-48F5-B141-3FEB0BA7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C16-DC77-4539-AD2E-94D13BC1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DB59-939D-4E3A-A236-BE870B9D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BDB-EA05-42A0-8363-D99BE81F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63E-107E-435A-8B47-6CF3C18F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ED2D2-C868-481E-9DF1-8516624B84A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side of the river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saints, all immortal and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robed in their garments of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чизна моя в небес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й стремится и рвётся душ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ятые в бессмертных лу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труится живая ре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is now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kindred and friends are at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way from my sorrow and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fly to the land of the bl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еня ждёт в небе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готовит обитель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ых мирный на злачных луг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светлом, блаженном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is now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is now over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oon be at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end of my journey I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dear to my heart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watching and waiting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коро мне быть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ится путь мой зем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не встретятся в райских вра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, что верою жил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oon be at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oon be at home over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52Z</dcterms:modified>
  <cp:revision>13</cp:revision>
  <dc:subject>Slavic hymnal Гимны веры христиан, hymn 692</dc:subject>
  <dc:title>The Home Over There / Отчизна моя в небесах</dc:title>
</cp:coreProperties>
</file>