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71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1</a:t>
            </a:r>
            <a:r>
              <a:rPr b="1" lang="ru-RU" sz="3600" spc="-1" strike="noStrike">
                <a:solidFill>
                  <a:srgbClr val="ffffff"/>
                </a:solidFill>
                <a:latin typeface="Verdana"/>
              </a:rPr>
              <a:t>	</a:t>
            </a:r>
            <a:r>
              <a:rPr b="1" lang="ru-RU" sz="3600" spc="-1" strike="noStrike">
                <a:solidFill>
                  <a:srgbClr val="ffffff"/>
                </a:solidFill>
                <a:latin typeface="Verdana"/>
              </a:rPr>
              <a:t>Отец Небесный и Господь</a:t>
            </a:r>
            <a:endParaRPr b="0" lang="en-US" sz="3600" spc="-1" strike="noStrike">
              <a:solidFill>
                <a:srgbClr val="000000"/>
              </a:solidFill>
              <a:latin typeface="Verdana"/>
            </a:endParaRPr>
          </a:p>
        </p:txBody>
      </p:sp>
      <p:sp>
        <p:nvSpPr>
          <p:cNvPr id="39" name=""/>
          <p:cNvSpPr/>
          <p:nvPr/>
        </p:nvSpPr>
        <p:spPr>
          <a:xfrm>
            <a:off x="360360" y="287280"/>
            <a:ext cx="936000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Dear Lord and Father of mank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give our foolish wa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clothe us in our rightful m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purer lives Thy service f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deeper reverence, praise.</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ец Небесный и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нам все грех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зло могли мы поборо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несли достойный пл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зде нам помог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287280"/>
            <a:ext cx="936000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In simple trust like theirs who hea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side the Syrian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gracious calling of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like them, without a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ise up and follow Thee.</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дай нам с детской просто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имать словам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ить мир с его тще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чистой, радостно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за Ним всегд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287280"/>
            <a:ext cx="936000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Drop Thy still dews of quiet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all our strivings cea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ake from our souls the st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nd str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let our ordered lives conf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eauty of Thy peace.</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сподь, небесною рос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ягчи упорство в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бури сердца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у нам являть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а во всякий ча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287280"/>
            <a:ext cx="936000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Breathe through the heats of our desi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coolness and Thy bal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sense be dumb, let flesh reti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 through the earthquake, w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nd fi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still, small voice of calm.</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Желаний пламя ост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хладой не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оть усмири, дух возб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рез пламя, бурю и дож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лышать голос Твой.</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10:22Z</dcterms:modified>
  <cp:revision>3</cp:revision>
  <dc:subject>Slavic hymnal Гимны веры христиан, hymn 181</dc:subject>
  <dc:title>Dear Lord and Father of Mankind / Отец Небесный и Господь</dc:title>
</cp:coreProperties>
</file>