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B84-1D14-4FE0-A141-EF25CF64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7F4-EE27-4AA8-8117-4048C3AB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E8F-ACFF-4D69-B404-08CCA97C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032-CD5B-4481-8729-557BAB53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015-448E-4B4E-A769-2D290219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119-CDB0-4E71-BD52-66D535D1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BCB-B761-4406-B883-ECCA0890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9B5-BA4B-4482-86E8-7FE9109C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B03-C872-4CD5-A269-6093DCD2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733-F7CC-4E17-AC38-E0808E70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270-DE47-43F7-A1EE-E2509F54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022-965C-42C0-AEED-48E2CC66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CAF9B-976E-4B55-BCD7-3EF544E240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daylight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noonday gl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fading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in the solemn n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shall the harvest be?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ется семя на ранней за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ранней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полдневной ж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как ляжет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уж кончен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100584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wayside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on the rocks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where the thorns will spo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in the fertile so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shall the harvest be?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торной тро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гол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колючих к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паханных бороз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страданий и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мучительных гр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позора,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обид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with an aching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while the tear-drops st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in hope till the reapers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to gather the harves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shall the harvest be?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ердце бол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лёзы блес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вере до славной п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обирать уж начнут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3Z</dcterms:modified>
  <cp:revision>13</cp:revision>
  <dc:subject>Slavic hymnal Гимны веры христиан, hymn 539</dc:subject>
  <dc:title>What Shall the Harvest Be? / Сеется семя на ранней заре</dc:title>
</cp:coreProperties>
</file>