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B30-1CB6-4872-A556-9255184A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8F0-53C5-48B8-BF7C-08BFF8D2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1EB-4624-4D16-8F4E-E753121B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079-BA02-4703-89AA-D9DDED2A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E34-FBE6-4CA1-9DC1-A39CEA65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732-4B11-414E-BC88-9FC6AB0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F6A-6706-4588-96E1-029CA97F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EFF-5E84-4A96-8B93-CE3950C2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C31-0789-4DFB-BF2F-326ACFA3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F05-2FCE-491F-8B6E-5287E43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5F6-5351-4C4C-B491-C0EBF40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3C8-4156-4B67-B391-C01F2B1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EE466-CEBE-4FD2-A9F3-1A0E55331B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итель стражд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одно,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байдуже стоїш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кров проли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7   Чи тобі все од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на Голгоф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уми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провин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ебе Він уз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кого ж Він вмир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и думав про 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ріхи Він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лага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упитель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в Царство теб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евжеж в своє сер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ймеш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ближається вічніс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умай про 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уді, знай, ніх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ступит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ануть всі перед бі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столом Христ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ж тоді ти сховає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чисті ді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18Z</dcterms:modified>
  <cp:revision>12</cp:revision>
  <dc:subject>Slavic hymnal Гимны веры христиан, Ukrainian hymn 77</dc:subject>
  <dc:title>Чи тобі все одно?</dc:title>
</cp:coreProperties>
</file>