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DA5-EEEF-4EFB-A62A-6765DACC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9CD-A07C-473D-8EF9-115735A6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A12-CF72-41D9-9321-13A768AA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A3F-FBD5-4B45-8F05-CC820CC8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FA1-2A9C-4D6E-AAF2-E8F1B31B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D99-0132-4BAC-B42B-548C2B88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C09-499C-4C3A-A883-D51E73CF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2F7-8B0B-41C0-8899-D4686FD0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626-02E7-421B-B638-FFABF678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01F-D0BB-4ACC-9B59-1913CFB7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293-9BA4-4488-B968-8D810839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F97-200D-4621-9B8C-A483DFB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7065E-4AB0-45E6-A2A7-82731124D0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feel the mountains trem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hear the ocean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eople rose to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the risen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feel the people trem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hear the sing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lost began to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the saving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0   Did You Feel the Mountai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can see th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mighty river through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ng and old will turn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ing wide, you heavenly ga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the way of the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the door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music p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treets resound with s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ncers who dance upon injus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o you feel the darkness trem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e saints join in on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streams flow as on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ash away our broken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can see th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time of jubilee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ng and old will turn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ing wide, you heavenly ga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the way of the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the door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music p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treets resound with s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ncers who dance upon injus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26Z</dcterms:modified>
  <cp:revision>10</cp:revision>
  <dc:subject>The Source, song number 80</dc:subject>
  <dc:title>Did You Feel the Mountains Tremble?</dc:title>
</cp:coreProperties>
</file>