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44493-46D5-41B8-B95B-CBF62B229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DAFC5-BFC5-47FB-9D50-46A60CE28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77C69-A627-4C73-8185-7D4429A8A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6F973-2047-49F8-B67A-CE6BF2C58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C6A60-BC9A-4BAF-A20C-E5A2C7BC4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2B2DF-5A80-4A6C-88DE-96C5F377D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538CE-3656-400B-B490-FFE03DB99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F6CC4-9FFC-4077-BB11-4151B99D2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E8C6F-6C7E-468F-BAC2-531908802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B02A5-9963-45B2-86E0-D3D43422C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4540F-4294-4DAE-ABA6-B538BAA2C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376F5-BD58-48B9-B686-FDCD22759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3B5CDB-D205-4E6B-8341-9F9CF808A5EA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труду ведь я призван на земл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борьбе с своей плотью и зл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вражде ко всему, что греховн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к жизни в любви со враг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ражаться со всяким кумир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глядя на робких друз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идетелем быть перед мир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уда не бояться люд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52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К труду ведь я призва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ить не любовью мирск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ить же любовью Хрис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Сам, не щадя Своей жизн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дал Себя муке кре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воин небесного град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не славы не надо земно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десь слёзы, печаль, посрамленье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будет венец золот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труду ведь я призван на земл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борьбе с своей плотью и зл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вражде ко всему, что греховн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к жизни в любви со враг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0:32:58Z</dcterms:modified>
  <cp:revision>12</cp:revision>
  <dc:subject>Slavic hymnal Гимны веры христиан, hymn 452</dc:subject>
  <dc:title>К труду ведь я призван на землю</dc:title>
</cp:coreProperties>
</file>