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2A8A-64DB-4339-B816-C9E9AD45A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1EF4-45CA-45AA-9616-994D2853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D038-1E08-47A8-B264-B4DD040CB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C26F-82D4-4B6E-8362-B98842E75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CC1E-A8F0-47B4-83AC-B97F72B8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7075-4851-40F6-80BB-2FC9EA6A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7FB0-E606-4C80-B952-AEAF2658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A0C3-8152-4D4F-9FC2-D75CF819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4E49-6905-4DDD-AC86-6F5067B4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9E8F-2BA9-4A92-B5C5-E944F8D1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B48D-D23E-438D-9A18-92CFEAFA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B936-F267-47D0-8F77-F931BB30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28277D-4DC8-4468-87BE-03F32E6FF91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 я пришёл утром в са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шина. День будет погож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началом дня свет проник в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лся мне Сын Бож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еперь со мной, говорит с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ывает меня Сво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осторгов тех, что даёт Он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огу передать друг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дин я пришёл утром в са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ворит Он с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олкают песни зем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удесный гимн о Его люб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ит мне и в пусты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еперь со мной, говорит с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ывает меня Сво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осторгов тех, что даёт Он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огу передать друг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ел бы остаться в са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царит покой безмятеж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к труду зовёт и чрез шум невз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лышен голос неж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еперь со мной, говорит с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ывает меня Сво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осторгов тех, что даёт Он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огу передать друг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43:21Z</dcterms:modified>
  <cp:revision>12</cp:revision>
  <dc:subject>Slavic hymnal Гимны веры христиан, hymn 848</dc:subject>
  <dc:title>Один я пришёл утром в сад</dc:title>
</cp:coreProperties>
</file>