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CC1-84D7-4285-9C55-3DE44482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2A1-B971-43AE-BF20-99F23DF1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D63-3AF9-462B-89F7-B26979AC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B6E-A370-4A18-AFBA-2C9FC060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E4C-BBB2-452B-9EC5-1A35FFA5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BC5-F17F-47E1-828D-4F9957C1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5FC-9D7A-4647-9BE3-F164D33E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8FA-1B00-4B95-9097-5FABFC12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920-ED2F-4356-B197-A058D020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151-147F-4C14-9E7A-A56371E6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FBD-5962-4DB4-B41E-AB34401E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C04-58A6-48CB-932E-114B1E74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7ADE6-3F89-4206-B96D-C4EFFA7105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ou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made a w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de a w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lives inside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ruth is life to all wh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e to all who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2   Your Love Reaches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death is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pow’r can stand against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aith, we will rise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s and feet to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e to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10:20Z</dcterms:modified>
  <cp:revision>12</cp:revision>
  <dc:subject>The Source 4, song number 2192</dc:subject>
  <dc:title>Your Love Reaches Out to Me (Kingdom Come)</dc:title>
</cp:coreProperties>
</file>