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25F-ACCF-4644-AE1E-CC33BF0E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738-8031-4D09-9326-9D761749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594-CDEE-49B1-A9E3-AD0CB46A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B70-A05C-4BB0-8C18-A6567BFA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98D-3464-4C77-BDEB-E301733B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F55-4753-4B8D-8F26-B9D5DABA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2EA-C8E5-4428-9E69-3685D217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2F5-AD1A-4E09-AFAC-ABE16880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4A9-F986-42A2-90DE-B407697F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973-B5FC-4AE1-A78E-BC086C68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FB8-A8B0-457C-85F8-B2E9CD5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7C8-E7A4-4222-9D94-32F6239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24F83-162F-4159-A7EF-262E784E88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итя в хлеву чуж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охра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поёт о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астухи вним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итя в хлеву чуж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яслях Он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вцам корм да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ий мог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ить свои печ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 дар золото, ла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у принес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пред Ним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сердца отв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7:06Z</dcterms:modified>
  <cp:revision>15</cp:revision>
  <dc:subject>Slavic hymnal Гимны веры христиан, hymn 800</dc:subject>
  <dc:title>Что за Дитя в хлеву чужом?</dc:title>
</cp:coreProperties>
</file>