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0AD-3124-4EE1-99AF-0773D771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3A6-D33F-4DEB-9D07-DF198CE4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C2F-7F4A-4B8D-87FF-07EAF1A3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609-1697-4EC4-9814-F0748524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2B4-AE27-4CDC-BD31-5D29C27D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EBA-9D15-4D64-8ABC-8E9E5BB3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13B1-BB2D-49A2-92D7-2CE64F6C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5BB6-28C3-4224-8C49-CAE1E93C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057-494E-45DA-AFFB-8BC94E03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8B9-E124-48AA-A394-F3151554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E5F0-68BB-48D3-BF09-3EC52840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C3D-C13B-43D4-854E-5E7E6EF2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59F95-2546-47CF-8562-14EE3D3064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тільки є д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є щ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, хто спас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ю новину не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3   О, скрізь розголосі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ч темна вже м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ння Зоря зій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ьму розганяє вж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ічний наст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ство гріхи лиш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ходить до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скоро Цар ца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е з небес дол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и забрати нас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тих, котрих Він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хай труба звуч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голос чути скріз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лика це люб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нас Спас 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нас спасти з грі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ти нам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лава Бог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н спас і ме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0:59Z</dcterms:modified>
  <cp:revision>12</cp:revision>
  <dc:subject>Slavic hymnal Гимны веры христиан, Ukrainian hymn 93</dc:subject>
  <dc:title>О, скрізь розголосіть</dc:title>
</cp:coreProperties>
</file>