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539640" y="395280"/>
            <a:ext cx="899964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Пр 48</a:t>
            </a:r>
            <a:r>
              <a:rPr b="1" lang="ru-RU" sz="3600" spc="-1" strike="noStrike">
                <a:solidFill>
                  <a:srgbClr val="ffffff"/>
                </a:solidFill>
                <a:latin typeface="Verdana"/>
              </a:rPr>
              <a:t>	</a:t>
            </a:r>
            <a:r>
              <a:rPr b="1" lang="ru-RU" sz="3600" spc="-1" strike="noStrike">
                <a:solidFill>
                  <a:srgbClr val="ffffff"/>
                </a:solidFill>
                <a:latin typeface="Verdana"/>
              </a:rPr>
              <a:t>Слава Господу!</a:t>
            </a:r>
            <a:endParaRPr b="0" lang="en-US" sz="3600" spc="-1" strike="noStrike">
              <a:solidFill>
                <a:srgbClr val="000000"/>
              </a:solidFill>
              <a:latin typeface="Verdana"/>
            </a:endParaRPr>
          </a:p>
        </p:txBody>
      </p:sp>
      <p:sp>
        <p:nvSpPr>
          <p:cNvPr id="39"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Слава Господу, слава Господу,</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лава Господу в небесах!</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лава Господу, слава Господу,</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лава Господу в небесах!</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Аллилуйя, аллилуй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лава Господу в небесах!</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Аллилуйя, аллилуй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лава Господу в небесах!</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0"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Иисус победил, Иисус победи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исус победил сатану.</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исус победил, Иисус победи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исус победил сатану.</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Аллилуйя, аллилуй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исус победил сатану.</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Аллилуйя, аллилуй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исус победил сатану.</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Скоро Он придёт, скоро Он придё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коро Он придёт взять мен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коро Он придёт, скоро Он придё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коро Он придёт взять мен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Аллилуйя, аллилуй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коро Он придёт взять мен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Аллилуйя, аллилуй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коро Он придёт взять меня.</a:t>
            </a:r>
            <a:endParaRPr b="0" lang="en-US" sz="3200" spc="-1" strike="noStrike">
              <a:solidFill>
                <a:srgbClr val="000000"/>
              </a:solidFill>
              <a:latin typeface="Verdana"/>
            </a:endParaRPr>
          </a:p>
        </p:txBody>
      </p:sp>
      <p:sp>
        <p:nvSpPr>
          <p:cNvPr id="42"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6-19T04:02:47Z</dcterms:modified>
  <cp:revision>3</cp:revision>
  <dc:subject>Slavic hymnal Гимны веры христиан, chorus 48</dc:subject>
  <dc:title>Слава Господу!</dc:title>
</cp:coreProperties>
</file>