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C59-1DA3-477F-BCF6-5A272B19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BE9-68CA-40DB-AF36-0191E6D2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BC0-1AF0-4E84-8CF6-CDD6434C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8C1-BBEC-487D-AF86-BAC81518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93F-F606-45F3-9280-791B494E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1D8-9683-403C-9335-F1C56F33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DAF-9A41-448A-8581-5E41F71B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C4A-811C-488C-B55A-02C2DEBF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EDA-E402-49E7-B864-B025820D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BC2-6C2D-46A6-A058-FB385E69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E36-21CD-4746-B119-5954C083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74B-AC6B-4A88-A0B1-8ED162FE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CA71E-0C4F-45E5-B666-7BC2D03F36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my list’ning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nature sings, and round me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usic of the sph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ня вся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и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ё кругом поёт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ом любв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me in the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ocks and trees, of skies and se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and the wonders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изда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ассивах гор, в красе оз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rds their carols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light, the lily wh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clare their Maker’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блюдать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еск зарниц и пень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ят Ему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ines in all that’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rustling grass I hear Him pa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 to me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реньи виден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уг небес и луг и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Его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me ne’er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gh th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s oft so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the Ruler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за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мире зло везде вош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у Суд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ttle is not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o died, shall be satis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 and heav’n b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 кончен 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—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6:57Z</dcterms:modified>
  <cp:revision>12</cp:revision>
  <dc:subject>Slavic hymnal Гимны веры христиан, hymn 832</dc:subject>
  <dc:title>This is My Father's World / Господня вся земля</dc:title>
</cp:coreProperties>
</file>