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CCD-6CF0-4599-A7C9-3AA0A6F0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6D3-C40B-4C5A-8773-752673DA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AAC-1DFC-4B4E-93A0-5B281FFD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7202-7A93-4F07-8D14-1349A3FC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199-FF56-4682-9E2D-4405F427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916A-AFB9-40AD-A390-9A2B8988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0E6-39A8-4628-8A39-5AE37E1A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C20-ACF7-4396-BB45-725227BA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E7C-6FCB-4714-8BDB-4537486D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A33C-3D49-4755-9CDB-C4F99939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D9B-3F2A-4AD3-87E9-86A90029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E30-8B29-496A-97A1-3AB3884A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CA526-7DE6-42EB-83BD-FEB0A95F484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 I a soldier of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ollower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I fear to own His ca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blush to speak His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я ли в воинстве Хрис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я ли в воинстве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ю жизнь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хочу ль я скорбь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радостно де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be carried to the s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flowery beds of 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thers fought to win the pri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ailed through bloody s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капли крови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оз ли мне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от, хотят чрез ров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ль в страхе отста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there no foes for me to 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not stem the f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his vile world a friend to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lp me on t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а ли нет перед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лышу ль зов к борь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мир красивой суе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анит меня к с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I must fight, if I would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crease my courage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ar the toil, endure the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pported by Th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кто хочет побе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олжен в бой вст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ой иду! Христос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лабый — с Ним ге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04Z</dcterms:modified>
  <cp:revision>13</cp:revision>
  <dc:subject>Slavic hymnal Гимны веры христиан, hymn 456</dc:subject>
  <dc:title>Am I a Soldier of the Cross? / Не я ли в воинстве Христа?</dc:title>
</cp:coreProperties>
</file>