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877-4480-43FB-8618-D7C56C92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B42-3AC0-48DA-B80F-A9237AA1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D8F-918F-4E6E-9BBB-AD316869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E47-951C-4221-B0C4-DCA70CF3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E21-8F57-47CC-8F5D-D4726B9B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58A-FF53-442F-BDD1-3EF445BE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843-9F29-4675-9D7A-42BCA4EB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354-E665-4376-AD75-F0162E85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600-610E-40A9-86DC-EC8F9D03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93E-2DB4-4690-96F6-CA1B20D8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305-71E1-40E9-AA15-2FFE024A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97A-E3DF-44BE-8C8A-3B013D1C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DB22F-410D-4F61-A34D-A2F3401249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я в жизни не за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х и прекрасных моих д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вучали сердца мои стру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пел я в юност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билось чистою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ежал на подвиг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ком я был тогда со скорб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ревог не знал я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икогда я в жизни не забу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веток, поднявшись над земл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вку к небу подни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дыхал Святой любви при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людям в мир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залось мне, что дни блаже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нежной юност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йдут они, не затемня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ося свет жизни дл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увы, померкли мои ц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лубоких вздохов я у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ои друзья всё также п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д эти звуки я ры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струны моего пор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рфу жизни я совсем раз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утешность, слёзы лишь остал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хочу вернуть, чем прежде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истым сердцем я взываю к Бог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моги усталому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и страданье и трев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ы мне опять найти пок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38Z</dcterms:modified>
  <cp:revision>12</cp:revision>
  <dc:subject>Slavic hymnal Гимны веры христиан, hymn 776</dc:subject>
  <dc:title>Никогда я в жизни не забуду</dc:title>
</cp:coreProperties>
</file>