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0EE-5D21-4126-8C1E-62D53781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C39-8B15-454C-83CC-A4E1D4AB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3E9-F9A6-4864-B772-3C0C2653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BA7-29E8-4A8E-826E-293F623C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A24-AB73-4081-8CEA-730C1849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B77-D993-4844-9FF1-AC086089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523-564B-48CB-9D40-9A1BC633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C50-B5EA-4D77-8E79-B3D08C9E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970-CA83-42D5-8094-65FD38CD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F3C-FD80-4DC4-8A49-E156A7B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579-A29F-40C4-A694-12D4421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1CA-FFC4-4367-A96D-1EA5377C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E742D-F96C-496B-9D6B-98FC60746B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ей жизни слав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жизни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жизни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песне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песне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Церкви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Церкви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35:25Z</dcterms:modified>
  <cp:revision>11</cp:revision>
  <dc:subject>The Source, song number 230 in Russian</dc:subject>
  <dc:title>В моей жизни славься, Господь / In My Life, Lord (Lord, Be Glorified)</dc:title>
</cp:coreProperties>
</file>