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F7AB-3BE5-416A-9444-17BE6F3E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FCC3-97BE-4DE5-AFFB-5938D406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1B61-6F02-422E-9944-B462CB629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EF08-6A44-441D-8BFD-371DB0B34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187D-14E8-468B-AD29-2C132B8A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67CE-A1C7-4775-B8C8-D6CD117F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7F66-14C4-4E19-8763-7CF8F73C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0AD2-1E2D-43A1-8E72-0AB8AE29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12FB-E47D-40CB-B850-C6DE4BC4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055E-9C85-4AC9-8787-1B321646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F542-93F1-404C-9BB2-38482E0B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796E-ECC3-4FB6-A8F2-A6FF0BE3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78905-9243-4798-BB97-0701253632A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these pra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a grateful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ach time I think of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raises st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You so much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You so mu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71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ear These Pra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I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oul s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rried on Your w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You so much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You so mu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y soul longs fo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ngs to worship You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ower and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 my hands, lift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 my voice towards the heav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 are my sun and sh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these pra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a grateful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ach time I think of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raises st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You so much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You so mu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19:01Z</dcterms:modified>
  <cp:revision>11</cp:revision>
  <dc:subject>The Source 2, song number 715</dc:subject>
  <dc:title>Hear These Praises From a Grateful Heart (Love You So Much)</dc:title>
</cp:coreProperties>
</file>