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9DF-B0DB-4AD3-9FDE-FBF36149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F11-C9D9-4CB4-B283-873C8EF2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17C-5072-4288-8144-8CFE0847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745-5C14-4B25-A732-EA089817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827-9D81-414D-B671-9106D81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A8-2E16-4454-B0E0-7B27BCE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C9E-9729-400D-9D1D-E525B6DB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BB5-87E5-4987-9861-FC34066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04F-EE44-4100-9C9A-78713A96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44-E0D1-42E9-9D70-4155CF4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C8C-2E36-4438-82AC-51379DBF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E2F-0EE3-4F48-92EF-0D2D08F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0CF92-A8FF-4A3A-945D-3AA707E218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and 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good, He is above all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 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tstretched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ife that’s been rebo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to the setting s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grace of God, we will carr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54Z</dcterms:modified>
  <cp:revision>11</cp:revision>
  <dc:subject>The Source 2, song number 688</dc:subject>
  <dc:title>Give Thanks to the Lord (For Ever)</dc:title>
</cp:coreProperties>
</file>