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216-3ED6-4984-A3FC-6052BED3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833-B441-4C3F-ACC6-E3D5A4F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AFD-4C29-4D6C-8337-FEA1087C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CF9-D360-4D14-B376-7F0604A8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5F1-701A-42C5-AEE5-6F23BD4E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709-DB76-4BD4-90E0-40FFFAC6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364-D8C2-417D-BE0A-1DE362F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87E-B8BD-45EF-BDE7-16035B3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8F7-2758-427E-85AD-2D5B58C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CA1-C240-48C9-B6B5-587D7E4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FA4-27A6-4198-A392-70E57D6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9E8-40D9-4362-8E7C-2033CE4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1944A-B791-4DFC-9EB2-4722D009C5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4:25Z</dcterms:modified>
  <cp:revision>12</cp:revision>
  <dc:subject>Slavic hymnal Гимны веры христиан, hymn 849</dc:subject>
  <dc:title>Твердыня наша — вечный Бог</dc:title>
</cp:coreProperties>
</file>