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A43-03D2-4C4D-9D0C-02428A90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739-00AD-45F6-A3DA-DAF201B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880-DC98-4783-B1D7-3F7D750B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329-56A7-491F-A618-122114F4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976-6F96-47D1-ACBF-C61707C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17E-503B-414E-9462-C743EE39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D92-2821-4A8A-9C32-9FAA2EBD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2E6-C92F-4C6A-8843-A5E1064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D34-693B-46BB-A941-9170D71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6F8-52EE-4AEB-BDEF-E42CFF1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B98-C750-4B43-924F-C83586A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759-6BBA-4CF6-B3EB-2FC7B65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E2F56-9478-4F16-912E-F3C46503EB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ношу Тебя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ебя в п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я, что Ты —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, Отец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на землю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путь продолжил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з заб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креста в царство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туда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, чтоб нам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59Z</dcterms:modified>
  <cp:revision>11</cp:revision>
  <dc:subject>The Source, song number 330 in Russian</dc:subject>
  <dc:title>Возношу Тебя, Господь / Lord, I Lift Your Name on High (You Came from Heaven to Earth)</dc:title>
</cp:coreProperties>
</file>