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EEF-007A-44B1-AFDA-7F111D2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29F-4FE6-42E5-9C60-163D91D2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398-1FFA-4981-A015-5E5344E2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445-C19A-4375-9FC8-C6A29401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74C-7500-40AA-8364-518A9C3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196-D01B-4A30-979B-1892FB20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36A-DA95-4CA5-B266-B988FD5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8CC-79DB-438D-A12D-8799303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F75-AF6E-4E53-8161-7175D9E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6D5-1043-4DCA-895C-0A492F1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AEE-03CB-44F5-9C18-23C1A454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8E3-6194-4E70-9AEA-51F5443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1291F-7323-4B4B-B921-58C993ADF4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4:10Z</dcterms:modified>
  <cp:revision>12</cp:revision>
  <dc:subject>Slavic hymnal Гимны веры христиан, hymn 817</dc:subject>
  <dc:title>Течёт ли жизнь мирно, подобно реке</dc:title>
</cp:coreProperties>
</file>