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822-A969-4E32-A7E7-84731183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F30-4F6B-480A-A458-0029B686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2E3-6042-46CF-928F-9C5BAD2F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3E7-1B2E-4594-87DE-B1A66F3E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E5B-05E4-4A8E-886D-51B46673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45D-BD5F-49AF-8B84-D84AE541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600-64A4-4E39-96D1-A4547BA5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FD7-8DD7-47A6-B28E-8F706AB9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B40-2AA1-4216-8863-2F3D658B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C63-A72F-4D9C-B708-5B99652D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0AD-4D0E-479B-9E96-74C4E0A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F58-4424-4067-B2A2-49AC6525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36DCC-A5BC-4767-9D98-33D08859C5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звёзд на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в бесчисленных луч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звёзд всех кра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любв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много звёзд на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ифлеемская звез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в пути т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тебя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тебя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с тех пор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очей теперь вид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е лишь она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ердца просветить силь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ердца просветить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, сушью ночью,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горит она ог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ёт с небес свой кротки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утешенье в мире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утешенье в мире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едёт меня к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жизни мрак и тем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неё хочу вз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й лишь в жизни дове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й лишь в жизни дове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16Z</dcterms:modified>
  <cp:revision>13</cp:revision>
  <dc:subject>Slavic hymnal Гимны веры христиан, hymn 471</dc:subject>
  <dc:title>Как много звёзд на небесах</dc:title>
</cp:coreProperties>
</file>