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9EAA-FEE3-47EE-BF41-C4155CD42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A77C-7C92-41D1-9B4D-6D38946E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389A-543B-4DE9-8EBD-68C0E0A58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04DF-5526-4744-A2D8-293DF10E0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12E3-B03E-4B8A-8B40-5F447148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0EA4-FC22-48A0-8627-EE505C6F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B845-5997-42BD-83E5-25ACADA8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0D0D-9FB0-445C-B0D6-A3B41462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2DED-F61B-4AE9-9BBB-036E128D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002B-7B32-444C-B2D3-D075F1EA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A7B7-0454-4AAE-8CF0-3DEA6BB5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B457-7275-46B8-B5DB-347C34FA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52162-2DA9-4B91-AF5B-7B93435C3E5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есный Спаситель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мой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есный Спаситель жи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кале благодатной мне отдых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радость и верный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удесный Спас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ыл Он меня в благодатной Ска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но грозы ника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ыл Он меня в Своей вечной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крыл меня нежной ру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крыл меня нежной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есный Спаситель со мною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имает мучительный гн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 и спасает меня от вр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славной победе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ыл Он меня в благодатной Ска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но грозы ника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ыл Он меня в Своей вечной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крыл меня нежной ру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крыл меня нежной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честь Его милостей дивных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брежен любви океан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 пред народом, пою в тиши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ивный Спаситель мне д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ыл Он меня в благодатной Ска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но грозы ника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ыл Он меня в Своей вечной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крыл меня нежной ру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крыл меня нежной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тый в нетленье, при звуках тру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тречу Христа Сам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жертву спасенья, за всё, Кем Он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всеми прославлю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ыл Он меня в благодатной Ска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но грозы ника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ыл Он меня в Своей вечной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крыл меня нежной ру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крыл меня нежной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3:36Z</dcterms:modified>
  <cp:revision>13</cp:revision>
  <dc:subject>Slavic hymnal Гимны веры христиан, hymn 595</dc:subject>
  <dc:title>Чудесный Спаситель, Христос мой Господь</dc:title>
</cp:coreProperties>
</file>