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AA0-5AE8-40F3-ADCB-63756EC4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19E-8178-4AC5-A1CD-5C1E8E44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9E5-8303-423D-8844-6D601323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375-10CA-4C7E-A828-CFFF65E4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C8A-1C1D-4A41-817E-E9A8D415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BF7-CE3C-4BA3-89C7-2AF22201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C9E-8FE2-4AD6-B4CA-F0A5425C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4C3-331A-442D-BF23-AE075A46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8AE-8706-448C-9155-95A71922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80D-55B8-42A2-8C21-7B9C556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4A4-DAD9-4C62-8FD1-D916E16D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180-11BE-47A4-A617-525FC297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11E2D-78DB-4DA1-8751-FBB72F13A3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od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in the whol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lose your so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od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sweet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remain pro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view of God’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ffer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9   What Good Is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oad I’m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leads no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ife I 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ind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view of God’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ffer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17Z</dcterms:modified>
  <cp:revision>12</cp:revision>
  <dc:subject>The Source 4, song number 2129</dc:subject>
  <dc:title>What Good Is It (Living For Your Glory)</dc:title>
</cp:coreProperties>
</file>