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EAB-D4BB-4B19-B9E2-705BE3E3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B03-E6F8-45F4-A5A3-E6F7D6C6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447-36F2-46F7-8E20-A842EF2F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A34-BE49-4B1E-8F36-BDC8CFA9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431-4C0F-4ED3-AF75-8B17AFFA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F6B-35FE-449F-93D4-B1897442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EE5-A607-4370-96A8-E5505BE4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C48-7E08-4C15-AE4C-5581695C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CBB-9748-4B0B-A76A-7E481EEC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2B8-D148-4734-A5E1-98743280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B3F-17DB-4BB6-9D6B-2197FA3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174-B5E8-4D33-AF4A-545F23B1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CCEB6-A279-4ED8-B592-380E609E7B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жизни только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в горн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 с Богом примири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илы мне богатств да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хочу их мишу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чного нам 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ленья облик в нём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же радость не пройд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бедным плотью ст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знает лучше!» — я б сказ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 винограднике —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маслины без пл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бичует мор ста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я среди вражды, ог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ждает грех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готовит грозный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е враги идут вой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Нём силён — порву их стр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расстанусь я с землё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Его найду пок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не скорби дух стес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ы силы замолч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 сквозь смерти я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7:35Z</dcterms:modified>
  <cp:revision>12</cp:revision>
  <dc:subject>Slavic hymnal Гимны веры христиан, hymn 578</dc:subject>
  <dc:title>Кто есть на небе у меня?</dc:title>
</cp:coreProperties>
</file>