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E28-26D8-4C6E-8B97-2246C1BC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0DC-FF14-4CC9-8875-94A050EA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8C0-0309-452C-AA23-280FB448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7B0-0692-4476-9D20-C1DCC658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A88-62DB-40ED-A367-0E97B52C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3BB-7E96-420C-B795-29E0E920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F79-06B6-4168-9B97-B5F10723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CD6-2378-4616-AE20-3A9E30F6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68E-0E32-4668-82C1-62B0ECE1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B65-56E6-43BE-A633-658ECE4F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F07-E36F-4949-AC0D-0ADEEBA2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2C9-3272-4C54-9052-4C839EC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34C09-2023-4D5E-B58C-9ABA1F883A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и грехе погибает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озаряет, как солнце с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тьме и грех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азна нет в том, кто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ивный свет избавляет от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ь ослеплён и во тьме не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!» Он зовёт, слуш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в солнце нужды в див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аде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Его будет вечно све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27Z</dcterms:modified>
  <cp:revision>12</cp:revision>
  <dc:subject>Slavic hymnal Гимны веры христиан, hymn 386</dc:subject>
  <dc:title>Во тьме и грехе погибает народ</dc:title>
</cp:coreProperties>
</file>