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F1B-C23A-486A-9894-BC7EAB34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434-E59D-4127-8482-5AE4D2D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540-9947-43EB-BB9E-9A7EA0C3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28F-F269-497A-AFCC-EABBC70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99E-F4EF-458C-8DB1-C2147562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08D-70EF-4258-874A-3D1694C3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780-E524-4469-B2E6-C635C16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4E4-6D9E-4E6F-AFCB-D957298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FE0-4A8B-4494-B8FA-869A8DF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A24-13F3-405F-B383-2050014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3C0-FB67-4AA6-A4CB-8125AD0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2D1-815B-41CA-B7F8-30D51FB1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23E93-166C-43CC-AB3E-EFD60006AC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the conflict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dark without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er still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your faith grow fa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use you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r prayers un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your God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you go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aught of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ing in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5Z</dcterms:modified>
  <cp:revision>13</cp:revision>
  <dc:subject>Slavic hymnal Гимны веры христиан, hymn 397</dc:subject>
  <dc:title>Let the Sunshine In / Хочет всех людей Господь благословить</dc:title>
</cp:coreProperties>
</file>