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43B-69E1-4035-941E-A7571E1C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46B-02C0-45C9-9370-83CA2025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6B1-9AE0-4606-B649-D9F2F605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051-B93E-46AF-9951-CF53DA2C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1F2-7784-44BB-BED2-37D3189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534-CF4E-4C7D-89AA-048C1797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EB1-4533-4B5E-9395-5E61C37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F79-ED4D-42F5-BDD6-5BAB9DF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F69-80A9-43BD-B2E5-CC77D948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895-1E84-45AE-96C2-F48A426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397-B5D4-4C6A-8B54-9E67F7B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96D-1717-4651-8131-6145AC3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2970A-B0E0-4ABB-9585-4937243921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9Z</dcterms:modified>
  <cp:revision>12</cp:revision>
  <dc:subject>Slavic hymnal Гимны веры христиан, hymn 479</dc:subject>
  <dc:title>Таков, как есмь, о Боже мой</dc:title>
</cp:coreProperties>
</file>