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EA4-31FB-4408-BC47-FE1E5EE6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19F-B16D-49BD-9735-663B700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AFB-9098-4860-A660-5721816E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134-72CC-4DD8-B46A-F3D91211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0D5-1AEA-408E-899C-38BC7AAD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362-D7A1-4D07-9360-D775D1C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7FF-A47F-4220-AE45-8CF7518F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FC9-896A-4B14-8D02-FB6A03A0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A58-699C-4C95-B19F-C5D71300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26A-DBD8-4B85-A9D4-A636ECF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349-32CC-491F-AB1C-75C5595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1EE-81A1-4058-BF37-27BF060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253AF-0F57-408F-838A-8163483BFD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ood a lowly cattl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a mother laid her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manger for His b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ry was that mother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er littl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down to earth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God and Lord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shelter was a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cradle was a st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oor and meek and low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d on earth our Saviour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all His wondrous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y by day like us He gr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little, weak and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rs and smiles like us He k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feeleth for ou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reth in our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among the poor and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n Christ is brought to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romis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n Him our life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ope of heav’n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eyes at last shall se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His own redeem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hild so dear and gen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our Lord in heav’n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eads His childre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lace where H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in that poor lowly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oxen standing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see Him, bu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t God’s right hand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like stars His children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n white shall wait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34Z</dcterms:modified>
  <cp:revision>9</cp:revision>
  <dc:subject>The Source, song number 404</dc:subject>
  <dc:title>Once in Royal David’s City</dc:title>
</cp:coreProperties>
</file>