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893-3E8C-462C-8B2F-CA8A6F85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F89-B362-4453-8183-8203EEF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CB7-1872-4E59-AE10-F328035A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F65-3DFC-40C4-BCE8-4BCAD721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F8B-681B-47C7-B634-5B5F9F95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731-8820-46E2-A4BB-A5B5349C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AF6-5006-4DD5-9A78-7934EAB2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7AB-E0A7-4727-BE79-2202F6E9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6A5-B096-487F-874D-777AE135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D32-FB04-4CF9-8934-9A410D41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E6A-7A0A-443B-A38B-DE283C41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DE1-A33B-4754-A93A-684023AD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01DAB-80E5-4305-BB4A-1CC81C321A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Иисус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ы достоин ли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мои дни буду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чудеса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мой, прию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пасенья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ой вздох будет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осит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воскликну я Богу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величье и слава Ца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склоняться, моря восшум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Бога возно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песню хвалы я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т пусть все, как Тебя я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, что могло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внить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1:37Z</dcterms:modified>
  <cp:revision>14</cp:revision>
  <dc:subject>The Source, song number 367а in Russian</dc:subject>
  <dc:title>Иисус, мой Спаситель / My Jesus, My Saviour (Shout to the Lord)</dc:title>
</cp:coreProperties>
</file>