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967-444D-4A11-8D16-7B031F67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ED2-8B6D-4080-8650-45ED8B03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264-788A-4F31-BF74-09419046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AE7-8FF8-4D03-8B7C-F622505A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655-1004-4DA6-B82B-20C253B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4E2-0590-4658-9EFE-24DAA2B9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64D-57C5-4620-B44C-2570688C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5DB-EFF3-4FF6-8B3E-958A083F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017-007F-4070-873B-8F274180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B5B-C7D8-46A2-B6EB-DA621215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D1E-AC8A-410F-924D-5AA87CE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018-F794-4AAD-8DF2-3C910F4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CDA97-62C9-4F07-8D20-6D7D4E58A5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! Верь без смущ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орьба дол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ог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разит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вер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!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вихр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жизни без па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пр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жизни помертве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Бог может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35Z</dcterms:modified>
  <cp:revision>12</cp:revision>
  <dc:subject>Slavic hymnal Гимны веры христиан, hymn 638</dc:subject>
  <dc:title>Брат, верь! Верь без смущенья!</dc:title>
</cp:coreProperties>
</file>