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B96-6B46-4EFE-B141-2C52A996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A8A-7157-4563-A529-6307AB56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117-291E-49A1-A632-5E404294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070-D2BC-4698-A3E7-614EFBDE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B0A-0FF8-47CC-882D-C3593F9B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B4C-5970-4D85-9187-F32BB299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242-709D-48F3-9B54-26B0C452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A24-8E87-48E0-AB51-0DCBD380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DE2-37D9-4DB6-AE7A-3BF13AEA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D5B-F6FF-435C-B764-E929C90A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8DD-9AA8-4D5A-8DBC-88604A6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00A-F00D-4751-A81E-316146A7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43C2D-F42C-4DEE-9444-01023B8D7A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nder of Your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be our medit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ther in that 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sun wen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eep with those who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were lea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leaving,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umble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never wore an earthly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55   The Wonder of Your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teal away a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y took down Your bo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 and tears to lea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borrowed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 with Mar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lace they l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y laid You,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 the stone was roll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, O the wonderful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lory, what victory I’v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come to the wonderful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whole life I lay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re heaven’s praises si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ose hours of dark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oly Spirit br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ound that empty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decl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risen,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not de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 He live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, O the wonderful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lory, what victory I’v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come to the wonderful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whole life I lay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23Z</dcterms:modified>
  <cp:revision>12</cp:revision>
  <dc:subject>The Source 3, song number 1555</dc:subject>
  <dc:title>The Wonder of Your Cross</dc:title>
</cp:coreProperties>
</file>