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45B-8B65-45DA-B600-41F9D704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4E1-B849-4278-9477-1C8F3FE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9AF-36DC-4EDA-93AF-EDBBE2D5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EC3-6EC6-4C93-ABBF-703C91F1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4F2-F21D-4E4A-825A-C6D30136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B1A-6325-4F61-B471-E6765E6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B57-C623-4663-89E3-A322EF2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6B5-9067-40D6-9595-5A1C352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E8E-C727-4AF4-BE26-AD1B6E7F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62D-C954-412E-A466-0BF5ED8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DAD-6C51-4A1D-81CD-064D852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0C6-0D79-406F-9083-BD106C2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22431-A9CE-4047-A8D3-B5646BB771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много світла нам відкр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научила любит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ілька вже тисяч літ вона про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нас вона учить про закон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   Біблія много світла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го пророцтв у Біблії міст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и вчать про все напер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 в ній мудрості для нас відкри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зволь нам розуміти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вірну путь нам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а вчить, як по ній і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то її на довгий час 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коро зблудить з вірної пу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християни, Біблію чит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побіждайте, двигайтесь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аших близьких із неї навч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заплату скоро 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18Z</dcterms:modified>
  <cp:revision>13</cp:revision>
  <dc:subject>Slavic hymnal Гимны веры христиан, Ukrainian hymn 9</dc:subject>
  <dc:title>Біблія много світла нам відкрила</dc:title>
</cp:coreProperties>
</file>