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6AF3-4EA8-45D9-9AD0-6E912B94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94B-1E73-49BF-A1BA-8C16EEEB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45F-1CB4-4E81-9BD7-D5957F24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844-7678-443F-9A24-3BB79CF3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D97-1543-4574-80FA-B124EA4C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D77-31C0-4655-9313-0D4081F8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B67-2BE5-4E16-929A-447746EF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E41-F186-49E7-BAE1-34976A9C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4E4-D120-4997-A1BA-341DAF75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BEE-A888-447B-817B-D5748B2E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DA3-86EC-4AD5-B22F-63A3E862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7C3-CE36-4719-A460-0D26ED69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3A872-22AE-4E18-84DB-93AD8E1F89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, I thin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became no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ured out to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74   О Иисус, как жертва ве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Иисус, как жер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а Тв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положил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ял смер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новь смотрю на крест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по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яет моё сердце 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благода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ебе свою воз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times I’ve wondere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ift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in that place on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in that plac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и вновь взираю на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лю Тебя вновь и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Тебя вновь и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новь смотрю на крест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по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яет моё сердце 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благода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ебе свою воз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You are exal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ighes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one day I’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Ты пре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й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нас зов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now I marvel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saving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full of praise on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full of prais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ка я преклоня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воей вновь и вн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Тебя вновь и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новь смотрю на крест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по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яет моё сердце 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благода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ебе свою воз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5-06-01T12:33:40Z</dcterms:modified>
  <cp:revision>11</cp:revision>
  <dc:subject>The Source, song number 274 in Russian</dc:subject>
  <dc:title>О Иисус, как жертва велика Твоя / Jesus Christ, I Think Upon (Once Again)</dc:title>
</cp:coreProperties>
</file>