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143-E0B5-48B2-B61F-E10A22DE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607-E090-4D28-9BD9-8955D9CC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39C-CFF6-43D8-ACFA-05C0662B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D74-F8A9-4851-B94C-8D67569A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44A2-0D22-49AB-98C5-3E7D27D5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C7E-435A-479E-879E-C136D787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9829-0561-43AA-86BC-55309403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5CC-AF1E-4D49-8940-3AE16B9C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3C8-D26A-451B-BCFC-A8D2B072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BCB-6F7E-4820-9885-A813B2F2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083-FF33-4677-9C87-D66FFDB2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D4ED-3B3D-4398-B69E-DB94877F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6271D-0927-44C3-A704-ADC2362875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a wonderfu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my life has been wrou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light in my sou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which long I have sou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чудесно вс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чудесно вся жизнь изменилась мо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обрёл дивный свет, что искал много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дивная в нём бьёт горячим ключ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дивная в нём бьёт горячим ключ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ceased from my wand’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going astr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y sins, which were man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all washed a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м блужданьям коне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— мне добрый Оте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грехи мне прост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л потребных мне с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дивная в нём бьёт горячим ключ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possessed of a h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is steadfast and 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 dark clouds of dou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my pathway obsc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упованьи живом я расту день за дн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яд скорбей и обид светлый путь не затм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дивная в нём бьёт горячим ключ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light in the va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death now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gates of the City beyond I can s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погаснет мой с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д лицом грозных бе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а видит всегда вечной славы вра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дивная в нём бьёт горячим ключ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go there to dwell in that City, I kn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’m happy, so happy, as onward I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город чудный войду, отдохну от невзг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ликованьем в душе простираюсь вперё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42Z</dcterms:modified>
  <cp:revision>13</cp:revision>
  <dc:subject>Slavic hymnal Гимны веры христиан, hymn 577</dc:subject>
  <dc:title>Since Jesus Came Into My Heart / Как чудесно вся жизнь изменилась моя</dc:title>
</cp:coreProperties>
</file>