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4101-C30B-47F4-93B9-858F2081D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8C87-64BD-4A97-8B3C-236231C3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E221-774F-4400-8E19-49657268D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7AD1-E383-4D19-B37A-C5A5DE5EF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AEC6-CA8B-4F36-849A-7A49DF23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583F-5EF1-49D7-B49D-FB0A2F8D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D2D6-BD3F-4642-8507-84EE675A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5CE6-511F-4FA8-B145-7161AD72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7365-D342-401A-9377-7D6AB486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9F36-228F-47C8-BE69-173E5F1B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7FEA-FC4F-4C0D-8153-C6011D62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B686-1039-4A5B-877B-5B528D3B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144E0-C15F-4518-B7F7-13F374F0FB6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то я скорблю и грущу душ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зей нигде для меня по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игде ни в ком нет отрады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зде, кругом скорби лишь од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ишине ночной вспомню жизнь мою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ькою рекой часто слёзы л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яжко, трудно жить без счастлив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шу горя пить только в жизни с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0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асто я скорбл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злых людей, нет любви 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любви моей воздают мне з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средь них друзей для моей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пять порой плачу я в ти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ёзды яркие в небесах гор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ёзы горькие на глазах блест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 от той тоски избавл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ом же мне найти утеш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 мог понять, о чём плачу 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один лишь Бог, Он поймё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рудный, скорбный час я пой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мою печаль расскажу 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клонится низко над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ёзы горькие мне отрёт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близи Него отдохну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руди Его я найду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7:27Z</dcterms:modified>
  <cp:revision>12</cp:revision>
  <dc:subject>Slavic hymnal Гимны веры христиан, hymn 505</dc:subject>
  <dc:title>Часто я скорблю и грущу душой</dc:title>
</cp:coreProperties>
</file>