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44D-2CC8-4CE4-BA82-3FC7B17B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409-54F9-4FA7-945E-DE8562B7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590-DECD-4792-9CFD-98F2A963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885-7D4D-42D9-B288-904E5167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286-EECC-4796-89D1-225E07FA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9E4-0516-41CD-B2EF-39619030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BB0-BD89-41B3-A395-3F5087B7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F80-2E86-40F5-9C7A-D42D8F1E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D6B-5B4C-45DE-98A7-97B63C47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E7D-A525-4B62-B77A-D69D8365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434-9103-4805-9463-1109118B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610-F247-4616-B78E-B68240FD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06014-16EE-4F5C-952C-5BE0D6093F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страдалец,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ает мир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о возне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а Меня взглянь!» — молви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глянь, страда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ы нищ, грехом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отбросив страх и сты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, кто был врагом плен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а Меня взглянь, будь спасён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луждал ты долго,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ртви свой слабый ду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тец дом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ни был, пуст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1:46Z</dcterms:modified>
  <cp:revision>13</cp:revision>
  <dc:subject>Slavic hymnal Гимны веры христиан, hymn 334</dc:subject>
  <dc:title>Взглянь, страдалец, на Христа</dc:title>
</cp:coreProperties>
</file>