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372C-0289-45C2-B2B4-F1CB81548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6C5C-E9D3-4FFF-B13B-C3A68FEA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9BE3-2343-4880-8471-7A2116785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8470-B386-4C76-B86E-EB3887AB8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2433-6A85-4B67-9B9D-B0F3710B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3BE1-0C42-4595-B450-896E9E4F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E709-C714-4DDA-B0E7-9F7D401B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A913-DF87-416C-B5C7-CB9833CC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1B64-1750-4C32-8B8E-4FB2E6F5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E2AD-34D5-44D2-AE8A-F18DEB54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17A9-923F-453D-96E5-6FE3276C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B58F-34B5-47C6-8625-8B9728E6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D4D471-24E0-4480-8D03-06884DBFC2B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 отда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ь Ему принадлеж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пованьи и смир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лицом Его хож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ебе, м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сё Иисусу отдаю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 отда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кладу к Его но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ету отверг земн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юсь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ебе, м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 отда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ь хочу Христовым бы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Предвечный да на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ть Христа, Христа люб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ебе, м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 отдаю 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храм во мне соз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ю и люб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 и сердце наполня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ебе, м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 отдаю 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 Он во мне сверш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дал святую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 Богу с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ебе, м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4:59Z</dcterms:modified>
  <cp:revision>12</cp:revision>
  <dc:subject>Slavic hymnal Гимны веры христиан, hymn 547</dc:subject>
  <dc:title>Всё Иисусу отдаю я</dc:title>
</cp:coreProperties>
</file>