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F7A-F154-48FE-8BBC-87154267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B41-D308-4FBC-9AD6-F41D9905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AA4-74EC-4CB3-A1A1-1B6BF041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DA8-4011-42FF-A99B-859556D5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7F8-B0B2-41F0-9917-D6A25438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20D-122E-43D6-8C46-FD11C319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BC4-85C4-4C76-8C6D-E798F548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AA7-1E5E-4E98-A02A-1098CAF2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87E-1AF5-4A1D-8EA6-37363239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FEB-3BDE-40E1-BEB0-A9AC2865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110-9CD5-4C25-BB43-1F9DB264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F61-D566-432C-8B45-FB194CA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219B7-BB69-4231-B2BC-2E87212F6F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 Христа Цар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еснь хвалы пою, к Нему душой смотр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лава в вышних Богу!» уж взошла зар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ю в обещани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, Ему хва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трашусь я грозных бурь греха и з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ишь бы милость Божия со мной бы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 Христа ко м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тдаюсь Ему я всей душой впол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хочу с Ним быть на правой сторо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, я в них креплюс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одатью Божьей в сердце веселюс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достно воскликну, как пред Ним явлюс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47Z</dcterms:modified>
  <cp:revision>13</cp:revision>
  <dc:subject>Slavic hymnal Гимны веры христиан, hymn 640</dc:subject>
  <dc:title>Верю в обещания Христа Царя</dc:title>
</cp:coreProperties>
</file>