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6E8-3C21-4E16-8A5B-FC8C5276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66F-1DAB-43CB-8682-BAB0D3C6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F96-898B-4993-9335-B94C60CF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6F3-223F-423C-AFB8-9E116927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853-9DD8-409B-8E49-6BCF84CE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C7C-E336-4C4C-A62B-4323A84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40A-82F0-4FFE-A5D3-759DE6CD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B05-7D74-4C83-A057-D29E18A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8D4-743A-4197-90F2-2594105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489-499D-4D11-B1DF-D968305A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82C-652C-4127-8228-14B9214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4D0-CF90-49F3-9816-A4B7C13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59036-5945-4A3F-BDBD-3552FD14C5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and that is plen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streams of abundance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m found in the deser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walk through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2   Blessèd Be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un’s shining down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world’s “all as it should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road marked with su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re’s pain in the o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24Z</dcterms:modified>
  <cp:revision>12</cp:revision>
  <dc:subject>The Source 3, song number 1152</dc:subject>
  <dc:title>Blessèd Be Your Name</dc:title>
</cp:coreProperties>
</file>