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264-332B-448E-8FB6-4FE54A60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291-4118-4142-9FC7-0AAF86B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EA6-F412-4953-A113-48309E5D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784-664E-4563-BACD-BAA3644B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81C-456A-45DE-A6A4-EFBDA130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648-436E-4B0D-AA03-6328C246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335-AA7F-4162-94A0-5A57BBF4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AD3-C4AA-47BC-A4AF-860634C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D76-8E79-4BE7-A0E8-CF60AAF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E63-F33E-4948-8264-F2F66F62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99F-560A-42E4-BFC4-91D76B0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776-E687-40E7-9BD7-A5DD849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D4B35-D1B9-4C55-9C97-DBBF967265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peak to me that I may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choes of Thy t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 sought, so let me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rring children lost and 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ad me, Lord, that I may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ndering and the wavering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eed me, Lord, that I may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ungering ones with manna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rengthen me, that while I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, and stro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ay stretch out a loving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restlers with the trouble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each me, Lord, that I may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things Thou dost im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ng my words, that they may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dden depths of many a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Thine own sweet res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speak with sooth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ord in season, as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eary ones in needful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ill me with Thy fullne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very heart over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kindling thought and glowing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ove to tell, Thy praise t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use me, Lord, use eve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Thou wilt, and when, and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y blessèd fac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est, Thy joy, Thy glory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04Z</dcterms:modified>
  <cp:revision>12</cp:revision>
  <dc:subject>Slavic hymnal Гимны веры христиан, hymn 826</dc:subject>
  <dc:title>Lord, Speak to Me / Скажи, Господь, чтоб передать</dc:title>
</cp:coreProperties>
</file>