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0E0-3825-4D2B-AD63-3AB90EE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CFA-B962-49CE-BFAD-ADAFE7E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6AD-3D51-4B49-8E3B-EE12E534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475-2E6C-4955-BA87-E359A96F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8D9-4794-461E-9EDB-BFFE6BAE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30D-F8BB-4B54-A28F-B7E3FAC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516-389C-4297-9D08-67997437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E2C-0F21-4AE4-85D5-90FB0AF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335-0995-4623-BE92-95564D4D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B0F-D1DD-4738-BB78-D96F50D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F90-A4AA-4077-8401-18F71B54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766-4C74-4345-91C6-C9E04E1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AB89F-5D82-4073-B401-CB0AEEB2FD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тебе уж проб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а ты снова возврат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приходит 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глас внутренний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щадит теб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ё Собою напол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а грешных пере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ра тебе уж пробуд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душа, а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и тихо слёзы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греховной тьмой од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мерть тебя, как жертву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ридёт, как гость не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весь ужас за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час неведомый, нежд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опомнись, хоть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оже мрачное взгля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увствуй стыд и ун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н греховный отг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вно к тебе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ты светом озар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 — Он длани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, просн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враг твой бдит всечас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бездна по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жий гнев, как гром уж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мит над греш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, скоро разраз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якнет благости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верь спасенья затв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49Z</dcterms:modified>
  <cp:revision>12</cp:revision>
  <dc:subject>Slavic hymnal Гимны веры христиан, hymn 376</dc:subject>
  <dc:title>Пора тебе уж пробудиться</dc:title>
</cp:coreProperties>
</file>