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990-99E4-47C3-A4E5-CE43D3E5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8F4-FA92-4D9F-A13A-62D902C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123-05C3-46A1-AEBD-804C8C77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4F7-2826-4009-BE1B-7B84E71D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F92-57F9-4716-824E-04CC235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7A4-9E6F-4440-8DC5-0AC0E5D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E12-E077-4731-A2CC-509325FE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CBD-9D4D-4723-A5E8-EC9FCE3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4B7-31FA-4BEE-A188-129185A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782-A022-43A5-BB5F-772BD88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A5B-390A-4E6E-81DE-C15CDBD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29C-0AF3-4DF9-B5ED-F1B271B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41D2A-EC6C-4409-B226-F762B81252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51Z</dcterms:modified>
  <cp:revision>13</cp:revision>
  <dc:subject>Slavic hymnal Гимны веры христиан, Ukrainian hymn 55</dc:subject>
  <dc:title>Серед темряви нічної</dc:title>
</cp:coreProperties>
</file>