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78-AD7B-48FE-A986-06D03902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337-42A3-4D3F-8086-E07FB6D7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E46-CB31-425E-965B-E6106C52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093-BE16-4E3B-B1AF-286B9AB9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585-7727-47DD-AD7E-3B32906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388-7323-4747-9D90-0410774E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05-1CA2-46D6-BD01-850CB062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BBF-9FA4-4143-8E49-21E860F3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D1E-4A2B-4271-8D0A-6437DDC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0BB-4E59-4FB2-A415-9523526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4A9-385E-4210-BA6F-FC508D4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79F-8DB8-4FAF-8ED3-24E9C23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6F73C-551C-4F26-BA20-7CDC706A67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20Z</dcterms:modified>
  <cp:revision>13</cp:revision>
  <dc:subject>Slavic hymnal Гимны веры христиан, hymn 304</dc:subject>
  <dc:title>Дух Святой, Дух благодати</dc:title>
</cp:coreProperties>
</file>