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0B2C-16D1-4050-AEB1-4315412A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B77-73DD-4608-896B-459B3FB1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B60-C704-4448-AA8B-DB6A157A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9657-9B99-49A9-A42C-8B5ED4F8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564-45CB-4EA4-A3E0-4F710C1B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014-5AEF-4158-8BE6-EDB3856F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8FA-A8C3-48C6-9786-E66A0034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573-A725-4CBF-9819-6C1D272B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18D-7C21-45F2-8FEA-E473A6C1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7DD-5B2E-4601-AB99-2FDE4D9E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47C-85C4-4BF6-ADA8-0651619A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BFB-0BE2-45AF-A4E6-DC8B0BBC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5907D-9217-430B-A94C-7BEFE7F8C1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 с ликовань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 скорбей непобед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ся в сия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клоняется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мотрите с ликовань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, венец неси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ив спасенья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естол вступил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хвал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ли люди з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ием Христа г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и все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честь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гимны ликова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хор небесны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Царь мироз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Ему всё поко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6:14Z</dcterms:modified>
  <cp:revision>12</cp:revision>
  <dc:subject>Slavic hymnal Гимны веры христиан, hymn 297</dc:subject>
  <dc:title>Посмотрите с ликованьем</dc:title>
</cp:coreProperties>
</file>