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7F1-2B60-4DDD-8C38-BAA4ADE0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EF2-7F71-459B-94A2-7C480AE7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7F9-0F0D-4B95-9A2D-727D2A0C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AC3-7897-440F-BC18-C06C7DC4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FFF-DF5A-4E0C-8D4F-5E462DAE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729-4DDF-4B11-B161-C36D9092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BC5-EBB9-4CF3-A515-77B870BC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9D9-1B6C-44CF-8047-B1E2E197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EE8-D243-4256-B451-C8CD7B12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264-FECD-41DC-87B6-6CA1F35A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230-3D8C-4542-8C9D-FA0BD215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CDA-8F6F-4D0D-A1F5-B8F1C8A8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5A1DD-9FD1-4BDF-9F28-85566CA87F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dear and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it’s worn and faded 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ch recalls those happy days of long a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 stood at mother’s kn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er hand up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heard her voice in gentle tones and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3   Книгу Божу м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у Божу ма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оч старенька вже во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ні пригадую минулії дав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ній моя мати знай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ар спасіння у Хри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 забуду я часу щаслив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e read of Jesus’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He blessed the children d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He suffered, bled and died upon the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His heavy load of c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e dried my flowing t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er kisses as she said it was fo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ам’ятаю: про Хр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се читала мати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любив, страждав, вмирав Він на хре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уважно слухав вс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ам’ятай, за тебе ц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―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Говорила мати ― ти Його люби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ll, those days are past and g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ir memory lingers 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dear old Book each day has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u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seek to do His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my mother taught me th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ver in my heart His Words ab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е давно, давно я чу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слів тих не забу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мені ця Книга ― світло на шля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слова Христа любл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се вперед за Ним і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до щастя хочу вічного при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15Z</dcterms:modified>
  <cp:revision>12</cp:revision>
  <dc:subject>Slavic hymnal Гимны веры христиан, Ukrainian hymn 73</dc:subject>
  <dc:title>Книгу Божу маю я</dc:title>
</cp:coreProperties>
</file>