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ABD-50AF-480F-AB81-526F98FD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7D0-A063-438B-B028-E9947977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505-5E61-4E86-BF27-CFD5C5E7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747-9897-453A-BACA-245FCD82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27F-FE03-4E0A-8785-B7F0B477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C17-5FFE-4DC6-BA38-54991E9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052-C08F-4409-A73E-311B6D6C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7E9-E85D-4F4B-86B6-8B633094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C6C-43CF-4C63-8965-D155A4A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881-349F-46EB-8785-E4F09B47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64F-0DD8-4756-A475-75FB701D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CDE-7DBB-4553-92FB-A02FFAFE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54219-AC2E-47F2-A79B-6A607CB697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adow of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ace to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sh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ord goes f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tremble and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inest whi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g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ower and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in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this 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holy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am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surren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am ca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passion of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endles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depth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il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makes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32Z</dcterms:modified>
  <cp:revision>11</cp:revision>
  <dc:subject>The Source 2, song number 850</dc:subject>
  <dc:title>Just Let Me Say</dc:title>
</cp:coreProperties>
</file>