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D15-923E-498D-8913-F2B23264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1CE-310E-40B0-9CC0-9944D67D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0FA-28B9-44FB-BFD5-5F59CEA8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62E-3199-4C13-A3CD-94425C40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F29-08FF-4D20-942F-0A7CB50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794-0E01-4582-A3B8-88455B0F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7B2-BC35-4384-BF1E-898F1D2A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2EB-D533-49CD-A303-5CE21BF1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72A-F160-4336-A9DD-2245993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475-B8FA-458C-B20E-48E57F2A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2BD-E098-4F60-B6BD-A80300F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9C0-068E-4970-92D9-0EC35BF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0C6AA-EE1A-4A94-AD85-7DBE27884C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ash away my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make me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ardon, this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cleansing, this my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an for sin at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of good that I hav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hope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2Z</dcterms:modified>
  <cp:revision>13</cp:revision>
  <dc:subject>Slavic hymnal Гимны веры христиан, hymn 425</dc:subject>
  <dc:title>Nothing But the Blood / Что вину мне может смыть?</dc:title>
</cp:coreProperties>
</file>