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CBD-9B5E-4D8C-80F8-D1A97E4B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DCC-9B71-4D48-9D6D-A9542A85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DE2-2CAB-4FC1-8E8D-516999A0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EBE-9706-42EE-8AFB-54D34877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709-3154-4AD2-AD0D-0FF290AC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465-B977-4BB9-B0FC-26293BFC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F9B-CB89-40FE-98F1-60C52BE1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9F9-EED1-4511-908C-782BACDB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767-5F4D-47DA-B90D-DE3B4F94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BB5-1349-4D71-BD77-17D86368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4F1-A3C8-4550-B8D2-B731DBB5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245-C441-4F06-B092-2556A0F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0CE34-E254-49C6-8199-D25BCFFB30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на небе си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была светла, ти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сять дев беспечно сп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я Жени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ни в руках им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ая светильник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сла взять не захо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умные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вёзды на небе сия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раздался в час полн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ий клич: «Жених идё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лашатый полном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робужденью все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ь разумных пробуд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и пламя поправл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прежде, засвет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ветильники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умные — несчаст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сло покупать пош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шёл Жених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ые на пир в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умные прихо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видят дев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ёма не нахо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крыт навек для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3:56Z</dcterms:modified>
  <cp:revision>12</cp:revision>
  <dc:subject>Slavic hymnal Гимны веры христиан, hymn 318</dc:subject>
  <dc:title>Звёзды на небе сияли</dc:title>
</cp:coreProperties>
</file>