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6684A-8878-46F8-B6DA-A264B17163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DB712-84D6-4140-8A65-4CC0F75F5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4B702-F3FF-439E-BC76-6B28DE3C1E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9ACCA-CAF4-4C55-A22F-91CF9650BC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34ED2-568D-419F-8BA2-2F9AF27E8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DA774-1DD2-4DAE-96E7-459E120B5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44CBE-0A9F-459A-A860-8F50EECD2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D3526-CA25-453A-948D-BE006CF45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971A7-75DF-4A00-8139-F9656EDF4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1A0C1-E405-4525-9FA4-5CE10C4D3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E8CDC-4FB3-441E-940D-C682FDBFF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ED152-86A6-4E30-8E8C-AEC3F2538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C5FAA1-A63E-4992-A74D-08CAE5E7533D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хвалюсь крестом Христовы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 проходит, он стои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 лучах Господня сло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рче золота блести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орбь житейская ли мучи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душе ль тяжёлый гнёт,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рест Христов терпенью учи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ир и радость мне да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864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Я хвалюсь кресто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лнце ль вешнее сия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изнь цветёт кругом меня,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 креста любовь свят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полняет радость дн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изнь и смерть, печаль и рад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кресте освящены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ир сердечный, веры слад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 Христе навек дан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06T03:50:29Z</dcterms:modified>
  <cp:revision>12</cp:revision>
  <dc:subject>Slavic hymnal Гимны веры христиан, hymn 864</dc:subject>
  <dc:title>Я хвалюсь крестом Христовым</dc:title>
</cp:coreProperties>
</file>