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9A8-24B4-42E5-9473-F393DD03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1AE-A355-4F50-B14A-7EFAE05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263-0711-4C7B-A7E4-949C45AB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2FC-99C8-4DB5-95DB-1C23E66F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2CF-FD14-49DB-AFF2-B77A58D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1D4-6D6A-440D-8203-C89D9D5F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385-724A-40A1-A9DA-0219C301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EE7-679F-4655-8ED0-571BC97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22B-FF99-4144-9BC4-25936C0B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2A7-98A9-479C-AA9B-F4C048C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E92-CF26-4077-9F84-7A162756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A05-56FB-491C-A6A7-8651A79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FAC4-8C0E-47C5-9411-5C186A4A01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47Z</dcterms:modified>
  <cp:revision>13</cp:revision>
  <dc:subject>Slavic hymnal Гимны веры христиан, hymn 633</dc:subject>
  <dc:title>Сверкали молний стрелы</dc:title>
</cp:coreProperties>
</file>