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A14-246E-401F-B099-E7859156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0AF-B2B3-49E5-89F4-DE5059B8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315-077A-4FE6-B973-FE861676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BB2-4113-4E8A-A86D-DD7DA29D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D35-39F2-4228-B8B0-1238330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508-7ABD-4D62-B797-8109F03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BEA-5174-4AE7-A779-22FE10CB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9EF-CCD2-455E-AF33-4A78A638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16E-D32F-4919-AD1F-CCB9AA5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4C7-660C-49D4-B822-DA0A71A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A67-D147-439A-B041-EC9CB5A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73B-5AAC-4886-BA57-06C8962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65E5A-61C4-4330-8AE1-43A82DEF46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have see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oming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rampling out the vi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grapes of wrath are st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eauty of the li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as born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lory in His bo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ransfigures you a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died to make men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to make men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loosed the fateful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terrible swift s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seen Him in the watch-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hundred circling c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builded Him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evening dews and d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read His righteou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dim and flaring l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sounded forth the 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never sound retr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sifting out the heart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judgement s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 swift, my soul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! Be jubilant, my f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4:35Z</dcterms:modified>
  <cp:revision>12</cp:revision>
  <dc:subject>Slavic hymnal Гимны веры христиан, hymn 890</dc:subject>
  <dc:title>Battle Hymn of the Republic / Вижу я очами веры</dc:title>
</cp:coreProperties>
</file>