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1F4-E9E2-46FD-85C1-CEDFE909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B81-9C24-4C89-A7EE-B291F33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8E2-1A12-4785-BBAB-791733BA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67B-3581-4CBA-A4E7-C342478B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17C-6394-4C58-AE76-538286C6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BDA-B246-4370-B621-4EE20F89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672-BC86-49CF-BD96-F6441E22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288-F386-4EE2-98B8-BEFA70A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C66-355A-4B5E-A491-424A7DA3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6CB-E275-498A-8C88-DF91777B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920-6211-4A9B-8823-0D06C70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70-C788-4C69-8CAF-E1CF2A0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38407-2099-44B0-8F02-F3068B82A9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зов всем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те на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в истине служ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ог живой неведом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м мы земным б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свет про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тьмы освобод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друг! Вот призыв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вопи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ён и ты здо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ткликнись же на 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ж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правьтесь за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ть любов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держителя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43Z</dcterms:modified>
  <cp:revision>12</cp:revision>
  <dc:subject>Slavic hymnal Гимны веры христиан, hymn 538</dc:subject>
  <dc:title>С берегов далёких стран</dc:title>
</cp:coreProperties>
</file>