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38A-4B8B-4E03-84D3-569DA2F8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68C-BA25-4F62-90F7-59909CE9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3B2-B6EB-4BD9-8C45-7D2630E7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F1E-97CF-4CAA-B91B-C9FE4B21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AF3-49EC-4B6D-ACFC-3496835B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E57-4C73-44EA-ABE0-942BDD2E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D33-3B2D-471A-830D-7387F9F0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1B9-C483-46EC-9427-92B1E1E2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06B-22AE-41D0-8CA6-89DDFB3E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9234-8676-4893-8E28-9C038187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97B-8D17-4CAE-8B1B-1F4A9243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F96-B5FF-4E27-9882-ABEAC6B8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3F46B-D4C8-440D-895A-3F8A0508CA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pilgrims we’re bound for our heavenly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tears will no longer be sh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heavenly roses eternally bl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rts of God’s children are gl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путники к род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утники к родине славной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и ненастья, н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ажити мира любовью цвет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ит, как солнце,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pain, no complaining, no suff’ring we’ll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death will our bodies not was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sorrow of parting and no broken hear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e joy in green pastures we’ll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и страданий, ни бу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мерти дыханья, ни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и насилья, ни злобны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частье, там радость, та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land God has promised will soon be attain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ount Tabor’s already in vie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ong of the Lamb will forever be 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those who temptation once kn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лышится клич, что страна 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им поют изд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я та льётся, как Божья р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тречу пришельцам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multitudes stand by the river of lif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deemed by the Lamb from all s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nstantly gaze at the glory of God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new day for us will be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я искупленных кров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ьют из источника бл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ая радость, любовью ч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в их светлых оч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исла пришельцев и их и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ишутся в книге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Бог принимает, а Божья ст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сулит навек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5Z</dcterms:modified>
  <cp:revision>14</cp:revision>
  <dc:subject>Slavic hymnal Гимны веры христиан, hymn 686</dc:subject>
  <dc:title>Like Pilgrims / Вот путники к родине славной идут</dc:title>
</cp:coreProperties>
</file>