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DE8-4A6B-448F-BD12-7B5DCE2D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92D-3649-4D62-BA6B-3FB835E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62E-134D-4A25-AD42-27E7DA48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DF2-334A-4A13-917E-FBF775E1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3CE-3B5C-4317-AA2B-7521D90A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424-C9DD-4615-AAC2-7CD08AB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D6D-13F0-4221-B9A3-C84441A0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8FA-C086-408A-8278-66F30468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E5F-B27D-4A2C-9B32-130FB192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C60-9D7E-469C-BC53-871BC02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AC5-36A8-4BB5-99AC-B333538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A2F-74F8-4E67-8CA7-80A9EE6F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2DEE-32E9-46F9-BBC3-46FF0BA64B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илосер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не сил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азаться вер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 и бессил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молю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идт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ю вле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скорбь зем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в смирен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Божь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ала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и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о и своб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у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отвер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й жизни вку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ша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сех недугов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Исцел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я стрем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давно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кругом буш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уж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реплю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ти по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26Z</dcterms:modified>
  <cp:revision>12</cp:revision>
  <dc:subject>Slavic hymnal Гимны веры христиан, hymn 445</dc:subject>
  <dc:title>За Христом пойду я</dc:title>
</cp:coreProperties>
</file>