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1F3-694E-4621-BA61-2C5AAFE9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9B7-9FAE-4C86-909B-BED61A9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E5B-FE66-4A33-9415-34CAA971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53A-21A5-4630-9D08-D2D8E0D3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8DE-1777-4E43-A714-E30CF5A9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E95-5B3E-45BF-A397-59EDB3AE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248-23E0-4C7C-98B3-4848DE18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801-EC55-4A1C-863F-351761E9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757-377E-4E13-B541-CDC55E4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C01-CFEF-430E-9549-0972AAA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A91-7F68-404A-9541-C810DF7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F55-719E-4065-87D5-37D94DE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6852-84B3-4D23-9CBB-0646B91581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question comes to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what shall your answer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are choosing Chris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ing from all their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shall their happy portion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ing the straight and narrow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he downward roa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 will their final end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ent, believe, this very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the Saviour’s grace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ill your joyous answ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7Z</dcterms:modified>
  <cp:revision>13</cp:revision>
  <dc:subject>Slavic hymnal Гимны веры христиан, hymn 336</dc:subject>
  <dc:title>Where Will You Spend Eternity? / Где будешь вечность проводить?</dc:title>
</cp:coreProperties>
</file>