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BE3E-89EC-475B-99A1-24C55411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A02C-E106-40F9-8435-D8411FC5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9788-48AF-4CE0-8902-772A0380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06CC-5388-4E23-BDD0-47C875E1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B10E-3331-4C28-899A-FE2F8188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A31F-EF6F-4AC4-BD1C-9458F1E5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3050-ECAC-4628-8759-D2C4FBCB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E32F-1473-46E7-8D7A-E0A49FD5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570C-BFF9-40A7-9BBB-05F73FAC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72E1-B965-4CBF-875A-A69EF701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7C1C-4596-429F-A465-D4FACF2C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838E-41A1-433A-A9A4-85C49859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E1C96-8C99-44D9-B073-83DCC8FA1A2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lovely is Your dwelling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 Almigh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 longs and even faints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here my heart is satis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in Your pres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ing beneath the shadow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w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ow Lovely I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cou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hou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ousands else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thing I ask and I would seek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Your beau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find You in th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 dw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cou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hou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ousands else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and flesh cry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, the living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’s water for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tasted and I’ve se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once again to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draw near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draw near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cou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hou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ousands else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2:11Z</dcterms:modified>
  <cp:revision>10</cp:revision>
  <dc:subject>The Source, song number 188</dc:subject>
  <dc:title>How Lovely Is Your Dwelling Place (Better Is One Day)</dc:title>
</cp:coreProperties>
</file>