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B47-F698-4A0A-BFFB-01A0C11D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3F5-6EF4-49FF-9C88-1687B260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C578-95CA-4F69-A02C-3BDCDB7B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FAD0-AD82-480C-85C2-3D1EDA33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E7BE-8E73-4387-AA60-D4A49326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664B-016F-4D60-A079-549C64B9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C72E-50D9-4C8A-90C8-A8A02965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5DF-5FD4-42BC-A29B-1DA97337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4AD-8DEA-4383-AD1A-670C123F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00BE-B7D1-4FDE-ABC5-26FB09C2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8A2E-194C-4423-825B-1431BB9C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3502-5CC7-444E-A111-E0DA5D25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D4C0A-FA11-4690-8B22-C735CA05C43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холм зелёный там в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родской ст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распят был за грех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ем мы спас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холм зелёный т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муки перенё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м мы с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им, что страда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знь нам дар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умер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прощенье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, предав себя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и по Его сле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й Он достоин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грешных искуп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та небесные лишь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 людям отв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0:46Z</dcterms:modified>
  <cp:revision>12</cp:revision>
  <dc:subject>Slavic hymnal Гимны веры христиан, hymn 418</dc:subject>
  <dc:title>Есть холм зелёный там вдали</dc:title>
</cp:coreProperties>
</file>