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43B-FEF6-438D-9802-0B52C43B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39D-1601-4A3D-8FDA-8A2A9011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2BF-C16B-41B4-95AF-69E95FBD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A88-3C25-47D7-894F-526DA2D6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B61-B7BB-4DCB-9954-7301F357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84F-7823-4314-9147-4BD3A870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B4E-74FE-494F-807E-02421CE7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80A-81C2-43D3-91D1-E89E7F1D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BCB-F43D-420B-A0B5-3E2DB6F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A71-82FF-4180-8CD4-B526C707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8F1-2F38-4F48-8C69-4BE62510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238-1EA2-4B65-B6DC-D7CE441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72340-1232-4DA9-AAA1-B9F7C5EAA2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по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й сын лик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к нему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чет пре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н вспоми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очет в знак забве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об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ен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й сын пи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Отца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па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гом найден 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среди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теперь 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и него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его оп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скорби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ят ему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ет их мог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е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ерный Бога р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у Он мир д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битве не осл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Он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Он окру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ию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ерный раб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Господь врач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его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и, хотите 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 торжеств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и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в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15Z</dcterms:modified>
  <cp:revision>13</cp:revision>
  <dc:subject>Slavic hymnal Гимны веры христиан, hymn 579</dc:subject>
  <dc:title>Кто это торжествует и радостно поёт?</dc:title>
</cp:coreProperties>
</file>