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D3F-CF93-4474-8DD8-147119D6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CE7-CDC0-4FE9-AD5A-FD79D0F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F60-2232-4DFC-87CF-75CB9EA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9B6-928C-4E48-BADE-613CF45A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156-B9EA-4D3A-8858-5ED0250D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828-9CFD-4293-B00B-8975AA94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ED9-95E6-4E96-BB0F-FC5D0AB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389-BB54-4D36-97A0-62A364AD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38B-26DA-4142-A1A5-DED509C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D40-4C5D-40EB-889B-2C341EF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478-04DD-47BA-ABD5-76170D7B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FA6-C1E1-4D3A-BEA5-B57D2CE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63324-7B27-4DB4-B4DC-5FF4D360ED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00Z</dcterms:modified>
  <cp:revision>15</cp:revision>
  <dc:subject>Slavic hymnal Гимны веры христиан, Ukrainian hymn 38</dc:subject>
  <dc:title>Standing on the Promises / Вірю я в обітниці Христа Царя</dc:title>
</cp:coreProperties>
</file>