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Emmanu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24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5T02:59:47Z</dcterms:modified>
  <cp:revision>4</cp:revision>
  <dc:subject>The Source 2, song number 675</dc:subject>
  <dc:title>Emmanuel</dc:title>
</cp:coreProperties>
</file>