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734-29AA-4D8C-93E0-EB2F4AA2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6A0-672F-46EA-8F59-E39EE715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C0B-A794-4DEE-B43F-BBDFC063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ACC-FC10-4C10-AB8D-F5F40CCB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AA6-94DC-42DF-8D9C-AC0F4580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2C9-3B5E-4FD9-900B-88E3C545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06B-5D8D-40F0-9CB4-5679272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836-1DB9-4C81-8AF3-7E92B5D5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1B9-DF5E-48FB-AB61-E3FA230A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994-92E4-410D-8837-FA03984F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A97-66EB-4A2C-96F4-AE4B262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27D-E4EE-49E0-B464-DAC8368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6F90F-EF7E-45F7-831C-DADE21103D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е минуты мы здесь пров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стоте и Христовой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нас разлука недолгая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Господ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видания! Здесь 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видания, брат и сест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м молиться, друг друга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Иисуса хва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ие минуты мы зд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23Z</dcterms:modified>
  <cp:revision>13</cp:revision>
  <dc:subject>Slavic hymnal Гимны веры христиан, hymn 743</dc:subject>
  <dc:title>Дорогие минуты мы здесь провели</dc:title>
</cp:coreProperties>
</file>