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37F-4741-4F8B-AFD8-76E80ECE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102-5F79-4CCA-84DF-AB0ABAAF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AEC-E84A-4C8E-85E0-3CC9C8B1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B7C-C661-4455-A6E9-2DA521E7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B49-F90A-41CE-9433-2B26C512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E36-B922-4D33-8822-9167D0A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76C-8558-4A71-8BD4-47A9C85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1F9-1239-49CF-BFE5-E0B73578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BA2-E14C-4BA3-9F08-DB004EE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AEC-8C5C-4A3C-9FA3-B55F1789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AAD-D91D-4B3F-B165-734079E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440-F680-40EA-952A-8118975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5F49-C63B-470B-8107-2696F926DA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41Z</dcterms:modified>
  <cp:revision>13</cp:revision>
  <dc:subject>Slavic hymnal Гимны веры христиан, Ukrainian hymn 31</dc:subject>
  <dc:title>О, радість, радість буде там</dc:title>
</cp:coreProperties>
</file>