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4C6-9507-4A85-AAE1-C2CB4CBC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1E9-CE3C-4F57-9E7B-05F6311E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E7D-C511-4B3D-963B-2F383396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F53-B3C8-4346-AD3B-B0B01921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0B3-BC40-46E3-BB7E-4D05FA8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C77-D387-4677-AC74-DE7D706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436-05C1-430A-B681-9AC0B444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5B1-E679-446B-B289-8D25D9B6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961-CD03-4E2D-A208-2CF4EBF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8EF6-C5DF-4468-AE3C-498E02C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524-A5ED-45C6-99D4-2FA582A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1E7-98D0-4222-B650-1FF08BE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5C835-8FFC-4CC0-B8F9-677D010409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житейским нес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ечности сердцем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 и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ыше я к небу ле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меня мощ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их я спокойно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крыльях могуч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мощными крыльям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о покоюся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приют мой надё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защит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ьются враги на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целятся злобно в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 орли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цари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юсь ли теми кры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ли надёжно на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но мне так и отра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ниях долги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ь мне спокоен и я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чивый путь через мир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я чувств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ьями царств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25Z</dcterms:modified>
  <cp:revision>12</cp:revision>
  <dc:subject>Slavic hymnal Гимны веры христиан, hymn 584</dc:subject>
  <dc:title>На крыльях могучих, орлиных</dc:title>
</cp:coreProperties>
</file>