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B128-85EA-47C2-A6D9-FCFF8D449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A237-85DA-4122-80F6-E9C16435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C54B-6147-4672-9A6B-42F6EF5A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68B1-B8A3-4575-B5EE-09D9B30F7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44DE-49D0-48EC-B216-723935CE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8660-9DEA-4946-B23C-E0E48235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0E1B-5CBE-44A6-AFD0-E659C7F6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E8AF-8196-41BE-8156-AD2B030E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5C43-7E04-4110-92F4-DDF7575D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8EA0-8A03-483B-B8CF-F726BAB7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1688-3463-41DC-9E41-8AD23886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09C0-E7F3-4F1B-86D1-7F1213DF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BB313-0C99-4CA8-984A-78557CAAF57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луч в душе м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ей он всех луч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ветят ярко над землё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луч — Спас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! Чудный свето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аженны мира, счастья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исус являет 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 у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бесный луч в душе мо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есный гимн в душе мо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Царю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 песню слышит вечны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я б я петь не 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! Чудный свето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аженны мира, счастья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исус являет 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 у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на царит в душе м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изок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лубь мира в клеть скор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ы любви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! Чудный свето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аженны мира, счастья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исус являет 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 у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радости в душе м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Ему зв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блага, что Он мне д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счастье лучши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! Чудный свето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аженны мира, счастья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исус являет 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 у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6:49Z</dcterms:modified>
  <cp:revision>12</cp:revision>
  <dc:subject>Slavic hymnal Гимны веры христиан, hymn 587</dc:subject>
  <dc:title>Небесный луч в душе моей</dc:title>
</cp:coreProperties>
</file>