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0326-9535-48E2-9CCE-44590DFE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DB5-D3E7-49C3-8844-36791C09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E202-BD70-48EC-9078-149F74FE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A60-13DA-489D-BE3E-4A1B7874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3CE-B307-49E9-B2F2-2C31C636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AB8C-4D06-4C4D-A150-A8DA63A0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6913-FA91-4102-A048-D30BDCDA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EA3-A99E-43A9-9104-B07AA8FB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8D1-1E17-40B9-8F6A-2CEF1647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5845-2A7D-4C69-8478-F8997638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A86-0789-41D9-8A15-BE128EAF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5DFF-DB2A-4864-BBBB-50B6DDD0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7FD27-957F-4F48-9527-63995A1A7A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свод уже темн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забвенья наст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теперь Созд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в вечность от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 ты правду вспомн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 Евангельи чи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 ты плакать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риста ты не прин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освод уже темне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увы! уж будет поз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льзя уж возвра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, что в жизни раз отвергну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льзя о том прос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иги жизни там откры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кличка там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той книге не записан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Божье не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, сомненья пол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еряй напрасно 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приняв призы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ись к Отцу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1:47Z</dcterms:modified>
  <cp:revision>12</cp:revision>
  <dc:subject>Slavic hymnal Гимны веры христиан, hymn 365</dc:subject>
  <dc:title>Небосвод уже темнеет</dc:title>
</cp:coreProperties>
</file>