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B891-AE69-4C24-B4FE-B05D0AA59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DB51-2105-4D77-BB97-CA4377826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05D4-D54C-4BC9-93EE-CE33C08F8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394F-7766-444A-BBE2-27CF07A9B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858B-7639-4DE3-A5B7-5F2F88F05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D9EC-5E19-4334-BEB3-F00D41F6B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4F64-1545-4FAD-995A-999C997F2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163E-E387-4802-8B30-4CE92C6D5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04BC-E41B-47CA-A013-D96E1111A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0F81-BE38-4395-83C0-3800E8580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C6DE-8C94-43CA-8145-448FF9D8A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189B-81B1-4386-A295-0F14E8F8B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C0C7E6-FBA2-40E4-8022-D52FF80F98B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world is not my h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just passing throu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treasures are laid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mewhere beyond the bl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7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 здесь мой дом родн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десь мой дом род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лец я на зем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ют душе жи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заоблачной стра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e’s waiting now for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heaven’s open doo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can’t feel at h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is world any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родные жд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любовью неземн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живу в этом ми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ир мне чуж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ord, you know I 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friend like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Heaven’s not my h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, Lord, what will I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лишь Ты 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изменный д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б ни свет с неб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еркло б всё вок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angels beckon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Heaven’s open d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can’t feel at h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is world any mo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ангелы по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вут меня дом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живу в этом ми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ир мне чуж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up in Glory-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ll live etern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saints on every h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shouting vic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заоблачной стра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ь вечно буд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хваленьями свят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ьётся песнь м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ir song of sweetest pra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rifts back from Heaven’s sh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can’t feel at h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is world any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дный гимн звуч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ржественной хвал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живу в этом ми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ир мне чуж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ord, you know I 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friend like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Heaven’s not my h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, Lord, what will I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лишь Ты 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изменный д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б ни свет с неб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еркло б всё вок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angels beckon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Heaven’s open d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can’t feel at h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is world any mo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ангелы по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вут меня дом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живу в этом ми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ир мне чуж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angels beckon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Heaven’s open d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can’t feel at h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is world any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ангелы по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вут меня дом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живу в этом ми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ир мне чуж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ord, you know I 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friend like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Heaven’s not my h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, Lord, what will I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лишь Ты 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изменный д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б ни свет с неб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еркло б всё вок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angels beckon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Heaven’s open d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can’t feel at h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is world any mo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ангелы по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вут меня дом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живу в этом ми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ир мне чуж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y’re all expecting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at’s one thing I k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Saviour pardoned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now I onward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уда ушли друз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вёрдо верю 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меня прост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ёт мне нужных с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know He’ll take me throug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I am weak and po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can’t feel at h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is world any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охранит в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робок я душ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живу в этом ми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ир мне чуж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ord, you know I 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friend like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Heaven’s not my h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, Lord, what will I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лишь Ты 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изменный д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б ни свет с неб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еркло б всё вок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angels beckon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Heaven’s open d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can’t feel at h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is world any mo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ангелы по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вут меня дом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живу в этом ми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ир мне чуж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have a loving m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over in Glory-l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don’t expect to s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ntil I shake her h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любящая м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али от всех скорб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томилась ж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ебе своих де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1:31Z</dcterms:modified>
  <cp:revision>14</cp:revision>
  <dc:subject>Slavic hymnal Гимны веры христиан, hymn 672</dc:subject>
  <dc:title>This World Is Not My Home / Не здесь мой дом родной</dc:title>
</cp:coreProperties>
</file>