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6</a:t>
            </a:r>
            <a:r>
              <a:rPr b="1" lang="ru-RU" sz="3600" spc="-1" strike="noStrike">
                <a:solidFill>
                  <a:srgbClr val="ffffff"/>
                </a:solidFill>
                <a:latin typeface="Verdana"/>
              </a:rPr>
              <a:t>	</a:t>
            </a:r>
            <a:r>
              <a:rPr b="1" lang="ru-RU" sz="3600" spc="-1" strike="noStrike">
                <a:solidFill>
                  <a:srgbClr val="ffffff"/>
                </a:solidFill>
                <a:latin typeface="Verdana"/>
              </a:rPr>
              <a:t>Коль славен наш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оль славен наш Господь в Сио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жет изъяснить яз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 Он в небесах на тро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ылинках на земле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Господь велик и сла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очи, во дни сияньем раве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ебя Твой Агнец златору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изображает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на псалтыри сладкостру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приносим фими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от нас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благовонное курень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солнцем смертных осве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любишь, Боже, нас, как ч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с трапезой насы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двигаешь вышний 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смертных, Боже, посещ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ию питаеш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ь! да во Твои се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рянут наши голо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ше пред Тобою п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удет чистым, как ро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в сердцах алтарь постав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Господь, поём и слави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8:48Z</dcterms:modified>
  <cp:revision>3</cp:revision>
  <dc:subject>Slavic hymnal Гимны веры христиан, hymn 96</dc:subject>
  <dc:title>Коль славен наш Господь в Сионе</dc:title>
</cp:coreProperties>
</file>