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73FC-00B2-4D18-934B-A96FE39D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2460-5F20-49BE-BD7B-024BD98F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5B7C-753A-423D-A024-C2B3E0AB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A900-7984-4C5E-9D65-65A49486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EDC-4E84-4787-A7D2-72CC3E05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45B9-69DF-4D99-9A13-6242200D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1334-04E7-414B-911F-907E84BA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2BF-522F-47D6-BE42-CF3F5152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532-E1B6-4C3A-BDB9-5364FE82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2EBA-CE0D-4FC2-AD41-CEA803B3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5D0C-8DFB-4E13-842E-78221869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60D-88F3-454F-84AD-E079F8FD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285A5-4D8B-445B-804F-3F7EC18E453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сильный Царь вселен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ясли Сам избр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дитя, смир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щере возлеж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глядел, как зр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дям говор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, в яслях был Спаситель,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мне чуждым б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есильный Царь вселен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голос я услыш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 яслях был в ч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щеры тесной дыш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к тебе и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 тебе ро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жить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изобраз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 зеркале живо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ко мне яв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освет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в Тебе ро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ал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до! Ты род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ал опять ди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мне всел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сли обре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и ж, Дитя Свято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и во мне,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, дитя земн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дыне не возр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сь я умаля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б в любви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сь преображ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авы вечны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8:31Z</dcterms:modified>
  <cp:revision>14</cp:revision>
  <dc:subject>Slavic hymnal Гимны веры христиан, hymn 232</dc:subject>
  <dc:title>Всесильный Царь вселенной</dc:title>
</cp:coreProperties>
</file>