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4CC-CF26-48D5-9292-C66264B5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CFF-B5DC-42EF-B87F-F14CCD2F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4A3-D87F-4A43-BFE4-5AD09E92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963-D929-4ED9-8B5B-0CB2FA58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E9F-7DD2-4D67-AE4F-5C2A9266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DC86-1A02-41D5-9877-AD5FFD7C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9D6F-669B-43B0-A3A2-DB891E75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832-8CA3-4730-B762-BCF20F98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481-D3FA-41D9-B190-7ADD0E83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A528-3EC5-4593-99C3-0560DC56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176-FA50-4CFE-9000-49048224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C4B4-AAE8-4E28-ACD6-049352B2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321BD-CA6C-468E-BD23-B2ABE5EF6C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’twill be, what joy ’twi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ouls from sin set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life on earth will all be p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’ll be home at l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1   О, радість, радість б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радість, радість буде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земний залишим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м в Божий 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realms of everlasting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will be nothing to ann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here we still must burdens b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we’ll have up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те, стомлені, сум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 вічні радості кра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тяжко, журно в світі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те спасіння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ee of life will ever b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of life for us will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gone our mansions to prepar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lory we will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сте там дерево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ам побачим м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оміннях слави не зем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ийме там Свої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Word does say there’s just on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leads through heaven’s da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don’t chose the onl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ll face an awful f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ом вузьким нам треба 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в небеса прий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ж по ньому не п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й вічних мук при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hoose Christ, the onl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ears may often mar your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aints in glory you will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our God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ж зійдем на шлях ву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живемо час тяж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, в небесах пе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емо в рідний д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conquered death and banished f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v’n He’s led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reappearance can be near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a glorious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воскрес і щезнув ж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, ось, в величн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чудових, світлих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иглядає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9:31Z</dcterms:modified>
  <cp:revision>13</cp:revision>
  <dc:subject>Slavic hymnal Гимны веры христиан, Ukrainian hymn 31</dc:subject>
  <dc:title>What Joy ’Twill Be! / О, радість, радість буде там</dc:title>
</cp:coreProperties>
</file>