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BC9-7B2C-4F0E-A95A-48B90F72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162-DDF6-43BC-BA68-F5B2FA2A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7B1-B71A-4C3A-A2F0-09F797E7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C90-321B-4BE5-A528-8C842788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E2F-77BF-4186-AC5A-5E4FB027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5E7-E9CF-4211-AB3B-ED02F37C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340-F5A6-4021-BD0A-8AE17708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1FA-E2D5-4D0A-B54B-0A94E471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93E-279B-4D51-B96E-EADC76E1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21D-9731-4C0E-A888-CA4D6449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185-350E-45A7-80DF-0B0C4BED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06F-B9F2-48ED-B1FA-F01E357F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FAD67-4F6C-44EA-93AE-353376EF5A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бый скажет: я си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: «вижу!» кто был сле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это сделал Бог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: «вижу!» кто был сле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это сделал Бог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Иисус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Ты распят, н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river I will w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sins are wash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heavens merc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aviour’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ы жизни я вх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мыл грехи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и С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явил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from waters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saving arm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salvation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 has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усь я из гл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и вечно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что в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вой жизни я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Иисус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Ты распят, н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3T09:31:02Z</dcterms:modified>
  <cp:revision>14</cp:revision>
  <dc:subject>The Source 2, song number 862 in Russian</dc:subject>
  <dc:title>Слабый скажет: «я силён» / Let the Weak Say “I Am Strong” (What the Lord Has Done in Me)</dc:title>
</cp:coreProperties>
</file>