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B10-2C01-4C86-9BAD-E7D42128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BC3-8CA5-4B4B-B7BB-DD919FC9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89C-2DF6-4855-9498-424C075E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1DB-DBF1-4DB1-B785-D72DDFF6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CF4-FB14-47C6-AB1D-06AA4CF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F97-27D0-4C1B-8C5F-DAD36B58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8B0-AB30-438C-95BF-6B9FF0CD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32B-93A4-4C65-81B2-17E382A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84B-7B5C-48B6-A988-8C7405D1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2ED-9676-4218-8EE0-36E9701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F22-512B-401C-8F02-0D631E09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841-22EE-4750-9CE8-AA8936DE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A40D7-356A-4FFB-A1C5-26A13D459D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я блуж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но все силы расто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Бога я блуж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без Бога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рех мой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тяжк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теперь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45Z</dcterms:modified>
  <cp:revision>12</cp:revision>
  <dc:subject>Slavic hymnal Гимны веры христиан, hymn 432</dc:subject>
  <dc:title>Вдали от Бога я блуждал</dc:title>
</cp:coreProperties>
</file>