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384-CBB3-425D-957A-7D1683DA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911-2400-4441-9C57-F83EA03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C72-DF40-41A7-ABF0-F302AAB1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D00-B9EA-4FD8-B382-64CB6216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949-ABF0-41CA-B4E4-D3341D6E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4DC-4F88-4AE1-9723-85226BB8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072-E41A-4AAC-B3E2-FE246C98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913-7ED2-4E25-AAD3-6607E9A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BC3-B501-483D-AA76-2BAC9D2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AFE-E6F2-4530-B08A-B803714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F76-67BC-4FED-A5EB-C7DF23A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317-40F9-4FA2-B9E8-6AA75EFF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5B71A-6CEB-41DA-8515-836729FF48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   All I Once Held D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7:59Z</dcterms:modified>
  <cp:revision>10</cp:revision>
  <dc:subject>The Source, song number 11</dc:subject>
  <dc:title>All I Once Held Dear (Knowing You)</dc:title>
</cp:coreProperties>
</file>