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DD8-0EF0-4B88-8403-F7401EE9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601-2C0A-40FD-8A18-BD751655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A43-2458-48DC-AD16-B0D29884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E9F-5626-4B8E-AE25-6BCDEF34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047-BB41-4C63-9981-145786E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728-E8ED-486A-BE4F-C3C6C1C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DAF-E7B3-45EF-9939-C2054F1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B25-7A58-415C-8F0B-EB8D498F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A8A-EAF1-467B-8ACE-9432A13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A02-CA68-4DF5-A330-1D71144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5A8-A1A6-4EA0-B126-8310C29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B42-035C-4823-8FC9-34FA38E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C1752-411F-42C7-8D46-CB6BF46E41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7:11Z</dcterms:modified>
  <cp:revision>13</cp:revision>
  <dc:subject>Slavic hymnal Гимны веры христиан, Ukrainian hymn 14</dc:subject>
  <dc:title>Люблю Господній дім</dc:title>
</cp:coreProperties>
</file>