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25F-29E7-4865-BD28-95248081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601-A2C3-4DEF-8BC9-234AE0F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FD2-C9CE-4004-96B7-AF669843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194-4236-4C71-9F56-1F9B0199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DCA-78EE-400B-93FB-A01C0019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7A9-FCC2-4AF8-BBCD-70AE35BF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F84-5B14-4DB1-9F9E-15CB60B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1D0-9A80-45D8-8DA2-A6EAEEC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2A3-2606-42C7-B0A2-BD3B6A47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E61-D7BC-4935-BD46-F75C76D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A0E-E31E-4AEC-B328-96A9C0B3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6B9-6C06-4D6B-B030-7AF30AE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EE5A8-6C65-479F-B841-07E2F79303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01Z</dcterms:modified>
  <cp:revision>13</cp:revision>
  <dc:subject>Slavic hymnal Гимны веры христиан, hymn 821</dc:subject>
  <dc:title>С Тобой, Господь</dc:title>
</cp:coreProperties>
</file>