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51D8-228C-4BB6-807D-A837EE831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4E2F-2B1F-4A4F-9334-F908DD29D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F4A3-97A6-404A-B3D3-0F73862AE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AA13-1980-404E-9A0D-DAD333A6D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01BD-2DA5-4928-9C21-D441039F3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A2F2-2785-4791-8E94-3A30FCBC3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4582-DF3C-4AE3-A08E-C0FE0391E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1823-5F05-44D1-BF74-0C520E83A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4723-E599-47FE-BAE3-A9045FE1F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1552-A4F6-4841-ABF9-1152AA96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E500-013C-47E7-ACDB-302CA02B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AE0A-9AA5-48AB-AD66-7DD5B588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F35920-6792-4DC2-B433-4A1759E1BB5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loves me! this I k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Bible tells me s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ttle ones to Him bel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y are weak, but He is st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6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юбит мой Иисус ме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мой Иисус меня!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твёрдо знаю 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етей к Себе зо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 руки их бер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Jesus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Jesus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Jesus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ible tells me 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Он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твёрдо зна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loves me! He who d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en’s gate to open wid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wash away my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His little child come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любви и добро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традал Он на крес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меня Он кровь прол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ю Он меня омы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Jesus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Jesus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Jesus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ible tells me 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Он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твёрдо зна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take this heart of m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ke it pure and wholly Thi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has bled and died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henceforth live for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чень любит Он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с жаждою вре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нят сердце ино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найду отраду 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Jesus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Jesus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Jesus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ible tells me 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Он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твёрдо зна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loves me! He will st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lose beside me all the 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s prepared a home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omeday His face I’ll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Он! Он вечно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Его навек душ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никто не повред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всех зол Он сохран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Jesus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Jesus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Jesus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ible tells me 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Он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твёрдо зна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4:14:39Z</dcterms:modified>
  <cp:revision>12</cp:revision>
  <dc:subject>Slavic hymnal Гимны веры христиан, hymn 869</dc:subject>
  <dc:title>Jesus Loves Me, This I Know / Любит мой Иисус меня</dc:title>
</cp:coreProperties>
</file>