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563-4DA1-4089-B35B-89783C59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9C6-7EE4-4C0F-916D-812BCC20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38C-6FDF-4F0E-9240-A5621475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2B9-00BE-4602-88FC-8BD33D98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38E-C3DA-4490-AA31-7D594A7D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4B3-09D4-4B60-81E9-F4F08BA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F5F-493F-4118-881E-83A45CD0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9A0-D3D8-47D7-8423-6D5A278F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EF3-0F9F-4727-A48C-CC5A471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89F-D456-4D34-AD6C-71D6EEB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E3A-4EAE-4B21-B735-ED9BDED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61A-EABD-4A3B-96B3-7B6975C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5E25-EEA9-4939-9215-21AD332F85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5   Нема Бога більш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лою Духом 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38Z</dcterms:modified>
  <cp:revision>13</cp:revision>
  <dc:subject>Slavic hymnal Гимны веры христиан, Ukrainian hymn 95</dc:subject>
  <dc:title>Нема Бога більшого, як наш</dc:title>
</cp:coreProperties>
</file>