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99E-372B-4C79-B83A-1F17DE4C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0AE-619B-444B-9E3F-CF914762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A6B-CE3D-4B3B-B4DF-AF33CEBF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368-0541-4FB0-B96C-C715E332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625-D060-432B-9001-5DA5E64A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0EB-EEFF-4DAA-948F-F1A6188B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7ED-9B8F-42BC-BBAB-449D52A2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FE1-B4FC-4A78-9558-74D7FDD9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BDA-C4C3-4544-9AE7-0A4D8A7A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3C2-83F5-4ADC-9B7F-B57357D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99F-E249-4E41-8A20-9F8FF90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FE1-DDB2-4C85-8AF0-A5A6F02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AE9C2-25D1-401F-B39E-BCB14553F1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ing for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thy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battling for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hou s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more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lead you safely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hickest of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conquer in 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urning from the 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f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surely by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battle for the r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er of His m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promises shall ne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6Z</dcterms:modified>
  <cp:revision>13</cp:revision>
  <dc:subject>Slavic hymnal Гимны веры христиан, hymn 501</dc:subject>
  <dc:title>Be Ye Strong in the Lord / Укрепляйся Христом</dc:title>
</cp:coreProperties>
</file>