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962-5A6A-48EC-B7EB-ADB872A1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943-3F9F-43CE-BDCE-01291DF9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BB5-24D5-426B-B519-FBEBDA75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A92-B0F9-4E35-B85E-5ADBFF82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306-0032-44B0-BB23-62484C30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706-631C-4211-BE69-AA22E1BB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CC8-FD0B-4980-9AD7-710196C9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363-F73F-4870-AEF7-43DD30CD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09C-8390-460A-8ACA-012655C8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B81-21B7-4053-98CA-E5B2A2F8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C7D-ABBD-44B0-BB1D-222EFBB2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943-A2DB-4692-B0AF-A5D4D99F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5087D-07E5-4D87-B3FE-90770DDF17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й, страдалец, чашу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й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а Господня в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а Господня в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й, страдалец, чашу г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ь, укрывшись от нар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Христовых н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гонит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я даст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гонит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я даст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ессилен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 хотел у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зор твой Он расши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овняе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зор твой Он расши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овняе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дорогой то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, не спе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крест неси поко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олит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крест неси поко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олит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изб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емных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слышишь прибли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х пес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слышишь прибли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х пес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3:35Z</dcterms:modified>
  <cp:revision>12</cp:revision>
  <dc:subject>Slavic hymnal Гимны веры христиан, hymn 711</dc:subject>
  <dc:title>Пей, страдалец, чашу горя</dc:title>
</cp:coreProperties>
</file>