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75E-E49D-46EF-B822-85667FC9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E2A-F193-438C-BC43-25886A16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8CF-58A6-4F32-AC0C-1FC48164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111-E8E2-4C5D-A42C-99BDB164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A27-3F0E-4C61-ABA1-CAA75B1C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584-BFDD-4F93-8CBB-C9BE6427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0FF-93B8-460C-86E6-4A799CF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BC9-2E55-4DCF-8354-86C6686A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FD6-DFBF-45B0-90ED-075E6998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EC7-528B-4F37-A2FA-BF56002E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1A8-436D-44A4-940C-51D1819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BFF-158C-44E3-B246-43E9503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25F50-AF5A-4714-9E28-A5A4B69B80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6   Your Blood S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testifies in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s of the Father’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ay for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oldly we approa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earthly conf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nly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05Z</dcterms:modified>
  <cp:revision>12</cp:revision>
  <dc:subject>The Source 4, song number 2186</dc:subject>
  <dc:title>Your Blood Speaks a Better Word (Nothing But the Blood)</dc:title>
</cp:coreProperties>
</file>