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BC9-F92A-41D0-AE94-A89A370B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578-5F8C-43B3-A886-3F1243F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39E-3B94-4835-BC76-09D494C9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845-7AC6-440E-91B9-4AC0C0E0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5C3-9EDC-4FFC-9056-B99402E4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DE8-07A9-4964-A946-CED0B1E7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6F0-E503-468B-9F46-F85F36E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30D-1623-429A-BAE3-F4ACE45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5C7-24C2-4AC3-BC9C-365A6EB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2EE-DB3A-411D-8339-C79FED79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683-41D7-47C4-A694-1CBFB99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39E-64D5-4807-9220-F66E65A5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5108-771D-472B-8368-ADC3E755AB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ещё поко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правдой успею по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молод, хочу весе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е о чём больше т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пею принять по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вперед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получу оправ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еки расстанусь с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спею ещё покор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 мире теперь наслаж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рихоти, прелестей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ть я успею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за сделанный гре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юноша бедный, несч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шибся он в мыслях сво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есяц и случай 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ментально беднягу пост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смерть у ног уж сто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а твердил всё боль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во что бы ни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уляю, пока молод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ряет больной свои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ься Творцу уж н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брушился край у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л: «Поздно…» — и жить пере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48Z</dcterms:modified>
  <cp:revision>12</cp:revision>
  <dc:subject>Slavic hymnal Гимны веры христиан, hymn 774</dc:subject>
  <dc:title>Я успею ещё покориться</dc:title>
</cp:coreProperties>
</file>