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F96-8F7F-4B6E-98C8-E68D65BC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E6F-444B-4FB1-8FEC-F1B803B8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AE9-8422-41C7-8AAB-1FD6ED24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905-0780-42B5-9C84-E6847910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258-2977-4C7F-91C1-44273723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D5E-E903-4C3C-8B10-A0AF8F0C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30F-3729-499B-BFBB-612C8945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ED2-6CD3-442E-A302-D645468B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F8C-BB42-40F5-A57A-EF9E9C65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0C4-73E1-40C1-B8D7-3DC487E8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436-963B-4BC1-A2BB-D3D3985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4A5-FE4A-4488-83B7-9367EBE0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2CDAD-F85E-4823-97A9-5E63C0E8A5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’ve forg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ds that You have spo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s that burned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have now grown d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doubting heart I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aths of earthly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me for my unbel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new the fir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32   Jesus, I’ve Forgo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built a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 worship things of m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taken jour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ave drawn me far from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now I am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mercies ever f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rdon my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love You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longe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tender mer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river of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flowing without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bow my heart befo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goodness of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forever sh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beacon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01Z</dcterms:modified>
  <cp:revision>12</cp:revision>
  <dc:subject>The Source 4, song number 1932</dc:subject>
  <dc:title>Jesus, I’ve Forgotten (Lord, Have Mercy)</dc:title>
</cp:coreProperties>
</file>