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369-FF35-4CB1-A826-30420B8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FCF-A985-43DF-B6E3-16BE0870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F42-76D0-4C23-A8DB-13C8D431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DEB-5F1E-4174-8065-C47F4607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F08-EB4D-40CF-8418-D0680C0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83F-4E79-4845-8840-9CDBC6D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40C-ECEE-482F-929D-9CC779C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116-E629-4D0E-948C-C2F9F7F4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A9D-5C4D-41D6-B381-0079B43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DFD-96FC-4E09-829B-92F503F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023-80F4-4E40-B960-8EB2015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D36-FAE5-4E8D-987A-32D81F1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EC4C0-2554-416A-819D-6AFA611876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9:40Z</dcterms:modified>
  <cp:revision>12</cp:revision>
  <dc:subject>Slavic hymnal Гимны веры христиан, hymn 338</dc:subject>
  <dc:title>Грешники, к Христу придите</dc:title>
</cp:coreProperties>
</file>