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ACA-32FF-413A-AE3D-5CD7D5AB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C2E-8843-41B9-BDDA-F7DF7DD1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D3C-7F02-47B2-A5DD-0515DC85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A9B-ACA2-4D2A-86A4-C06FFD41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C6E-F115-4E9A-8792-2618AAF0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46F-F304-47EF-8856-453193DD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B23-0300-49CF-9831-FF03129E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2BB-CA32-40F5-9E1F-D21A3B04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66D-EB93-4DFF-B3C5-308DCCEA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04C-F2DF-4415-9938-AE8EFDAF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497-27B2-4B80-A08B-63A120AC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002-DFD2-46A5-8DA6-9B0A30BE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99CFB-96C4-490D-9538-50BA206748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praise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 for ever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ill praise His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возвеличе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го я прослав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и я поклоню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ени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ever His truth shall re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 and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joice in His hol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есть Господь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Царство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оды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клонят колени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 вов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5:52Z</dcterms:modified>
  <cp:revision>12</cp:revision>
  <dc:subject>The Source, song number 156 in Russian</dc:subject>
  <dc:title>Он возвеличен! / He is Exalted</dc:title>
</cp:coreProperties>
</file>