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4F0-EBEB-4B2C-9C1E-10C97029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81B-8F24-41C5-9265-86D759C1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09A-22FC-4B07-80DD-6310FA8C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A5E-59CE-401C-AF04-3CD5DA3A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101-61B6-4C4D-B4AB-41BF2048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0D7-F569-45A8-B352-EFE06F33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324-C6AF-465E-98FB-FB8C2A57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160-F207-4459-ABA4-48EF5166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AF5-5839-4F1C-810D-2FC8C229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F00-82A0-42A9-AB8D-4BC2716D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5BF-F473-4ADB-AB1D-9CF7E93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1C5-A5F7-4357-81E9-56BEFB9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F8F2B-AF89-4E70-97A1-AFAF77B32C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our Father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s of His love in the book He has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things in the Bible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earest: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лове Своём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Своём Христос 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знал, как Он люби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вятой много вижу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отраднее эта мне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assurance I find sweetes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in Jesus, I know I am ble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, dismayed, from my soul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th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just tell him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покой в упованьи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к Господу с верой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 сердце его станет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 любовь Иисуса твер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I forget Him and wande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He doth love me wherever I st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 to His dear loving arms would I f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remember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вела Его с чист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несла Его за нас на кре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что любит Спасител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кже люблю Его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if there’s only one song I can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His beauty I see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hall my song in eternity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wonder that Jesus loves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биваюсь я с Его пу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мой ищет овечк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гам Его я вернуться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юбовь за любовь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and I know I lov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brought Him down my poor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de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t was love made Him die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I am certain that Jesus loves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стану я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Его сатану отго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 грех убежит о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помню я: Христос люб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ne should ask of me, how can I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Jesus, I know very 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Holy Spirit with mine doth ag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tantly witnessing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еснь прекрасная в сердце м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спою я на небе свя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во сла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вторю: как Он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2Z</dcterms:modified>
  <cp:revision>14</cp:revision>
  <dc:subject>Slavic hymnal Гимны веры христиан, hymn 601</dc:subject>
  <dc:title>Jesus Loves Even Me / В Слове Своём Христос учит меня</dc:title>
</cp:coreProperties>
</file>