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413-E5F6-4DF1-923C-CEB18E65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E5F-B51D-4D9A-9989-23468745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05B-BF1D-44F9-9B84-31AB284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003-C838-475B-9F67-5B07A877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F8A-55A2-4ED4-8FEC-14D74E79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BFF-5BD7-41A9-906A-07AF326C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DE1-F3FD-4C79-994B-D0DD992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D9E-138E-4FAA-8749-3F90F6C0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D81-515A-433B-BE27-B62ED37A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9CB-70E9-4127-A703-84D94BB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23D-7A11-4756-B5A5-60BFCC7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7C3-476F-4792-A337-9A12E46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78523-28AE-468C-B242-C335BE501F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хе и ист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ю ел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лонень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татка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есть вну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пр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здох для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засл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полна запла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смыл мой 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рушил м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ть про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т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23Z</dcterms:modified>
  <cp:revision>12</cp:revision>
  <dc:subject>The Source, song number 265 in Russian</dc:subject>
  <dc:title>Предложу Тебе я жизнь / I Will Offer Up My Life (This Thankful Heart)</dc:title>
</cp:coreProperties>
</file>