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045-640A-4C7E-84AC-AA60D4A3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C95-0AD6-4232-9049-50651512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641-6594-42D4-94B1-DA6E9315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188-59D3-4ACF-8971-481A2D54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2DB-D981-4C30-88FA-68383CEE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4AB-EF2F-4D05-BCA5-DEFEC8B4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8F2-AB4F-4098-B78D-07E51023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D51-14A5-4C85-B4A0-4156B53C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959-91EE-4085-9448-82A138F5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7C2-F04B-4231-A70A-43586FEF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450-01C4-40F3-8A21-E299DBB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0D2-6AE1-4F4D-98F2-00E48390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5934E-794A-463F-B31A-5510B5D93D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0   Він обм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sins He forg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гріхи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, що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8:37Z</dcterms:modified>
  <cp:revision>12</cp:revision>
  <dc:subject>Slavic hymnal Гимны веры христиан, Ukrainian hymn 100</dc:subject>
  <dc:title>Rolled Away / Він обмив</dc:title>
</cp:coreProperties>
</file>