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C570B-7B93-4F56-B93A-CB72FF36D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3610C-47A1-4666-8D0F-0AB1CCD53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2EE80-A2C9-42A3-8D7D-53840468E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8953E-C877-45DD-98FD-2947C6746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6DBF1-71D1-400A-AFF0-7142B9B7E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0F3DF-54EC-4183-8795-C1E725AEF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4E5F7-4F3B-4D45-A7EB-7C47E0120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E82D6-C255-4D1F-85B8-7331C8AAE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8D537-CAC2-45AD-B7F7-D908D641F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E368F-8FC0-4FD8-9AE9-448A5824B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FB8B4-A38C-42C3-9126-251A017E0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2F153-C950-4D5E-89C7-3BA451951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9ED731-6C7A-4836-BA7C-36723F5FD4EC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посвяти Иисус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Юности сил не щад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ой живою согрет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битву за правду ид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ын Божий стал нам пример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пред тобой впереди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ь, надежду и веру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для Него посвят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49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сё посвяти Иисус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посвяти Иисус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верными вместе терп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 всеоружьи Господн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битву за правду вступ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посвяти Иисус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бо войдёт в твою груд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от всезрящего Бо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йся скрывать что-нибуд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ертвуй собою в смирень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ь на тернистом пу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а святое служен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для Него посвят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посвяти Иисус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верными вместе терп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 всеоружьи Господн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битву за правду вступ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посвяти для Иису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ём сердце радость най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и несчастных сходил 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вечных, небесных высо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шу Свою положил О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обречённых спасти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зум, желанья и силы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для Него посвят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посвяти Иисус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верными вместе терп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 всеоружьи Господн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битву за правду вступ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13:44Z</dcterms:modified>
  <cp:revision>12</cp:revision>
  <dc:subject>Slavic hymnal Гимны веры христиан, hymn 549</dc:subject>
  <dc:title>Всё посвяти Иисусу</dc:title>
</cp:coreProperties>
</file>