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5BD-8B59-467B-820C-3026706B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FCB-64BF-46DD-A929-3EED8C07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27D-7C09-4D1A-82AF-5EBD1B98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F55-F30C-4D66-984B-685E908F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C66-6951-4EB0-8FE3-628D3619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0ED-A961-46ED-9E28-04E3D79F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5A5-24B8-4025-8E4D-2DDA2872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FBB-1F9C-461F-9C2F-D25CF5DC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A70-A40C-4E43-9E2E-3CCFD82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D0B-773A-4554-A853-8C3F8084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DD4-9E65-4694-82AD-E4C7B81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F73-C7F5-46A1-BB60-B83F4362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16167-95F1-42B2-A7DB-3FE1FB118D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dly life’s billows ’round my soul are beat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erce is the tempest, dangerous is the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riven by terror, I come to Thee,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ther in heaven, O hear Thou my ple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5   Сумно бушу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о бушує життєвеє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илі мій човен гойдають і б’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мертній тривозі, в великому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молюся, ― не дай пото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y great mercy, help me, I implore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 have I struggled, but to no avai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trength is spent—I cast myself before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, my Father, without Thee I fall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лянься на мене, спаси і помилу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днів моїх ранніх зі злом я бор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боротись не маю вже с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помилуй! ― благаю, мо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to the calmness of Thy harbour guide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stil a peace and trust within my so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mid life’s tempest stay Thou o’er beside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 me at last to my heavenly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иху пристань, де Твої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став спокійно човен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ря бурхливого шляхо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веди швидше, мій Боже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6:37Z</dcterms:modified>
  <cp:revision>12</cp:revision>
  <dc:subject>Slavic hymnal Гимны веры христиан, Ukrainian hymn 85</dc:subject>
  <dc:title>Wildly Life’s Billows Are Beating / Сумно бушує життєвеє море</dc:title>
</cp:coreProperties>
</file>