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5E2D-4BED-49D1-898D-0FE5F37B0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8021-08BF-4200-8E4C-0C7961FC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FF1C-DBEA-4D57-B8E5-65F835EE3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F998-59B8-41EE-8E54-0A13A5196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E956-3E74-49DD-BDE3-F1E0EDB4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D9A8-16B4-408B-BDAD-CB8F40BA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B3D5-C8D6-45D6-BB4F-172D3838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C7B6-3DCD-46AB-B0BE-8D0577B3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5CF0-FD18-4040-8F5B-039BEB2C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932F-89D1-47B4-A860-9266EBAA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C524-376D-4E94-8038-0A78E691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C564-05A5-46A8-96E0-D5C4BA08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CF97E-15FC-45B5-AA57-8DD851D56B3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 come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throne of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find rest in Your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ullness of j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worship and wo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behold Your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ing “What a faithful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ve I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967   Lord, I Come Befor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a faithful God have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a faithful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a faithful God have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ithful in ev’ry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of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heard my c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storm You’re the beac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ong in the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shelter of Your w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my heart’s rep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ing “What a faithful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ve I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a faithful God have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a faithful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a faithful God have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ithful in ev’ry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all sov’reig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anting peace from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e comfort those who s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the comfort You have giv’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tell of Your great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s long as I l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ing “What a faithful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ve I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a faithful God have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a faithful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a faithful God have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ithful in ev’ry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7:37Z</dcterms:modified>
  <cp:revision>12</cp:revision>
  <dc:subject>The Source 4, song number 1967</dc:subject>
  <dc:title>Lord, I Come Before Your Throne of Grace (What a Faithful God)</dc:title>
</cp:coreProperties>
</file>