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CD92-05B8-4F09-A40D-D14314CEC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A872-1060-45E1-BB9E-745BF7F8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DA99-EF24-44AF-B13E-F5E765311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D6A4-FFA2-4986-90F7-72A449BCB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B896-00ED-4866-9965-5FF6C0D4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459A-22FE-414B-9944-31495299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F566-01E0-46C7-9FCB-8387E6FB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0145-9766-4531-B745-188C5ABC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E81F-1045-4FDF-8921-9C2D8DCE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D95D-E624-4C0C-A2A2-1519A231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4A41-2618-4AA4-BA70-45F73989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0C09-3450-4394-9CBD-6CC46FDB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4E31FA-44F4-4EA6-8D4B-3F12B917DFA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то мне радость даст?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скорбях взы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сердца у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я узн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одном на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рады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дышу я, без Н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мира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5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то мне радость дас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вечно с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 Вождём мо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траданьем искуп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С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бя, мо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еперь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бе Он в сердце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 пошл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ж ныне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к Н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услышишь: «отой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во тьм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ж ты к Н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остоте прид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навеки свет отра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айдё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3:08Z</dcterms:modified>
  <cp:revision>12</cp:revision>
  <dc:subject>Slavic hymnal Гимны веры христиан, hymn 451</dc:subject>
  <dc:title>Кто мне радость даст?</dc:title>
</cp:coreProperties>
</file>