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A05-8E00-4681-8E1B-2CEA1DA7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4C1-2418-4DAF-9B7D-D612DA3C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F5A-F1A0-4DB8-A378-31E0EAF3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486-FE79-46FB-B152-D1845AAC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01D-CFD2-4A7A-878A-E674BC00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5CB-3BD6-4DC2-9774-1AB647F8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55A-FFD8-4F2E-BD63-98CEE49D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E01-CCE5-4CD4-AF45-38A46E3E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D6C-9314-4885-AAA0-6F2C5E26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F79-8D3D-44F0-BF2A-860D76D8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681-79FD-4CD6-A45E-AF382BFA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0E7-EEC4-4B9D-9E27-DC6C4BAC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20C5E-2D01-43BC-8490-1825AFA2E8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итель моя у потоков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там не блекнут от зн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ое царство лучей золо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совершенной,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душой в надежде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, где нет зла, ни стр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ы, Господь, идти за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чизну чрез тьму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битель моя у потоков жив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та сердцу дорож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я отдохну от бор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есто мне есть у Царя мо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земных иску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нчится путь, нет бури в ду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ере победу мне дал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женных толпой, как радостн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 вечную славу призвал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ей там увижу, их смерть уне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на земле разлуч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тонов и спали оковы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би там радость смен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вятом пред Господом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мы в песне воспря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гнцу, что смертью смерть побе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славу и честь не преста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8:32Z</dcterms:modified>
  <cp:revision>13</cp:revision>
  <dc:subject>Slavic hymnal Гимны веры христиан, hymn 673</dc:subject>
  <dc:title>Обитель моя у потоков живых</dc:title>
</cp:coreProperties>
</file>