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587-AB58-4C8D-B901-4515B98F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25D-29E0-4332-A270-117E52E7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06B-75BE-4E1E-AFC8-0EC1E453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512-1A44-478A-B29A-1CB4A163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B31-EBEA-4BAD-BA59-9E0B21D9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918-094D-4EBC-8F91-7D1613C5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33E-C935-496A-81B8-C3C7BD42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FCE-C851-43B2-859E-AB86708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C2F-0168-4AE3-B404-7EFD1C78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BB5-40E6-4704-82FA-25D040E1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C2C-87A2-4E6A-AC4E-31953AC4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8F9-7B73-48FC-BC77-580416A7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E9290-8541-4D55-830D-89D20B983A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 Христос ли я и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ин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ться ль мне встречать вра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дится ль мне 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а Христом ли я и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ль на небо понес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укете пышных 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гие в бой и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ют потоки слё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вижу ль пред с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ль призыва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е спешит ли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мить Господень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бедить, иду я в 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дай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но всё перено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06Z</dcterms:modified>
  <cp:revision>12</cp:revision>
  <dc:subject>Slavic hymnal Гимны веры христиан, hymn 793</dc:subject>
  <dc:title>Не за Христом ли я иду?</dc:title>
</cp:coreProperties>
</file>