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CD9-6E37-4805-9E12-73679FDD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994-C21B-47B3-B811-31A6474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194-75A1-428A-AEBF-DC9CD9CD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D51-F837-4155-92E2-734E0234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C2C-21E4-4A43-B184-9CA5AB7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BA1-2ABF-441F-94A3-D82372A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0BB-1508-48A3-9831-A816E5D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3CF-1553-407B-A1C8-03DB4664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92F-78F5-4DD1-AA1F-162D8F8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7C0-6A4B-40F5-86E9-ACBF22F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E9D-D8FC-44B3-9E96-A0955F2D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7CC-B624-42D8-A550-A14669D4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DC430-EFCC-43A5-81C6-DB8CA6B863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ый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Господь, чудны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 я: все мои дн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шь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х руках, меня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влечёшь меня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Святым мне Твою во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аж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полнять пом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ь Своей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, чтоб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я пр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преобраз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рядом буд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3:18:38Z</dcterms:modified>
  <cp:revision>11</cp:revision>
  <dc:subject>The Source 2, song number 640 in Russian</dc:subject>
  <dc:title>Славный Господь, чудный Спаситель / Beautiful Lord, Wonderful Saviour (The Potter’s Hand)</dc:title>
</cp:coreProperties>
</file>