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E2DC-12D8-4ABE-8674-3B65F041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B127-BFA0-4D09-9EC4-DB0C1BDA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5214-BCA4-49B7-A001-7999A955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3F17-5D28-4C32-BB92-D3EC7D0E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27E0-FFE4-4586-A765-CD6CEE6B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5EF-1B0A-4DE1-AE25-F71DF041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2670-B00A-4364-8FCB-8AAAB584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1D80-E35D-4985-96C0-043F20D7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1447-7D26-4BEC-B3BF-D22F11F6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C828-F730-4586-B39F-45779A28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D8A-1D6E-4E3B-BEBF-72D38E21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D3C5-648C-403A-B88F-1E2E83B1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86409-323A-4AE0-A98B-5D5F768AA3D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ecret, in the quiet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tillness You ar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ecret, in the quiet h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it only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3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n the Secr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know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hear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reaching for the highest go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 might receive the pr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essing onward, pushing ev’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ndrance aside, out of m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know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hear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4:07Z</dcterms:modified>
  <cp:revision>10</cp:revision>
  <dc:subject>The Source, song number 233</dc:subject>
  <dc:title>In the Secret</dc:title>
</cp:coreProperties>
</file>