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3D2-6BD8-4AFE-84CE-D17E37CB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BA1-96C1-49E1-917B-84B079C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91D-2FE4-49EB-BA5E-7000D374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B76-F0FD-4F5C-83F8-64FA4D5C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985-A97C-49E0-906C-1E07182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C48-1CE7-4037-B22F-8F5398A9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965-49A7-4CC4-8425-2C613A3A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895-3F37-4454-9310-3C113E9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273-A489-4E1B-B091-C80A875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B8B-AEF2-4ADD-984B-C769F490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DEC-93CC-4A0B-81E8-ED1D469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B88-E1E9-4E1F-8793-F39C619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73815-BFB3-47DF-910E-12455609A2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28Z</dcterms:modified>
  <cp:revision>12</cp:revision>
  <dc:subject>Slavic hymnal Гимны веры христиан, hymn 816</dc:subject>
  <dc:title>Люблю я мыслить о стране</dc:title>
</cp:coreProperties>
</file>