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B0D8-0458-49E5-8A4B-628FA2F7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91A8-9317-4D2B-B368-6AA5FC9D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1FE4-D15B-4926-8CDE-86AF213F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E41D-F136-42F6-941C-D953214EF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8903-091A-4702-A061-09B28E3C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592F-E705-4B9A-9F6F-969FA789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5B32-D0E9-4C33-94E7-B7F927FE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7EAC-0FCE-4009-8AC8-605AEF1F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1EAB-321D-46AE-8677-AB779CD6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ACEE-2D2B-427B-8892-DE0D7461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331F-961C-4288-B9DC-CE387659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1BF9-1801-4050-A0C9-5D79F1C3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8F582-E0F4-4AA0-9D55-3C475948E77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Christ my K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ro’ eternal ages let His praises r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lory in the highest I will shout and s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рю в обещания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ю в обещания Христа Цар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еснь хвалы пою, к Нему душой смотр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Слава в вышних Богу!» уж взошла зар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 в обещания ст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 в обещания стою, стою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верой в обещания ст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that cannot f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e howling storms of doubt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ear ass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y the living Word of God I shall prev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ю в обещания, Ему хва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страшусь я грозных бурь греха и з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ишь бы милость Божия со мной бы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 в обещания ст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 в обещания стою, стою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верой в обещания ст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Christ the L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ound to Him eternally by love’s strong c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vercoming daily with the Spirit’s Sw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ю в обещания Христа ко м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тдаюсь Ему я всей душой впол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хочу с Ним быть на правой сторо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 в обещания ст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 в обещания стою, стою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верой в обещания ст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I cannot fa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st’ning every moment to the Spirit’s ca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sting in my Saviour, as my all in a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ю в обещания, я в них креплю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агодатью Божьей в сердце веселюс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остно воскликну, как пред Ним явлю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 в обещания ст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 в обещания стою, стою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верой в обещания ст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22Z</dcterms:modified>
  <cp:revision>13</cp:revision>
  <dc:subject>Slavic hymnal Гимны веры христиан, hymn 640</dc:subject>
  <dc:title>Standing on the Promises / Верю в обещания Христа Царя</dc:title>
</cp:coreProperties>
</file>