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D09-5379-4F37-BFCF-FBA271FA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650-EA5C-4A5C-8A26-682DEE70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05E-3367-431E-B626-110494E0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96E-F2D1-4025-BC57-562F615A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347-C2FD-4331-92EE-B2241024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086-42BC-46DD-9EE4-FB6270A0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028-0FFF-47CF-B475-1A80E347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0AC-F0B5-4756-8D7F-3FAD1D9F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EBC-8422-4A92-8578-5AFA6852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41B-B4BE-4BA6-9845-0BF9549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C92-FC09-43F0-82BC-76D71DD9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E95-880E-4A2B-8BBD-FF392D3A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E50F8-4929-4CC1-96D9-68BE8106D4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о велике щас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любить Він і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; ми Його не зн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Він нам світло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8   Бог є лю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. Ми гріху служи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― нам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паситель вмирав за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Відкупитель спасіння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буду величати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славить Твою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03Z</dcterms:modified>
  <cp:revision>12</cp:revision>
  <dc:subject>Slavic hymnal Гимны веры христиан, Ukrainian hymn 78</dc:subject>
  <dc:title>Бог є любов, о велике щастя!</dc:title>
</cp:coreProperties>
</file>