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768-C0A5-4CB9-9FF2-BA4D2EC6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03F-639C-41AB-986D-F0936136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036-E6C7-411B-B0B2-06DE526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9AF-81C1-4AA9-BC23-96262903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E94-87C6-44BD-9E7E-1C2D7F4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E41-1AF9-486E-B274-6313211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3DF-B3AB-404B-A7D2-1763564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7AE-5929-411F-AE84-5D1FD4D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CE8-8FC7-4F61-AF04-1A17FC9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187-909A-43CE-B4D9-C27DB87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F66-DDFC-42E8-8092-B462276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B9C-649A-4A9A-B188-CCD17BC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9CCA2-2436-4C91-BB50-704C537D7E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ot dismayed, whate’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wings of love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toil, when heart doth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ngers fierce your path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 may need He will prov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you ask will be den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atter what may be the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, weary one, upon Hi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6Z</dcterms:modified>
  <cp:revision>13</cp:revision>
  <dc:subject>Slavic hymnal Гимны веры христиан, hymn 706</dc:subject>
  <dc:title>God Will Take Care of You / Не падай духом, не страшись</dc:title>
</cp:coreProperties>
</file>