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9A1D-8181-4675-8955-4E51B582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BE7-49A8-45ED-8DF0-EF3871AD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8E0-FA28-47FD-AD77-197ABE06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3E9-2ABE-42D1-AE56-E28B018D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7EE-8DE2-496A-BCF2-1278C6AD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2FA-4736-42D2-8C8B-52F435A0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A5D-1F33-4350-8A18-4D8F7FEB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BE93-7BC6-4717-98D0-1FB1213C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58B-AA8F-4C07-93D4-D6028FCF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14E-5707-4E0B-B89C-3BCE6C54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579-A98C-44CA-9CDD-E37BC617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77D-1B02-4FD8-B12B-83C05CBC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E0AF4-80EC-4BB1-A6EB-FEEBD6E3149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там и 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ждёт больш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доме сделать для нас ую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много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бёнок всё лом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терпит душой за нас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икто не зн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жизнь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овно проте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асто плачет в мольбе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 уроков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юный ум плен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добро, ненавидеть грех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 тревоги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акой вперёд вз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ясь за сына иль дочь сво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много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нько проли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удном сыне, что в грех погря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всех ещ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Бог в двери р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де-то молится горяч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та мол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сердце сокруш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тцу приводит страстей раб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15Z</dcterms:modified>
  <cp:revision>12</cp:revision>
  <dc:subject>Slavic hymnal Гимны веры христиан, hymn 778</dc:subject>
  <dc:title>Никто не знает, как там и тут</dc:title>
</cp:coreProperties>
</file>