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602C-16E8-4738-A9D7-5E508D50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7953-2B31-4DAC-95E5-FFB4971C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5571-FE40-47BF-A163-61BDAFB7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3EF1-E00A-49F6-93AE-70DF5E4AC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11E0-3041-47CA-BE99-02EC19BD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6865-AF0D-4FEB-8EB6-6325EDEA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1F50-4616-4C43-8CB6-BB297AA9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3376-4343-4717-A5EF-738F36C0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2ACB-85C5-44F2-8A1B-AD84B0F1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5C06-EED1-4709-AB8E-9BB395E6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FA89-A765-46C8-AA7E-B69591FF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88BD-D86F-48EB-8D43-2535F053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63240-2FBF-4393-8D3D-DA61F8572BB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а я спас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жий мир водвор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кой м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л с души всякий гн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 греха я спасё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Он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принял то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изменной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хранитель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радостн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 мною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у вечно хва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слу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4:00Z</dcterms:modified>
  <cp:revision>12</cp:revision>
  <dc:subject>Slavic hymnal Гимны веры христиан, hymn 612</dc:subject>
  <dc:title>От греха я спасён</dc:title>
</cp:coreProperties>
</file>