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1</a:t>
            </a:r>
            <a:r>
              <a:rPr b="1" lang="ru-RU" sz="3600" spc="-1" strike="noStrike">
                <a:solidFill>
                  <a:srgbClr val="ffffff"/>
                </a:solidFill>
                <a:latin typeface="Verdana"/>
              </a:rPr>
              <a:t>	</a:t>
            </a:r>
            <a:r>
              <a:rPr b="1" lang="ru-RU" sz="3600" spc="-1" strike="noStrike">
                <a:solidFill>
                  <a:srgbClr val="ffffff"/>
                </a:solidFill>
                <a:latin typeface="Verdana"/>
              </a:rPr>
              <a:t>Слава, слава в вышни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ава, слава в вышних Б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радостно восп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тремлюсь к тому чертог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Иисус сладчайший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Иисусе, мой сладчай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 помощь мне при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благ мира мне даю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ю душу освя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Один — моя надеж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душой к Тебе стремл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покров, моя одеж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корби я Тобой живл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пресладки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вою мне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тства моего Хран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Ты мне отец и мат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1:45Z</dcterms:modified>
  <cp:revision>3</cp:revision>
  <dc:subject>Slavic hymnal Гимны веры христиан, hymn 111</dc:subject>
  <dc:title>Слава, слава в вышних Богу!</dc:title>
</cp:coreProperties>
</file>