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CD52-7D47-4F79-919E-09970083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BB6C-2AD4-48BC-93B0-3866C05F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224D-8081-499C-ADBB-35B2CF39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6430-B280-4091-BC4D-4AC85852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14D2-833F-4A6F-A280-783F8B74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D769-AE9B-40DC-B365-CD34CEC7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9E7A-E1ED-4A9D-9E9B-70C8BB62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EE7E-8ECB-4274-9E20-CA912080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3107-431B-4941-BC13-6BC37E45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81F7-590A-4BA0-8EB2-63915E5A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F32E-F9BD-46B5-8275-5A7900AC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18BF-5E63-4861-9371-F5EBDF30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F1FEB-3318-40AC-8308-AB2C2BE0A80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a pilgrim, and I’m a stra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tarry, I can tarry but a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detain me, for I am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here the fountains are ever fl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этом мире я толь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я только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олго, мне не долго быть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огом окончу путь мой далё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, где блаженства льются пото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a pilgrim, and I’m a stran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tarry, I can tarry but a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я только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олго, мне не долго быть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the city to which I journ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Redeemer, my Redeemer is its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no sorrow nor any sig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any tears there, nor any d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й отчизне, куда стремл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Спаситель, мой Спасител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печали, нет воздых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недугов, нет умира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a pilgrim, and I’m a stran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tarry, I can tarry but a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я только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олго, мне не долго быть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the glory is ever shin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my longing heart, my longing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he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n this country so dark and dr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ng have wandered forlorn and we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там всё лик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ня в тот дивный, дивный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этом мире тёмно и жут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томился, нет мне прию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a pilgrim, and I’m a stran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tarry, I can tarry but a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я только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олго, мне не долго быть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10Z</dcterms:modified>
  <cp:revision>14</cp:revision>
  <dc:subject>Slavic hymnal Гимны веры христиан, hymn 680</dc:subject>
  <dc:title>I’m a Pilgrim and I’m a Stranger / В этом мире я только странник</dc:title>
</cp:coreProperties>
</file>