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340-AC5B-469C-9A10-CC6DCB14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52A-BEF1-473E-A9E5-FED85DA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2F9-7852-4926-B0DD-FB331A71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FDD-FFB4-4A0E-B743-0E48E60D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9D4-0778-42E1-AAE4-8B09182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4E8-0141-40F3-9B91-936CC138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3EF-5F6D-4F54-A1A6-ACCB5B2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804-ADE1-4E46-9632-E6F4C75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84E-EB7D-44F9-B781-9CFD4DF8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AC9-EF71-46CD-80B6-0D0877E2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21B-5A19-4C47-BD00-92F7B00D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099-CF95-4ADB-9F66-59225AA6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6B71-59F4-48C3-8246-F1187FCCC1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мой п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Спаситель, нам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колу пос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чащим свыш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мы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пят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слушать наст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б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24Z</dcterms:modified>
  <cp:revision>12</cp:revision>
  <dc:subject>Slavic hymnal Гимны веры христиан, hymn 765</dc:subject>
  <dc:title>Мы окончили ученье</dc:title>
</cp:coreProperties>
</file>