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505-7F4C-4CE4-A3CA-FE572475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EA0-E2E8-4A36-AF3D-A96FA9A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986-FB5F-46A7-B3C1-3D0A8F4F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912-014A-413D-BC51-C002907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394-09FC-4439-9BD6-E6A9ACF7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9D0-5B69-4D2B-A9C7-3FBF6D5B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724-9609-43E3-B733-A956F63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D8D-4590-4F98-BCBC-8B4A52F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FCA-B203-4F1F-8543-C9E69EA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6C6-2E13-4141-9A6D-3B04F59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90F-3A77-4820-99C0-E85C82B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78A-E11B-4859-9FFD-DD3F426F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A4D11-778B-4C99-903A-86C4719E61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31Z</dcterms:modified>
  <cp:revision>12</cp:revision>
  <dc:subject>Slavic hymnal Гимны веры христиан, hymn 357</dc:subject>
  <dc:title>Кротко и нежно Иисус призывает</dc:title>
</cp:coreProperties>
</file>