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3DF-E39A-4CDB-9299-E3652D86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A95-5271-4973-A7E6-D2305967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B0D-8A1F-4495-AF4B-38AC719C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BB7-FACC-4EA4-9ED4-54F37CC9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B02-FCDB-4818-8E71-F6DC60C0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0E3-8067-4BCF-B848-9CB25C18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FC0-A15D-4B3E-A6AF-01F50ED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C38-E8F2-4F41-874D-04F209F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947-E029-4CA8-9A3B-BA22895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203-A107-47AD-A44C-B77BBAB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4E4-A107-447D-A012-6045337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4E9-FFE8-4E7D-8547-3BF4A5D9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6B512-7558-428F-B96C-61FA39114A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le a flame of sacred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se cold hearts of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tune our formal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strive to r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s languish on our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devotion 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Lord! and shall we ever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is poor dying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ve so faint, so cold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ne to us so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shed abroad the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shall kindle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1Z</dcterms:modified>
  <cp:revision>13</cp:revision>
  <dc:subject>Slavic hymnal Гимны веры христиан, hymn 311</dc:subject>
  <dc:title>Come, Holy Spirit, Heavenly Dove / О Дух Святой, спустися к нам</dc:title>
</cp:coreProperties>
</file>