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A9C-2D83-4EA0-AB89-59175D3F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EC6-A775-4BE4-9A70-AA8E68DD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7EB-33B9-4A0E-B537-4EC489E4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9DD-A989-48E7-946C-CE2C73F4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964-BA5D-4A02-B268-D0724301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9B4-1647-4979-9954-F870B421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F18-35C3-49C7-AB4F-6904EE85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C84-3578-49EC-A131-1632D19A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239-694A-4C47-82AA-DA1D3B17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50C-E843-46DF-A641-DFF93A64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E09-A919-4885-B43C-7830BE48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87F-9B66-48BB-AB33-9C2E9794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D6B65-0B34-4CFB-B26B-5DBB48CCA5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song of joy no one can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fferent faces, different r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made us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 Put This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ing one another with the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g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d our tears of sadness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vers of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a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47Z</dcterms:modified>
  <cp:revision>10</cp:revision>
  <dc:subject>The Source, song number 292</dc:subject>
  <dc:title>Jesus Put This Song Into Our Hearts</dc:title>
</cp:coreProperties>
</file>