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25C-1B1F-49D6-AA04-6E00F827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1AE-2525-4D55-A648-A25B0D06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2D6-9AF0-4AB0-B2B2-0DB4892E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9D6-BDE5-43EB-BFB4-D2090F76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A4C-15A4-446F-AF19-50078A97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3A4-1046-4D32-AE36-320305DB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A70-C71A-4190-B803-3149CB0D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1F0-C538-458E-8E95-55FB0CF3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C39-BF35-4579-B853-6600608A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154-0EB8-493F-9B20-CFD3BF4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5E6-2DEF-4215-9A3E-DBABECC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3E2-6B37-43FD-AA52-7DF56A7C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7DCD9-2D75-46F5-A3B8-799203F664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Творца святы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 все сердечным пе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с радостным хвале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уди весельем сердце 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ду песнь теперь нес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, Творца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вселенной до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восторженно по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, Спаситель,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и слава, и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чные!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19Z</dcterms:modified>
  <cp:revision>12</cp:revision>
  <dc:subject>Slavic hymnal Гимны веры христиан, hymn 298</dc:subject>
  <dc:title>Христа, Творца святых чудес</dc:title>
</cp:coreProperties>
</file>