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C3B-4D0F-4924-90DA-D4D6E313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118-73B0-4514-A5CA-2C280798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59E-5D2D-4373-9F4E-565FE736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468-3F05-407D-AF50-3FAD22CC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E80-2D30-4220-85A6-19CA422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5D3-14D2-4453-B20D-821ECA1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3C3-84F7-479E-A430-9C15F8A6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088-D55A-47EE-AA6E-C3DEDCF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81C-88BF-4468-BF16-C355DE97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FE6-DE1B-4128-931D-6A9EC11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AA2-402E-4F42-B4C6-C0B73845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24B-3D85-4A1E-B7EB-7788FA1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DEFBE-24EA-4139-99EF-5D9F4D7A12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Друг —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для меня вс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й любв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— знаю, что Он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— за грех мой кровь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пас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 наполнил мне хва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му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, Он близок мне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лучимся нико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зи живой, как ветвь с лоз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в Нём, — знаю,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день, в небесны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и буду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у: «О Господь, Ты — 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37Z</dcterms:modified>
  <cp:revision>12</cp:revision>
  <dc:subject>Slavic hymnal Гимны веры христиан, hymn 586</dc:subject>
  <dc:title>Небесный Друг</dc:title>
</cp:coreProperties>
</file>