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1</a:t>
            </a:r>
            <a:r>
              <a:rPr b="1" lang="ru-RU" sz="3600" spc="-1" strike="noStrike">
                <a:solidFill>
                  <a:srgbClr val="ffffff"/>
                </a:solidFill>
                <a:latin typeface="Verdana"/>
              </a:rPr>
              <a:t>	</a:t>
            </a:r>
            <a:r>
              <a:rPr b="1" lang="ru-RU" sz="3600" spc="-1" strike="noStrike">
                <a:solidFill>
                  <a:srgbClr val="ffffff"/>
                </a:solidFill>
                <a:latin typeface="Verdana"/>
              </a:rPr>
              <a:t>На трудной жизненн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 трудной жизненной троп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Спаситель, сил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зать безропотн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зать безропотн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 если Ты захочешь вз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не больней всего отда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радостно 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радостно 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дёт ли средь страдани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ы моей опорой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всегда, Господь,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всегда, Господь,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ю волю покори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енье дай и силу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каждый говори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каждый говори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 придёт послед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шепчет мой усталы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му, Кто дух навек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му, Кто дух навек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2:34Z</dcterms:modified>
  <cp:revision>3</cp:revision>
  <dc:subject>Slavic hymnal Гимны веры христиан, hymn 171</dc:subject>
  <dc:title>На трудной жизненной тропе</dc:title>
</cp:coreProperties>
</file>