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33E-8EB3-4E52-AB55-36580C3A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77A-9B7D-464F-96EA-81BE02C1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ABC-199A-4F41-AEC0-ABD37A76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A70-9DF3-4155-959B-935D7429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199-DD09-4EB3-8C89-FB867A38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FB0-7A65-4FEF-A78D-631AB3E3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E43-ABAA-43B4-8095-7F965342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C0E-A336-4334-8DFC-76EC2C8B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C8E-C3FC-4EDC-9DBA-A888E0C7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122-8E10-4B43-9E41-D33C91A3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C49-BD5F-46AC-B068-7EE1A095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BAC-3A2E-4C29-B95C-EC111C02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E36C0-4886-4FC3-8609-723992826A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a faith that will not shrin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pressed by ev’ry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not tremble on the b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ny earthly wo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вера, стойкая в борь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ра, стойкая в борь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ждая враж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боишься ни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горя, ни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not murmur nor comp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the chastening 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n the hour of grief or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lean upon its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ачешь и не ропще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крест нес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ибольшей тес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ободе нас ве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aith that shines more bright and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empests rage withou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hen in danger knows n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darkness feels no dou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шь ярче и пол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ревог и см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чных дней в сердца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аешь славный тр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give us such a faith as th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whate’er may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taste e’en here the hallowed bli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n eternal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веру нам по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вято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ще видеть из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7:21Z</dcterms:modified>
  <cp:revision>12</cp:revision>
  <dc:subject>Slavic hymnal Гимны веры христиан, hymn 851</dc:subject>
  <dc:title>O For a Faith that Will Not Shrink / О вера, стойкая в борьбе</dc:title>
</cp:coreProperties>
</file>