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DE8-18CB-406E-83D4-6AE9FCB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7FE-4392-4868-A5AE-83D0F5F6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31B-207F-40A4-A793-EE2524CD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145-9A1C-4E94-97BB-1053A734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27A-EE59-4B01-9E9C-7E91B1A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279-B306-417B-AC68-19AD7BE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88F-A9A8-4620-9D0D-6B980ED3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3F5-8FC0-4C83-9C9E-EBE726C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275-F35E-48FF-BCEE-F29474C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FC1-94DA-439E-9592-044C458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39B-7462-425D-8F1A-5A234AE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6A4-ED0B-4B22-AA04-8AC2892F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1F1CC-AF37-4503-8C68-5820A8982C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наш Господь прий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х усіх візьме у край небес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го в молитві 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2   Будьте бодрі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мна сила зла не с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лу Духа правди зодягн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 всі щита візьм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спасе від всіх гріх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рі і надії підкріпі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за грішників тер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благання вчує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на Спаса з вірою дивітьс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у всім поможе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28Z</dcterms:modified>
  <cp:revision>13</cp:revision>
  <dc:subject>Slavic hymnal Гимны веры христиан, Ukrainian hymn 12</dc:subject>
  <dc:title>Будьте бодрі завжди і моліться</dc:title>
</cp:coreProperties>
</file>