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1C7-ABFA-4B9C-BB22-91DE4E35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F66-8442-4FE3-81E3-BE79DB8D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2B2-378F-4AD7-8B26-E63BED80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935-552A-47F2-BD26-65C2B690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057-9975-4BE6-8709-568953AE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7B5-5E31-4573-A188-CBB8C31B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463-322A-48B8-95C6-CE8AEDA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113-4B86-4DCF-B849-A8C0BB3C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CA6-C42F-4C70-9A0F-5D45EAA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456-9571-4344-9D9D-C5DB831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440-1B92-4D95-8A6F-72DF287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FB1-F4A9-4671-BFAB-A0466EF1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C5EB1-EC90-4DD8-A917-3A3D9B0B92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38Z</dcterms:modified>
  <cp:revision>12</cp:revision>
  <dc:subject>Slavic hymnal Гимны веры христиан, hymn 661</dc:subject>
  <dc:title>Ах, радость, радость будет там</dc:title>
</cp:coreProperties>
</file>