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B39-2146-40C4-9EFA-48244574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DAA-03AE-4D39-AD6A-83F63743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785-39A5-454C-B3C3-B11FD54E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DFF-38E5-4C08-83E2-777F1B26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E54-A7E9-44F0-A42A-DD7797A1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FD2-9F87-4D56-A927-F740E720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FCD-64C3-493D-84A1-70DB0A73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7E3-7E65-4970-928D-F1A42C7B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47C-53D1-4A8E-9BC3-055D2F6A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4C9-A316-4BB1-9674-38CB5D2D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C72-FB96-40BD-98D9-9D5A1E03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640-C165-4AA9-96EB-6DB9A1A0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65DCA-C27D-4A4F-956F-4EF5B0D300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 будь в искуш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трашней, чем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шь, суме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нему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бости не слу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ру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 будь в искуше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ружися с л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мей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имя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не приз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удь призва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частьи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наградит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победи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мы жив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, расторгший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йствует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8:48Z</dcterms:modified>
  <cp:revision>12</cp:revision>
  <dc:subject>Slavic hymnal Гимны веры христиан, hymn 859</dc:subject>
  <dc:title>Твёрд будь в искушеньи</dc:title>
</cp:coreProperties>
</file>