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773-B113-40F2-B12F-4287A1FF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5C2-88A8-420A-A08F-903316BA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FFC-8B00-48CE-A6B9-1D315402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71C-69F7-4A37-A6FA-25A69509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861-C7F6-46A9-80EB-BBEF9287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2F1-87B4-4458-B7DE-CE17AE9B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3DB-1DAB-4DAE-ADE0-E029CF9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F5F-78EF-4205-90DA-BEB70CB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3F9-304A-4B67-8EBB-B55D36C5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8C0-ED10-46D0-A56E-0E9EE0FA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62D-E2D5-44E2-846C-E1646EE6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FD3-FFA1-4E9A-A842-E81901D6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EDEB0-DDEC-4894-A919-97B9F5CC24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ilent midnight wat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ing at your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s the Saviour, pleading, knoc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s oft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! слушай ухом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! слушай ухом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, любящи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ould enter with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 oppressed by s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now the door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m enter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емной стучит прохож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зовёт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, Агнец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will come some day, relen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every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heedlessly ign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his entry 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елье сердца со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ц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йдёт Он и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 ней заблес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its in mercy pl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door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, not death, the cruel rea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turn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чь любви Его по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то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стук тот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hear the Saviour knoc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at your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ceive Him, let Him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soul rest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танет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ный пир веч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тво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when breaks the golden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, eternal,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open Heaven’s por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you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слушай голос ди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н главу скло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олкнет звук призы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ь пройдёт; тогда, ры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склон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в дверь стучать ты 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ывать тогда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 ты несч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4Z</dcterms:modified>
  <cp:revision>13</cp:revision>
  <dc:subject>Slavic hymnal Гимны веры христиан, hymn 337</dc:subject>
  <dc:title>In the Silent Midnight Watches / Грешник! слушай ухом веры</dc:title>
</cp:coreProperties>
</file>