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543-325D-4E70-A665-B1E08418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8BF-E682-4735-B2D0-BB55735D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0B5-28D6-4EEF-84EB-CE8A595C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A42-3826-44AB-BC4A-22270070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252-B865-4F0B-BCA6-7F1F62B6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BBF-A770-4586-B667-F08CE931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9B1-90FE-4748-9908-67EEA256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241-D503-44C0-9676-D6AC2F2A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6C1-EB5B-4475-B032-3653470B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77B-65A0-4CEF-BE37-046986E3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E76-2FFA-4446-8250-0593D2E3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21F-2222-4D22-BB2D-4798EAC3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DB36E-2A78-460D-AABD-787316BE53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Saviour, glorious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Redeemer, Living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6   Ісус ― ім’я найв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― ім’я найвищ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Спаситель, Славни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Еммануїл, Бог є із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 Відкупитель, Слово жи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9:16Z</dcterms:modified>
  <cp:revision>12</cp:revision>
  <dc:subject>Slavic hymnal Гимны веры христиан, Ukrainian hymn 116</dc:subject>
  <dc:title>Jesus, Name Above All Names / Ісус ― ім’я найвище</dc:title>
</cp:coreProperties>
</file>