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A5C7-64B1-4302-BEAA-305F23C9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AABC-C021-49D2-889C-F58AB126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09F3-04B4-4017-9C4F-7669656E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5AD6-C691-487A-8569-D3060016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27B5-7F40-4518-A5AB-B1410EA1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1C85-BECB-4207-9212-1E300427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B3DB-5D4B-497C-9CAD-5209E5F3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1E9E-FDFA-4D03-A555-0E049E7B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3403-1AA1-47B3-B2FE-4E0D2729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1B68-DA28-4067-A667-144C2E53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235C-2E01-46CE-A5E0-38888E7A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0EF9-9DA7-4C86-86D1-5C233B4D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FFD9C-8C76-4FC6-83B5-B033A0711D6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we that love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t our joys be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in in a song with sweet accord,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us surround the thron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те, все серд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любит труд От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е, окруживши т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всеми, кто спасён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, beautiful Z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upward 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 city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й, чудный С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прямо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крашенный город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ose refuse to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never knew our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children of the heav’nly King,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speak their joys abroad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те лишь не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Господа не чт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ети Божьи пусть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ыв печаль и труд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, beautiful Z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upward 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 city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й, чудный С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прямо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крашенный город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ill of Zion y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thousand sacred sw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fore we reach the heav’nly fields, 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walk the golden streets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ныне нам Си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ёт радостей милл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ещё мы не при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лям святой земли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, beautiful Z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upward 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 city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й, чудный С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прямо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крашенный город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let our songs a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v’ry tear be d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thro’ Emmanuel’s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fairer worlds on high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где нет оби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ечно песнь звуч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Эммануилом мы и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лучший, в вечный дом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, beautiful Z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upward 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 city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й, чудный С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прямо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крашенный город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54Z</dcterms:modified>
  <cp:revision>13</cp:revision>
  <dc:subject>Slavic hymnal Гимны веры христиан, hymn 588</dc:subject>
  <dc:title>We’re Marching to Zion / Придите, все сердца</dc:title>
</cp:coreProperties>
</file>