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34A-FEF6-4ECF-98C9-5E6CDA42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AB4-4E24-4533-84A9-7A0A0A5C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173-CC1A-4036-B1C8-3D0B54C6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E8F-DDF9-4B04-94F1-581671E5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A09-AE90-42F2-8B89-CFAE7425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F89-B1CD-4E20-908C-FEF372C0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9C4-90A5-4803-9D91-9658DEA1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4CE-365A-4E21-9CD8-A701240A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390-8130-48E2-9883-12EBE8C0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636-D7DB-4723-AF94-BA5453A7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C9E-405A-4B7D-A40A-1FF293EB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15D-2BD9-4498-8EA9-6FEE21FB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DC1B4-4D93-4AD9-92A1-F1FB0245D8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абуду детск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атер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чинял не мало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ей 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ушла… хотел б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её рук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забуду детских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оевольничал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был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ня всех моих про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спешила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е трудности м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ла попол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удный сын, покину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ёл я в край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ную мать покрыл сты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чем и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ила к Богу день и н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не открылся 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жды весть ко мне приш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ть при смерти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домой, пока ж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 слезу с лан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л ей слово верным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3:45Z</dcterms:modified>
  <cp:revision>12</cp:revision>
  <dc:subject>Slavic hymnal Гимны веры христиан, hymn 803</dc:subject>
  <dc:title>Я не забуду детских лет</dc:title>
</cp:coreProperties>
</file>