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6D3-877D-4252-B6C6-CE56D363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8B6-F793-4606-82C0-06E8B02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504-2DA1-443F-A26A-A02E82ED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A65-143A-4CF1-B540-8CA69B86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906-A20D-4C87-8F72-997ECC50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52E-7E0F-4770-8B3C-D43D7F10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B48-31C2-4EB1-9AD3-EEA7AEF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B5B-3656-475E-8F2B-BD33FB5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F43-7DD5-4A31-B0D7-F8404662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653-0DA9-4024-8FC0-8569BCB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058-D863-422F-8DEA-A96652E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BFE-5C25-42EE-B5A7-FECF468E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1FA64-BE4B-4F6B-A2E5-CCA478ABAD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ебудь со мной! уж свет сменился мг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устеет тьма, Господь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лишусь опоры я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лот бессильных, Ты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к жизни день короткий утеч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еркнет всё земное и про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песни счастья только звук пус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неизменный, о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 царским обликом ко мне при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с состраданьем нежным и в люб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ы исцеление неси с Соб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солнца луч, таким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ебе нуждаюсь каждый час, мой Б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б искусителя Ты превоз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 светлый час и облачной по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уководя, храня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ен враг, коль Ты, Господь, вблиз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орбь не теснит, не знаю я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смерти жало? Ад, где ужас тв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ссильно всё, — лишь Ты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предсмертный час на Крест Свой укаж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вездою утренней средь тьмы гор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етлеет небо новою зарё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жизни и смерти Сам пребудь со м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45Z</dcterms:modified>
  <cp:revision>13</cp:revision>
  <dc:subject>Slavic hymnal Гимны веры христиан, hymn 823</dc:subject>
  <dc:title>Пребудь со мной</dc:title>
</cp:coreProperties>
</file>