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6</a:t>
            </a:r>
            <a:r>
              <a:rPr b="1" lang="ru-RU" sz="3600" spc="-1" strike="noStrike">
                <a:solidFill>
                  <a:srgbClr val="ffffff"/>
                </a:solidFill>
                <a:latin typeface="Verdana"/>
              </a:rPr>
              <a:t>	</a:t>
            </a:r>
            <a:r>
              <a:rPr b="1" lang="ru-RU" sz="3600" spc="-1" strike="noStrike">
                <a:solidFill>
                  <a:srgbClr val="ffffff"/>
                </a:solidFill>
                <a:latin typeface="Verdana"/>
              </a:rPr>
              <a:t>Боже славы и спасен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славы и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арод пролей Твой с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и, церкви и служен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пасительный расц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блюдать лишь Твой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блюдать лишь Твой заве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ражьи силы выступ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тив Господа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мужество свят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хваленья и тр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 нести во все м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 нести во все мест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вой народ храни от расп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у гордость обузд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стыди исканье вла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овершенству направ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еть сердцем новый 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еть сердцем новый ра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озведи нас на выс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другим 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нам в сердце бра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 любовью побед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му не повред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му не повреди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Сохрани от согла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беззаконьем и грех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идти путём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 небесный, вечны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еры, дай нам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послушными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послушными во всём.</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7:16Z</dcterms:modified>
  <cp:revision>3</cp:revision>
  <dc:subject>Slavic hymnal Гимны веры христиан, hymn 136</dc:subject>
  <dc:title>Боже славы и спасенья</dc:title>
</cp:coreProperties>
</file>