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015F-9A1E-4C18-8894-89126088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5875-0864-4748-B90F-54343FAE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1162-CE3B-4B49-AC04-47D5B6A2E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1CA2-C079-448D-8AF2-6E0B5CBC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FD44-0ACB-407B-A909-6E96761A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3165-7317-40A6-BE2C-B8A93CAC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77D5-8916-49A8-8611-86109B2A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F09E-76B1-4D77-A506-1AC904EE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1543-9465-4C64-9FE4-8959B81D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CDA7-9F32-4D5D-83EE-92E295A7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2D26-59EB-4515-908A-AA9C889E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0A58-44AF-4E8D-A892-4F0D107D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EF233-99E7-43AE-B518-B54860954FF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Спаситель придёт оп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Его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 любви Он придёт соз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Его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рковь Свою к Себе возьм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й, спасённый Им 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но мгновенье собер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Его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неба Спаситель прид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Он нам 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престол вз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Он Свой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Господ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мия главу Христос сокру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бы то Бог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и и горести прекра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бы то Бог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ёртвых поднимет зо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ут к Нему на обла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их будет вел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Его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Он нам 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престол вз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Он Свой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Господ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и Богу пусть нас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придёт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йте среди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Он придёт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дрожит, шумят мо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горит з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и жди с небес Цар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Его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Он нам 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престол вз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Он Свой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Господ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9:21Z</dcterms:modified>
  <cp:revision>12</cp:revision>
  <dc:subject>Slavic hymnal Гимны веры христиан, hymn 323</dc:subject>
  <dc:title>С неба Спаситель придёт опять</dc:title>
</cp:coreProperties>
</file>