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814-15FB-4306-907A-C3865E1F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E44-1DAA-4633-A660-2E710607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875-AF00-434D-A9D1-F082678E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FF6-0FE5-46C8-B975-F9C0345A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F3B-39A3-49D9-A128-1282E81A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019-0010-43EB-9158-7AFA255C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CF7-C6A9-40E0-A0E3-11560D13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3BB-5585-4171-BEA4-24DF9EF5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EE5-59EB-4809-8386-701744F3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7B2-DBF2-4082-ABA0-5517C59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140-1169-4D8C-83CD-6B46C42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68E-59F4-44C2-BC26-A5578211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6C4FD-AB9C-43ED-9C23-AC2607AD45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пасител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ьбу м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ог Твоих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у слаг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печаль свою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Спаситель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а, постав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а мне: «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вечной рад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ь застав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зажгла в груд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жным голо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бурь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дин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бу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 тобой идт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ты,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лачешь ин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борьб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у 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у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й кровавый сле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обессиле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тьмы и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сь пред Мной в моль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уть твой оз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не пал в 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ы дам тебе.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ис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ак сл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больной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мир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ёт Теб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4:37Z</dcterms:modified>
  <cp:revision>12</cp:revision>
  <dc:subject>Slavic hymnal Гимны веры христиан, hymn 799</dc:subject>
  <dc:title>Господь Спаситель мой</dc:title>
</cp:coreProperties>
</file>