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662A-A858-4AD7-9C64-A1EA7C267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3FDA-DECB-4D24-B956-7EB8672F7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8D0E-398C-4FDE-8836-22C4CA5C7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328A-0C70-49DA-9822-92570C543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6162-BD6E-4D81-A40F-B4EFBC6FD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8FFB-C23C-4AE1-8488-99C4548DB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09AA-E27B-486F-86CA-78D71C207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A7E2-C30A-4A45-AA23-E7ACA1FEB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4F7B-956B-4389-9E59-5416B8504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A78E-A2C6-4DD9-9957-FE124252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7B26-45C2-4777-8156-8AA82A60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0F32-6FF0-4061-B241-E6F67590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D48FD5-B981-409E-9E24-CE77B1DDD5C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, Господь, Твой дом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тог любви Тво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церковь из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ленных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, предвечный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церковь — Твой алмаз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, как зрачок лучистых гла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шь её пор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6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юблю, Господь, Твой д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церкви дорог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раньи душ жив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ываю сердцем и душ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в мольбах св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рад иметь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щенье духа с 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ти все тяжести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рест её скорб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и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Церковь Сам ве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силы всё здесь поборо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Твой покой вой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, раздел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й славу я Тво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й буду петь перед То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ною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11:21Z</dcterms:modified>
  <cp:revision>13</cp:revision>
  <dc:subject>Slavic hymnal Гимны веры христиан, hymn 561</dc:subject>
  <dc:title>Люблю, Господь, Твой дом</dc:title>
</cp:coreProperties>
</file>