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3D0-7F20-46FE-A548-9A5A7D2B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B0D-DBFB-46C6-AA75-04BF0724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523-9562-4303-B814-015091C9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5FC-1ADD-44FF-B825-A09596A9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98A-1E2B-4A43-9F9B-5740B27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2F5-400F-4156-9EC4-09BB3D6C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27D-98B3-4371-860C-8CA1332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CCB-01E8-44C5-A381-DA723F6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356-C8C9-4C23-B563-15F2B8F1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01C-0837-4DF0-B80F-A51D24F2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A32-A2C0-4D18-9EE6-C7E248A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A80-81B5-4B14-9E15-ECFE8FA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DE6B-3F09-4A85-AFF8-A515EDCE2C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dying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hope of vic’try i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faith defending and neve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saking this world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 though life is br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ing death’s shadows, sorrow and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triumphant, never despon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at last our crowns we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conquering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the cross ’mid mock’ry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journey ended, our tent up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everlasting we’ll then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8T07:52:59Z</dcterms:modified>
  <cp:revision>14</cp:revision>
  <dc:subject>Slavic hymnal Гимны веры христиан, hymn 468</dc:subject>
  <dc:title>Living For Jesus, Dying With Him / Жить для Иисуса, с Ним умирать</dc:title>
</cp:coreProperties>
</file>