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126-1FBD-4F42-BB72-054366C3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712-DEBD-4E90-9C4E-261B5B78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7DF-B8A8-4A27-A55E-D674DEEF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675-7438-40DA-B9E9-13730B0E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E72-B106-4453-BA14-4301A4F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57F-BE66-4192-BA7F-0A8D6BA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5A-82B7-4113-AB64-B0C27013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A99-B06F-4397-A245-1BE2BDAD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69C-7F38-4DF7-9FC7-D14C4989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F67-46E9-43E3-ADF8-4E9E125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00B-56F7-47CA-8959-D81E92C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D31-66B6-4BF3-8F2C-672E5F1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52D83-69BC-445D-9DFD-FCEA148F7A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23Z</dcterms:modified>
  <cp:revision>13</cp:revision>
  <dc:subject>Slavic hymnal Гимны веры христиан, hymn 324</dc:subject>
  <dc:title>С небес Своих лазурных</dc:title>
</cp:coreProperties>
</file>