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99A-4CFA-4647-B007-658B905A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179-8F15-4759-989C-6E4DE822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342-A477-4D60-9198-052C39A8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89F-A7AA-4367-A534-B7E17F59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F00-4DA7-4057-AC69-AB34723F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805-8FFD-42E7-B55A-A4524066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D4A-BA30-4B04-ACE0-3E191DCD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9F4-64CC-4232-9D5F-E0C394A3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691-E113-4EA2-9977-AB471D5B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928-75C4-4E67-ACC2-945B7D8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11B-ABF8-4DCE-B3A1-A27FF855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63C-7954-402A-A2A2-BB1C4E94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6AD74-15A7-4A98-ABA9-327C4D0AB0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Saviour, make no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His Word He has shown us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our midst He’s stand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nderly saying, “C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ть ко спа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о спасенью новы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Христа открыт пре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тебе даруе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вори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 will the mee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sin our hearts are pure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all gather, Saviour, wi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uffer the children!” oh,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heart leap forth and rej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us freely make Him our ch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delay, but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удьте, как дети!» — Он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Христа нам радость д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щий всякий пусть повт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й тот зов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 will the mee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sin our hearts are pure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all gather, Saviour, wi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once again, He’s with us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ed now His blest command, an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now His accents tenderly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, My children, co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тебя зовёт Он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все сомненья, искренно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ди в Его отверстую д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зовё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 will the mee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sin our hearts are pure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all gather, Saviour, wi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9Z</dcterms:modified>
  <cp:revision>13</cp:revision>
  <dc:subject>Slavic hymnal Гимны веры христиан, hymn 381</dc:subject>
  <dc:title>Come to the Saviour / Путь ко спасенью</dc:title>
</cp:coreProperties>
</file>