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55D-4D04-4739-92C4-6F93E364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405-A3F9-48E2-B4CF-9CD9E344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55B-009A-4BF6-B527-CFD94618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B5F-505A-4804-82B9-FD49E741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DE0-6210-4F8D-8E23-A8CF7DFE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322-BCCE-4AA8-B471-53BAE186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9852-2221-4466-A743-B4AE14BF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877-E037-4623-8925-1D54366F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3F4-ED52-4585-BE4B-25E840E5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EF5-E1C6-474D-9D61-3A9C76BE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7AA-64CB-4B28-A572-45E5C544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97C-0759-4DE3-BE65-3FA218F3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42E93-B9E8-4AD5-899A-919A18191F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раиля наде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ида Царь и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й в имя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ирный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санна, честь и с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у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ит повсем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а с ветвями, с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тречу шла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емся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перед 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ла дар прин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небес сия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валу и 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ышал песни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теперь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й в мир от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неба 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3:21Z</dcterms:modified>
  <cp:revision>12</cp:revision>
  <dc:subject>Slavic hymnal Гимны веры христиан, hymn 891</dc:subject>
  <dc:title>Осанна, честь и слава</dc:title>
</cp:coreProperties>
</file>