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930-32BB-4472-B0C0-DAF70EB0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F00-1B7C-4E0C-AB18-B4974C8F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3BA-B823-471C-BEB7-EEB64908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5A7-A0CD-4C18-9B49-E4746A85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4FB-A14D-440A-A43C-00C2BF40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775-3FF2-4D58-A841-BD5A8529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318-8A09-4253-A2C4-11B34AD6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1C1-1271-47FF-A9A6-55E4B587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636-01AD-470C-97E1-8662263B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C66-7CB3-464B-94A1-3F37A5A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7DE-35B7-4EA8-8A57-09ECA44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5E5-1904-4D32-9BDF-9C5B108D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9AE20-DB4F-4023-A25A-D536781138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worthy to be prais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e lift up holy hands in one acc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, “Blessèd be the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lessèd Be the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19Z</dcterms:modified>
  <cp:revision>11</cp:revision>
  <dc:subject>The Source 2, song number 647</dc:subject>
  <dc:title>Blessèd Be the Name of the Lord</dc:title>
</cp:coreProperties>
</file>