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D2C-9143-43C7-9E68-4468F44A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BFF-3B83-49E4-B336-E1082E33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134-4828-4E8A-B7B3-9AF359BE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44C-DA8B-4F4A-8F91-14B9ACB2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790-07C6-4F48-9E65-A7F423D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269-2F1D-493C-972A-8825027E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D2F-4550-4856-B5E1-13C40A26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A1B-C5A6-460C-866A-F67C9B7C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61C-85DF-4C4C-BAF8-FD76E7C6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EB4-BD74-43F0-8802-C14E9D6D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96C-3030-496E-A154-1ACCA93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911-A292-4B21-8611-1D23BE31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4D937-5E43-4C26-BD9A-8588F9842E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о,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смот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те, как Вис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ятую ль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за нас скорб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 Себ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ти, о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умил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ом страшных м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ьте и склон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онзённых р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ёс Он гнёт грехо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з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ас винов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тяжек гр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бег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дь смерть приш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го не тво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аите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ердец го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орень з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, 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с моль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Ему нес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 Его скорб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ы — Твои!» — скаж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чный Друг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обой доб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ы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Тебе омы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8:57Z</dcterms:modified>
  <cp:revision>13</cp:revision>
  <dc:subject>Slavic hymnal Гимны веры христиан, hymn 762</dc:subject>
  <dc:title>Дети, о придите</dc:title>
</cp:coreProperties>
</file>