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DB8-AFEA-434D-80DA-0F5590E9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4F9-3752-498B-A893-409F88A5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FAC3-4DE0-4C47-A08A-50446EBD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37B-14D5-45A1-949C-1DD59D1E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EC8-8EA0-4FCA-A7E0-8783513E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2174-6A1D-4EA1-9DFE-E69D4E9A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5AF-A512-4960-9E94-2BD6793E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F2B-5496-4255-9DBC-1D25BE2D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95C-9E42-4234-8919-99782832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34C-AA8E-44F4-A13A-B1906916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509-7A43-41B1-B8A6-650CD964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D34F-0740-4D1F-9446-683747FD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F6AAE-256B-427D-92EB-57D325F0B1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шь на пороге ты в ве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тебя счастье: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так красив и так м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удто цветы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мей, укрываясь цвет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их жало своё прита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овок, чарует грех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отвечай ему: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ишь на пороге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отвечай ему: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ы красивым был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, о, цветы, не рви их, не р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льше и дальше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так прекрасны по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дки слова их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часто горячей слез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оешь ресницы тво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друзья искуш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ти, где не будет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розами путь устил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отвечай только: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друг, лучший друг Иису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с Ним, куда Он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оре твоё и радость пой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с Ним, куда Он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воё сердце на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Дух и дивный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в мир с оружием в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, всё зло победи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сли хоть капля сомн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ится в душе у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ромко в ответ всем мучень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: здесь победа м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ьба со грехом тяж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я так трудно прог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олько борьба к победе ве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ин Христов,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7:57Z</dcterms:modified>
  <cp:revision>12</cp:revision>
  <dc:subject>Slavic hymnal Гимны веры христиан, hymn 389</dc:subject>
  <dc:title>Стоишь на пороге ты в вечность</dc:title>
</cp:coreProperties>
</file>