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BB95-6306-4882-B75B-AD30EBE8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3CC7-BC3E-4447-82E1-8184043C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C9A3-E525-4034-9408-2700AEE09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95DD-F4C0-442F-B5B0-85683EBD3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18EC-2532-4940-AAC5-1FCB7525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3227-FB2C-4DC5-8DDD-2C6D3D94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FA06-7C35-4411-AD72-7BE7CFFE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493A-68A0-4F6C-9A25-C80A11A5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94F6-C36C-44ED-B9FC-4C5F30CE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116F-E679-423C-A4A2-838A6F70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B4CA-CE27-4BE0-B6F4-95938688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6420-8BED-4E7D-839C-DFABF26C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75A64-0DE1-44CF-A562-A20592237DB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долеют тебя испыт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непосильной устанешь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плю за каплей из чаши страд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ить будешь, упрёки бросая судьб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адай душою, судьбу не злослов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вера, надежда,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одолеют т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твоё сердце заноет тос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упят страданий тяжёлые д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ова душа не услышит к по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ей не скажет: «Иди, отдохн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спомни, что греет и душу и кров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вера, надежда,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игнет ли в жизни утрата как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лачь безутешно о ней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й, участь начертана свыше так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шенье сбылось неземного с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 утешенья ищи и даров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ера, надежда,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рпенья не станет, ослабнут ли си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умане сомнений потонет душ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евизом иди ты до самой моги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жизнь и в страданьи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ош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й большего счастья не мо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ы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яться, верить, лю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5:25Z</dcterms:modified>
  <cp:revision>12</cp:revision>
  <dc:subject>Slavic hymnal Гимны веры христиан, hymn 702</dc:subject>
  <dc:title>Когда одолеют тебя испытанья</dc:title>
</cp:coreProperties>
</file>