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6FC-7669-4FDD-86D8-E1ADA754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016-4962-4FA2-BF3A-53622A13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B3D-ACA1-465B-B0B1-95CEA787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8C8-A4BA-4F47-AB32-6AE5D3A1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CA1-67BF-4981-9788-9421C62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718-7C24-46D6-B32D-28E2CFEC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1EB-54A3-45FF-A68F-0FCBD8A9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360-42AA-4AD8-B93E-8460B3C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FEE-54A8-4273-914A-B6A978C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A85-2742-4D54-8D1F-C72DB16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E42-8DF3-4A86-97B5-83D14B0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F51-2CC9-4D66-A97A-2886A8FE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F64F1-4287-4F4A-9095-B91C946725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ee as a bird to your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ho art weary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to the clear flowing f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you may wash and be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’ Avenger is n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, and the Saviour will h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 His bosom will b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protect the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every falling t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forsake thee, O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ed so tenderly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e hours are fl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not the moments in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from your sorrow and cr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2Z</dcterms:modified>
  <cp:revision>13</cp:revision>
  <dc:subject>Slavic hymnal Гимны веры христиан, hymn 348</dc:subject>
  <dc:title>Flee as a Bird / В горнем ущельи укройся</dc:title>
</cp:coreProperties>
</file>