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4A1-0D21-40DA-BDB0-79A54903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0FC-397F-4707-B439-32109093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536-0139-47F1-BFD9-E8F5A358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A28-CCBE-41B7-999F-69970B95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D75-6964-4FE7-872E-62E01023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171-34B4-421D-B98A-BAA2E534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485-8163-4F43-87A2-463DB5A6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EC0-9AD9-4875-8F9E-91A5BF1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43E-69CA-4B13-899E-55D571BA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F7D-F6F5-4FA7-9264-E903F95F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152-20FE-4F48-BF70-FEEF9A0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204-AE86-4407-AD70-3193679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B60BA-6EEC-46B6-9ED1-D671CC7EA7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nd 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answered pray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ways being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that hears us when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rms that lift us when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always been right bes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ing us all along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made it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days we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’s ye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ials we may hav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e’ll be leaning on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be Your strength that sav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makes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thi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24Z</dcterms:modified>
  <cp:revision>11</cp:revision>
  <dc:subject>The Source 2, song number 630</dc:subject>
  <dc:title>And Here We Are (Here We Are)</dc:title>
</cp:coreProperties>
</file>