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05A-1E82-4197-8999-939D771F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E2C-A305-4B52-A8CA-19E9F47F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8C8-16FA-4674-84C9-286E25E5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0F6-A10B-4AE5-90FB-80EA74DE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AF8-83E5-4F60-8A6C-82691207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588-C3F2-4637-8A57-FB9E90B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2A1-A7E5-473D-AF14-76631EF6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C23-0F1D-4A13-B5D6-66E74A4F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58C-1F53-4CE5-8DB2-90F09469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744-8DDF-46D2-B293-A931EF7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D02-A6F2-46D1-8C96-B974E2CB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281-C9D5-47C3-AD81-2D283538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FD945-0004-4116-AD8D-707E6F8BE8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Whosoever heareth,” shout, shout the s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pread the blessèd tidings all the world ar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pread the joyful news wherever man is f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берёт, кто хо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 без сер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, вечного добр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ушайте, идите и спешите вз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, что Бог всем хочет 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cometh need not del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Now the door is open, enter while you ma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Jesus is the true, the only Living Wa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ходи, бери, бедный друг, скор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ыне день спасенья для души тво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втра будет поздно, уж не будет з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 Божья благо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Whosoever will,” the promise secur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” forever must endur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” ’tis life forevermo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! Путь Божий пр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инно, правдиво слово Бога к н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, что обещает, Он в любви да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ищий духом да прид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5:18Z</dcterms:modified>
  <cp:revision>15</cp:revision>
  <dc:subject>Slavic hymnal Гимны веры христиан, hymn 382</dc:subject>
  <dc:title>Whosoever Will / Пусть берёт, кто хочет</dc:title>
</cp:coreProperties>
</file>