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D9C-828F-44F6-B566-971EBD20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F171-0F72-430A-A73B-C512BB01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E154-E251-4FAB-841D-82FEBFFC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7D00-AD1D-411C-9D7E-624FFBA7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0EC9-B8B3-4CAE-A7B2-EC395010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0DF-B169-4FEC-B5EC-2B5C00CF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01B0-8217-47A0-BA12-896EC745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D1E-31FA-42E7-9DA0-CD52EACC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7391-07AF-48BD-A773-7B64C7AA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D21E-3DDC-4050-9F32-72C31B0C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06C5-E001-42B3-B798-8AE2AE92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AB1-0D17-491E-98C4-C84D4914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2C3F4-C42F-46A3-895B-09D105D93E5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однимет свой в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покой обретёт в полно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, посмо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, весь мир воз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радал на кресте за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поднимет свой вз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бавил тебя от грозы и с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тебя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 смерти! Где жало тво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быт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зный ад! Где победа тв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росветная тьма над твоею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дания жажды по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 н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учами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точник в Нём правды сокры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тобой беззако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яжесть яр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снит тебя жизнь, как тюрь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 н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грех Он в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вободы твоей Он в цеп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зачем же в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овенных о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внодушье бывает иль стр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 на Христа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деждой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ты дар доро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3:46Z</dcterms:modified>
  <cp:revision>12</cp:revision>
  <dc:subject>Slavic hymnal Гимны веры христиан, hymn 360</dc:subject>
  <dc:title>Кто поднимет свой взор на Христа</dc:title>
</cp:coreProperties>
</file>