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Refresh My Heart, L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resh my heart,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new my min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 Your Spirit int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resh my hear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t me apart,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me ne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Spirit, lift me up,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resh my hear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,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ollow You,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resh my hear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5:35Z</dcterms:modified>
  <cp:revision>3</cp:revision>
  <dc:subject/>
  <dc:title>Refresh My Heart, Lord</dc:title>
</cp:coreProperties>
</file>