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4FE-AA0F-40BE-B9DD-FF7DBAAB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460-04F8-476C-8534-4CC2A98D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D66-93FB-45F5-A65A-84971ACF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BC4-678A-4563-88A4-A9C4A6DF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641-11A8-4060-A861-345CA8D7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E31-27CF-4C7D-A2BA-C2A678AF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004-A716-4AF2-8E91-BF588906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17E-1B8B-471D-8030-B6C62D63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9BE-251B-4F6B-A4CA-B9F8F9F1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74D-C6C1-48E9-91B6-89443DBA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EA7-514E-4472-A73F-D9DB31ED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824-610E-4281-A624-951DA595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A1AE4-1045-4BB3-BCF4-9C41ECD017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a life that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ing to please Him in all that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ing allegiance, glad-hearted and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athway of bless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я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я жизнь по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молюся, Он всё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отдаюсь Царю цар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ь, путь добра для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through earth’s 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arest treasure, the light of His sm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he lost ones He died to red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ing the weary to find rest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в наш кратки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лать хочу, что любил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одиноких, больных, кал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изнурённы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Who died in m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on Calv’ry my sin and dis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ch love constrains me, to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His leading and give Him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Кто вмес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 на плечах на Голгофу шё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познаю, и молюсь не 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моём был Ему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wherever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ing each duty in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 to suffer affliction or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ming each trial a part of my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сред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смирённым Его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нести крест тяжёл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ть под гнётом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4:30Z</dcterms:modified>
  <cp:revision>12</cp:revision>
  <dc:subject>Slavic hymnal Гимны веры христиан, hymn 845</dc:subject>
  <dc:title>Living for Jesus / Живя для Иисуса</dc:title>
</cp:coreProperties>
</file>