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875-AEA7-47DD-91EA-180764E8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B5E-5419-4B6A-AB50-0E27ED96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5C7-454D-414C-82E6-E3CF9520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D81-E9AE-43B1-B4AD-EC70461D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58A-817C-4FA3-A693-D47D7D6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26B-4E1A-43B3-AB30-23A0AE4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F1E-E7C8-4753-ACE9-B5B02D83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D98-7136-481F-ADB8-AF66C7BD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08E-59EA-4F15-A360-E15875D9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BE0-1F81-43B7-AF5B-7C72EA7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886-A840-4708-B92F-EF9F396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630-865D-470B-9A63-81E6E0F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78DF5-DAD8-414B-BE73-CAD5F89853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а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одиноким в світі 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не знав, томив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и мене Сам від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радість дав душі мої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 Тобі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01Z</dcterms:modified>
  <cp:revision>12</cp:revision>
  <dc:subject>Slavic hymnal Гимны веры христиан, Ukrainian hymn 71а</dc:subject>
  <dc:title>Коли я чую про Христа</dc:title>
</cp:coreProperties>
</file>