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DD0-85F0-4D9D-A9BF-EAFBF074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6A2-6F75-416E-8D8E-7B9DD6A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4F1-5EC0-4134-BDBC-FDB2960E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BD1-70AF-4F1F-9C50-C4E549B7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24E-02E4-4731-AC9F-3EDB0178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1F6-24DD-4212-A991-EF8DB69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B93-1F78-47F4-8A26-E0131E46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0C9-89D0-4806-883C-6C0185C4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37F-BFA6-4F27-A36C-D9984155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2C9-6386-4F24-B4CD-BDB7B9C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4E4-0851-4DE9-9BFA-77C794A4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53F-2822-4B87-9AD7-C69CF9E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13B83-881A-438F-964A-BAF473DB42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y in a m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ib for a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down His sweet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in the bright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ed down wher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leep on the h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   Away in a M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attle are 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by aw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ying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thee, Lord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down from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 by m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morning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near me, Lord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sk The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se by m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ve me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all the dea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y tende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t us for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ve with The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35Z</dcterms:modified>
  <cp:revision>10</cp:revision>
  <dc:subject>The Source, song number 36</dc:subject>
  <dc:title>Away in a Manger</dc:title>
</cp:coreProperties>
</file>