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AAC-ACBB-4B12-8212-3652098D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962-C9E3-4CE9-860B-6CAE1DE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147-4DF5-4195-B62F-58E10065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BA0-B93E-4BD5-BC0D-1F8B5F25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F4C-F794-43F2-A48C-646898F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6E9-343C-4F5C-8BFA-6AC0D650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150-E3BA-42C2-8EC3-6BD6D52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5DF-C868-404E-8E36-5DA712AA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F85-0C40-4CC4-9223-47546F4E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D23-9DBE-405D-8542-2039BDB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1FB-1E94-45F3-A6AE-A4C203B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923-348C-4B18-B2D4-F1806AA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03986-56B6-4584-A99B-03BEAC54BD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55Z</dcterms:modified>
  <cp:revision>12</cp:revision>
  <dc:subject>Slavic hymnal Гимны веры христиан, hymn 890</dc:subject>
  <dc:title>Вижу я очами веры</dc:title>
</cp:coreProperties>
</file>