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D84-24BF-4F00-B74B-01E5095F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BB6-6897-4CB3-B8A8-3E34FEB5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E33-3C38-4050-98F2-CB595E66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663-B5B1-4A6C-9D7A-4C47208E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359-4FDB-40EF-96CD-34432A3E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86E-79FD-41C3-B3D6-D84679C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392-C6EA-4821-A604-BBA97AF3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0AA-5AFB-4C90-B7FB-D391E905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488-F2B4-4B42-A88E-DC0C4B5D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EF0-547B-4838-A050-0C29C30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7A7-92D8-44A1-B5CE-FA4EA08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BE5-C422-402C-9987-FCD22A9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A37E0-712E-4E5C-AF30-909DFDDF73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and marvellous are Your wor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nd true are all Your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the sain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 и чудны дела Тв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 и чудны дела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 Боже Вседерж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едны и истинны пут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вят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hall not fea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lorify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nations shall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убоится, не прослав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покло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for You alone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52Z</dcterms:modified>
  <cp:revision>13</cp:revision>
  <dc:subject>Slavic hymnal Гимны веры христиан, hymn 902</dc:subject>
  <dc:title>Great and Marvellous Are Your Works / Велики и чудны дела Твои</dc:title>
</cp:coreProperties>
</file>