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BD0-CBAB-4E81-9083-147597D1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824-6B82-4EF9-B873-12699BF2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987-F02E-4266-8DAD-7061D467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871-F56C-4AC0-A11D-D0D2C383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877-FF43-4B33-82F6-931E45A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4DC-4A12-4764-A4A3-26ECEA52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4FF-A24E-4905-99D7-ACBA9734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A71-0CDC-46F0-ADF8-A94888A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D89-B461-4401-82FD-0A4DE89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C0F-E8A1-4708-BFFA-94764A5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CC3-C624-41B2-8C77-151A381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653-2BDC-437A-A286-99BDD7B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DBE60-F72E-491E-B0EF-2FAED85D8E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home by the wa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e’er get sight of the gate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way of the cross I mi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on in the blood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inkle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 that the Saviour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ever climb to the heights subl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oul is at home with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bid farewell to the way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lk in it never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rd says, “Come,” and I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waits at the op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08Z</dcterms:modified>
  <cp:revision>12</cp:revision>
  <dc:subject>Slavic hymnal Гимны веры христиан, hymn 843</dc:subject>
  <dc:title>The Way of the Cross Leads Home / Крестный путь пред мной</dc:title>
</cp:coreProperties>
</file>