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4</a:t>
            </a:r>
            <a:r>
              <a:rPr b="1" lang="ru-RU" sz="3600" spc="-1" strike="noStrike">
                <a:solidFill>
                  <a:srgbClr val="ffffff"/>
                </a:solidFill>
                <a:latin typeface="Verdana"/>
              </a:rPr>
              <a:t>	</a:t>
            </a:r>
            <a:r>
              <a:rPr b="1" lang="ru-RU" sz="3600" spc="-1" strike="noStrike">
                <a:solidFill>
                  <a:srgbClr val="ffffff"/>
                </a:solidFill>
                <a:latin typeface="Verdana"/>
              </a:rPr>
              <a:t>Боже, славим мы Теб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Holy God, we praise Thy Na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Lord of all, we bow before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 on earth Thy sceptre claim,</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 in Heaven above adore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finite Thy vast dom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Everlasting is Thy reign.</a:t>
            </a:r>
            <a:endParaRPr b="0" lang="en-US" sz="28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Боже, славим мы Теб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хваления приноси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ечный, песнь поём Теб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сердца к Тебе возноси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реклонившись пред Тобо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еличаем Царь благой.</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Hark! the loud celestial hym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gel choirs above are rais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Cherubim and seraphim,</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 unceasing chorus prais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ill the heavens with sweet accor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ly, holy, holy, Lord.</a:t>
            </a:r>
            <a:endParaRPr b="0" lang="en-US" sz="28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Души праведных святы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онмы, власти сил небесны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авят благость дел Твои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ел великих и чудесны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авят Бога и Отц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седержителя Творца.</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Lo! the apostolic t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Join the sacred Name to hallo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Prophets swell the loud 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the white robed martyrs follow;</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from morn to set of su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rough the Church the song goes on.</a:t>
            </a:r>
            <a:endParaRPr b="0" lang="en-US" sz="28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Церковь на земле Тво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воё имя воспевае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Благостью Твоей жив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воей славы ожидае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сей хвалы достоин Ты</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любви всей полноты.</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Thou art King of glory, Chri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on of God, yet born of Mar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r us sinners sacrifice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to death a tributar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irst to break the bars of death,</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 hast opened Heaven to faith.</a:t>
            </a:r>
            <a:endParaRPr b="0" lang="en-US" sz="28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4.</a:t>
            </a:r>
            <a:r>
              <a:rPr b="0" lang="ru-RU" sz="2800" spc="-1" strike="noStrike">
                <a:solidFill>
                  <a:srgbClr val="ffffff"/>
                </a:solidFill>
                <a:latin typeface="Verdana"/>
              </a:rPr>
              <a:t>	</a:t>
            </a:r>
            <a:r>
              <a:rPr b="0" lang="ru-RU" sz="2800" spc="-1" strike="noStrike">
                <a:solidFill>
                  <a:srgbClr val="ffffff"/>
                </a:solidFill>
                <a:latin typeface="Verdana"/>
              </a:rPr>
              <a:t>Агнец кроткий, Ты здесь бы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Жертвой смерти и мучень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Но все козни победи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тразил все искушень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ава, слава, Боже си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исус — Еммануил!</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5.</a:t>
            </a:r>
            <a:r>
              <a:rPr b="0" lang="en-AU" sz="2800" spc="-1" strike="noStrike">
                <a:solidFill>
                  <a:srgbClr val="ffff00"/>
                </a:solidFill>
                <a:latin typeface="Verdana"/>
              </a:rPr>
              <a:t>	</a:t>
            </a:r>
            <a:r>
              <a:rPr b="0" lang="en-AU" sz="2800" spc="-1" strike="noStrike">
                <a:solidFill>
                  <a:srgbClr val="ffff00"/>
                </a:solidFill>
                <a:latin typeface="Verdana"/>
              </a:rPr>
              <a:t>Therefore do we pray Thee, Lor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lp Thy servants whom, redeem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y Thy precious blood out-poure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ou hast saved from Satan’s schem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Give to them eternal re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 the glory of the blest.</a:t>
            </a:r>
            <a:endParaRPr b="0" lang="en-US" sz="28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5.</a:t>
            </a:r>
            <a:r>
              <a:rPr b="0" lang="ru-RU" sz="2800" spc="-1" strike="noStrike">
                <a:solidFill>
                  <a:srgbClr val="ffffff"/>
                </a:solidFill>
                <a:latin typeface="Verdana"/>
              </a:rPr>
              <a:t>	</a:t>
            </a:r>
            <a:r>
              <a:rPr b="0" lang="ru-RU" sz="2800" spc="-1" strike="noStrike">
                <a:solidFill>
                  <a:srgbClr val="ffffff"/>
                </a:solidFill>
                <a:latin typeface="Verdana"/>
              </a:rPr>
              <a:t>Господи! благослови</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вой народ и достоянь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ай чрез скорби все пройти</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хранить святое звань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збранных веди Твоих</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 радость вечную святых.</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6.</a:t>
            </a:r>
            <a:r>
              <a:rPr b="0" lang="en-AU" sz="2800" spc="-1" strike="noStrike">
                <a:solidFill>
                  <a:srgbClr val="ffff00"/>
                </a:solidFill>
                <a:latin typeface="Verdana"/>
              </a:rPr>
              <a:t>	</a:t>
            </a:r>
            <a:r>
              <a:rPr b="0" lang="en-AU" sz="2800" spc="-1" strike="noStrike">
                <a:solidFill>
                  <a:srgbClr val="ffff00"/>
                </a:solidFill>
                <a:latin typeface="Verdana"/>
              </a:rPr>
              <a:t>Spare Thy people, Lord, we pr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y a thousand snares surrounde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Keep us without sin today,</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Never let us be confounde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Lo, I put my trust in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Never, Lord, abandon me.</a:t>
            </a:r>
            <a:endParaRPr b="0" lang="en-US" sz="28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6.</a:t>
            </a:r>
            <a:r>
              <a:rPr b="0" lang="ru-RU" sz="2800" spc="-1" strike="noStrike">
                <a:solidFill>
                  <a:srgbClr val="ffffff"/>
                </a:solidFill>
                <a:latin typeface="Verdana"/>
              </a:rPr>
              <a:t>	</a:t>
            </a:r>
            <a:r>
              <a:rPr b="0" lang="ru-RU" sz="2800" spc="-1" strike="noStrike">
                <a:solidFill>
                  <a:srgbClr val="ffffff"/>
                </a:solidFill>
                <a:latin typeface="Verdana"/>
              </a:rPr>
              <a:t>Дай Тебе, Господь, отда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ердца каждое биень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ай Тобою лишь дыша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Жить Тебе на прославлень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ам Ты душу нам согре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ламенем любви Твоей.</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7.</a:t>
            </a:r>
            <a:r>
              <a:rPr b="0" lang="en-AU" sz="2800" spc="-1" strike="noStrike">
                <a:solidFill>
                  <a:srgbClr val="ffff00"/>
                </a:solidFill>
                <a:latin typeface="Verdana"/>
              </a:rPr>
              <a:t>	</a:t>
            </a:r>
            <a:r>
              <a:rPr b="0" lang="en-AU" sz="2800" spc="-1" strike="noStrike">
                <a:solidFill>
                  <a:srgbClr val="ffff00"/>
                </a:solidFill>
                <a:latin typeface="Verdana"/>
              </a:rPr>
              <a:t>Holy Father, Holy S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ly Spirit, Three we name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ile in essence only On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Undivided God we claim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adoring bend the kn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ile we own the mystery.</a:t>
            </a:r>
            <a:endParaRPr b="0" lang="en-US" sz="28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7.</a:t>
            </a:r>
            <a:r>
              <a:rPr b="0" lang="ru-RU" sz="2800" spc="-1" strike="noStrike">
                <a:solidFill>
                  <a:srgbClr val="ffffff"/>
                </a:solidFill>
                <a:latin typeface="Verdana"/>
              </a:rPr>
              <a:t>	</a:t>
            </a:r>
            <a:r>
              <a:rPr b="0" lang="ru-RU" sz="2800" spc="-1" strike="noStrike">
                <a:solidFill>
                  <a:srgbClr val="ffffff"/>
                </a:solidFill>
                <a:latin typeface="Verdana"/>
              </a:rPr>
              <a:t>Слава Троице вовек,</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ух Святой, Отец небесный,</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ын и Богочеловек,</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оплотившийся чудесно.</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а прославят все сердц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мя Господа Христа.</a:t>
            </a:r>
            <a:endParaRPr b="0" lang="en-US" sz="2800" spc="-1" strike="noStrike">
              <a:solidFill>
                <a:srgbClr val="000000"/>
              </a:solidFill>
              <a:latin typeface="Verdana"/>
            </a:endParaRPr>
          </a:p>
        </p:txBody>
      </p:sp>
      <p:sp>
        <p:nvSpPr>
          <p:cNvPr id="5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0:48Z</dcterms:modified>
  <cp:revision>3</cp:revision>
  <dc:subject>Slavic hymnal Гимны веры христиан, hymn 84</dc:subject>
  <dc:title>Holy God, We Praise Thy Name (Te Deum Laudamus) / Боже, славим мы Тебя</dc:title>
</cp:coreProperties>
</file>