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172-6B1D-4F22-931D-693ADCA3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DE6-7607-4B54-BB78-743B241F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E89-5BF5-4301-B0D5-53E7BA05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688-F16D-43E6-B512-89B4BC17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9A2-3613-4BC8-BADE-2CF00306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AE1-1531-4B06-A5ED-B9CFF179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5F6-0FAD-4539-9B67-DBB37132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51D-6FEC-4B16-BE78-E1E77553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4EB-A481-41D2-AECF-864728EC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76E-0589-4899-BD93-55061588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401-BE9F-486F-B1CF-CE870AC5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6DE-C6AD-4847-AE6F-BE5A097A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B7409-5A21-410C-808A-BE67291CEF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fe to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higher than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in its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rrows would f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inful, so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, Thine, would I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кутала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 я в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alm of the noon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orrow’s lone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imes when tem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s o’er me its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нуряющи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иночества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ель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 сети н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empests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its wide, heaving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раз, и не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слаб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oft in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pressed by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fled to my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eathed out my w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часто тес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стоким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Богом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often, when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sea billows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I hidden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Rock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жизни пр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ярче блест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окой и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9:22Z</dcterms:modified>
  <cp:revision>13</cp:revision>
  <dc:subject>Slavic hymnal Гимны веры христиан, hymn 626</dc:subject>
  <dc:title>Hiding In Thee / О, как рвётся душа</dc:title>
</cp:coreProperties>
</file>