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3E1-1D3A-44C0-8B2F-B528D97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D65-66FF-4CCD-AB8E-9D82AC0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286-0E14-435B-85E6-F2140180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2CC-2F54-4BA0-A6DC-66DE86BF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C6B-1D9B-45CC-898D-E7332A8F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AA5-F5BE-448C-BE8F-8E32014C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DD9-128D-428F-A3BF-58199F1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2BD-9D64-4DE1-BA5D-CC18296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F18-1E5B-4C2E-9863-5F27550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D86-6CD5-430F-AFF6-00B0D78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AD3-B79D-4CA7-ADA5-11820A1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DCE-072F-42FA-9081-C4EFAFB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B20F0-FA06-41FB-AC90-1C82E208FA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our Rock, in Him we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cure whatever ill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aging storms may round us b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never leave our safe ret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ock divine, O Refuge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our helper ever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2Z</dcterms:modified>
  <cp:revision>13</cp:revision>
  <dc:subject>Slavic hymnal Гимны веры христиан, hymn 650</dc:subject>
  <dc:title>A Shelter in the Time of Storm / Мой Бог — скала</dc:title>
</cp:coreProperties>
</file>