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CC2-A988-4805-8861-AA27FAFC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D0C-8614-40F5-91E3-9059FDE0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961-23F2-4921-A9C9-5E615CA1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676-03FC-47EB-AF3A-6C627BF2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6F0-5B87-490C-BED9-A6DDCA31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FC9-79CB-412D-ABDC-269A93C9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AF5-F46F-46C3-8B8C-51CC3CC7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62C-1736-4E1D-B707-2B9A288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C7E-57F0-4504-BA9C-D810ED4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823-8871-45BB-9A8D-6C960BD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1F9-537D-48CB-9AB2-F60869C5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175-ACAE-4220-9FD5-478F2BB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D8D5-65D3-4137-AD38-D60F453149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2   To Him Who Si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0Z</dcterms:modified>
  <cp:revision>11</cp:revision>
  <dc:subject>The Source 2, song number 1022</dc:subject>
  <dc:title>To Him Who Sits On the Throne</dc:title>
</cp:coreProperties>
</file>