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A8D-A0C0-4317-81AB-3128976A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160-6466-4E9F-AE00-C93E0121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662-44F5-4634-BFBD-C63DD945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0A9-C65B-456F-BC66-881BAA15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B4D-4B34-410D-9045-F632A329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F22-AF1E-4ABF-BF55-9F053A36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C44-2BCD-47D6-8EAF-D23723C6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4CC-4874-45A0-AA01-45203179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043-E863-4EEB-B006-56ACBD38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D96-CBB0-4B1F-A5E0-0AA7283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908-1D5C-41A2-9DCA-0329390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43A-E1CD-4A4D-96CE-7B51734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4C57D-7ACD-42B7-8869-7FA5543FA1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5:00:01Z</dcterms:modified>
  <cp:revision>14</cp:revision>
  <dc:subject>Slavic hymnal Гимны веры христиан, hymn 555</dc:subject>
  <dc:title>Let the Lower Lights Be Burning / Ярко свой маяк Отец наш</dc:title>
</cp:coreProperties>
</file>