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93-E00F-4804-A5D0-111DBCF3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006-7D34-4D41-968F-C23FFB76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329-0F45-40E1-BA7C-2DF7A81B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FCC-4AE6-4BC1-8B62-DEE7CF3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E55-6F4D-4691-A2E0-81BE8B2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324-A37D-433A-B5D3-C209FA2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D0D-0A4D-482E-8F91-754DB8ED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264-0A9D-46B2-AE96-063F543F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CE3-B8B3-4018-A5B0-1AACD2D9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32E-4C01-467B-81A0-5EB724A2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BCF-0444-4716-AAE5-D930C3C0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DD6-28F9-4F41-A8EF-4D73896E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60207-D92C-4B78-A589-AB184C6115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Христом освоб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близкие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 ты обно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ди к с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грехи твои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шего взыскал 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ны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чужим и воз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о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за них пришё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жизнь дат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 дальним о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овь Христо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елый мир, чтоб всех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п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38Z</dcterms:modified>
  <cp:revision>12</cp:revision>
  <dc:subject>Slavic hymnal Гимны веры христиан, hymn 564</dc:subject>
  <dc:title>Пойди к своим</dc:title>
</cp:coreProperties>
</file>