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FC4-EDD0-4658-AA5F-8D6D6A2B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A31-F4BB-40D1-8F9E-1CED3D8C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356-2554-4A7E-9D63-B503F35F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26E-92BB-46D4-98EC-67BCC95C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9CA-CD87-4E3F-9E7D-A4851808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BA4-757D-46FD-B87B-43170F0C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351-6247-45C8-BFC9-1D2965FA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E95-5F32-4EBF-BEAE-B0FFE178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F22-B313-44A4-A52A-D1A48A14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D34-5E55-4C0F-A52E-76A9E717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79A-BAC3-430B-A334-F8674BC0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5A9-CF55-4CB2-8696-4308C87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0A32F-3C73-48BA-9E1D-CAC41A6A2F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ий Бог! Коли на світ погля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ачу все, що Ти створив в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кожний цвіт склада Тобі пош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обняв любов’ю Ти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3  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ивлюсь на мерехтючі зор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горять світи незнан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онце й місяць в вічному прост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ивуть в тиші, подібно кораб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весні природа розцві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ую я в діброві сол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апах піль квітуючих вдих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сповнена душа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із хмар навислих грім лу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пітьмі ночі блискавка миг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 дощем природа ож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ка в небі барвно за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еру я Книгу Запові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Твої читаю я д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любив Ти нас, людей на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ля спасіння Сина нам посл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рю Христа смиренного між лю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 я про Його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прийняв за нас усіх на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хресті пролив невинну к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окуси серце огорт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мій тужить у важкій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пречисті руки простя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кріплюсь в Його любві свят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мене Сам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ить промінь сяєва Його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в смиренні замов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знавши велич Господа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6:57Z</dcterms:modified>
  <cp:revision>12</cp:revision>
  <dc:subject>Slavic hymnal Гимны веры христиан, Ukrainian hymn 83</dc:subject>
  <dc:title>Великий Бог</dc:title>
</cp:coreProperties>
</file>