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07D2-83A1-40BC-A658-4EDAB5478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303F-E20A-47E7-8511-7115B1E7D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C959-4350-4D82-9792-C6F6D404D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8783-B1A5-49DC-AA67-B65D55612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55C2-0B9E-4DD1-BA61-FFDD0E036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4D59-5474-4C45-A28C-D08ECBC6D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C529-6A79-4A6B-A9F3-FB494B0A8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144D-FABD-4848-8875-4FE2F06DA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3FAF-596D-49E6-B961-FCEAC0D35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5FA5-62A4-4235-B240-6BE689A56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7BB5-CA78-4FD9-8B36-30DA12A5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89D4-53CA-4F51-9688-7682FFBC4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CB5B43-DF97-499E-AEE8-62213E4D194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Tis so sweet to trust in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to take Him at His w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to rest upon His promis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to know “Thus saith the Lord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2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ладко верить в Иис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дко верить в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ить всем Его слов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душою возношу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ямо, прямо к небе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Jesus, how I trust Hi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I’ve proved Him o’er and o’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Jesus, precious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for grace to trust Him m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 мой,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ьну к Тебе я всей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, Господь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ыл, есмь и буду Т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how sweet to trust in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to trust His cleansing bloo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in simple faith to plung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ath the healing, cleansing floo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повая на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Его святую кр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Ему служу, молю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жизнь посвящаю вн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Jesus, how I trust Hi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I’ve proved Him o’er and o’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Jesus, precious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for grace to trust Him m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 мой,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ьну к Тебе я всей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, Господь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ыл, есмь и буду Т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’tis sweet to trust in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from sin and self to ceas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from Jesus simply t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fe and rest and joy and pe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приятно в Бога вер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ом пребывая в Н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ом Господа жизнь мер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новляясь с каждым д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Jesus, how I trust Hi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I’ve proved Him o’er and o’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Jesus, precious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for grace to trust Him m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 мой,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ьну к Тебе я всей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, Господь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ыл, есмь и буду Т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so glad I learned to trust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Jesus, Saviour frie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know that Thou art with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t be with me to the 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тремлюсь найти отра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Голгофского кре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хочу за грех в награ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ять праведность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Jesus, how I trust Hi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I’ve proved Him o’er and o’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Jesus, precious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for grace to trust Him m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 мой,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ьну к Тебе я всей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, Господь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ыл, есмь и буду Т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0:00Z</dcterms:modified>
  <cp:revision>14</cp:revision>
  <dc:subject>Slavic hymnal Гимны веры христиан, hymn 622</dc:subject>
  <dc:title>’Tis So Sweet to Trust in Jesus / Сладко верить в Иисуса</dc:title>
</cp:coreProperties>
</file>