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64DF-2448-4D9D-B855-30909418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1DEB-409B-4EB8-BA29-B63EEF13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F983-33D7-46F4-8BCF-D20E4BE9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79D-39DC-492C-8F15-0F6389F6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6DA4-94EC-4AB5-868C-A69104BF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673E-813B-45EF-B619-F7377F1D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7546-3BD9-4D73-9DC5-24425E9B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37E9-32EF-4F9E-9C95-58DD6AE6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5853-BAF0-4A32-88CD-0DCDDBAA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416A-6A12-487A-886D-BB833BAA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F4FC-72A5-4162-95ED-93236960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6B2D-166A-44A1-BCB8-06EA567C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B7968-E8F8-41C1-A453-2FF5A1AF9D6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highest of mount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goes dee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deepest of s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, it stre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farthest horiz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love, it reaches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is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is stro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angels and dem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, it keeps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my life’s darkest h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secures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 the pathway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love is my strength and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is swe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sweetest of h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is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choicest of w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, it satisf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deepest of hu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love, in Jesus it’s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highest of mount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goes dee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deepest of s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, it stre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farthest horiz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love, it reaches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3:43Z</dcterms:modified>
  <cp:revision>10</cp:revision>
  <dc:subject>The Source, song number 171</dc:subject>
  <dc:title>His Love</dc:title>
</cp:coreProperties>
</file>