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7DD-F493-40DD-A529-2539F776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EFC-4E5D-4272-BDC2-B28E4F7F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D0B-A55A-4F29-A78C-0901F3FE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999-E8ED-48AC-891F-AC14E816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CBA-4826-4E0B-9978-C2C290C6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D9A-8A69-43D0-991C-DF45BEB3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D72-6BB9-415F-A4E1-1A989CC3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D89-06A9-4976-8B6A-644E1BCE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EFB-C117-4FC6-A4F4-E9858645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8CD-FBDE-497E-AE48-CDEAAC3F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9E3-63A8-43E5-8691-8417A86C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3E2-4B39-4A27-B755-C36B0ED9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51C87-B4BD-497E-9F19-1DF91217F4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lov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sing His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bad times and th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roved His love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00   I Will Always Lov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celebrate a God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so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trus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lace my hope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been my hid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ever I feel afr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celebrate a God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so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taste, come an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roken in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is God of the p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st, and the wea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shame fall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faces shine with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14Z</dcterms:modified>
  <cp:revision>12</cp:revision>
  <dc:subject>The Source 4, song number 1900</dc:subject>
  <dc:title>I Will Always Love the Lord (Honour the Lord)</dc:title>
</cp:coreProperties>
</file>