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F69-8BFA-4EDD-9CF1-B87B9ED4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69A-BAC2-4866-B626-16287640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2B2-91B5-4AE2-85E6-1EE4780F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519-3641-46F6-9E7F-D75E2AA3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A8B-DC12-4622-A194-64E24813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D5C-B3C0-4DAF-BACE-24DD62AE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D1C-8977-4163-8FED-8E2750F7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CFF-FADA-4AD8-B63C-D699B2A0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15C-5366-4BFA-8039-B39EC6A4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D70-B907-4152-941F-4FB89C4E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53E-74E7-4FBF-BEAB-DADAB8C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4E7-56F1-4790-ABED-A49C895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754D3-2C41-4260-9EFC-01EBF4D313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Jesus, I love Thee; I know Thou art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e all the follies of sin I r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racious Redeemer, my Saviour art Th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и знаю — Ты м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бою спасён я от жизни пус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чтоб избавить, отдал Ты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love Thee, because Thou hast first loved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purchased my pardon on Calvary’s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love Thee for wearing the thorns on Th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но Ты первый меня возлюб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не на Голгофе спасенье куп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умер за грешных, безмерно лю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love Thee in life, I will love Thee in d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praise Thee as long as Thou len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brea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ay when the death dew lies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жизни и в смерти хочу я люб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коле живу Твоё имя хвал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аже в час смерти твердить про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ansions of glory and endless de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ever adore Thee in heaven so b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ing with the glittering crown 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бителях славы, в небесном кр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венцом на челе, в свете вечного д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торженно в сонме спасённых спо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6Z</dcterms:modified>
  <cp:revision>14</cp:revision>
  <dc:subject>Slavic hymnal Гимны веры христиан, hymn 648</dc:subject>
  <dc:title>My Jesus, I Love Thee / Люблю, мой Спаситель</dc:title>
</cp:coreProperties>
</file>