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1AE-8A36-4F7A-9AEA-83BB261F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CEF-71EB-4010-9EDE-3EB9D2C3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E1C-AFB4-449C-B4E6-57174260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992-D637-435C-A8E3-FDF0CEC6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333-F8FA-4DF1-92CC-3CF70AC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FA9-E7E7-40CD-8161-10A76A8A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36E-DCA8-4783-8574-80F042B1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B2A-62EF-49EE-930E-1DDAA05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63A-DED3-4E78-ABC0-523B72B0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57E-D724-48D4-8AE7-CE4470E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6F8-7DC2-4924-AD66-4BAF32F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902-6170-4836-9CA0-8A25996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99EDA-03E9-42A7-97B8-9AC0F4B94A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9:38Z</dcterms:modified>
  <cp:revision>13</cp:revision>
  <dc:subject>Slavic hymnal Гимны веры христиан, hymn 295</dc:subject>
  <dc:title>Он жив! Он жив!</dc:title>
</cp:coreProperties>
</file>