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A2D-C826-4F20-82B2-4E80CFE0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F0-F469-47D4-A26C-A6DFFF5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324-CED5-4E46-9815-11333357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6F-EB41-4064-96D3-D2111381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F6D-8BDC-41B8-B9F5-C1D761B3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935-8D74-4DEA-BB3A-9892EAD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176-EE6A-44F8-8D6D-5F37331D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E25-2F6B-4250-A281-E51CC6B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19A-3700-4F22-9AF9-9D9B591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82E-C62E-487E-B570-E83D5F7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BD0-DB6B-4D6F-BCA8-F55C183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39B-F1EC-49EE-90F7-704172C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CE089-311F-4F97-8E9E-FB4A834C69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 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 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 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 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 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 найден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35Z</dcterms:modified>
  <cp:revision>12</cp:revision>
  <dc:subject>Slavic hymnal Гимны веры христиан, hymn 372</dc:subject>
  <dc:title>Пастырь Добрый ищет бедную овцу</dc:title>
</cp:coreProperties>
</file>