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92CC-A66B-4924-B698-A79C52166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2310-7235-4912-810D-FBDD414A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061A-9524-4F5C-AB0A-6AA487A93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1F39-5D77-4905-B5EE-8D25A1A9B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E98B-90E0-4817-86DA-8E79C512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C331-E230-415F-ABF9-A20E6BBA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B848-1F64-4DD7-8FF6-33EE7C33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486B-B4F5-4BAC-AA11-3C958DD6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ED58-A577-44AB-BEEF-08004A2D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5B51-6212-468F-9A6E-E1E0761A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CED5-6175-454E-ADB5-C1C1A77A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1B55-080C-43BB-982D-5B204F00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4D0FB-86A9-4E9D-BC64-51A142D1E7F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Шляхом узеньким я і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мене ве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країну милу дорог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Він прив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ду, іду в щасливий вічний кр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ду, іду туди у Божий р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2   Шляхом узеньким я і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 тяжкий час Йому мол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біді Він хорон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я падаю без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укою Він дер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ду, іду в щасливий вічний кр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ду, іду туди у Божий р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удові співи в тім к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унають вічно т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х! що за радість в тім кр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нним буде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ду, іду в щасливий вічний кр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ду, іду туди у Божий р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3:01Z</dcterms:modified>
  <cp:revision>12</cp:revision>
  <dc:subject>Slavic hymnal Гимны веры христиан, Ukrainian hymn 102</dc:subject>
  <dc:title>Шляхом узеньким я іду</dc:title>
</cp:coreProperties>
</file>