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100A-DA7E-4985-B69A-7CA74066F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6EDB-1507-428C-86F0-F9EEA9091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869D-717C-442D-88C2-781B08A1A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6663-4231-492E-A092-CCF102D67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02FE-1BCD-41AB-B018-CCC1E53F8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EB04-E4E0-4223-8631-636206B0C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26E1-2EAA-42C3-AF55-209C0210E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4D0F-714F-4D29-A6FA-57B8A6D99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7DCC-ECF4-45FF-A1C2-91326ABE1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FF50-759E-4C6A-88EC-C757ED69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72ED-E20F-4110-AD74-830E2CAC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BCDF-5C37-40EF-BEB0-53B5C7CF6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01ACE8-6592-43FF-A5B8-66EDBE75707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Свою Сын Божий прол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источник жизни откр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нами Своими Он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реховных язв исцел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вца блуждал я вд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чь вокруг меня всё тем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Иисуса 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у я снега бе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3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ровь Свою Сын Бож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ега белей! Снега бел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Иисуса 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у я снега бел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енец терновый понё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есте за нас Он вис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спасенья грешных люд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любви Он всё претерп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влечёт поток тот жи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у ко Христу всё силь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ию святою 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у я снега бел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ега белей! Снега бел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Иисуса 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у я снега бел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че, согрешил пред Т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Тебе хочу я откры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ю, я виновен во вс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ичем греха мне не смы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, к Тебе я и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меня поток тот изл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благодатной 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у я снега бел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ега белей! Снега бел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Иисуса 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у я снега бел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8:05Z</dcterms:modified>
  <cp:revision>12</cp:revision>
  <dc:subject>Slavic hymnal Гимны веры христиан, hymn 431</dc:subject>
  <dc:title>Кровь Свою Сын Божий пролил</dc:title>
</cp:coreProperties>
</file>