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B1D9-47F0-4F71-A3B4-ECE1F9E1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A66-4AF7-4F58-912A-53E3EC5C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57CC-050C-4169-9291-9FD77AFA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B57-51B8-4099-98B0-43F5C42A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FA01-17EC-4117-8DEF-CA13FD90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B116-E481-41F4-A160-DC9BF52C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B1F-60BB-40CB-BAD9-0FC27699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996-02CF-4CB2-A8F5-37B1FC2B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A777-CCBA-478D-A6C8-93394EE6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C72D-00C0-4688-B67D-A16533A6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A46-2A8E-45D1-AFBB-A4CB4BEB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A4D-390E-4E5A-8A11-7EBED357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EAF38-93C5-4702-838C-BDC8342E2B7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call comes ri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 the restless w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are souls to rescu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are souls to s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очью с моря люди гром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с моря люди громко вопи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вет! Дайте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жите к берегу надёжны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have heard the Macedonian call to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a golden offering at the cross we l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теперь доходит Македонский з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вет! Дайте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роявить Хрис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pray that 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y everywhere ab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a Christlike spirit everywhere be f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ю молитвой о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ух Божий погибающих дости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not grow weary in the work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gather jewels for a crown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естанно совершайте труд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Богом делайте дела с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2:39Z</dcterms:modified>
  <cp:revision>12</cp:revision>
  <dc:subject>Slavic hymnal Гимны веры христиан, hymn 887</dc:subject>
  <dc:title>Send the Light / Ночью с моря люди громко</dc:title>
</cp:coreProperties>
</file>