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5C6-F7AF-4888-9054-BF995EE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586-C10D-42CA-B5AA-8CE9D749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195-4EAF-4861-BE6F-183D2D03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0A7-80A6-483A-9036-3A2F2ED6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A98-DDB4-4247-B2BA-4EA4F869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A67-8B8C-47B1-866E-EABFD60A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11A-8300-495A-BC14-29868A4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FDB-C417-47EF-8866-390F0615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BC6-6D85-48B1-856C-9511507F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E0D-4851-45DF-9C98-C5FE34D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B63-1312-4F44-AD85-3394BC2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15C-D2DA-4105-85B0-074A62E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1F2EE-D662-401A-8929-95A5BFB4BE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Jesus will rece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this word of grace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heavenly pathway le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linger, all wh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will give you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, for His Word is pl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the sinfu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 condemns me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before the law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cleansed me from all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isfied its last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me with all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ged from every spot and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th Him I enter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6Z</dcterms:modified>
  <cp:revision>13</cp:revision>
  <dc:subject>Slavic hymnal Гимны веры христиан, hymn 339</dc:subject>
  <dc:title>Christ Reciveth Sinful Men / Грешных всех Христос зовёт</dc:title>
</cp:coreProperties>
</file>