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BD3-2C92-4AF2-8D9E-1665183B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43A-A6A7-40B3-BBB7-4E09F993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483-932D-46BB-B6B9-60674305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293-A0F5-4B5A-AC38-12060184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49A-485A-4165-BD74-048E215D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3D9-7EA1-4B9E-A783-97FE8419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9EC-0CCA-44E4-940D-6FC46127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F79-D343-451D-87DF-DBB7A7E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7C6-EB3E-4124-8C3C-0ED1A7E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21B-1ABD-4578-9B79-ABE6FAF0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637-0DA3-41EC-A87D-E711E154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445-99C4-4A74-8BDF-C1443BB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06B36-F99C-444E-896D-DAC1035B62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огонь с небес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озносим дар сми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низойди к мольбам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м нас Духом Ты к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бещал, то совер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огонь с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лии, внемли мол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святи нас на служ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усть Он сердце возр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в нас со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е пусть всё с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м холодным и бесп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Ты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любовью бескон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и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жью силу поп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вято жить и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лагодать Твою являт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лым, твёрдым быть в служ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спасать, о, дай мне рв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й алтарь слаг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моё, прим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прославить лиш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8:36Z</dcterms:modified>
  <cp:revision>12</cp:revision>
  <dc:subject>Slavic hymnal Гимны веры христиан, hymn 300</dc:subject>
  <dc:title>Господь, огонь с небес священный</dc:title>
</cp:coreProperties>
</file>