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E1B-34E5-4242-ABA3-97BDF016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01A-5EBC-4E79-80FD-FC6EF576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F2F-7564-4103-BF58-08623EF9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377-122C-4BCD-88BA-5C8778E9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F34-F441-4F1E-8EB2-6D8FE3E1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613-866D-44BD-8E56-C452624C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048-66BF-4CB8-91FF-0D99C614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DAC-F38F-4E0B-A7A4-A7580CBB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D42-B31F-41DC-B228-EEF1DBD8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79D-415A-4856-81BE-4DD7CCD2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25C-62ED-46D4-AC43-AE3C35FB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FE8-CB90-418C-88F5-9BA38014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A6223-D653-4F3C-90B7-2F23174033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plendour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thed in majes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earth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073   В сиянии Ца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янии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к велич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я земля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raps Himself i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rkness tries to h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embles at His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embles at His 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блачён во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ает тьмы и с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а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а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with me, 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со мной: «наш Бог так вели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все: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ge to age He st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ime is in His han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ginning and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ginning and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оит в в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ни в Его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о и 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о и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od-head, Three-in-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, Spirit,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on and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on and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аш три-ед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, Отец и Сы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Он и Л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Он и Л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with me, 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со мной: «наш Бог так вели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все: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thy of all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will 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е всех и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возне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with me, 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со мной: «наш Бог так вели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все: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36:19Z</dcterms:modified>
  <cp:revision>12</cp:revision>
  <dc:subject>The Source 4, song number 2073 in Russian</dc:subject>
  <dc:title>В сиянии Царя / The Splendour of the King (How Great Is Our God)</dc:title>
</cp:coreProperties>
</file>