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B97-C728-42D8-A79D-CA6B82C9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321-0148-49BC-A19D-BAF1A483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AAA-506E-422C-8845-E2589765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765-3DE5-462F-BC4F-47D8E279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B04-B94A-49E3-9910-D4EB61FF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ACB-B0AE-41EF-A60A-327ACFCC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C17-917D-4718-85F5-F5F08C1F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08C-7775-4D24-B5DF-363F5750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9D2-18E8-44C2-9DB3-9C27A44A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0AD-BFD4-48E4-A675-6A749479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9C4-EB22-4D25-BA0C-79E1FB2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A19-938C-4E67-BFA2-ACEE8FA4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EEFD8-82D4-44A9-AF92-1DD7434755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у я ски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лине сумрачной,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транник, уж пора расс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 этой жизнью, и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,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уплен дорого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Царь и сильный мой Власт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ь и вечно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вечно буду я скита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святое насла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печальному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спошли мне утеш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лый, радостны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, чтоб с ревностью стрем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руд свой исполня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ы свет Твой не затм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смиренной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ету вдох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, нет любви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ровь Твоя, Твой крест,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дохновя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51Z</dcterms:modified>
  <cp:revision>12</cp:revision>
  <dc:subject>Slavic hymnal Гимны веры христиан, hymn 671</dc:subject>
  <dc:title>Не вечно буду я скитаться</dc:title>
</cp:coreProperties>
</file>