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15BB-6339-48D6-BE08-270247674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E1C0-9CA5-488D-9772-0EBAA7A7B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ED56-6F4D-472A-B8BC-E53270723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F166-A506-4558-B85C-0CEAE23EE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7738-8683-4C49-806F-A00691619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1C2C-6582-4CB5-86DB-B99D7C1F3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D17D-D900-4A39-91A4-131A2ED44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7F79-D820-4978-9AEA-8A7EEB7C8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1B89-E68F-4C54-8F12-C02DB08C8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BEE1-98BE-46F7-A52B-4D7C191F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0449-127C-4CA4-8BE2-0F60DBBA7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6B28-BB8E-414D-93FA-81BF9F056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DF42B0-267C-4184-BF9C-7C19B6DDD1B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O Lord, my God, when I in awesome wonder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Consider all the worlds Thy hands have made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I see the stars, I hear the rolling thunder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Thy pow’r throughout the universe display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83   Великий Бо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еликий Бог! Коли на світ поглян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бачу все, що Ти створив в крас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кожний цвіт склада Тобі пошан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як обняв любов’ю Ти усі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0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Then sings my soul, my Saviour God, to Thee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How great Thou art! How great Thou art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Then sings my soul, my Saviour God, to Thee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How great Thou art! How great Thou art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мій дух співає, Госп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лавен Ти! Як славен 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мій дух співає, Госп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лавен Ти! Як славен 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6.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And when I think that God, His Son no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sparing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Sent Him to die, I scarce can take it in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That on the cross my burden gladly bearing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He bled and died to take away my si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зрю Христа смиренного між лю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думаю я про Його люб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Він прийняв за нас усіх наруг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на хресті пролив невинну кр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0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Then sings my soul, my Saviour God, to Thee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How great Thou art! How great Thou art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Then sings my soul, my Saviour God, to Thee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How great Thou art! How great Thou art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мій дух співає, Госп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лавен Ти! Як славен 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мій дух співає, Госп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лавен Ти! Як славен 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спокуси серце огортаю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дух мій тужить у важкій журб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Він пречисті руки простяг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я кріплюсь в Його любві святі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0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Then sings my soul, my Saviour God, to Thee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How great Thou art! How great Thou art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Then sings my soul, my Saviour God, to Thee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How great Thou art! How great Thou art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мій дух співає, Госп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лавен Ти! Як славен 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мій дух співає, Госп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лавен Ти! Як славен 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8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n Christ shall come with shout of accla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take me home, what joy shall fill my hear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n I shall bow in humble adoratio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there proclaim, “My Go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ow great Thou art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8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Господь мене Сам заклик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світить промінь сяєва Його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мій дух в смиренні замовк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знавши велич Господа св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0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Then sings my soul, my Saviour God, to Thee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How great Thou art! How great Thou art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Then sings my soul, my Saviour God, to Thee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How great Thou art! How great Thou art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мій дух співає, Госп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лавен Ти! Як славен 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мій дух співає, Госп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лавен Ти! Як славен 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0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Then sings my soul, my Saviour God, to Thee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How great Thou art! How great Thou art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Then sings my soul, my Saviour God, to Thee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How great Thou art! How great Thou art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мій дух співає, Госп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лавен Ти! Як славен 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мій дух співає, Госп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лавен Ти! Як славен 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100584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When through the woo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and forest glades I wander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And hear the birds sing sweetly in the tree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When I look down from lofty mounta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grandeu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And hear the brook and feel the gentle breez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дивлюсь на мерехтючі зорі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, де горять світи незнані н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сонце й місяць в вічному простор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ливуть в тиші, подібно корабля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0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Then sings my soul, my Saviour God, to Thee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How great Thou art! How great Thou art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Then sings my soul, my Saviour God, to Thee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How great Thou art! How great Thou art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мій дух співає, Госп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лавен Ти! Як славен 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мій дух співає, Госп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лавен Ти! Як славен 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навесні природа розцвіт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чую я в діброві солов’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запах піль квітуючих вдих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ов’ю сповнена душа мо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0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Then sings my soul, my Saviour God, to Thee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How great Thou art! How great Thou art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Then sings my soul, my Saviour God, to Thee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How great Thou art! How great Thou art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мій дух співає, Госп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лавен Ти! Як славен 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мій дух співає, Госп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лавен Ти! Як славен 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із хмар навислих грім лун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в пітьмі ночі блискавка мигт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під дощем природа ожив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еселка в небі барвно заясн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0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Then sings my soul, my Saviour God, to Thee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How great Thou art! How great Thou art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Then sings my soul, my Saviour God, to Thee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How great Thou art! How great Thou art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мій дух співає, Госп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лавен Ти! Як славен 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мій дух співає, Госп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лавен Ти! Як славен 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беру я Книгу Заповіті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ро Твої читаю я ді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полюбив Ти нас, людей на світ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для спасіння Сина нам посла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07:06:17Z</dcterms:modified>
  <cp:revision>12</cp:revision>
  <dc:subject>Slavic hymnal Гимны веры христиан, Ukrainian hymn 83</dc:subject>
  <dc:title>How Great Thou Art / Великий Бог</dc:title>
</cp:coreProperties>
</file>