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A22-7F71-4DE4-BC52-461F8280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08B-A8E8-420D-84EC-F042588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155-48EB-4CA3-9DB4-A1C33606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FC3-D575-4099-92C0-C9AEF076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FA4-EC8B-4097-A661-713B2F5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B42-39FE-4858-B594-D040E0A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C05-1BC0-490A-8957-24A4EFC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C0A-D526-490C-B919-B73F00E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E80-1EBD-410C-9D47-5760E81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94E-684A-4FDF-82CF-E6BAE83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20A-F0DE-4336-96CC-9C34835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9A8-E54D-4A4E-8E86-D32D71F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DC575-5F59-4AE0-B2B8-3AFC58D29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те вістку святу в просто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и ще маєте ча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м дарує Спас вічне жит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3   Слухайте вістку свя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аль стане загублених дн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робиться сумно підч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за грішних Ісус кров прол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душі від життєвих спо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жко буває не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безмірно нас любить Ісу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46Z</dcterms:modified>
  <cp:revision>12</cp:revision>
  <dc:subject>Slavic hymnal Гимны веры христиан, Ukrainian hymn 43</dc:subject>
  <dc:title>Слухайте вістку святу</dc:title>
</cp:coreProperties>
</file>