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621E-02D3-4969-9A8C-14BBCAD0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A4A3-9B70-4D5C-B11A-2DAD4C8D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CDD7-5D67-4380-BF11-09FC4273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60B6-0288-4C1C-A62C-08FB3E8C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9DD7-5F47-4DA2-88E9-7E566B3F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5504-74B1-4C03-A89C-5FF3562B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BCFB-C1D6-469C-A46E-5F7E932C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00AF-7789-4D01-A279-DB79CFCF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5815-D4AD-47DD-B427-1F909B73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E9F8-3F40-4E08-8129-5F35BC08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C6B9-F254-4244-BEE0-93836462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12EC-7104-4E8E-B141-BA3654EE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D7327-5A8F-426E-B44B-F9F994FFB92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tood before cre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ternity in Your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poke the earth into mo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 now to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tood before my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arried the cross for my sh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in weighed upon Your should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 now to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80   You Stood Before Cre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what can I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at could I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offer this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letely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walk upon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 alive i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life to declare Your promi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 now to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what can I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at could I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offer this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letely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stand with arms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art abando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we of the One who gave i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stand, my soul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 surrender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am is Y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what can I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at could I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offer this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letely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5:08Z</dcterms:modified>
  <cp:revision>12</cp:revision>
  <dc:subject>The Source 4, song number 2180</dc:subject>
  <dc:title>You Stood Before Creation (The Stand)</dc:title>
</cp:coreProperties>
</file>