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469-883A-4BF1-9001-70A0CEA9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BBA-7423-4E42-97E7-DC2209F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F8D-C7BD-4755-9AB1-3B39BC22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A6B-DF3E-4FDA-B44D-5BD6C698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B4A-F67C-4E91-B9B3-A2A5CCF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DB4-A852-4976-8681-E858E87A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EB-137C-4943-8D62-12375F7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D77-4697-44E7-A6C2-18949A58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190-34C6-421C-9C75-B5A1F3A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D3D-169D-45B2-BFA8-89CE167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8CB-5D3B-4837-B51B-E5A87C6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B05-27D0-4E47-AD18-ABED87F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9CE6C-A62B-418A-A3EB-26913D6449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9Z</dcterms:modified>
  <cp:revision>12</cp:revision>
  <dc:subject>Slavic hymnal Гимны веры христиан, hymn 438</dc:subject>
  <dc:title>Сокрой своё горе</dc:title>
</cp:coreProperties>
</file>