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52F-7CD2-4A81-A4E1-77C45743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32D-1685-461A-8107-EE473D5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9B3-0C12-4917-9228-942501A6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E6D-81A1-4241-A80F-B6F17E2D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52A-CDF7-4054-BCA2-C86D2683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7D0-4915-409C-A31D-7A8BDCE2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491-DCAC-4723-9D3F-E12E329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7C7-3D8F-42DE-9D38-29DECD55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52-16DF-4004-8147-6DA0B31C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827-F3B0-4EED-A3D9-A5E0426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52E-2D6C-4787-A824-E0F5A65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985-8A70-4364-B77A-ED28635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CC5EE-66C5-481D-B19E-A191D6A537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59Z</dcterms:modified>
  <cp:revision>12</cp:revision>
  <dc:subject>Slavic hymnal Гимны веры христиан, hymn 548</dc:subject>
  <dc:title>Всё Иисусу, всё Иисусу</dc:title>
</cp:coreProperties>
</file>