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260-477F-49F6-B05C-496DAA17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D18D-6B33-4755-9AF3-09E55CD6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336E-56A0-41A5-9FBC-39041F1A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15E3-8D15-4666-B344-4561D8F5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6321-ACA2-475A-8BE4-1A245E27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B0E2-AF3F-477B-A1E3-8AFA8B2B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AE5E-3598-4A0F-9AF3-E59EBABB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6D2C-F229-4FD8-B63C-82042E9E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3076-E07F-4A7E-87E1-D7E5A203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3012-1DFB-4495-BFAC-996B79D8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1325-9B7B-4BF0-A908-BA4F8EAA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3DEE-4516-46F1-8446-68904C3A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EBB4D-0EF5-443F-97ED-BBD63334DC6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жизнь возьми: 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Тебе посвящ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и возьми, пусть кажд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шь Ты хваленья гл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, все силы съеди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дар, за жизнь, за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полное ог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славило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е, жизнь возь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руки, их к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раю я в мол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ноги, должно 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тезям ходить Т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, все силы съеди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дар, за жизнь, за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полное ог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славило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голос, чтоб он м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Тебе, мой Царь, мо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устам достойным 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ебе благовес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, все силы съеди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дар, за жизнь, за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полное ог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славило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волю, должно 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ей только быть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 направь, чтоб Твой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ах был исполнить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, все силы съеди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дар, за жизнь, за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полное ог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славило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 и сере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зьми моё доб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сердце, Сам уст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престол Ты царский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, все силы съеди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дар, за жизнь, за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полное ог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славило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возьми любов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й у ног Твоих ст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ьми всего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, навек Твой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, все силы съеди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дар, за жизнь, за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полное ог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славило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6:18Z</dcterms:modified>
  <cp:revision>12</cp:revision>
  <dc:subject>Slavic hymnal Гимны веры христиан, hymn 437</dc:subject>
  <dc:title>Боже, жизнь возьми</dc:title>
</cp:coreProperties>
</file>