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656F-F6C1-4039-A788-661D4564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6040-AEBB-463A-A83D-EAB82FA6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5869-1299-4021-B568-973491D4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3FEC-5F23-474F-8638-264555912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3ECA-7E48-4A35-8DB9-DB169862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D02A-2C30-4EB5-95DC-08CDE6FC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DF32-A85C-47F6-AB4F-BE8BD64C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F301-DEDE-434B-9281-514B67E7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2DB8-08E1-4C7B-9463-49ECBB15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4401-4A34-4835-B679-ED734089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75B9-98FF-4F11-AB03-FADCF9CD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24BE-A5F1-4BF3-B2B2-93417879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5E0EC-15F5-4C95-98FE-300108AD95C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ithful One, so uncha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geless One, You’re my rock of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all, I depend o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ll out to You again and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ll out to You again and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rock in times of trou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ift me up when I fall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rough the st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is the anch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ope is in You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9   Faithful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4-04-12T09:10:20Z</dcterms:modified>
  <cp:revision>10</cp:revision>
  <dc:subject>The Source, song number 89</dc:subject>
  <dc:title>Faithful One</dc:title>
</cp:coreProperties>
</file>