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030-B5B4-49C3-BAEF-0276B046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948-1860-41A3-9B90-3369E91B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0C5-A1B9-4D7E-898C-79F3EF70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B8B-5C28-4B2F-8B4D-17E8E230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2EC-03FC-47AE-A67D-29E3E18F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24A-DA43-46DA-A012-4679D46E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8EA-5C59-482F-A993-AFD645F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864-12A9-4D61-B2DC-1110EC82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63F-67E7-4615-B903-D4BE175A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2F7-3D1B-4894-9732-A2925C0E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DCC-C9C7-4CA4-9844-2A26CF48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ECC-8AF2-44BC-97B4-8E6B30E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46C39-99CA-466D-80D6-5E982602E4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seem so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million miles or more it feels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haven’t lost my fai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confess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t’s hard for m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6   Lord, You Seem So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don’t know what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on’t know where to st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s You give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that’s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, I will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in my darkest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orrow and th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t’s hard for m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houghts and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put my trust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that You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don’t know what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on’t know where to st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s You give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that’s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, I will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in my darkest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orrow and th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42Z</dcterms:modified>
  <cp:revision>12</cp:revision>
  <dc:subject>The Source 3, song number 1426</dc:subject>
  <dc:title>Lord, You Seem So Far (I Will Sing)</dc:title>
</cp:coreProperties>
</file>