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8AC-F400-405C-A646-343FC956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44F6-ABFD-4814-9426-746A9068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E76-448E-4BA0-BC49-8C85F4E9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91FF-9FA2-4C7C-BFD9-860BD0CA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1D5-3286-4BA1-A552-BA4C5980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EB62-439F-4EBA-A418-F1518EBE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DA3-72A9-4EB6-BF87-25716968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1741-CABD-47D6-8663-7E8EA9BD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F19B-A959-471D-8958-B6BEA2DC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6DC-DCD1-43F5-BC5A-895227F1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02D-DBE1-4AFF-BC95-8139D1BE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686-03C3-4CDC-8327-C1A732F2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E35C1-CA9A-4741-9FED-34AEB4661A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свет, веди чрез мрак гу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иянью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ла ночь, далёк мой дом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от з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ит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ёк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ы со мной пре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есный свет, ве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иным. Тебя я не про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ди мен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луждать. Теперь же я без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ходил не раз с пу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дился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, п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рука мне в жизни всё да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яд скорбей, лишений и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иянью д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учах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лица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злучила смер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22:40Z</dcterms:modified>
  <cp:revision>12</cp:revision>
  <dc:subject>Slavic hymnal Гимны веры христиан, hymn 824</dc:subject>
  <dc:title>Небесный свет, веди чрез мрак густой</dc:title>
</cp:coreProperties>
</file>