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460-2D91-4ED5-A91A-0630600D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248-0CB5-4B89-9B72-08536F4F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F25-BDDD-4BD0-A1D6-E918F349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594-F2AB-4D55-BD21-22996ED2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E54-B796-4395-9D4C-75F5735F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C6D-A8A9-4569-AC4E-FE8C7175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21F-90D5-4FAB-B359-97C30D30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8D9-98D3-4065-8C6D-3085A97D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514-5C28-4564-ACB5-B16375DE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DB0-44D8-4B89-A953-8C8FF79D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ACF-1410-4FD2-A923-1EF3F374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78D-CD5B-423A-AC2F-03C9425A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9FFAC-6E7E-4DAA-B597-BAA5281E2B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hore of Jordan’s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xpectation we a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faith we see the sh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our new and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1   Недалеко, за рі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алеко, за рікою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рег вічного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ідем туди з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un in radiant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s the new Jerusal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s of praises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precious, priceless 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ікою сонц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овий Є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радісні лун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дивні, незем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saints their race have fin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ssed the Jordan with a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, too, shall cross that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y soon we’ll a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же многії свят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той берег перей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уть хвилини дорогії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кнуть нас, щоб ми 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es of death engul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beyond its deathly th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the kingdom of the bl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end of all our w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холодна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далі світ с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й Христа ― то Край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з Христом нов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7:03Z</dcterms:modified>
  <cp:revision>12</cp:revision>
  <dc:subject>Slavic hymnal Гимны веры христиан, Ukrainian hymn 91</dc:subject>
  <dc:title>On the Shores of Jordan’s River / Недалеко, за рікою</dc:title>
</cp:coreProperties>
</file>