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FEB6-4914-4011-91E5-BBF34530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0075-76D8-4760-B1D7-1A9C0439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5675-9626-4359-9165-9E28C2E6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CAE6-7693-443D-9A94-63FBE901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A5FB-6414-4FBE-9224-290FFF9E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E6E7-1CEB-4E42-8DA5-23B5DD3F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D1BB-3B1C-4E26-86FA-6790BABB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5979-FC9A-4AC0-8ED1-B8F896FA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8003-8CE3-4E78-9B54-9F27769D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F2EA-EB48-4FD2-89AD-931DDF7F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AEBC-C91E-4BD7-9F0A-42E83C2A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3A7C-D438-433E-A117-F9EC2CED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4B417-9734-48FD-983D-039CB3E73C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Я странник на земле, вокруг всё чуждо мн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оя обитель там — в небесной сторон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лагую весть нести повсюду послан 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 повелению Царя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немлите вести той благ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Ей вторят ангелы толп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О, примиритесь вы», 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зывает Бог и Цар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О, примиритесь с Богом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странник на зем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г ныне каяться всем людям повел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отвратиться сердцем от греховных де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ристу внемли и жизнь прими, молю теб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 повелению Царя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немлите вести той благ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Ей вторят ангелы толп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О, примиритесь вы», 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зывает Бог и Цар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О, примиритесь с Богом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ияет чудный свет в моей стране родн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радость вечная у верных над глав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умолкая, звать туда всех должен 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 повелению Царя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немлите вести той благ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Ей вторят ангелы толп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О, примиритесь вы», 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зывает Бог и Цар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О, примиритесь с Богом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9:10Z</dcterms:modified>
  <cp:revision>14</cp:revision>
  <dc:subject>Slavic hymnal Гимны веры христиан, hymn 660</dc:subject>
  <dc:title>Я странник на земле</dc:title>
</cp:coreProperties>
</file>