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C34C-345D-432E-9476-14DDE051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5BE1-0324-4055-8F15-8A1DAB23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9D60-26EC-4F3B-8ACB-A0B5E522D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7E93-656B-425C-B165-F3A5EE84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548E-5B33-4797-B245-4A9993A5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9758-9C8E-4C35-AFB4-81E74E02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3615-298D-4E4C-B67D-DB0E8CBA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4F82-4819-459A-AEDC-764FD522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C0D2-EA26-4DA2-8675-2FCEEEFC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556F-ACD9-4CC1-9B55-4820356A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FDEF-4D90-4F3E-8946-54E0D420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2616-8DC4-42CD-8452-7AC05136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94DAC-0C53-4175-A1CE-51758EB6B77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worship be the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mission’s fl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going with a pa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going for we care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nd u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402   Let Worship Be the Fu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worship be th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mission’s a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e the nations recogn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f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il every tribe and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voices Your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nd u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ould be the praise of ev’ry tong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ould be the joy of ev’r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til the fullness of Your kingdom co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’til that final revelation daw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nd u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worship be the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mission’s fl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going with a pa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going for we care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nd u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ould be the praise of ev’ry tong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ould be the joy of ev’r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til the fullness of Your kingdom co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’til that final revelation daw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nd u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tribe, ev’ry tong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creature in the heav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heart, ev’ry so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sing Your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sing Your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note, ev’ry st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melody will be for You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harmony that 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ev’ry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sing Your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sing Your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sing Your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sing Your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ould be the praise of ev’ry tong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ould be the joy of ev’r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til the fullness of Your kingdom co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’til that final revelation daw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nd us out, send us ou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nd us out, send u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8:44:25Z</dcterms:modified>
  <cp:revision>12</cp:revision>
  <dc:subject>The Source 3, song number 1402</dc:subject>
  <dc:title>Let Worship Be the Fuel (Mission’s Flame)</dc:title>
</cp:coreProperties>
</file>