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87A-CD1E-4DAB-A6D3-AC5D0D51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0F6-5CB1-4F5A-852E-1F0D66C0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38D-991A-47EE-9432-E1073EC4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3BC-348B-48AE-A463-C8C4A1BD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731-D6CB-423F-B9DD-AA0C266D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89C-B1DA-4AE7-A6CF-06E49246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797-E4F9-4218-9FE1-39EC7FFA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282-0D38-467B-B521-64E9EDEF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912-74ED-418B-9B4D-664CB582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668-CFE8-4C96-A191-2CFB532E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415-88A4-4067-B20B-29FD93D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773-EE14-42EC-A0CD-CD56970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DDECA-277D-4DB1-8F0A-D26B9CA2C6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ong shall rise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, свят, свят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утром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оём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ful and 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n three Pers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i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ый, силь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saints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ing down their golden c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ound the glassy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ют Ему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rubim and serap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down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wert, and ar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ют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щий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darkness h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eye of sinful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lory may 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й облеч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ным нельзя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й славы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Thou art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bes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in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p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 над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и креп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orks shall praise Th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arth, and sky, an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жье имя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ре и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ful and 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n three Pers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ят наши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31Z</dcterms:modified>
  <cp:revision>13</cp:revision>
  <dc:subject>Slavic hymnal Гимны веры христиан, hymn 804</dc:subject>
  <dc:title>Holy, Holy, Holy! Lord God Almighty / Свят, свят, свят Господь Бог</dc:title>
</cp:coreProperties>
</file>