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029-67A0-47DF-89A1-64DDD417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C89-65C0-40EE-A1BB-A68622C2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5FC-FB2B-4522-B971-3F0899F1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BC0-B908-4FE1-9402-E1CC8961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3D4-0CC2-44E9-B293-1D805BD9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0C1-9F90-45B9-8C8F-71CF4BD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5C2-1F75-4BAD-90A4-797C0A8C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9AB-A81B-431A-8A9E-6B0A45F2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D48-8874-42F9-B508-FE252982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AC5-8141-495E-B07E-AD4DB8EF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004-4077-483F-B844-52939A53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4DE-6BB8-457A-87C2-35F57E8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F4F63-8C3D-4A83-BCAD-4A9BE028D1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daily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on’t want to worship from af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near to w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welling-place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to the place where You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Just Want to Be Whe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sting at Your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lways want to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enter boldly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on’t want to worship fro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near to w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God, You are my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I’m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’m weak, You’re alway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welling-place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to the place where You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24Z</dcterms:modified>
  <cp:revision>10</cp:revision>
  <dc:subject>The Source, song number 207</dc:subject>
  <dc:title>I Just Want to Be Where You Are</dc:title>
</cp:coreProperties>
</file>