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EA9-7145-44A1-A998-187CD3D8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6D4-654B-45F3-91C4-8839B3D2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6B2-44BB-414F-A79E-14911175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7AE-5421-41FC-BC6A-B4BE5056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AB1-C078-4A1F-9E98-1C3B5E7E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F54-B33F-47DD-8F63-D8AB1103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D74-BE86-4D15-8859-C75982C6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6FD-245D-415D-AF58-7F78CD81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317-6928-4F58-8E7E-78EF4B62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75B-278F-4AEB-8427-4F1E37BC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A72-8C97-46F8-8743-D9817DF7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A47-05A7-4A24-9B44-D4DAEFAC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9121E-36AD-4D61-9E6F-D6D47A99EC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ke me lie down in green past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ke me wanting for no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ill my hu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oney from Your sweet, swee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et me worship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can love and ad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ephe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Jesus,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71   You Make Me Lie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48Z</dcterms:modified>
  <cp:revision>11</cp:revision>
  <dc:subject>The Source 3, song number 1671</dc:subject>
  <dc:title>You Make Me Lie Down in Green Pastures</dc:title>
</cp:coreProperties>
</file>