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022C-9DDB-403C-A4EC-FD8C85C7B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CE7B-0BD3-4912-AC57-EB91DCE0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1B64-CAB4-4346-B44F-520057DAA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FFD0-287F-4462-8584-D3C66AB4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BB36-B37A-4E85-BE24-6BFCBC3B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172C-021E-40AD-BCEE-36CB2855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320E-460A-4337-83E1-83FF2617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5585-DEC1-40BD-A42A-D19BBB46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FE65-8BAE-4757-8762-7174C622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E327-A369-4C89-8280-3EF22906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5AC6-A571-4118-9F41-D4E63E51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764F-0368-49D6-A04F-63C50982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EBEB3-EDC8-4C5B-B642-3B2F6A09680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Holy Spirit, Lord,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turn our hearts from s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power alone can sanc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keep us pure with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ишь Дух Святой влеч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Дух Святой влечёт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греховного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ать им радость без ко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равде соблю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Holy Spirit, Lord,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deeper love inspi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power alone within our sou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light the sacred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Дух Святой вселяет в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мерную любов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огонь во всяк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л во тьме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Holy Spirit, Lord, can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ifts we seek in pray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voice can words of comfort sp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till each wave of 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Дух Святой несёт да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аждем мы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новую везде тв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сердцам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Holy Spirit, Lord, can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race we need this hou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ile we wait, O Spirit,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sanctifying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Дух Святой помог позн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ю благода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мы ждём, при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вь и освя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37Z</dcterms:modified>
  <cp:revision>13</cp:revision>
  <dc:subject>Slavic hymnal Гимны веры христиан, hymn 313</dc:subject>
  <dc:title>Thy Holy Spirit, Lord, Alone / Лишь Дух Святой влечёт сердца</dc:title>
</cp:coreProperties>
</file>