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5D9-EA14-4EE4-8295-15579DB6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B32-81BF-4B52-A430-0C7462C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785-821F-455C-8F66-F19D551F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CA0-13FE-4428-AEA6-5C7CA534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F86-20AA-4459-82F4-AE65449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2EE-E033-447B-80D3-95EBF0E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E61-F1E6-4917-BF5C-E138004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476-E12E-4146-B78F-D2874FFE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D94-E5D4-4FE3-A7FC-E0F3D66A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940-3B68-4A72-A1E1-EB0EA6C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CCF-5152-416E-B974-1692D6E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3BE-C57D-4A51-8E0A-AB4AA6A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A4CCC-CC5C-4739-AECE-D9AC8C3CE5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fter darkness, gain afte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after weakness, crown after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after bitter, hope afte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 after wandering, praise aft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 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aves after sowing, sun after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after mystery, peace after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fter sorrow, calm after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after weariness, sweet res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after distant, gleam after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fter loneliness, life after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fter long agony, rapture of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ght was the pathway, leading t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2Z</dcterms:modified>
  <cp:revision>13</cp:revision>
  <dc:subject>Slavic hymnal Гимны веры христиан, hymn 488</dc:subject>
  <dc:title>Light After Darkness / День после ночи</dc:title>
</cp:coreProperties>
</file>