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F5E-98B0-45A1-9D34-93D6F3C4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C69-2488-48D2-B35C-7517CA1B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ACA-0806-449F-AD00-8D7AFABC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54B-A064-41C3-96ED-54AAAAF8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544-93C5-40FC-9CD2-3A7B1E21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DB2-25A9-4593-8FBD-B5B25B05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BDC-A290-4C9D-A5F1-247E7A1E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2A01-5A43-4812-A36B-DE0F7D09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B7A-BDE5-4D09-8E47-7DE8D850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8E3-791E-4793-A698-0B07F4A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35D-C1FE-49DD-9D62-487ECD6E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3B9-CDC1-45BB-9BD7-29E84691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323D0-586A-4C63-BF6B-130112E912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humbled by Your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vered by Your grace so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knowing I’m a sinful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vered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’ve found the greate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ll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ce You laid down Your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est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45   Here I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has found me just as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mpty-handed but alive in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I am changed by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resence of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humbled by the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 so that I can forg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stand, knowing that I’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nctified by glory and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’ve found the greate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ll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ce You laid down Your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est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has found me just as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mpty-handed but alive in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I am changed by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resence of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11Z</dcterms:modified>
  <cp:revision>12</cp:revision>
  <dc:subject>The Source 3, song number 1245</dc:subject>
  <dc:title>Here I Am (Majesty)</dc:title>
</cp:coreProperties>
</file>