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03D-DCAF-49A7-B64F-AF9E47F2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816-32B7-43DD-86DA-AC62C4EA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693-4E96-4792-947E-E8513E9C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51F-B801-4C7A-B94D-C1831CF8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62B-3129-4D9D-8A5A-5350CA2A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748-5427-45C7-8547-19A53145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46B-72E0-4D58-9DA6-9C5982B5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5C0-ABC0-42AA-BF70-BC6DA5EB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0ED-7B6C-42CE-8488-B1F097EB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09A-7404-4F27-9C78-C7D1330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733-92EE-4472-8C0B-7CDB0DC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CF2-04B7-4BA2-97E8-B42DAB7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A5AB6-913A-4D03-948D-7E68B8403C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руг,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сть, во всех грех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врачует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брось свой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бодрись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: «не изгон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пред Ним вс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боль греха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друг,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едайся в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ушай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излечит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й нечист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проли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исц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ней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ввек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вой крест и следу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узкий за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за Ним, не сет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ты под кре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путь к веч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ы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айдёшь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20Z</dcterms:modified>
  <cp:revision>12</cp:revision>
  <dc:subject>Slavic hymnal Гимны веры христиан, hymn 378</dc:subject>
  <dc:title>Приди, друг, к Иисусу</dc:title>
</cp:coreProperties>
</file>