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57EA-533C-437A-B440-5B9E68579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E2B4-D89B-4C6C-9908-A6E80CF1D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9A12-34CC-4079-A64A-D4FAD500D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3D15-D978-4E82-A53D-EDC2E3016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87E2-BF27-402C-BF7C-810EFDA7B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1C5B-4675-45B3-A8B5-EF535F44E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2299-B1A9-47D3-9521-D7B014310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5D97-7A4E-4975-9DB1-FE07D9A10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A2ED-3F30-4DA6-B026-55E1B4C6A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897F-FB70-4956-8AD6-BFC8A99C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00CB-E5CC-4D99-A476-46126799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B3A4-F5FA-4F96-B575-9E2BC46A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81C2C9-CFD1-4B99-A015-2C2DD8CF5C3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happy day that fixed my ch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e, my Saviour and my Go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ll may this glowing heart rej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ell its raptures all abro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2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 дивный день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ивный день! о дивны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Спаситель в первый р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душой моей в завет вступ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 мне сердца подар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rest, my long divided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xed on this blissful centre,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have I found a nobler p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heavenly pleasures fill my bre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ивный день, когда душ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к жизни радостной восст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и счастье, и по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в душу мне посл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ppy day, happ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washed my sins aw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aught me how to watch and pr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ive rejoicing every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день, дивн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сподь меня прос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ех пор Христос всегда со 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дит Сам меня ру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ppy day, happ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washed my sins aw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день, дивн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сподь меня прос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gh heaven, that heard the solemn v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vow renewed shall daily h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in life’s latest hour I b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bless in death a bond so d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ивный день, когда душ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рил я в любовь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ыл омыт крови струё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екавшей некогда с кр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ppy day, happ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washed my sins aw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aught me how to watch and pr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ive rejoicing every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день, дивн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сподь меня прос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ех пор Христос всегда со 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дит Сам меня ру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ppy day, happ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washed my sins aw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день, дивн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сподь меня прос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ppy day, happ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washed my sins aw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aught me how to watch and pr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ive rejoicing every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день, дивн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сподь меня прос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ех пор Христос всегда со 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дит Сам меня ру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ppy day, happ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washed my sins aw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день, дивн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сподь меня прос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happy bond that seals my v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im who merits all my lo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cheerful anthems fill His Hou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to that sacred shrine I m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ивный день, когда Христ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нашёл в долине слё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ой теперь и я 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 страшусь я нич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ppy day, happ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washed my sins aw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aught me how to watch and pr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ive rejoicing every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день, дивн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сподь меня прос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ех пор Христос всегда со 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дит Сам меня ру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ppy day, happ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washed my sins aw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день, дивн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сподь меня прос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Tis done, the great transaction’s do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my Lord’s and He is m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drew me and I followed 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armed to confess the voice div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ивный день, когда простё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 мне Он руку, я прозр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Христа увидел взо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х любовь Его восп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ppy day, happ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washed my sins aw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aught me how to watch and pr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ive rejoicing every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день, дивн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сподь меня прос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ех пор Христос всегда со 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дит Сам меня ру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ppy day, happ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washed my sins aw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день, дивн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сподь меня прос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3:46Z</dcterms:modified>
  <cp:revision>13</cp:revision>
  <dc:subject>Slavic hymnal Гимны веры христиан, hymn 721</dc:subject>
  <dc:title>O Happy Day, That Fixed My Choice / О дивный день! о дивный час</dc:title>
</cp:coreProperties>
</file>