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C489-4B5A-4A43-A4EA-8FA61F12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E9A8-501E-4B2E-94FE-84B7DEBE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B9A1-0422-4288-B85D-3481BCAAB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58DF-3C06-4DEA-AABC-62DC5A299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6046-E997-4FF0-ACA1-827CF2FF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1158-BECB-430E-A72D-3060BE63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F3FD-5896-4014-AC13-735F9CB8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E1FC-5B9C-4545-8C61-53CE8E87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5AA0-2ECA-46FD-A380-1F1F04BA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653E-AB97-47BD-B185-EF463B6C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B8C5-2D29-4367-86AC-FACE82F6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394D-4D20-4AD7-B42C-B3F3E8EF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0B7A8-1416-4540-B434-F87B8F6F654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ve that wilt not let me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rest my weary soul in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ive Thee back the life I ow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n Thine ocean depths its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richer, fuller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Божья вечная люб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ожья вечна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ы влечёшь меня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даюсь тебе впо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ей безмерной глуб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всех да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ight that follow’st all m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yield my flick’ring torch to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restores its borrowed 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n Thy sunshine’s blaze its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brighter, fairer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вет, что следуешь за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коптящий факел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сердце яркий веры лу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й из страны и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светел и могу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oy that seekest me through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not close my heart to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trace the rainbow through the r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eel the promise is not v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orn shall tearless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радость, что в душе мо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ла ужас бурь и гроз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жу день и в тьме но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: там, где Царь ца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ет тьмы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ross that liftest up my h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dare not ask to fly from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ay in dust, life’s glory d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rom the ground there blossoms 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e that shall endless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рест, хотя внушаешь ст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без тебя мне нет венц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ное всё кладу во п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я к славе в небе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жизни без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6:26Z</dcterms:modified>
  <cp:revision>13</cp:revision>
  <dc:subject>Slavic hymnal Гимны веры христиан, hymn 831</dc:subject>
  <dc:title>O Love That Wilt Not Let Me Go / О, Божья вечная любовь</dc:title>
</cp:coreProperties>
</file>