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BEB-CFB3-4441-8E37-0D4BBE95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E80-C796-474C-8768-2D8AD436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277-FB70-4F83-BC61-3B693484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946-0C2A-456F-98B1-1EAAD932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C2E-9B05-41F8-B43D-C9BABE64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642-D9D2-4D60-9983-D7261C22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F02-275F-4194-B2DB-BB46AAB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E14-C9E6-468A-9044-77CA84A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393-EC12-4DD7-AECA-77FA94A3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C20-64A6-4492-B928-E81236B0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DC8-968F-439B-A461-91F97CB3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39F-F2DB-4E0A-9E3D-2E20C813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56B65-C7C5-4EA0-A6A6-1A2A3D9C6A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my labours and trials are o’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am safe on that beautiful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be near the dear Lord I 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кончится труд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тся труд мой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Спаситель на неб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всегда буду с Ним пре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the gift of His infinite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accorded in heaven a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be there and to look on His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даровано в доме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еспредельной люб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Его у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will be there I have loved long a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like a river around me will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, just a smile from my Saviour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огих встречу любимы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о свиданье вдали от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ть Христа будем все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5:03Z</dcterms:modified>
  <cp:revision>12</cp:revision>
  <dc:subject>Slavic hymnal Гимны веры христиан, hymn 870</dc:subject>
  <dc:title>O That Will Be Glory / Когда окончится труд мой земной</dc:title>
</cp:coreProperties>
</file>