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8   Пустыней знойной утомлён</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устыней знойной утомл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сень креста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мира скорби удалён, удал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лучше сень най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ам чистая струя б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ьно, и свет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мне жажду утолит, уто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лучше быть могло?</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уше измученной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у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ам сложить я посох мой, посох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лал бы на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од сенью мирной 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транник на зем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себе я кров род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ров род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надо лучше мне.</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3:00:58Z</dcterms:modified>
  <cp:revision>4</cp:revision>
  <dc:subject>Slavic hymnal Гимны веры христиан, hymn 68</dc:subject>
  <dc:title>Пустыней знойной утомлён</dc:title>
</cp:coreProperties>
</file>