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7AE-7B42-4AB5-8709-9DD7CC7E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4FE-76A4-4C70-908C-23B4E9F3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BEA-88E3-44AA-BBAF-EBEFD5B3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BF2-0CFA-4F92-8942-245777A3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A47-E97C-4728-9CD8-125594B3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1CD-E0BE-4294-AF23-0515C706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EB6-36E9-4D01-BE52-1A5C634A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0AA-8561-4186-9B29-B6125BFE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1D6-BDA6-433A-87B6-6933E308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E40-DAF5-4BFB-B029-F7B5D139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812-638C-46D7-8F51-1045317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546-F54C-42A6-86E8-DD17DED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9BEFA-EFEA-48BF-B6D1-2716A0CB3F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38Z</dcterms:modified>
  <cp:revision>9</cp:revision>
  <dc:subject>The Source, song number 265</dc:subject>
  <dc:title>I Will Offer Up My Life (This Thankful Heart)</dc:title>
</cp:coreProperties>
</file>