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347-B300-4AC5-A3CA-67573676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9A5-4AF5-4C98-A530-BFB2558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3D9-86DF-4503-ABB8-07146A03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C73-5D53-4FA3-A697-903F5817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ECA-F639-4B00-A4F8-6BF43902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915-FE5B-4910-8036-56225D8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D8C-3F93-4137-87FE-7C61CDDD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A4B-A2B8-4773-9B34-3C627052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C72-4720-4267-AA67-3D10BA0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A0E-D04F-4180-8F9E-1636ABF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A94-9A23-4CA6-B8B2-F1A0E6A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20F-03C5-4D15-9CA4-F9AB586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EA7FC-CC4D-4E8F-8CF8-7F5B811D0B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 me not, O gentl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at Thy thron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a sweet rel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eling there in deep contr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y unb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only in Thy me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I seek Th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 my wounded, broken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me by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, the Spring of all my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life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 on earth besid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5:03Z</dcterms:modified>
  <cp:revision>14</cp:revision>
  <dc:subject>Slavic hymnal Гимны веры христиан, Ukrainian hymn 7</dc:subject>
  <dc:title>Pass Me Not, O Gentle Saviour / Не минай мене, мій Спасе</dc:title>
</cp:coreProperties>
</file>