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08A-D36F-4EDB-8569-C822965D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6B8-91DD-4A24-86B8-5232B65F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D5A-1B18-4933-9350-9BBDBC01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C8F-75B7-401D-AAC9-3B237BDF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343-9EC8-432E-8120-23AF94D6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FB3-75B4-45FA-A5E2-7D1A0AA2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200-612A-4539-829C-4971ED3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904-DB33-4C62-A399-10778DC5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7F9-16FE-4EA2-BD5B-448EB43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8DC-2934-49DF-9735-684C5EB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676-6829-4B0C-9F10-6C1FA0D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6EA-5BB6-449E-8547-61F928F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D0DFF-A482-4358-9BFA-306DDFDC9A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ает волн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дость, т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тебя пригр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горд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и душе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Ешь, пей, весели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ейское море игр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ведь с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однишься с сум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шь ты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ячей сле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ипучи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59Z</dcterms:modified>
  <cp:revision>12</cp:revision>
  <dc:subject>Slavic hymnal Гимны веры христиан, hymn 773</dc:subject>
  <dc:title>Житейское море играет волнами</dc:title>
</cp:coreProperties>
</file>