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56</a:t>
            </a:r>
            <a:r>
              <a:rPr b="1" lang="ru-RU" sz="3600" spc="-1" strike="noStrike">
                <a:solidFill>
                  <a:srgbClr val="ffffff"/>
                </a:solidFill>
                <a:latin typeface="Verdana"/>
              </a:rPr>
              <a:t>	</a:t>
            </a:r>
            <a:r>
              <a:rPr b="1" lang="ru-RU" sz="3600" spc="-1" strike="noStrike">
                <a:solidFill>
                  <a:srgbClr val="ffffff"/>
                </a:solidFill>
                <a:latin typeface="Verdana"/>
              </a:rPr>
              <a:t>Мой Иисус, Спаситель</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Мой Иисус,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Господь, нет подобных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сю мою жизнь, я восп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 величьи Твоей дивной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Мой приют, мой покр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Крепость и сила м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Каждый мой вздох, всё, что я 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ечно будет славить Тебя.</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оскликни, земля, Господу тво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еличество, сила и слава Цар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Горы растают, моря зашумя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т лица Тво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Я буду петь о делах Твоих ру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ебя я люблю, буду в вере сто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Милость Твоя бесконеч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 мне, Господь.</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4:00:36Z</dcterms:modified>
  <cp:revision>3</cp:revision>
  <dc:subject>Slavic hymnal Гимны веры христиан, chorus 56</dc:subject>
  <dc:title>Мой Иисус, Спаситель</dc:title>
</cp:coreProperties>
</file>