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C831-8426-4B90-A4A9-A94B47F65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4ECA-DC27-4642-BE52-29907DBB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3823-F368-46C4-9D59-F04B9455F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C18A-2BD3-480F-B470-712E23B4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45E8-1E9D-4D18-9EF0-C735431E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8F18-6DC1-47FE-9E93-C96150C0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2297-2789-4D1A-9923-BC54B24A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3B39-D0DC-4E38-A151-DAD2D535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632C-2D4D-45C8-BED1-42F3C15B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57E2-B9E4-47C7-85FC-45432325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23C5-1C8A-465A-BF1E-023D6005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DCED-FD30-4101-889F-38EA09B1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C53F0-75A6-46EE-810E-6B71382CFAF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great Physician now is n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ympathising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speaks the drooping heart to che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! hear the voice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4   Єдиний лікар є для н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Єдиний лікар є для нас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аскавий наш Спасит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ранами Своїми сп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х вірних ― наш Збав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ote in seraph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ame on mortal tong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carol ever su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blessèd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щий скарб мені Ти д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у й тіло врят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хвалу Тобі спі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Господь ―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ote in seraph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ame on mortal tong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carol ever su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blessèd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щий скарб мені Ти д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у й тіло врят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хвалу Тобі спі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Господь ―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many sins are all forgi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! hear the voice of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 on your way in peace to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ear a crown with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сі гріхи мої прост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Лікар, мій Збав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ім Отця мені відкрив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, наш Примир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ote in seraph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ame on mortal tong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carol ever su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blessèd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щий скарб мені Ти д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у й тіло врят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хвалу Тобі спі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Господь ―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glory to the dying Lamb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now believe in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he blessèd Saviour’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he Name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рагну щиро все люб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, мій Відкуп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воє ім’я люблю хвал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едвічний Цар,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ote in seraph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ame on mortal tong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carol ever su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blessèd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щий скарб мені Ти д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у й тіло врят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хвалу Тобі спі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Господь ―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Name dispels my guilt and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other name but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! how my soul delights to h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harming Name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дуг невиліковний тв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ізціляє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го могутність зрозумі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ірним помага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ote in seraph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ame on mortal tong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carol ever su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blessèd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щий скарб мені Ти д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у й тіло врят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хвалу Тобі спі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Господь ―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brethren, help me sing His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praise the Name of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sisters, all your voices 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bless the Name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лавмо, браття, всі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ов Його безмірн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славить серце і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ню милість див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50:49Z</dcterms:modified>
  <cp:revision>12</cp:revision>
  <dc:subject>Slavic hymnal Гимны веры христиан, Ukrainian hymn 74</dc:subject>
  <dc:title>The Great Physician / Єдиний лікар є для нас</dc:title>
</cp:coreProperties>
</file>