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8D6-FBD0-427B-9137-00F39C22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237-C951-472C-866A-FAF47C6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B6D-D4D5-41F3-9633-6641D937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09F-C19C-40A3-B78D-0B9715A9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86E-11A6-4095-A777-8877CF9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968-15E9-4FFB-AC3F-111638A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847-C556-41BC-B6B7-C6A8192A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9F6-CF4F-42AF-BF45-CD88E9E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BC3-C072-44BD-9AE9-4158B987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45C-656C-49AD-A85C-3C63EA3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51D-6941-4EAD-9CE6-2AAA945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ECC-D2C5-4E9C-A5DF-CB0D2001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7C8BF-ACEA-4B70-BD85-C2747A9A0C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at to those who find? Ah,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ongue nor pen can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ve of Jesus, what it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His loved ones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ight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ount of living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passing all the joys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e can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27Z</dcterms:modified>
  <cp:revision>12</cp:revision>
  <dc:subject>Slavic hymnal Гимны веры христиан, hymn 847</dc:subject>
  <dc:title>Jesus, the Very Thought of Thee / Спаситель, мысли о Тебе</dc:title>
</cp:coreProperties>
</file>