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4DD8-F00F-48F1-BE2C-B0FFB9CB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5165-EB55-4426-A209-E8AF57C6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A224-6FDE-47F8-81CF-1A0374E1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9578-C384-476A-BA8C-403116D0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618C-0A02-4C39-B589-A1874C66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1651-4B36-4FB5-A2A3-45D88971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EB9C-6BF1-4B20-AAAD-D6BB15EE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5F6F-3CDA-4BD3-923D-8B6D6AD9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FEF7-25C8-4D14-B1C2-2C51CD05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EBE8-E213-47F0-ACD4-9D09D286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D681-CFA6-4A59-A461-B917540D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0410-824C-4244-8C3E-2A5CBB4D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71858-FC66-4C4C-B86D-B59DECC3A55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ing and honour, glory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unto the Ancient of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every nation, all of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w before the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   Благословенье, сла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енье, славу и поч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му Цар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всех народов, всего твор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му Царю поклон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ill be exalted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r kingdom shall not pas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превознесён, наш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ё Царство не знает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вечный Ца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tongue in heaven and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declare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knee shall bow at Your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 язык земли и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воз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 колени прекло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чт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ill be exalted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r kingdom shall not pas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превознесён, наш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ё Царство не знает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вечный Ца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ing and honour, glory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unto the Ancient of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every nation, all of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w before the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енье, славу и поч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му Цар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всех народов, всего твор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му Царю поклон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tongue in heaven and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declare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knee shall bow at Your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 язык земли и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воз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 колени прекло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чт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ill be exalted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r kingdom shall not pas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превознесён, наш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ё Царство не знает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вечный Ца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kingdom shall re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all the ear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unto the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аш, Ты прав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всей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му Цар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none shall com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Your matchless wor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unto the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равных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ей сла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му Цар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tongue in heaven and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declare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knee shall bow at Your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 язык земли и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воз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 колени прекло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чт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3-13T19:35:09Z</dcterms:modified>
  <cp:revision>13</cp:revision>
  <dc:subject>The Source, song number 54 in Russian</dc:subject>
  <dc:title>Благословенье, славу и почесть / Blessing and Honour (Ancient of Days)</dc:title>
</cp:coreProperties>
</file>