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519-F298-4877-8BE1-18F0FD43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A79-3ED0-4974-B72F-D6A93626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A6D-9749-4944-94ED-EE099FE7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9B6-27D3-4B57-B8F5-F9C6C32D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DE4-7609-4F0D-AE54-75D99AC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630-7330-4841-A054-6072262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1E4-91A3-48F1-9A04-610862F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F34-B236-4A58-A204-33DFC700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334-A728-4915-AC10-9783572C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6AC-6ABF-4162-99E8-78AAA08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625-2667-4FD1-9F91-E4DD6B0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783-69AF-424D-90ED-108389F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009C-05EF-44FC-A851-16295A2887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Lord Re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ire goes befor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urns up all His ene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lls melt like 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’ns declare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see Hi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O Lord, are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reigns, our God re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48Z</dcterms:modified>
  <cp:revision>10</cp:revision>
  <dc:subject>The Source, song number 485</dc:subject>
  <dc:title>The Lord Reigns</dc:title>
</cp:coreProperties>
</file>