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12C2-CE3A-4B48-B89C-F4CEBF39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872B-56F0-46F1-B78B-D8450AAA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4DEE-7319-4833-8605-6A876F1B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BA27-59DA-42BD-B98E-BB1518B4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F05-CADE-4149-86CA-8A36552A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3699-AA26-4E43-B699-2A2BC2F6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1767-6036-43B3-8B3E-00AEA3CA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6380-EDAE-4CEF-912D-0357613A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E553-5D6C-44A6-992E-8398B852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0CB8-D37D-420A-9310-ED48373E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30D2-9E99-45F1-BD63-D47BD428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DC9-2E12-4886-8222-34FA743B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35DC8-B35A-40B2-94EF-F951115470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I may speak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anguage of an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ugh I may fath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myster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 into the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faith that moves mountai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I am without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n what does it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00   Though I May Sp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hing a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hing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n if I g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or my possess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rrendered my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died for the c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highly respec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ccessful and gift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love was ex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wasted i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hing a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hing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we pass through the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love will surv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hing a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hing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ith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e see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love will surv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6:26Z</dcterms:modified>
  <cp:revision>12</cp:revision>
  <dc:subject>The Source 4, song number 2100</dc:subject>
  <dc:title>Though I May Speak (Language of Angels)</dc:title>
</cp:coreProperties>
</file>