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E43B-BE33-4E54-970A-A6004546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EE2C-6D5B-4199-8301-44B9496E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C19B-6EF8-4EA0-BA0C-5F6B432A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A42-DE34-4401-AE65-DFE9648A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67A2-39A2-4994-831F-96DE0463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208F-55F5-4E5C-9CF1-2BB7E97B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693E-40E4-464E-B196-D074E56F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F3F-3AC7-4258-A26A-402182EE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2731-937C-49A6-801B-2F045018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87F0-3C8F-44D2-A9A7-54147AB0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E968-B6AC-449E-B94D-BB91089E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E44-3993-40C6-8E7A-B93ED891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CE998-4CB5-4905-A902-8E6620649B5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скуй ты, душа дор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 и радостна 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, поверь мне, настанет друг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нас любит Господь, не за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ты на Господа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чаще молися в ти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тихнет на сердце трев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покой для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тоскуй ты, душа дорог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ь, что Христос, тв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ради страдал на крес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бед твой благ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тобою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щайся в тяжёлые 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 бремя не ропщут у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в жизни бывают невз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дейся на милость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волны бушуют, как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ер страшно и грозно шум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 ты! С любовью во вз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бя твой Спаситель гля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 нашей Он Сам управ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щиту Он нам по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ёт Он нам то, что жел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с к радости, к счастью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традать здесь осталось не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отовы к последней бор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ится путь наш суро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ьмёт нас Спаситель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стань тихая нас ожид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и страшной и грозной там н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че солнца Христос там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вечной сияет там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скуй ты, душа дор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 и радостна бу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родина наша свя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ш вечный, блаженный при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1:54Z</dcterms:modified>
  <cp:revision>13</cp:revision>
  <dc:subject>Slavic hymnal Гимны веры христиан, hymn 717</dc:subject>
  <dc:title>Не тоскуй ты, душа дорогая</dc:title>
</cp:coreProperties>
</file>