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1170-BC7C-46A9-80D3-95CD20810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2404-2B40-4F16-BDE6-28DA8E472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4306-3A46-4024-9603-FB402576C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6191-8075-4FAB-B35F-D84BE0982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1CAE-A3F7-40B8-BF70-B72C4BE50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87A5-687C-4718-B938-72F10C7F4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EB86-D9A7-42EB-9138-9DA674243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FB94-877C-4B7E-9006-194DEF45C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A871-1055-400F-8947-CBE6999EF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AE13-308D-435E-8D79-F36CB6B4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F237-CFE3-4025-88F9-FAEFF4A4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5232-CA28-4848-A5EA-05843F0F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7EDD98-4904-4623-ACAD-DE0E8C41F10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 Иисусу все мои скорб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истомился под гнётом 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Всемогущий, меня поддерж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ечно помнит, любит Сво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 Иисусу, скажу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тяжкой ношей я изнем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 Иисусу, скажу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не поможет, мой Царь и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2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кажу Иисусу все мои скорб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 Иисусу все опас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ак отзывчив, Он всё пойм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твет на просьбу даст избавл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гонит страхи, снимет весь гн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 Иисусу, скажу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тяжкой ношей я изнем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 Иисусу, скажу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не поможет, мой Царь и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корби, в тревоге Тому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сил даёт мне мой крест 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 Иисусу, скажу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ё Он вникнет, всё облегч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 Иисусу, скажу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тяжкой ношей я изнем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 Иисусу, скажу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не поможет, мой Царь и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осаждает, влечёт к паден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моём сердце так много зл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 Иисусу, Он даст побе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десница меня спас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 Иисусу, скажу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тяжкой ношей я изнем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 Иисусу, скажу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не поможет, мой Царь и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3:18Z</dcterms:modified>
  <cp:revision>12</cp:revision>
  <dc:subject>Slavic hymnal Гимны веры христиан, hymn 623</dc:subject>
  <dc:title>Скажу Иисусу все мои скорби</dc:title>
</cp:coreProperties>
</file>