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A61-2BEB-4379-8777-8DA23884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767-13B6-400A-9E6C-E8F8669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08A-3D1A-4F54-A8BB-9DA12CAE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64D-76C1-48CF-B6C4-39D7CE41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624-0E94-4EC5-867B-8F87DD6F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966-B9BD-423E-B7E9-7B0FC95D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682-DA25-40B8-8A0D-CB97A98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73B-7EFC-46C9-B6E2-1A82BAE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EDA-6225-45E6-8B1C-2C75A464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E10-640D-4983-9CF5-E935E7B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E35-44F4-4D7E-A5E7-6365056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4EB-7328-40E4-B8B0-D584E11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293DB-96B7-4618-BFC6-25ECC3A8B4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Тебя и пою хв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ю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мой Ца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удет ра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песн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6:02Z</dcterms:modified>
  <cp:revision>11</cp:revision>
  <dc:subject>The Source, song number 214 in Russian</dc:subject>
  <dc:title>Люблю Тебя и пою хвалу / I Love You, Lord, and I Lift My Voice</dc:title>
</cp:coreProperties>
</file>