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B8F-945D-40AB-8ACC-D8FE3B48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273-E9E0-4465-9097-8CFB439C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42A-F0E6-4771-90A5-430A0D64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D2B-654A-46C6-9B35-CDF5F769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8A2-4DB3-4A9A-86D7-4F8AACE4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6DC-DDCA-49FB-BEC2-3DE1A24B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2C5-71A4-4A77-8284-E73E5307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62B-5DD4-4DE0-84AD-1EE748F8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EBB-C5D9-4B26-8090-F0C0145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506-8161-4D45-A979-B95DBC2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793-87C8-413A-8657-487FCB99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603-5124-4FEB-8388-A6C093C8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97719-61A5-48BF-92BD-81CEDF7F23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,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flowers are blo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sweet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 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ing in His footsteps till the crown b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цветы не вянут, где источники 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, куда б Он ни повёл, пойду за Ним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storms are sw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ark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s hand to lead me I will never, never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nger cannot fright me if my Lord is 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or upon the mountain st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ose beside my Saviour would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 k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lead me safely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has tr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to where they gather on the hill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пойду чрез горы и мо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, утешитель в скорби и слез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2:46Z</dcterms:modified>
  <cp:revision>12</cp:revision>
  <dc:subject>Slavic hymnal Гимны веры христиан, hymn 842</dc:subject>
  <dc:title>Follow On / Вслед за Христом хочу идти</dc:title>
</cp:coreProperties>
</file>