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3486-AD1A-4D61-91D6-C36F33A3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6B4-1479-438C-9F73-3089600F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4CD-7E75-4E68-BD06-C2B742C3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848-C4FC-4B97-94BC-4CD4FE45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A1A-59D5-4D17-9219-897A9D30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5752-A24E-402C-A7EB-0524F0EE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980E-49E9-4189-A549-3F0BCD22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BB8-8C90-416D-87C0-2367CD8A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95EF-CB97-475A-9BCD-9048F211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21F-1D4C-4CA8-BA6F-2B83F4CF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82F-841E-4CA7-99F3-98F29E40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202-5E06-4585-983D-461BDBEA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497A5-4097-491D-84AB-7962FC696C3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be showers of ble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promise of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be seasons refre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t from the Saviour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2  Буде дощ благослов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цяний по люб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ки знайдуть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ристовій святій кро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 we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drops ’round us are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the showers we pl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be showers of ble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, reviving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hills and the valle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und of abundance of 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а Святого з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шле Господь нам хрещ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мари надходять у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 we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drops ’round us are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the showers we pl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be showers of ble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upon us, O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nt to us now a refre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nd now honour Th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скорійш нам зі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нам нове відродженн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щ благодатний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 we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drops ’round us are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the showers we pl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be showers of ble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that today they might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, as to God we’re conf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, as on Jesus we c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шли нам, Боже, теп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шукаєм прощ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чуй нас, просим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 we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drops ’round us are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the showers we pl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7:29Z</dcterms:modified>
  <cp:revision>12</cp:revision>
  <dc:subject>Slavic hymnal Гимны веры христиан, Ukrainian hymn 92</dc:subject>
  <dc:title>There Shall Be Showers of Blessing / Буде дощ благословення</dc:title>
</cp:coreProperties>
</file>