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7B9-7081-4BBC-80C7-B4A0BF91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6DD-3120-426A-B8D6-AB7AD277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C81-7BF4-47E7-B683-CE98AF9B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F0D-7E4C-46E0-AFC2-265F8286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47C-6D27-4BF9-835B-6DF1D87F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16A-2DB3-441A-9103-95C9434B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C0D-A219-427A-83D4-B0839619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61B-6009-463C-88F1-01037728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CDF-9D87-4C95-ACB9-01D4CF73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39B-EFDE-45EE-B5AE-D9DA765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78F-2486-4EE1-A676-A0C44EE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3E2-3BF1-4A40-A149-F094286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AC822-4BD9-4469-A750-F3049C0767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o belie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o rece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в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яться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s now some soul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, Spirit, go Th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more convenien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 I’ll c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-то шепчет м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доверяй вп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й раз в тиш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шь к Нем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com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not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по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nvites you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are lingering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ers rise from hearts so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nderer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теб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церков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vest is p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om comes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а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” cannot a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” is but to fa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d, sad, that bitter w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,” but l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» свело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ило сил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о чрез «п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на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38Z</dcterms:modified>
  <cp:revision>12</cp:revision>
  <dc:subject>Slavic hymnal Гимны веры христиан, hymn 892</dc:subject>
  <dc:title>Almost Persuaded / Почти уверен</dc:title>
</cp:coreProperties>
</file>