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CF24-4772-468E-A4B9-6B35D2ED8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3467-1A81-4391-BFB9-6DFB1A868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BF50-504B-4114-9BC3-057D61297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5FEF-128C-47D5-AB73-6438BC37A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F662-FA4E-4127-80B8-0D24D0AFF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13EC-E534-473B-9ECB-512D67464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CA22-58BB-4342-85E8-6FD40BD5A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9BA3-67CD-49F7-9EA1-49A9EF55E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07C0-0AC2-49CA-B6C8-B6E73FA88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79C1-EA14-4307-B960-97A599B06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6942-EAD3-4D1A-A5F4-148FCCFB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99C6-317D-4D0A-8C2C-F151A99C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36FB0F-F522-48FB-AAEB-214B9499D28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mazing grace! how sweet the s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saved a wretch like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once was lost, but now am f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s blind, but now I s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1718   О, благодать! спасён Тоб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благодать! спасён тоб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из пучины бе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 мёртв — и чудом стал жи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 слеп — и вижу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Twas grace that taught my heart to f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grace my fears reliev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precious did that grace app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hour I first belie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рва внушила сердцу стр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тем — дала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корбь души излил в слез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мир течёт ре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chains are gone, I’ve been set f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God, my Saviour has ransomed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ike a flood His mercy reig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ending love, amazing g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цепи снял, освобод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Искупитель меня прост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как река, с небес теч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любовь и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ord has promised good to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word my hope secur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my shield and portion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long as life end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ам Господним вер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я вся крепость в ни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верный щит, Он — часть мо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ех путях мо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chains are gone, I’ve been set f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God, my Saviour has ransomed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ike a flood His mercy reig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ending love, amazing grace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цепи снял, освобод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Искупитель меня прост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как река, с небес теч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любовь и благодать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earth shall soon dissolve like s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sun forbear to sh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God who called me here be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be forever m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е плоть моя умр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ёт борьбе ко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в небесном доме ж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адость и вен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01T14:51:34Z</dcterms:modified>
  <cp:revision>11</cp:revision>
  <dc:subject>The Source 4, song number 1718 in Russian</dc:subject>
  <dc:title>О, благодать! спасён Тобой / Amazing Grace! (My Chains Are Gone)</dc:title>
</cp:coreProperties>
</file>