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26855-2D7E-4857-9FF1-297CDB4C35A1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C012D-4826-4EF5-841F-64BB485A55EE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F47C6-34E2-4D39-A590-8325628690C8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9E3FF-002C-4FDC-8546-4CCF39BD1E2D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C1ED1-1E06-40FE-9534-2551CB2F9423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D3BD-2A9F-49F4-9868-77AF0767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10A7-D68C-4C61-B803-682631FB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E3F9-EF73-40ED-93D3-47F4C4E6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01DB-8B19-480C-97AF-DF3C7733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382D-1FEB-4075-8775-848AE2A3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DC18-72B0-40D5-97A6-AA97C072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472C-03FE-4C50-B395-97A33871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2280-4426-4EC7-89A2-2C971611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4333-FD91-480A-AA97-36C25281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0D23-5736-4794-B19C-21B92FA8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595E-87BA-462A-850E-DD0B7884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661B-A862-4C9D-9F13-B61C62C0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63EA5-4B10-4185-99F0-79D86C4C44F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в Отцовский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и ж скорей, пора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йся, грех и гор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все войдё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удет нам отрадно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истина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еснь небес среди чуд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а восторг вли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ной борьбе наш щит — в мол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— сила и оп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т Отцом нам веч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войдём мы ско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чный дом! В тебе 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тревог не зна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тот, кто в дом в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там ожидаю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01-10T19:21:14Z</dcterms:modified>
  <cp:revision>13</cp:revision>
  <dc:subject>Slavic hymnal Гимны веры христиан, hymn 668</dc:subject>
  <dc:title>Мы все войдём в Отцовский дом</dc:title>
</cp:coreProperties>
</file>