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10</a:t>
            </a:r>
            <a:r>
              <a:rPr b="1" lang="ru-RU" sz="3600" spc="-1" strike="noStrike">
                <a:solidFill>
                  <a:srgbClr val="ffffff"/>
                </a:solidFill>
                <a:latin typeface="Verdana"/>
              </a:rPr>
              <a:t>	</a:t>
            </a:r>
            <a:r>
              <a:rPr b="1" lang="ru-RU" sz="3600" spc="-1" strike="noStrike">
                <a:solidFill>
                  <a:srgbClr val="ffffff"/>
                </a:solidFill>
                <a:latin typeface="Verdana"/>
              </a:rPr>
              <a:t>Я к Тебе, Господь, взыва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к Тебе, Господь, взыв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сердечной глуби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ор и мысли простир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к пределам той стра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любовью озар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о славе Сам цар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ткуда осуждённ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вой мир святой дариш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не внемли, о Царь вселе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к Тебе с мольбой при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ипомни, в плоти тле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вершённых мною з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ипомни речи бра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л постыдных, что твор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 неправде постоя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ремя лучшее прожи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был мёртв, но жизни сем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 меня Сам заро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ними пороков брем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бо тяжки мне о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ргни иго осужд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т всех грехов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счастие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я буду уже Тв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 небесный мой Владык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Мольбе вн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прости мой грех велик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ки сердца уд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меня одно хот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Ты был всегда с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Один моё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пованье и покой!</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0:09:48Z</dcterms:modified>
  <cp:revision>3</cp:revision>
  <dc:subject>Slavic hymnal Гимны веры христиан, hymn 210</dc:subject>
  <dc:title>Я к Тебе, Господь, взываю</dc:title>
</cp:coreProperties>
</file>