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F72-3CFE-4392-AEC0-1904B54E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0C7-0A10-4392-BF28-C0750DC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165-1F51-489F-A7A4-95043DB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B23-1447-4291-84A5-DC5FEF35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6F7-004A-49AD-9948-46D1484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809-A03D-456F-BCE5-E5F36773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F79-1139-4AB9-B606-33680A84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642-DB47-41E8-ABF1-2F2974B1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4FF-4505-44A8-A6B5-44BC769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C0E-C633-43ED-B146-9C43394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D7F-530D-4C48-A03C-8C05C88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F30-6CB1-423A-BCE0-3845F1E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DF092-64D8-49A9-A15D-E52D140D5B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4:36Z</dcterms:modified>
  <cp:revision>13</cp:revision>
  <dc:subject>Slavic hymnal Гимны веры христиан, Ukrainian hymn 7</dc:subject>
  <dc:title>Не минай мене, мій Спасе</dc:title>
</cp:coreProperties>
</file>