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95F-E005-457E-8BAB-1ACAA933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07B-C997-47A4-AEBD-EB9AD9A4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072-D9DD-4178-9FAD-B12E64AC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79B-506C-4368-A742-EBBE0C4A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D75-2CB7-477C-A5B1-93EAA367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70A-968B-4DBD-A135-D4CAA2D2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D06-C5BE-4362-BCE2-4AE0BAE0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C97-CCA4-4941-81BB-CDF4966C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1B7-30BB-401E-906B-5989C983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144-4B11-415A-B439-4329B01A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0CC-BC73-4F54-972C-8C664C35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63F-9131-4942-80E6-E9D4A243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504A1-255D-4EA3-BA69-31BEE04C6F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шь ли жизни чистой, без грех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умер за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аждешь ли жизни чист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ли смущает страхом и сты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евозможешь в этом мире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 ли в бессильи, мрачен ли тво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м весельем Бог наполнит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вскоре ты придёшь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, в горе Он всегда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2:35Z</dcterms:modified>
  <cp:revision>13</cp:revision>
  <dc:subject>Slavic hymnal Гимны веры христиан, hymn 715</dc:subject>
  <dc:title>Жаждешь ли жизни чистой?</dc:title>
</cp:coreProperties>
</file>