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4</a:t>
            </a:r>
            <a:r>
              <a:rPr b="1" lang="ru-RU" sz="3600" spc="-1" strike="noStrike">
                <a:solidFill>
                  <a:srgbClr val="ffffff"/>
                </a:solidFill>
                <a:latin typeface="Verdana"/>
              </a:rPr>
              <a:t>	</a:t>
            </a:r>
            <a:r>
              <a:rPr b="1" lang="ru-RU" sz="3600" spc="-1" strike="noStrike">
                <a:solidFill>
                  <a:srgbClr val="ffffff"/>
                </a:solidFill>
                <a:latin typeface="Verdana"/>
              </a:rPr>
              <a:t>Боже, славим мы Теб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славим мы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хваления прино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ый, песнь поём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ердца к Тебе возно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клонившись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личаем Царь благ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уши праведных св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нмы, власти сил небес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ят благость дел Тв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л великих и чудес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ят Бога и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держителя Творц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Церковь на земле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ё имя воспев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тью Твоей жив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ей славы ожид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й хвалы достоин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любви всей полноты.</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Агнец кроткий, Ты здесь б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ертвой смерти и муч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все козни побе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разил все иску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слава, Боже 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 Еммануи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Господи! благосло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народ и достоя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чрез скорби все про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хранить святое зв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бранных веди Тв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радость вечную святых.</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Дай Тебе, Господь, от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а каждое би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Тобою лишь дыш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ть Тебе на прослав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Ты душу нам сог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аменем любви Твоей.</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Слава Троице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Святой, Отец небес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ын и Богочел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плотившийся чудес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прославят все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я Господа Христа.</a:t>
            </a:r>
            <a:endParaRPr b="0" lang="en-US" sz="3200" spc="-1" strike="noStrike">
              <a:solidFill>
                <a:srgbClr val="000000"/>
              </a:solidFill>
              <a:latin typeface="Verdana"/>
            </a:endParaRPr>
          </a:p>
        </p:txBody>
      </p:sp>
      <p:sp>
        <p:nvSpPr>
          <p:cNvPr id="46"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5:49Z</dcterms:modified>
  <cp:revision>3</cp:revision>
  <dc:subject>Slavic hymnal Гимны веры христиан, hymn 84</dc:subject>
  <dc:title>Боже, славим мы Тебя</dc:title>
</cp:coreProperties>
</file>