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74A-5838-4654-B386-BD137479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FB4-BEB5-4A71-AC14-E35C76BF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D34-BBEE-4CB7-ADEE-8E86E501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8C1-CCFB-42BE-85BF-6DEE6B23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B2A-D4A0-4CD3-9BDE-BCB363F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67A-07E7-4512-8B5F-1A9E9FE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EDA-4DD0-47C7-811B-80DE6F5B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8F7-5958-44BF-B0A5-3BDDBB5F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719-38C9-403E-A962-391ECD66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939-9CBF-4B3B-90D6-F08D55B7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965-90A5-4816-B7A3-6C7F4CD6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05D-F60D-41CA-817B-A5F5B994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CE9F6-B94D-463D-9536-4615352D9E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48Z</dcterms:modified>
  <cp:revision>13</cp:revision>
  <dc:subject>Slavic hymnal Гимны веры христиан, Ukrainian hymn 17</dc:subject>
  <dc:title>Від гріха я спасен</dc:title>
</cp:coreProperties>
</file>