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CB06-A7C0-41BF-9238-383F6A77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B1C8-AA3B-4B4E-A6A0-E45C8BE4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878E-DCBF-4276-B74E-39179444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1F96-1C77-4E5F-87C9-98150032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654E-C7BF-45E6-AB06-7393CFB3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3A7B-8000-4FA1-9136-A926CE12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C9D7-3DDE-4B3D-BB38-2239EA94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4B4C-0E17-4B32-9FD0-4825899B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A7B9-7A69-49EC-836E-9F19CC5D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7DCB-7A86-451E-8E3A-3C969AFC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356F-91FD-40CB-9003-ED8E318F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FFC6-3FC8-45DC-8DDB-CBD6E8A1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B6480-AB97-4BE7-91D0-0FEFFB594D7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sinners, poor and need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ak and wounded, sick and s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ready stands to sa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 of pity, love and pow’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шники, к Христу прид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и, к Христу при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спасенья возвещ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ти нас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любви и силы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ь ещё не убе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ь ещё не убе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! th’ incarnate God ascen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eads the merit of His blo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nture on Him, venture whol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no other trust intru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площённый Бог вознёс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крови — жизнь вс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го душой наде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веряйся ник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спасти наш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спасти наш 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святые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хвалу по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х песням громко вт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а Иисуса чт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нас та песнь 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нас та песнь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ож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ож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хочет: страхи пр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хочет: страхи пр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thirsty, come and wel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free bounty glorif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e belief and true repenta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grace that brings you n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ы в нужде, при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жью щедр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, святость и пр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нас влечёт к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без денег у Н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без денег у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not conscience make you li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of fitness fondly dre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fitness He requir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o feel your need of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ми своим стар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этом нам не бы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 Он, чтоб вы нужда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шли к Нему прос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чтобы вас в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чтобы вас во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weary, heavyla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and ruined by the F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tarry ’til you’re bet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ill never come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гнетённые, прид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едлит кто и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м быть, то никогда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жизни не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праведных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праведных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ew Him prostrate in the gard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ground your Maker 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bloody tree behold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ner, will this not suff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те: в Гефсим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простёрся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древе умир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т люди Божий ст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48Z</dcterms:modified>
  <cp:revision>13</cp:revision>
  <dc:subject>Slavic hymnal Гимны веры христиан, hymn 338</dc:subject>
  <dc:title>I Will Arise and Go to Jesus (Come, Ye Sinners, Poor and Needy) / Грешники, к Христу придите</dc:title>
</cp:coreProperties>
</file>