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AC0B-652F-470D-8C03-544DA0AC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032E-660A-4DBF-A204-DE379270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E393-A7FE-454A-8DF5-D6F8AD2E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9828-2341-4FB9-88F8-E608CF46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E89D-753D-49A7-AAB8-DC0027E7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132-AD40-4B53-8BE4-856886AB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F481-63BA-4E9F-AC03-42D2637A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2471-CD52-49D7-A824-E8A72E39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5A66-DED6-41DC-BFEC-09B88F57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5578-E7BB-4F11-995A-CF97E1D5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FB2-1D72-4D81-84E3-E3E78045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448-FBCC-42C9-A446-D9DFFE2C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EC3C9-07AB-433C-A72E-4721CD4182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е, знову нагад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вят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їм серці буде х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свята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 любови ллє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до неба рве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Христа! Слав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любов Христа!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   Брате, знову нагад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ям в світ Христос прині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небес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ішає в хвилю слі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любов навчає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х Бог прощ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Христа! Слав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любов Христа!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е, знову нагад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вят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икне з серця сум, відч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радість з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че спів люб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життя об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Христа! Слав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любов Христа!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6:57Z</dcterms:modified>
  <cp:revision>17</cp:revision>
  <dc:subject>Slavic hymnal Гимны веры христиан, Ukrainian hymn 5</dc:subject>
  <dc:title>Брате, знову нагадай</dc:title>
</cp:coreProperties>
</file>