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FD9-A7BE-4BF8-BA8A-BAF42302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5BF-1847-453A-AA2E-F241C90A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C6F-AFC0-4A32-AC94-35BEBD63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C3C-DA9D-4866-8439-B3D0E8F6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F9F-691B-44B6-BFFE-772FB6E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05B-4E27-4F9B-96C0-CF234100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AD7-1CDD-4F01-BBDC-3B1A4A09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548-0DD0-4834-B4AB-4959615C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435-9EBF-4A63-9344-86C652BD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46B-FC47-4933-A71C-22C111D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E55-8F7E-4F80-971E-F473D17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620-718C-4D27-81F4-CF6873E8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9529B-43E7-4234-A019-F316E2A1D9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 living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very word spoken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desp’rat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lost with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07   This is the Air I Brea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34Z</dcterms:modified>
  <cp:revision>11</cp:revision>
  <dc:subject>The Source 2, song number 1007</dc:subject>
  <dc:title>This is the Air I Breathe (Breathe)</dc:title>
</cp:coreProperties>
</file>