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AC9-A953-43A7-8646-E20BB914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2FA-82C1-4771-A4BD-F4607295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7F7-CF11-44E8-90C1-BA9BC96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B7D-95CF-433E-B52C-15997D58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2AB-EDBF-49E5-B1DB-2A51EF8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4D2-5BEF-4FED-BE7D-3EE73594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B55-461B-47EB-8A16-A59793D6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016-90F3-41E1-9906-5AB6298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805-BE74-46B4-9A80-53DA80F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AF4-060E-4B34-AFBC-EED9F35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C8E-AB9E-44B2-859F-12F4721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62D-2005-4F0A-A20D-68DEB799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ACC2F-1E6E-499B-B656-42CDE3FD6B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 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 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 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 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 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 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 дов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 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19Z</dcterms:modified>
  <cp:revision>13</cp:revision>
  <dc:subject>Slavic hymnal Гимны веры христиан, Ukrainian hymn 75</dc:subject>
  <dc:title>Дорогії хвилини Господь нам послав</dc:title>
</cp:coreProperties>
</file>