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0B67-762F-424D-BB94-6DAC3084F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6609-1BD5-4184-B550-E71C2721E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49F2-03E1-4221-963A-7584375B5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944A-9603-4919-9B32-35E03B4FB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6D69-9783-4566-91C2-80DAA0188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7BA6-D7E8-4A5B-9BC4-3B92034BC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9B48-7525-4B0F-A14C-10C48CCE3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D8EE-D194-4AEF-8963-4820C5F14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F873-CB05-4522-945E-A88CBA72F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5AC7-65EE-4F0A-BC2E-2DCB6D4D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836E-F60E-4FE9-BA6A-A6591298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6371-DFBC-483C-BED9-7EA090B5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20D9DA-E41C-4371-9E6F-F76D9E36669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sing the wondrous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e Christ Who died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He left His home in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cross of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9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спою вам песню ве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пою вам песню в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пасителе Хри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н любит нас без мер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н умер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I’ll sing the wondrous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e Christ Who died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it with the saints in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athered by the crystal s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слова жив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Христе, как умер О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я со святы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ружив небесный тр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I’ll sing the wondrous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e Christ Who died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it with the saints in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athered by the crystal s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слова жив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Христе, как умер О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я со святы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ружив небесный тр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as lost but Jesus foun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und the sheep that went astr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ew His loving arms aroun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rew me back into His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 меня Христос от му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заблудшую овц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клонился, взял на р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нёс меня к Отц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I’ll sing the wondrous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e Christ Who died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it with the saints in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athered by the crystal s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слова жив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Христе, как умер О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я со святы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ружив небесный тр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as bruised but Jesus heale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int was I from many a f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ght was gone and fears possesse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He freed me from them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ыл ранен — исцели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блужданьях изнем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щилась моя си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ал вечных сил зал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I’ll sing the wondrous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e Christ Who died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it with the saints in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athered by the crystal s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слова жив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Христе, как умер О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я со святы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ружив небесный тр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ays of darkness still come o’e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rrow’s path I often tr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His presence still is with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His guiding hand I’m 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трашусь я перед тьм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бедой не раз тесним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тель мой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рукой Его хра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I’ll sing the wondrous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e Christ Who died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it with the saints in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athered by the crystal s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слова жив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Христе, как умер О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я со святы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ружив небесный тр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keep me till th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olls its waters at my f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He’ll bear me safely o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the loved ones I shall m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ордану с Ним при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шумит у ног моих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руг войду в страну свят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я встречу дорог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9:05Z</dcterms:modified>
  <cp:revision>13</cp:revision>
  <dc:subject>Slavic hymnal Гимны веры христиан, hymn 599</dc:subject>
  <dc:title>I Will Sing the Wondrous Story / Я спою вам песню веры</dc:title>
</cp:coreProperties>
</file>