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CBD-86A6-46BF-BA1B-3B457712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EC2-A1AF-469D-9284-D6F066D8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4FA-4E0B-41D0-8907-D8E1AF15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4FD-3CC1-41CD-AF86-AA9FC7FF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7EF-578F-473E-A865-8F90AE0A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17C-EEE0-49F4-A859-79A11FB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4AC-BDCB-4F79-AEB0-462E44C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51F-28B9-49C9-891F-58D26AFE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925-069F-4395-9ABA-73DC354C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5CB-87CF-46BA-B5C0-3B9B039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509-EB4D-4E3F-B7D6-E2CF087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C45-69DE-4442-AB6D-270074C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6AC09-0C7E-4F52-B573-E36F32BFDE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placed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ounds in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 and His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raded my p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hare in His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lory that on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urst from His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3   I Have Placed All My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tand at the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thief nailed besid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abandoned my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ise and the pr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is fragile,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aknes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are to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scandalous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blood cleanses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oever will call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or die, here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 as they 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His beauti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ed a torturer’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n altar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worst w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best that God d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unspeakable 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gaze of unstoppable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ux of it all there He ha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urest and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k the force of our c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’s vict’ry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ddered into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ither we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e stumble and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isdom of a suffering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made fools of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ladly admit that I 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ried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old earth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seed in the wi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for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at garden of tomb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den ris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aradise bl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is body and never wi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finish all H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 h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32Z</dcterms:modified>
  <cp:revision>12</cp:revision>
  <dc:subject>The Source 4, song number 1893</dc:subject>
  <dc:title>I Have Placed All My Hope (Crucified Man)</dc:title>
</cp:coreProperties>
</file>