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B3F2-867D-4F64-9F26-9520CE1F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D72-6F92-4E56-8EB9-6ED4D243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09F-0162-483D-8B9D-10FC681E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051-4249-4EBD-8AD9-D8A59438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CF87-F039-4EBF-8A3F-59E74FF9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12AD-AAEB-4E43-A435-FD8C7468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E081-F811-479F-AEB7-5E15A719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D749-82CF-42E8-B784-DB983139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D47-C1A9-4B56-9167-1CEEE0DC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D13-34EE-4BE1-A1DC-473C02F3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47F-382A-4E4F-A3A9-FBFEC162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5F69-3041-4427-A6DB-BE86EE9C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CC7BC-477B-4FA0-BF33-D506B117E51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ul, are you weary and troub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light in the darkness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light for a look at the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fe more abundant and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ша, ты в борь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, ты в борьбе и томл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смиренно склон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исусе найдёшь подкреп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радость и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 your eyes up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full in His wonder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hings of earth will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ngely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ight of His glory and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death into life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assed, and we follow Him th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us sin no more hath dom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ore than conqu’rors we 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мерть Он вошёл в Свою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нам идти сужд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Он в борьбе не ост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а победил Он дав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 your eyes up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full in His wonder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hings of earth will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ngely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ight of His glory and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ord shall not fail you He promi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lieve Him, and all will be w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go to a world that is d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erfect salvation to t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держит Своё обещ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Ему довер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щим в нужде и страд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мир возвещ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 your eyes up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full in His wonder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hings of earth will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ngely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ight of His glory and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2:06Z</dcterms:modified>
  <cp:revision>12</cp:revision>
  <dc:subject>Slavic hymnal Гимны веры христиан, hymn 886</dc:subject>
  <dc:title>Turn Your Eyes Upon Jesus / Душа, ты в борьбе и томленьи</dc:title>
</cp:coreProperties>
</file>