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422-68E0-4B93-9F81-8C421253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01C-59A5-4934-A03B-BA37B82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98B-E98C-4CC6-BCE4-854DCF2B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ED1-F999-4534-9875-38CB7D74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18C-5BE5-4B28-9103-31E644D2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EA2-46EA-4102-AE7B-6FD6B622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1E6-EE4C-4569-9B1A-1AE2960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035-2728-43BB-B2A1-2A7C0DE2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7EF-FA04-4816-A138-C4FA131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8FF-AEED-42AD-8EBB-3615867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341-C904-41E3-8DE4-245BA1E5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AF1-05A9-4331-9516-E668969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409D3-CD2E-414E-ACBB-D62EF8C018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21Z</dcterms:modified>
  <cp:revision>12</cp:revision>
  <dc:subject>Slavic hymnal Гимны веры христиан, hymn 570</dc:subject>
  <dc:title>Буду петь, как Искупитель</dc:title>
</cp:coreProperties>
</file>