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EA6-437E-4AC1-97B7-2B7F7DDB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10F-1D26-4475-8ED2-5E4C8A17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87B-A4F0-491D-9B93-8FCE75BE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FC4-B28C-4EFD-B3C6-09C07810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70E-3B18-4CE0-9C28-5B995865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3E4-96A5-41BE-8E41-989C1982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824-4CD7-4554-B5C2-EEA0766E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8E8-3EE9-4C54-9801-C3E99464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9CB-C6E0-458A-A658-625DD02F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46E-AB4D-4F34-8FFA-AAAC27C7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8D1-867C-4403-8C8D-7324E718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223-21A4-47C1-8110-C771EB4F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F07E4-A295-45FD-A0A7-DA2ED858B2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here because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part of Your great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come to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the wonders of Your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es, we need Your tou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’ve given us so muc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just want to 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done for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0  We’re Here Because of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that we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cleanse our hearts with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ll us with desire for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Your presence in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’ve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Your great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hearts are filled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 ha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is non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faithful and so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just want to 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that we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cleanse our hearts with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ll us with desire for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Your presence in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48Z</dcterms:modified>
  <cp:revision>12</cp:revision>
  <dc:subject>The Source 3, song number 1590</dc:subject>
  <dc:title>We’re Here Because of Grace (We’ve Come to Bless Your Name)</dc:title>
</cp:coreProperties>
</file>