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7F0D-CB67-4124-A55E-C8952763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8530-D456-4514-9F2A-FC687AEB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1F10-1C8A-4266-A4A4-3A01FAD63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B084-9FEB-42F0-87DC-BF76FFA05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EF62-0C25-4661-8FFA-BE88C50F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0C26-30EC-408B-8CD7-552B7CF2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4115-B1E3-49A7-BF26-A741D1EA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D499-5766-4920-9592-2C1A8BC9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5A96-34F1-403E-9D07-C97DD55B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0861-3885-4711-BFDF-5C7C26B0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8368-10F2-4217-998A-A682D4F9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8971-BC30-4E64-BCD6-CA4212FA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DBC29-1F3C-4FBB-AC7A-866B2D8F446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the cross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the price You pa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ring all my sin and sh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love You 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ave amazing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this love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the nail-pierced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ashed me in Your cleansing 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all I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forgiveness and emb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23   Thank You For the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thy is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ated on the thr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rown You now with many crow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reign victori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gh and lifted 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Son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Darling of heaven, cruc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thy is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thy is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4T06:13:49Z</dcterms:modified>
  <cp:revision>12</cp:revision>
  <dc:subject>The Source 3, song number 1523</dc:subject>
  <dc:title>Thank You For the Cross (Worthy is the Lamb)</dc:title>
</cp:coreProperties>
</file>