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6BF-4F11-49FC-BD04-A9DF6066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356-6536-41FF-82E9-6DEB74A5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024-E8DA-479D-A41B-15047BD5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313-88CB-4355-856F-8CABB36F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961-3454-4C65-A15E-9C39DEAA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9A0-BE30-49DE-B917-A27C63C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246-41EE-4FED-9176-E7D93D1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2B6-B885-41C4-A0E7-A3D80F98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2F5-7A6C-43E3-8299-189557C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D24-7427-43F4-AA0F-C059D8D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8DF-37B3-4699-A87F-51BBA8E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31E-DF19-45C6-8423-E360FC4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E694-D875-40F6-A4AA-8489A43BFB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ось чудо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ц пали стражи, видя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ала в те мгнов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Христа во гробе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Он людям двери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и власть побе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неслася весть благ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Нам жизнь да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шилось чу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сегодня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ветлым куполом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Воскресни,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души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ут все сердц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заве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ристос Воскрес», как эхо г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пустыне и в го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с дивных мест С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зывается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 для всюду су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тюрем, рудни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, Его к себе зовущ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пасенье от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Божественно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Он наши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прощающе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Царство вечное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этот день, друзья и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достный призыв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м с радостью объят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истину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07Z</dcterms:modified>
  <cp:revision>14</cp:revision>
  <dc:subject>Slavic hymnal Гимны веры христиан, hymn 286</dc:subject>
  <dc:title>Свершилось чудо воскресенья</dc:title>
</cp:coreProperties>
</file>