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07C-AA87-4B1D-B14C-7569FBBB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FB6-30DD-4684-95C0-3D8F8F7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240-AAE3-468D-AA48-259F1024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5DA-445C-4C43-81D4-138B849D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D0F-656A-478B-BA1A-7A0D12BF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542-BC05-4180-BFF1-D5EA2E66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2D2-CC6F-4161-8837-8C94D066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2C3-A5A5-4BC3-8F39-2E05345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A81-77D0-4779-A516-8B51EA8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7AC-53B1-4B61-A0A1-951825C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6C4-124C-4F43-8A73-1AA528A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16C-55D3-439A-B593-9C49AE8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F3749-4739-44CF-8F19-D893395646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39Z</dcterms:modified>
  <cp:revision>12</cp:revision>
  <dc:subject>Slavic hymnal Гимны веры христиан, Ukrainian hymn 106</dc:subject>
  <dc:title>God Is So Good / Бог добрий є!</dc:title>
</cp:coreProperties>
</file>