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E5D-3B44-4FFF-993A-44C25B87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486-1AA9-45BB-B711-9B29C79E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23B-C9A8-476E-BF1F-84205C5C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4E9-69FE-47DA-9E09-EDBCCC05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0CA-A5FC-4B0A-BC8E-1E38D337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029-228F-484F-93BE-391082F8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7CB-70C7-47F2-8C26-DF3E7325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A13-6233-4F0B-BC3E-8CDA4842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ECF-2506-42C6-A10E-DBCE386B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07A5-A565-4781-8E70-737FA5A0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3E7-E9F8-4FD8-8DF9-DBBF6464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991-F2D4-47AF-9FFD-92F3A188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66D43-0252-4361-9AB6-53BEA3EA9A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восстав с веч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шёл на крест скорб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шли по в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надцать друз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 смиреньи Сы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тцу воззвал с моль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Я един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! восстав с веч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Отец всеси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Предвечный Сы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юбвеоби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, правды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айна! Три — ед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м суще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за нас прол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ная кр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для нас откр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мертная люб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вятое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источник 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уёю жизни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у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у нас Власт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чество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у нас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частье сужде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ждь у нас еди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у нас вой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разные друж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армия о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одну пусты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ит наш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одну святы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 кровав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пред нами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ветило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ияет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56Z</dcterms:modified>
  <cp:revision>13</cp:revision>
  <dc:subject>Slavic hymnal Гимны веры христиан, hymn 728</dc:subject>
  <dc:title>Господь! восстав с вечери</dc:title>
</cp:coreProperties>
</file>