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D88-C1B8-46B8-8D37-30A33881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0F0-C226-4B96-B83E-7DFD01C6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2FD-A42B-4D6C-9425-7C22442B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1AB7-9656-4366-B6DE-AD234E0A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E91-007D-4FE0-AFD8-2F147D4C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6AFE-AA86-4590-AE76-2BD1207B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832-C555-4256-B7F3-8EEE944C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B562-1B33-4041-BE89-D88369EC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B14-CAB2-40E6-BF1A-24C5A95B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C7B-C374-482F-9456-B8BC9312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214-CF93-494A-B8AE-EFC1A260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EF3-1771-4E7A-83A9-4EB93BDC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9091A-63F5-4274-B753-B1448791C4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тро юности прекра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радостной рас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отим на призыв вла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ять Христа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руда на Божьей н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всё от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будем же ле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ток день, не будем сп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утро юности прекрас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м им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Нём благовест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 милости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грешным возвес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руда на Божьей н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всё от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будем же ле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ток день, не будем сп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м же силы,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пасенья душ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гчая жизни 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трудом любви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руда на Божьей н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всё от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будем же ле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ток день, не будем сп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2:23Z</dcterms:modified>
  <cp:revision>12</cp:revision>
  <dc:subject>Slavic hymnal Гимны веры христиан, hymn 526</dc:subject>
  <dc:title>В утро юности прекрасной</dc:title>
</cp:coreProperties>
</file>