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71A-B621-4792-9108-DF910B8A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887-0BAF-41AF-AF41-68DA70A3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6D8-82E8-44B7-9ADD-02106784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B5F-C50D-4812-A982-7249109F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DC3-0D6F-4846-BB1F-E940BD7F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38C-6D67-48F6-9932-74E9407D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2A8-9876-46AA-B637-01816B94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377-0E84-4A4A-8BD6-09905F70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7FD-7AAB-489C-9952-728307AD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C7A-7B1E-4CB8-95D6-B1B5027D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363-CE6B-42AD-8D76-3587A47C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6E4-A564-4186-AFF8-12FF2AD4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A40FD-1F19-43FE-80C0-52CECDCF39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ится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ё кругом поёт пса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ом любв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изда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ассивах гор, в красе оз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на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ня вся 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блюдать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еск зарниц и пенье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ят Ему хв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реньи виден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уг небес и луг и л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Его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за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 мире зло везде вош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у Суд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не кончен 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— радость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3:08Z</dcterms:modified>
  <cp:revision>12</cp:revision>
  <dc:subject>Slavic hymnal Гимны веры христиан, hymn 832</dc:subject>
  <dc:title>Господня вся земля</dc:title>
</cp:coreProperties>
</file>