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944-1C33-4BDD-BBFA-2B549DB8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30A-A9AE-4A69-B956-3A29DDB2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EB0-B20E-482E-9E9C-C9BC0BCF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5D1-5159-4BE7-8D91-C9964713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595-95A9-4C7D-B43D-77A166BF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E62-2365-4891-B781-0FB1B595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5D6-F55E-41C9-A00B-C93728CD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49F-A914-465C-A2DF-E21CCFAB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EC4-479B-40FC-A3B8-190A24A9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0EC-2D96-47CD-9793-9C2A59B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488-9134-4352-AD97-22CE7A13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ADE-A97D-447A-84A0-D45176CD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70AE0-7EA4-4BBD-A4CD-E079FE19ED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fellowship, what a joy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blessedness, what a peac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ба ве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ба верная, радость пол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чёт рекой, дух ликует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and secure from all al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sweet to walk in the pilgrim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bright the path grow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к жизни путь, счастьем ды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Отчий дом вижу с каждым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and secure from all al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ve I to dread, what have I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blessed peace with my Lord so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юсь врага, безопасен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мир души нахожу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and secure from all al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37Z</dcterms:modified>
  <cp:revision>13</cp:revision>
  <dc:subject>Slavic hymnal Гимны веры христиан, hymn 625</dc:subject>
  <dc:title>Leaning on the Everlasting Arms / Дружба верная</dc:title>
</cp:coreProperties>
</file>