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566-1622-48C1-9AB0-9CC4862F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CE2-F803-4981-A523-D464CEDC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913-062D-4A93-9F17-768434FF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390-4541-4FC2-9451-6BB93EF4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9BC-C245-4E5D-931E-A9544AA1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7E5-FF76-4049-9502-3C76DCB0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2C4-484B-41A4-9CC9-CDA29255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738-C310-412C-B8FD-FEE44EC5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A37-DA0D-44B4-A7BD-92D2F1B7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2C9-1C90-4933-A6BF-AE361D03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BF4-1984-4F54-95AF-337A24A0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E1A-44E2-490A-887D-7B24095B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0306D-15E8-4D98-9148-89F7D4A267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I feel discourag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the shadows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my heart be lo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ong for heaven and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чем я так бессил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я так бессил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страдаю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так печа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утеше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is my por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onstant friend is 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со мной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happ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Let not your heart be troubl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ender word I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sting on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se my doubts and f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в искуш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темно, тем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замолкла пес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 умер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by the path He lead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one step I may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д на Иисус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возвра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happ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ver I am temp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ver clouds a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ong gives place to sig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ope within me 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дах пусть ваш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смуща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лышу глас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покоен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raw the closer to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care He sets m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, истина и жизнь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благ Он полн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happ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48Z</dcterms:modified>
  <cp:revision>13</cp:revision>
  <dc:subject>Slavic hymnal Гимны веры христиан, hymn 701</dc:subject>
  <dc:title>His Eye Is On the Sparrow / Зачем я так бессилен?</dc:title>
</cp:coreProperties>
</file>