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9933-223B-4678-855D-9C14CA74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ACF0-CDD0-4691-A3C6-DA6E9C57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B67-AB28-4615-A728-52A8D748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BCD-CEE5-472B-87BE-C96B00FF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4AA6-12E0-4E0A-B81D-91D373A1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1E9F-A036-400A-BD4D-3A97A1EA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CCB-2B82-4A54-9FEB-32195987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3B00-336E-4704-A3CA-F8D05E54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2BD-7CF6-4CF1-9BCD-06EE51BD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81B1-2DCF-45C8-BCCA-372BF2A5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BD6-D303-4324-9F92-2D0CE01B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133-0693-417B-834C-3C5D4D58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C40BE-1458-4399-98F5-0C5ABBED2D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, не на вершину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дальний путь через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бой опасный, лицом к вра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ёшь Ты, Господь,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сли Ты тихо призов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чуждую мне троп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чу, Господь, руку взяв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 я пой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мож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я скажу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хочет слова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чрез меня 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ую душу с пути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к Себе при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веди лишь Ты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корбь, тесноту и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сть я ту чудную повтор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 то я ска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я скажу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тся где-нибудь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енное мест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есть работа мне для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пятого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те Твоей предав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Ты любишь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служить буду я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я скажу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1:21Z</dcterms:modified>
  <cp:revision>13</cp:revision>
  <dc:subject>Slavic hymnal Гимны веры христиан, hymn 556</dc:subject>
  <dc:title>Быть может, не на вершину гор</dc:title>
</cp:coreProperties>
</file>