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B08-5B28-430D-A98F-66FB5FDB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7411-5D9F-4EC5-A2F8-15A727C0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C4C3-6AE4-4B91-8500-2F016143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6D0-3B78-4AF5-8186-6CBC2742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715-7524-4A6F-984F-00676E34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8B57-C7E5-469F-8C11-8C20B40D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0F82-5261-4E93-9BB9-05FFC421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A9E-100C-4A51-B833-E1B0CD63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0D4-9F19-4FB4-B54F-64174F6C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369-5272-4CA9-8E5D-F912AA76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DB8F-F755-4FC9-B0E4-8C33420E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8A8-539A-4435-A1F9-77F5AE0E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C5AC2-EDEF-4B77-9C46-AE3EFF93AE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мира, счастья, ти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ир не роди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душа чуж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дом мой и друз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ся дух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край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, к небе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нял свой вз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много близких т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 в мире до сих п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сток здесь бой, дни тяж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но мне в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о среди греховной мг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итальческой суд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ёк, не дал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й борьбе коне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у песен я пот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к борцам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го глаз смертный не ви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ыслях не им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ём я слухом не слых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мо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4:13Z</dcterms:modified>
  <cp:revision>12</cp:revision>
  <dc:subject>Slavic hymnal Гимны веры христиан, hymn 688</dc:subject>
  <dc:title>В край родной</dc:title>
</cp:coreProperties>
</file>