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144-4739-490F-B9FE-49CCECB2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648-CABF-407E-8612-2BD1A709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B81-CDBD-46B6-9F55-F117388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784-B867-4CA4-B299-EA655CF9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343-AEDE-451D-B241-DD34851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5AF-EC69-4085-A194-B454F166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A58-1723-4327-B7FF-55279DBD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6A5-DCFE-4BEB-AAB2-BE553A9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E36-054A-4B76-AF7C-BFB5CE4C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96C-EFD8-4912-BB81-F68880C6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508-9C5F-4C77-A5D4-E0EE729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CA2-5966-41D5-93D5-A73AC40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36984-D81D-4659-A82E-D6B69AE7C5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leading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dear,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earth friends be f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has 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thers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y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your Saviour, t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душу 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pray that your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ng them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r will be answer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nswere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 that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ather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arp, crown, and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re waiting for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м 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eace you pos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rest to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that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ave them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ей, Он 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He is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enderness o’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h, that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your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F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pe f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He will call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et Him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, oh, that He’d le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you with 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robe; ’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plendent in whit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iting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ondering vi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en I recei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hining in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riend, could I se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ceiving on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1Z</dcterms:modified>
  <cp:revision>13</cp:revision>
  <dc:subject>Slavic hymnal Гимны веры христиан, hymn 624</dc:subject>
  <dc:title>I Am Praying For You / Спаситель о мне недостойном печётся</dc:title>
</cp:coreProperties>
</file>