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a:t>
            </a:r>
            <a:r>
              <a:rPr b="1" lang="ru-RU" sz="3600" spc="-1" strike="noStrike">
                <a:solidFill>
                  <a:srgbClr val="ffffff"/>
                </a:solidFill>
                <a:latin typeface="Verdana"/>
              </a:rPr>
              <a:t>	</a:t>
            </a:r>
            <a:r>
              <a:rPr b="1" lang="ru-RU" sz="3600" spc="-1" strike="noStrike">
                <a:solidFill>
                  <a:srgbClr val="ffffff"/>
                </a:solidFill>
                <a:latin typeface="Verdana"/>
              </a:rPr>
              <a:t>В этот час благоприят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этот час благоприя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душу мне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ближе и понят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мне Твой призыв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свети меня слеп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ом радостны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меня боль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кротким и живы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ам открой мне сердца две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мущённый суе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гиб я от поте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абыв призыв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ыне час благоприя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душе его хра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олю, чтоб безвозврат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шёл он для меня.</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9:49Z</dcterms:modified>
  <cp:revision>4</cp:revision>
  <dc:subject>Slavic hymnal Гимны веры христиан, hymn 12</dc:subject>
  <dc:title>В этот час благоприятный</dc:title>
</cp:coreProperties>
</file>