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6FE-E6C9-42B1-9C62-6C3125D0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3C1-DE4D-4639-8D80-8996F2C7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C2F0-E8F8-4048-8C25-4E3CED6F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C1B6-7C86-45E7-A8EB-BAB00732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C666-5B31-404A-9544-93FE5226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996-DA0A-4AA0-9CF2-2EEAA5A5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EC2-FF5D-47B7-ABE5-08FEB006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84C-103F-4DFB-B51A-6D383EEF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532C-128C-4CA6-B538-8A3B1C98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3DF7-548D-43E8-B88D-DBBA8899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ABEB-E30C-4622-B02A-CC7F94B0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E4AE-49A6-4D30-8219-32C1EF15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C71E7-4C81-43E6-82C7-1094BF93961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в городе Да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рождён Господь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смиренного Он ви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о-царски дар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от смерти избав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свободы и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святого примир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ертвенной Своей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ыне в городе Дави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ворец, Благ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приняли ту благ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регущие ста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ночь сонную, глух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орелася звез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 пошли послуш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ть чудные де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орелась вера в душ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 Младенцу прив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ворец, Благ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как раб людей смир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 на землю при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жде всех веков Рожд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яслях здесь на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оскошного черт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сли ищет Божий Сы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се любили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Отец для всех Од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ворец, Благ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вори же сердца дв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 нём скот, вертеп о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родится в нём по ве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всё обновл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ждении вел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ова ангел вос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мрачном полуд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благую по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ворец, Благ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6:52Z</dcterms:modified>
  <cp:revision>13</cp:revision>
  <dc:subject>Slavic hymnal Гимны веры христиан, hymn 237</dc:subject>
  <dc:title>Ныне в городе Давида</dc:title>
</cp:coreProperties>
</file>