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521-A924-4CD9-A156-6B2CD5B9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6FB-3E61-4546-AD40-820AFF70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E45F-6B2A-414F-8891-CD81B5A1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0AC-23B8-4E16-86FA-3167E09D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9FB7-510A-477A-A615-7E117E49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567-1746-470A-8CF0-6BF98859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9C91-8D58-48AB-B26E-3B629586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43A-0CC1-4A1F-97C1-4F545294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30B-464A-4CAE-8D99-E6EBD14E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CCFF-E771-4F78-84DC-8FF5BE3D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7597-E618-4A05-BFD0-23A2C11E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1E3-2BC7-4347-A20A-5DA5B178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948A2-1C65-4679-A07F-D23A867CBB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here to bless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athered as Your fami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praise You and pro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aithfulness and mer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91   We’re Here to B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ev’rything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earts and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here to seek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ather in Your prese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elebrate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praise You for Your bless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ev’rything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earts and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ther reason why we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o glorify Your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worthy to be prai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we offer up our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 living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accept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ev’rything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earts and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4:38Z</dcterms:modified>
  <cp:revision>12</cp:revision>
  <dc:subject>The Source 3, song number 1591</dc:subject>
  <dc:title>We’re Here to Bless Your Name (We Give You Glory)</dc:title>
</cp:coreProperties>
</file>