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5D2-4CE9-4ECE-BB64-297A5BEA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21A-D374-4836-A9E3-35B7D364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AD7-1D7B-4970-A4C4-6840D121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1CA-C0A6-4FC8-898E-3294D065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189-6DF0-463D-AF50-4CB2FCB5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40C-81A9-41B3-8068-B1CB6557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AFE-E62C-442A-8BA0-571908FB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080-D45D-4439-A0D0-87690496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2AD-8192-4417-AC27-0A56BDC9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B5D-7791-4BB8-BFF9-63793FD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3F9-85EE-4FCC-B644-F7EF9149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078-4FF6-4C88-B6B1-BA990108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C5748-357C-4562-9F42-D3CE1A89C2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небі мій Отцівськ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 сліз, ні горя в домі т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ніхто не підк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чно в ньому буду 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чно в ньому буду 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4  На небі мій Отцівськи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люди тут шукають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ть про щастя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 землі загин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є ж насліддя в небі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є ж насліддя в небі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хочу я ввесь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навіки Сам Він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ай, земле, йду в дім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щастя, радість і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щастя, радість і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ду вже до І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25Z</dcterms:modified>
  <cp:revision>14</cp:revision>
  <dc:subject>Slavic hymnal Гимны веры христиан, Ukrainian hymn 34</dc:subject>
  <dc:title>На небі мій Отцівський дім</dc:title>
</cp:coreProperties>
</file>