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1B5-9990-4B7F-B9E7-C95F01F9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0F0-0F7E-4C79-8D47-FEEFB687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140-E049-4D34-BCFB-1E665E7B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799-75BA-4E07-95FA-B4A7B59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82E-9501-4E2E-BDF5-C94293CD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240-0FBF-4AFC-BC07-6FC85ACB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686-2A84-4713-9BB2-FF89AE5E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7BF-EBCD-4368-937F-E30842E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E6C-9483-4067-8CEF-DBE05A09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92B-FAC0-4AE1-B860-AB8156C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86F-0EBC-43D1-9B4D-5F8D1B4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6A1-17B5-4E27-BB4C-23608AB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8BB05-40A8-44B0-9D9A-1E57419DFB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ptivat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re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will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ign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28Z</dcterms:modified>
  <cp:revision>10</cp:revision>
  <dc:subject>The Source, song number 437</dc:subject>
  <dc:title>Reign In Me</dc:title>
</cp:coreProperties>
</file>