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C98-8B12-4F47-B80B-794F84BA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BCF-82C5-4745-8C90-6D251FF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FE7-9DA7-4E15-9612-DE1E302D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70E-E0AD-43CF-B0F8-EBD64986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C11-5BCA-4F10-8C27-C78D53AC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59A-38B7-46FA-9517-E9FC3F84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E2B-9656-4C74-9EC6-F8309F90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9F1-C9D0-4B88-9C1E-C14C4F8A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7D6-FDCA-4662-8316-F5D4DD36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07D-A850-4DCB-877F-9D4B170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FA1-4626-4266-A9DF-ED271953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F2A-273B-4758-815C-C6BE2CB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7BB52-50F3-4183-B487-ED058BA944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меч не из стали блестя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лотом кован людск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ламенем правды гор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ван нам Богом Сам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оть он людей пораж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атскую кровь он не ль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и дух проник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, и неверье с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меч не из ст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греха разруб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ным свободу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дебри он путь прола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истине путь тот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ния грозные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зает он вражеский ст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меч наш могуч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ужен ли меч нам 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точим же меч наш о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и молитвы ог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его и сме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за Велик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огнем, когда на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алек ряды потря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сквозь тьму и смят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лавной победы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cp:lastPrinted>2010-11-29T06:51:50Z</cp:lastPrinted>
  <dcterms:modified xsi:type="dcterms:W3CDTF">2010-12-20T00:42:50Z</dcterms:modified>
  <cp:revision>12</cp:revision>
  <dc:subject>Slavic hymnal Гимны веры христиан, hymn 495</dc:subject>
  <dc:title>Наш меч не из стали блестящей</dc:title>
</cp:coreProperties>
</file>