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269-6DA0-4283-92D2-61D06F0B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9C8-ADAB-413A-B8C6-AC9D709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ADD-0647-4646-B488-4022821C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A7C-F693-49A6-BD95-464D045A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2E9-0A50-4205-82AA-0C13CDB0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BDD-A95E-42AC-A9E9-FCC0BEB1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5A9-5272-4B48-AE4A-7716E24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B70-EFBE-4238-9A99-BF188691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AFD-A72D-4B57-BB6C-207AFC1A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07C-824C-460D-8B0D-9F7F2493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8DE-3A95-49F7-8FA5-F33AD17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92C-74E0-42F7-982C-2BB809F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5B0B6-BAFD-4F93-973D-36D7DC6586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им Його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0:17Z</dcterms:modified>
  <cp:revision>13</cp:revision>
  <dc:subject>Slavic hymnal Гимны веры христиан, Ukrainian hymn 24</dc:subject>
  <dc:title>Любо вірити в Ісуса</dc:title>
</cp:coreProperties>
</file>